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E062-AA0A-4710-90BB-4C205438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0937-917B-4938-BF5D-EE05F4C0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300E-08B1-4480-9BEA-6FF79843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D2F7-468A-41B6-96EB-DF5ECAA2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6BB1-078B-4973-BFD1-647BE2A6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A517-F193-46C5-B45D-72FAF9F3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FC74-4941-4882-83DA-0006ACBD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0A94-BB52-43FF-BED1-10EE4850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1881-F39F-4553-88D9-9BD0F876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6D2F-17E8-4B14-B2AF-45F92174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3B64-6CF5-419D-813A-1B158655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E2A3-7F53-4296-8387-CCD781BF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09/13/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iv. of Tsuku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roshi Mas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CEFC-CDA7-466B-A616-E5780CE2ABE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Identified and high p</a:t>
            </a:r>
            <a:r>
              <a:rPr b="1" lang="ja-JP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charged particle</a:t>
            </a:r>
            <a:br>
              <a:rPr sz="2800"/>
            </a:b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 elliptic flow with respect to the reaction plane </a:t>
            </a:r>
            <a:br>
              <a:rPr sz="2800"/>
            </a:b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at PHENI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roshi Masui for the PHENIX Collab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sky_mass2" descr=""/>
          <p:cNvPicPr/>
          <p:nvPr/>
        </p:nvPicPr>
        <p:blipFill>
          <a:blip r:embed="rId1"/>
          <a:stretch/>
        </p:blipFill>
        <p:spPr>
          <a:xfrm>
            <a:off x="533520" y="1116000"/>
            <a:ext cx="6172200" cy="44704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 rot="16200000">
            <a:off x="-301680" y="2747160"/>
            <a:ext cx="18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e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0640" y="5408640"/>
            <a:ext cx="43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harge sign * momentum (GeV/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78000" y="4321080"/>
            <a:ext cx="0" cy="268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00280" y="1596960"/>
            <a:ext cx="0" cy="1335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55720" y="3573360"/>
            <a:ext cx="0" cy="428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518080" y="1596960"/>
            <a:ext cx="0" cy="1335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10080" y="3573360"/>
            <a:ext cx="0" cy="428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1699920" y="1703520"/>
            <a:ext cx="10476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699920" y="1809720"/>
            <a:ext cx="212760" cy="3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754280" y="1917720"/>
            <a:ext cx="26352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699920" y="2023920"/>
            <a:ext cx="4237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1699920" y="2131920"/>
            <a:ext cx="530280" cy="63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754280" y="2238480"/>
            <a:ext cx="582480" cy="69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859040" y="2292480"/>
            <a:ext cx="63648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964880" y="2398680"/>
            <a:ext cx="6368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123640" y="2398680"/>
            <a:ext cx="636840" cy="8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389320" y="2452680"/>
            <a:ext cx="529920" cy="69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706840" y="2505240"/>
            <a:ext cx="372960" cy="48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918880" y="2505240"/>
            <a:ext cx="319320" cy="42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130200" y="2505240"/>
            <a:ext cx="266760" cy="37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268440" y="2719440"/>
            <a:ext cx="10476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601720" y="3627360"/>
            <a:ext cx="158760" cy="3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706840" y="3637080"/>
            <a:ext cx="2030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919240" y="3679920"/>
            <a:ext cx="10656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079440" y="3733920"/>
            <a:ext cx="5076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238200" y="3733920"/>
            <a:ext cx="5220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1700280" y="4375080"/>
            <a:ext cx="371520" cy="48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1912680" y="4268880"/>
            <a:ext cx="369720" cy="48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178000" y="4108320"/>
            <a:ext cx="370080" cy="48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398680" y="4056120"/>
            <a:ext cx="362160" cy="42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706840" y="4078440"/>
            <a:ext cx="212400" cy="26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2976120" y="4108320"/>
            <a:ext cx="103320" cy="1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443320" y="3543480"/>
            <a:ext cx="212400" cy="35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282400" y="3490920"/>
            <a:ext cx="212760" cy="35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123640" y="3413160"/>
            <a:ext cx="212760" cy="3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964880" y="3306600"/>
            <a:ext cx="265320" cy="35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184560" y="4162320"/>
            <a:ext cx="54000" cy="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40360" y="4321080"/>
            <a:ext cx="0" cy="268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3881520" y="4157640"/>
            <a:ext cx="54000" cy="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107960" y="4091040"/>
            <a:ext cx="10188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260600" y="4022640"/>
            <a:ext cx="21276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406760" y="4091040"/>
            <a:ext cx="26352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603680" y="4224240"/>
            <a:ext cx="26352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4802040" y="4289400"/>
            <a:ext cx="26208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932360" y="4422600"/>
            <a:ext cx="26352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5064120" y="4489560"/>
            <a:ext cx="26208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195520" y="4554360"/>
            <a:ext cx="196920" cy="1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326200" y="4687920"/>
            <a:ext cx="19656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3828960" y="3760920"/>
            <a:ext cx="52560" cy="10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3960720" y="3732120"/>
            <a:ext cx="52560" cy="16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4103280" y="3693960"/>
            <a:ext cx="4140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235040" y="3693960"/>
            <a:ext cx="41400" cy="2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4365720" y="3627360"/>
            <a:ext cx="41040" cy="3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473720" y="3560760"/>
            <a:ext cx="64800" cy="46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4603320" y="3495600"/>
            <a:ext cx="6660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735080" y="3429000"/>
            <a:ext cx="66600" cy="5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4866840" y="3362400"/>
            <a:ext cx="65160" cy="5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998600" y="3362400"/>
            <a:ext cx="6516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128920" y="3495600"/>
            <a:ext cx="66600" cy="2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776400" y="2502000"/>
            <a:ext cx="10476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750840" y="2502000"/>
            <a:ext cx="265320" cy="37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881160" y="2502000"/>
            <a:ext cx="266760" cy="37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013280" y="2502000"/>
            <a:ext cx="264960" cy="37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144680" y="2435400"/>
            <a:ext cx="32868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4276800" y="2303640"/>
            <a:ext cx="458640" cy="66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473720" y="2103480"/>
            <a:ext cx="590400" cy="86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603320" y="1706400"/>
            <a:ext cx="854280" cy="132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735080" y="2038320"/>
            <a:ext cx="722520" cy="11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4866840" y="2303640"/>
            <a:ext cx="590760" cy="9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4998600" y="2568600"/>
            <a:ext cx="459000" cy="72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5195880" y="2700360"/>
            <a:ext cx="326880" cy="5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Mass square distribu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20280" y="2022480"/>
            <a:ext cx="174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 3 GeV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K &lt; 2 GeV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 &lt; 4 GeV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sky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620120" cy="51814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6185520" y="905040"/>
            <a:ext cx="294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Au+Au at sqrt(s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Times New Roman"/>
              </a:rPr>
              <a:t>NN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)=200G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131280" y="5867280"/>
            <a:ext cx="1217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(GeV/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2600" y="5867280"/>
            <a:ext cx="1217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(GeV/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3716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67600" y="4270320"/>
            <a:ext cx="143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Neg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pi-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ja-JP" sz="1800" spc="-1" strike="noStrike">
                <a:solidFill>
                  <a:srgbClr val="00ff00"/>
                </a:solidFill>
                <a:latin typeface="Times New Roman"/>
              </a:rPr>
              <a:t>K-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ja-JP" sz="1800" spc="-1" strike="noStrike">
                <a:solidFill>
                  <a:srgbClr val="ff0000"/>
                </a:solidFill>
                <a:latin typeface="Times New Roman"/>
              </a:rPr>
              <a:t>p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477120" y="4270320"/>
            <a:ext cx="1317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i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K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48320" y="13716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97880" y="11556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.p. |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|=3~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22480" y="115740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n. b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72840" y="1546200"/>
            <a:ext cx="2851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hydro model including the1st ord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hase transition with T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=120MeV (*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ja-JP" sz="1600" spc="-1" strike="noStrike">
                <a:solidFill>
                  <a:srgbClr val="3333cc"/>
                </a:solidFill>
                <a:latin typeface="Times New Roman"/>
              </a:rPr>
              <a:t>p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ff00"/>
                </a:solidFill>
                <a:latin typeface="Times New Roman"/>
              </a:rPr>
              <a:t>     </a:t>
            </a:r>
            <a:r>
              <a:rPr b="0" lang="ja-JP" sz="1600" spc="-1" strike="noStrike">
                <a:solidFill>
                  <a:srgbClr val="00ff00"/>
                </a:solidFill>
                <a:latin typeface="Times New Roman"/>
              </a:rPr>
              <a:t>ka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ja-JP" sz="1600" spc="-1" strike="noStrike">
                <a:solidFill>
                  <a:srgbClr val="ff0000"/>
                </a:solidFill>
                <a:latin typeface="Times New Roman"/>
              </a:rPr>
              <a:t>pro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76520" y="2166840"/>
            <a:ext cx="2286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71480" y="2414520"/>
            <a:ext cx="2286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1480" y="265284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81080" y="504360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IX Prelim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38680" y="502920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IX Prelim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411520" y="1523880"/>
            <a:ext cx="2521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(*)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.Huovinen, P.F.Kolb, U.W.Heinz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.V.Ruuskanen and S.A.Voloshin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hys. Lett. B503, 58 (20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ja-JP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 of identified hadr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proposed scenari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v2-prot-pi" descr=""/>
          <p:cNvPicPr/>
          <p:nvPr/>
        </p:nvPicPr>
        <p:blipFill>
          <a:blip r:embed="rId1"/>
          <a:stretch/>
        </p:blipFill>
        <p:spPr>
          <a:xfrm>
            <a:off x="1738440" y="1676520"/>
            <a:ext cx="5653080" cy="42703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2590920" y="1447920"/>
            <a:ext cx="449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M. Gyulassy, I. Vitev, X.N. Wang and P. Huovinen, Phys. Lett. B 526 (2002) 301-3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he analysis of event anisotropy with respect to the reaction plane has started at PHENI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Different reaction planes to extract anisotropy are compared  and the results are consis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v2 parameter of charged particle is saturated over 2 GeV/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v2 parameters of identified particles (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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,pbar) are measured and the behavior of v2 above 2 GeV/c are different from the prediction by hydro-dynamical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world_Ins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-1080" y="1523880"/>
            <a:ext cx="3925440" cy="2968560"/>
            <a:chOff x="-1080" y="1523880"/>
            <a:chExt cx="3925440" cy="2968560"/>
          </a:xfrm>
        </p:grpSpPr>
        <p:sp>
          <p:nvSpPr>
            <p:cNvPr id="46" name=""/>
            <p:cNvSpPr/>
            <p:nvPr/>
          </p:nvSpPr>
          <p:spPr>
            <a:xfrm flipH="1">
              <a:off x="2172240" y="1588320"/>
              <a:ext cx="833760" cy="847080"/>
            </a:xfrm>
            <a:prstGeom prst="line">
              <a:avLst/>
            </a:prstGeom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15200" y="3347640"/>
              <a:ext cx="1583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143000" y="1621800"/>
              <a:ext cx="1362240" cy="1367280"/>
            </a:xfrm>
            <a:prstGeom prst="line">
              <a:avLst/>
            </a:prstGeom>
            <a:ln w="633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0280" y="3282480"/>
              <a:ext cx="158508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3800" y="3216960"/>
              <a:ext cx="158400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8040" y="3152160"/>
              <a:ext cx="15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3120" y="3087360"/>
              <a:ext cx="1583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04040" y="2435400"/>
              <a:ext cx="158508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89040" y="1849680"/>
              <a:ext cx="158364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43760" y="1783800"/>
              <a:ext cx="158400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99200" y="1719000"/>
              <a:ext cx="158508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55720" y="1654200"/>
              <a:ext cx="1583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10440" y="1588320"/>
              <a:ext cx="158508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66960" y="1523880"/>
              <a:ext cx="1583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365040" y="1654200"/>
              <a:ext cx="1750680" cy="179100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81520" y="1621800"/>
              <a:ext cx="1751760" cy="179100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98360" y="1588320"/>
              <a:ext cx="1750680" cy="179100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1720" y="2956680"/>
              <a:ext cx="88884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7160" y="2892240"/>
              <a:ext cx="890280" cy="39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3320" y="2826000"/>
              <a:ext cx="806400" cy="35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8400" y="2761560"/>
              <a:ext cx="806400" cy="35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54560" y="2696760"/>
              <a:ext cx="805320" cy="35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10000" y="2630880"/>
              <a:ext cx="806400" cy="35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21240" y="2500200"/>
              <a:ext cx="158400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37720" y="2566080"/>
              <a:ext cx="1667880" cy="71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921240" y="1719000"/>
              <a:ext cx="1362240" cy="140076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893880" y="1654200"/>
              <a:ext cx="1333440" cy="136692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1060560" y="1719000"/>
              <a:ext cx="1333440" cy="136836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032840" y="2370960"/>
              <a:ext cx="861120" cy="87948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4600" y="2175480"/>
              <a:ext cx="806400" cy="35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1120" y="2109600"/>
              <a:ext cx="804960" cy="35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38480" y="2045160"/>
              <a:ext cx="806400" cy="35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20920" y="2012760"/>
              <a:ext cx="806400" cy="35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449720" y="1946520"/>
              <a:ext cx="804960" cy="35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77440" y="1882080"/>
              <a:ext cx="806040" cy="35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65080" y="2467800"/>
              <a:ext cx="806400" cy="91152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cbcbf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47840" y="3021480"/>
              <a:ext cx="445320" cy="45648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504000" y="3054960"/>
              <a:ext cx="471960" cy="48744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587160" y="3087360"/>
              <a:ext cx="473040" cy="48744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98040" y="3087360"/>
              <a:ext cx="500760" cy="52128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782280" y="3087360"/>
              <a:ext cx="528480" cy="55332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864720" y="3021480"/>
              <a:ext cx="612360" cy="65160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948600" y="2989080"/>
              <a:ext cx="667080" cy="71640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8200" y="3021480"/>
              <a:ext cx="158508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93880" y="3119760"/>
              <a:ext cx="1251000" cy="55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10000" y="2989080"/>
              <a:ext cx="1417680" cy="6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26880" y="3087360"/>
              <a:ext cx="1027800" cy="45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65840" y="3054960"/>
              <a:ext cx="945360" cy="42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77440" y="3021480"/>
              <a:ext cx="888840" cy="39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16400" y="2989080"/>
              <a:ext cx="806400" cy="35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449720" y="2077200"/>
              <a:ext cx="1695600" cy="182376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532520" y="2142000"/>
              <a:ext cx="1695600" cy="182484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1643760" y="2175480"/>
              <a:ext cx="1695600" cy="182340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866960" y="1783800"/>
              <a:ext cx="583200" cy="61920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450520" y="1980000"/>
              <a:ext cx="499680" cy="51984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283480" y="1946520"/>
              <a:ext cx="583560" cy="61920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171880" y="1914480"/>
              <a:ext cx="583560" cy="61920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088000" y="1882080"/>
              <a:ext cx="583560" cy="61812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033640" y="1817280"/>
              <a:ext cx="583200" cy="61776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977120" y="1783800"/>
              <a:ext cx="584640" cy="61920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4840" y="2012760"/>
              <a:ext cx="806400" cy="91152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babae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87920" y="2370960"/>
              <a:ext cx="158400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43000" y="2304720"/>
              <a:ext cx="158508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99160" y="2240280"/>
              <a:ext cx="158400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44880" y="2566080"/>
              <a:ext cx="666000" cy="29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55040" y="2534040"/>
              <a:ext cx="66744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66640" y="2500200"/>
              <a:ext cx="58320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8240" y="2467800"/>
              <a:ext cx="528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16840" y="2370960"/>
              <a:ext cx="528480" cy="22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671120" y="2566080"/>
              <a:ext cx="361800" cy="39060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032840" y="2566080"/>
              <a:ext cx="1111680" cy="117180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115640" y="2534040"/>
              <a:ext cx="1195920" cy="126972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226520" y="2500200"/>
              <a:ext cx="1251000" cy="133596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338480" y="2045160"/>
              <a:ext cx="1695600" cy="182340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643760" y="2566080"/>
              <a:ext cx="277920" cy="29232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643400" y="2534040"/>
              <a:ext cx="194040" cy="19512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1755360" y="2207880"/>
              <a:ext cx="1695240" cy="182376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42560" y="1523880"/>
              <a:ext cx="1751760" cy="179100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89480" y="2435400"/>
              <a:ext cx="47196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504360" y="3076200"/>
              <a:ext cx="588240" cy="564480"/>
            </a:xfrm>
            <a:prstGeom prst="line">
              <a:avLst/>
            </a:prstGeom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837720" y="2598480"/>
              <a:ext cx="1250640" cy="1302120"/>
            </a:xfrm>
            <a:prstGeom prst="line">
              <a:avLst/>
            </a:prstGeom>
            <a:ln w="63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62720" y="164304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Targ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2680" y="2059920"/>
              <a:ext cx="14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roject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344520" y="3613320"/>
              <a:ext cx="517320" cy="2386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-1080" y="4032720"/>
              <a:ext cx="280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b:impact parame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8739800">
              <a:off x="1897560" y="2693520"/>
              <a:ext cx="21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Reaction pla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6626520" y="2209680"/>
            <a:ext cx="186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nitial geomet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4495680"/>
            <a:ext cx="1447920" cy="8384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493704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056200" y="380952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2025800">
            <a:off x="3733560" y="449496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3833600">
            <a:off x="4076280" y="415260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4817600">
            <a:off x="4457520" y="4000320"/>
            <a:ext cx="609840" cy="228600"/>
          </a:xfrm>
          <a:custGeom>
            <a:avLst/>
            <a:gdLst>
              <a:gd name="textAreaLeft" fmla="*/ 9504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rot="6782400">
            <a:off x="5067000" y="4000680"/>
            <a:ext cx="609840" cy="228240"/>
          </a:xfrm>
          <a:custGeom>
            <a:avLst/>
            <a:gdLst>
              <a:gd name="textAreaLeft" fmla="*/ 95400 w 609840"/>
              <a:gd name="textAreaRight" fmla="*/ 534240 w 609840"/>
              <a:gd name="textAreaTop" fmla="*/ 56880 h 228240"/>
              <a:gd name="textAreaBottom" fmla="*/ 171360 h 228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rot="7766400">
            <a:off x="5447520" y="4152240"/>
            <a:ext cx="609480" cy="228960"/>
          </a:xfrm>
          <a:custGeom>
            <a:avLst/>
            <a:gdLst>
              <a:gd name="textAreaLeft" fmla="*/ 94680 w 609480"/>
              <a:gd name="textAreaRight" fmla="*/ 533160 w 609480"/>
              <a:gd name="textAreaTop" fmla="*/ 57240 h 228960"/>
              <a:gd name="textAreaBottom" fmla="*/ 171720 h 228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rot="9574200">
            <a:off x="5867640" y="4495320"/>
            <a:ext cx="609480" cy="228600"/>
          </a:xfrm>
          <a:custGeom>
            <a:avLst/>
            <a:gdLst>
              <a:gd name="textAreaLeft" fmla="*/ 94680 w 609480"/>
              <a:gd name="textAreaRight" fmla="*/ 53316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 rot="9574200">
            <a:off x="3733560" y="510480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6880 h 228600"/>
              <a:gd name="textAreaBottom" fmla="*/ 17136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 rot="7766400">
            <a:off x="4076640" y="5446800"/>
            <a:ext cx="609480" cy="22896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960"/>
              <a:gd name="textAreaBottom" fmla="*/ 171720 h 228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 rot="6782400">
            <a:off x="4457520" y="5600160"/>
            <a:ext cx="609840" cy="228240"/>
          </a:xfrm>
          <a:custGeom>
            <a:avLst/>
            <a:gdLst>
              <a:gd name="textAreaLeft" fmla="*/ 95040 w 609840"/>
              <a:gd name="textAreaRight" fmla="*/ 533880 w 609840"/>
              <a:gd name="textAreaTop" fmla="*/ 56880 h 228240"/>
              <a:gd name="textAreaBottom" fmla="*/ 171360 h 228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 rot="14817600">
            <a:off x="5067000" y="5600160"/>
            <a:ext cx="609840" cy="228240"/>
          </a:xfrm>
          <a:custGeom>
            <a:avLst/>
            <a:gdLst>
              <a:gd name="textAreaLeft" fmla="*/ 95400 w 609840"/>
              <a:gd name="textAreaRight" fmla="*/ 534240 w 609840"/>
              <a:gd name="textAreaTop" fmla="*/ 56880 h 228240"/>
              <a:gd name="textAreaBottom" fmla="*/ 171360 h 228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 rot="13833600">
            <a:off x="5447520" y="5446800"/>
            <a:ext cx="609480" cy="228960"/>
          </a:xfrm>
          <a:custGeom>
            <a:avLst/>
            <a:gdLst>
              <a:gd name="textAreaLeft" fmla="*/ 94680 w 609480"/>
              <a:gd name="textAreaRight" fmla="*/ 533160 w 609480"/>
              <a:gd name="textAreaTop" fmla="*/ 57240 h 228960"/>
              <a:gd name="textAreaBottom" fmla="*/ 171720 h 228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 rot="12025800">
            <a:off x="5866920" y="5105160"/>
            <a:ext cx="609480" cy="228600"/>
          </a:xfrm>
          <a:custGeom>
            <a:avLst/>
            <a:gdLst>
              <a:gd name="textAreaLeft" fmla="*/ 94680 w 609480"/>
              <a:gd name="textAreaRight" fmla="*/ 533160 w 609480"/>
              <a:gd name="textAreaTop" fmla="*/ 56880 h 228600"/>
              <a:gd name="textAreaBottom" fmla="*/ 17136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5800" y="4556160"/>
            <a:ext cx="18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final momen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nisotr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2819520"/>
            <a:ext cx="228600" cy="1600200"/>
          </a:xfrm>
          <a:prstGeom prst="downArrow">
            <a:avLst>
              <a:gd name="adj1" fmla="val 50000"/>
              <a:gd name="adj2" fmla="val 1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14800" y="1752480"/>
            <a:ext cx="1212840" cy="12193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07080" y="1752480"/>
            <a:ext cx="1212840" cy="12193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7080" y="1816200"/>
            <a:ext cx="520560" cy="1090440"/>
          </a:xfrm>
          <a:custGeom>
            <a:avLst/>
            <a:gdLst/>
            <a:ahLst/>
            <a:rect l="l" t="t" r="r" b="b"/>
            <a:pathLst>
              <a:path w="521" h="1100">
                <a:moveTo>
                  <a:pt x="254" y="1100"/>
                </a:moveTo>
                <a:cubicBezTo>
                  <a:pt x="233" y="1080"/>
                  <a:pt x="242" y="1086"/>
                  <a:pt x="226" y="1076"/>
                </a:cubicBezTo>
                <a:cubicBezTo>
                  <a:pt x="212" y="1055"/>
                  <a:pt x="221" y="1060"/>
                  <a:pt x="205" y="1055"/>
                </a:cubicBezTo>
                <a:cubicBezTo>
                  <a:pt x="190" y="1033"/>
                  <a:pt x="199" y="1040"/>
                  <a:pt x="183" y="1030"/>
                </a:cubicBezTo>
                <a:cubicBezTo>
                  <a:pt x="156" y="990"/>
                  <a:pt x="121" y="948"/>
                  <a:pt x="101" y="903"/>
                </a:cubicBezTo>
                <a:cubicBezTo>
                  <a:pt x="84" y="876"/>
                  <a:pt x="91" y="891"/>
                  <a:pt x="82" y="871"/>
                </a:cubicBezTo>
                <a:cubicBezTo>
                  <a:pt x="73" y="851"/>
                  <a:pt x="54" y="810"/>
                  <a:pt x="44" y="784"/>
                </a:cubicBezTo>
                <a:cubicBezTo>
                  <a:pt x="34" y="758"/>
                  <a:pt x="27" y="735"/>
                  <a:pt x="21" y="714"/>
                </a:cubicBezTo>
                <a:cubicBezTo>
                  <a:pt x="15" y="699"/>
                  <a:pt x="15" y="676"/>
                  <a:pt x="9" y="660"/>
                </a:cubicBezTo>
                <a:cubicBezTo>
                  <a:pt x="0" y="590"/>
                  <a:pt x="1" y="618"/>
                  <a:pt x="7" y="483"/>
                </a:cubicBezTo>
                <a:cubicBezTo>
                  <a:pt x="8" y="440"/>
                  <a:pt x="11" y="430"/>
                  <a:pt x="18" y="397"/>
                </a:cubicBezTo>
                <a:cubicBezTo>
                  <a:pt x="26" y="364"/>
                  <a:pt x="46" y="311"/>
                  <a:pt x="55" y="284"/>
                </a:cubicBezTo>
                <a:cubicBezTo>
                  <a:pt x="63" y="256"/>
                  <a:pt x="70" y="245"/>
                  <a:pt x="75" y="234"/>
                </a:cubicBezTo>
                <a:cubicBezTo>
                  <a:pt x="80" y="222"/>
                  <a:pt x="83" y="225"/>
                  <a:pt x="87" y="215"/>
                </a:cubicBezTo>
                <a:cubicBezTo>
                  <a:pt x="94" y="205"/>
                  <a:pt x="95" y="191"/>
                  <a:pt x="103" y="181"/>
                </a:cubicBezTo>
                <a:cubicBezTo>
                  <a:pt x="113" y="169"/>
                  <a:pt x="118" y="151"/>
                  <a:pt x="131" y="143"/>
                </a:cubicBezTo>
                <a:cubicBezTo>
                  <a:pt x="141" y="127"/>
                  <a:pt x="151" y="109"/>
                  <a:pt x="165" y="95"/>
                </a:cubicBezTo>
                <a:cubicBezTo>
                  <a:pt x="173" y="73"/>
                  <a:pt x="195" y="65"/>
                  <a:pt x="209" y="45"/>
                </a:cubicBezTo>
                <a:cubicBezTo>
                  <a:pt x="212" y="39"/>
                  <a:pt x="232" y="26"/>
                  <a:pt x="236" y="20"/>
                </a:cubicBezTo>
                <a:cubicBezTo>
                  <a:pt x="238" y="17"/>
                  <a:pt x="257" y="0"/>
                  <a:pt x="257" y="0"/>
                </a:cubicBezTo>
                <a:cubicBezTo>
                  <a:pt x="257" y="1"/>
                  <a:pt x="273" y="19"/>
                  <a:pt x="275" y="20"/>
                </a:cubicBezTo>
                <a:cubicBezTo>
                  <a:pt x="283" y="28"/>
                  <a:pt x="298" y="42"/>
                  <a:pt x="307" y="50"/>
                </a:cubicBezTo>
                <a:cubicBezTo>
                  <a:pt x="314" y="58"/>
                  <a:pt x="322" y="62"/>
                  <a:pt x="328" y="70"/>
                </a:cubicBezTo>
                <a:cubicBezTo>
                  <a:pt x="332" y="76"/>
                  <a:pt x="345" y="85"/>
                  <a:pt x="347" y="91"/>
                </a:cubicBezTo>
                <a:cubicBezTo>
                  <a:pt x="356" y="102"/>
                  <a:pt x="371" y="121"/>
                  <a:pt x="383" y="138"/>
                </a:cubicBezTo>
                <a:cubicBezTo>
                  <a:pt x="387" y="152"/>
                  <a:pt x="410" y="181"/>
                  <a:pt x="419" y="193"/>
                </a:cubicBezTo>
                <a:cubicBezTo>
                  <a:pt x="422" y="208"/>
                  <a:pt x="433" y="230"/>
                  <a:pt x="442" y="243"/>
                </a:cubicBezTo>
                <a:cubicBezTo>
                  <a:pt x="448" y="268"/>
                  <a:pt x="465" y="298"/>
                  <a:pt x="474" y="322"/>
                </a:cubicBezTo>
                <a:cubicBezTo>
                  <a:pt x="484" y="346"/>
                  <a:pt x="498" y="415"/>
                  <a:pt x="504" y="440"/>
                </a:cubicBezTo>
                <a:cubicBezTo>
                  <a:pt x="512" y="519"/>
                  <a:pt x="521" y="575"/>
                  <a:pt x="502" y="651"/>
                </a:cubicBezTo>
                <a:cubicBezTo>
                  <a:pt x="496" y="674"/>
                  <a:pt x="500" y="708"/>
                  <a:pt x="486" y="728"/>
                </a:cubicBezTo>
                <a:cubicBezTo>
                  <a:pt x="481" y="748"/>
                  <a:pt x="478" y="760"/>
                  <a:pt x="472" y="775"/>
                </a:cubicBezTo>
                <a:cubicBezTo>
                  <a:pt x="468" y="790"/>
                  <a:pt x="464" y="807"/>
                  <a:pt x="460" y="819"/>
                </a:cubicBezTo>
                <a:cubicBezTo>
                  <a:pt x="454" y="831"/>
                  <a:pt x="451" y="835"/>
                  <a:pt x="443" y="851"/>
                </a:cubicBezTo>
                <a:cubicBezTo>
                  <a:pt x="435" y="866"/>
                  <a:pt x="422" y="891"/>
                  <a:pt x="413" y="907"/>
                </a:cubicBezTo>
                <a:cubicBezTo>
                  <a:pt x="409" y="916"/>
                  <a:pt x="394" y="939"/>
                  <a:pt x="389" y="947"/>
                </a:cubicBezTo>
                <a:cubicBezTo>
                  <a:pt x="377" y="965"/>
                  <a:pt x="359" y="993"/>
                  <a:pt x="343" y="1013"/>
                </a:cubicBezTo>
                <a:cubicBezTo>
                  <a:pt x="334" y="1032"/>
                  <a:pt x="305" y="1050"/>
                  <a:pt x="290" y="1065"/>
                </a:cubicBezTo>
                <a:cubicBezTo>
                  <a:pt x="275" y="1080"/>
                  <a:pt x="261" y="1093"/>
                  <a:pt x="254" y="1100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62520" y="234648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056200" y="12193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5200" y="304812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936800" y="18284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9378200">
            <a:off x="2491920" y="1752120"/>
            <a:ext cx="17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Reaction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36800" y="2361960"/>
            <a:ext cx="9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936800" y="20574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936800" y="2666520"/>
            <a:ext cx="10126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36800" y="3048120"/>
            <a:ext cx="631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36800" y="3048120"/>
            <a:ext cx="403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501920" y="2742840"/>
            <a:ext cx="434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044720" y="3048120"/>
            <a:ext cx="892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806480" y="304812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196640" y="30481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296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8596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3300000">
            <a:off x="2181960" y="2384640"/>
            <a:ext cx="223560" cy="812880"/>
          </a:xfrm>
          <a:prstGeom prst="upArrow">
            <a:avLst>
              <a:gd name="adj1" fmla="val 50000"/>
              <a:gd name="adj2" fmla="val 9090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4100000">
            <a:off x="1440720" y="2910240"/>
            <a:ext cx="223920" cy="812880"/>
          </a:xfrm>
          <a:prstGeom prst="upArrow">
            <a:avLst>
              <a:gd name="adj1" fmla="val 50000"/>
              <a:gd name="adj2" fmla="val 9075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06480" y="50292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14040" y="4648320"/>
            <a:ext cx="139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sin(2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4400" y="4876920"/>
            <a:ext cx="131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n(2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14040" y="5105520"/>
            <a:ext cx="141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cos(2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49280" y="2305800"/>
            <a:ext cx="1371240" cy="1459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122" y="5347"/>
                </a:moveTo>
                <a:arcTo wR="10800" hR="10800" stAng="-1819539" swAng="1879097"/>
                <a:lnTo>
                  <a:pt x="10800" y="10800"/>
                </a:lnTo>
                <a:close/>
              </a:path>
              <a:path fill="none" w="21600" h="21600">
                <a:moveTo>
                  <a:pt x="20122" y="5347"/>
                </a:moveTo>
                <a:arcTo wR="10800" hR="10800" stAng="-1819539" swAng="1879097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27720" y="2666880"/>
            <a:ext cx="42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Symbol"/>
                <a:ea typeface="Symbol"/>
              </a:rPr>
              <a:t></a:t>
            </a:r>
            <a:r>
              <a:rPr b="1" lang="ja-JP" sz="1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1200" y="38862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lane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 elliptic mo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78000" y="2362320"/>
            <a:ext cx="33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419720" y="2347920"/>
                <a:ext cx="45720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φ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obs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φ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4658040" y="4403880"/>
            <a:ext cx="419040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: azimuthal angle for charged part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: reaction plane 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obs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: measured anisotropy parame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:  corrected anisotropy 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638680" y="3429000"/>
                <a:ext cx="19051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obs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esolutio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4779000" y="148896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plane based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HENIX2d01_new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5029200" cy="4114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010280" y="22860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PHENIX detect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29400" y="1219320"/>
            <a:ext cx="3178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Reaction plane de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at </a:t>
            </a: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3 units of rapidity away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from the mid-rapid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ff00"/>
                </a:solidFill>
                <a:latin typeface="Times New Roman"/>
              </a:rPr>
              <a:t>Less non-flow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contribu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H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momentum con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j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etc 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64840" y="4876920"/>
            <a:ext cx="788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2514240" y="4038120"/>
            <a:ext cx="1522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666880" y="3886200"/>
            <a:ext cx="304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2640" y="4884840"/>
            <a:ext cx="229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 arm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&lt;0.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BC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 ~ 3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80000" y="114300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entral 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98072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160020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Correlation of reaction plan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cor_n_s" descr=""/>
          <p:cNvPicPr/>
          <p:nvPr/>
        </p:nvPicPr>
        <p:blipFill>
          <a:blip r:embed="rId1"/>
          <a:stretch/>
        </p:blipFill>
        <p:spPr>
          <a:xfrm>
            <a:off x="380880" y="1662120"/>
            <a:ext cx="396252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rot="16200000">
            <a:off x="-77760" y="2929680"/>
            <a:ext cx="1018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3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4200" y="990720"/>
            <a:ext cx="20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3.5  vs  </a:t>
            </a:r>
            <a:r>
              <a:rPr b="1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3.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(elliptic : n=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61200" y="4648320"/>
            <a:ext cx="105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= +3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reso_centdep" descr=""/>
          <p:cNvPicPr/>
          <p:nvPr/>
        </p:nvPicPr>
        <p:blipFill>
          <a:blip r:embed="rId2"/>
          <a:stretch/>
        </p:blipFill>
        <p:spPr>
          <a:xfrm>
            <a:off x="4876920" y="1677960"/>
            <a:ext cx="4114800" cy="30322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096600" y="472428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rality [%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150800" y="2759760"/>
            <a:ext cx="13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&lt;cos(2 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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05640" y="3352680"/>
            <a:ext cx="159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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66560" y="3672000"/>
            <a:ext cx="133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: 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: 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27560" y="58053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4280" y="5029200"/>
            <a:ext cx="76212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5029200"/>
            <a:ext cx="76212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153280" y="5029200"/>
            <a:ext cx="76212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07360" y="58294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atic err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syserror_pt_bbcns" descr=""/>
          <p:cNvPicPr/>
          <p:nvPr/>
        </p:nvPicPr>
        <p:blipFill>
          <a:blip r:embed="rId1"/>
          <a:stretch/>
        </p:blipFill>
        <p:spPr>
          <a:xfrm>
            <a:off x="4800600" y="121932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212" name="syserror_cent_bbcns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3733560" cy="33861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284840" y="4979880"/>
            <a:ext cx="64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atic error is estimated by different metho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sky-fig17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5029200" cy="48276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65480" y="1600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65440" y="1171440"/>
            <a:ext cx="35398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measured at (|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|&lt;0.35) wi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 different reaction planes at (|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|=3~4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35320" y="353052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35320" y="401940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35320" y="3782880"/>
            <a:ext cx="152280" cy="16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22560" y="5307120"/>
            <a:ext cx="15228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79760" y="53071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51160" y="5307120"/>
            <a:ext cx="152280" cy="16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84320" y="5195880"/>
            <a:ext cx="15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&lt;sin(2(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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)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80080" y="4540320"/>
            <a:ext cx="1923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Au+Au 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sqrt(s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Times New Roman"/>
              </a:rPr>
              <a:t>NN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)=200G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13600" y="579132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ity 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67840" y="5362560"/>
            <a:ext cx="191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charged p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0.2 &lt; pT &lt; 10 GeV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35480" y="3405240"/>
            <a:ext cx="148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.p.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-4~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35480" y="3633840"/>
            <a:ext cx="13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.p.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3~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3160" y="3876840"/>
            <a:ext cx="14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.p. |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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3~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37480" y="2454120"/>
            <a:ext cx="163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- statistical 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--- 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systematic 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62320" y="433872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IX Prelim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Centrality depende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excitation" descr=""/>
          <p:cNvPicPr/>
          <p:nvPr/>
        </p:nvPicPr>
        <p:blipFill>
          <a:blip r:embed="rId2"/>
          <a:stretch/>
        </p:blipFill>
        <p:spPr>
          <a:xfrm>
            <a:off x="5791320" y="914400"/>
            <a:ext cx="3352680" cy="2666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8001000" y="3630600"/>
                <a:ext cx="7509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5344920" y="1066680"/>
            <a:ext cx="81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76680" y="2514600"/>
            <a:ext cx="102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RQMDv2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47440" y="3002040"/>
            <a:ext cx="240120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S     SPS                             R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sky-fig18" descr=""/>
          <p:cNvPicPr/>
          <p:nvPr/>
        </p:nvPicPr>
        <p:blipFill>
          <a:blip r:embed="rId1"/>
          <a:stretch/>
        </p:blipFill>
        <p:spPr>
          <a:xfrm>
            <a:off x="2057400" y="1346040"/>
            <a:ext cx="5029200" cy="48261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627560" y="16765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16640" y="1219320"/>
            <a:ext cx="30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ction plane based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16160" y="1219320"/>
            <a:ext cx="130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.p. |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|=3~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1349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59720" y="5791320"/>
            <a:ext cx="1298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(GeV/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3960" y="472428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n. b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4440" y="4038480"/>
            <a:ext cx="1923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Au+Au 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sqrt(s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Times New Roman"/>
              </a:rPr>
              <a:t>NN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)=200G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82120" y="4295880"/>
            <a:ext cx="372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ff00"/>
                </a:solidFill>
                <a:latin typeface="Times New Roman"/>
              </a:rPr>
              <a:t>Hydro-dynamical model (*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ff"/>
                </a:solidFill>
                <a:latin typeface="Times New Roman"/>
              </a:rPr>
              <a:t>Hydro+pQCD (dN</a:t>
            </a:r>
            <a:r>
              <a:rPr b="0" lang="ja-JP" sz="1600" spc="-1" strike="noStrike" baseline="30000">
                <a:solidFill>
                  <a:srgbClr val="ff00ff"/>
                </a:solidFill>
                <a:latin typeface="Times New Roman"/>
              </a:rPr>
              <a:t>g</a:t>
            </a:r>
            <a:r>
              <a:rPr b="0" lang="ja-JP" sz="1600" spc="-1" strike="noStrike">
                <a:solidFill>
                  <a:srgbClr val="ff00ff"/>
                </a:solidFill>
                <a:latin typeface="Times New Roman"/>
              </a:rPr>
              <a:t>/dy=1000,500,200) (**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20880" y="153828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IX Prelim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43200" y="5105520"/>
            <a:ext cx="441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(*) P.Huovinen, P.F.Kolb, U.W.Heinz, P.V.Ruuskan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and S.A.Voloshin,  Phys. Lett. B503, 58 (20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14240" y="274320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ff"/>
                </a:solidFill>
                <a:latin typeface="Times New Roman"/>
              </a:rPr>
              <a:t>dN</a:t>
            </a:r>
            <a:r>
              <a:rPr b="0" lang="ja-JP" sz="1600" spc="-1" strike="noStrike" baseline="30000">
                <a:solidFill>
                  <a:srgbClr val="ff00ff"/>
                </a:solidFill>
                <a:latin typeface="Times New Roman"/>
              </a:rPr>
              <a:t>g</a:t>
            </a:r>
            <a:r>
              <a:rPr b="0" lang="ja-JP" sz="1600" spc="-1" strike="noStrike">
                <a:solidFill>
                  <a:srgbClr val="ff00ff"/>
                </a:solidFill>
                <a:latin typeface="Times New Roman"/>
              </a:rPr>
              <a:t>/dy=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39800" y="3429000"/>
            <a:ext cx="11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ff"/>
                </a:solidFill>
                <a:latin typeface="Times New Roman"/>
              </a:rPr>
              <a:t>dN</a:t>
            </a:r>
            <a:r>
              <a:rPr b="0" lang="ja-JP" sz="1600" spc="-1" strike="noStrike" baseline="30000">
                <a:solidFill>
                  <a:srgbClr val="ff00ff"/>
                </a:solidFill>
                <a:latin typeface="Times New Roman"/>
              </a:rPr>
              <a:t>g</a:t>
            </a:r>
            <a:r>
              <a:rPr b="0" lang="ja-JP" sz="1600" spc="-1" strike="noStrike">
                <a:solidFill>
                  <a:srgbClr val="ff00ff"/>
                </a:solidFill>
                <a:latin typeface="Times New Roman"/>
              </a:rPr>
              <a:t>/dy=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39800" y="4006800"/>
            <a:ext cx="11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ff"/>
                </a:solidFill>
                <a:latin typeface="Times New Roman"/>
              </a:rPr>
              <a:t>dN</a:t>
            </a:r>
            <a:r>
              <a:rPr b="0" lang="ja-JP" sz="1600" spc="-1" strike="noStrike" baseline="30000">
                <a:solidFill>
                  <a:srgbClr val="ff00ff"/>
                </a:solidFill>
                <a:latin typeface="Times New Roman"/>
              </a:rPr>
              <a:t>g</a:t>
            </a:r>
            <a:r>
              <a:rPr b="0" lang="ja-JP" sz="1600" spc="-1" strike="noStrike">
                <a:solidFill>
                  <a:srgbClr val="ff00ff"/>
                </a:solidFill>
                <a:latin typeface="Times New Roman"/>
              </a:rPr>
              <a:t>/dy=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66680" y="5867280"/>
            <a:ext cx="289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(**) M.Gyulassy, I.Vitev and X.N.Wang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hys. Rev. Lett. 86, 2537, (20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ja-JP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 depende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9:14:26Z</dcterms:created>
  <dc:creator>益井　宙</dc:creator>
  <dc:description/>
  <dc:language>en-US</dc:language>
  <cp:lastModifiedBy>三明 康郎</cp:lastModifiedBy>
  <dcterms:modified xsi:type="dcterms:W3CDTF">2002-09-18T01:25:07Z</dcterms:modified>
  <cp:revision>57</cp:revision>
  <dc:subject/>
  <dc:title>PowerPoint プレゼンテーション  -  JPS02sep_masui</dc:title>
</cp:coreProperties>
</file>