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088188" cy="102235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88400" cy="1022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008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320" bIns="49320" anchor="t">
            <a:noAutofit/>
          </a:bodyPr>
          <a:p>
            <a:pPr indent="0">
              <a:buNone/>
              <a:tabLst>
                <a:tab algn="l" pos="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</a:pPr>
            <a:r>
              <a:rPr b="0" lang="ja-JP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016520" y="0"/>
            <a:ext cx="307008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320" bIns="49320" anchor="t">
            <a:noAutofit/>
          </a:bodyPr>
          <a:lstStyle>
            <a:lvl1pPr indent="0" algn="r">
              <a:buNone/>
              <a:tabLst>
                <a:tab algn="l" pos="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  <a:defRPr b="0" lang="ja-JP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</a:pPr>
            <a:r>
              <a:rPr b="0" lang="ja-JP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87120" y="766440"/>
            <a:ext cx="5111640" cy="383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44280" y="4856040"/>
            <a:ext cx="5197320" cy="46008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320" bIns="493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712440"/>
            <a:ext cx="307008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320" bIns="49320" anchor="b">
            <a:noAutofit/>
          </a:bodyPr>
          <a:lstStyle>
            <a:lvl1pPr indent="0">
              <a:buNone/>
              <a:tabLst>
                <a:tab algn="l" pos="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  <a:defRPr b="0" lang="ja-JP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</a:pPr>
            <a:r>
              <a:rPr b="0" lang="ja-JP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016520" y="9712440"/>
            <a:ext cx="307008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320" bIns="49320" anchor="b">
            <a:noAutofit/>
          </a:bodyPr>
          <a:lstStyle>
            <a:lvl1pPr indent="0" algn="r">
              <a:buNone/>
              <a:tabLst>
                <a:tab algn="l" pos="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  <a:defRPr b="0" lang="ja-JP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</a:pPr>
            <a:fld id="{DE3FAC73-26CC-4CB7-A62D-61F9786941AB}" type="slidenum">
              <a:rPr b="0" lang="ja-JP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987480" y="76680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44280" y="4856040"/>
            <a:ext cx="5197320" cy="4600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9000" rIns="99000" tIns="49320" bIns="493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ng gain corr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e bias of same radi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ction plane distrib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relation of the reaction pl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987480" y="76680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44280" y="4856040"/>
            <a:ext cx="5197320" cy="46008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320" bIns="493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vided 4 regions z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ed [cm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e aut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o correl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[rad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 sub sa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ft chamber z potion [cm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987480" y="76680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44280" y="4856040"/>
            <a:ext cx="5197320" cy="4600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9000" rIns="99000" tIns="49320" bIns="493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vided 4 regions z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ed [cm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e aut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o correl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[rad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987480" y="76680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44280" y="4856040"/>
            <a:ext cx="5197320" cy="4600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9000" rIns="99000" tIns="49320" bIns="493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od correlation 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BC reaction pl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987480" y="76680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44280" y="4856040"/>
            <a:ext cx="5197320" cy="46008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320" bIns="493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“ 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BBC resolution is better than CNT resolution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Centra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987480" y="76680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44280" y="4856040"/>
            <a:ext cx="5197320" cy="46008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320" bIns="493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udy elliptic moment (n=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987480" y="76680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44280" y="4856040"/>
            <a:ext cx="5197320" cy="4600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9000" rIns="99000" tIns="49320" bIns="493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h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Φ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Φ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ction pl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ged parti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sured emission angle of charged parti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respect to the reaction pl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ction plane determination is very important 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987480" y="76680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44280" y="4856040"/>
            <a:ext cx="5197320" cy="46008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320" bIns="493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ction plan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measured direct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987480" y="76680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44280" y="4856040"/>
            <a:ext cx="5197320" cy="46008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320" bIns="493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’t meas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ction plane resolu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_event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・・・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vide one ev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987480" y="76680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44280" y="4856040"/>
            <a:ext cx="5197320" cy="4600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9000" rIns="99000" tIns="49320" bIns="493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lision poi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r from the collision poi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ss non-flow contrib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BT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et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onance dec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ft Cha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d Cha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987480" y="76680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44280" y="4856040"/>
            <a:ext cx="5197320" cy="46008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320" bIns="493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ddition, get good resolu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987480" y="76680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44280" y="4856040"/>
            <a:ext cx="5197320" cy="4600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9000" rIns="99000" tIns="49320" bIns="493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attening method corr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corr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remove higher harmonic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○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atten reaction pl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× not flat in each multiplicity b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987480" y="76680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44280" y="4856040"/>
            <a:ext cx="5197320" cy="4600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9000" rIns="99000" tIns="49320" bIns="493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ng gain corr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e bias of same radi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ge in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ng gain coll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rect the asymmetric charge distribution in each PM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082E8-D5BD-437F-83C6-0752D77F5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1D0F2-631B-49FD-A342-CAC10862A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C32E6-DD35-40E3-9925-451428992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198FE-763D-4505-892E-456FB59B9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C39F8-3E34-4FF9-BEF3-69D4EEB0D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8CE5F-2E3A-4F5E-9DFF-B19B20E8B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254D8-4559-41DB-9916-868713E43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DEC32-4DC2-430C-BEB9-0CB93B8A6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1D690-A4CA-4231-9540-37482C974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64AB9-C798-43B0-87EB-D7C89AFBC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4CD8C-820C-414F-91E7-A0248DDEF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56869-D2D0-4CE8-B7F2-74C78AD5B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DCF78-868F-48FB-ABFE-7BE0AE07FF3F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action plane determination in PHENI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666880" y="4038480"/>
            <a:ext cx="45720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Shingo Saka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Univ. of Tsukub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For the PHENIX Collabo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henix_40_72dpi" descr=""/>
          <p:cNvPicPr/>
          <p:nvPr/>
        </p:nvPicPr>
        <p:blipFill>
          <a:blip r:embed="rId1"/>
          <a:stretch/>
        </p:blipFill>
        <p:spPr>
          <a:xfrm>
            <a:off x="7086600" y="6019920"/>
            <a:ext cx="1760400" cy="57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action plane determined by BBC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rpdist_bbc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3810240" cy="335304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8229960" y="5715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[ra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505320" y="541008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[ra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57200" y="2209680"/>
            <a:ext cx="2133720" cy="2286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724280" y="1981080"/>
            <a:ext cx="685800" cy="457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909720" y="1981080"/>
            <a:ext cx="303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Reaction plane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572000" y="2209680"/>
            <a:ext cx="838080" cy="30492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381880" y="2286000"/>
            <a:ext cx="381240" cy="2286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267080" y="2286000"/>
            <a:ext cx="990720" cy="30492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8458200" y="2362320"/>
            <a:ext cx="457200" cy="2286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bbcrp" descr=""/>
          <p:cNvPicPr/>
          <p:nvPr/>
        </p:nvPicPr>
        <p:blipFill>
          <a:blip r:embed="rId2"/>
          <a:stretch/>
        </p:blipFill>
        <p:spPr>
          <a:xfrm>
            <a:off x="4267080" y="2286000"/>
            <a:ext cx="4191120" cy="335268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4267080" y="2209680"/>
            <a:ext cx="685800" cy="30492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8077320" y="2209680"/>
            <a:ext cx="380880" cy="3812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641840" y="1676520"/>
            <a:ext cx="3676680" cy="79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Correlation of two reaction pla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BBC north v.s sou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action plane determined by CNT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57800" y="4191120"/>
            <a:ext cx="4572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915480" y="4419720"/>
            <a:ext cx="289188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DC z position divi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into 4 reg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76120" y="445140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85800" y="4572000"/>
            <a:ext cx="76320" cy="9540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077320" y="4038480"/>
            <a:ext cx="380880" cy="3812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" name="zed" descr=""/>
          <p:cNvPicPr/>
          <p:nvPr/>
        </p:nvPicPr>
        <p:blipFill>
          <a:blip r:embed="rId1"/>
          <a:stretch/>
        </p:blipFill>
        <p:spPr>
          <a:xfrm>
            <a:off x="4724280" y="3505320"/>
            <a:ext cx="4267440" cy="289224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4724280" y="3505320"/>
            <a:ext cx="76356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1955880" y="1981080"/>
                <a:ext cx="4317840" cy="121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an</m:t>
                    </m:r>
                    <m:r>
                      <m:t xml:space="preserve">2</m:t>
                    </m:r>
                    <m:r>
                      <m:t xml:space="preserve">Φ</m:t>
                    </m:r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pt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pt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0" name=""/>
          <p:cNvSpPr/>
          <p:nvPr/>
        </p:nvSpPr>
        <p:spPr>
          <a:xfrm>
            <a:off x="5791320" y="2666880"/>
            <a:ext cx="380880" cy="3812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188960" y="3200400"/>
            <a:ext cx="227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ＭＳ Ｐ明朝"/>
              </a:rPr>
              <a:t>DC &amp; PC  track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915120" y="3809880"/>
            <a:ext cx="180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3333cc"/>
                </a:solidFill>
                <a:uFillTx/>
                <a:latin typeface="Times New Roman"/>
                <a:ea typeface="ＭＳ Ｐ明朝"/>
              </a:rPr>
              <a:t>4 sub s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692480" y="6248520"/>
            <a:ext cx="57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[cm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action plane determined by CNT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" name="rpdist_cnt" descr=""/>
          <p:cNvPicPr/>
          <p:nvPr/>
        </p:nvPicPr>
        <p:blipFill>
          <a:blip r:embed="rId1"/>
          <a:stretch/>
        </p:blipFill>
        <p:spPr>
          <a:xfrm>
            <a:off x="685800" y="2286000"/>
            <a:ext cx="3809880" cy="35053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4724280" y="1752480"/>
            <a:ext cx="7635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44680" y="211608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8077320" y="1143000"/>
            <a:ext cx="380880" cy="3808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733920" y="563868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[ra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8153640" y="5715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[ra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09480" y="1981080"/>
            <a:ext cx="2133720" cy="2286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004400" y="1782720"/>
            <a:ext cx="315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Reaction plane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3" name="cnt" descr=""/>
          <p:cNvPicPr/>
          <p:nvPr/>
        </p:nvPicPr>
        <p:blipFill>
          <a:blip r:embed="rId2"/>
          <a:stretch/>
        </p:blipFill>
        <p:spPr>
          <a:xfrm>
            <a:off x="4800600" y="2286000"/>
            <a:ext cx="3962520" cy="36576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4648320" y="2286000"/>
            <a:ext cx="838080" cy="30492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05920" y="2133720"/>
            <a:ext cx="380880" cy="30456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945320" y="1676520"/>
            <a:ext cx="3807720" cy="79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Correlation of two reaction pla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Which has a g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8381880" y="2286000"/>
            <a:ext cx="304920" cy="30492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8153640" y="586728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[ra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rrelation BBC reaction plane &amp; CNT reaction pla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bbcnt" descr=""/>
          <p:cNvPicPr/>
          <p:nvPr/>
        </p:nvPicPr>
        <p:blipFill>
          <a:blip r:embed="rId1"/>
          <a:stretch/>
        </p:blipFill>
        <p:spPr>
          <a:xfrm>
            <a:off x="1181160" y="2057400"/>
            <a:ext cx="6172200" cy="441324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3275280" y="1828800"/>
            <a:ext cx="25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ＭＳ Ｐ明朝"/>
              </a:rPr>
              <a:t>Good correlation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990720" y="1905120"/>
            <a:ext cx="1371600" cy="3808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010280" y="1752480"/>
            <a:ext cx="457200" cy="6858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53440" y="624852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[ra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are reaction plane resolutio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tween CNT and BB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6" name="reso" descr=""/>
          <p:cNvPicPr/>
          <p:nvPr/>
        </p:nvPicPr>
        <p:blipFill>
          <a:blip r:embed="rId1"/>
          <a:stretch/>
        </p:blipFill>
        <p:spPr>
          <a:xfrm>
            <a:off x="1486080" y="1981080"/>
            <a:ext cx="6476760" cy="39625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1143000" y="1676520"/>
            <a:ext cx="2895480" cy="53316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449720" y="6122880"/>
            <a:ext cx="65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“ </a:t>
            </a:r>
            <a:r>
              <a:rPr b="1" lang="ja-JP" sz="24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BBC resolution is better than CNT resolution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780960" y="579132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Centr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ction plane is determined the Beam-Beam Counter &amp; the central arm detectors in PHEN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correct reaction plane, average shift correction &amp; flattening method correction are appli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BC reaction plane &amp; CNT reaction plane has a good correlation.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We decide reaction plane correct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ction plane resolution which is decided BBC is better than C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57200" y="1219320"/>
            <a:ext cx="8153280" cy="49528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action pla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H="1" rot="8504400">
            <a:off x="913680" y="2347560"/>
            <a:ext cx="3886200" cy="1676160"/>
          </a:xfrm>
          <a:prstGeom prst="parallelogram">
            <a:avLst>
              <a:gd name="adj" fmla="val 57963"/>
            </a:avLst>
          </a:pr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66880" y="1967040"/>
            <a:ext cx="914400" cy="914400"/>
          </a:xfrm>
          <a:prstGeom prst="ellipse">
            <a:avLst/>
          </a:prstGeom>
          <a:gradFill rotWithShape="0">
            <a:gsLst>
              <a:gs pos="0">
                <a:srgbClr val="3366cc"/>
              </a:gs>
              <a:gs pos="100000">
                <a:srgbClr val="cc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2142600">
            <a:off x="1787760" y="909720"/>
            <a:ext cx="1830240" cy="1829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623" y="155"/>
                </a:moveTo>
                <a:arcTo wR="10800" hR="10800" stAng="-4816884" swAng="3264599"/>
                <a:lnTo>
                  <a:pt x="10800" y="10800"/>
                </a:lnTo>
                <a:close/>
              </a:path>
              <a:path fill="none" w="21600" h="21600">
                <a:moveTo>
                  <a:pt x="12623" y="155"/>
                </a:moveTo>
                <a:arcTo wR="10800" hR="10800" stAng="-4816884" swAng="3264599"/>
              </a:path>
            </a:pathLst>
          </a:custGeom>
          <a:noFill/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2142600">
            <a:off x="1711440" y="1963440"/>
            <a:ext cx="1830960" cy="1829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623" y="155"/>
                </a:moveTo>
                <a:arcTo wR="10800" hR="10800" stAng="-4816884" swAng="3264599"/>
                <a:lnTo>
                  <a:pt x="10800" y="10800"/>
                </a:lnTo>
                <a:close/>
              </a:path>
              <a:path fill="none" w="21600" h="21600">
                <a:moveTo>
                  <a:pt x="12623" y="155"/>
                </a:moveTo>
                <a:arcTo wR="10800" hR="10800" stAng="-4816884" swAng="3264599"/>
              </a:path>
            </a:pathLst>
          </a:custGeom>
          <a:noFill/>
          <a:ln w="936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 rot="2142600">
            <a:off x="1711440" y="1963440"/>
            <a:ext cx="1830960" cy="1829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623" y="155"/>
                </a:moveTo>
                <a:arcTo wR="10800" hR="10800" stAng="-4816884" swAng="3264599"/>
                <a:lnTo>
                  <a:pt x="10800" y="10800"/>
                </a:lnTo>
                <a:close/>
              </a:path>
              <a:path fill="none" w="21600" h="21600">
                <a:moveTo>
                  <a:pt x="12623" y="155"/>
                </a:moveTo>
                <a:arcTo wR="10800" hR="10800" stAng="-4816884" swAng="3264599"/>
              </a:path>
            </a:pathLst>
          </a:custGeom>
          <a:noFill/>
          <a:ln cap="rnd" w="6480">
            <a:solidFill>
              <a:srgbClr val="00cc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1294920" y="2500200"/>
            <a:ext cx="1600200" cy="1219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3048120" y="2499840"/>
            <a:ext cx="1143000" cy="838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2362320" y="2881440"/>
            <a:ext cx="838080" cy="380880"/>
          </a:xfrm>
          <a:prstGeom prst="line">
            <a:avLst/>
          </a:prstGeom>
          <a:ln w="2844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1225800">
            <a:off x="837000" y="4100400"/>
            <a:ext cx="178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Reaction Pla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220040" y="2500200"/>
            <a:ext cx="19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Impact parame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 rot="2142600">
            <a:off x="1635120" y="1963440"/>
            <a:ext cx="1830960" cy="1829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623" y="155"/>
                </a:moveTo>
                <a:arcTo wR="10800" hR="10800" stAng="-4816884" swAng="3264599"/>
                <a:lnTo>
                  <a:pt x="10800" y="10800"/>
                </a:lnTo>
                <a:close/>
              </a:path>
              <a:path fill="none" w="21600" h="21600">
                <a:moveTo>
                  <a:pt x="12623" y="155"/>
                </a:moveTo>
                <a:arcTo wR="10800" hR="10800" stAng="-4816884" swAng="3264599"/>
              </a:path>
            </a:pathLst>
          </a:custGeom>
          <a:noFill/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133720" y="3186000"/>
            <a:ext cx="914400" cy="914400"/>
          </a:xfrm>
          <a:prstGeom prst="ellipse">
            <a:avLst/>
          </a:prstGeom>
          <a:gradFill rotWithShape="0">
            <a:gsLst>
              <a:gs pos="0">
                <a:srgbClr val="3366cc"/>
              </a:gs>
              <a:gs pos="100000">
                <a:srgbClr val="cc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V="1" rot="2142600">
            <a:off x="1635120" y="1963440"/>
            <a:ext cx="1830960" cy="1829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623" y="155"/>
                </a:moveTo>
                <a:arcTo wR="10800" hR="10800" stAng="-4816884" swAng="3264599"/>
                <a:lnTo>
                  <a:pt x="10800" y="10800"/>
                </a:lnTo>
                <a:close/>
              </a:path>
              <a:path fill="none" w="21600" h="21600">
                <a:moveTo>
                  <a:pt x="12623" y="155"/>
                </a:moveTo>
                <a:arcTo wR="10800" hR="10800" stAng="-4816884" swAng="3264599"/>
              </a:path>
            </a:pathLst>
          </a:custGeom>
          <a:noFill/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5105520"/>
            <a:ext cx="6781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reaction plane is defined by the direction of the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mpact paramete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and  the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eam dire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19920" y="3048120"/>
            <a:ext cx="914400" cy="9144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553080" y="2666880"/>
            <a:ext cx="914400" cy="9144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867280" y="3352680"/>
            <a:ext cx="2286000" cy="1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629400" y="2362320"/>
            <a:ext cx="0" cy="19047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5791320" y="2438280"/>
            <a:ext cx="2057400" cy="15242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104080" y="2590920"/>
            <a:ext cx="13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Reaction Pl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8231040" y="335268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250320" y="24382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zimuthal anisotro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3760" y="3581280"/>
            <a:ext cx="173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&lt;method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685800" y="4191120"/>
                <a:ext cx="4927680" cy="83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N</m:t>
                        </m:r>
                        <m:r>
                          <m:t xml:space="preserve">(</m:t>
                        </m:r>
                        <m:r>
                          <m:t xml:space="preserve">φ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t xml:space="preserve">φ</m:t>
                        </m:r>
                        <m:r>
                          <m:t xml:space="preserve">−</m:t>
                        </m:r>
                        <m:r>
                          <m:t xml:space="preserve">Ψ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n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/>
                          <m:e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n</m:t>
                            </m:r>
                            <m:r>
                              <m:t xml:space="preserve">(</m:t>
                            </m:r>
                            <m:r>
                              <m:t xml:space="preserve">φ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Ψ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7" name=""/>
          <p:cNvSpPr/>
          <p:nvPr/>
        </p:nvSpPr>
        <p:spPr>
          <a:xfrm>
            <a:off x="4495680" y="4343400"/>
            <a:ext cx="914400" cy="4572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719680" y="5181480"/>
            <a:ext cx="2590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6939000" y="3962520"/>
            <a:ext cx="0" cy="22096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6939000" y="4267080"/>
            <a:ext cx="1295280" cy="9144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8312040" y="510552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862680" y="3581280"/>
            <a:ext cx="330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H="1" flipV="1">
            <a:off x="6176520" y="3886200"/>
            <a:ext cx="762120" cy="129528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950440" y="4270320"/>
            <a:ext cx="1830600" cy="1828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288" y="987"/>
                </a:moveTo>
                <a:arcTo wR="10800" hR="10800" stAng="-6881505" swAng="5078892"/>
                <a:lnTo>
                  <a:pt x="10800" y="10800"/>
                </a:lnTo>
                <a:close/>
              </a:path>
              <a:path fill="none" w="21600" h="21600">
                <a:moveTo>
                  <a:pt x="6288" y="987"/>
                </a:moveTo>
                <a:arcTo wR="10800" hR="10800" stAng="-6881505" swAng="5078892"/>
              </a:path>
            </a:pathLst>
          </a:custGeom>
          <a:noFill/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704920" y="3809880"/>
            <a:ext cx="37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343640" y="3733920"/>
            <a:ext cx="180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ＭＳ Ｐ明朝"/>
              </a:rPr>
              <a:t>Reaction pla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879800" y="3429000"/>
            <a:ext cx="202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  <a:ea typeface="ＭＳ Ｐ明朝"/>
              </a:rPr>
              <a:t>Charged partic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55680" y="4952880"/>
            <a:ext cx="5333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Measure the azimuthal angle of charged particle with respect to the reaction pla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2680" y="1447920"/>
            <a:ext cx="471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&lt;azimuthal event anisotropy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053360" y="2057400"/>
            <a:ext cx="657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sensitive to the early pressure gradient in the collision z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85800" y="266688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504440" y="2579760"/>
            <a:ext cx="6743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ＭＳ Ｐ明朝"/>
              </a:rPr>
              <a:t>one of the important observable that helps us to understan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ＭＳ Ｐ明朝"/>
              </a:rPr>
              <a:t>the early stage of nuclear-nuclear collis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33520" y="609588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291680" y="6019920"/>
            <a:ext cx="655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  <a:ea typeface="ＭＳ Ｐ明朝"/>
              </a:rPr>
              <a:t>Reaction plane determination is very important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8305920" y="4267080"/>
                <a:ext cx="469800" cy="43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Ψ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stimation of reaction pla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533520" y="3505320"/>
                <a:ext cx="434340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an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f>
                          <m:num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nφ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nary>
                          </m:num>
                          <m:den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nφ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nary>
                          </m:den>
                        </m:f>
                      </m:e>
                    </m:d>
                    <m:r>
                      <m:t xml:space="preserve">/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8" name=""/>
          <p:cNvSpPr/>
          <p:nvPr/>
        </p:nvSpPr>
        <p:spPr>
          <a:xfrm>
            <a:off x="2814840" y="6172200"/>
            <a:ext cx="368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  <a:ea typeface="ＭＳ Ｐ明朝"/>
              </a:rPr>
              <a:t>Study elliptic moment (n=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186560" y="2057400"/>
            <a:ext cx="21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Reaction pla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505320" y="2133720"/>
            <a:ext cx="1143000" cy="304560"/>
          </a:xfrm>
          <a:prstGeom prst="rightArrow">
            <a:avLst>
              <a:gd name="adj1" fmla="val 50000"/>
              <a:gd name="adj2" fmla="val 93824"/>
            </a:avLst>
          </a:prstGeom>
          <a:solidFill>
            <a:srgbClr val="ff00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781520" y="2057400"/>
            <a:ext cx="294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Times New Roman"/>
                <a:ea typeface="ＭＳ Ｐ明朝"/>
              </a:rPr>
              <a:t>Not measured direct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06960" y="4648320"/>
            <a:ext cx="320040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257800" y="4572000"/>
            <a:ext cx="2897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5715000" y="2819520"/>
            <a:ext cx="1440" cy="3200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5738760" y="3052800"/>
            <a:ext cx="412920" cy="15138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697720" y="4606920"/>
            <a:ext cx="1409040" cy="69084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573440" y="3200400"/>
            <a:ext cx="2895840" cy="228600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715000" y="312408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173640" y="3200400"/>
            <a:ext cx="0" cy="13716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716440" y="5334120"/>
            <a:ext cx="137160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7088040" y="4571640"/>
            <a:ext cx="0" cy="6858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790960" y="2666880"/>
            <a:ext cx="202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  <a:ea typeface="ＭＳ Ｐ明朝"/>
              </a:rPr>
              <a:t>Charged partic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462000" y="4038480"/>
            <a:ext cx="37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703920" y="3657600"/>
            <a:ext cx="180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ＭＳ Ｐ明朝"/>
              </a:rPr>
              <a:t>Reaction pla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11880" y="4038480"/>
            <a:ext cx="1066320" cy="1066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335560" y="2666880"/>
            <a:ext cx="330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231040" y="449568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stimation of reaction plane resolu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1066680" y="1947960"/>
                <a:ext cx="5410440" cy="67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easured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rue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)</m:t>
                    </m:r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0" name=""/>
          <p:cNvSpPr/>
          <p:nvPr/>
        </p:nvSpPr>
        <p:spPr>
          <a:xfrm>
            <a:off x="5029200" y="2590920"/>
            <a:ext cx="9144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494960" y="2666880"/>
            <a:ext cx="195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ＭＳ Ｐ明朝"/>
              </a:rPr>
              <a:t>Can’t meas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143000" y="3809880"/>
                <a:ext cx="7010280" cy="252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Ψ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Ψ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&gt;</m:t>
                        </m:r>
                        <m:r>
                          <m:rPr>
                            <m:lit/>
                            <m:nor/>
                          </m:rPr>
                          <m:t xml:space="preserve">=&lt;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Ψ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Ψ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rue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Ψ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Ψ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rue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&gt;</m:t>
                        </m:r>
                      </m:e>
                      <m:e>
                        <m:r>
                          <m:t xml:space="preserve">&lt;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t xml:space="preserve">Ψ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Ψ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rue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&gt;&lt;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Ψ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Ψ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rue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&gt;</m:t>
                        </m:r>
                      </m:e>
                      <m:e>
                        <m:r>
                          <m:t xml:space="preserve">&lt;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Ψ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Ψ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rue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&gt;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3" name=""/>
          <p:cNvSpPr/>
          <p:nvPr/>
        </p:nvSpPr>
        <p:spPr>
          <a:xfrm>
            <a:off x="914400" y="3657600"/>
            <a:ext cx="3657600" cy="8380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124080" y="2666880"/>
            <a:ext cx="68580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032120" y="3124080"/>
            <a:ext cx="34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  <a:ea typeface="ＭＳ Ｐ明朝"/>
              </a:rPr>
              <a:t>Reaction plane 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948200" y="3505320"/>
            <a:ext cx="291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Reaction plane sub-ev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245280" y="3809880"/>
            <a:ext cx="210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(divide one even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705720" y="3886200"/>
            <a:ext cx="1143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4038480" y="3733920"/>
            <a:ext cx="914400" cy="304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action plane determin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400800" y="5334120"/>
            <a:ext cx="38088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51440" y="5638680"/>
            <a:ext cx="352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Less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ＭＳ Ｐ明朝"/>
              </a:rPr>
              <a:t>non-flo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 con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34960" y="6172200"/>
            <a:ext cx="325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Times New Roman"/>
                <a:ea typeface="ＭＳ Ｐ明朝"/>
              </a:rPr>
              <a:t>HBT</a:t>
            </a:r>
            <a:r>
              <a:rPr b="1" lang="zh-CN" sz="2000" spc="-1" strike="noStrike" u="sng">
                <a:solidFill>
                  <a:srgbClr val="ff0000"/>
                </a:solidFill>
                <a:uFillTx/>
                <a:latin typeface="Times New Roman"/>
                <a:ea typeface="ＭＳ Ｐ明朝"/>
              </a:rPr>
              <a:t>、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Times New Roman"/>
                <a:ea typeface="ＭＳ Ｐ明朝"/>
              </a:rPr>
              <a:t>jet</a:t>
            </a:r>
            <a:r>
              <a:rPr b="1" lang="zh-CN" sz="2000" spc="-1" strike="noStrike" u="sng">
                <a:solidFill>
                  <a:srgbClr val="ff0000"/>
                </a:solidFill>
                <a:uFillTx/>
                <a:latin typeface="Times New Roman"/>
                <a:ea typeface="ＭＳ Ｐ明朝"/>
              </a:rPr>
              <a:t>、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Times New Roman"/>
                <a:ea typeface="ＭＳ Ｐ明朝"/>
              </a:rPr>
              <a:t>resonanc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4213800" y="3570480"/>
            <a:ext cx="259200" cy="9792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4517640" y="2515680"/>
            <a:ext cx="489600" cy="22572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952880" y="4419720"/>
            <a:ext cx="335304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3 units of rapidity away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rom the mid-rapid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276720" y="2438280"/>
            <a:ext cx="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1676520"/>
            <a:ext cx="3124080" cy="825480"/>
          </a:xfrm>
          <a:prstGeom prst="rect">
            <a:avLst/>
          </a:prstGeom>
          <a:solidFill>
            <a:srgbClr val="ccffff"/>
          </a:solidFill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entral arms (C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&lt;0.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sky-bbc" descr=""/>
          <p:cNvPicPr/>
          <p:nvPr/>
        </p:nvPicPr>
        <p:blipFill>
          <a:blip r:embed="rId1"/>
          <a:stretch/>
        </p:blipFill>
        <p:spPr>
          <a:xfrm>
            <a:off x="5715000" y="1219320"/>
            <a:ext cx="1676520" cy="175248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5944320" y="2971800"/>
            <a:ext cx="222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Times New Roman"/>
              </a:rPr>
              <a:t>64 pmts in each BB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105520" y="3352680"/>
            <a:ext cx="3809880" cy="825480"/>
          </a:xfrm>
          <a:prstGeom prst="rect">
            <a:avLst/>
          </a:prstGeom>
          <a:solidFill>
            <a:srgbClr val="cc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am Beam Counter (BB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=3-4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Phenix_2002" descr=""/>
          <p:cNvPicPr/>
          <p:nvPr/>
        </p:nvPicPr>
        <p:blipFill>
          <a:blip r:embed="rId2"/>
          <a:stretch/>
        </p:blipFill>
        <p:spPr>
          <a:xfrm>
            <a:off x="533520" y="3124080"/>
            <a:ext cx="4190760" cy="344340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0" y="2666880"/>
            <a:ext cx="502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Drift Chamber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DC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）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, Pad Chamber(P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l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488960" y="3201840"/>
            <a:ext cx="668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Remove the effects of anisotropy of reaction pla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826560" y="1982880"/>
            <a:ext cx="779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Reaction plane has anisotropy due to the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ＭＳ Ｐ明朝"/>
              </a:rPr>
              <a:t>finite acceptan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525920" y="2592360"/>
            <a:ext cx="609480" cy="5335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33cc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820600" y="4802040"/>
            <a:ext cx="448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3333cc"/>
                </a:solidFill>
                <a:uFillTx/>
                <a:latin typeface="Times New Roman"/>
                <a:ea typeface="ＭＳ Ｐ明朝"/>
              </a:rPr>
              <a:t>Flattening method corr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820960" y="3887640"/>
            <a:ext cx="371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3333cc"/>
                </a:solidFill>
                <a:uFillTx/>
                <a:latin typeface="Times New Roman"/>
                <a:ea typeface="ＭＳ Ｐ明朝"/>
              </a:rPr>
              <a:t>Average shift corr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57200" y="1600200"/>
            <a:ext cx="8381880" cy="45734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rrection of reaction pla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28600" y="1461960"/>
            <a:ext cx="371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3333cc"/>
                </a:solidFill>
                <a:uFillTx/>
                <a:latin typeface="Times New Roman"/>
                <a:ea typeface="ＭＳ Ｐ明朝"/>
              </a:rPr>
              <a:t>Average shift corr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28240" y="3962520"/>
            <a:ext cx="448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3333cc"/>
                </a:solidFill>
                <a:uFillTx/>
                <a:latin typeface="Times New Roman"/>
                <a:ea typeface="ＭＳ Ｐ明朝"/>
              </a:rPr>
              <a:t>Flattening method corr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625840" y="2895480"/>
            <a:ext cx="4610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108080" y="2666880"/>
            <a:ext cx="1490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n(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685240" y="2438280"/>
            <a:ext cx="4405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 w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* sin(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-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&lt;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Σ w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* sin(2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)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657520" y="2895480"/>
            <a:ext cx="4536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 w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cos(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-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&lt;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Σ w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i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 cos(2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) 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819360" y="4800600"/>
            <a:ext cx="5087520" cy="168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Symbol"/>
                <a:ea typeface="Symbol"/>
              </a:rPr>
              <a:t></a:t>
            </a:r>
            <a:r>
              <a:rPr b="1" lang="ja-JP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</a:t>
            </a:r>
            <a:r>
              <a:rPr b="1" lang="ja-JP" sz="2000" spc="-1" strike="noStrike">
                <a:solidFill>
                  <a:srgbClr val="000000"/>
                </a:solidFill>
                <a:latin typeface="Symbol"/>
                <a:ea typeface="Symbol"/>
              </a:rPr>
              <a:t></a:t>
            </a:r>
            <a:r>
              <a:rPr b="1" lang="ja-JP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</a:t>
            </a:r>
            <a:r>
              <a:rPr b="1" lang="ja-JP" sz="2000" spc="-1" strike="noStrike" baseline="30000">
                <a:solidFill>
                  <a:srgbClr val="000000"/>
                </a:solidFill>
                <a:latin typeface="Times New Roman"/>
              </a:rPr>
              <a:t>obs</a:t>
            </a:r>
            <a:r>
              <a:rPr b="1" lang="ja-JP" sz="20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ja-JP" sz="2000" spc="-1" strike="noStrike">
                <a:solidFill>
                  <a:srgbClr val="ff0000"/>
                </a:solidFill>
                <a:latin typeface="Symbol"/>
                <a:ea typeface="Symbol"/>
              </a:rPr>
              <a:t></a:t>
            </a:r>
            <a:r>
              <a:rPr b="1" lang="ja-JP" sz="2000" spc="-1" strike="noStrike" baseline="-25000">
                <a:solidFill>
                  <a:srgbClr val="ff0000"/>
                </a:solidFill>
                <a:latin typeface="Symbol"/>
                <a:ea typeface="Symbol"/>
              </a:rPr>
              <a:t>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0000"/>
                </a:solidFill>
                <a:latin typeface="Symbol"/>
                <a:ea typeface="Symbol"/>
              </a:rPr>
              <a:t></a:t>
            </a:r>
            <a:r>
              <a:rPr b="0" lang="ja-JP" sz="2400" spc="-1" strike="noStrike" baseline="-25000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ja-JP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ja-JP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(A</a:t>
            </a:r>
            <a:r>
              <a:rPr b="0" lang="ja-JP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cos(2n</a:t>
            </a:r>
            <a:r>
              <a:rPr b="0" lang="ja-JP" sz="24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ja-JP" sz="2400" spc="-1" strike="noStrike" baseline="-25000">
                <a:solidFill>
                  <a:srgbClr val="000000"/>
                </a:solidFill>
                <a:latin typeface="Times New Roman"/>
              </a:rPr>
              <a:t>obs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) + B</a:t>
            </a:r>
            <a:r>
              <a:rPr b="0" lang="ja-JP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sin(2n</a:t>
            </a:r>
            <a:r>
              <a:rPr b="0" lang="ja-JP" sz="24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ja-JP" sz="2400" spc="-1" strike="noStrike" baseline="-25000">
                <a:solidFill>
                  <a:srgbClr val="000000"/>
                </a:solidFill>
                <a:latin typeface="Times New Roman"/>
              </a:rPr>
              <a:t>obs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ja-JP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 = -2/n*&lt;sin(2n</a:t>
            </a:r>
            <a:r>
              <a:rPr b="0" lang="ja-JP" sz="24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ja-JP" sz="2400" spc="-1" strike="noStrike" baseline="-25000">
                <a:solidFill>
                  <a:srgbClr val="000000"/>
                </a:solidFill>
                <a:latin typeface="Times New Roman"/>
              </a:rPr>
              <a:t>obs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)&gt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ja-JP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 = 2/n*&lt;cos(2n</a:t>
            </a:r>
            <a:r>
              <a:rPr b="0" lang="ja-JP" sz="24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ja-JP" sz="2400" spc="-1" strike="noStrike" baseline="-25000">
                <a:solidFill>
                  <a:srgbClr val="000000"/>
                </a:solidFill>
                <a:latin typeface="Times New Roman"/>
              </a:rPr>
              <a:t>obs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)&gt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712400" y="1447920"/>
            <a:ext cx="2708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○</a:t>
            </a:r>
            <a:r>
              <a:rPr b="1" lang="ja-JP" sz="20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　</a:t>
            </a:r>
            <a:r>
              <a:rPr b="1" lang="ja-JP" sz="20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Simple corr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747680" y="1828800"/>
            <a:ext cx="40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×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　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Not remove higher harmonic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572000" y="1295280"/>
            <a:ext cx="4191120" cy="10670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075640" y="3886200"/>
            <a:ext cx="244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○  </a:t>
            </a:r>
            <a:r>
              <a:rPr b="1" lang="ja-JP" sz="20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flat reaction pla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876920" y="3657600"/>
            <a:ext cx="3886200" cy="12193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001120" y="4343400"/>
            <a:ext cx="333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× not flat in each multiplic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action plane determined by BBC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2514600"/>
            <a:ext cx="2133720" cy="2286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19640" y="2682720"/>
            <a:ext cx="685800" cy="457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1054080" y="2682720"/>
                <a:ext cx="4121280" cy="106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an</m:t>
                    </m:r>
                    <m:r>
                      <m:t xml:space="preserve">2</m:t>
                    </m:r>
                    <m:r>
                      <m:t xml:space="preserve">Φ</m:t>
                    </m:r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9" name=""/>
          <p:cNvSpPr/>
          <p:nvPr/>
        </p:nvSpPr>
        <p:spPr>
          <a:xfrm>
            <a:off x="3613320" y="2865600"/>
            <a:ext cx="380880" cy="3808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425400" y="3733920"/>
            <a:ext cx="232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ＭＳ Ｐ明朝"/>
              </a:rPr>
              <a:t>Hit position at BB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680000" y="3322800"/>
            <a:ext cx="380880" cy="3808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819520" y="2286000"/>
            <a:ext cx="2347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ＭＳ Ｐ明朝"/>
              </a:rPr>
              <a:t>Charge inform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bbcgeo_ringcor" descr=""/>
          <p:cNvPicPr/>
          <p:nvPr/>
        </p:nvPicPr>
        <p:blipFill>
          <a:blip r:embed="rId1"/>
          <a:stretch/>
        </p:blipFill>
        <p:spPr>
          <a:xfrm>
            <a:off x="6095880" y="2286000"/>
            <a:ext cx="2667240" cy="234792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536400" y="4653000"/>
            <a:ext cx="279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3333cc"/>
                </a:solidFill>
                <a:uFillTx/>
                <a:latin typeface="Times New Roman"/>
                <a:ea typeface="ＭＳ Ｐ明朝"/>
              </a:rPr>
              <a:t>Ring gain corr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284480" y="5410080"/>
            <a:ext cx="638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Correct the asymmetric charge distribution in each PM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9T05:16:10Z</dcterms:created>
  <dc:creator> shingo</dc:creator>
  <dc:description/>
  <dc:language>en-US</dc:language>
  <cp:lastModifiedBy>三明 康郎</cp:lastModifiedBy>
  <dcterms:modified xsi:type="dcterms:W3CDTF">2002-09-20T01:25:28Z</dcterms:modified>
  <cp:revision>172</cp:revision>
  <dc:subject/>
  <dc:title>PowerPoint プレゼンテーション  -  Reaction plane determination in PHENIX </dc:title>
</cp:coreProperties>
</file>