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400D-F8D5-4158-ABEF-EF5E5491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CFE-1ACD-422B-AA52-725AD21D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FC65-0558-46DB-BCA9-7A305AA8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1FA-722E-4594-A357-0DC0799C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8AA5-27D2-47FB-9413-9AD78E6E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27B9-A261-49DE-818A-6FE050C0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F67F-3458-4017-BC72-81D1964D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F314-11E5-4B74-BFED-B41A8DE1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7385-0832-4D89-9362-BCD8BBA3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0B5E-E07B-4F59-ABEF-7D74143E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52DB-30C4-467A-97EB-2197FDA9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3BE9-8B33-470A-9578-30BE8B2E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FAC1-4551-4FE8-A1D4-064CBC1F02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20574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4000" spc="-1" strike="noStrike">
                <a:solidFill>
                  <a:srgbClr val="0000ff"/>
                </a:solidFill>
                <a:latin typeface="Times New Roman"/>
              </a:rPr>
              <a:t>RHIC-PHENIX</a:t>
            </a:r>
            <a:r>
              <a:rPr b="1" i="1" lang="ja-JP" sz="4000" spc="-1" strike="noStrike">
                <a:solidFill>
                  <a:srgbClr val="0000ff"/>
                </a:solidFill>
                <a:latin typeface="Times New Roman"/>
              </a:rPr>
              <a:t>実験のための</a:t>
            </a:r>
            <a:br>
              <a:rPr sz="4000"/>
            </a:br>
            <a:r>
              <a:rPr b="1" i="1" lang="ja-JP" sz="4000" spc="-1" strike="noStrike">
                <a:solidFill>
                  <a:srgbClr val="0000ff"/>
                </a:solidFill>
                <a:latin typeface="Times New Roman"/>
              </a:rPr>
              <a:t>Aerogel Cherenkov Counter</a:t>
            </a:r>
            <a:r>
              <a:rPr b="1" i="1" lang="ja-JP" sz="4000" spc="-1" strike="noStrike">
                <a:solidFill>
                  <a:srgbClr val="0000ff"/>
                </a:solidFill>
                <a:latin typeface="Times New Roman"/>
              </a:rPr>
              <a:t>の</a:t>
            </a:r>
            <a:br>
              <a:rPr sz="4000"/>
            </a:br>
            <a:r>
              <a:rPr b="1" i="1" lang="ja-JP" sz="4000" spc="-1" strike="noStrike">
                <a:solidFill>
                  <a:srgbClr val="0000ff"/>
                </a:solidFill>
                <a:latin typeface="Times New Roman"/>
              </a:rPr>
              <a:t>性能評価と光学シミュレーショ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844720"/>
            <a:ext cx="9144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・</a:t>
            </a:r>
            <a:r>
              <a:rPr b="0" i="1" lang="ja-JP" sz="18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Inst. of Physics, Univ. of Tsuku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    </a:t>
            </a:r>
            <a:r>
              <a:rPr b="0" i="1" lang="ja-JP" sz="18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Satoshi Takagi, Yasuo Miake, Shinichi Esumi, Sumio Kato, Hiroshi Tsuruoka, Shingo Sakai,         </a:t>
            </a:r>
            <a:r>
              <a:rPr b="0" i="1" lang="ja-JP" sz="18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　</a:t>
            </a:r>
            <a:r>
              <a:rPr b="0" i="1" lang="ja-JP" sz="18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Hiroshi Masui, Yoshiaki Kuroki, Masahiro Konno, Maya Shimomura, Shigeto Kamina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・</a:t>
            </a:r>
            <a:r>
              <a:rPr b="0" i="1" lang="ja-JP" sz="18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High Energy Lab, JINR, Dubna</a:t>
            </a:r>
            <a:r>
              <a:rPr b="0" i="1" lang="ja-JP" sz="18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　</a:t>
            </a:r>
            <a:r>
              <a:rPr b="0" i="1" lang="ja-JP" sz="18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S.V.Afanasiev, V.P.Ladyguine, A.G.Litvinenko, A.I.Malakhov, V.F.Peressedov, L.S.Zol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5035680"/>
          <a:ext cx="8458200" cy="1822320"/>
        </p:xfrm>
        <a:graphic>
          <a:graphicData uri="http://schemas.openxmlformats.org/drawingml/2006/table">
            <a:tbl>
              <a:tblPr/>
              <a:tblGrid>
                <a:gridCol w="5031000"/>
                <a:gridCol w="34272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　　　　　　　　　　　　　　　目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　　　１．目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２．</a:t>
                      </a:r>
                      <a:r>
                        <a:rPr b="1" i="1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K</a:t>
                      </a:r>
                      <a:r>
                        <a:rPr b="1" i="1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テスト実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　　　３．光学シミュレーショ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４．まと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5F19-FF2E-41F5-A293-7B4BFE370A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attenation1" descr=""/>
          <p:cNvPicPr/>
          <p:nvPr/>
        </p:nvPicPr>
        <p:blipFill>
          <a:blip r:embed="rId1"/>
          <a:stretch/>
        </p:blipFill>
        <p:spPr>
          <a:xfrm>
            <a:off x="76320" y="4191120"/>
            <a:ext cx="4724280" cy="2590560"/>
          </a:xfrm>
          <a:prstGeom prst="rect">
            <a:avLst/>
          </a:prstGeom>
          <a:ln w="0">
            <a:noFill/>
          </a:ln>
        </p:spPr>
      </p:pic>
      <p:pic>
        <p:nvPicPr>
          <p:cNvPr id="288" name="reflector" descr=""/>
          <p:cNvPicPr/>
          <p:nvPr/>
        </p:nvPicPr>
        <p:blipFill>
          <a:blip r:embed="rId2"/>
          <a:stretch/>
        </p:blipFill>
        <p:spPr>
          <a:xfrm>
            <a:off x="76320" y="1600200"/>
            <a:ext cx="4724280" cy="26668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0000ff"/>
                </a:solidFill>
                <a:latin typeface="ＭＳ Ｐゴシック"/>
              </a:rPr>
              <a:t>２－５．解析結果（４）　</a:t>
            </a:r>
            <a:r>
              <a:rPr b="1" i="1" lang="ja-JP" sz="2000" spc="-1" strike="noStrike">
                <a:solidFill>
                  <a:srgbClr val="0000ff"/>
                </a:solidFill>
                <a:latin typeface="ＭＳ Ｐゴシック"/>
              </a:rPr>
              <a:t>～反射材の寄与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990720"/>
            <a:ext cx="563904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BELLE TYPE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の中心位置での集光量で比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800600" y="1752480"/>
          <a:ext cx="4038480" cy="3885840"/>
        </p:xfrm>
        <a:graphic>
          <a:graphicData uri="http://schemas.openxmlformats.org/drawingml/2006/table">
            <a:tbl>
              <a:tblPr/>
              <a:tblGrid>
                <a:gridCol w="1346040"/>
                <a:gridCol w="849600"/>
                <a:gridCol w="1842840"/>
              </a:tblGrid>
              <a:tr h="73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efl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.e.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ttenuation</a:t>
                      </a:r>
                      <a:r>
                        <a:rPr b="1" lang="ja-JP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ja-JP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ength </a:t>
                      </a:r>
                      <a:r>
                        <a:rPr b="1" lang="ja-JP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（ｃｍ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Goret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50±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umi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91±0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trat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25±0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yvek</a:t>
                      </a:r>
                      <a:r>
                        <a:rPr b="1" lang="ja-JP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ja-JP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ouble</a:t>
                      </a:r>
                      <a:r>
                        <a:rPr b="1" lang="ja-JP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76±0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luminizedMy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36±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BlackPa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0±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3200400" y="6649920"/>
            <a:ext cx="15238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57913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 u="sng">
                <a:solidFill>
                  <a:srgbClr val="ff0000"/>
                </a:solidFill>
                <a:uFillTx/>
                <a:latin typeface="Times New Roman"/>
              </a:rPr>
              <a:t>反射材の寄与が大変大きい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6F98-F3EC-45D6-BF57-596C2C38FF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Nov_Matsu1" descr=""/>
          <p:cNvPicPr/>
          <p:nvPr/>
        </p:nvPicPr>
        <p:blipFill>
          <a:blip r:embed="rId1"/>
          <a:stretch/>
        </p:blipFill>
        <p:spPr>
          <a:xfrm>
            <a:off x="152280" y="1274760"/>
            <a:ext cx="4267440" cy="28400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0000ff"/>
                </a:solidFill>
                <a:latin typeface="ＭＳ Ｐゴシック"/>
              </a:rPr>
              <a:t>２－６．解析結果（５）　</a:t>
            </a:r>
            <a:r>
              <a:rPr b="1" i="1" lang="ja-JP" sz="2000" spc="-1" strike="noStrike">
                <a:solidFill>
                  <a:srgbClr val="0000ff"/>
                </a:solidFill>
                <a:latin typeface="ＭＳ Ｐゴシック"/>
              </a:rPr>
              <a:t>～</a:t>
            </a:r>
            <a:r>
              <a:rPr b="1" i="1" lang="ja-JP" sz="2000" spc="-1" strike="noStrike">
                <a:solidFill>
                  <a:srgbClr val="0000ff"/>
                </a:solidFill>
                <a:latin typeface="ＭＳ Ｐゴシック"/>
              </a:rPr>
              <a:t>Novosibirsk VS Matsushita</a:t>
            </a:r>
            <a:r>
              <a:rPr b="1" i="1" lang="ja-JP" sz="2000" spc="-1" strike="noStrike">
                <a:solidFill>
                  <a:srgbClr val="0000ff"/>
                </a:solidFill>
                <a:latin typeface="ＭＳ Ｐゴシック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35840" y="1447920"/>
            <a:ext cx="1143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62760" y="147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比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19720" y="2133720"/>
            <a:ext cx="472428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１．位置依存性に大きな違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　　　 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Attenuation Length 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は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Novosibirsk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の方　　　　  が長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２．</a:t>
            </a:r>
            <a:r>
              <a:rPr b="1" lang="ja-JP" sz="2000" spc="-1" strike="noStrike" u="sng">
                <a:solidFill>
                  <a:srgbClr val="ff0000"/>
                </a:solidFill>
                <a:uFillTx/>
                <a:latin typeface="Times New Roman"/>
              </a:rPr>
              <a:t>Index=</a:t>
            </a:r>
            <a:r>
              <a:rPr b="1" lang="ja-JP" sz="2000" spc="-1" strike="noStrike" u="sng">
                <a:solidFill>
                  <a:srgbClr val="ff0000"/>
                </a:solidFill>
                <a:uFillTx/>
                <a:latin typeface="ＭＳ Ｐゴシック"/>
              </a:rPr>
              <a:t>1.017</a:t>
            </a:r>
            <a:r>
              <a:rPr b="1" lang="ja-JP" sz="2000" spc="-1" strike="noStrike" u="sng">
                <a:solidFill>
                  <a:srgbClr val="ff0000"/>
                </a:solidFill>
                <a:uFillTx/>
                <a:latin typeface="ＭＳ Ｐゴシック"/>
              </a:rPr>
              <a:t>に規格化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すると、その集光　  量に差があ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19720" y="281952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66680" y="40384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反射材に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GORETEX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を使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6200000">
            <a:off x="6553080" y="380988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43600" y="4191120"/>
            <a:ext cx="2514600" cy="5806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発生光子数の波長分布は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index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によらないと仮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2280" y="4495680"/>
          <a:ext cx="4876560" cy="2049480"/>
        </p:xfrm>
        <a:graphic>
          <a:graphicData uri="http://schemas.openxmlformats.org/drawingml/2006/table">
            <a:tbl>
              <a:tblPr/>
              <a:tblGrid>
                <a:gridCol w="1485720"/>
                <a:gridCol w="952560"/>
                <a:gridCol w="1447920"/>
                <a:gridCol w="990360"/>
              </a:tblGrid>
              <a:tr h="97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ttenu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ength(c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特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ovosibir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7.31±5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吸湿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Matsush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50±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疎水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5410080" y="5156280"/>
            <a:ext cx="342900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Novosibirsk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は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Matsushita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　　に比べて透明度が高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90920" y="888840"/>
            <a:ext cx="358128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BELLE TYPE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による比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99E-2BBF-464D-B2D3-B5133D1C02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ransmission1" descr=""/>
          <p:cNvPicPr/>
          <p:nvPr/>
        </p:nvPicPr>
        <p:blipFill>
          <a:blip r:embed="rId1"/>
          <a:stretch/>
        </p:blipFill>
        <p:spPr>
          <a:xfrm>
            <a:off x="4952880" y="3581280"/>
            <a:ext cx="4191120" cy="24386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52280" y="1295280"/>
            <a:ext cx="4800600" cy="3733920"/>
          </a:xfrm>
          <a:prstGeom prst="roundRect">
            <a:avLst>
              <a:gd name="adj" fmla="val 10287"/>
            </a:avLst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1143000"/>
            <a:ext cx="3504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0000ff"/>
                </a:solidFill>
                <a:latin typeface="ＭＳ Ｐゴシック"/>
              </a:rPr>
              <a:t>３－１．光学シミュレーショ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" y="1066680"/>
            <a:ext cx="4572000" cy="35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Times New Roman"/>
              </a:rPr>
              <a:t>シミュレーションで考慮したこ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１．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Cherenkov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光子数の波長分布（∝１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/λ</a:t>
            </a:r>
            <a:r>
              <a:rPr b="1" lang="ja-JP" sz="1800" spc="-1" strike="noStrike" baseline="30000">
                <a:solidFill>
                  <a:srgbClr val="000000"/>
                </a:solidFill>
                <a:latin typeface="Times New Roman"/>
              </a:rPr>
              <a:t>２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２．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Aerogel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の吸収長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1" lang="ja-JP" sz="1800" spc="-1" strike="noStrike" baseline="-20000">
                <a:solidFill>
                  <a:srgbClr val="000000"/>
                </a:solidFill>
                <a:latin typeface="Times New Roman"/>
              </a:rPr>
              <a:t>abs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、散乱長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1" lang="ja-JP" sz="1800" spc="-1" strike="noStrike" baseline="-20000">
                <a:solidFill>
                  <a:srgbClr val="000000"/>
                </a:solidFill>
                <a:latin typeface="Times New Roman"/>
              </a:rPr>
              <a:t>sct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の　　　　波長依存性　　　　　　　　　　　　　　　　　　　　　　　　　⇒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1" lang="ja-JP" sz="1800" spc="-1" strike="noStrike" baseline="-20000">
                <a:solidFill>
                  <a:srgbClr val="000000"/>
                </a:solidFill>
                <a:latin typeface="Times New Roman"/>
              </a:rPr>
              <a:t>sct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∝ λ</a:t>
            </a:r>
            <a:r>
              <a:rPr b="1" lang="ja-JP" sz="1800" spc="-1" strike="noStrike" baseline="30000">
                <a:solidFill>
                  <a:srgbClr val="000000"/>
                </a:solidFill>
                <a:latin typeface="Times New Roman"/>
              </a:rPr>
              <a:t>４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　，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1" lang="ja-JP" sz="1800" spc="-1" strike="noStrike" baseline="-20000">
                <a:solidFill>
                  <a:srgbClr val="000000"/>
                </a:solidFill>
                <a:latin typeface="Times New Roman"/>
              </a:rPr>
              <a:t>abs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∝ λ</a:t>
            </a:r>
            <a:r>
              <a:rPr b="1" lang="ja-JP" sz="1800" spc="-1" strike="noStrike" baseline="30000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３．反射材の反射率の波長依存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４．壁での反射は乱反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５．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PMT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の量子効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６．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Aerogel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中での散乱方向は空間的に一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" y="5867280"/>
            <a:ext cx="472428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Cherenkov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放射と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Aerogel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中での光の伝播を再現するようなプログラムを作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24400" y="4343400"/>
            <a:ext cx="1095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2209680" y="5257800"/>
            <a:ext cx="685800" cy="38088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029200" y="990720"/>
            <a:ext cx="4114800" cy="2770560"/>
            <a:chOff x="5029200" y="990720"/>
            <a:chExt cx="4114800" cy="2770560"/>
          </a:xfrm>
        </p:grpSpPr>
        <p:pic>
          <p:nvPicPr>
            <p:cNvPr id="315" name="chisquare1" descr=""/>
            <p:cNvPicPr/>
            <p:nvPr/>
          </p:nvPicPr>
          <p:blipFill>
            <a:blip r:embed="rId2"/>
            <a:stretch/>
          </p:blipFill>
          <p:spPr>
            <a:xfrm>
              <a:off x="5334120" y="990720"/>
              <a:ext cx="3504960" cy="257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 rot="16200000">
              <a:off x="4795560" y="1451160"/>
              <a:ext cx="90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ａｂ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53280" y="3320640"/>
              <a:ext cx="990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ｓｃ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8458200" y="685800"/>
            <a:ext cx="685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495680" y="4419720"/>
            <a:ext cx="4572000" cy="790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14800" y="51656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4120" y="5943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imes New Roman"/>
              </a:rPr>
              <a:t>Cherenkov</a:t>
            </a:r>
            <a:r>
              <a:rPr b="1" lang="ja-JP" sz="1600" spc="-1" strike="noStrike">
                <a:solidFill>
                  <a:srgbClr val="ff0000"/>
                </a:solidFill>
                <a:latin typeface="Times New Roman"/>
              </a:rPr>
              <a:t>放射の様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B2F6-54AA-48C4-97C5-E203A74B2E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0000ff"/>
                </a:solidFill>
                <a:latin typeface="ＭＳ Ｐゴシック"/>
              </a:rPr>
              <a:t>３－２．実験との比較</a:t>
            </a:r>
            <a:r>
              <a:rPr b="1" i="1" lang="ja-JP" sz="2000" spc="-1" strike="noStrike">
                <a:solidFill>
                  <a:srgbClr val="0000ff"/>
                </a:solidFill>
                <a:latin typeface="ＭＳ Ｐゴシック"/>
              </a:rPr>
              <a:t>　～入射位置依存性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617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 u="sng">
                <a:solidFill>
                  <a:srgbClr val="ff0000"/>
                </a:solidFill>
                <a:uFillTx/>
                <a:latin typeface="Times New Roman"/>
              </a:rPr>
              <a:t>集光量，位置依存性ともに実験データをほぼ再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0" y="5562720"/>
            <a:ext cx="457200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吸収長，散乱長等のパラメータは同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1219320"/>
            <a:ext cx="1905120" cy="3373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LLE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1219320"/>
            <a:ext cx="2666880" cy="3373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ION SP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429000" y="16765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ORWARD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16765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5400000">
            <a:off x="4392720" y="887040"/>
            <a:ext cx="380880" cy="8817120"/>
          </a:xfrm>
          <a:custGeom>
            <a:avLst/>
            <a:gdLst>
              <a:gd name="textAreaLeft" fmla="*/ 0 w 380880"/>
              <a:gd name="textAreaRight" fmla="*/ 137520 w 380880"/>
              <a:gd name="textAreaTop" fmla="*/ 169200 h 8817120"/>
              <a:gd name="textAreaBottom" fmla="*/ 8647920 h 881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63"/>
                  <a:pt x="10800" y="1326"/>
                </a:cubicBezTo>
                <a:lnTo>
                  <a:pt x="10800" y="9474"/>
                </a:lnTo>
                <a:cubicBezTo>
                  <a:pt x="10800" y="10137"/>
                  <a:pt x="16200" y="10800"/>
                  <a:pt x="21600" y="10800"/>
                </a:cubicBezTo>
                <a:cubicBezTo>
                  <a:pt x="16200" y="10800"/>
                  <a:pt x="10800" y="11463"/>
                  <a:pt x="10800" y="12126"/>
                </a:cubicBezTo>
                <a:lnTo>
                  <a:pt x="10800" y="20274"/>
                </a:lnTo>
                <a:cubicBezTo>
                  <a:pt x="10800" y="20937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belle_gore_120mm_4" descr=""/>
          <p:cNvPicPr/>
          <p:nvPr/>
        </p:nvPicPr>
        <p:blipFill>
          <a:blip r:embed="rId1"/>
          <a:stretch/>
        </p:blipFill>
        <p:spPr>
          <a:xfrm>
            <a:off x="0" y="2133720"/>
            <a:ext cx="3200400" cy="2971800"/>
          </a:xfrm>
          <a:prstGeom prst="rect">
            <a:avLst/>
          </a:prstGeom>
          <a:ln w="0">
            <a:noFill/>
          </a:ln>
        </p:spPr>
      </p:pic>
      <p:pic>
        <p:nvPicPr>
          <p:cNvPr id="331" name="inte_gore_120mm_4" descr=""/>
          <p:cNvPicPr/>
          <p:nvPr/>
        </p:nvPicPr>
        <p:blipFill>
          <a:blip r:embed="rId2"/>
          <a:stretch/>
        </p:blipFill>
        <p:spPr>
          <a:xfrm>
            <a:off x="3048120" y="2133720"/>
            <a:ext cx="3276360" cy="2971800"/>
          </a:xfrm>
          <a:prstGeom prst="rect">
            <a:avLst/>
          </a:prstGeom>
          <a:ln w="0">
            <a:noFill/>
          </a:ln>
        </p:spPr>
      </p:pic>
      <p:pic>
        <p:nvPicPr>
          <p:cNvPr id="332" name="inte_gore_120mm_back_3" descr=""/>
          <p:cNvPicPr/>
          <p:nvPr/>
        </p:nvPicPr>
        <p:blipFill>
          <a:blip r:embed="rId3"/>
          <a:stretch/>
        </p:blipFill>
        <p:spPr>
          <a:xfrm>
            <a:off x="6095880" y="2133720"/>
            <a:ext cx="3048120" cy="297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845-A36F-4A78-8907-2223EA07D5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0000ff"/>
                </a:solidFill>
                <a:latin typeface="ＭＳ Ｐゴシック"/>
              </a:rPr>
              <a:t>４－１．まとめと展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736640"/>
            <a:ext cx="838188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RHIC-PHENIX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実験のための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Aerogel Cherenkov Counter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ACC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）　　　　　 のプロトタイプを作成し、その性能評価を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KEK-PS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において行っ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２つのプロトタイプは、共に十分な集光量を得ることができた。　　　　　　　　　           ・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BELLE TYPE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　≧　２２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p.e.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           ・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INTEGRATION SPHERE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）　　≧　１８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p.e.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　　　　　　　　　　　・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INTEGRATION SPHERE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BACKWARD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）　≧　１５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p.e.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ACC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の集光量は、その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Aerogel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の種類や反射材の寄与が大変大き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ACC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の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Optical Monte Carlo Simulation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を別途行い、その結果、実験デー　 タとほぼ同じ結果を得ることが出来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5181480"/>
            <a:ext cx="25909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今後に向け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5775480"/>
            <a:ext cx="8381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Install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に向けて、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ACC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の形状や配置の仕方を決定し、その評価を行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" y="1117440"/>
            <a:ext cx="25909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まと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6F47-CE28-4FAB-9ED9-C3E3D82E73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0000ff"/>
                </a:solidFill>
                <a:latin typeface="Times New Roman"/>
              </a:rPr>
              <a:t>１－１．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497400" y="2332080"/>
                <a:ext cx="138420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Ge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492360" y="1789200"/>
                <a:ext cx="138456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Ge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497400" y="2862360"/>
                <a:ext cx="145548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  <m:r>
                      <m:rPr>
                        <m:lit/>
                        <m:nor/>
                      </m:rPr>
                      <m:t xml:space="preserve">Ge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0" y="1371600"/>
            <a:ext cx="3422520" cy="2419560"/>
            <a:chOff x="0" y="1371600"/>
            <a:chExt cx="3422520" cy="2419560"/>
          </a:xfrm>
        </p:grpSpPr>
        <p:sp>
          <p:nvSpPr>
            <p:cNvPr id="49" name=""/>
            <p:cNvSpPr/>
            <p:nvPr/>
          </p:nvSpPr>
          <p:spPr>
            <a:xfrm>
              <a:off x="146160" y="2856600"/>
              <a:ext cx="1603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lg88-2" descr=""/>
            <p:cNvPicPr/>
            <p:nvPr/>
          </p:nvPicPr>
          <p:blipFill>
            <a:blip r:embed="rId1"/>
            <a:stretch/>
          </p:blipFill>
          <p:spPr>
            <a:xfrm>
              <a:off x="434880" y="1660320"/>
              <a:ext cx="2987640" cy="161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91960" y="32223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HG明朝B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6160" y="3114720"/>
              <a:ext cx="43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HG明朝B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30280" y="32223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HG明朝B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95440" y="3385440"/>
              <a:ext cx="14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  <a:ea typeface="HG明朝B"/>
                </a:rPr>
                <a:t>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  <a:ea typeface="HG明朝B"/>
                </a:rPr>
                <a:t>p</a:t>
              </a:r>
              <a:r>
                <a:rPr b="0" lang="ja-JP" sz="1800" spc="-1" strike="noStrike" baseline="-25000">
                  <a:solidFill>
                    <a:srgbClr val="000000"/>
                  </a:solidFill>
                  <a:latin typeface="Times New Roman"/>
                  <a:ea typeface="HG明朝B"/>
                </a:rPr>
                <a:t>T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  <a:ea typeface="HG明朝B"/>
                </a:rPr>
                <a:t> (GeV/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49520" y="32259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HG明朝B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6160" y="2566800"/>
              <a:ext cx="43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HG明朝B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6160" y="1968120"/>
              <a:ext cx="43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HG明朝B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1371600"/>
              <a:ext cx="582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HG明朝B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HG明朝B"/>
                </a:rPr>
                <a:t>A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330280" y="2242080"/>
              <a:ext cx="219240" cy="489960"/>
            </a:xfrm>
            <a:prstGeom prst="downArrow">
              <a:avLst>
                <a:gd name="adj1" fmla="val 50000"/>
                <a:gd name="adj2" fmla="val 55870"/>
              </a:avLst>
            </a:prstGeom>
            <a:noFill/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743200" y="3333600"/>
            <a:ext cx="24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明朝B"/>
              </a:rPr>
              <a:t>Phys. Rev Lett. 88  , 022301  (14/Jan/20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838080"/>
            <a:ext cx="82296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609480"/>
            <a:ext cx="3504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RHIC-PHENIX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実験の目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2680" y="1004760"/>
            <a:ext cx="83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クォーク・グルーオン・プラズマ（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QGP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）生成の多種多様なシグナルを観測するこ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53160" y="2057400"/>
            <a:ext cx="2666880" cy="3682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高横運動量粒子生成の抑制が観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37160" y="3581280"/>
            <a:ext cx="3149640" cy="3682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粒子の種類によるその違いが注目され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6858000" y="2971800"/>
            <a:ext cx="457200" cy="304560"/>
          </a:xfrm>
          <a:custGeom>
            <a:avLst/>
            <a:gdLst>
              <a:gd name="textAreaLeft" fmla="*/ 71280 w 457200"/>
              <a:gd name="textAreaRight" fmla="*/ 400320 w 457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962520"/>
            <a:ext cx="4800600" cy="0"/>
          </a:xfrm>
          <a:prstGeom prst="line">
            <a:avLst/>
          </a:prstGeom>
          <a:ln w="25560">
            <a:solidFill>
              <a:srgbClr val="3333cc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6858000" y="4572000"/>
            <a:ext cx="457200" cy="304560"/>
          </a:xfrm>
          <a:custGeom>
            <a:avLst/>
            <a:gdLst>
              <a:gd name="textAreaLeft" fmla="*/ 71280 w 457200"/>
              <a:gd name="textAreaRight" fmla="*/ 400320 w 457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5130720"/>
            <a:ext cx="2590560" cy="6426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ハドロン識別能力向上が求められてい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qm02-esumi-ver8" descr=""/>
          <p:cNvPicPr/>
          <p:nvPr/>
        </p:nvPicPr>
        <p:blipFill>
          <a:blip r:embed="rId2"/>
          <a:stretch/>
        </p:blipFill>
        <p:spPr>
          <a:xfrm>
            <a:off x="228600" y="4191120"/>
            <a:ext cx="4724280" cy="263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0947-4C4D-4C4B-B77E-EEEA490DF5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0000ff"/>
                </a:solidFill>
                <a:latin typeface="Times New Roman"/>
              </a:rPr>
              <a:t>１－２．</a:t>
            </a:r>
            <a:r>
              <a:rPr b="1" i="1" lang="ja-JP" sz="3600" spc="-1" strike="noStrike">
                <a:solidFill>
                  <a:srgbClr val="0000ff"/>
                </a:solidFill>
                <a:latin typeface="Times New Roman"/>
              </a:rPr>
              <a:t>π</a:t>
            </a:r>
            <a:r>
              <a:rPr b="1" i="1" lang="ja-JP" sz="3600" spc="-1" strike="noStrike">
                <a:solidFill>
                  <a:srgbClr val="0000ff"/>
                </a:solidFill>
                <a:latin typeface="Times New Roman"/>
              </a:rPr>
              <a:t>・ </a:t>
            </a:r>
            <a:r>
              <a:rPr b="1" i="1" lang="ja-JP" sz="36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1" i="1" lang="ja-JP" sz="3600" spc="-1" strike="noStrike">
                <a:solidFill>
                  <a:srgbClr val="0000ff"/>
                </a:solidFill>
                <a:latin typeface="Times New Roman"/>
              </a:rPr>
              <a:t>・ </a:t>
            </a:r>
            <a:r>
              <a:rPr b="1" i="1" lang="ja-JP" sz="36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i="1" lang="ja-JP" sz="3600" spc="-1" strike="noStrike">
                <a:solidFill>
                  <a:srgbClr val="0000ff"/>
                </a:solidFill>
                <a:latin typeface="Times New Roman"/>
              </a:rPr>
              <a:t>　</a:t>
            </a:r>
            <a:r>
              <a:rPr b="1" i="1" lang="ja-JP" sz="3600" spc="-1" strike="noStrike">
                <a:solidFill>
                  <a:srgbClr val="0000ff"/>
                </a:solidFill>
                <a:latin typeface="Times New Roman"/>
              </a:rPr>
              <a:t>Sepa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80880" y="1447920"/>
          <a:ext cx="8381880" cy="283176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200"/>
                <a:gridCol w="2095560"/>
              </a:tblGrid>
              <a:tr h="708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π/ K Sepa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/ p Sepa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ja-JP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　　０～２．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ja-JP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　　０～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= 1.000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ja-JP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　　　　　　　５～１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ja-JP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　　　　　　　　１７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ja-JP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　　　１～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ja-JP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　　　　　　　　５～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4734000" y="2652840"/>
            <a:ext cx="1743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49840" y="2544840"/>
            <a:ext cx="144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9480" y="2544840"/>
            <a:ext cx="180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64200" y="2544840"/>
            <a:ext cx="144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95840" y="2544840"/>
            <a:ext cx="180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27840" y="2540160"/>
            <a:ext cx="1440" cy="10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45160" y="2475000"/>
            <a:ext cx="544320" cy="144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arrow" w="sm"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34000" y="3378240"/>
            <a:ext cx="1743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49840" y="3270240"/>
            <a:ext cx="144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59480" y="3270240"/>
            <a:ext cx="180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64200" y="3270240"/>
            <a:ext cx="144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95840" y="3270240"/>
            <a:ext cx="180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27840" y="3270240"/>
            <a:ext cx="144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16520" y="3235320"/>
            <a:ext cx="863640" cy="144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34000" y="4062240"/>
            <a:ext cx="1727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49840" y="3954600"/>
            <a:ext cx="1440" cy="10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59480" y="3954600"/>
            <a:ext cx="1800" cy="10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64200" y="3954600"/>
            <a:ext cx="1440" cy="10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95840" y="3954600"/>
            <a:ext cx="1800" cy="10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27840" y="3954600"/>
            <a:ext cx="1440" cy="10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48200" y="3925800"/>
            <a:ext cx="863640" cy="18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arrow" w="sm"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3480" y="2614680"/>
            <a:ext cx="1743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3480" y="2502000"/>
            <a:ext cx="144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510760" y="2506680"/>
            <a:ext cx="144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15120" y="2506680"/>
            <a:ext cx="180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47120" y="2506680"/>
            <a:ext cx="144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78760" y="2506680"/>
            <a:ext cx="144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97520" y="2475000"/>
            <a:ext cx="1089360" cy="144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arrow" w="sm"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3480" y="3378240"/>
            <a:ext cx="1743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07240" y="3270240"/>
            <a:ext cx="144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10760" y="3270240"/>
            <a:ext cx="144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15120" y="3270240"/>
            <a:ext cx="180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47120" y="3270240"/>
            <a:ext cx="144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8760" y="3270240"/>
            <a:ext cx="144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3480" y="4062240"/>
            <a:ext cx="17431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3480" y="3954600"/>
            <a:ext cx="1440" cy="10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10760" y="3954600"/>
            <a:ext cx="1440" cy="10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15120" y="3954600"/>
            <a:ext cx="1800" cy="10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47120" y="3954600"/>
            <a:ext cx="1440" cy="10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78760" y="3954600"/>
            <a:ext cx="1440" cy="10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80400" y="3925800"/>
            <a:ext cx="863640" cy="18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arrow" w="sm"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4927680"/>
            <a:ext cx="5333760" cy="132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TOF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RICH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に加えて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ACC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～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1.01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を組み合わせることで、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π/ K / p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の識別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約１０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GeV/c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まで行うことが可能にな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14B8-A44A-4F73-BCF0-9091B2210E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0000ff"/>
                </a:solidFill>
                <a:latin typeface="ＭＳ Ｐゴシック"/>
              </a:rPr>
              <a:t>１－３．プロトタイプの設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279440"/>
            <a:ext cx="2971800" cy="8254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L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8892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・ 散乱光を捕らえることが可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413160"/>
            <a:ext cx="4495680" cy="8254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Ⅱ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02264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・ 粒子の入射位置依存性をなくすため、後ろに　空間を設け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7071840" y="1546200"/>
            <a:ext cx="1079640" cy="1079640"/>
          </a:xfrm>
          <a:prstGeom prst="rect">
            <a:avLst/>
          </a:prstGeom>
          <a:solidFill>
            <a:srgbClr val="33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00920" y="1835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Aer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50400" y="1906560"/>
            <a:ext cx="71892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53280" y="18702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153280" y="18702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78560" y="2654280"/>
            <a:ext cx="457200" cy="501840"/>
          </a:xfrm>
          <a:prstGeom prst="upArrow">
            <a:avLst>
              <a:gd name="adj1" fmla="val 29861"/>
              <a:gd name="adj2" fmla="val 514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6588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7071840" y="4821120"/>
            <a:ext cx="1079640" cy="1079640"/>
          </a:xfrm>
          <a:prstGeom prst="rect">
            <a:avLst/>
          </a:prstGeom>
          <a:solidFill>
            <a:srgbClr val="33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00920" y="5102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Aer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150400" y="4102200"/>
            <a:ext cx="71892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51480" y="4102200"/>
            <a:ext cx="71928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53280" y="40654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53280" y="40654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78560" y="5925960"/>
            <a:ext cx="457200" cy="501840"/>
          </a:xfrm>
          <a:prstGeom prst="upArrow">
            <a:avLst>
              <a:gd name="adj1" fmla="val 29861"/>
              <a:gd name="adj2" fmla="val 514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53280" y="6014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72200" y="3741840"/>
            <a:ext cx="107964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51680" y="40654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5562720"/>
            <a:ext cx="563868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entury"/>
                <a:ea typeface="ＭＳ 明朝"/>
              </a:rPr>
              <a:t>KEK B-factory BELLE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実験で使用されてい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ACC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を参考にしてこれらプロトタイプを設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2498760"/>
            <a:ext cx="609840" cy="304920"/>
          </a:xfrm>
          <a:custGeom>
            <a:avLst/>
            <a:gdLst>
              <a:gd name="textAreaLeft" fmla="*/ 95040 w 609840"/>
              <a:gd name="textAreaRight" fmla="*/ 533880 w 6098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2346480"/>
            <a:ext cx="46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チェレンコフ光強度の強い短波長領域　　では光の散乱効果が激しいた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53280" y="1906560"/>
            <a:ext cx="71892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3733920"/>
            <a:ext cx="0" cy="1066680"/>
          </a:xfrm>
          <a:prstGeom prst="line">
            <a:avLst/>
          </a:prstGeom>
          <a:ln w="93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472428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48520" y="3809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12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48520" y="5181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12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021080" y="3581280"/>
            <a:ext cx="11430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3276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12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1523880"/>
            <a:ext cx="0" cy="1067040"/>
          </a:xfrm>
          <a:prstGeom prst="line">
            <a:avLst/>
          </a:prstGeom>
          <a:ln w="93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1905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12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021080" y="1371600"/>
            <a:ext cx="11430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24680" y="10666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12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942F-0C7A-4329-8C55-D06EC62747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henix_2001_beam" descr=""/>
          <p:cNvPicPr/>
          <p:nvPr/>
        </p:nvPicPr>
        <p:blipFill>
          <a:blip r:embed="rId1"/>
          <a:stretch/>
        </p:blipFill>
        <p:spPr>
          <a:xfrm>
            <a:off x="4421160" y="1066680"/>
            <a:ext cx="4341960" cy="41911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0000ff"/>
                </a:solidFill>
                <a:latin typeface="ＭＳ Ｐゴシック"/>
              </a:rPr>
              <a:t>１－４．</a:t>
            </a:r>
            <a:r>
              <a:rPr b="1" i="1" lang="ja-JP" sz="3600" spc="-1" strike="noStrike">
                <a:solidFill>
                  <a:srgbClr val="0000ff"/>
                </a:solidFill>
                <a:latin typeface="ＭＳ Ｐゴシック"/>
              </a:rPr>
              <a:t>RHIC-PHENIX</a:t>
            </a:r>
            <a:r>
              <a:rPr b="1" i="1" lang="ja-JP" sz="3600" spc="-1" strike="noStrike">
                <a:solidFill>
                  <a:srgbClr val="0000ff"/>
                </a:solidFill>
                <a:latin typeface="ＭＳ Ｐゴシック"/>
              </a:rPr>
              <a:t>に向け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acc_belle_1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1752840" cy="1676520"/>
          </a:xfrm>
          <a:prstGeom prst="rect">
            <a:avLst/>
          </a:prstGeom>
          <a:ln w="0">
            <a:noFill/>
          </a:ln>
        </p:spPr>
      </p:pic>
      <p:pic>
        <p:nvPicPr>
          <p:cNvPr id="154" name="acc_inte1_1" descr=""/>
          <p:cNvPicPr/>
          <p:nvPr/>
        </p:nvPicPr>
        <p:blipFill>
          <a:blip r:embed="rId3"/>
          <a:stretch/>
        </p:blipFill>
        <p:spPr>
          <a:xfrm>
            <a:off x="609480" y="297828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55" name="acc_inte2_1" descr=""/>
          <p:cNvPicPr/>
          <p:nvPr/>
        </p:nvPicPr>
        <p:blipFill>
          <a:blip r:embed="rId4"/>
          <a:stretch/>
        </p:blipFill>
        <p:spPr>
          <a:xfrm>
            <a:off x="609480" y="5003640"/>
            <a:ext cx="1752840" cy="1702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28600" y="9144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Ⅰ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BELLE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2749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Ⅱ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INTEGRATION SPHER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47689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Ⅲ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INTEGRATION SPHER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2727360"/>
            <a:ext cx="761760" cy="13111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8900000">
            <a:off x="2095560" y="4897440"/>
            <a:ext cx="2627280" cy="252360"/>
          </a:xfrm>
          <a:prstGeom prst="leftRightArrow">
            <a:avLst>
              <a:gd name="adj1" fmla="val 50000"/>
              <a:gd name="adj2" fmla="val 207253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21000000">
            <a:off x="2437920" y="3512880"/>
            <a:ext cx="1943280" cy="252360"/>
          </a:xfrm>
          <a:prstGeom prst="leftRightArrow">
            <a:avLst>
              <a:gd name="adj1" fmla="val 50000"/>
              <a:gd name="adj2" fmla="val 153295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500000">
            <a:off x="2314080" y="2288880"/>
            <a:ext cx="2159280" cy="252360"/>
          </a:xfrm>
          <a:prstGeom prst="leftRightArrow">
            <a:avLst>
              <a:gd name="adj1" fmla="val 50000"/>
              <a:gd name="adj2" fmla="val 170335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5502240"/>
            <a:ext cx="525780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WEST ARM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の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PC2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と　　　　　　　　　　　　　　　　　　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PC3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の間に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Install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予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44200" y="2732040"/>
            <a:ext cx="5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7040" y="3646440"/>
            <a:ext cx="5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62120" y="2362320"/>
            <a:ext cx="17524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244476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BEAM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軸方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44704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BEAM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軸方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65214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BEAM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軸方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62120" y="4383000"/>
            <a:ext cx="1752480" cy="34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38080" y="6474960"/>
            <a:ext cx="1752840" cy="30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C7E0-1149-4677-AFA4-07BC64BBE5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34120" y="1127160"/>
            <a:ext cx="3657600" cy="23623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0000ff"/>
                </a:solidFill>
                <a:latin typeface="ＭＳ Ｐゴシック"/>
              </a:rPr>
              <a:t>２－１．</a:t>
            </a:r>
            <a:r>
              <a:rPr b="1" i="1" lang="ja-JP" sz="3600" spc="-1" strike="noStrike">
                <a:solidFill>
                  <a:srgbClr val="0000ff"/>
                </a:solidFill>
                <a:latin typeface="ＭＳ Ｐゴシック"/>
              </a:rPr>
              <a:t>KEK</a:t>
            </a:r>
            <a:r>
              <a:rPr b="1" i="1" lang="ja-JP" sz="3600" spc="-1" strike="noStrike">
                <a:solidFill>
                  <a:srgbClr val="0000ff"/>
                </a:solidFill>
                <a:latin typeface="ＭＳ Ｐゴシック"/>
              </a:rPr>
              <a:t>テスト実験（</a:t>
            </a:r>
            <a:r>
              <a:rPr b="1" i="1" lang="ja-JP" sz="3600" spc="-1" strike="noStrike">
                <a:solidFill>
                  <a:srgbClr val="0000ff"/>
                </a:solidFill>
                <a:latin typeface="ＭＳ Ｐゴシック"/>
              </a:rPr>
              <a:t>T496</a:t>
            </a:r>
            <a:r>
              <a:rPr b="1" i="1" lang="ja-JP" sz="3600" spc="-1" strike="noStrike">
                <a:solidFill>
                  <a:srgbClr val="0000ff"/>
                </a:solidFill>
                <a:latin typeface="ＭＳ Ｐゴシック"/>
              </a:rPr>
              <a:t>，</a:t>
            </a:r>
            <a:r>
              <a:rPr b="1" i="1" lang="ja-JP" sz="3600" spc="-1" strike="noStrike">
                <a:solidFill>
                  <a:srgbClr val="0000ff"/>
                </a:solidFill>
                <a:latin typeface="ＭＳ Ｐゴシック"/>
              </a:rPr>
              <a:t>T514</a:t>
            </a:r>
            <a:r>
              <a:rPr b="1" i="1" lang="ja-JP" sz="3600" spc="-1" strike="noStrike">
                <a:solidFill>
                  <a:srgbClr val="0000ff"/>
                </a:solidFill>
                <a:latin typeface="ＭＳ Ｐゴシック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7772040" y="2498760"/>
            <a:ext cx="228600" cy="533520"/>
          </a:xfrm>
          <a:prstGeom prst="line">
            <a:avLst/>
          </a:prstGeom>
          <a:ln w="3168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24680" y="2894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A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43800" y="2193840"/>
            <a:ext cx="301680" cy="276480"/>
          </a:xfrm>
          <a:prstGeom prst="ellipse">
            <a:avLst/>
          </a:prstGeom>
          <a:noFill/>
          <a:ln w="316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20920" y="5521320"/>
            <a:ext cx="179280" cy="65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35320" y="5697360"/>
            <a:ext cx="179280" cy="32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5511960"/>
            <a:ext cx="990360" cy="718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5697360"/>
            <a:ext cx="179640" cy="32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81480" y="5545080"/>
            <a:ext cx="179640" cy="65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5521320"/>
            <a:ext cx="179280" cy="64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5521320"/>
            <a:ext cx="179280" cy="65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5570640"/>
            <a:ext cx="1219320" cy="5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5229360"/>
            <a:ext cx="91440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ＳＴ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5229360"/>
            <a:ext cx="9907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ＤＥＦ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5229360"/>
            <a:ext cx="99036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ＡＣ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91120" y="5229360"/>
            <a:ext cx="99036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ＤＥＦ２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5229360"/>
            <a:ext cx="114300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ＶＥＴ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5229360"/>
            <a:ext cx="91440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ＳＴ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62720" y="52275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ＳＴ２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5181480"/>
            <a:ext cx="1219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ＥＭＣａ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5773680"/>
            <a:ext cx="179640" cy="1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5867280"/>
            <a:ext cx="8686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20920" y="6172200"/>
            <a:ext cx="9360" cy="360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6459480"/>
            <a:ext cx="9144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０ｃ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72080" y="624852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6459480"/>
            <a:ext cx="11430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３８６．５ｃ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07160" y="6172200"/>
            <a:ext cx="1440" cy="360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6477120"/>
            <a:ext cx="9144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４８１ｃ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64360" y="6172200"/>
            <a:ext cx="1440" cy="360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6477120"/>
            <a:ext cx="9144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４９２ｃ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86600" y="6172200"/>
            <a:ext cx="15840" cy="360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6477120"/>
            <a:ext cx="9144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５５０ｃ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1025640"/>
            <a:ext cx="1676520" cy="398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実験の目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1482840"/>
            <a:ext cx="5181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・ プロトタイプの基本的な性能の評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・ 最終的なＡＣＣのデザインを決定するための　データ収集と解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2778120"/>
            <a:ext cx="2514600" cy="398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実験のセットアッ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76760" y="42102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326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・ 入射ビーム ： ２ＧｅＶ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ｃの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ビー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・ＴＯＦ ： ＳＴ１、ＳＴ２、ＳＴ３ を用いて測定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・ トリガー ： ＳＴ１ ∩ ＳＴ３ ∩ ＤＥＦ１ ∩ ＤＥＦ２ ∩ ＶＥＴ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・ ビーム位置 ： １ｃｍ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１ｃｍの大きさのＤＥＦ１，ＤＥＦ２ を用いて決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34894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3300"/>
                </a:solidFill>
                <a:latin typeface="Times New Roman"/>
              </a:rPr>
              <a:t>テスト実験の様子 </a:t>
            </a:r>
            <a:r>
              <a:rPr b="1" lang="ja-JP" sz="1200" spc="-1" strike="noStrike">
                <a:solidFill>
                  <a:srgbClr val="ff3300"/>
                </a:solidFill>
                <a:latin typeface="Times New Roman"/>
              </a:rPr>
              <a:t>ＫＥＫ－ＰＳ Ｔ１ビームライ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58514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Times New Roman"/>
              </a:rPr>
              <a:t>ＢＥＡ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0D4E-2E61-42E6-820B-5280A05A62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belle_gore_120mm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257800" y="1523880"/>
            <a:ext cx="3581280" cy="2133720"/>
          </a:xfrm>
          <a:prstGeom prst="roundRect">
            <a:avLst>
              <a:gd name="adj" fmla="val 16815"/>
            </a:avLst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0000ff"/>
                </a:solidFill>
                <a:latin typeface="ＭＳ Ｐゴシック"/>
              </a:rPr>
              <a:t>２－２．解析結果（１）　</a:t>
            </a:r>
            <a:r>
              <a:rPr b="1" i="1" lang="ja-JP" sz="2000" spc="-1" strike="noStrike">
                <a:solidFill>
                  <a:srgbClr val="0000ff"/>
                </a:solidFill>
                <a:latin typeface="ＭＳ Ｐゴシック"/>
              </a:rPr>
              <a:t>～入射位置依存性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990720"/>
            <a:ext cx="243828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LLE TYP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10080" y="1905120"/>
            <a:ext cx="3429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・入射位置依存性を持つ　　　　　　（指数関数的な振るまい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ACC1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ACC2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は対称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・♯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of P.E.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　≧　２２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1295280"/>
            <a:ext cx="1143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1325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特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15160" y="4348080"/>
            <a:ext cx="1276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6063480" y="4690080"/>
            <a:ext cx="493560" cy="77472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389640" y="4368960"/>
            <a:ext cx="1312920" cy="1312560"/>
          </a:xfrm>
          <a:prstGeom prst="cube">
            <a:avLst>
              <a:gd name="adj" fmla="val 2216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7594560" y="4689360"/>
            <a:ext cx="493560" cy="77616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291360" y="5181120"/>
            <a:ext cx="642960" cy="677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57800" y="4348080"/>
            <a:ext cx="12589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58000" y="3809880"/>
            <a:ext cx="13586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Aerog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99200" y="5867280"/>
            <a:ext cx="28796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2GeV/c 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02560" y="4162320"/>
            <a:ext cx="164880" cy="3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78600" y="4957920"/>
            <a:ext cx="4129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3080" y="4957920"/>
            <a:ext cx="4129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0" y="564516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Times New Roman"/>
              </a:rPr>
              <a:t>Reflector :Gore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62920" y="4957920"/>
            <a:ext cx="4125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0800" y="4957920"/>
            <a:ext cx="4129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833-2A94-4188-BCF5-FF04D70084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inte_gore_120mm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0000ff"/>
                </a:solidFill>
                <a:latin typeface="ＭＳ Ｐゴシック"/>
              </a:rPr>
              <a:t>２－３．解析結果（２）　</a:t>
            </a:r>
            <a:r>
              <a:rPr b="1" i="1" lang="ja-JP" sz="2000" spc="-1" strike="noStrike">
                <a:solidFill>
                  <a:srgbClr val="0000ff"/>
                </a:solidFill>
                <a:latin typeface="ＭＳ Ｐゴシック"/>
              </a:rPr>
              <a:t>～入射位置依存性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990720"/>
            <a:ext cx="380988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GRATION SPHER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10080" y="1905120"/>
            <a:ext cx="3733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・入射位置によらない一様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ACC1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ACC2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は、ほぼ等し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・ ♯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of P.E.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　≧　１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57800" y="1523880"/>
            <a:ext cx="3657600" cy="1828800"/>
          </a:xfrm>
          <a:prstGeom prst="roundRect">
            <a:avLst>
              <a:gd name="adj" fmla="val 18028"/>
            </a:avLst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77120" y="1295280"/>
            <a:ext cx="1143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00800" y="1325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特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91520" y="5226120"/>
            <a:ext cx="10713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Aerog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5925600" y="4190760"/>
            <a:ext cx="450720" cy="83196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3940200"/>
            <a:ext cx="1312920" cy="1312920"/>
          </a:xfrm>
          <a:prstGeom prst="cube">
            <a:avLst>
              <a:gd name="adj" fmla="val 221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5400000">
            <a:off x="7587720" y="4190760"/>
            <a:ext cx="450720" cy="83196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4800" y="4041720"/>
            <a:ext cx="13669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5607000"/>
            <a:ext cx="32004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GeV/c 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27840" y="4214880"/>
            <a:ext cx="1312920" cy="1312920"/>
          </a:xfrm>
          <a:prstGeom prst="cube">
            <a:avLst>
              <a:gd name="adj" fmla="val 2216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867280" y="5028840"/>
            <a:ext cx="689040" cy="601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7148160" y="4970160"/>
            <a:ext cx="243000" cy="51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42080" y="3726000"/>
            <a:ext cx="2635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03880" y="3505320"/>
            <a:ext cx="8827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21560" y="4844880"/>
            <a:ext cx="441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19920" y="4844880"/>
            <a:ext cx="441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4320" y="562284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Times New Roman"/>
              </a:rPr>
              <a:t>Reflector :Gore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97320" y="4044960"/>
            <a:ext cx="1324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38680" y="6004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～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ORWARD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68920" y="4844880"/>
            <a:ext cx="441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72200" y="4844880"/>
            <a:ext cx="441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060A-D7AD-4DD2-939C-3B0F91945A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inte_gore_120mm_back_2" descr=""/>
          <p:cNvPicPr/>
          <p:nvPr/>
        </p:nvPicPr>
        <p:blipFill>
          <a:blip r:embed="rId1"/>
          <a:stretch/>
        </p:blipFill>
        <p:spPr>
          <a:xfrm>
            <a:off x="76320" y="1932120"/>
            <a:ext cx="5486400" cy="40878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0000ff"/>
                </a:solidFill>
                <a:latin typeface="ＭＳ Ｐゴシック"/>
              </a:rPr>
              <a:t>２－４．解析結果（３）　</a:t>
            </a:r>
            <a:r>
              <a:rPr b="1" i="1" lang="ja-JP" sz="2000" spc="-1" strike="noStrike">
                <a:solidFill>
                  <a:srgbClr val="0000ff"/>
                </a:solidFill>
                <a:latin typeface="ＭＳ Ｐゴシック"/>
              </a:rPr>
              <a:t>～入射位置依存性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990720"/>
            <a:ext cx="380988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GRATION SPHER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4120" y="1447920"/>
            <a:ext cx="36576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・入射位置によらない一様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ACC1,ACC2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は、ほぼ等し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・ ♯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of P.E.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　≧　１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・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に比べ１０～２０％　 集光量が減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1219320"/>
            <a:ext cx="3733920" cy="2361960"/>
          </a:xfrm>
          <a:prstGeom prst="roundRect">
            <a:avLst>
              <a:gd name="adj" fmla="val 18028"/>
            </a:avLst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53080" y="990720"/>
            <a:ext cx="1143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77120" y="1020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特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181480" y="3625920"/>
            <a:ext cx="3870360" cy="3157920"/>
            <a:chOff x="5181480" y="3625920"/>
            <a:chExt cx="3870360" cy="3157920"/>
          </a:xfrm>
        </p:grpSpPr>
        <p:sp>
          <p:nvSpPr>
            <p:cNvPr id="266" name=""/>
            <p:cNvSpPr/>
            <p:nvPr/>
          </p:nvSpPr>
          <p:spPr>
            <a:xfrm flipH="1">
              <a:off x="7086240" y="4006800"/>
              <a:ext cx="114300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81680" y="6003720"/>
              <a:ext cx="22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0000"/>
                  </a:solidFill>
                  <a:latin typeface="Times New Roman"/>
                </a:rPr>
                <a:t>Reflector :Goret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46880" y="638496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～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BACKWARD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46960" y="5562720"/>
              <a:ext cx="107172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Aero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5400000">
              <a:off x="5909760" y="4616280"/>
              <a:ext cx="450720" cy="8319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84880" y="4365720"/>
              <a:ext cx="1312920" cy="1312560"/>
            </a:xfrm>
            <a:prstGeom prst="cube">
              <a:avLst>
                <a:gd name="adj" fmla="val 2216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5400000">
              <a:off x="7571880" y="4616280"/>
              <a:ext cx="450720" cy="8319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08960" y="4467240"/>
              <a:ext cx="13669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77120" y="3625920"/>
              <a:ext cx="19047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GeV/c B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12000" y="4640040"/>
              <a:ext cx="1312560" cy="1312920"/>
            </a:xfrm>
            <a:prstGeom prst="cube">
              <a:avLst>
                <a:gd name="adj" fmla="val 22162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162920" y="5301720"/>
              <a:ext cx="24264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26240" y="4151160"/>
              <a:ext cx="2635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88040" y="3930480"/>
              <a:ext cx="88272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95880" y="5149800"/>
              <a:ext cx="4413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181480" y="4470480"/>
              <a:ext cx="1324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8040600" y="3854520"/>
              <a:ext cx="341280" cy="341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21560" y="5270400"/>
              <a:ext cx="4413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19920" y="5270400"/>
              <a:ext cx="4413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68920" y="5270400"/>
              <a:ext cx="4413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88040" y="5270400"/>
              <a:ext cx="4413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00800" y="5270400"/>
              <a:ext cx="4413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E3F5-D55C-45BB-810E-285FD403BC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9T11:09:28Z</dcterms:created>
  <dc:creator>satoshi TAKAGI</dc:creator>
  <dc:description/>
  <dc:language>en-US</dc:language>
  <cp:lastModifiedBy>三明 康郎</cp:lastModifiedBy>
  <dcterms:modified xsi:type="dcterms:W3CDTF">2002-09-19T01:14:00Z</dcterms:modified>
  <cp:revision>117</cp:revision>
  <dc:subject/>
  <dc:title>PowerPoint プレゼンテーション  -  RHIC-PHENIX実験のための Aerogel Cherenkov Counterの 性能評価と光学シミュレーション</dc:title>
</cp:coreProperties>
</file>