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FAC-4814-4713-A200-C068BCE3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D4E-E21E-4CF7-821C-D3A2E9D6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883-BFF6-4C36-B94E-C1FD6987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BF4-7E46-4087-A830-CEB6D5C6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148-C7FD-4048-BDD9-6DE64AA9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DF72-3B3E-4485-A67C-20B935A6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565-DFF6-430A-B4F1-5D3416E6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3F1-F933-45AC-868A-DBBB4B44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897-8302-458E-A16F-28BBD041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152-F840-4052-8B91-8DE0D525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E6E-5A91-456E-952F-033C8BCF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5EB-16C5-43F2-B6E2-BC24588D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/31/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all DNP mee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iroshi Mas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niversity of Tsuku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688A-C38B-4712-B6F3-E64F394BF471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liptic flow of identified hadron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/K/p/d) in Au + Au collision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oshi Mas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HENIX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111-3A76-4C98-89DB-D9ED5DB419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v2_pt_scale" descr=""/>
          <p:cNvPicPr/>
          <p:nvPr/>
        </p:nvPicPr>
        <p:blipFill>
          <a:blip r:embed="rId1"/>
          <a:srcRect l="2524" t="5558" r="25760" b="2940"/>
          <a:stretch/>
        </p:blipFill>
        <p:spPr>
          <a:xfrm>
            <a:off x="4191120" y="1219320"/>
            <a:ext cx="4952880" cy="48816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rk Coalescence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72200" y="4524480"/>
            <a:ext cx="1593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caled by the number of constituent qu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qu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qu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move mass dependence @ intermediate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ss dependence @ low 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ydro.,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feed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More studies are needed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@ higher p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824-46B1-4DB5-B8DD-324940F8E6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4876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K/p) &gt;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d) at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1 – 2 GeV/c. Quark Coalescence works for d, 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ut statistical error is too large. 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Need more statistic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v2_pt_deutron" descr=""/>
          <p:cNvPicPr/>
          <p:nvPr/>
        </p:nvPicPr>
        <p:blipFill>
          <a:blip r:embed="rId1"/>
          <a:srcRect l="5555" t="6861" r="27779" b="5558"/>
          <a:stretch/>
        </p:blipFill>
        <p:spPr>
          <a:xfrm>
            <a:off x="457200" y="1143000"/>
            <a:ext cx="3602160" cy="3657600"/>
          </a:xfrm>
          <a:prstGeom prst="rect">
            <a:avLst/>
          </a:prstGeom>
          <a:ln w="0">
            <a:noFill/>
          </a:ln>
        </p:spPr>
      </p:pic>
      <p:pic>
        <p:nvPicPr>
          <p:cNvPr id="196" name="v2_pt_scale_d" descr=""/>
          <p:cNvPicPr/>
          <p:nvPr/>
        </p:nvPicPr>
        <p:blipFill>
          <a:blip r:embed="rId2"/>
          <a:srcRect l="4548" t="6861" r="27779" b="5558"/>
          <a:stretch/>
        </p:blipFill>
        <p:spPr>
          <a:xfrm>
            <a:off x="4724280" y="11430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uteron 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45000" y="3581280"/>
            <a:ext cx="1593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360" y="99072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26560" y="99072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E8E-64A4-4527-976C-58629FD21B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90400" y="969840"/>
            <a:ext cx="1989360" cy="1986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88800" y="2806560"/>
            <a:ext cx="3432240" cy="3426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V="1">
            <a:off x="1438200" y="4522320"/>
            <a:ext cx="2522520" cy="176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5637240"/>
            <a:ext cx="676440" cy="5256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2455920" y="4503600"/>
            <a:ext cx="998640" cy="1354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1278000" y="2963520"/>
            <a:ext cx="63504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720" y="391320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R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0560" y="4186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7600" y="23637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0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1810800" y="2571480"/>
            <a:ext cx="266760" cy="93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7240" y="762120"/>
            <a:ext cx="145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Integ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6000" y="23814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P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08280" y="87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P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57200" y="4267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0" y="434340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erogel Cherenkov Counter (n=1.01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erogel together with TOF can extend the PID capability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up to 10 GeV/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!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386240" y="838080"/>
            <a:ext cx="4419720" cy="34941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High p</a:t>
            </a:r>
            <a:r>
              <a:rPr b="0" lang="ja-JP" sz="3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upgrade @ PH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807000" y="2666880"/>
            <a:ext cx="1374480" cy="730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46560" y="1347840"/>
            <a:ext cx="21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erog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11x22x11 cm^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70C-2416-4727-8F7F-4F340D1F4C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Elliptic flow (v</a:t>
            </a:r>
            <a:r>
              <a:rPr b="0" lang="ja-JP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) of identified hadrons (</a:t>
            </a:r>
            <a:r>
              <a:rPr b="0" lang="ja-JP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/K/p/d) has been measured at PHENI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Different behavior for different particle speci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nsistent with hydrodynamical model (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lt; 2.0 GeV/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viate hydro. and saturation (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gt; 2.0 GeV/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Qualitatively agreement with Quark Coalescence scenario in intermediate p</a:t>
            </a:r>
            <a:r>
              <a:rPr b="0" lang="ja-JP" sz="24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 reg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 indication that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of measured hadrons is already established in a quark-matter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Higher p</a:t>
            </a:r>
            <a:r>
              <a:rPr b="0" lang="ja-JP" sz="24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 data will be available in the next Ru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tailed study at intermediate to high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BA9-BF56-481F-9FFF-2ED5EFB8E1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f identified had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K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ty depend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k Coalescenc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ter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254-B0BE-4C22-A895-A210E89845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Azimuthal anisotropy 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- Elliptic flow (v</a:t>
            </a:r>
            <a:r>
              <a:rPr b="0" lang="ja-JP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)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3886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 probe for early stage of heavy ion coll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asymmetry in coordinate spac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asymmetry in momentum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73880" y="4800600"/>
            <a:ext cx="1447920" cy="838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7238880" y="5241960"/>
            <a:ext cx="1063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2025800">
            <a:off x="5864040" y="479988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3833600">
            <a:off x="6206760" y="445752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4817600">
            <a:off x="6588000" y="430488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rot="6782400">
            <a:off x="7196760" y="4304880"/>
            <a:ext cx="609480" cy="228600"/>
          </a:xfrm>
          <a:custGeom>
            <a:avLst/>
            <a:gdLst>
              <a:gd name="textAreaLeft" fmla="*/ 94680 w 609480"/>
              <a:gd name="textAreaRight" fmla="*/ 53316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rot="7766400">
            <a:off x="7577640" y="4457520"/>
            <a:ext cx="609840" cy="228600"/>
          </a:xfrm>
          <a:custGeom>
            <a:avLst/>
            <a:gdLst>
              <a:gd name="textAreaLeft" fmla="*/ 95400 w 609840"/>
              <a:gd name="textAreaRight" fmla="*/ 53424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rot="9574200">
            <a:off x="7998120" y="4800240"/>
            <a:ext cx="609480" cy="228600"/>
          </a:xfrm>
          <a:custGeom>
            <a:avLst/>
            <a:gdLst>
              <a:gd name="textAreaLeft" fmla="*/ 94680 w 609480"/>
              <a:gd name="textAreaRight" fmla="*/ 53316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9574200">
            <a:off x="5864040" y="540936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 rot="7766400">
            <a:off x="6207120" y="5751720"/>
            <a:ext cx="609480" cy="22896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960"/>
              <a:gd name="textAreaBottom" fmla="*/ 171720 h 228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 rot="6782400">
            <a:off x="6588000" y="590508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 rot="14817600">
            <a:off x="7196760" y="5904360"/>
            <a:ext cx="609480" cy="228600"/>
          </a:xfrm>
          <a:custGeom>
            <a:avLst/>
            <a:gdLst>
              <a:gd name="textAreaLeft" fmla="*/ 94680 w 609480"/>
              <a:gd name="textAreaRight" fmla="*/ 533160 w 60948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 rot="13833600">
            <a:off x="7578000" y="5751720"/>
            <a:ext cx="609480" cy="228960"/>
          </a:xfrm>
          <a:custGeom>
            <a:avLst/>
            <a:gdLst>
              <a:gd name="textAreaLeft" fmla="*/ 94680 w 609480"/>
              <a:gd name="textAreaRight" fmla="*/ 533160 w 609480"/>
              <a:gd name="textAreaTop" fmla="*/ 57240 h 228960"/>
              <a:gd name="textAreaBottom" fmla="*/ 171720 h 228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 rot="12025800">
            <a:off x="7997400" y="5409720"/>
            <a:ext cx="609480" cy="228600"/>
          </a:xfrm>
          <a:custGeom>
            <a:avLst/>
            <a:gdLst>
              <a:gd name="textAreaLeft" fmla="*/ 94680 w 609480"/>
              <a:gd name="textAreaRight" fmla="*/ 533160 w 60948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8480" y="50277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5280" y="1781280"/>
            <a:ext cx="1333440" cy="1263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16600" y="1781280"/>
            <a:ext cx="1333800" cy="12636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15160" y="1792440"/>
            <a:ext cx="728640" cy="125388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2438280"/>
            <a:ext cx="1222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07400" y="3657600"/>
            <a:ext cx="69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21600" y="121932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02680" y="24382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3160" y="30528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15968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191120" y="1709640"/>
                <a:ext cx="182880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615120" y="4800600"/>
            <a:ext cx="207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&lt;cos2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= tan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238880" y="41144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BDB-0B6A-4F33-9089-4761A35026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 metho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ction plane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40480" y="1884240"/>
            <a:ext cx="1043280" cy="107316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69000" y="4113360"/>
            <a:ext cx="197964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153120" y="1925640"/>
            <a:ext cx="1704960" cy="17334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37040" y="4030560"/>
            <a:ext cx="198288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41800" y="3948120"/>
            <a:ext cx="198144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46560" y="3865680"/>
            <a:ext cx="198144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16400" y="3782880"/>
            <a:ext cx="197964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79960" y="2957400"/>
            <a:ext cx="198288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11840" y="2214720"/>
            <a:ext cx="197964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0240" y="2131920"/>
            <a:ext cx="198108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48640" y="2049480"/>
            <a:ext cx="198252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19920" y="1967040"/>
            <a:ext cx="198108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88320" y="1884240"/>
            <a:ext cx="198252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59600" y="1801800"/>
            <a:ext cx="197964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81120" y="1967040"/>
            <a:ext cx="2189160" cy="22701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076720" y="1925640"/>
            <a:ext cx="2190960" cy="22701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973400" y="1884240"/>
            <a:ext cx="2189160" cy="22701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89560" y="3618000"/>
            <a:ext cx="11113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57960" y="3535200"/>
            <a:ext cx="111420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29240" y="3452760"/>
            <a:ext cx="100800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97640" y="3370320"/>
            <a:ext cx="100800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68920" y="3287880"/>
            <a:ext cx="100656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37320" y="3205080"/>
            <a:ext cx="100800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77000" y="3040200"/>
            <a:ext cx="198108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72240" y="3122640"/>
            <a:ext cx="208584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876640" y="2049480"/>
            <a:ext cx="1703160" cy="1774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842080" y="1967040"/>
            <a:ext cx="1668240" cy="17334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049440" y="2049480"/>
            <a:ext cx="1668600" cy="17334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016680" y="2874960"/>
            <a:ext cx="1076400" cy="11145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92800" y="2627280"/>
            <a:ext cx="100800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64440" y="2544840"/>
            <a:ext cx="100620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97560" y="2462040"/>
            <a:ext cx="1008000" cy="45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00880" y="2421000"/>
            <a:ext cx="100944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37240" y="2338560"/>
            <a:ext cx="100656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72160" y="2255760"/>
            <a:ext cx="100800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05360" y="2998800"/>
            <a:ext cx="1009800" cy="1155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bcbf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284800" y="3700440"/>
            <a:ext cx="557280" cy="577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354640" y="3741840"/>
            <a:ext cx="590400" cy="6192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457960" y="3782880"/>
            <a:ext cx="591840" cy="6192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97640" y="3782880"/>
            <a:ext cx="627120" cy="6606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702040" y="3782880"/>
            <a:ext cx="662040" cy="701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805360" y="3700440"/>
            <a:ext cx="766800" cy="8254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911560" y="3659040"/>
            <a:ext cx="833400" cy="908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84800" y="3700440"/>
            <a:ext cx="198288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42080" y="3824280"/>
            <a:ext cx="156348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37320" y="3659040"/>
            <a:ext cx="1773000" cy="78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59680" y="3782880"/>
            <a:ext cx="1284120" cy="57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32480" y="3741840"/>
            <a:ext cx="1182600" cy="53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2160" y="3700440"/>
            <a:ext cx="11113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45320" y="3659040"/>
            <a:ext cx="1008000" cy="45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37240" y="2503440"/>
            <a:ext cx="2121120" cy="23115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640200" y="2585880"/>
            <a:ext cx="2120760" cy="23115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779880" y="2627280"/>
            <a:ext cx="2120760" cy="23115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059600" y="2131920"/>
            <a:ext cx="728640" cy="784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788240" y="2379600"/>
            <a:ext cx="625680" cy="6606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579800" y="2338560"/>
            <a:ext cx="730440" cy="7840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440120" y="2297160"/>
            <a:ext cx="730440" cy="7840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335360" y="2255760"/>
            <a:ext cx="730440" cy="784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267680" y="2173320"/>
            <a:ext cx="728640" cy="7840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195680" y="2131920"/>
            <a:ext cx="731880" cy="784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05600" y="2421000"/>
            <a:ext cx="1009800" cy="1155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babae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84720" y="2874960"/>
            <a:ext cx="198144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53120" y="2792520"/>
            <a:ext cx="198288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24760" y="2709720"/>
            <a:ext cx="198108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05560" y="3122640"/>
            <a:ext cx="83340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3081240"/>
            <a:ext cx="83520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83480" y="3040200"/>
            <a:ext cx="73044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23160" y="2998800"/>
            <a:ext cx="6606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996320" y="2874960"/>
            <a:ext cx="6620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814800" y="3122640"/>
            <a:ext cx="452520" cy="4953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016680" y="3122640"/>
            <a:ext cx="1388880" cy="1485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119640" y="3081240"/>
            <a:ext cx="1495440" cy="1609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259320" y="3040200"/>
            <a:ext cx="1563480" cy="1692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397560" y="2462040"/>
            <a:ext cx="2121120" cy="23115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780240" y="3122640"/>
            <a:ext cx="347760" cy="3715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779880" y="3081240"/>
            <a:ext cx="243000" cy="2476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919560" y="2668680"/>
            <a:ext cx="2119320" cy="23112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902120" y="1801800"/>
            <a:ext cx="2190960" cy="22701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62840" y="2957400"/>
            <a:ext cx="5907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354640" y="3768840"/>
            <a:ext cx="736560" cy="71568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771880" y="3164040"/>
            <a:ext cx="1563480" cy="16509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20440" y="29718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jec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5155920" y="4449240"/>
            <a:ext cx="647640" cy="3034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3800" y="487692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b:impact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8739800">
            <a:off x="6904080" y="377676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action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53480" y="23623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7200" y="2286000"/>
                <a:ext cx="38862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t xml:space="preserve">dφ</m:t>
                        </m:r>
                      </m:den>
                    </m:f>
                    <m:r>
                      <m:t xml:space="preserve">∝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−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3619440"/>
            <a:ext cx="4343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: azimuthal angle of charged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: azimuthal angle of reaction pl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: strength of elliptic flow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4B9-662E-4A8B-A9C3-44DB9392A6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henix_2002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3953160" cy="4952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ction plane determ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plane is determined at BBC (3&lt;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&lt;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units of rapidity away from the mid-rapi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ss non-flow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648320"/>
            <a:ext cx="381240" cy="38088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4648320"/>
            <a:ext cx="381240" cy="38088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0640" y="1828800"/>
                <a:ext cx="27990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152280" y="5867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7120" y="2925720"/>
            <a:ext cx="439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: azimuthal location of each P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 : 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: azimtuthal angle of reaction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1447920"/>
            <a:ext cx="3657600" cy="3124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1447920"/>
            <a:ext cx="2895480" cy="3124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1EC-9E37-4B4C-8238-28A4F8A8C7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Hadron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mass2tof" descr=""/>
          <p:cNvPicPr/>
          <p:nvPr/>
        </p:nvPicPr>
        <p:blipFill>
          <a:blip r:embed="rId1"/>
          <a:stretch/>
        </p:blipFill>
        <p:spPr>
          <a:xfrm>
            <a:off x="4151160" y="1295280"/>
            <a:ext cx="4764240" cy="4572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ime of f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8, 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| &lt; 0.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iming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O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~ 115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ID in m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vs momentum sp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: 0.2 &lt;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lt; 3.0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 : 0.4 &lt;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lt; 3.0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 : 0.6 &lt;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lt; 4.0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E83-C1D0-4A77-9FF5-7E26F93C98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v2_pt" descr=""/>
          <p:cNvPicPr/>
          <p:nvPr/>
        </p:nvPicPr>
        <p:blipFill>
          <a:blip r:embed="rId1"/>
          <a:srcRect l="4548" t="6861" r="26767" b="5558"/>
          <a:stretch/>
        </p:blipFill>
        <p:spPr>
          <a:xfrm>
            <a:off x="4038480" y="1176480"/>
            <a:ext cx="5105520" cy="5030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78520" y="1447920"/>
            <a:ext cx="1593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3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) of identified had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&lt; 2.0 GeV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 &gt;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K) &gt;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nsistent with calculation of hydrodynamical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&gt; 2.0 GeV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p) &gt;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, 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ear departure from hydrodynamical behavior is obse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aturation at intermediate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58D-1943-477C-A338-6FF4A12E46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rl_fig3_rs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5943600" cy="53467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Centrality dependence of v</a:t>
            </a:r>
            <a:r>
              <a:rPr b="0" lang="ja-JP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3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trend can be seen in all centrality b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aryon) &gt;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son) @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8CF-A54B-4FB6-91EB-59C7B67942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predic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rk Coalescenc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189" t="23181" r="21482" b="47276"/>
          <a:stretch/>
        </p:blipFill>
        <p:spPr>
          <a:xfrm>
            <a:off x="4038480" y="1447920"/>
            <a:ext cx="5029200" cy="360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04920" y="2286000"/>
                <a:ext cx="38862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04920" y="3105000"/>
                <a:ext cx="38862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82480" y="4240080"/>
                <a:ext cx="302580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273360" y="5105520"/>
            <a:ext cx="256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. Molnar,  S.A. Voloshi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ucl-th/030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186-284B-451A-A267-239835BB29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20:09:05Z</dcterms:created>
  <dc:creator>益井　宙</dc:creator>
  <dc:description/>
  <dc:language>en-US</dc:language>
  <cp:lastModifiedBy>益井　宙</cp:lastModifiedBy>
  <dcterms:modified xsi:type="dcterms:W3CDTF">2003-10-25T05:08:18Z</dcterms:modified>
  <cp:revision>62</cp:revision>
  <dc:subject/>
  <dc:title>PowerPoint プレゼンテーション</dc:title>
</cp:coreProperties>
</file>