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628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752F44-FAFF-4675-9D45-F137DC5B70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坂井　真吾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=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lectron s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From Rnn1 res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ons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h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bove 1 GeV/c charm decay contribu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high pt electron v2 can carry information about the anisotropy of the parent charmed meson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YTH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nc.e/pho.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igh pt energy los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s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nn1 res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1 GeV/c charm decay contribu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high pt electron v2 can carry information about the anisotropy of the parent charmed mes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t energy los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 of P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talled North and South side of RH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unit rapidity away from mad rap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r.p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BC_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amp; r.p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BC_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ry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r.p using B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e is estimated by subtracting miss ID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conversion &amp; Dalitz decay from pi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eem like that v2e originating from pi0 is not consistent with v2e which is including all electron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(fitting / &lt;cos2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interest because of the contributions from heavy flav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.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6DD-044E-4819-9D42-28BE3625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EA1-1452-444E-9531-247AFE6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061-C09F-473D-9361-F159A2F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5EB-A0F8-49EE-B4AD-DED7E97A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E14-ADEE-4F1A-A2F1-74FFF78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1FA-A20F-4DD5-8BE8-DB661DB1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2A3-9421-4E86-81BE-CCD28721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0CE-7ADE-48A5-A6AE-3EE2C3D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C98-C347-4FCE-9075-FD8EF29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6E8-B9FC-411C-9244-E0492BB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C38-6416-409A-AE7B-CD925D4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370-64FC-4A41-BC54-27A66CF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7CC-95A1-4403-A0AC-DE2FC2AFA0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low of electrons/positrons in 200 GeV Au+Au collisions at RHIC-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66040" y="4648320"/>
            <a:ext cx="3545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hingo Sak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      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Univ. of Tsuk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henix_40_72dpi" descr=""/>
          <p:cNvPicPr/>
          <p:nvPr/>
        </p:nvPicPr>
        <p:blipFill>
          <a:blip r:embed="rId1"/>
          <a:stretch/>
        </p:blipFill>
        <p:spPr>
          <a:xfrm>
            <a:off x="7086600" y="6019920"/>
            <a:ext cx="1760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eded to estimate charmed electron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charm y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inclusive electron yield at Run2 (r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s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riginating photonic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D-&gt;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ue to large Q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905120"/>
            <a:ext cx="38124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39760" y="2133720"/>
                <a:ext cx="26672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105520" y="2133720"/>
                <a:ext cx="2738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187880" y="25146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5960" y="2362320"/>
            <a:ext cx="7621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7680" y="1066680"/>
            <a:ext cx="864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umithal anisotropy of inclusive electrons/positrons are measured with respect to the reaction plane in 200 GeV Au+Au collision at RHIC-PHEN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(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larger than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rot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at low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(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eems like smaller than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io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at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ext Run (Au+Au) will start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uch more statistics (error bars will be much small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48320" y="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800600" y="838080"/>
            <a:ext cx="4296960" cy="2895840"/>
            <a:chOff x="4800600" y="838080"/>
            <a:chExt cx="4296960" cy="2895840"/>
          </a:xfrm>
        </p:grpSpPr>
        <p:pic>
          <p:nvPicPr>
            <p:cNvPr id="53" name="cocktail" descr=""/>
            <p:cNvPicPr/>
            <p:nvPr/>
          </p:nvPicPr>
          <p:blipFill>
            <a:blip r:embed="rId1"/>
            <a:stretch/>
          </p:blipFill>
          <p:spPr>
            <a:xfrm>
              <a:off x="4800600" y="838080"/>
              <a:ext cx="42969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flipV="1">
              <a:off x="5843880" y="1574640"/>
              <a:ext cx="300960" cy="200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947560" y="1773360"/>
              <a:ext cx="300960" cy="200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53040" y="2022480"/>
              <a:ext cx="462240" cy="276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199200" y="2269440"/>
              <a:ext cx="669600" cy="398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342480" y="2457720"/>
              <a:ext cx="858960" cy="43416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17680" y="139680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44800" y="2664360"/>
              <a:ext cx="31320" cy="24480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2480" y="3234240"/>
              <a:ext cx="277920" cy="1188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36200" y="1625400"/>
              <a:ext cx="91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22040" y="1877400"/>
              <a:ext cx="123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ee, 3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73760" y="2114640"/>
              <a:ext cx="12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ee, </a:t>
              </a: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00cc99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4920" y="2323800"/>
              <a:ext cx="11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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ee, </a:t>
              </a: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85240" y="2855880"/>
              <a:ext cx="73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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09360" y="3137040"/>
              <a:ext cx="92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’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08840" y="1568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HENIX: PRL 88(2002)1923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95520" y="2057400"/>
            <a:ext cx="304920" cy="304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20" y="1265400"/>
            <a:ext cx="188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明朝"/>
              </a:rPr>
              <a:t>From Run1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30481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NP_cratio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5943600" cy="297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3886200"/>
            <a:ext cx="1522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952880"/>
            <a:ext cx="53341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lear excess about 1 GeV/c with resp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photon conversion and light had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c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3600" y="35812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c.e/pho.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0280" y="2514600"/>
            <a:ext cx="3213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alitz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i-electron dec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hoton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aon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rmal dilep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m decay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uty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2800" y="213372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lectron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666880"/>
            <a:ext cx="152640" cy="1447920"/>
          </a:xfrm>
          <a:custGeom>
            <a:avLst/>
            <a:gdLst>
              <a:gd name="textAreaLeft" fmla="*/ 0 w 152640"/>
              <a:gd name="textAreaRight" fmla="*/ 5508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200400"/>
            <a:ext cx="1447920" cy="2133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53341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Motivation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876920" y="1295280"/>
            <a:ext cx="4038480" cy="4647960"/>
            <a:chOff x="4876920" y="1295280"/>
            <a:chExt cx="4038480" cy="4647960"/>
          </a:xfrm>
        </p:grpSpPr>
        <p:pic>
          <p:nvPicPr>
            <p:cNvPr id="84" name="fig3" descr=""/>
            <p:cNvPicPr/>
            <p:nvPr/>
          </p:nvPicPr>
          <p:blipFill>
            <a:blip r:embed="rId1"/>
            <a:stretch/>
          </p:blipFill>
          <p:spPr>
            <a:xfrm>
              <a:off x="4876920" y="1295280"/>
              <a:ext cx="4038480" cy="464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5316840" y="2373840"/>
              <a:ext cx="2881800" cy="3090240"/>
              <a:chOff x="5316840" y="2373840"/>
              <a:chExt cx="2881800" cy="3090240"/>
            </a:xfrm>
          </p:grpSpPr>
          <p:sp>
            <p:nvSpPr>
              <p:cNvPr id="86" name=""/>
              <p:cNvSpPr/>
              <p:nvPr/>
            </p:nvSpPr>
            <p:spPr>
              <a:xfrm>
                <a:off x="5316840" y="3887280"/>
                <a:ext cx="737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5497560" y="2373840"/>
                <a:ext cx="2160" cy="156240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508720" y="3127680"/>
                <a:ext cx="108720" cy="79416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13400" y="4186440"/>
                <a:ext cx="47160" cy="42372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17720" y="4965840"/>
                <a:ext cx="252756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6600"/>
                    </a:solidFill>
                    <a:latin typeface="Times New Roman"/>
                  </a:rPr>
                  <a:t>direct </a:t>
                </a:r>
                <a:r>
                  <a:rPr b="1" lang="en-US" sz="16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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6600"/>
                    </a:solidFill>
                    <a:latin typeface="Times New Roman"/>
                  </a:rPr>
                  <a:t>(J</a:t>
                </a:r>
                <a:r>
                  <a:rPr b="1" lang="en-US" sz="700" spc="-1" strike="noStrike">
                    <a:solidFill>
                      <a:srgbClr val="996600"/>
                    </a:solidFill>
                    <a:latin typeface="Times New Roman"/>
                  </a:rPr>
                  <a:t>.</a:t>
                </a:r>
                <a:r>
                  <a:rPr b="1" lang="en-US" sz="1200" spc="-1" strike="noStrike">
                    <a:solidFill>
                      <a:srgbClr val="996600"/>
                    </a:solidFill>
                    <a:latin typeface="Times New Roman"/>
                  </a:rPr>
                  <a:t> Alam et al. PRC 63(2001)021901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947920" y="4055760"/>
                <a:ext cx="386640" cy="956880"/>
              </a:xfrm>
              <a:prstGeom prst="line">
                <a:avLst/>
              </a:prstGeom>
              <a:ln w="31680">
                <a:solidFill>
                  <a:srgbClr val="99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323680" y="4131720"/>
                <a:ext cx="18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99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316840" y="3337920"/>
                <a:ext cx="185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71520" y="3365280"/>
                <a:ext cx="2427120" cy="2098800"/>
              </a:xfrm>
              <a:custGeom>
                <a:avLst/>
                <a:gdLst/>
                <a:ahLst/>
                <a:rect l="l" t="t" r="r" b="b"/>
                <a:pathLst>
                  <a:path w="2145" h="1158">
                    <a:moveTo>
                      <a:pt x="0" y="0"/>
                    </a:moveTo>
                    <a:cubicBezTo>
                      <a:pt x="73" y="55"/>
                      <a:pt x="146" y="110"/>
                      <a:pt x="183" y="138"/>
                    </a:cubicBezTo>
                    <a:cubicBezTo>
                      <a:pt x="220" y="166"/>
                      <a:pt x="204" y="153"/>
                      <a:pt x="225" y="168"/>
                    </a:cubicBezTo>
                    <a:cubicBezTo>
                      <a:pt x="246" y="183"/>
                      <a:pt x="259" y="193"/>
                      <a:pt x="312" y="228"/>
                    </a:cubicBezTo>
                    <a:cubicBezTo>
                      <a:pt x="365" y="263"/>
                      <a:pt x="480" y="338"/>
                      <a:pt x="543" y="378"/>
                    </a:cubicBezTo>
                    <a:cubicBezTo>
                      <a:pt x="606" y="418"/>
                      <a:pt x="640" y="436"/>
                      <a:pt x="693" y="468"/>
                    </a:cubicBezTo>
                    <a:cubicBezTo>
                      <a:pt x="746" y="500"/>
                      <a:pt x="816" y="544"/>
                      <a:pt x="864" y="573"/>
                    </a:cubicBezTo>
                    <a:cubicBezTo>
                      <a:pt x="912" y="602"/>
                      <a:pt x="938" y="615"/>
                      <a:pt x="984" y="642"/>
                    </a:cubicBezTo>
                    <a:cubicBezTo>
                      <a:pt x="1030" y="669"/>
                      <a:pt x="1082" y="701"/>
                      <a:pt x="1140" y="732"/>
                    </a:cubicBezTo>
                    <a:cubicBezTo>
                      <a:pt x="1198" y="763"/>
                      <a:pt x="1273" y="802"/>
                      <a:pt x="1329" y="831"/>
                    </a:cubicBezTo>
                    <a:cubicBezTo>
                      <a:pt x="1385" y="860"/>
                      <a:pt x="1424" y="879"/>
                      <a:pt x="1479" y="906"/>
                    </a:cubicBezTo>
                    <a:cubicBezTo>
                      <a:pt x="1534" y="933"/>
                      <a:pt x="1599" y="964"/>
                      <a:pt x="1659" y="993"/>
                    </a:cubicBezTo>
                    <a:cubicBezTo>
                      <a:pt x="1719" y="1022"/>
                      <a:pt x="1795" y="1060"/>
                      <a:pt x="1842" y="1080"/>
                    </a:cubicBezTo>
                    <a:cubicBezTo>
                      <a:pt x="1889" y="1100"/>
                      <a:pt x="1913" y="1103"/>
                      <a:pt x="1944" y="1113"/>
                    </a:cubicBezTo>
                    <a:cubicBezTo>
                      <a:pt x="1975" y="1123"/>
                      <a:pt x="2004" y="1131"/>
                      <a:pt x="2028" y="1137"/>
                    </a:cubicBezTo>
                    <a:cubicBezTo>
                      <a:pt x="2052" y="1143"/>
                      <a:pt x="2069" y="1146"/>
                      <a:pt x="2088" y="1149"/>
                    </a:cubicBezTo>
                    <a:cubicBezTo>
                      <a:pt x="2107" y="1152"/>
                      <a:pt x="2126" y="1155"/>
                      <a:pt x="2145" y="1158"/>
                    </a:cubicBezTo>
                  </a:path>
                </a:pathLst>
              </a:custGeom>
              <a:noFill/>
              <a:ln w="1908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44000" y="1382400"/>
              <a:ext cx="18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1905120"/>
            <a:ext cx="533376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photonic-subtracted elect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ngle spectra consistent with cha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cay (binary scaled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40" y="3733920"/>
            <a:ext cx="49446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“</a:t>
            </a: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The high p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Century"/>
                <a:ea typeface="ＭＳ 明朝"/>
              </a:rPr>
              <a:t>t </a:t>
            </a: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electron v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Century"/>
                <a:ea typeface="ＭＳ 明朝"/>
              </a:rPr>
              <a:t>2</a:t>
            </a: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 can car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information about the anisotrop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entury"/>
                <a:ea typeface="ＭＳ 明朝"/>
              </a:rPr>
              <a:t>of the parent charmed mesons.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920" y="38862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  <a:ea typeface="ＭＳ Ｐ明朝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8560" y="5867280"/>
            <a:ext cx="24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photonic-subtra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324480" y="3962160"/>
            <a:ext cx="137160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324480" y="4266720"/>
            <a:ext cx="60984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of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143000"/>
            <a:ext cx="457200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560" y="114300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&lt;&lt;Reaction Plane Method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640" y="2438280"/>
            <a:ext cx="49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N/d(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 = N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1 + 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obs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s(2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37800" y="3044880"/>
            <a:ext cx="44236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zimuthal angle of reaction pla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zimuthal angle of electr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trength of azimuthal aniso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itting of dn/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lt;cos2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ff3300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1" lang="en-US" sz="1600" spc="-1" strike="noStrike">
                <a:solidFill>
                  <a:srgbClr val="ff3300"/>
                </a:solidFill>
                <a:latin typeface="Univers 45 Light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715000"/>
            <a:ext cx="3048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σ=&lt;cos(2(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m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real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= {&lt;cos(2(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B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))&gt;}</a:t>
            </a:r>
            <a:r>
              <a:rPr b="1" lang="en-US" sz="2000" spc="-1" strike="noStrike" baseline="30000">
                <a:solidFill>
                  <a:srgbClr val="3333cc"/>
                </a:solidFill>
                <a:latin typeface="Univers 45 Light"/>
              </a:rPr>
              <a:t>1/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86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1905120"/>
            <a:ext cx="9144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590920"/>
            <a:ext cx="22860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16002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19920" y="1676160"/>
            <a:ext cx="205740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4480" y="2819520"/>
            <a:ext cx="12078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Re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2590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8920" y="1676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167440"/>
            <a:ext cx="1524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4080" y="4724280"/>
            <a:ext cx="144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w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*sin(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1680" y="4913280"/>
            <a:ext cx="14306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n2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r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4440" y="5181480"/>
            <a:ext cx="15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w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*cos(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4160" y="1554120"/>
            <a:ext cx="472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asure azimuthal angle of each parti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with respect to the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0880" y="3276720"/>
            <a:ext cx="609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276720"/>
            <a:ext cx="0" cy="1676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952880"/>
            <a:ext cx="1067040" cy="152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791320" y="4571640"/>
            <a:ext cx="2438280" cy="1676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30680" y="46483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r.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629400" y="4190760"/>
            <a:ext cx="38088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5715000"/>
            <a:ext cx="1523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4876920"/>
            <a:ext cx="1066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8040" y="43434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1720" y="391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048120"/>
            <a:ext cx="152280" cy="1676160"/>
          </a:xfrm>
          <a:custGeom>
            <a:avLst/>
            <a:gdLst>
              <a:gd name="textAreaLeft" fmla="*/ 44640 w 152280"/>
              <a:gd name="textAreaRight" fmla="*/ 152640 w 152280"/>
              <a:gd name="textAreaTop" fmla="*/ 69840 h 1676160"/>
              <a:gd name="textAreaBottom" fmla="*/ 160632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measurement at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9051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HENIX experiment has the unique capability to mea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s at RH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160" y="3346560"/>
            <a:ext cx="3155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lectron identificati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erenkov light in R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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.2~4.9 GeV/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mber of hit P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ing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henix_2002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4191120"/>
            <a:ext cx="4267080" cy="243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2971800" cy="185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20212200">
            <a:off x="3992400" y="320472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" y="190512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rp_dist" descr=""/>
          <p:cNvPicPr/>
          <p:nvPr/>
        </p:nvPicPr>
        <p:blipFill>
          <a:blip r:embed="rId1"/>
          <a:stretch/>
        </p:blipFill>
        <p:spPr>
          <a:xfrm>
            <a:off x="636480" y="2133720"/>
            <a:ext cx="795492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c1" descr=""/>
          <p:cNvPicPr/>
          <p:nvPr/>
        </p:nvPicPr>
        <p:blipFill>
          <a:blip r:embed="rId2"/>
          <a:stretch/>
        </p:blipFill>
        <p:spPr>
          <a:xfrm>
            <a:off x="712800" y="213372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4200" y="2057400"/>
            <a:ext cx="1523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9000" y="2133720"/>
            <a:ext cx="1523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80280" y="2209680"/>
            <a:ext cx="3049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5480" y="2133720"/>
            <a:ext cx="5335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0920" y="2209680"/>
            <a:ext cx="2499120" cy="99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.p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cos(2(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real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)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= {&lt;cos(2(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)&gt;}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1/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8480" y="1981080"/>
            <a:ext cx="408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rrelation r.p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BBC_nor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r.p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BBC_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920" y="618804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entrality [%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02000" y="3376440"/>
            <a:ext cx="210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=v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/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5785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55785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360" y="1219320"/>
            <a:ext cx="518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Determine r.p using BBC north and s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/d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jps_dndphi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5745240" cy="5394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1219320"/>
            <a:ext cx="762120" cy="51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58920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6477120"/>
            <a:ext cx="556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892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876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596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7720" y="6292800"/>
            <a:ext cx="33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440" y="2338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Miss ID e+(e-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1143000"/>
            <a:ext cx="533160" cy="487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181480" y="2666880"/>
            <a:ext cx="5335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5157720"/>
            <a:ext cx="18190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n/d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of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subtract Miss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+(e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24080" y="5257440"/>
            <a:ext cx="76212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08040"/>
            <a:ext cx="4419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correc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ubtracting miss ID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590920"/>
                <a:ext cx="33526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and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ssID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057560" y="1881360"/>
            <a:ext cx="1133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+(e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24280" y="1599840"/>
            <a:ext cx="45720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73392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and --- dn/dphi of candi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detected RI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+(e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iss ID  --- dn/dphi of mis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+(e-)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86200"/>
            <a:ext cx="2971800" cy="9144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3400" y="1143000"/>
            <a:ext cx="663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n/d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5200" y="3809880"/>
            <a:ext cx="1012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n/d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/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35268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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27480" y="60958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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7640" y="4952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6384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58910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924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of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(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143000"/>
            <a:ext cx="50292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DNP_e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6324480" cy="5037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76520" y="5181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M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066680"/>
            <a:ext cx="7315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143000"/>
            <a:ext cx="76320" cy="502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6095880"/>
            <a:ext cx="73152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447920"/>
            <a:ext cx="304920" cy="487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6120" y="6019920"/>
            <a:ext cx="122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9440" y="1143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486040" y="3352680"/>
            <a:ext cx="10666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124080"/>
            <a:ext cx="2590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ystematic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.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th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fitting / &lt;cos2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lectron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with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had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914400"/>
            <a:ext cx="54100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DNP_e_hadron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726080" cy="4876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7080" y="2286000"/>
            <a:ext cx="10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(pro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33040" y="3276720"/>
            <a:ext cx="8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 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(p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06200" y="368784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1680" y="2133720"/>
            <a:ext cx="25552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rot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cl-ex/0305013 (PHE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1055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0720"/>
            <a:ext cx="4876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943600"/>
            <a:ext cx="51055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60120" y="5943600"/>
            <a:ext cx="122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371600"/>
            <a:ext cx="228600" cy="464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640" y="12952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5181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M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447920"/>
            <a:ext cx="45720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&lt;Low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(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1.0GeV/c)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larger than </a:t>
            </a:r>
            <a:r>
              <a:rPr b="1" lang="en-US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(pion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amp; 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2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(proton)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&g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ominant pi0 dec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small decay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decay from higher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809880"/>
            <a:ext cx="45720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&lt;High p</a:t>
            </a:r>
            <a:r>
              <a:rPr b="1" lang="ja-JP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(p</a:t>
            </a:r>
            <a:r>
              <a:rPr b="1" lang="ja-JP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gt;2.0GeV/c)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ja-JP" sz="22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seems like smaller than </a:t>
            </a:r>
            <a:r>
              <a:rPr b="1" lang="ja-JP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ja-JP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</a:t>
            </a:r>
            <a:r>
              <a:rPr b="1" lang="ja-JP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 </a:t>
            </a:r>
            <a:r>
              <a:rPr b="1" lang="ja-JP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(pion)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4952880"/>
            <a:ext cx="3784680" cy="1504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rticular interest because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ntribution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heavy-qu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c/b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cays !(but the data include another sources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48680" y="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09:56Z</dcterms:created>
  <dc:creator>shingo </dc:creator>
  <dc:description/>
  <dc:language>en-US</dc:language>
  <cp:lastModifiedBy>shingo </cp:lastModifiedBy>
  <dcterms:modified xsi:type="dcterms:W3CDTF">2003-10-28T21:57:10Z</dcterms:modified>
  <cp:revision>228</cp:revision>
  <dc:subject/>
  <dc:title>PowerPoint プレゼンテーション</dc:title>
</cp:coreProperties>
</file>