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8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43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920" y="936432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DD5-0867-4903-A7B0-EEF6D6D3CF5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560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4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ular interest because of the contributions from heavy flav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M.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58A-8856-49BB-A63E-0E7C256A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FE8-30B6-4871-A40A-19633E4A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D24-5E77-4F38-A86C-DF85997B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446-5208-4E25-BF38-2D0AA655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7BA-9F3A-4C97-9A86-7063D86F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3BD-9B7D-4DAB-A977-01F4A38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767-CCE8-41F2-8F8E-FBE60D0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02F-BA88-4244-93E6-5A9BD4AC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FF6-5171-4F96-82C6-2DC5DA6A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5E7-C240-43DD-BB24-F2B4BED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8D-BC91-4311-9CCC-F3C59E9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A17-330E-43B5-80E7-A10EEADD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452-F226-4826-A79B-8BFB153C6C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8120" y="609480"/>
            <a:ext cx="745632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harged particle v2 and azimuthal pair corre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with respect to the reaction plane at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nIchi Es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v. of Tsuk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2 from r.p. and pair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ir correlation with r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y toy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entified particle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2D5-BADA-4ABB-BF2F-82CC68F7EB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sim_trig" descr=""/>
          <p:cNvPicPr/>
          <p:nvPr/>
        </p:nvPicPr>
        <p:blipFill>
          <a:blip r:embed="rId1"/>
          <a:stretch/>
        </p:blipFill>
        <p:spPr>
          <a:xfrm>
            <a:off x="620640" y="3260880"/>
            <a:ext cx="8005680" cy="2759040"/>
          </a:xfrm>
          <a:prstGeom prst="rect">
            <a:avLst/>
          </a:prstGeom>
          <a:ln w="0">
            <a:noFill/>
          </a:ln>
        </p:spPr>
      </p:pic>
      <p:pic>
        <p:nvPicPr>
          <p:cNvPr id="264" name="shin_cen_mid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8001000" cy="2666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6200000">
            <a:off x="3240" y="431784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7780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1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224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1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2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236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2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5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58672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380880"/>
            <a:ext cx="5029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hadron-hadron correlation     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rig)&gt;3GeV/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3429000"/>
            <a:ext cx="5943600" cy="62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ydro flow, flowing jets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like decay are included in the simulation as same as in the previous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288720" y="167292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25240" y="281952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15800" y="281952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34320" y="97488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8F1-3E49-48C0-82E2-E50CF3FF90F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sim_trig" descr=""/>
          <p:cNvPicPr/>
          <p:nvPr/>
        </p:nvPicPr>
        <p:blipFill>
          <a:blip r:embed="rId1"/>
          <a:stretch/>
        </p:blipFill>
        <p:spPr>
          <a:xfrm>
            <a:off x="3657600" y="3371760"/>
            <a:ext cx="496872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corp_sim2_s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4994280" cy="1679400"/>
          </a:xfrm>
          <a:prstGeom prst="rect">
            <a:avLst/>
          </a:prstGeom>
          <a:ln w="0">
            <a:noFill/>
          </a:ln>
        </p:spPr>
      </p:pic>
      <p:pic>
        <p:nvPicPr>
          <p:cNvPr id="278" name="corp_sim3_s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4994280" cy="167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54120" y="1071720"/>
            <a:ext cx="1911240" cy="376200"/>
            <a:chOff x="654120" y="1071720"/>
            <a:chExt cx="1911240" cy="376200"/>
          </a:xfrm>
        </p:grpSpPr>
        <p:sp>
          <p:nvSpPr>
            <p:cNvPr id="280" name=""/>
            <p:cNvSpPr/>
            <p:nvPr/>
          </p:nvSpPr>
          <p:spPr>
            <a:xfrm>
              <a:off x="654120" y="1071720"/>
              <a:ext cx="191124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8480" y="1071720"/>
              <a:ext cx="1789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flowing 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54120" y="2330280"/>
            <a:ext cx="2241360" cy="650880"/>
            <a:chOff x="654120" y="2330280"/>
            <a:chExt cx="2241360" cy="650880"/>
          </a:xfrm>
        </p:grpSpPr>
        <p:sp>
          <p:nvSpPr>
            <p:cNvPr id="283" name=""/>
            <p:cNvSpPr/>
            <p:nvPr/>
          </p:nvSpPr>
          <p:spPr>
            <a:xfrm>
              <a:off x="654120" y="2330280"/>
              <a:ext cx="2241360" cy="6508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2240" y="2330280"/>
              <a:ext cx="207216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flowing je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reduced jets y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828800" y="271440"/>
            <a:ext cx="204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trig)&gt;3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80880"/>
            <a:ext cx="4496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0&lt;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1GeV/c               1&lt;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2GeV/c                2&lt;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5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09480" y="3809880"/>
            <a:ext cx="2895840" cy="685800"/>
            <a:chOff x="609480" y="3809880"/>
            <a:chExt cx="2895840" cy="685800"/>
          </a:xfrm>
        </p:grpSpPr>
        <p:sp>
          <p:nvSpPr>
            <p:cNvPr id="288" name=""/>
            <p:cNvSpPr/>
            <p:nvPr/>
          </p:nvSpPr>
          <p:spPr>
            <a:xfrm>
              <a:off x="609480" y="3809880"/>
              <a:ext cx="2895840" cy="6858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6320" y="3809880"/>
              <a:ext cx="26863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original simulatio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hydro flow, flowing 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shin_cen_mid" descr=""/>
          <p:cNvPicPr/>
          <p:nvPr/>
        </p:nvPicPr>
        <p:blipFill>
          <a:blip r:embed="rId4"/>
          <a:stretch/>
        </p:blipFill>
        <p:spPr>
          <a:xfrm>
            <a:off x="3657600" y="5029200"/>
            <a:ext cx="49528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609480" y="5338800"/>
            <a:ext cx="2666880" cy="452520"/>
            <a:chOff x="609480" y="5338800"/>
            <a:chExt cx="2666880" cy="452520"/>
          </a:xfrm>
        </p:grpSpPr>
        <p:sp>
          <p:nvSpPr>
            <p:cNvPr id="292" name=""/>
            <p:cNvSpPr/>
            <p:nvPr/>
          </p:nvSpPr>
          <p:spPr>
            <a:xfrm>
              <a:off x="609480" y="5338800"/>
              <a:ext cx="2666880" cy="45252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5410080"/>
              <a:ext cx="26668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200GeV Au+Au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41E-181E-441A-889C-2E71F4629F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rp_hh1" descr=""/>
          <p:cNvPicPr/>
          <p:nvPr/>
        </p:nvPicPr>
        <p:blipFill>
          <a:blip r:embed="rId1"/>
          <a:stretch/>
        </p:blipFill>
        <p:spPr>
          <a:xfrm>
            <a:off x="1447920" y="0"/>
            <a:ext cx="6119640" cy="6324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535760" y="594360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55C-6970-45DE-9D20-EC27949A0DA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gchan_new_cuth2" descr=""/>
          <p:cNvPicPr/>
          <p:nvPr/>
        </p:nvPicPr>
        <p:blipFill>
          <a:blip r:embed="rId1"/>
          <a:stretch/>
        </p:blipFill>
        <p:spPr>
          <a:xfrm>
            <a:off x="1382760" y="0"/>
            <a:ext cx="6161040" cy="6354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535760" y="591192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C88-A1D9-4FC3-93D4-44E4CB66340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114300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2760" y="380880"/>
            <a:ext cx="108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High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137160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2193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837720" y="19047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1219320" y="156204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457200" y="1562040"/>
            <a:ext cx="304560" cy="533160"/>
          </a:xfrm>
          <a:prstGeom prst="upArrow">
            <a:avLst>
              <a:gd name="adj1" fmla="val 50000"/>
              <a:gd name="adj2" fmla="val 437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14300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137160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1447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25909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971440" y="1562040"/>
            <a:ext cx="304560" cy="533160"/>
          </a:xfrm>
          <a:prstGeom prst="upArrow">
            <a:avLst>
              <a:gd name="adj1" fmla="val 50000"/>
              <a:gd name="adj2" fmla="val 437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10040" y="156204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45080" y="114300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02280" y="137160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78240" y="12193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4277880" y="20574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4640400" y="1619280"/>
            <a:ext cx="304560" cy="419040"/>
          </a:xfrm>
          <a:prstGeom prst="upArrow">
            <a:avLst>
              <a:gd name="adj1" fmla="val 50000"/>
              <a:gd name="adj2" fmla="val 343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3916440" y="1619280"/>
            <a:ext cx="304560" cy="419040"/>
          </a:xfrm>
          <a:prstGeom prst="upArrow">
            <a:avLst>
              <a:gd name="adj1" fmla="val 50000"/>
              <a:gd name="adj2" fmla="val 343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040" y="685800"/>
            <a:ext cx="1208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68580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ergy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68760" y="685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a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2743200"/>
            <a:ext cx="1082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Low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5053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73392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35812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837720" y="457164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3880" y="22161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360" y="22096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82880" y="22096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53880" y="4572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6120" y="31240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1)-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5960" y="35053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3160" y="373392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89120" y="3809880"/>
            <a:ext cx="304920" cy="15264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2588760" y="4419360"/>
            <a:ext cx="304920" cy="1522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2915280" y="3981960"/>
            <a:ext cx="304920" cy="417600"/>
          </a:xfrm>
          <a:prstGeom prst="upArrow">
            <a:avLst>
              <a:gd name="adj1" fmla="val 50000"/>
              <a:gd name="adj2" fmla="val 342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267640" y="3980160"/>
            <a:ext cx="304920" cy="420840"/>
          </a:xfrm>
          <a:prstGeom prst="upArrow">
            <a:avLst>
              <a:gd name="adj1" fmla="val 50000"/>
              <a:gd name="adj2" fmla="val 345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dro pr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04920" y="4572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3962520"/>
            <a:ext cx="152640" cy="152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4267080"/>
            <a:ext cx="152640" cy="152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3733920"/>
            <a:ext cx="160020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66680" y="4343040"/>
            <a:ext cx="16002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2120" y="35053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89320" y="3733920"/>
            <a:ext cx="4572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5640" y="38098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4265280" y="426672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4646160" y="39243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884400" y="39236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1080" y="4572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85040" y="2895480"/>
            <a:ext cx="194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recombinatio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hadronize/freeze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588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2438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7200" y="54864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548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762120" cy="533160"/>
          </a:xfrm>
          <a:custGeom>
            <a:avLst/>
            <a:gdLst>
              <a:gd name="textAreaLeft" fmla="*/ 142920 w 762120"/>
              <a:gd name="textAreaRight" fmla="*/ 543240 w 762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0" hR="21600" stAng="10800000" swAng="-5400000"/>
                <a:lnTo>
                  <a:pt x="11340" y="21600"/>
                </a:lnTo>
                <a:arcTo wR="8100" hR="21600" stAng="5400000" swAng="-2161443"/>
                <a:lnTo>
                  <a:pt x="20699" y="9900"/>
                </a:lnTo>
                <a:lnTo>
                  <a:pt x="17820" y="0"/>
                </a:lnTo>
                <a:lnTo>
                  <a:pt x="13139" y="9900"/>
                </a:lnTo>
                <a:lnTo>
                  <a:pt x="15299" y="9900"/>
                </a:lnTo>
                <a:arcTo wR="8100" hR="21600" stAng="3238557" swAng="1898807"/>
                <a:lnTo>
                  <a:pt x="9720" y="21164"/>
                </a:lnTo>
                <a:arcTo wR="8100" hR="21600" stAng="5662636" swAng="5137364"/>
                <a:close/>
              </a:path>
              <a:path fill="darkenLess" w="21600" h="21600">
                <a:moveTo>
                  <a:pt x="0" y="0"/>
                </a:moveTo>
                <a:arcTo wR="8100" hR="21600" stAng="10800000" swAng="-5400000"/>
                <a:lnTo>
                  <a:pt x="11340" y="21600"/>
                </a:lnTo>
                <a:arcTo wR="8100" hR="21600" stAng="5400000" swAng="262636"/>
                <a:lnTo>
                  <a:pt x="9720" y="21164"/>
                </a:lnTo>
                <a:arcTo wR="8100" hR="21600" stAng="5662636" swAng="513736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909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37280" y="24382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27760" y="838080"/>
            <a:ext cx="13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high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095880" y="1600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1600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54480" y="2438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09880" y="12952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44840" y="20574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124680" y="3733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22880" y="4800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64280" y="48006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54760" y="3352680"/>
            <a:ext cx="13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low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12288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580080" y="3962520"/>
            <a:ext cx="735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29000" y="5105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35360" y="38862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21160" y="36576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315200" y="3886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59240" y="434340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mical f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88800" y="4038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mal f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3152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0773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81880" y="428616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162864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65520" y="243828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phase tran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65520" y="48006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phase tran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CE0-4106-4195-95A8-3775C427522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66680" y="3276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066680" y="761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434880" y="97488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v2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3280" y="3124080"/>
            <a:ext cx="34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066680" y="1218960"/>
            <a:ext cx="4267080" cy="2057760"/>
            <a:chOff x="1066680" y="1218960"/>
            <a:chExt cx="4267080" cy="2057760"/>
          </a:xfrm>
        </p:grpSpPr>
        <p:sp>
          <p:nvSpPr>
            <p:cNvPr id="386" name=""/>
            <p:cNvSpPr/>
            <p:nvPr/>
          </p:nvSpPr>
          <p:spPr>
            <a:xfrm flipV="1">
              <a:off x="1066680" y="2286000"/>
              <a:ext cx="45720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523880" y="1447920"/>
              <a:ext cx="60948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33360" y="1218960"/>
              <a:ext cx="3812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14600" y="1219320"/>
              <a:ext cx="3045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9160" y="1219320"/>
              <a:ext cx="457200" cy="7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76360" y="1295280"/>
              <a:ext cx="76212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480" y="1523880"/>
              <a:ext cx="1295280" cy="152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666880" y="121932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9080" y="33526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Verdana"/>
              </a:rPr>
              <a:t>2~3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066680" y="990720"/>
            <a:ext cx="4267080" cy="2286000"/>
            <a:chOff x="1066680" y="990720"/>
            <a:chExt cx="4267080" cy="2286000"/>
          </a:xfrm>
        </p:grpSpPr>
        <p:sp>
          <p:nvSpPr>
            <p:cNvPr id="396" name=""/>
            <p:cNvSpPr/>
            <p:nvPr/>
          </p:nvSpPr>
          <p:spPr>
            <a:xfrm flipV="1">
              <a:off x="1066680" y="2209680"/>
              <a:ext cx="106668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133360" y="1447920"/>
              <a:ext cx="12193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352680" y="990720"/>
              <a:ext cx="198108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48680" y="1530360"/>
            <a:ext cx="175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final state after f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94400" y="8380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initial state just after p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3962520"/>
            <a:ext cx="5410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ield,slope,v2 measurement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k,p,d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charm,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) direc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2D0-0555-4C5F-A0BC-33C00DB1561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745000" y="30492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quark flow </a:t>
            </a:r>
            <a:r>
              <a:rPr b="1" lang="ja-JP" sz="2400" spc="-1" strike="noStrike">
                <a:solidFill>
                  <a:srgbClr val="ff0000"/>
                </a:solidFill>
                <a:latin typeface="Verdana"/>
              </a:rPr>
              <a:t>plu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had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v2_pt_deutron" descr=""/>
          <p:cNvPicPr/>
          <p:nvPr/>
        </p:nvPicPr>
        <p:blipFill>
          <a:blip r:embed="rId1"/>
          <a:srcRect l="5555" t="6861" r="27779" b="5558"/>
          <a:stretch/>
        </p:blipFill>
        <p:spPr>
          <a:xfrm>
            <a:off x="0" y="914400"/>
            <a:ext cx="4576680" cy="4648320"/>
          </a:xfrm>
          <a:prstGeom prst="rect">
            <a:avLst/>
          </a:prstGeom>
          <a:ln w="0">
            <a:noFill/>
          </a:ln>
        </p:spPr>
      </p:pic>
      <p:pic>
        <p:nvPicPr>
          <p:cNvPr id="404" name="v2_pt_scale_d" descr=""/>
          <p:cNvPicPr/>
          <p:nvPr/>
        </p:nvPicPr>
        <p:blipFill>
          <a:blip r:embed="rId2"/>
          <a:srcRect l="4548" t="6861" r="27779" b="5558"/>
          <a:stretch/>
        </p:blipFill>
        <p:spPr>
          <a:xfrm>
            <a:off x="4495680" y="9144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07600" y="4295880"/>
            <a:ext cx="2107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imum bias 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680" y="114300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640" y="114300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DC1-9F73-4D3B-A995-2FF0E9A70FD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4920" y="914400"/>
            <a:ext cx="54100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4520" y="1295280"/>
            <a:ext cx="4726080" cy="4876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200400" y="2344680"/>
            <a:ext cx="12952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Times New Roman"/>
                <a:ea typeface="ＭＳ Ｐ明朝"/>
              </a:rPr>
              <a:t>v2(pr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840" y="3124080"/>
            <a:ext cx="903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ＭＳ Ｐ明朝"/>
              </a:rPr>
              <a:t>v2(p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5800" y="3687840"/>
            <a:ext cx="6091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v2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4240" y="2133720"/>
            <a:ext cx="25552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io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&amp; v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Times New Roman"/>
                <a:ea typeface="ＭＳ Ｐ明朝"/>
              </a:rPr>
              <a:t>proto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ucl-ex/0305013 (PHE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20" y="1052640"/>
            <a:ext cx="4876560" cy="609480"/>
          </a:xfrm>
          <a:prstGeom prst="roundRect">
            <a:avLst>
              <a:gd name="adj" fmla="val 259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943600"/>
            <a:ext cx="5105520" cy="30492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4800" y="5934240"/>
            <a:ext cx="122004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1778040"/>
            <a:ext cx="4586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ＭＳ Ｐ明朝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8400" y="5181480"/>
            <a:ext cx="8254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M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495680" y="4038480"/>
          <a:ext cx="45720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038480"/>
                    <a:ext cx="4572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4419720" y="0"/>
            <a:ext cx="4724280" cy="4038480"/>
            <a:chOff x="4419720" y="0"/>
            <a:chExt cx="4724280" cy="4038480"/>
          </a:xfrm>
        </p:grpSpPr>
        <p:pic>
          <p:nvPicPr>
            <p:cNvPr id="422" name="cocktail" descr=""/>
            <p:cNvPicPr/>
            <p:nvPr/>
          </p:nvPicPr>
          <p:blipFill>
            <a:blip r:embed="rId4"/>
            <a:stretch/>
          </p:blipFill>
          <p:spPr>
            <a:xfrm>
              <a:off x="4419720" y="0"/>
              <a:ext cx="47242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 flipV="1">
              <a:off x="5680080" y="1305000"/>
              <a:ext cx="331920" cy="27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796000" y="1652400"/>
              <a:ext cx="509400" cy="385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958000" y="1996920"/>
              <a:ext cx="736560" cy="5558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114960" y="2258640"/>
              <a:ext cx="944640" cy="60660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38760" y="762120"/>
              <a:ext cx="157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348160" y="2545920"/>
              <a:ext cx="33480" cy="34308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14960" y="3341520"/>
              <a:ext cx="306360" cy="1764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12720" y="1098720"/>
              <a:ext cx="91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97120" y="1450800"/>
              <a:ext cx="123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ee, 3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80880" y="1781280"/>
              <a:ext cx="12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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ee, </a:t>
              </a:r>
              <a:r>
                <a:rPr b="1" lang="ja-JP" sz="16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</a:t>
              </a:r>
              <a:r>
                <a:rPr b="1" lang="ja-JP" sz="1600" spc="-1" strike="noStrike" baseline="30000">
                  <a:solidFill>
                    <a:srgbClr val="00cc99"/>
                  </a:solidFill>
                  <a:latin typeface="Times New Roman"/>
                </a:rPr>
                <a:t>0</a:t>
              </a:r>
              <a:r>
                <a:rPr b="1" lang="ja-JP" sz="16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73640" y="2071800"/>
              <a:ext cx="11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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ee, </a:t>
              </a:r>
              <a:r>
                <a:rPr b="1" lang="ja-JP" sz="16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</a:t>
              </a:r>
              <a:r>
                <a:rPr b="1" lang="ja-JP" sz="1600" spc="-1" strike="noStrike">
                  <a:solidFill>
                    <a:srgbClr val="6666ff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60520" y="2811600"/>
              <a:ext cx="73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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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r>
                <a:rPr b="1" lang="ja-JP" sz="1600" spc="-1" strike="noStrike">
                  <a:solidFill>
                    <a:srgbClr val="666633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88960" y="3206880"/>
              <a:ext cx="92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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’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6699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666699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562720" y="990720"/>
              <a:ext cx="30456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10480" y="3124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8763120" y="3352680"/>
            <a:ext cx="152280" cy="91440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8152920" y="4267080"/>
            <a:ext cx="762120" cy="1143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77320" y="4724280"/>
            <a:ext cx="0" cy="129564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0720" y="304920"/>
            <a:ext cx="34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 v2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m quark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09920" y="3886200"/>
            <a:ext cx="4572000" cy="12952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105520"/>
            <a:ext cx="373356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335-2080-4A7A-8D20-8998B388A9F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hoton_v2_comp_p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592720" y="24717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97B-07BE-4D16-8EAD-13D81F28765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hoton_v2_comp_pi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3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521880" y="5400720"/>
            <a:ext cx="464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xtraction of direct photon v2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962520"/>
            <a:ext cx="0" cy="685800"/>
          </a:xfrm>
          <a:prstGeom prst="line">
            <a:avLst/>
          </a:prstGeom>
          <a:ln w="63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276360" y="4343400"/>
            <a:ext cx="1066680" cy="990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5720" y="25290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388620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464832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65400" y="2247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rect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/ inclusive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962520" y="685800"/>
            <a:ext cx="4876560" cy="1828800"/>
            <a:chOff x="3962520" y="685800"/>
            <a:chExt cx="4876560" cy="1828800"/>
          </a:xfrm>
        </p:grpSpPr>
        <p:sp>
          <p:nvSpPr>
            <p:cNvPr id="457" name=""/>
            <p:cNvSpPr/>
            <p:nvPr/>
          </p:nvSpPr>
          <p:spPr>
            <a:xfrm>
              <a:off x="3962520" y="685800"/>
              <a:ext cx="48006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" descr=""/>
            <p:cNvPicPr/>
            <p:nvPr/>
          </p:nvPicPr>
          <p:blipFill>
            <a:blip r:embed="rId2"/>
            <a:stretch/>
          </p:blipFill>
          <p:spPr>
            <a:xfrm>
              <a:off x="3962520" y="898560"/>
              <a:ext cx="4876560" cy="15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533-4D78-4311-A234-C0146B11B65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0360" y="3352680"/>
            <a:ext cx="1401120" cy="1293480"/>
            <a:chOff x="990360" y="3352680"/>
            <a:chExt cx="1401120" cy="1293480"/>
          </a:xfrm>
        </p:grpSpPr>
        <p:sp>
          <p:nvSpPr>
            <p:cNvPr id="50" name=""/>
            <p:cNvSpPr/>
            <p:nvPr/>
          </p:nvSpPr>
          <p:spPr>
            <a:xfrm flipV="1">
              <a:off x="1600200" y="3352680"/>
              <a:ext cx="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2160" y="3962160"/>
              <a:ext cx="129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1294560" y="3656520"/>
              <a:ext cx="306720" cy="30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066680" y="3962160"/>
              <a:ext cx="53496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6480" y="3962160"/>
              <a:ext cx="154800" cy="531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600200" y="3428640"/>
              <a:ext cx="303840" cy="53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600200" y="3428640"/>
              <a:ext cx="607680" cy="53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600200" y="3884400"/>
              <a:ext cx="455760" cy="78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00200" y="3962160"/>
              <a:ext cx="30384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990360" y="3962160"/>
              <a:ext cx="610920" cy="684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600200" y="3580560"/>
              <a:ext cx="303840" cy="383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400" y="3506040"/>
              <a:ext cx="487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Times New Roman"/>
                </a:rPr>
                <a:t>r.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90360" y="4800240"/>
            <a:ext cx="1293840" cy="1293840"/>
            <a:chOff x="990360" y="4800240"/>
            <a:chExt cx="1293840" cy="1293840"/>
          </a:xfrm>
        </p:grpSpPr>
        <p:sp>
          <p:nvSpPr>
            <p:cNvPr id="63" name=""/>
            <p:cNvSpPr/>
            <p:nvPr/>
          </p:nvSpPr>
          <p:spPr>
            <a:xfrm flipV="1">
              <a:off x="1600200" y="4800240"/>
              <a:ext cx="1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2160" y="5410080"/>
              <a:ext cx="1292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294560" y="5104440"/>
              <a:ext cx="306720" cy="307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066680" y="5410080"/>
              <a:ext cx="53496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446480" y="5410080"/>
              <a:ext cx="154800" cy="532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600200" y="4875840"/>
              <a:ext cx="303840" cy="53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600200" y="4875840"/>
              <a:ext cx="607680" cy="53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600200" y="5332320"/>
              <a:ext cx="455760" cy="7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5410080"/>
              <a:ext cx="30384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990360" y="5410080"/>
              <a:ext cx="610920" cy="684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1836360" y="5032800"/>
              <a:ext cx="79200" cy="78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1826640" y="5194440"/>
              <a:ext cx="78840" cy="15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432440" y="5153400"/>
              <a:ext cx="30672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1294560" y="5541120"/>
              <a:ext cx="231120" cy="15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39360" y="5557320"/>
              <a:ext cx="4399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066680" y="838080"/>
            <a:ext cx="3656160" cy="2207880"/>
            <a:chOff x="1066680" y="838080"/>
            <a:chExt cx="3656160" cy="2207880"/>
          </a:xfrm>
        </p:grpSpPr>
        <p:sp>
          <p:nvSpPr>
            <p:cNvPr id="79" name=""/>
            <p:cNvSpPr/>
            <p:nvPr/>
          </p:nvSpPr>
          <p:spPr>
            <a:xfrm>
              <a:off x="1066680" y="1958040"/>
              <a:ext cx="36561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6440" y="1294560"/>
              <a:ext cx="1305720" cy="129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45560" y="1294560"/>
              <a:ext cx="1305720" cy="129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545560" y="1447200"/>
              <a:ext cx="43776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544120" y="1523160"/>
              <a:ext cx="52488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45200" y="1599480"/>
              <a:ext cx="612360" cy="456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543760" y="1675800"/>
              <a:ext cx="699480" cy="532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630880" y="1827720"/>
              <a:ext cx="612360" cy="456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718720" y="1980000"/>
              <a:ext cx="52488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05840" y="2132640"/>
              <a:ext cx="43776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82080" y="838080"/>
              <a:ext cx="261720" cy="532800"/>
            </a:xfrm>
            <a:custGeom>
              <a:avLst/>
              <a:gdLst/>
              <a:ahLst/>
              <a:rect l="l" t="t" r="r" b="b"/>
              <a:pathLst>
                <a:path w="727" h="1483">
                  <a:moveTo>
                    <a:pt x="180" y="1482"/>
                  </a:moveTo>
                  <a:lnTo>
                    <a:pt x="180" y="370"/>
                  </a:lnTo>
                  <a:lnTo>
                    <a:pt x="0" y="370"/>
                  </a:lnTo>
                  <a:lnTo>
                    <a:pt x="362" y="0"/>
                  </a:lnTo>
                  <a:lnTo>
                    <a:pt x="726" y="370"/>
                  </a:lnTo>
                  <a:lnTo>
                    <a:pt x="544" y="370"/>
                  </a:lnTo>
                  <a:lnTo>
                    <a:pt x="544" y="1482"/>
                  </a:lnTo>
                  <a:lnTo>
                    <a:pt x="180" y="1482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43760" y="1101240"/>
              <a:ext cx="593280" cy="518400"/>
            </a:xfrm>
            <a:custGeom>
              <a:avLst/>
              <a:gdLst/>
              <a:ahLst/>
              <a:rect l="l" t="t" r="r" b="b"/>
              <a:pathLst>
                <a:path w="1649" h="1443">
                  <a:moveTo>
                    <a:pt x="0" y="1080"/>
                  </a:moveTo>
                  <a:lnTo>
                    <a:pt x="1027" y="180"/>
                  </a:lnTo>
                  <a:lnTo>
                    <a:pt x="820" y="0"/>
                  </a:lnTo>
                  <a:lnTo>
                    <a:pt x="1575" y="63"/>
                  </a:lnTo>
                  <a:lnTo>
                    <a:pt x="1648" y="723"/>
                  </a:lnTo>
                  <a:lnTo>
                    <a:pt x="1441" y="542"/>
                  </a:lnTo>
                  <a:lnTo>
                    <a:pt x="414" y="1442"/>
                  </a:lnTo>
                  <a:lnTo>
                    <a:pt x="0" y="108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7040" y="1675800"/>
              <a:ext cx="784080" cy="532440"/>
            </a:xfrm>
            <a:custGeom>
              <a:avLst/>
              <a:gdLst/>
              <a:ahLst/>
              <a:rect l="l" t="t" r="r" b="b"/>
              <a:pathLst>
                <a:path w="2178" h="1483">
                  <a:moveTo>
                    <a:pt x="0" y="370"/>
                  </a:moveTo>
                  <a:lnTo>
                    <a:pt x="1634" y="370"/>
                  </a:lnTo>
                  <a:lnTo>
                    <a:pt x="1634" y="0"/>
                  </a:lnTo>
                  <a:lnTo>
                    <a:pt x="2177" y="741"/>
                  </a:lnTo>
                  <a:lnTo>
                    <a:pt x="1634" y="1482"/>
                  </a:lnTo>
                  <a:lnTo>
                    <a:pt x="1634" y="1112"/>
                  </a:lnTo>
                  <a:lnTo>
                    <a:pt x="0" y="1112"/>
                  </a:lnTo>
                  <a:lnTo>
                    <a:pt x="0" y="37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1160" y="2254320"/>
              <a:ext cx="593280" cy="520200"/>
            </a:xfrm>
            <a:custGeom>
              <a:avLst/>
              <a:gdLst/>
              <a:ahLst/>
              <a:rect l="l" t="t" r="r" b="b"/>
              <a:pathLst>
                <a:path w="1651" h="1446">
                  <a:moveTo>
                    <a:pt x="416" y="0"/>
                  </a:moveTo>
                  <a:lnTo>
                    <a:pt x="1443" y="900"/>
                  </a:lnTo>
                  <a:lnTo>
                    <a:pt x="1650" y="719"/>
                  </a:lnTo>
                  <a:lnTo>
                    <a:pt x="1576" y="1380"/>
                  </a:lnTo>
                  <a:lnTo>
                    <a:pt x="819" y="1445"/>
                  </a:lnTo>
                  <a:lnTo>
                    <a:pt x="1027" y="1264"/>
                  </a:lnTo>
                  <a:lnTo>
                    <a:pt x="0" y="364"/>
                  </a:lnTo>
                  <a:lnTo>
                    <a:pt x="416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58320" y="2513160"/>
              <a:ext cx="261720" cy="532800"/>
            </a:xfrm>
            <a:custGeom>
              <a:avLst/>
              <a:gdLst/>
              <a:ahLst/>
              <a:rect l="l" t="t" r="r" b="b"/>
              <a:pathLst>
                <a:path w="726" h="1482">
                  <a:moveTo>
                    <a:pt x="545" y="0"/>
                  </a:moveTo>
                  <a:lnTo>
                    <a:pt x="545" y="1111"/>
                  </a:lnTo>
                  <a:lnTo>
                    <a:pt x="725" y="1111"/>
                  </a:lnTo>
                  <a:lnTo>
                    <a:pt x="363" y="1481"/>
                  </a:lnTo>
                  <a:lnTo>
                    <a:pt x="0" y="1111"/>
                  </a:lnTo>
                  <a:lnTo>
                    <a:pt x="181" y="1111"/>
                  </a:lnTo>
                  <a:lnTo>
                    <a:pt x="181" y="0"/>
                  </a:lnTo>
                  <a:lnTo>
                    <a:pt x="545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2880" y="1056960"/>
              <a:ext cx="593640" cy="518400"/>
            </a:xfrm>
            <a:custGeom>
              <a:avLst/>
              <a:gdLst/>
              <a:ahLst/>
              <a:rect l="l" t="t" r="r" b="b"/>
              <a:pathLst>
                <a:path w="1648" h="1444">
                  <a:moveTo>
                    <a:pt x="1233" y="1443"/>
                  </a:moveTo>
                  <a:lnTo>
                    <a:pt x="205" y="543"/>
                  </a:lnTo>
                  <a:lnTo>
                    <a:pt x="0" y="724"/>
                  </a:lnTo>
                  <a:lnTo>
                    <a:pt x="71" y="63"/>
                  </a:lnTo>
                  <a:lnTo>
                    <a:pt x="826" y="0"/>
                  </a:lnTo>
                  <a:lnTo>
                    <a:pt x="619" y="181"/>
                  </a:lnTo>
                  <a:lnTo>
                    <a:pt x="1647" y="1081"/>
                  </a:lnTo>
                  <a:lnTo>
                    <a:pt x="1233" y="1443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400" y="1675800"/>
              <a:ext cx="783720" cy="532440"/>
            </a:xfrm>
            <a:custGeom>
              <a:avLst/>
              <a:gdLst/>
              <a:ahLst/>
              <a:rect l="l" t="t" r="r" b="b"/>
              <a:pathLst>
                <a:path w="2178" h="1483">
                  <a:moveTo>
                    <a:pt x="2177" y="1112"/>
                  </a:moveTo>
                  <a:lnTo>
                    <a:pt x="543" y="1112"/>
                  </a:lnTo>
                  <a:lnTo>
                    <a:pt x="543" y="1482"/>
                  </a:lnTo>
                  <a:lnTo>
                    <a:pt x="0" y="741"/>
                  </a:lnTo>
                  <a:lnTo>
                    <a:pt x="543" y="0"/>
                  </a:lnTo>
                  <a:lnTo>
                    <a:pt x="543" y="370"/>
                  </a:lnTo>
                  <a:lnTo>
                    <a:pt x="2177" y="370"/>
                  </a:lnTo>
                  <a:lnTo>
                    <a:pt x="2177" y="1112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0680" y="2276640"/>
              <a:ext cx="593280" cy="519840"/>
            </a:xfrm>
            <a:custGeom>
              <a:avLst/>
              <a:gdLst/>
              <a:ahLst/>
              <a:rect l="l" t="t" r="r" b="b"/>
              <a:pathLst>
                <a:path w="1651" h="1445">
                  <a:moveTo>
                    <a:pt x="1650" y="364"/>
                  </a:moveTo>
                  <a:lnTo>
                    <a:pt x="624" y="1263"/>
                  </a:lnTo>
                  <a:lnTo>
                    <a:pt x="831" y="1444"/>
                  </a:lnTo>
                  <a:lnTo>
                    <a:pt x="74" y="1381"/>
                  </a:lnTo>
                  <a:lnTo>
                    <a:pt x="0" y="717"/>
                  </a:lnTo>
                  <a:lnTo>
                    <a:pt x="208" y="900"/>
                  </a:lnTo>
                  <a:lnTo>
                    <a:pt x="1235" y="0"/>
                  </a:lnTo>
                  <a:lnTo>
                    <a:pt x="1650" y="364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144160" y="1675800"/>
              <a:ext cx="1401840" cy="302760"/>
              <a:chOff x="2144160" y="1675800"/>
              <a:chExt cx="1401840" cy="302760"/>
            </a:xfrm>
          </p:grpSpPr>
          <p:sp>
            <p:nvSpPr>
              <p:cNvPr id="98" name=""/>
              <p:cNvSpPr/>
              <p:nvPr/>
            </p:nvSpPr>
            <p:spPr>
              <a:xfrm>
                <a:off x="2144160" y="1675800"/>
                <a:ext cx="1313280" cy="302760"/>
              </a:xfrm>
              <a:prstGeom prst="roundRect">
                <a:avLst>
                  <a:gd name="adj" fmla="val 519"/>
                </a:avLst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28400" y="1675800"/>
                <a:ext cx="131760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Times New Roman"/>
                  </a:rPr>
                  <a:t>Reaction pla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438880" y="838080"/>
            <a:ext cx="2975400" cy="2254320"/>
            <a:chOff x="5438880" y="838080"/>
            <a:chExt cx="2975400" cy="2254320"/>
          </a:xfrm>
        </p:grpSpPr>
        <p:grpSp>
          <p:nvGrpSpPr>
            <p:cNvPr id="101" name=""/>
            <p:cNvGrpSpPr/>
            <p:nvPr/>
          </p:nvGrpSpPr>
          <p:grpSpPr>
            <a:xfrm>
              <a:off x="5438880" y="838080"/>
              <a:ext cx="2358720" cy="2054160"/>
              <a:chOff x="5438880" y="838080"/>
              <a:chExt cx="2358720" cy="205416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6505200" y="838080"/>
                <a:ext cx="1292400" cy="99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438880" y="1828080"/>
                <a:ext cx="1067760" cy="1064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505200" y="914040"/>
                <a:ext cx="456120" cy="9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505200" y="990000"/>
                <a:ext cx="760320" cy="8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505200" y="1446120"/>
                <a:ext cx="76032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505200" y="1446120"/>
                <a:ext cx="106452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514840" y="1828080"/>
                <a:ext cx="99144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514840" y="1828080"/>
                <a:ext cx="991440" cy="76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5895000" y="1828080"/>
                <a:ext cx="611280" cy="83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508160" y="980640"/>
              <a:ext cx="906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par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04120" y="2732400"/>
              <a:ext cx="906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par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00480" y="1818720"/>
              <a:ext cx="10753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had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080320" y="457200"/>
            <a:ext cx="19760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+p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06920" y="457200"/>
            <a:ext cx="19911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+A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39800" y="3413160"/>
            <a:ext cx="602784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r.p. for a geometrical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suffer r.p. resolution (smeared sha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N/d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s(n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no smearing (detailed shape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event anisotropy shape (no relation to r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ea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/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mix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s(n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AB6-FD5C-4CAC-988F-C05CB8AE7D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945440" y="914400"/>
            <a:ext cx="437004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flow is not always add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ets seem to have v2 (not 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et shape/yield w.r.t.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identified particles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4D1-042E-46FA-8C79-D15792DD187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low_demo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02480" cy="4101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4800600"/>
            <a:ext cx="601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trac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true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&gt;     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trac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measured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&gt;      v2*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</a:rPr>
              <a:t>track1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</a:rPr>
              <a:t>track2 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&gt;      v2*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840" y="3479760"/>
            <a:ext cx="261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duced correlation becau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of v2*v2, but smaller err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bar because of a large pa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mb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24480" y="2895120"/>
            <a:ext cx="914400" cy="660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86320" y="11430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1600200"/>
            <a:ext cx="227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Verdana"/>
              </a:rPr>
              <a:t>close to pure 1+cos fu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Verdana"/>
              </a:rPr>
              <a:t>fine structure in d</a:t>
            </a:r>
            <a:r>
              <a:rPr b="0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ff"/>
                </a:solidFill>
                <a:latin typeface="Verdana"/>
              </a:rPr>
              <a:t> dist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133720"/>
            <a:ext cx="91440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333760" y="175248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A1A-BAC7-4831-9723-95AEE2F0F99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267440" cy="418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38800" y="3962520"/>
            <a:ext cx="16758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side a jet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1320" y="2521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low + flow&amp;jets + cross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a)        (b)            (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00800" y="1200240"/>
            <a:ext cx="11484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flow+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25760" y="4775040"/>
            <a:ext cx="2336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304920"/>
            <a:ext cx="358128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flow p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# of jet axis with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# of particle per 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of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of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Harmonic part : 1+2p*cos(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a) p=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b) p=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c) p=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1)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Jet shape : near+far side gau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d) F(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) :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Je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c)+(d) :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724280"/>
            <a:ext cx="106668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257800"/>
            <a:ext cx="10666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680" y="487692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715000" y="49528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724280"/>
            <a:ext cx="106704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13640" y="4870080"/>
            <a:ext cx="1549440" cy="813960"/>
            <a:chOff x="5813640" y="4870080"/>
            <a:chExt cx="1549440" cy="813960"/>
          </a:xfrm>
        </p:grpSpPr>
        <p:sp>
          <p:nvSpPr>
            <p:cNvPr id="137" name=""/>
            <p:cNvSpPr/>
            <p:nvPr/>
          </p:nvSpPr>
          <p:spPr>
            <a:xfrm>
              <a:off x="5813640" y="5126040"/>
              <a:ext cx="5263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6340320" y="5124240"/>
              <a:ext cx="52992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6664800">
              <a:off x="6447600" y="4954320"/>
              <a:ext cx="4759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8055800">
              <a:off x="6813720" y="5157360"/>
              <a:ext cx="488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943600" y="4883040"/>
            <a:ext cx="304560" cy="5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10280" y="4933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4724280"/>
            <a:ext cx="106668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9600" y="4876920"/>
            <a:ext cx="3038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305920" y="4952880"/>
            <a:ext cx="3038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9600" y="5105520"/>
            <a:ext cx="3038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305920" y="5181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42600" y="522612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10760" y="48006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441972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88120" y="4419720"/>
            <a:ext cx="7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j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07440" y="4419720"/>
            <a:ext cx="87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j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1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8840" y="576576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42800" y="530208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06040" y="47242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4560" y="545472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3160" y="4844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344-2C5B-41CC-BAD0-0406A4695C2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oft_hard" descr=""/>
          <p:cNvPicPr/>
          <p:nvPr/>
        </p:nvPicPr>
        <p:blipFill>
          <a:blip r:embed="rId1"/>
          <a:stretch/>
        </p:blipFill>
        <p:spPr>
          <a:xfrm>
            <a:off x="0" y="2057400"/>
            <a:ext cx="327672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312408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70120" y="457200"/>
            <a:ext cx="47876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dels (hydro/recombination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ets/fra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16080" y="1982880"/>
            <a:ext cx="3124440" cy="4189320"/>
            <a:chOff x="3016080" y="1982880"/>
            <a:chExt cx="3124440" cy="418932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16080" y="1982880"/>
              <a:ext cx="3124440" cy="41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016080" y="1982880"/>
              <a:ext cx="3124440" cy="41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203840" y="182880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ydro+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7400" y="18288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recomb.+frag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2895480"/>
            <a:ext cx="1752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hydro: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572000"/>
            <a:ext cx="137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jets: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82840" y="3809880"/>
            <a:ext cx="645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15240" y="182880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 toy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2400" y="5943600"/>
            <a:ext cx="9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GeV/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5505480" y="2305800"/>
            <a:ext cx="1584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dn/d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arb.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74400" y="380880"/>
            <a:ext cx="21495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soft had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) amount of 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3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nergy loss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mond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494-F77A-4531-AEC9-38E3F4EB01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est_pair" descr=""/>
          <p:cNvPicPr/>
          <p:nvPr/>
        </p:nvPicPr>
        <p:blipFill>
          <a:blip r:embed="rId1"/>
          <a:stretch/>
        </p:blipFill>
        <p:spPr>
          <a:xfrm>
            <a:off x="0" y="11430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174" name="flow_jet_v2" descr=""/>
          <p:cNvPicPr/>
          <p:nvPr/>
        </p:nvPicPr>
        <p:blipFill>
          <a:blip r:embed="rId2"/>
          <a:stretch/>
        </p:blipFill>
        <p:spPr>
          <a:xfrm>
            <a:off x="4019400" y="1066680"/>
            <a:ext cx="5124600" cy="507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15440" y="1752480"/>
            <a:ext cx="7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15320" y="4114800"/>
            <a:ext cx="59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15920" y="2833560"/>
            <a:ext cx="64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47920" y="3824280"/>
            <a:ext cx="64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4120" y="2666880"/>
            <a:ext cx="61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ff00"/>
                </a:solidFill>
                <a:latin typeface="Verdana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210520" y="274320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620120" y="425448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0560" y="2057400"/>
            <a:ext cx="1326600" cy="520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ts like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48760" y="4800600"/>
            <a:ext cx="1287000" cy="520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ke (90d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ay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48000" y="9144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21800" y="510552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.p. 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71080" y="914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3D3-F60B-47B1-9CC0-8D6066EACD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19640" y="735120"/>
            <a:ext cx="3133800" cy="5302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57680" y="762120"/>
            <a:ext cx="3130200" cy="5333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360" y="760320"/>
            <a:ext cx="3124080" cy="5326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84640" y="380880"/>
            <a:ext cx="11818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57800" y="1143000"/>
            <a:ext cx="74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2952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1295280"/>
            <a:ext cx="47242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1295280"/>
            <a:ext cx="2362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8040" y="4267080"/>
            <a:ext cx="59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66880" y="3655800"/>
            <a:ext cx="304920" cy="7650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419720"/>
            <a:ext cx="167652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419720"/>
            <a:ext cx="41148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77440" y="4915080"/>
            <a:ext cx="875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5680" y="4648320"/>
            <a:ext cx="875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1920" y="3778200"/>
            <a:ext cx="112716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ets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EEB-2535-4993-A297-ADAE63697EA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19640" y="685800"/>
            <a:ext cx="3049560" cy="5292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09960" y="685800"/>
            <a:ext cx="3044880" cy="5181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685800"/>
            <a:ext cx="3051000" cy="5243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60600" y="380880"/>
            <a:ext cx="11818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5960" y="1066680"/>
            <a:ext cx="128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5920" y="1981080"/>
            <a:ext cx="174132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58920" y="4038480"/>
            <a:ext cx="1357200" cy="9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pair 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55880" y="264168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19240" y="4152960"/>
            <a:ext cx="1800" cy="76212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0880" y="1219320"/>
            <a:ext cx="1707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90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ke decay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7400" y="3340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7400" y="3975120"/>
            <a:ext cx="1800" cy="43164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37440" y="36450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7440" y="4280040"/>
            <a:ext cx="1440" cy="43164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3124080"/>
            <a:ext cx="457200" cy="16002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46640" y="3352680"/>
            <a:ext cx="457200" cy="16002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3048120"/>
            <a:ext cx="457200" cy="19810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21440" y="1244520"/>
            <a:ext cx="187956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90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ke decay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duced v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971800"/>
            <a:ext cx="190476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724280" y="2588760"/>
            <a:ext cx="1800" cy="38412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9B0-EF2D-4D52-A282-AA02C14A59E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533520"/>
            <a:ext cx="1676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533520"/>
            <a:ext cx="1676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81080" y="914400"/>
            <a:ext cx="14479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33160" y="990720"/>
            <a:ext cx="144756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447560" y="12952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219320" y="9907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66680" y="12189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81080" y="990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69320" y="7002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Verdana"/>
              </a:rPr>
              <a:t>leading par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82360" y="114300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d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1295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4880" y="457200"/>
            <a:ext cx="27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: Are jets source of v2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: Does reaction z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flowing jet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267440" cy="4184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511960" y="5486400"/>
            <a:ext cx="24890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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4720" y="422928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08400" y="4303440"/>
            <a:ext cx="11430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718240" y="4151160"/>
            <a:ext cx="144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119560" y="4533840"/>
            <a:ext cx="122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9640" y="4151160"/>
            <a:ext cx="4572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94880" y="4673520"/>
            <a:ext cx="4993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7720" y="4305240"/>
            <a:ext cx="7632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22800" y="4076640"/>
            <a:ext cx="22860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8240" y="406404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92640" y="1995480"/>
            <a:ext cx="15354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-plane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06720" y="3367080"/>
            <a:ext cx="1988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out-of-plane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02560" y="2438280"/>
            <a:ext cx="13741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in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32320" y="2666880"/>
            <a:ext cx="6127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13720" y="3911760"/>
            <a:ext cx="152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igger p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sel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gular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5975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400800" y="421632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171840" y="4140360"/>
            <a:ext cx="3049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3911760"/>
            <a:ext cx="45720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3911760"/>
            <a:ext cx="4572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77120" y="4140360"/>
            <a:ext cx="304560" cy="759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523880" y="2895480"/>
            <a:ext cx="1752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hydro: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343400"/>
            <a:ext cx="137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jets: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53640" y="3603600"/>
            <a:ext cx="645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15440" y="5638680"/>
            <a:ext cx="9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GeV/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-394920" y="2996280"/>
            <a:ext cx="1584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dn/d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arb.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486-35AD-4591-AC20-9BF9AE10E50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w workshop, B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3:35:40Z</dcterms:created>
  <dc:creator>江角晋一</dc:creator>
  <dc:description/>
  <dc:language>en-US</dc:language>
  <cp:lastModifiedBy>江角晋一</cp:lastModifiedBy>
  <dcterms:modified xsi:type="dcterms:W3CDTF">2003-11-19T12:59:35Z</dcterms:modified>
  <cp:revision>47</cp:revision>
  <dc:subject/>
  <dc:title>PowerPoint プレゼンテーション</dc:title>
</cp:coreProperties>
</file>