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5.png" ContentType="image/png"/>
  <Override PartName="/ppt/media/image23.png" ContentType="image/png"/>
  <Override PartName="/ppt/media/image22.wmf" ContentType="image/x-wmf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2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78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78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2768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884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62880"/>
            <a:ext cx="29178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62880"/>
            <a:ext cx="29178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883DD-D79B-4941-9FF8-87C77C1DD1D5}" type="slidenum"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884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ngo Saka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8840" cy="443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7480" rIns="874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lation r.p 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BBC_nor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&amp; r.p 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BBC_so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ry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e r.p using B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884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Quark coalescence model is we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Explain the meson and hadron v2 behavi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884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Deuteron v2 is small proton v2 at low pt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V2d(pto) = 2v2p(pt/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p-n coalescence model pred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884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uteron is coalescence of proton and neu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seems lik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884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80 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884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question : Dose charm flow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8840" cy="443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metry of PM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nstalled North and South side of RH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 unit rapidity away from mad rapid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ident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884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8840" cy="443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7480" rIns="874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2e is estimated by subtracting miss ID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8840" cy="443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7480" rIns="874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 conversion &amp; Dalitz decay from pi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seem like that v2e originating from pi0 is not consistent with v2e which is including all electron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atic 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.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od (fitting / &lt;cos2(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8840" cy="443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ular interest because of the contributions from heavy flav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.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8840" cy="443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=N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N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8840" cy="443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4600" rIns="8460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patial anisotro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Thermal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The azimuthal anisotropy of particle emission is sensitive to the early stages of system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Probe of jet quench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Hydro mod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Measurement of identified particle v2 give up much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Information of the collision dynam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8840" cy="443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7480" rIns="874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8840" cy="443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r signal pea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83A1-7E00-45CF-B3C6-C048A1F25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5AC0-ECD8-4FFF-987C-FCC13E7DF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C3A5-3223-4F86-8A66-769EDF062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AF04-4F93-4DD9-B3AF-B6727B904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4063-1F0D-4489-B93E-FC06A8AA5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1EC6-771E-4C99-AC98-2B4EABF04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5C86-B1DC-4424-AE46-9180A554D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5935-6CB2-4770-AF30-B09DBBC2C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7F25-C67D-43C4-B9A1-853AEB7D2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29D6-7A87-4199-85FD-B23A8C64F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2DCF-01AE-4B77-B295-4EBBFC60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4DB4-5858-4C86-8322-CD3EACF5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4B977-A1EE-4DA2-AF16-94ACAD57CCD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9047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Electron and identified hadron v</a:t>
            </a:r>
            <a:r>
              <a:rPr b="0" lang="ja-JP" sz="4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to look for hadronic or partonic origin of elliptic f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18440" y="4572000"/>
            <a:ext cx="3934440" cy="19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        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Shingo Sak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for the PHENIX Collab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        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Univ. of Tsuku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ction plan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5600" y="1905120"/>
            <a:ext cx="22096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rp_dist" descr=""/>
          <p:cNvPicPr/>
          <p:nvPr/>
        </p:nvPicPr>
        <p:blipFill>
          <a:blip r:embed="rId1"/>
          <a:stretch/>
        </p:blipFill>
        <p:spPr>
          <a:xfrm>
            <a:off x="636480" y="2133720"/>
            <a:ext cx="7954920" cy="4267080"/>
          </a:xfrm>
          <a:prstGeom prst="rect">
            <a:avLst/>
          </a:prstGeom>
          <a:ln w="0">
            <a:noFill/>
          </a:ln>
        </p:spPr>
      </p:pic>
      <p:pic>
        <p:nvPicPr>
          <p:cNvPr id="159" name="c1" descr=""/>
          <p:cNvPicPr/>
          <p:nvPr/>
        </p:nvPicPr>
        <p:blipFill>
          <a:blip r:embed="rId2"/>
          <a:stretch/>
        </p:blipFill>
        <p:spPr>
          <a:xfrm>
            <a:off x="712800" y="2133720"/>
            <a:ext cx="3886200" cy="43434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84200" y="2057400"/>
            <a:ext cx="152388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99000" y="2133720"/>
            <a:ext cx="152388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180280" y="2209680"/>
            <a:ext cx="30492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065480" y="2133720"/>
            <a:ext cx="53352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60920" y="2209680"/>
            <a:ext cx="2499120" cy="991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r.p re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&lt;cos(2(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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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Arial"/>
              </a:rPr>
              <a:t>real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))&g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= {&lt;cos(2(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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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))&gt;}</a:t>
            </a:r>
            <a:r>
              <a:rPr b="1" lang="en-US" sz="1800" spc="-1" strike="noStrike" baseline="30000">
                <a:solidFill>
                  <a:srgbClr val="3333cc"/>
                </a:solidFill>
                <a:latin typeface="Arial"/>
              </a:rPr>
              <a:t>1/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8480" y="1981080"/>
            <a:ext cx="4082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Correlation r.p 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ＭＳ Ｐ明朝"/>
              </a:rPr>
              <a:t>BBC_north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&amp; r.p 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ＭＳ Ｐ明朝"/>
              </a:rPr>
              <a:t>BBC_sou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15920" y="618804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Centrality [%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002000" y="3376440"/>
            <a:ext cx="2100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v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 =v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Arial"/>
              </a:rPr>
              <a:t>2 </a:t>
            </a:r>
            <a:r>
              <a:rPr b="1" lang="en-US" sz="1600" spc="-1" strike="noStrike" baseline="30000">
                <a:solidFill>
                  <a:srgbClr val="3333cc"/>
                </a:solidFill>
                <a:latin typeface="Arial"/>
              </a:rPr>
              <a:t>obs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 / re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52880" y="557856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cent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391520" y="5578560"/>
            <a:ext cx="132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periph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5360" y="1219320"/>
            <a:ext cx="518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ＭＳ Ｐ明朝"/>
              </a:rPr>
              <a:t>Determine r.p using BBC north and sou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277480" y="228600"/>
            <a:ext cx="86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Page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Times New Roman"/>
              </a:rPr>
              <a:t>Comparison with hydro mod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v2_pt" descr=""/>
          <p:cNvPicPr/>
          <p:nvPr/>
        </p:nvPicPr>
        <p:blipFill>
          <a:blip r:embed="rId1"/>
          <a:srcRect l="4548" t="6861" r="26767" b="5558"/>
          <a:stretch/>
        </p:blipFill>
        <p:spPr>
          <a:xfrm>
            <a:off x="4572000" y="1676520"/>
            <a:ext cx="4114800" cy="43434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&lt; 2.0 GeV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Clear mass depen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) &gt; 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(K) &gt; 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(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Consistent with </a:t>
            </a: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hydrodynamical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&gt; 2.0 GeV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lang="ja-JP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(p) &gt; v</a:t>
            </a:r>
            <a:r>
              <a:rPr b="1" lang="ja-JP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ja-JP" sz="2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Clear departure from hydrodynamical behavior is obser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Saturation at intermediate p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389800" y="1522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page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Times New Roman"/>
              </a:rPr>
              <a:t>Quark coalescence mod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762120" y="2209680"/>
                <a:ext cx="3025800" cy="101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,M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≈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,q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/2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,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≈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,q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/3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78" name="" descr=""/>
          <p:cNvPicPr/>
          <p:nvPr/>
        </p:nvPicPr>
        <p:blipFill>
          <a:blip r:embed="rId1"/>
          <a:srcRect l="20189" t="23181" r="21482" b="47276"/>
          <a:stretch/>
        </p:blipFill>
        <p:spPr>
          <a:xfrm>
            <a:off x="3581280" y="3429000"/>
            <a:ext cx="5105520" cy="3124080"/>
          </a:xfrm>
          <a:prstGeom prst="rect">
            <a:avLst/>
          </a:prstGeom>
          <a:ln w="0">
            <a:noFill/>
          </a:ln>
        </p:spPr>
      </p:pic>
      <p:pic>
        <p:nvPicPr>
          <p:cNvPr id="179" name="v2_pt" descr=""/>
          <p:cNvPicPr/>
          <p:nvPr/>
        </p:nvPicPr>
        <p:blipFill>
          <a:blip r:embed="rId2"/>
          <a:srcRect l="4548" t="6861" r="26767" b="5558"/>
          <a:stretch/>
        </p:blipFill>
        <p:spPr>
          <a:xfrm>
            <a:off x="4419720" y="990720"/>
            <a:ext cx="4267080" cy="25905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79440" y="1523880"/>
            <a:ext cx="34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  <a:ea typeface="ＭＳ Ｐ明朝"/>
              </a:rPr>
              <a:t>Quark coalescenc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4038480"/>
            <a:ext cx="1066680" cy="2438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3809880"/>
            <a:ext cx="3733920" cy="24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Quark coalescence model does well explain the meson and hadron 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  <a:ea typeface="ＭＳ Ｐ明朝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    </a:t>
            </a:r>
            <a:r>
              <a:rPr b="1" lang="ja-JP" sz="2400" spc="-1" strike="noStrike">
                <a:solidFill>
                  <a:srgbClr val="ff0000"/>
                </a:solidFill>
                <a:latin typeface="Times New Roman"/>
                <a:ea typeface="ＭＳ Ｐ明朝"/>
              </a:rPr>
              <a:t>v</a:t>
            </a:r>
            <a:r>
              <a:rPr b="1" lang="ja-JP" sz="2400" spc="-1" strike="noStrike" baseline="-25000">
                <a:solidFill>
                  <a:srgbClr val="ff0000"/>
                </a:solidFill>
                <a:latin typeface="Times New Roman"/>
                <a:ea typeface="ＭＳ Ｐ明朝"/>
              </a:rPr>
              <a:t>2</a:t>
            </a:r>
            <a:r>
              <a:rPr b="1" lang="ja-JP" sz="2400" spc="-1" strike="noStrike">
                <a:solidFill>
                  <a:srgbClr val="ff0000"/>
                </a:solidFill>
                <a:latin typeface="Times New Roman"/>
                <a:ea typeface="ＭＳ Ｐ明朝"/>
              </a:rPr>
              <a:t>(</a:t>
            </a:r>
            <a:r>
              <a:rPr b="1" lang="ja-JP" sz="2400" spc="-1" strike="noStrike">
                <a:solidFill>
                  <a:srgbClr val="ff0000"/>
                </a:solidFill>
                <a:latin typeface="Times New Roman"/>
                <a:ea typeface="ＭＳ Ｐ明朝"/>
              </a:rPr>
              <a:t>ｂ</a:t>
            </a:r>
            <a:r>
              <a:rPr b="1" lang="ja-JP" sz="2400" spc="-1" strike="noStrike">
                <a:solidFill>
                  <a:srgbClr val="ff0000"/>
                </a:solidFill>
                <a:latin typeface="Times New Roman"/>
                <a:ea typeface="ＭＳ Ｐ明朝"/>
              </a:rPr>
              <a:t>) &gt; v</a:t>
            </a:r>
            <a:r>
              <a:rPr b="1" lang="ja-JP" sz="2400" spc="-1" strike="noStrike" baseline="-25000">
                <a:solidFill>
                  <a:srgbClr val="ff0000"/>
                </a:solidFill>
                <a:latin typeface="Times New Roman"/>
                <a:ea typeface="ＭＳ Ｐ明朝"/>
              </a:rPr>
              <a:t>2</a:t>
            </a:r>
            <a:r>
              <a:rPr b="1" lang="ja-JP" sz="2400" spc="-1" strike="noStrike">
                <a:solidFill>
                  <a:srgbClr val="ff0000"/>
                </a:solidFill>
                <a:latin typeface="Times New Roman"/>
                <a:ea typeface="ＭＳ Ｐ明朝"/>
              </a:rPr>
              <a:t>(</a:t>
            </a:r>
            <a:r>
              <a:rPr b="1" lang="ja-JP" sz="2400" spc="-1" strike="noStrike">
                <a:solidFill>
                  <a:srgbClr val="ff0000"/>
                </a:solidFill>
                <a:latin typeface="Symbol"/>
                <a:ea typeface="Symbol"/>
              </a:rPr>
              <a:t>ｍ</a:t>
            </a:r>
            <a:r>
              <a:rPr b="1" lang="ja-JP" sz="2400" spc="-1" strike="noStrike">
                <a:solidFill>
                  <a:srgbClr val="ff0000"/>
                </a:solidFill>
                <a:latin typeface="Times New Roman"/>
                <a:ea typeface="ＭＳ Ｐ明朝"/>
              </a:rPr>
              <a:t>)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@ high p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  <a:ea typeface="ＭＳ Ｐ明朝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08200" y="6276960"/>
            <a:ext cx="256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. Molnar,  S.A. Voloshin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nucl-th/03020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23160" y="106668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nucl-ex/0305013 (PHENI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154720" y="2286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page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Times New Roman"/>
              </a:rPr>
              <a:t>How about heavier particle ?</a:t>
            </a:r>
            <a:br>
              <a:rPr sz="4800"/>
            </a:br>
            <a:r>
              <a:rPr b="0" lang="ja-JP" sz="4800" spc="-1" strike="noStrike">
                <a:solidFill>
                  <a:srgbClr val="000000"/>
                </a:solidFill>
                <a:latin typeface="Times New Roman"/>
              </a:rPr>
              <a:t>(deuteron v</a:t>
            </a:r>
            <a:r>
              <a:rPr b="0" lang="ja-JP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4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v2_pt_deutron" descr=""/>
          <p:cNvPicPr/>
          <p:nvPr/>
        </p:nvPicPr>
        <p:blipFill>
          <a:blip r:embed="rId1"/>
          <a:srcRect l="5555" t="6861" r="27779" b="5558"/>
          <a:stretch/>
        </p:blipFill>
        <p:spPr>
          <a:xfrm>
            <a:off x="4800600" y="2057400"/>
            <a:ext cx="3602160" cy="36576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800600" y="5638680"/>
            <a:ext cx="4343400" cy="8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ＭＳ Ｐ明朝"/>
              </a:rPr>
              <a:t>Clear mass dependence at low pt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deuteron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ＭＳ Ｐ明朝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is smaller than  proton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ＭＳ Ｐ明朝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105520"/>
            <a:ext cx="38102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ＭＳ Ｐ明朝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of d+d-bar is estimated by subtracting background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066680" y="5867280"/>
                <a:ext cx="25909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N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corr</m:t>
                            </m:r>
                          </m:sup>
                        </m:sSup>
                      </m:num>
                      <m:den>
                        <m:r>
                          <m:t xml:space="preserve">dφ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N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cand</m:t>
                            </m:r>
                          </m:sup>
                        </m:sSup>
                      </m:num>
                      <m:den>
                        <m:r>
                          <m:t xml:space="preserve">dφ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N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bg</m:t>
                            </m:r>
                          </m:sup>
                        </m:sSup>
                      </m:num>
                      <m:den>
                        <m:r>
                          <m:t xml:space="preserve">dφ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91" name="mass_dis" descr=""/>
          <p:cNvPicPr/>
          <p:nvPr/>
        </p:nvPicPr>
        <p:blipFill>
          <a:blip r:embed="rId2"/>
          <a:stretch/>
        </p:blipFill>
        <p:spPr>
          <a:xfrm>
            <a:off x="304920" y="2057400"/>
            <a:ext cx="3657600" cy="31240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480" y="1905120"/>
            <a:ext cx="3353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  <a:ea typeface="ＭＳ Ｐ明朝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distribution(1.0&lt;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ＭＳ Ｐ明朝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(GeV/c)&lt;2.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31280" y="4876920"/>
            <a:ext cx="147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mass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  <a:ea typeface="ＭＳ Ｐ明朝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[(GeV/c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  <a:ea typeface="ＭＳ Ｐ明朝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)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  <a:ea typeface="ＭＳ Ｐ明朝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0440" y="4267080"/>
            <a:ext cx="1753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Backgr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under exponent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666880" y="2514600"/>
            <a:ext cx="609840" cy="2286000"/>
          </a:xfrm>
          <a:custGeom>
            <a:avLst/>
            <a:gdLst>
              <a:gd name="textAreaLeft" fmla="*/ 0 w 609840"/>
              <a:gd name="textAreaRight" fmla="*/ 220320 w 60984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51720" y="2514600"/>
            <a:ext cx="1654560" cy="697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  <a:ea typeface="ＭＳ Ｐ明朝"/>
              </a:rPr>
              <a:t>d+d-bar candi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  <a:ea typeface="ＭＳ Ｐ明朝"/>
              </a:rPr>
              <a:t>m</a:t>
            </a:r>
            <a:r>
              <a:rPr b="0" lang="en-US" sz="1800" spc="-1" strike="noStrike" baseline="30000">
                <a:solidFill>
                  <a:srgbClr val="ffffcc"/>
                </a:solidFill>
                <a:latin typeface="Times New Roman"/>
                <a:ea typeface="ＭＳ Ｐ明朝"/>
              </a:rPr>
              <a:t>2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  <a:ea typeface="ＭＳ Ｐ明朝"/>
              </a:rPr>
              <a:t>|&lt;1.5σ(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24382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Fit:Gauss+ex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02200" y="2851200"/>
            <a:ext cx="2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40440" y="2286000"/>
            <a:ext cx="159372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mum b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200 Ge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563080" y="1828800"/>
            <a:ext cx="236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ENIX PRELIMI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155080" y="2286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page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-n coalescence mod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0" y="1828800"/>
            <a:ext cx="3962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5638680"/>
            <a:ext cx="4191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534520" y="1752480"/>
            <a:ext cx="304560" cy="4038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workshop_dcoa" descr=""/>
          <p:cNvPicPr/>
          <p:nvPr/>
        </p:nvPicPr>
        <p:blipFill>
          <a:blip r:embed="rId1"/>
          <a:stretch/>
        </p:blipFill>
        <p:spPr>
          <a:xfrm>
            <a:off x="4876920" y="1828800"/>
            <a:ext cx="3886200" cy="44956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4800600" y="1752480"/>
            <a:ext cx="40384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458200" y="1828800"/>
            <a:ext cx="533520" cy="44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6248520"/>
            <a:ext cx="403848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33800" y="1828800"/>
            <a:ext cx="187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ＭＳ Ｐ明朝"/>
              </a:rPr>
              <a:t>v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Times New Roman"/>
                <a:ea typeface="ＭＳ Ｐ明朝"/>
              </a:rPr>
              <a:t>2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imes New Roman"/>
                <a:ea typeface="ＭＳ Ｐ明朝"/>
              </a:rPr>
              <a:t>d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ＭＳ Ｐ明朝"/>
              </a:rPr>
              <a:t>(p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Times New Roman"/>
                <a:ea typeface="ＭＳ Ｐ明朝"/>
              </a:rPr>
              <a:t>t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ＭＳ Ｐ明朝"/>
              </a:rPr>
              <a:t>) = 2v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Times New Roman"/>
                <a:ea typeface="ＭＳ Ｐ明朝"/>
              </a:rPr>
              <a:t>2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imes New Roman"/>
                <a:ea typeface="ＭＳ Ｐ明朝"/>
              </a:rPr>
              <a:t>p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ＭＳ Ｐ明朝"/>
              </a:rPr>
              <a:t>(p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Times New Roman"/>
                <a:ea typeface="ＭＳ Ｐ明朝"/>
              </a:rPr>
              <a:t>t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ＭＳ Ｐ明朝"/>
              </a:rPr>
              <a:t>/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04920" y="1219320"/>
            <a:ext cx="43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uteron production -&gt;final state coalescence of  p(p-bar) and n(n-ba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78680" y="1447920"/>
            <a:ext cx="255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ＭＳ Ｐ明朝"/>
              </a:rPr>
              <a:t>- p,n coalescence predi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914400" y="1981080"/>
                <a:ext cx="276084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f>
                              <m:num>
                                <m:s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p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214" name=""/>
          <p:cNvGraphicFramePr/>
          <p:nvPr/>
        </p:nvGraphicFramePr>
        <p:xfrm>
          <a:off x="380880" y="2819520"/>
          <a:ext cx="4038840" cy="31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2819520"/>
                    <a:ext cx="4038840" cy="31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1060560" y="5943600"/>
            <a:ext cx="3301560" cy="7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d-bar/d ratio vs. 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  <a:ea typeface="ＭＳ Ｐ明朝"/>
              </a:rPr>
              <a:t>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at Au+Au collision a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sqrt(S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  <a:ea typeface="ＭＳ Ｐ明朝"/>
              </a:rPr>
              <a:t>NN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)=200GeV (quark matter 2002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Anuj K. Purwar and Rickard du Rietz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030800" y="5029200"/>
            <a:ext cx="159372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mum b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200 Ge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729320" y="190512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ＭＳ Ｐ明朝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470360" y="5943600"/>
            <a:ext cx="1220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ＭＳ Ｐ明朝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[GeV/c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155080" y="2286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page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Times New Roman"/>
              </a:rPr>
              <a:t>hadron or quark flow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v2_pt_scale_d" descr=""/>
          <p:cNvPicPr/>
          <p:nvPr/>
        </p:nvPicPr>
        <p:blipFill>
          <a:blip r:embed="rId1"/>
          <a:srcRect l="4548" t="6861" r="27779" b="5558"/>
          <a:stretch/>
        </p:blipFill>
        <p:spPr>
          <a:xfrm>
            <a:off x="4876920" y="1828800"/>
            <a:ext cx="3962160" cy="44197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7030800" y="5029200"/>
            <a:ext cx="159372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mum b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200 Ge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40400" y="1447920"/>
            <a:ext cx="4892760" cy="7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Deuteron : coalescence of proton and neutr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But if it’s scaled with quark numbers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・・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04920" y="2666880"/>
            <a:ext cx="4572000" cy="28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Times New Roman"/>
                <a:ea typeface="ＭＳ Ｐ明朝"/>
              </a:rPr>
              <a:t>hadron mass dependence seems to be remaining even after n</a:t>
            </a:r>
            <a:r>
              <a:rPr b="0" lang="ja-JP" sz="2400" spc="-1" strike="noStrike" baseline="-25000">
                <a:solidFill>
                  <a:srgbClr val="ff0000"/>
                </a:solidFill>
                <a:latin typeface="Times New Roman"/>
                <a:ea typeface="ＭＳ Ｐ明朝"/>
              </a:rPr>
              <a:t>quark</a:t>
            </a:r>
            <a:r>
              <a:rPr b="0" lang="ja-JP" sz="2400" spc="-1" strike="noStrike">
                <a:solidFill>
                  <a:srgbClr val="ff0000"/>
                </a:solidFill>
                <a:latin typeface="Times New Roman"/>
                <a:ea typeface="ＭＳ Ｐ明朝"/>
              </a:rPr>
              <a:t> scaling.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It might suggest that there are two different flows (</a:t>
            </a:r>
            <a:r>
              <a:rPr b="0" lang="ja-JP" sz="2400" spc="-1" strike="noStrike">
                <a:solidFill>
                  <a:srgbClr val="ff0000"/>
                </a:solidFill>
                <a:latin typeface="Times New Roman"/>
                <a:ea typeface="ＭＳ Ｐ明朝"/>
              </a:rPr>
              <a:t>quark flow and hadron flow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) before and after phase-transition or chemical freeze-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155080" y="2286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page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Upgrade for identified particle</a:t>
            </a:r>
            <a:r>
              <a:rPr b="0" lang="ja-JP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ja-JP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 at higher p</a:t>
            </a:r>
            <a:r>
              <a:rPr b="0" lang="ja-JP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572000" y="990720"/>
            <a:ext cx="4419720" cy="3493800"/>
          </a:xfrm>
          <a:prstGeom prst="rect">
            <a:avLst/>
          </a:prstGeom>
          <a:ln w="0">
            <a:noFill/>
          </a:ln>
        </p:spPr>
      </p:pic>
      <p:pic>
        <p:nvPicPr>
          <p:cNvPr id="229" name="PID_Aero" descr=""/>
          <p:cNvPicPr/>
          <p:nvPr/>
        </p:nvPicPr>
        <p:blipFill>
          <a:blip r:embed="rId2"/>
          <a:stretch/>
        </p:blipFill>
        <p:spPr>
          <a:xfrm>
            <a:off x="4572000" y="4000680"/>
            <a:ext cx="4572000" cy="28573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87840" y="5867280"/>
            <a:ext cx="4491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Aerogel together with TOF can ext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the PID capability </a:t>
            </a:r>
            <a:r>
              <a:rPr b="1" lang="ja-JP" sz="2000" spc="-1" strike="noStrike">
                <a:solidFill>
                  <a:srgbClr val="ff0000"/>
                </a:solidFill>
                <a:latin typeface="Times New Roman"/>
              </a:rPr>
              <a:t>up to 10 GeV/c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 !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90400" y="969840"/>
            <a:ext cx="1989360" cy="19861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147240" y="762120"/>
            <a:ext cx="1453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Integ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Volu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16000" y="23814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PM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808280" y="873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PM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446560" y="1347840"/>
            <a:ext cx="212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erog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11x22x11 cm^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aerojero" descr=""/>
          <p:cNvPicPr/>
          <p:nvPr/>
        </p:nvPicPr>
        <p:blipFill>
          <a:blip r:embed="rId4"/>
          <a:stretch/>
        </p:blipFill>
        <p:spPr>
          <a:xfrm>
            <a:off x="228600" y="2743200"/>
            <a:ext cx="4343400" cy="30481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20226000">
            <a:off x="4075200" y="2809800"/>
            <a:ext cx="1409760" cy="308160"/>
          </a:xfrm>
          <a:prstGeom prst="rightArrow">
            <a:avLst>
              <a:gd name="adj1" fmla="val 50000"/>
              <a:gd name="adj2" fmla="val 114369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743200" y="609480"/>
            <a:ext cx="2895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run4 Au+A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437560" y="2286000"/>
            <a:ext cx="89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80 bo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155080" y="2286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page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Times New Roman"/>
              </a:rPr>
              <a:t>electron v</a:t>
            </a:r>
            <a:r>
              <a:rPr b="0" lang="ja-JP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y electron v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4572000" y="1066680"/>
            <a:ext cx="4297320" cy="2895840"/>
            <a:chOff x="4572000" y="1066680"/>
            <a:chExt cx="4297320" cy="2895840"/>
          </a:xfrm>
        </p:grpSpPr>
        <p:pic>
          <p:nvPicPr>
            <p:cNvPr id="244" name="cocktail" descr=""/>
            <p:cNvPicPr/>
            <p:nvPr/>
          </p:nvPicPr>
          <p:blipFill>
            <a:blip r:embed="rId1"/>
            <a:stretch/>
          </p:blipFill>
          <p:spPr>
            <a:xfrm>
              <a:off x="4572000" y="1066680"/>
              <a:ext cx="4297320" cy="289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 flipV="1">
              <a:off x="5614920" y="1803240"/>
              <a:ext cx="301680" cy="20016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5719680" y="2001600"/>
              <a:ext cx="300240" cy="199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5824440" y="2251080"/>
              <a:ext cx="462240" cy="277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5970600" y="2498400"/>
              <a:ext cx="669960" cy="3985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6113520" y="2685600"/>
              <a:ext cx="860400" cy="435240"/>
            </a:xfrm>
            <a:prstGeom prst="line">
              <a:avLst/>
            </a:prstGeom>
            <a:ln w="28440">
              <a:solidFill>
                <a:srgbClr val="6666ff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805360" y="1625760"/>
              <a:ext cx="14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</a:t>
              </a:r>
              <a:r>
                <a:rPr b="1" lang="en-US" sz="16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ff00"/>
                  </a:solidFill>
                  <a:latin typeface="Times New Roman"/>
                </a:rPr>
                <a:t>conver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5416560" y="2892240"/>
              <a:ext cx="31680" cy="245880"/>
            </a:xfrm>
            <a:prstGeom prst="line">
              <a:avLst/>
            </a:prstGeom>
            <a:ln w="28440">
              <a:solidFill>
                <a:srgbClr val="666633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113520" y="3462480"/>
              <a:ext cx="279360" cy="12600"/>
            </a:xfrm>
            <a:prstGeom prst="line">
              <a:avLst/>
            </a:prstGeom>
            <a:ln w="28440">
              <a:solidFill>
                <a:srgbClr val="666699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012720" y="1854360"/>
              <a:ext cx="91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</a:t>
              </a:r>
              <a:r>
                <a:rPr b="1" lang="en-US" sz="1600" spc="-1" strike="noStrike" baseline="30000">
                  <a:solidFill>
                    <a:srgbClr val="ff3300"/>
                  </a:solidFill>
                  <a:latin typeface="Times New Roman"/>
                </a:rPr>
                <a:t>0</a:t>
              </a:r>
              <a:r>
                <a:rPr b="1" lang="en-US" sz="16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</a:t>
              </a:r>
              <a:r>
                <a:rPr b="1" lang="en-US" sz="16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</a:t>
              </a:r>
              <a:r>
                <a:rPr b="1" lang="en-US" sz="1600" spc="-1" strike="noStrike">
                  <a:solidFill>
                    <a:srgbClr val="ff3300"/>
                  </a:solidFill>
                  <a:latin typeface="Times New Roman"/>
                </a:rPr>
                <a:t>e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97120" y="2057400"/>
              <a:ext cx="1235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</a:t>
              </a:r>
              <a:r>
                <a:rPr b="1" lang="en-US" sz="16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16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</a:t>
              </a:r>
              <a:r>
                <a:rPr b="1" lang="en-US" sz="1600" spc="-1" strike="noStrike">
                  <a:solidFill>
                    <a:srgbClr val="3333cc"/>
                  </a:solidFill>
                  <a:latin typeface="Times New Roman"/>
                </a:rPr>
                <a:t>ee, 3</a:t>
              </a:r>
              <a:r>
                <a:rPr b="1" lang="en-US" sz="16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</a:t>
              </a:r>
              <a:r>
                <a:rPr b="1" lang="en-US" sz="1600" spc="-1" strike="noStrike" baseline="30000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681960" y="2286000"/>
              <a:ext cx="121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99"/>
                  </a:solidFill>
                  <a:latin typeface="Symbol"/>
                  <a:ea typeface="Symbol"/>
                </a:rPr>
                <a:t></a:t>
              </a:r>
              <a:r>
                <a:rPr b="1" lang="en-US" sz="16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cc99"/>
                  </a:solidFill>
                  <a:latin typeface="Symbol"/>
                  <a:ea typeface="Symbol"/>
                </a:rPr>
                <a:t></a:t>
              </a:r>
              <a:r>
                <a:rPr b="1" lang="en-US" sz="16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cc99"/>
                  </a:solidFill>
                  <a:latin typeface="Times New Roman"/>
                </a:rPr>
                <a:t>ee, </a:t>
              </a:r>
              <a:r>
                <a:rPr b="1" lang="en-US" sz="1600" spc="-1" strike="noStrike">
                  <a:solidFill>
                    <a:srgbClr val="00cc99"/>
                  </a:solidFill>
                  <a:latin typeface="Symbol"/>
                  <a:ea typeface="Symbol"/>
                </a:rPr>
                <a:t></a:t>
              </a:r>
              <a:r>
                <a:rPr b="1" lang="en-US" sz="1600" spc="-1" strike="noStrike" baseline="30000">
                  <a:solidFill>
                    <a:srgbClr val="00cc99"/>
                  </a:solidFill>
                  <a:latin typeface="Times New Roman"/>
                </a:rPr>
                <a:t>0</a:t>
              </a:r>
              <a:r>
                <a:rPr b="1" lang="en-US" sz="1600" spc="-1" strike="noStrike">
                  <a:solidFill>
                    <a:srgbClr val="00cc99"/>
                  </a:solidFill>
                  <a:latin typeface="Times New Roman"/>
                </a:rPr>
                <a:t>e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997320" y="2514600"/>
              <a:ext cx="113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66ff"/>
                  </a:solidFill>
                  <a:latin typeface="Symbol"/>
                  <a:ea typeface="Symbol"/>
                </a:rPr>
                <a:t></a:t>
              </a:r>
              <a:r>
                <a:rPr b="1" lang="en-US" sz="1600" spc="-1" strike="noStrike">
                  <a:solidFill>
                    <a:srgbClr val="6666ff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6666ff"/>
                  </a:solidFill>
                  <a:latin typeface="Symbol"/>
                  <a:ea typeface="Symbol"/>
                </a:rPr>
                <a:t></a:t>
              </a:r>
              <a:r>
                <a:rPr b="1" lang="en-US" sz="1600" spc="-1" strike="noStrike">
                  <a:solidFill>
                    <a:srgbClr val="6666ff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6666ff"/>
                  </a:solidFill>
                  <a:latin typeface="Times New Roman"/>
                </a:rPr>
                <a:t>ee, </a:t>
              </a:r>
              <a:r>
                <a:rPr b="1" lang="en-US" sz="1600" spc="-1" strike="noStrike">
                  <a:solidFill>
                    <a:srgbClr val="6666ff"/>
                  </a:solidFill>
                  <a:latin typeface="Symbol"/>
                  <a:ea typeface="Symbol"/>
                </a:rPr>
                <a:t></a:t>
              </a:r>
              <a:r>
                <a:rPr b="1" lang="en-US" sz="1600" spc="-1" strike="noStrike">
                  <a:solidFill>
                    <a:srgbClr val="6666ff"/>
                  </a:solidFill>
                  <a:latin typeface="Times New Roman"/>
                </a:rPr>
                <a:t>e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157360" y="3084480"/>
              <a:ext cx="73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6633"/>
                  </a:solidFill>
                  <a:latin typeface="Symbol"/>
                  <a:ea typeface="Symbol"/>
                </a:rPr>
                <a:t></a:t>
              </a:r>
              <a:r>
                <a:rPr b="1" lang="en-US" sz="1600" spc="-1" strike="noStrike">
                  <a:solidFill>
                    <a:srgbClr val="666633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666633"/>
                  </a:solidFill>
                  <a:latin typeface="Symbol"/>
                  <a:ea typeface="Symbol"/>
                </a:rPr>
                <a:t></a:t>
              </a:r>
              <a:r>
                <a:rPr b="1" lang="en-US" sz="1600" spc="-1" strike="noStrike">
                  <a:solidFill>
                    <a:srgbClr val="666633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666633"/>
                  </a:solidFill>
                  <a:latin typeface="Times New Roman"/>
                </a:rPr>
                <a:t>e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180400" y="3365640"/>
              <a:ext cx="92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6699"/>
                  </a:solidFill>
                  <a:latin typeface="Symbol"/>
                  <a:ea typeface="Symbol"/>
                </a:rPr>
                <a:t></a:t>
              </a:r>
              <a:r>
                <a:rPr b="1" lang="en-US" sz="1600" spc="-1" strike="noStrike">
                  <a:solidFill>
                    <a:srgbClr val="666699"/>
                  </a:solidFill>
                  <a:latin typeface="Times New Roman"/>
                </a:rPr>
                <a:t>’ </a:t>
              </a:r>
              <a:r>
                <a:rPr b="1" lang="en-US" sz="1600" spc="-1" strike="noStrike">
                  <a:solidFill>
                    <a:srgbClr val="666699"/>
                  </a:solidFill>
                  <a:latin typeface="Symbol"/>
                  <a:ea typeface="Symbol"/>
                </a:rPr>
                <a:t></a:t>
              </a:r>
              <a:r>
                <a:rPr b="1" lang="en-US" sz="1600" spc="-1" strike="noStrike">
                  <a:solidFill>
                    <a:srgbClr val="666699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666699"/>
                  </a:solidFill>
                  <a:latin typeface="Symbol"/>
                  <a:ea typeface="Symbol"/>
                </a:rPr>
                <a:t></a:t>
              </a:r>
              <a:r>
                <a:rPr b="1" lang="en-US" sz="1600" spc="-1" strike="noStrike">
                  <a:solidFill>
                    <a:srgbClr val="666699"/>
                  </a:solidFill>
                  <a:latin typeface="Times New Roman"/>
                </a:rPr>
                <a:t>e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305920" y="3276720"/>
              <a:ext cx="228600" cy="304560"/>
            </a:xfrm>
            <a:prstGeom prst="upArrow">
              <a:avLst>
                <a:gd name="adj1" fmla="val 50000"/>
                <a:gd name="adj2" fmla="val 33307"/>
              </a:avLst>
            </a:prstGeom>
            <a:solidFill>
              <a:srgbClr val="ff00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DNP_cratio" descr=""/>
          <p:cNvPicPr/>
          <p:nvPr/>
        </p:nvPicPr>
        <p:blipFill>
          <a:blip r:embed="rId2"/>
          <a:stretch/>
        </p:blipFill>
        <p:spPr>
          <a:xfrm>
            <a:off x="3809880" y="3886200"/>
            <a:ext cx="5943600" cy="29718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4876920" y="4114800"/>
            <a:ext cx="152280" cy="2743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173920" y="4267080"/>
            <a:ext cx="297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0000"/>
                </a:solidFill>
                <a:latin typeface="Times New Roman"/>
                <a:ea typeface="ＭＳ Ｐ明朝"/>
              </a:rPr>
              <a:t>inclusive electron / hadronic cock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0880" y="2057400"/>
            <a:ext cx="4038840" cy="10087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Clear excess above 1 GeV/c with respect  to photon conversion and light hadron dec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04920" y="3733920"/>
            <a:ext cx="3962160" cy="11041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The subtracted electron single spectra is consistent with ch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decay (binary scaled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1120" y="5334120"/>
            <a:ext cx="452556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entury"/>
                <a:ea typeface="ＭＳ 明朝"/>
              </a:rPr>
              <a:t>“</a:t>
            </a:r>
            <a:r>
              <a:rPr b="1" lang="en-US" sz="2000" spc="-1" strike="noStrike">
                <a:solidFill>
                  <a:srgbClr val="ff3300"/>
                </a:solidFill>
                <a:latin typeface="Century"/>
                <a:ea typeface="ＭＳ 明朝"/>
              </a:rPr>
              <a:t>The high p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Century"/>
                <a:ea typeface="ＭＳ 明朝"/>
              </a:rPr>
              <a:t>t </a:t>
            </a:r>
            <a:r>
              <a:rPr b="1" lang="en-US" sz="2000" spc="-1" strike="noStrike">
                <a:solidFill>
                  <a:srgbClr val="ff3300"/>
                </a:solidFill>
                <a:latin typeface="Century"/>
                <a:ea typeface="ＭＳ 明朝"/>
              </a:rPr>
              <a:t>electron v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Century"/>
                <a:ea typeface="ＭＳ 明朝"/>
              </a:rPr>
              <a:t>2</a:t>
            </a:r>
            <a:r>
              <a:rPr b="1" lang="en-US" sz="2000" spc="-1" strike="noStrike">
                <a:solidFill>
                  <a:srgbClr val="ff3300"/>
                </a:solidFill>
                <a:latin typeface="Century"/>
                <a:ea typeface="ＭＳ 明朝"/>
              </a:rPr>
              <a:t> can car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entury"/>
                <a:ea typeface="ＭＳ 明朝"/>
              </a:rPr>
              <a:t>information about the anisotrop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entury"/>
                <a:ea typeface="ＭＳ 明朝"/>
              </a:rPr>
              <a:t>of the parent charmed mesons.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ＭＳ Ｐ明朝"/>
              </a:rPr>
              <a:t> 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114800" y="32004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572000" y="990720"/>
            <a:ext cx="4343400" cy="5714640"/>
            <a:chOff x="4572000" y="990720"/>
            <a:chExt cx="4343400" cy="5714640"/>
          </a:xfrm>
        </p:grpSpPr>
        <p:pic>
          <p:nvPicPr>
            <p:cNvPr id="268" name="fig3" descr=""/>
            <p:cNvPicPr/>
            <p:nvPr/>
          </p:nvPicPr>
          <p:blipFill>
            <a:blip r:embed="rId3"/>
            <a:stretch/>
          </p:blipFill>
          <p:spPr>
            <a:xfrm>
              <a:off x="4572000" y="990720"/>
              <a:ext cx="4343400" cy="5714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9" name=""/>
            <p:cNvGrpSpPr/>
            <p:nvPr/>
          </p:nvGrpSpPr>
          <p:grpSpPr>
            <a:xfrm>
              <a:off x="5045040" y="2316240"/>
              <a:ext cx="3099240" cy="3799080"/>
              <a:chOff x="5045040" y="2316240"/>
              <a:chExt cx="3099240" cy="3799080"/>
            </a:xfrm>
          </p:grpSpPr>
          <p:sp>
            <p:nvSpPr>
              <p:cNvPr id="270" name=""/>
              <p:cNvSpPr/>
              <p:nvPr/>
            </p:nvSpPr>
            <p:spPr>
              <a:xfrm>
                <a:off x="5045040" y="4175280"/>
                <a:ext cx="7934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 flipV="1">
                <a:off x="5239440" y="2316240"/>
                <a:ext cx="2160" cy="1920600"/>
              </a:xfrm>
              <a:prstGeom prst="line">
                <a:avLst/>
              </a:prstGeom>
              <a:ln w="31680">
                <a:solidFill>
                  <a:srgbClr val="99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5251680" y="3243240"/>
                <a:ext cx="117000" cy="976320"/>
              </a:xfrm>
              <a:prstGeom prst="line">
                <a:avLst/>
              </a:prstGeom>
              <a:ln w="31680">
                <a:solidFill>
                  <a:srgbClr val="99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256720" y="4545000"/>
                <a:ext cx="50760" cy="520920"/>
              </a:xfrm>
              <a:prstGeom prst="line">
                <a:avLst/>
              </a:prstGeom>
              <a:ln w="31680">
                <a:solidFill>
                  <a:srgbClr val="99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261400" y="5503320"/>
                <a:ext cx="2527560" cy="43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996600"/>
                    </a:solidFill>
                    <a:latin typeface="Times New Roman"/>
                  </a:rPr>
                  <a:t>direct </a:t>
                </a:r>
                <a:r>
                  <a:rPr b="1" lang="en-US" sz="1600" spc="-1" strike="noStrike">
                    <a:solidFill>
                      <a:srgbClr val="996600"/>
                    </a:solidFill>
                    <a:latin typeface="Symbol"/>
                    <a:ea typeface="Symbol"/>
                  </a:rPr>
                  <a:t>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6600"/>
                    </a:solidFill>
                    <a:latin typeface="Times New Roman"/>
                  </a:rPr>
                  <a:t>(J</a:t>
                </a:r>
                <a:r>
                  <a:rPr b="1" lang="en-US" sz="700" spc="-1" strike="noStrike">
                    <a:solidFill>
                      <a:srgbClr val="996600"/>
                    </a:solidFill>
                    <a:latin typeface="Times New Roman"/>
                  </a:rPr>
                  <a:t>.</a:t>
                </a:r>
                <a:r>
                  <a:rPr b="1" lang="en-US" sz="1200" spc="-1" strike="noStrike">
                    <a:solidFill>
                      <a:srgbClr val="996600"/>
                    </a:solidFill>
                    <a:latin typeface="Times New Roman"/>
                  </a:rPr>
                  <a:t> Alam et al. PRC 63(2001)021901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5723640" y="4384080"/>
                <a:ext cx="416160" cy="1176120"/>
              </a:xfrm>
              <a:prstGeom prst="line">
                <a:avLst/>
              </a:prstGeom>
              <a:ln w="31680">
                <a:solidFill>
                  <a:srgbClr val="99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>
                <a:off x="5053680" y="4477680"/>
                <a:ext cx="19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990099"/>
                    </a:solidFill>
                    <a:latin typeface="Times New Roman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>
                <a:off x="5047200" y="3502080"/>
                <a:ext cx="200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990099"/>
                    </a:solidFill>
                    <a:latin typeface="Times New Roman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533920" y="3535200"/>
                <a:ext cx="2610360" cy="2580120"/>
              </a:xfrm>
              <a:custGeom>
                <a:avLst/>
                <a:gdLst/>
                <a:ahLst/>
                <a:rect l="l" t="t" r="r" b="b"/>
                <a:pathLst>
                  <a:path w="2145" h="1158">
                    <a:moveTo>
                      <a:pt x="0" y="0"/>
                    </a:moveTo>
                    <a:cubicBezTo>
                      <a:pt x="73" y="55"/>
                      <a:pt x="146" y="110"/>
                      <a:pt x="183" y="138"/>
                    </a:cubicBezTo>
                    <a:cubicBezTo>
                      <a:pt x="220" y="166"/>
                      <a:pt x="204" y="153"/>
                      <a:pt x="225" y="168"/>
                    </a:cubicBezTo>
                    <a:cubicBezTo>
                      <a:pt x="246" y="183"/>
                      <a:pt x="259" y="193"/>
                      <a:pt x="312" y="228"/>
                    </a:cubicBezTo>
                    <a:cubicBezTo>
                      <a:pt x="365" y="263"/>
                      <a:pt x="480" y="338"/>
                      <a:pt x="543" y="378"/>
                    </a:cubicBezTo>
                    <a:cubicBezTo>
                      <a:pt x="606" y="418"/>
                      <a:pt x="640" y="436"/>
                      <a:pt x="693" y="468"/>
                    </a:cubicBezTo>
                    <a:cubicBezTo>
                      <a:pt x="746" y="500"/>
                      <a:pt x="816" y="544"/>
                      <a:pt x="864" y="573"/>
                    </a:cubicBezTo>
                    <a:cubicBezTo>
                      <a:pt x="912" y="602"/>
                      <a:pt x="938" y="615"/>
                      <a:pt x="984" y="642"/>
                    </a:cubicBezTo>
                    <a:cubicBezTo>
                      <a:pt x="1030" y="669"/>
                      <a:pt x="1082" y="701"/>
                      <a:pt x="1140" y="732"/>
                    </a:cubicBezTo>
                    <a:cubicBezTo>
                      <a:pt x="1198" y="763"/>
                      <a:pt x="1273" y="802"/>
                      <a:pt x="1329" y="831"/>
                    </a:cubicBezTo>
                    <a:cubicBezTo>
                      <a:pt x="1385" y="860"/>
                      <a:pt x="1424" y="879"/>
                      <a:pt x="1479" y="906"/>
                    </a:cubicBezTo>
                    <a:cubicBezTo>
                      <a:pt x="1534" y="933"/>
                      <a:pt x="1599" y="964"/>
                      <a:pt x="1659" y="993"/>
                    </a:cubicBezTo>
                    <a:cubicBezTo>
                      <a:pt x="1719" y="1022"/>
                      <a:pt x="1795" y="1060"/>
                      <a:pt x="1842" y="1080"/>
                    </a:cubicBezTo>
                    <a:cubicBezTo>
                      <a:pt x="1889" y="1100"/>
                      <a:pt x="1913" y="1103"/>
                      <a:pt x="1944" y="1113"/>
                    </a:cubicBezTo>
                    <a:cubicBezTo>
                      <a:pt x="1975" y="1123"/>
                      <a:pt x="2004" y="1131"/>
                      <a:pt x="2028" y="1137"/>
                    </a:cubicBezTo>
                    <a:cubicBezTo>
                      <a:pt x="2052" y="1143"/>
                      <a:pt x="2069" y="1146"/>
                      <a:pt x="2088" y="1149"/>
                    </a:cubicBezTo>
                    <a:cubicBezTo>
                      <a:pt x="2107" y="1152"/>
                      <a:pt x="2126" y="1155"/>
                      <a:pt x="2145" y="1158"/>
                    </a:cubicBezTo>
                  </a:path>
                </a:pathLst>
              </a:custGeom>
              <a:noFill/>
              <a:ln w="1908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>
              <a:off x="6257160" y="1097640"/>
              <a:ext cx="1846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708840" y="1568520"/>
            <a:ext cx="303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PHENIX: PRL 88(2002)1923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10920" y="1265400"/>
            <a:ext cx="188316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ＭＳ Ｐ明朝"/>
              </a:rPr>
              <a:t>From Run1 res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155080" y="2286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page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ctron measurement at PHENI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88320" y="1981080"/>
            <a:ext cx="3158640" cy="26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0000"/>
                </a:solidFill>
                <a:latin typeface="Times New Roman"/>
                <a:ea typeface="ＭＳ Ｐ明朝"/>
              </a:rPr>
              <a:t>Electrons are identified a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0000"/>
                </a:solidFill>
                <a:latin typeface="Times New Roman"/>
                <a:ea typeface="ＭＳ Ｐ明朝"/>
              </a:rPr>
              <a:t>Cherenkov right in RI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   </a:t>
            </a:r>
            <a:r>
              <a:rPr b="0" lang="ja-JP" sz="2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- p</a:t>
            </a:r>
            <a:r>
              <a:rPr b="0" lang="ja-JP" sz="2200" spc="-1" strike="noStrike" baseline="-25000">
                <a:solidFill>
                  <a:srgbClr val="000000"/>
                </a:solidFill>
                <a:latin typeface="Times New Roman"/>
                <a:ea typeface="ＭＳ Ｐ明朝"/>
              </a:rPr>
              <a:t>t   </a:t>
            </a:r>
            <a:r>
              <a:rPr b="0" lang="ja-JP" sz="2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0.2~4.9 GeV/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</a:t>
            </a:r>
            <a:r>
              <a:rPr b="0" lang="ja-JP" sz="2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Number of hit PM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</a:t>
            </a:r>
            <a:r>
              <a:rPr b="0" lang="ja-JP" sz="2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Ring sha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</a:t>
            </a:r>
            <a:r>
              <a:rPr b="0" lang="ja-JP" sz="2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E,p match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486600" y="1600200"/>
            <a:ext cx="6261480" cy="7172280"/>
            <a:chOff x="3486600" y="1600200"/>
            <a:chExt cx="6261480" cy="7172280"/>
          </a:xfrm>
        </p:grpSpPr>
        <p:pic>
          <p:nvPicPr>
            <p:cNvPr id="286" name="RICH_prev" descr=""/>
            <p:cNvPicPr/>
            <p:nvPr/>
          </p:nvPicPr>
          <p:blipFill>
            <a:blip r:embed="rId1"/>
            <a:stretch/>
          </p:blipFill>
          <p:spPr>
            <a:xfrm>
              <a:off x="4986000" y="1798200"/>
              <a:ext cx="3321720" cy="460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 flipH="1">
              <a:off x="5605920" y="2633400"/>
              <a:ext cx="4142160" cy="613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272" y="101"/>
                  </a:moveTo>
                  <a:arcTo wR="10800" hR="10800" stAng="-4930135" swAng="13703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2272" y="101"/>
                  </a:moveTo>
                  <a:arcTo wR="10800" hR="10800" stAng="-4930135" swAng="1370304"/>
                </a:path>
              </a:pathLst>
            </a:custGeom>
            <a:noFill/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486600" y="2637720"/>
              <a:ext cx="4142160" cy="613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272" y="101"/>
                  </a:moveTo>
                  <a:arcTo wR="10800" hR="10800" stAng="-4930135" swAng="13703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2272" y="101"/>
                  </a:moveTo>
                  <a:arcTo wR="10800" hR="10800" stAng="-4930135" swAng="1370304"/>
                </a:path>
              </a:pathLst>
            </a:custGeom>
            <a:noFill/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772040" y="1600200"/>
              <a:ext cx="114300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000" spc="-1" strike="noStrike">
                  <a:solidFill>
                    <a:srgbClr val="808080"/>
                  </a:solidFill>
                  <a:latin typeface="Times New Roman"/>
                </a:rPr>
                <a:t>Cerenkov photons from e</a:t>
              </a:r>
              <a:r>
                <a:rPr b="1" lang="ja-JP" sz="1000" spc="-1" strike="noStrike" baseline="30000">
                  <a:solidFill>
                    <a:srgbClr val="808080"/>
                  </a:solidFill>
                  <a:latin typeface="Times New Roman"/>
                </a:rPr>
                <a:t>+ </a:t>
              </a:r>
              <a:r>
                <a:rPr b="1" lang="ja-JP" sz="1000" spc="-1" strike="noStrike">
                  <a:solidFill>
                    <a:srgbClr val="808080"/>
                  </a:solidFill>
                  <a:latin typeface="Times New Roman"/>
                </a:rPr>
                <a:t>or e</a:t>
              </a:r>
              <a:r>
                <a:rPr b="1" lang="ja-JP" sz="1000" spc="-1" strike="noStrike" baseline="30000">
                  <a:solidFill>
                    <a:srgbClr val="808080"/>
                  </a:solidFill>
                  <a:latin typeface="Times New Roman"/>
                </a:rPr>
                <a:t>-</a:t>
              </a:r>
              <a:r>
                <a:rPr b="1" lang="ja-JP" sz="1000" spc="-1" strike="noStrike">
                  <a:solidFill>
                    <a:srgbClr val="808080"/>
                  </a:solidFill>
                  <a:latin typeface="Times New Roman"/>
                </a:rPr>
                <a:t>  are detected by array of PM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400080" y="1878840"/>
              <a:ext cx="484920" cy="36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cc99"/>
                  </a:solidFill>
                  <a:latin typeface="Times New Roman"/>
                </a:rPr>
                <a:t>mirr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6269040" y="2259720"/>
              <a:ext cx="249480" cy="575280"/>
            </a:xfrm>
            <a:prstGeom prst="line">
              <a:avLst/>
            </a:prstGeom>
            <a:ln w="93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711120" y="2268360"/>
              <a:ext cx="199440" cy="5216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962040" y="2608560"/>
              <a:ext cx="942120" cy="49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7633440" y="2703600"/>
              <a:ext cx="369000" cy="38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343400" y="1701000"/>
              <a:ext cx="1248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000" spc="-1" strike="noStrike">
                  <a:solidFill>
                    <a:srgbClr val="000000"/>
                  </a:solidFill>
                  <a:latin typeface="Times New Roman"/>
                </a:rPr>
                <a:t>Most hadrons do not emit Cerenkov ligh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044320" y="2245680"/>
              <a:ext cx="976320" cy="91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53320" y="2206440"/>
              <a:ext cx="1155960" cy="84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118840" y="2210760"/>
              <a:ext cx="1751400" cy="122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141160" y="2173320"/>
              <a:ext cx="1289880" cy="83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772040" y="4371480"/>
              <a:ext cx="1101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000" spc="-1" strike="noStrike">
                  <a:solidFill>
                    <a:srgbClr val="000000"/>
                  </a:solidFill>
                  <a:latin typeface="Times New Roman"/>
                </a:rPr>
                <a:t>Electrons emit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000" spc="-1" strike="noStrike">
                  <a:solidFill>
                    <a:srgbClr val="000000"/>
                  </a:solidFill>
                  <a:latin typeface="Times New Roman"/>
                </a:rPr>
                <a:t>Cerenkov photon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000" spc="-1" strike="noStrike">
                  <a:solidFill>
                    <a:srgbClr val="000000"/>
                  </a:solidFill>
                  <a:latin typeface="Times New Roman"/>
                </a:rPr>
                <a:t>in RICH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 flipV="1">
              <a:off x="6744960" y="3538080"/>
              <a:ext cx="1191960" cy="81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 flipV="1">
              <a:off x="7151040" y="3509280"/>
              <a:ext cx="808200" cy="71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709680" y="4538520"/>
              <a:ext cx="900360" cy="32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cc99"/>
                  </a:solidFill>
                  <a:latin typeface="Times New Roman"/>
                </a:rPr>
                <a:t>Central Magn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451760" y="2608560"/>
              <a:ext cx="750240" cy="28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000" spc="-1" strike="noStrike">
                  <a:solidFill>
                    <a:srgbClr val="00cc99"/>
                  </a:solidFill>
                  <a:latin typeface="Times New Roman"/>
                </a:rPr>
                <a:t>ＲＩＣＨ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872960" y="2885040"/>
              <a:ext cx="313920" cy="238680"/>
            </a:xfrm>
            <a:prstGeom prst="line">
              <a:avLst/>
            </a:prstGeom>
            <a:ln w="93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831800" y="3787920"/>
              <a:ext cx="763200" cy="267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cc99"/>
                  </a:solidFill>
                  <a:latin typeface="Times New Roman"/>
                </a:rPr>
                <a:t>PMT arr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502520" y="3806640"/>
              <a:ext cx="763200" cy="267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cc99"/>
                  </a:solidFill>
                  <a:latin typeface="Times New Roman"/>
                </a:rPr>
                <a:t>PMT arr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8155080" y="2286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page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ff"/>
                </a:solidFill>
                <a:latin typeface="Times New Roman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- moti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-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- overview of PHENIX det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ff"/>
                </a:solidFill>
                <a:latin typeface="Times New Roman"/>
              </a:rPr>
              <a:t>Hadron v</a:t>
            </a:r>
            <a:r>
              <a:rPr b="0" lang="ja-JP" sz="2800" spc="-1" strike="noStrike" baseline="-25000">
                <a:solidFill>
                  <a:srgbClr val="3333ff"/>
                </a:solidFill>
                <a:latin typeface="Times New Roman"/>
              </a:rPr>
              <a:t>2</a:t>
            </a:r>
            <a:r>
              <a:rPr b="0" lang="ja-JP" sz="2800" spc="-1" strike="noStrike">
                <a:solidFill>
                  <a:srgbClr val="3333ff"/>
                </a:solidFill>
                <a:latin typeface="Times New Roman"/>
              </a:rPr>
              <a:t> (</a:t>
            </a:r>
            <a:r>
              <a:rPr b="0" lang="ja-JP" sz="28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ja-JP" sz="2800" spc="-1" strike="noStrike">
                <a:solidFill>
                  <a:srgbClr val="3333cc"/>
                </a:solidFill>
                <a:latin typeface="Times New Roman"/>
              </a:rPr>
              <a:t>/K/p/d</a:t>
            </a:r>
            <a:r>
              <a:rPr b="0" lang="ja-JP" sz="2800" spc="-1" strike="noStrike">
                <a:solidFill>
                  <a:srgbClr val="3333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- comparison with hydro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- quark coalescence model (n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Times New Roman"/>
              </a:rPr>
              <a:t>quark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 scaled v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ff"/>
                </a:solidFill>
                <a:latin typeface="Times New Roman"/>
              </a:rPr>
              <a:t>Electron v</a:t>
            </a:r>
            <a:r>
              <a:rPr b="0" lang="ja-JP" sz="2800" spc="-1" strike="noStrike" baseline="-25000">
                <a:solidFill>
                  <a:srgbClr val="3333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baseline="-25000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- comparison with hadron v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154720" y="2286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page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n/d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distrib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jps_dndphi" descr=""/>
          <p:cNvPicPr/>
          <p:nvPr/>
        </p:nvPicPr>
        <p:blipFill>
          <a:blip r:embed="rId1"/>
          <a:stretch/>
        </p:blipFill>
        <p:spPr>
          <a:xfrm>
            <a:off x="3124080" y="1066680"/>
            <a:ext cx="5745240" cy="53946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2971800" y="1219320"/>
            <a:ext cx="762120" cy="5105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010280" y="3589200"/>
            <a:ext cx="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581280" y="6477120"/>
            <a:ext cx="5562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696080" y="62928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305920" y="62928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468920" y="652140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2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078760" y="652140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3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763120" y="62928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535960" y="652140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4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357720" y="6292800"/>
            <a:ext cx="333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p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  <a:ea typeface="ＭＳ Ｐ明朝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257440" y="233856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ＭＳ Ｐ明朝"/>
              </a:rPr>
              <a:t>Miss ID e+(e-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048120" y="1143000"/>
            <a:ext cx="533160" cy="48769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5181480" y="2666880"/>
            <a:ext cx="533520" cy="3049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523880" y="5157720"/>
            <a:ext cx="1819080" cy="10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dn/d</a:t>
            </a: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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  <a:ea typeface="ＭＳ Ｐ明朝"/>
              </a:rPr>
              <a:t> of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ＭＳ Ｐ明朝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  <a:ea typeface="ＭＳ Ｐ明朝"/>
              </a:rPr>
              <a:t>aft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  <a:ea typeface="ＭＳ Ｐ明朝"/>
              </a:rPr>
              <a:t>subtract Miss 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  <a:ea typeface="ＭＳ Ｐ明朝"/>
              </a:rPr>
              <a:t>e+(e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3124080" y="5257440"/>
            <a:ext cx="762120" cy="3049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28600" y="1508040"/>
            <a:ext cx="4419720" cy="8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ＭＳ Ｐ明朝"/>
              </a:rPr>
              <a:t>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ＭＳ Ｐ明朝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is corrected b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subtracting miss ID of electr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304920" y="2590920"/>
                <a:ext cx="335268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N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corr</m:t>
                            </m:r>
                          </m:sup>
                        </m:sSup>
                      </m:num>
                      <m:den>
                        <m:r>
                          <m:t xml:space="preserve">dφ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N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cand</m:t>
                            </m:r>
                          </m:sup>
                        </m:sSup>
                      </m:num>
                      <m:den>
                        <m:r>
                          <m:t xml:space="preserve">dφ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N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issID</m:t>
                            </m:r>
                          </m:sup>
                        </m:sSup>
                      </m:num>
                      <m:den>
                        <m:r>
                          <m:t xml:space="preserve">dφ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8" name=""/>
          <p:cNvSpPr/>
          <p:nvPr/>
        </p:nvSpPr>
        <p:spPr>
          <a:xfrm>
            <a:off x="4057560" y="1881360"/>
            <a:ext cx="11332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  <a:ea typeface="ＭＳ Ｐ明朝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  <a:ea typeface="ＭＳ Ｐ明朝"/>
              </a:rPr>
              <a:t>e+(e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  <a:ea typeface="ＭＳ Ｐ明朝"/>
              </a:rPr>
              <a:t>candi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4724280" y="1599840"/>
            <a:ext cx="457200" cy="3049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0880" y="3733920"/>
            <a:ext cx="2819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cand --- dn/dphi of candi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(detected RIC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e+(e-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miss ID  --- dn/dphi of miss 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e+(e-)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04920" y="3886200"/>
            <a:ext cx="2971800" cy="91440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353400" y="1143000"/>
            <a:ext cx="6638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n/d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355200" y="3809880"/>
            <a:ext cx="1012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dn/d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)/N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  <a:ea typeface="ＭＳ Ｐ明朝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429000" y="3352680"/>
            <a:ext cx="109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-</a:t>
            </a:r>
            <a:r>
              <a:rPr b="0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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327480" y="609588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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347640" y="495288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  <a:ea typeface="ＭＳ Ｐ明朝"/>
              </a:rPr>
              <a:t>1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363840" y="4038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1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348000" y="589104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86400" y="62928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259240" y="652140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1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155080" y="2286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page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endence of v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2(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57200" y="1143000"/>
            <a:ext cx="50292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DNP_e" descr=""/>
          <p:cNvPicPr/>
          <p:nvPr/>
        </p:nvPicPr>
        <p:blipFill>
          <a:blip r:embed="rId1"/>
          <a:stretch/>
        </p:blipFill>
        <p:spPr>
          <a:xfrm>
            <a:off x="4343400" y="1143000"/>
            <a:ext cx="4495680" cy="503712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4952880" y="198108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ＭＳ Ｐ明朝"/>
              </a:rPr>
              <a:t>(M.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33520" y="1066680"/>
            <a:ext cx="731520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523880" y="6019920"/>
            <a:ext cx="7315200" cy="2286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09480" y="1447920"/>
            <a:ext cx="304920" cy="4876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470360" y="5943600"/>
            <a:ext cx="1220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ＭＳ Ｐ明朝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[GeV/c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380120" y="11430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ＭＳ Ｐ明朝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267080" y="1371600"/>
            <a:ext cx="7632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763120" y="988920"/>
            <a:ext cx="75960" cy="5106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696080" y="762120"/>
            <a:ext cx="11430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16680" y="1676520"/>
            <a:ext cx="3239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electron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ＭＳ Ｐ明朝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ＭＳ Ｐ明朝"/>
              </a:rPr>
              <a:t>“inclusive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11280" y="2290680"/>
            <a:ext cx="341604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ff"/>
                </a:solidFill>
                <a:latin typeface="Times New Roman"/>
              </a:rPr>
              <a:t>Dalitz deca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ff"/>
                </a:solidFill>
                <a:latin typeface="Times New Roman"/>
              </a:rPr>
              <a:t>Di-electron decay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ff"/>
                </a:solidFill>
                <a:latin typeface="Times New Roman"/>
              </a:rPr>
              <a:t>Photon convers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ff"/>
                </a:solidFill>
                <a:latin typeface="Times New Roman"/>
              </a:rPr>
              <a:t>Kaon deca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ff"/>
                </a:solidFill>
                <a:latin typeface="Times New Roman"/>
              </a:rPr>
              <a:t>Thermal dilept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ff"/>
                </a:solidFill>
                <a:latin typeface="Times New Roman"/>
              </a:rPr>
              <a:t>charm decay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ff"/>
                </a:solidFill>
                <a:latin typeface="Times New Roman"/>
              </a:rPr>
              <a:t>beauty dec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733920" y="2324160"/>
            <a:ext cx="152280" cy="2400120"/>
          </a:xfrm>
          <a:custGeom>
            <a:avLst/>
            <a:gdLst>
              <a:gd name="textAreaLeft" fmla="*/ 0 w 152280"/>
              <a:gd name="textAreaRight" fmla="*/ 55080 w 152280"/>
              <a:gd name="textAreaTop" fmla="*/ 62280 h 2400120"/>
              <a:gd name="textAreaBottom" fmla="*/ 2337840 h 24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038480" y="3581280"/>
            <a:ext cx="1524240" cy="2286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049720" y="4800600"/>
            <a:ext cx="159372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mum b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200 Ge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155080" y="2286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page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Comparison with v</a:t>
            </a:r>
            <a:r>
              <a:rPr b="0" lang="ja-JP" sz="4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of hadr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04920" y="914400"/>
            <a:ext cx="5410080" cy="5335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DNP_e_hadron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4726080" cy="487692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3637080" y="2286000"/>
            <a:ext cx="1046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ＭＳ Ｐ明朝"/>
              </a:rPr>
              <a:t>v</a:t>
            </a:r>
            <a:r>
              <a:rPr b="1" lang="en-US" sz="2000" spc="-1" strike="noStrike" baseline="-25000">
                <a:solidFill>
                  <a:srgbClr val="0066ff"/>
                </a:solidFill>
                <a:latin typeface="Times New Roman"/>
                <a:ea typeface="ＭＳ Ｐ明朝"/>
              </a:rPr>
              <a:t>2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ＭＳ Ｐ明朝"/>
              </a:rPr>
              <a:t> </a:t>
            </a:r>
            <a:r>
              <a:rPr b="1" lang="en-US" sz="2000" spc="-1" strike="noStrike" baseline="-25000">
                <a:solidFill>
                  <a:srgbClr val="0066ff"/>
                </a:solidFill>
                <a:latin typeface="Times New Roman"/>
                <a:ea typeface="ＭＳ Ｐ明朝"/>
              </a:rPr>
              <a:t>(prot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533040" y="3276720"/>
            <a:ext cx="82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ＭＳ Ｐ明朝"/>
              </a:rPr>
              <a:t>v</a:t>
            </a:r>
            <a:r>
              <a:rPr b="1" lang="en-US" sz="2000" spc="-1" strike="noStrike" baseline="-25000">
                <a:solidFill>
                  <a:srgbClr val="00ff00"/>
                </a:solidFill>
                <a:latin typeface="Times New Roman"/>
                <a:ea typeface="ＭＳ Ｐ明朝"/>
              </a:rPr>
              <a:t>2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ＭＳ Ｐ明朝"/>
              </a:rPr>
              <a:t> </a:t>
            </a:r>
            <a:r>
              <a:rPr b="1" lang="en-US" sz="2000" spc="-1" strike="noStrike" baseline="-25000">
                <a:solidFill>
                  <a:srgbClr val="00ff00"/>
                </a:solidFill>
                <a:latin typeface="Times New Roman"/>
                <a:ea typeface="ＭＳ Ｐ明朝"/>
              </a:rPr>
              <a:t>(p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006200" y="3687840"/>
            <a:ext cx="546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ＭＳ Ｐ明朝"/>
              </a:rPr>
              <a:t>v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imes New Roman"/>
                <a:ea typeface="ＭＳ Ｐ明朝"/>
              </a:rPr>
              <a:t>2(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41680" y="2133720"/>
            <a:ext cx="255528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  <a:ea typeface="ＭＳ Ｐ明朝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  <a:ea typeface="ＭＳ Ｐ明朝"/>
              </a:rPr>
              <a:t>pio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&amp; 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  <a:ea typeface="ＭＳ Ｐ明朝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  <a:ea typeface="ＭＳ Ｐ明朝"/>
              </a:rPr>
              <a:t>proto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nucl-ex/0305013 (PHENI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590920" y="5105520"/>
            <a:ext cx="1981080" cy="228600"/>
          </a:xfrm>
          <a:prstGeom prst="leftRightArrow">
            <a:avLst>
              <a:gd name="adj1" fmla="val 50000"/>
              <a:gd name="adj2" fmla="val 172520"/>
            </a:avLst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28600" y="990720"/>
            <a:ext cx="487692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5943600"/>
            <a:ext cx="510552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60120" y="5943600"/>
            <a:ext cx="1220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ＭＳ Ｐ明朝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[GeV/c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876920" y="1371600"/>
            <a:ext cx="228600" cy="46483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3640" y="129528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ＭＳ Ｐ明朝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914400" y="518148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ＭＳ Ｐ明朝"/>
              </a:rPr>
              <a:t>(M.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572000" y="1447920"/>
            <a:ext cx="4572000" cy="23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&lt;Low 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ＭＳ Ｐ明朝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(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ＭＳ Ｐ明朝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1.0GeV/c)&gt;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Times New Roman"/>
                <a:ea typeface="ＭＳ Ｐ明朝"/>
              </a:rPr>
              <a:t>v</a:t>
            </a:r>
            <a:r>
              <a:rPr b="1" lang="en-US" sz="2200" spc="-1" strike="noStrike" baseline="-25000">
                <a:solidFill>
                  <a:srgbClr val="ff3300"/>
                </a:solidFill>
                <a:latin typeface="Times New Roman"/>
                <a:ea typeface="ＭＳ Ｐ明朝"/>
              </a:rPr>
              <a:t>2(e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is larger than </a:t>
            </a:r>
            <a:r>
              <a:rPr b="1" lang="en-US" sz="2200" spc="-1" strike="noStrike">
                <a:solidFill>
                  <a:srgbClr val="00ff00"/>
                </a:solidFill>
                <a:latin typeface="Times New Roman"/>
                <a:ea typeface="ＭＳ Ｐ明朝"/>
              </a:rPr>
              <a:t>v</a:t>
            </a:r>
            <a:r>
              <a:rPr b="1" lang="en-US" sz="2200" spc="-1" strike="noStrike" baseline="-25000">
                <a:solidFill>
                  <a:srgbClr val="00ff00"/>
                </a:solidFill>
                <a:latin typeface="Times New Roman"/>
                <a:ea typeface="ＭＳ Ｐ明朝"/>
              </a:rPr>
              <a:t>2(pion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amp; </a:t>
            </a:r>
            <a:r>
              <a:rPr b="1" lang="en-US" sz="2200" spc="-1" strike="noStrike">
                <a:solidFill>
                  <a:srgbClr val="0066ff"/>
                </a:solidFill>
                <a:latin typeface="Times New Roman"/>
                <a:ea typeface="ＭＳ Ｐ明朝"/>
              </a:rPr>
              <a:t>v</a:t>
            </a:r>
            <a:r>
              <a:rPr b="1" lang="en-US" sz="2200" spc="-1" strike="noStrike" baseline="-25000">
                <a:solidFill>
                  <a:srgbClr val="0066ff"/>
                </a:solidFill>
                <a:latin typeface="Times New Roman"/>
                <a:ea typeface="ＭＳ Ｐ明朝"/>
              </a:rPr>
              <a:t>2</a:t>
            </a:r>
            <a:r>
              <a:rPr b="1" lang="en-US" sz="2200" spc="-1" strike="noStrike">
                <a:solidFill>
                  <a:srgbClr val="0066ff"/>
                </a:solidFill>
                <a:latin typeface="Times New Roman"/>
                <a:ea typeface="ＭＳ Ｐ明朝"/>
              </a:rPr>
              <a:t> </a:t>
            </a:r>
            <a:r>
              <a:rPr b="1" lang="en-US" sz="2200" spc="-1" strike="noStrike" baseline="-25000">
                <a:solidFill>
                  <a:srgbClr val="0066ff"/>
                </a:solidFill>
                <a:latin typeface="Times New Roman"/>
                <a:ea typeface="ＭＳ Ｐ明朝"/>
              </a:rPr>
              <a:t>(proton)</a:t>
            </a:r>
            <a:r>
              <a:rPr b="1" lang="en-US" sz="2200" spc="-1" strike="noStrike">
                <a:solidFill>
                  <a:srgbClr val="0066ff"/>
                </a:solidFill>
                <a:latin typeface="Times New Roman"/>
                <a:ea typeface="ＭＳ Ｐ明朝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-&gt;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dominant pi0 dec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- small decay ang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- decay from higher 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ＭＳ Ｐ明朝"/>
              </a:rPr>
              <a:t>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572000" y="3809880"/>
            <a:ext cx="4572000" cy="9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&lt;High p</a:t>
            </a:r>
            <a:r>
              <a:rPr b="1" lang="ja-JP" sz="2200" spc="-1" strike="noStrike" baseline="-25000">
                <a:solidFill>
                  <a:srgbClr val="000000"/>
                </a:solidFill>
                <a:latin typeface="Times New Roman"/>
                <a:ea typeface="ＭＳ Ｐ明朝"/>
              </a:rPr>
              <a:t>t</a:t>
            </a:r>
            <a:r>
              <a:rPr b="1" lang="ja-JP" sz="2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(p</a:t>
            </a:r>
            <a:r>
              <a:rPr b="1" lang="ja-JP" sz="2200" spc="-1" strike="noStrike" baseline="-25000">
                <a:solidFill>
                  <a:srgbClr val="000000"/>
                </a:solidFill>
                <a:latin typeface="Times New Roman"/>
                <a:ea typeface="ＭＳ Ｐ明朝"/>
              </a:rPr>
              <a:t>t</a:t>
            </a:r>
            <a:r>
              <a:rPr b="1" lang="ja-JP" sz="2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gt;2.0GeV/c)&gt;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ff3300"/>
                </a:solidFill>
                <a:latin typeface="Times New Roman"/>
                <a:ea typeface="ＭＳ Ｐ明朝"/>
              </a:rPr>
              <a:t>v</a:t>
            </a:r>
            <a:r>
              <a:rPr b="1" lang="ja-JP" sz="2200" spc="-1" strike="noStrike" baseline="-25000">
                <a:solidFill>
                  <a:srgbClr val="ff3300"/>
                </a:solidFill>
                <a:latin typeface="Times New Roman"/>
                <a:ea typeface="ＭＳ Ｐ明朝"/>
              </a:rPr>
              <a:t>2(e)</a:t>
            </a:r>
            <a:r>
              <a:rPr b="1" lang="ja-JP" sz="2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seems to be smaller than </a:t>
            </a:r>
            <a:r>
              <a:rPr b="1" lang="ja-JP" sz="2200" spc="-1" strike="noStrike">
                <a:solidFill>
                  <a:srgbClr val="00ff00"/>
                </a:solidFill>
                <a:latin typeface="Times New Roman"/>
                <a:ea typeface="ＭＳ Ｐ明朝"/>
              </a:rPr>
              <a:t>v</a:t>
            </a:r>
            <a:r>
              <a:rPr b="1" lang="ja-JP" sz="2200" spc="-1" strike="noStrike" baseline="-25000">
                <a:solidFill>
                  <a:srgbClr val="00ff00"/>
                </a:solidFill>
                <a:latin typeface="Times New Roman"/>
                <a:ea typeface="ＭＳ Ｐ明朝"/>
              </a:rPr>
              <a:t>2</a:t>
            </a:r>
            <a:r>
              <a:rPr b="1" lang="ja-JP" sz="2200" spc="-1" strike="noStrike">
                <a:solidFill>
                  <a:srgbClr val="00ff00"/>
                </a:solidFill>
                <a:latin typeface="Times New Roman"/>
                <a:ea typeface="ＭＳ Ｐ明朝"/>
              </a:rPr>
              <a:t> </a:t>
            </a:r>
            <a:r>
              <a:rPr b="1" lang="ja-JP" sz="2200" spc="-1" strike="noStrike" baseline="-25000">
                <a:solidFill>
                  <a:srgbClr val="00ff00"/>
                </a:solidFill>
                <a:latin typeface="Times New Roman"/>
                <a:ea typeface="ＭＳ Ｐ明朝"/>
              </a:rPr>
              <a:t>(pion)</a:t>
            </a:r>
            <a:r>
              <a:rPr b="1" lang="ja-JP" sz="2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52880" y="5038560"/>
            <a:ext cx="3784680" cy="15044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particular interest because of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contributions from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ＭＳ Ｐ明朝"/>
              </a:rPr>
              <a:t>heavy-qua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ＭＳ Ｐ明朝"/>
              </a:rPr>
              <a:t>(c/b)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decays !(but the data include another sources no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75000" y="5943600"/>
            <a:ext cx="282348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higher statistics neede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x30 statistics expected in run4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155080" y="2286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page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needed to estimate charmed electron v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09480" y="1905120"/>
            <a:ext cx="381240" cy="20574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1219320" y="2209680"/>
                <a:ext cx="2666880" cy="9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N</m:t>
                            </m:r>
                          </m:e>
                          <m:sup>
                            <m:r>
                              <m:t xml:space="preserve">e</m:t>
                            </m:r>
                          </m:sup>
                        </m:sSup>
                      </m:num>
                      <m:den>
                        <m:r>
                          <m:t xml:space="preserve">dφ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N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</m:num>
                      <m:den>
                        <m:r>
                          <m:t xml:space="preserve">dφ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N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</m:num>
                      <m:den>
                        <m:r>
                          <m:t xml:space="preserve">dφ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5184720" y="2209680"/>
                <a:ext cx="273852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e</m:t>
                            </m:r>
                            <m:r>
                              <m:t xml:space="preserve">)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3" name=""/>
          <p:cNvSpPr/>
          <p:nvPr/>
        </p:nvSpPr>
        <p:spPr>
          <a:xfrm>
            <a:off x="4267080" y="259092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105520" y="2438280"/>
            <a:ext cx="76176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143000" y="3733920"/>
            <a:ext cx="723888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C</a:t>
            </a:r>
            <a:r>
              <a:rPr b="0" lang="ja-JP" sz="2400" spc="-1" strike="noStrike">
                <a:solidFill>
                  <a:srgbClr val="ff3300"/>
                </a:solidFill>
                <a:latin typeface="Times New Roman"/>
                <a:ea typeface="ＭＳ Ｐゴシック"/>
              </a:rPr>
              <a:t>harm yield</a:t>
            </a:r>
            <a:r>
              <a:rPr b="0" lang="ja-JP" sz="24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 relative to inclusive electron yield at </a:t>
            </a:r>
            <a:r>
              <a:rPr b="0" lang="ja-JP" sz="2400" spc="-1" strike="noStrike">
                <a:solidFill>
                  <a:srgbClr val="ff0000"/>
                </a:solidFill>
                <a:latin typeface="Symbol"/>
                <a:ea typeface="Symbol"/>
              </a:rPr>
              <a:t></a:t>
            </a:r>
            <a:r>
              <a:rPr b="0" lang="ja-JP" sz="24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s</a:t>
            </a:r>
            <a:r>
              <a:rPr b="0" lang="ja-JP" sz="2400" spc="-1" strike="noStrike" baseline="-25000">
                <a:solidFill>
                  <a:srgbClr val="ff0000"/>
                </a:solidFill>
                <a:latin typeface="Times New Roman"/>
                <a:ea typeface="ＭＳ Ｐゴシック"/>
              </a:rPr>
              <a:t>NN</a:t>
            </a:r>
            <a:r>
              <a:rPr b="0" lang="ja-JP" sz="24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 = 200 GeV (r= </a:t>
            </a:r>
            <a:r>
              <a:rPr b="1" lang="ja-JP" sz="2400" spc="-1" strike="noStrike">
                <a:solidFill>
                  <a:srgbClr val="ff0000"/>
                </a:solidFill>
                <a:latin typeface="Times New Roman"/>
                <a:ea typeface="ＭＳ Ｐ明朝"/>
              </a:rPr>
              <a:t>N</a:t>
            </a:r>
            <a:r>
              <a:rPr b="1" lang="ja-JP" sz="2400" spc="-1" strike="noStrike" baseline="-25000">
                <a:solidFill>
                  <a:srgbClr val="ff0000"/>
                </a:solidFill>
                <a:latin typeface="Times New Roman"/>
                <a:ea typeface="ＭＳ Ｐ明朝"/>
              </a:rPr>
              <a:t>p</a:t>
            </a:r>
            <a:r>
              <a:rPr b="1" lang="ja-JP" sz="2400" spc="-1" strike="noStrike">
                <a:solidFill>
                  <a:srgbClr val="ff0000"/>
                </a:solidFill>
                <a:latin typeface="Times New Roman"/>
                <a:ea typeface="ＭＳ Ｐ明朝"/>
              </a:rPr>
              <a:t>/N</a:t>
            </a:r>
            <a:r>
              <a:rPr b="1" lang="ja-JP" sz="2400" spc="-1" strike="noStrike" baseline="-25000">
                <a:solidFill>
                  <a:srgbClr val="ff0000"/>
                </a:solidFill>
                <a:latin typeface="Times New Roman"/>
                <a:ea typeface="ＭＳ Ｐ明朝"/>
              </a:rPr>
              <a:t>e</a:t>
            </a:r>
            <a:r>
              <a:rPr b="0" lang="ja-JP" sz="24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v</a:t>
            </a:r>
            <a:r>
              <a:rPr b="0" lang="ja-JP" sz="2400" spc="-1" strike="noStrike" baseline="-25000">
                <a:solidFill>
                  <a:srgbClr val="ff0000"/>
                </a:solidFill>
                <a:latin typeface="Times New Roman"/>
                <a:ea typeface="ＭＳ Ｐゴシック"/>
              </a:rPr>
              <a:t>2</a:t>
            </a:r>
            <a:r>
              <a:rPr b="0" lang="ja-JP" sz="24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(p) – flow of electrons </a:t>
            </a:r>
            <a:r>
              <a:rPr b="0" lang="ja-JP" sz="2400" spc="-1" strike="noStrike">
                <a:solidFill>
                  <a:srgbClr val="ff3300"/>
                </a:solidFill>
                <a:latin typeface="Times New Roman"/>
                <a:ea typeface="ＭＳ Ｐゴシック"/>
              </a:rPr>
              <a:t>originating photonic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Study </a:t>
            </a:r>
            <a:r>
              <a:rPr b="0" lang="ja-JP" sz="2400" spc="-1" strike="noStrike">
                <a:solidFill>
                  <a:srgbClr val="ff3300"/>
                </a:solidFill>
                <a:latin typeface="Times New Roman"/>
                <a:ea typeface="ＭＳ Ｐゴシック"/>
              </a:rPr>
              <a:t>v</a:t>
            </a:r>
            <a:r>
              <a:rPr b="0" lang="ja-JP" sz="2400" spc="-1" strike="noStrike" baseline="-25000">
                <a:solidFill>
                  <a:srgbClr val="ff3300"/>
                </a:solidFill>
                <a:latin typeface="Times New Roman"/>
                <a:ea typeface="ＭＳ Ｐゴシック"/>
              </a:rPr>
              <a:t>2 </a:t>
            </a:r>
            <a:r>
              <a:rPr b="0" lang="ja-JP" sz="2400" spc="-1" strike="noStrike" baseline="30000">
                <a:solidFill>
                  <a:srgbClr val="ff3300"/>
                </a:solidFill>
                <a:latin typeface="Times New Roman"/>
                <a:ea typeface="ＭＳ Ｐゴシック"/>
              </a:rPr>
              <a:t>D-&gt;eX</a:t>
            </a:r>
            <a:r>
              <a:rPr b="0" lang="ja-JP" sz="24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 (due to large Q val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155080" y="2286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page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cc"/>
                </a:solidFill>
                <a:latin typeface="Times New Roman"/>
              </a:rPr>
              <a:t>Elliptic flow (v</a:t>
            </a:r>
            <a:r>
              <a:rPr b="0" lang="ja-JP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ja-JP" sz="2000" spc="-1" strike="noStrike">
                <a:solidFill>
                  <a:srgbClr val="3333cc"/>
                </a:solidFill>
                <a:latin typeface="Times New Roman"/>
              </a:rPr>
              <a:t>) of identified hadrons (</a:t>
            </a:r>
            <a:r>
              <a:rPr b="0" lang="ja-JP" sz="2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ja-JP" sz="2000" spc="-1" strike="noStrike">
                <a:solidFill>
                  <a:srgbClr val="3333cc"/>
                </a:solidFill>
                <a:latin typeface="Times New Roman"/>
              </a:rPr>
              <a:t>/K/p/d/e) has been measured at PHENIX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Times New Roman"/>
              </a:rPr>
              <a:t>+ hadron v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clear mass dependence observed at low p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reg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consistent with hydrodynamical model (p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&lt; 2.0 GeV/c).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/K/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deviate hydro. and saturation (p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&gt; 2.0 GeV/c).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/K/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consistent with quark coalescence model (more or les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hadron mass dependence seem to be remaining after n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  <a:ea typeface="ＭＳ Ｐ明朝"/>
              </a:rPr>
              <a:t>quark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scal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Times New Roman"/>
              </a:rPr>
              <a:t>+ </a:t>
            </a:r>
            <a:r>
              <a:rPr b="1" lang="ja-JP" sz="2000" spc="-1" strike="noStrike">
                <a:solidFill>
                  <a:srgbClr val="ff0000"/>
                </a:solidFill>
                <a:latin typeface="Times New Roman"/>
              </a:rPr>
              <a:t>electron v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- v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  <a:ea typeface="ＭＳ Ｐ明朝"/>
              </a:rPr>
              <a:t>2(e)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is larger than v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  <a:ea typeface="ＭＳ Ｐ明朝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  <a:ea typeface="ＭＳ Ｐ明朝"/>
              </a:rPr>
              <a:t>(pion)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&amp; v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  <a:ea typeface="ＭＳ Ｐ明朝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  <a:ea typeface="ＭＳ Ｐ明朝"/>
              </a:rPr>
              <a:t>(proton)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at low p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  <a:ea typeface="ＭＳ Ｐ明朝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      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- v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  <a:ea typeface="ＭＳ Ｐ明朝"/>
              </a:rPr>
              <a:t>2(e)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seems to be smaller than v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  <a:ea typeface="ＭＳ Ｐ明朝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  <a:ea typeface="ＭＳ Ｐ明朝"/>
              </a:rPr>
              <a:t>(pion)</a:t>
            </a:r>
            <a:r>
              <a:rPr b="0" lang="ja-JP" sz="2000" spc="-1" strike="noStrike" baseline="30000">
                <a:solidFill>
                  <a:srgbClr val="000000"/>
                </a:solidFill>
                <a:latin typeface="Times New Roman"/>
                <a:ea typeface="ＭＳ Ｐ明朝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at high p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  <a:ea typeface="ＭＳ Ｐ明朝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. (indication)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  <a:ea typeface="ＭＳ Ｐ明朝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Times New Roman"/>
              </a:rPr>
              <a:t>+ higher p</a:t>
            </a:r>
            <a:r>
              <a:rPr b="1" lang="ja-JP" sz="2000" spc="-1" strike="noStrike" baseline="-25000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ja-JP" sz="2000" spc="-1" strike="noStrike">
                <a:solidFill>
                  <a:srgbClr val="ff0000"/>
                </a:solidFill>
                <a:latin typeface="Times New Roman"/>
              </a:rPr>
              <a:t> data (high statistics) will be available in the next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detailed identifed hadron v2 study at intermediate to high p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reg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high statistics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v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Times New Roman"/>
                <a:ea typeface="ＭＳ Ｐ明朝"/>
              </a:rPr>
              <a:t>2(e)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to determine charmed electron v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155080" y="2286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page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identified v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5638680" y="762120"/>
            <a:ext cx="2438280" cy="1904400"/>
            <a:chOff x="5638680" y="762120"/>
            <a:chExt cx="2438280" cy="1904400"/>
          </a:xfrm>
        </p:grpSpPr>
        <p:sp>
          <p:nvSpPr>
            <p:cNvPr id="56" name=""/>
            <p:cNvSpPr/>
            <p:nvPr/>
          </p:nvSpPr>
          <p:spPr>
            <a:xfrm>
              <a:off x="6292800" y="1602360"/>
              <a:ext cx="1130040" cy="1064160"/>
            </a:xfrm>
            <a:prstGeom prst="ellipse">
              <a:avLst/>
            </a:prstGeom>
            <a:gradFill rotWithShape="0">
              <a:gsLst>
                <a:gs pos="0">
                  <a:srgbClr val="005e46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638680" y="1602360"/>
              <a:ext cx="1129680" cy="1064160"/>
            </a:xfrm>
            <a:prstGeom prst="ellipse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5e752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292800" y="1658160"/>
              <a:ext cx="475560" cy="952560"/>
            </a:xfrm>
            <a:prstGeom prst="ellipse">
              <a:avLst/>
            </a:prstGeom>
            <a:gradFill rotWithShape="0">
              <a:gsLst>
                <a:gs pos="0">
                  <a:srgbClr val="7500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30760" y="2162520"/>
              <a:ext cx="1189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6530760" y="1153440"/>
              <a:ext cx="0" cy="100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719120" y="1938600"/>
              <a:ext cx="35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ｘ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352200" y="762120"/>
              <a:ext cx="35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5486040" y="3657600"/>
            <a:ext cx="2895120" cy="2282760"/>
            <a:chOff x="5486040" y="3657600"/>
            <a:chExt cx="2895120" cy="2282760"/>
          </a:xfrm>
        </p:grpSpPr>
        <p:grpSp>
          <p:nvGrpSpPr>
            <p:cNvPr id="64" name=""/>
            <p:cNvGrpSpPr/>
            <p:nvPr/>
          </p:nvGrpSpPr>
          <p:grpSpPr>
            <a:xfrm>
              <a:off x="5926680" y="3657600"/>
              <a:ext cx="2454480" cy="2270160"/>
              <a:chOff x="5926680" y="3657600"/>
              <a:chExt cx="2454480" cy="2270160"/>
            </a:xfrm>
          </p:grpSpPr>
          <p:sp>
            <p:nvSpPr>
              <p:cNvPr id="65" name=""/>
              <p:cNvSpPr/>
              <p:nvPr/>
            </p:nvSpPr>
            <p:spPr>
              <a:xfrm>
                <a:off x="5926680" y="4738680"/>
                <a:ext cx="1384560" cy="840960"/>
              </a:xfrm>
              <a:prstGeom prst="ellipse">
                <a:avLst/>
              </a:prstGeom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6618960" y="5159160"/>
                <a:ext cx="1258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V="1">
                <a:off x="6618960" y="4077720"/>
                <a:ext cx="0" cy="10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877520" y="4921560"/>
                <a:ext cx="503640" cy="10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1" lang="zh-CN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ｘ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433920" y="3657600"/>
                <a:ext cx="690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1" lang="zh-CN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ｙ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 flipV="1">
              <a:off x="6933960" y="4378320"/>
              <a:ext cx="188640" cy="3002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7248600" y="4618800"/>
              <a:ext cx="314640" cy="2397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374600" y="5159520"/>
              <a:ext cx="3146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248600" y="5399640"/>
              <a:ext cx="314640" cy="180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996960" y="5579640"/>
              <a:ext cx="188640" cy="3002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619320" y="5640120"/>
              <a:ext cx="0" cy="3002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6619320" y="4317840"/>
              <a:ext cx="0" cy="360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flipV="1">
              <a:off x="6115680" y="4378320"/>
              <a:ext cx="188640" cy="3002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5737320" y="4618800"/>
              <a:ext cx="251640" cy="2397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5486040" y="5159520"/>
              <a:ext cx="3776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5612040" y="5459760"/>
              <a:ext cx="314640" cy="180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5989680" y="5640120"/>
              <a:ext cx="188640" cy="240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5252040" y="2743200"/>
            <a:ext cx="275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Initial spatial anisotro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029200" y="5867280"/>
            <a:ext cx="3429000" cy="7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Momentum space anisotro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of particle e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477120" y="316224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-4680" y="1905120"/>
            <a:ext cx="4786200" cy="31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 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-&gt; Low p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  <a:ea typeface="ＭＳ Ｐ明朝"/>
              </a:rPr>
              <a:t>t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400" spc="-1" strike="noStrike">
                <a:solidFill>
                  <a:srgbClr val="ff3300"/>
                </a:solidFill>
                <a:latin typeface="Times New Roman"/>
                <a:ea typeface="ＭＳ Ｐ明朝"/>
              </a:rPr>
              <a:t>       </a:t>
            </a:r>
            <a:r>
              <a:rPr b="0" lang="ja-JP" sz="2400" spc="-1" strike="noStrike">
                <a:solidFill>
                  <a:srgbClr val="ff3300"/>
                </a:solidFill>
                <a:latin typeface="Times New Roman"/>
                <a:ea typeface="ＭＳ Ｐ明朝"/>
              </a:rPr>
              <a:t>- pressure gradient of early st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  <a:ea typeface="ＭＳ Ｐ明朝"/>
              </a:rPr>
              <a:t>         </a:t>
            </a:r>
            <a:r>
              <a:rPr b="0" lang="ja-JP" sz="2400" spc="-1" strike="noStrike">
                <a:solidFill>
                  <a:srgbClr val="ff3300"/>
                </a:solidFill>
                <a:latin typeface="Times New Roman"/>
                <a:ea typeface="ＭＳ Ｐ明朝"/>
              </a:rPr>
              <a:t>of coll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  <a:ea typeface="ＭＳ Ｐ明朝"/>
              </a:rPr>
              <a:t>       </a:t>
            </a:r>
            <a:r>
              <a:rPr b="0" lang="ja-JP" sz="2400" spc="-1" strike="noStrike">
                <a:solidFill>
                  <a:srgbClr val="ff3300"/>
                </a:solidFill>
                <a:latin typeface="Times New Roman"/>
                <a:ea typeface="ＭＳ Ｐ明朝"/>
              </a:rPr>
              <a:t>- hydrodynamical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 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-&gt; High p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  <a:ea typeface="ＭＳ Ｐ明朝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  <a:ea typeface="ＭＳ Ｐ明朝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     </a:t>
            </a:r>
            <a:r>
              <a:rPr b="0" lang="ja-JP" sz="2400" spc="-1" strike="noStrike">
                <a:solidFill>
                  <a:srgbClr val="ff3300"/>
                </a:solidFill>
                <a:latin typeface="Times New Roman"/>
                <a:ea typeface="ＭＳ Ｐ明朝"/>
              </a:rPr>
              <a:t>-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</a:t>
            </a:r>
            <a:r>
              <a:rPr b="0" lang="ja-JP" sz="2400" spc="-1" strike="noStrike">
                <a:solidFill>
                  <a:srgbClr val="ff3300"/>
                </a:solidFill>
                <a:latin typeface="Times New Roman"/>
                <a:ea typeface="ＭＳ Ｐ明朝"/>
              </a:rPr>
              <a:t>parton energy loss in hot &amp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  <a:ea typeface="ＭＳ Ｐ明朝"/>
              </a:rPr>
              <a:t>         </a:t>
            </a:r>
            <a:r>
              <a:rPr b="0" lang="ja-JP" sz="2400" spc="-1" strike="noStrike">
                <a:solidFill>
                  <a:srgbClr val="ff3300"/>
                </a:solidFill>
                <a:latin typeface="Times New Roman"/>
                <a:ea typeface="ＭＳ Ｐ明朝"/>
              </a:rPr>
              <a:t>dense med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680" y="1260360"/>
            <a:ext cx="4702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The azimuthal anisotropy of partic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emission refl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5181480"/>
            <a:ext cx="457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Measurement of identified particle v2 gives us much more information of the collision dynamic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280" y="5105520"/>
            <a:ext cx="4800600" cy="1295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154720" y="2286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pag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asurement of v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1143000"/>
            <a:ext cx="457200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6560" y="1143000"/>
            <a:ext cx="33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ＭＳ Ｐ明朝"/>
              </a:rPr>
              <a:t>&lt;&lt;Reaction Plane Method&gt;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5640" y="2438280"/>
            <a:ext cx="490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dN/d(</a:t>
            </a:r>
            <a:r>
              <a:rPr b="1" lang="en-US" sz="2400" spc="-1" strike="noStrike">
                <a:solidFill>
                  <a:srgbClr val="0066ff"/>
                </a:solidFill>
                <a:latin typeface="Symbol"/>
                <a:ea typeface="Symbol"/>
              </a:rPr>
              <a:t>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0066ff"/>
                </a:solidFill>
                <a:latin typeface="Symbol"/>
                <a:ea typeface="Symbol"/>
              </a:rPr>
              <a:t>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) = N</a:t>
            </a:r>
            <a:r>
              <a:rPr b="1" lang="en-US" sz="2400" spc="-1" strike="noStrike" baseline="-25000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(1 + 2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2400" spc="-1" strike="noStrike" baseline="30000">
                <a:solidFill>
                  <a:srgbClr val="ff3300"/>
                </a:solidFill>
                <a:latin typeface="Times New Roman"/>
              </a:rPr>
              <a:t>obs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cos(2(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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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37800" y="3044880"/>
            <a:ext cx="4423680" cy="16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azimuthal angle of reaction pla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azimuthal angle of partic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ob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strength of azimuthal anisotr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fitting of dn/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r 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&lt;cos2(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&gt;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v</a:t>
            </a:r>
            <a:r>
              <a:rPr b="1" lang="en-US" sz="16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 = v</a:t>
            </a:r>
            <a:r>
              <a:rPr b="1" lang="en-US" sz="16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1600" spc="-1" strike="noStrike" baseline="30000">
                <a:solidFill>
                  <a:srgbClr val="ff3300"/>
                </a:solidFill>
                <a:latin typeface="Arial"/>
              </a:rPr>
              <a:t>obs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/ </a:t>
            </a:r>
            <a:r>
              <a:rPr b="1" lang="en-US" sz="1600" spc="-1" strike="noStrike">
                <a:solidFill>
                  <a:srgbClr val="ff3300"/>
                </a:solidFill>
                <a:latin typeface="Univers 45 Light"/>
              </a:rPr>
              <a:t>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00200" y="5715000"/>
            <a:ext cx="30481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Univers 45 Light"/>
              </a:rPr>
              <a:t>σ=&lt;cos(2(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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Univers 45 Light"/>
              </a:rPr>
              <a:t>m</a:t>
            </a:r>
            <a:r>
              <a:rPr b="1" lang="en-US" sz="2000" spc="-1" strike="noStrike">
                <a:solidFill>
                  <a:srgbClr val="3333cc"/>
                </a:solidFill>
                <a:latin typeface="Univers 45 Light"/>
              </a:rPr>
              <a:t>-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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Univers 45 Light"/>
              </a:rPr>
              <a:t>real</a:t>
            </a:r>
            <a:r>
              <a:rPr b="1" lang="en-US" sz="2000" spc="-1" strike="noStrike">
                <a:solidFill>
                  <a:srgbClr val="3333cc"/>
                </a:solidFill>
                <a:latin typeface="Univers 45 Light"/>
              </a:rPr>
              <a:t>))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Univers 45 Light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Univers 45 Light"/>
              </a:rPr>
              <a:t>= {&lt;cos(2(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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Univers 45 Light"/>
              </a:rPr>
              <a:t>A</a:t>
            </a:r>
            <a:r>
              <a:rPr b="1" lang="en-US" sz="2000" spc="-1" strike="noStrike">
                <a:solidFill>
                  <a:srgbClr val="3333cc"/>
                </a:solidFill>
                <a:latin typeface="Univers 45 Light"/>
              </a:rPr>
              <a:t>-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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Univers 45 Light"/>
              </a:rPr>
              <a:t>B</a:t>
            </a:r>
            <a:r>
              <a:rPr b="1" lang="en-US" sz="2000" spc="-1" strike="noStrike">
                <a:solidFill>
                  <a:srgbClr val="3333cc"/>
                </a:solidFill>
                <a:latin typeface="Univers 45 Light"/>
              </a:rPr>
              <a:t>))&gt;}</a:t>
            </a:r>
            <a:r>
              <a:rPr b="1" lang="en-US" sz="2000" spc="-1" strike="noStrike" baseline="30000">
                <a:solidFill>
                  <a:srgbClr val="3333cc"/>
                </a:solidFill>
                <a:latin typeface="Univers 45 Light"/>
              </a:rPr>
              <a:t>1/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2286000"/>
            <a:ext cx="914400" cy="9144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781680" y="1905120"/>
            <a:ext cx="914400" cy="9144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590920"/>
            <a:ext cx="228600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0" y="16002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019920" y="1676160"/>
            <a:ext cx="2057400" cy="1523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14480" y="2819520"/>
            <a:ext cx="1207800" cy="7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ＭＳ Ｐ明朝"/>
              </a:rPr>
              <a:t>Rea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ＭＳ Ｐ明朝"/>
              </a:rPr>
              <a:t>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459640" y="25909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78920" y="1676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666880" y="5167440"/>
            <a:ext cx="152424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74080" y="4724280"/>
            <a:ext cx="1449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w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Arial"/>
                <a:ea typeface="Times New Roman"/>
              </a:rPr>
              <a:t>i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*sin(2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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Arial"/>
                <a:ea typeface="Times New Roman"/>
              </a:rPr>
              <a:t>i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81680" y="4913280"/>
            <a:ext cx="143064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tan2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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Arial"/>
              </a:rPr>
              <a:t>rp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74440" y="5181480"/>
            <a:ext cx="151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w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Arial"/>
                <a:ea typeface="Times New Roman"/>
              </a:rPr>
              <a:t>i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*cos(2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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Arial"/>
                <a:ea typeface="Times New Roman"/>
              </a:rPr>
              <a:t>i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4160" y="1554120"/>
            <a:ext cx="472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Measure azimuthal angle of each partic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with respect to the reaction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80880" y="3276720"/>
            <a:ext cx="60984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3276720"/>
            <a:ext cx="0" cy="16761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4952880"/>
            <a:ext cx="1067040" cy="1526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5791320" y="4571640"/>
            <a:ext cx="2438280" cy="16765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230680" y="4648320"/>
            <a:ext cx="49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ＭＳ Ｐ明朝"/>
              </a:rPr>
              <a:t>r.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6629400" y="4190760"/>
            <a:ext cx="38088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629400" y="5715000"/>
            <a:ext cx="15238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24840" y="4876920"/>
            <a:ext cx="106632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088040" y="4343400"/>
            <a:ext cx="6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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11720" y="39132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3048120"/>
            <a:ext cx="152280" cy="1676160"/>
          </a:xfrm>
          <a:custGeom>
            <a:avLst/>
            <a:gdLst>
              <a:gd name="textAreaLeft" fmla="*/ 44640 w 152280"/>
              <a:gd name="textAreaRight" fmla="*/ 152640 w 152280"/>
              <a:gd name="textAreaTop" fmla="*/ 69840 h 1676160"/>
              <a:gd name="textAreaBottom" fmla="*/ 160632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154720" y="2286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page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 view of PHENIX detec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henix_2002" descr=""/>
          <p:cNvPicPr/>
          <p:nvPr/>
        </p:nvPicPr>
        <p:blipFill>
          <a:blip r:embed="rId1"/>
          <a:stretch/>
        </p:blipFill>
        <p:spPr>
          <a:xfrm>
            <a:off x="4572000" y="1143000"/>
            <a:ext cx="3952800" cy="49528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80880" y="1096920"/>
            <a:ext cx="49532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 u="sng">
                <a:solidFill>
                  <a:srgbClr val="0000ff"/>
                </a:solidFill>
                <a:uFillTx/>
                <a:latin typeface="Times New Roman"/>
              </a:rPr>
              <a:t>Charged Particle Track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Drift Cha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Pad Cha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Time Expansion Cha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 u="sng">
                <a:solidFill>
                  <a:srgbClr val="0000ff"/>
                </a:solidFill>
                <a:uFillTx/>
                <a:latin typeface="Times New Roman"/>
              </a:rPr>
              <a:t>Particle I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Time of Fligh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Ring Imaging Cerenkov Cou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T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Muon ID (PDT’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 u="sng">
                <a:solidFill>
                  <a:srgbClr val="0000ff"/>
                </a:solidFill>
                <a:uFillTx/>
                <a:latin typeface="Times New Roman"/>
              </a:rPr>
              <a:t>Calorimetr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Pb Scintill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Pb G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 u="sng">
                <a:solidFill>
                  <a:srgbClr val="0000ff"/>
                </a:solidFill>
                <a:uFillTx/>
                <a:latin typeface="Times New Roman"/>
              </a:rPr>
              <a:t>Event Character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Beam-Beam Cou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Zero Degree Calorim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181480" y="4264200"/>
            <a:ext cx="152640" cy="7596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154720" y="2286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page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Times New Roman"/>
              </a:rPr>
              <a:t>hadron v</a:t>
            </a:r>
            <a:r>
              <a:rPr b="0" lang="ja-JP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410080" y="1392120"/>
            <a:ext cx="3056040" cy="40737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564520" y="5410080"/>
            <a:ext cx="2670840" cy="4597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enix (East-Ar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Hadron measurement @ PHENI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2971800"/>
            <a:ext cx="3809880" cy="23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-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TOF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~ </a:t>
            </a: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115 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: 0.2 &lt; p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T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&lt; 3.0 GeV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K : 0.4 &lt; p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T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&lt; 3.0 GeV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 : 0.6 &lt; p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T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&lt; 4.0 GeV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1752480"/>
            <a:ext cx="45720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PHENIX experiment has the hig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iming resolution </a:t>
            </a:r>
            <a:r>
              <a:rPr b="0" lang="en-US" sz="2200" spc="-1" strike="noStrike">
                <a:solidFill>
                  <a:srgbClr val="3333ff"/>
                </a:solidFill>
                <a:latin typeface="Times New Roman"/>
              </a:rPr>
              <a:t>TO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ounte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54720" y="2286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page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Times New Roman"/>
              </a:rPr>
              <a:t>Particle ID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390160" cy="4572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648320" y="1601640"/>
            <a:ext cx="4267080" cy="43419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705720" y="2133720"/>
            <a:ext cx="14475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3400" y="2438280"/>
            <a:ext cx="3484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15840" y="3836880"/>
            <a:ext cx="4183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979000" y="5791320"/>
            <a:ext cx="147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mass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  <a:ea typeface="ＭＳ Ｐ明朝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[(GeV/c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  <a:ea typeface="ＭＳ Ｐ明朝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)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  <a:ea typeface="ＭＳ Ｐ明朝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48320" y="1447920"/>
            <a:ext cx="4267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1752480"/>
            <a:ext cx="4572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50080" y="3962520"/>
            <a:ext cx="366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91520" y="28954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2109960" cy="27954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7772400" y="4495680"/>
            <a:ext cx="152280" cy="838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705720" y="1523880"/>
            <a:ext cx="22096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17120" y="1752480"/>
            <a:ext cx="3499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255440" y="5749920"/>
            <a:ext cx="147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mass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  <a:ea typeface="ＭＳ Ｐ明朝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[(GeV/c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  <a:ea typeface="ＭＳ Ｐ明朝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)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  <a:ea typeface="ＭＳ Ｐ明朝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38480" y="1523880"/>
            <a:ext cx="6098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1371600"/>
            <a:ext cx="1708200" cy="79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Momentum [GeV/c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1752120" y="4876920"/>
            <a:ext cx="22860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981080" y="4495320"/>
            <a:ext cx="3048120" cy="1752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16440" y="6324480"/>
            <a:ext cx="224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Clear signal peak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4880" y="1143000"/>
            <a:ext cx="39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PID :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GB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  =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en-GB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{(TOF/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GB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 -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154720" y="2286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page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1T20:14:19Z</dcterms:created>
  <dc:creator>shingo </dc:creator>
  <dc:description/>
  <dc:language>en-US</dc:language>
  <cp:lastModifiedBy>shingo </cp:lastModifiedBy>
  <dcterms:modified xsi:type="dcterms:W3CDTF">2003-11-18T18:03:08Z</dcterms:modified>
  <cp:revision>114</cp:revision>
  <dc:subject/>
  <dc:title>PowerPoint プレゼンテーション</dc:title>
</cp:coreProperties>
</file>