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0.jpeg" ContentType="image/jpeg"/>
  <Override PartName="/ppt/media/image17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31.png" ContentType="image/png"/>
  <Override PartName="/ppt/media/image29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8.png" ContentType="image/png"/>
  <Override PartName="/ppt/media/image21.png" ContentType="image/png"/>
  <Override PartName="/ppt/media/image60.png" ContentType="image/png"/>
  <Override PartName="/ppt/media/image6.jpeg" ContentType="image/jpeg"/>
  <Override PartName="/ppt/media/image23.png" ContentType="image/png"/>
  <Override PartName="/ppt/media/image59.png" ContentType="image/png"/>
  <Override PartName="/ppt/media/image24.jpeg" ContentType="image/jpeg"/>
  <Override PartName="/ppt/media/image22.png" ContentType="image/png"/>
  <Override PartName="/ppt/media/image20.png" ContentType="image/png"/>
  <Override PartName="/ppt/media/image57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8.png" ContentType="image/png"/>
  <Override PartName="/ppt/media/image8.png" ContentType="image/png"/>
  <Override PartName="/ppt/media/image38.png" ContentType="image/png"/>
  <Override PartName="/ppt/media/image11.jpeg" ContentType="image/jpe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685-C310-4E1B-AC0C-4E586830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7E1-07BA-4AC8-84E9-941ABC27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394-D627-4F58-9BA7-E54B2E45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949-53C2-4020-A599-BDB8866D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285-B9B6-4448-8861-874F00E6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2B6-42D1-455D-BF2A-064AB7FE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3F7-04C5-4552-A819-BEBA5D50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288-892C-4B80-B2FD-72886B4D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EDA-CE89-4E84-A84A-629E9310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196-E685-4428-977E-03CDC897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97A-473C-40F3-BA14-2415C740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1F1-A194-4A2B-ABA8-9FD3365C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552720"/>
            <a:ext cx="419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2797-42A4-453D-838B-6D0E43EF04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20" y="990720"/>
            <a:ext cx="82260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vent anisotropy in heavy-ion collisions at RHIC en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inIchi E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niv. of Tsuk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low measurements in PHE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dentified hadr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harmed and phot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lation of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and 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90D-4ADD-4B64-8E13-4E7AB575C7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5715000" cy="6532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07800" y="35244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rm, R.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with B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ACB-9D95-4BF0-A4F8-87CFF9063B6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905120" y="642960"/>
            <a:ext cx="5257800" cy="14479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2400" y="1162080"/>
            <a:ext cx="457200" cy="3808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3800" y="990720"/>
            <a:ext cx="685800" cy="99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8720" y="762120"/>
            <a:ext cx="685800" cy="99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990720"/>
            <a:ext cx="3808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85880" y="1162080"/>
            <a:ext cx="1447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0480" y="1162080"/>
            <a:ext cx="144792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642960"/>
            <a:ext cx="7086600" cy="1447920"/>
          </a:xfrm>
          <a:prstGeom prst="parallelogram">
            <a:avLst>
              <a:gd name="adj" fmla="val 632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3000000">
            <a:off x="2933640" y="266400"/>
            <a:ext cx="380880" cy="914400"/>
          </a:xfrm>
          <a:prstGeom prst="ellipse">
            <a:avLst/>
          </a:prstGeom>
          <a:noFill/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0400" y="685800"/>
            <a:ext cx="2666880" cy="13716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1440" y="170964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Verdana"/>
              </a:rPr>
              <a:t>beam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30840" y="175428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action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819520" y="304560"/>
            <a:ext cx="838080" cy="6094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10080" y="1828440"/>
            <a:ext cx="838440" cy="60948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520" y="2666880"/>
            <a:ext cx="9096480" cy="350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014280" y="6019920"/>
            <a:ext cx="67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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particle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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R.P.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(r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9200000">
            <a:off x="3733920" y="152352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8400000">
            <a:off x="4685760" y="83772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3840" y="18288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62856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3000000">
            <a:off x="5829480" y="1561680"/>
            <a:ext cx="380880" cy="914400"/>
          </a:xfrm>
          <a:prstGeom prst="ellipse">
            <a:avLst/>
          </a:prstGeom>
          <a:noFill/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BA9-1B55-48B8-920B-14B0F352C20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90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rot="18600000">
            <a:off x="-551880" y="3709440"/>
            <a:ext cx="4560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hys.Lett. B597 (2004) 328-332, X. Dong et.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hys.Rev. C70 (2004) 024901, V. Greco et.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56240" y="4114800"/>
            <a:ext cx="30124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ion deviation is explai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y resonance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19920" y="3152880"/>
            <a:ext cx="25905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shift  is the dominant effect compared to the smearing given by the opening ang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2D3-6074-4563-BAE1-35362882541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7315200" cy="63500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990720" y="3733920"/>
            <a:ext cx="1752480" cy="19047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029200" y="152280"/>
            <a:ext cx="3990960" cy="4114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010280" y="2209680"/>
            <a:ext cx="18288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al model with blast-wa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56520" y="4267080"/>
            <a:ext cx="325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ff"/>
                </a:solidFill>
                <a:latin typeface="Times New Roman"/>
              </a:rPr>
              <a:t>hydro is really good to be truth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What will happen with resonanc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34320" y="4276800"/>
            <a:ext cx="21333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Resonance effects are important in single spectra, but not too much in v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, because of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shift of heavy particles having smaller v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and linear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dependence of v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F6D-E1C2-47DE-87D8-AA0BA9F0F9A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751480" y="30492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quark flow 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hadr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555" t="6861" r="27779" b="5558"/>
          <a:stretch/>
        </p:blipFill>
        <p:spPr>
          <a:xfrm>
            <a:off x="0" y="914400"/>
            <a:ext cx="4576680" cy="51055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4548" t="6861" r="27779" b="5558"/>
          <a:stretch/>
        </p:blipFill>
        <p:spPr>
          <a:xfrm>
            <a:off x="4495680" y="914400"/>
            <a:ext cx="4648320" cy="51055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6782040" y="1295280"/>
            <a:ext cx="2107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nimum bias Au+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47120" y="2863800"/>
            <a:ext cx="19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880" y="2711520"/>
            <a:ext cx="19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720" y="457200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some rem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mass or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29200" y="3200400"/>
            <a:ext cx="1905120" cy="213372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AE6-9137-4BD1-A80D-FB6DE2ECE61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rcRect l="4743" t="36845" r="37942" b="7369"/>
          <a:stretch/>
        </p:blipFill>
        <p:spPr>
          <a:xfrm>
            <a:off x="4267080" y="533520"/>
            <a:ext cx="4876920" cy="29718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4707000" cy="4038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993240" y="3022560"/>
            <a:ext cx="1302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 + 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6200" y="2133720"/>
            <a:ext cx="1395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l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4572000" y="3581280"/>
            <a:ext cx="4373640" cy="28195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934320" y="4165560"/>
            <a:ext cx="19047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bination + 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685800"/>
            <a:ext cx="35053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Data prefer “quark coalescence / recombination” based picture rather than “hydro + jet” picture at intermediate 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61200" y="228600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QG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2438280"/>
            <a:ext cx="32004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67080" y="2514600"/>
            <a:ext cx="2743200" cy="17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295280" y="2514600"/>
            <a:ext cx="23623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2260440"/>
            <a:ext cx="6094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62720" y="3962520"/>
            <a:ext cx="990360" cy="1066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3657600"/>
            <a:ext cx="990720" cy="1066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43600" y="1066680"/>
            <a:ext cx="990720" cy="106704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33D-A833-4105-94BB-268AFA5942B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rcRect l="0" t="0" r="0" b="18234"/>
          <a:stretch/>
        </p:blipFill>
        <p:spPr>
          <a:xfrm>
            <a:off x="0" y="1447920"/>
            <a:ext cx="4800600" cy="4419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572000" cy="4724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831680" y="990720"/>
            <a:ext cx="1302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 + 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6200" y="5943600"/>
            <a:ext cx="515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s dominate the high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part of spec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4120" y="990720"/>
            <a:ext cx="33526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bination + 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C97-12BD-4071-9E88-C043B69FEFA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343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rcRect l="0" t="42184" r="7640" b="0"/>
          <a:stretch/>
        </p:blipFill>
        <p:spPr>
          <a:xfrm>
            <a:off x="4572000" y="31680"/>
            <a:ext cx="4572000" cy="5911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482280" y="12193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E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05400" y="12193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41040" y="586728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ose (jets) are sup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A35-065F-4DEB-8F94-43C11722886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572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4267080" y="609480"/>
            <a:ext cx="4876920" cy="4876920"/>
            <a:chOff x="4267080" y="609480"/>
            <a:chExt cx="4876920" cy="487692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4267080" y="609480"/>
              <a:ext cx="4876920" cy="487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9" name=""/>
            <p:cNvGrpSpPr/>
            <p:nvPr/>
          </p:nvGrpSpPr>
          <p:grpSpPr>
            <a:xfrm>
              <a:off x="5107680" y="1551240"/>
              <a:ext cx="2445120" cy="1706760"/>
              <a:chOff x="5107680" y="1551240"/>
              <a:chExt cx="2445120" cy="1706760"/>
            </a:xfrm>
          </p:grpSpPr>
          <p:sp>
            <p:nvSpPr>
              <p:cNvPr id="370" name=""/>
              <p:cNvSpPr/>
              <p:nvPr/>
            </p:nvSpPr>
            <p:spPr>
              <a:xfrm>
                <a:off x="5682240" y="3185640"/>
                <a:ext cx="55800" cy="72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497000" y="1703160"/>
                <a:ext cx="55800" cy="72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107680" y="1551240"/>
                <a:ext cx="19036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906 &lt;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&lt; 1.04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5257800" y="1905120"/>
            <a:ext cx="220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dN/dy = A (N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ja-JP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640" y="457200"/>
            <a:ext cx="364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harmed 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320" y="449568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09320" y="289548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5410080"/>
            <a:ext cx="7543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rm quarks are not suppressed w.r.t. binary scaling compared to the light quarks, but it could be enhanced and suppressed (looked like binary scaled). The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f charm would give a hint for the answer to the ques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F4D-A911-4BCA-8CCC-327ED5011D7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343400" cy="32497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4419720" cy="32767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410840" y="3962520"/>
            <a:ext cx="21117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v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11560" y="4572000"/>
            <a:ext cx="20599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med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1218960" y="2285640"/>
            <a:ext cx="9903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209680" y="2285640"/>
            <a:ext cx="297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518004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If charm quarks also flow, charm quarks are thermalized and / or suppressed similarly to the light quark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4267080" y="3289320"/>
            <a:ext cx="4106880" cy="3111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7392960" y="514980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R SQM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4191120"/>
            <a:ext cx="18288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480060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A55-F2CD-42AD-BE66-A94DD10D519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657600" y="228600"/>
            <a:ext cx="5338800" cy="5665320"/>
            <a:chOff x="3657600" y="228600"/>
            <a:chExt cx="5338800" cy="5665320"/>
          </a:xfrm>
        </p:grpSpPr>
        <p:sp>
          <p:nvSpPr>
            <p:cNvPr id="43" name=""/>
            <p:cNvSpPr/>
            <p:nvPr/>
          </p:nvSpPr>
          <p:spPr>
            <a:xfrm>
              <a:off x="3657600" y="228600"/>
              <a:ext cx="533880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rcRect l="-648" t="0" r="-138" b="0"/>
            <a:stretch/>
          </p:blipFill>
          <p:spPr>
            <a:xfrm>
              <a:off x="4595760" y="374400"/>
              <a:ext cx="4383000" cy="551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2"/>
          <a:srcRect l="0" t="3914" r="8366" b="-320"/>
          <a:stretch/>
        </p:blipFill>
        <p:spPr>
          <a:xfrm>
            <a:off x="152280" y="2819520"/>
            <a:ext cx="4191120" cy="349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2200" y="749160"/>
            <a:ext cx="368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BC/ZDC : cent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ch/PC1,2,3 :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of : hadron 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ich : electron 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mcal : electron/photon 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648320" y="171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325-70FC-4486-B8F1-6034F82B5C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0" y="1523880"/>
            <a:ext cx="4494960" cy="4723920"/>
            <a:chOff x="0" y="1523880"/>
            <a:chExt cx="4494960" cy="4723920"/>
          </a:xfrm>
        </p:grpSpPr>
        <p:grpSp>
          <p:nvGrpSpPr>
            <p:cNvPr id="391" name=""/>
            <p:cNvGrpSpPr/>
            <p:nvPr/>
          </p:nvGrpSpPr>
          <p:grpSpPr>
            <a:xfrm>
              <a:off x="0" y="1523880"/>
              <a:ext cx="4494960" cy="4723920"/>
              <a:chOff x="0" y="1523880"/>
              <a:chExt cx="4494960" cy="4723920"/>
            </a:xfrm>
          </p:grpSpPr>
          <p:graphicFrame>
            <p:nvGraphicFramePr>
              <p:cNvPr id="392" name=""/>
              <p:cNvGraphicFramePr/>
              <p:nvPr/>
            </p:nvGraphicFramePr>
            <p:xfrm>
              <a:off x="333000" y="1523880"/>
              <a:ext cx="4161960" cy="4410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9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33000" y="1523880"/>
                        <a:ext cx="4161960" cy="441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4" name=""/>
              <p:cNvSpPr/>
              <p:nvPr/>
            </p:nvSpPr>
            <p:spPr>
              <a:xfrm>
                <a:off x="998640" y="1719720"/>
                <a:ext cx="233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clusive Singl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09080"/>
                <a:ext cx="320760" cy="319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13840" y="5927400"/>
                <a:ext cx="998640" cy="320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7" name=""/>
            <p:cNvSpPr/>
            <p:nvPr/>
          </p:nvSpPr>
          <p:spPr>
            <a:xfrm>
              <a:off x="749160" y="5045400"/>
              <a:ext cx="24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ENIX 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65680" y="2118240"/>
              <a:ext cx="26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Run2 AuAu 200 Ge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99" name=""/>
          <p:cNvGraphicFramePr/>
          <p:nvPr/>
        </p:nvGraphicFramePr>
        <p:xfrm>
          <a:off x="4572000" y="1523880"/>
          <a:ext cx="4572000" cy="43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523880"/>
                    <a:ext cx="4572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"/>
          <p:cNvGrpSpPr/>
          <p:nvPr/>
        </p:nvGrpSpPr>
        <p:grpSpPr>
          <a:xfrm>
            <a:off x="4343400" y="1066680"/>
            <a:ext cx="4190760" cy="336240"/>
            <a:chOff x="4343400" y="1066680"/>
            <a:chExt cx="4190760" cy="336240"/>
          </a:xfrm>
        </p:grpSpPr>
        <p:sp>
          <p:nvSpPr>
            <p:cNvPr id="402" name=""/>
            <p:cNvSpPr/>
            <p:nvPr/>
          </p:nvSpPr>
          <p:spPr>
            <a:xfrm>
              <a:off x="4570200" y="1066680"/>
              <a:ext cx="396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1 +  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Arial"/>
                </a:rPr>
                <a:t> pQCD direct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 x N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Arial"/>
                </a:rPr>
                <a:t>coll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) / (</a:t>
              </a:r>
              <a:r>
                <a:rPr b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Arial"/>
                </a:rPr>
                <a:t>phenix pp backgrd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 x N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Arial"/>
                </a:rPr>
                <a:t>coll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343400" y="1218960"/>
              <a:ext cx="226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800600" y="7621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w/ the real, suppressed backgroun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763120" y="76212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75640" y="18432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02000" y="2286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uAu 200 GeV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entral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0-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7"/>
          <a:stretch/>
        </p:blipFill>
        <p:spPr>
          <a:xfrm>
            <a:off x="4410000" y="1981080"/>
            <a:ext cx="466920" cy="330516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4378320" y="457200"/>
            <a:ext cx="4765680" cy="336240"/>
            <a:chOff x="4378320" y="457200"/>
            <a:chExt cx="4765680" cy="336240"/>
          </a:xfrm>
        </p:grpSpPr>
        <p:sp>
          <p:nvSpPr>
            <p:cNvPr id="410" name=""/>
            <p:cNvSpPr/>
            <p:nvPr/>
          </p:nvSpPr>
          <p:spPr>
            <a:xfrm>
              <a:off x="4530960" y="457200"/>
              <a:ext cx="461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1 + 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Arial"/>
                </a:rPr>
                <a:t> pQCD direct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 x N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Arial"/>
                </a:rPr>
                <a:t>coll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) / </a:t>
              </a:r>
              <a:r>
                <a:rPr b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Arial"/>
                </a:rPr>
                <a:t>phenix backgrd  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Vogelsang N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378320" y="60948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8458200" y="1295280"/>
            <a:ext cx="0" cy="358164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20120" y="5851440"/>
            <a:ext cx="1371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(GeV/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" y="3333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 photons are enhanced w.r.t.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roduction, but it’s just becaus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s suppressed, and the direct photons are in fact binary sc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E29-7384-4347-9D32-47ECF181D36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rcRect l="0" t="0" r="0" b="10731"/>
          <a:stretch/>
        </p:blipFill>
        <p:spPr>
          <a:xfrm>
            <a:off x="258840" y="1595520"/>
            <a:ext cx="8656560" cy="3433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896520" y="1054080"/>
            <a:ext cx="198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vertical bar : stat.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urves, gray box : sys.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2208240"/>
            <a:ext cx="14824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6080" y="1077840"/>
            <a:ext cx="489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sive photon = including all of the decay effect from had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08480" y="2185920"/>
            <a:ext cx="1482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75360" y="2152800"/>
            <a:ext cx="1482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790800" y="5027760"/>
            <a:ext cx="2413080" cy="31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GeV/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19000" y="175248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00 GeV Au+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268520" y="174636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00 GeV Au+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9440" y="175248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00 GeV Au+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9800" y="5410080"/>
            <a:ext cx="771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photons should not have any flow by definition, bu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ternatively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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ratio can be measured by assuming 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332748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33526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77960" y="369576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3809880"/>
            <a:ext cx="23619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 difference here and the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</a:t>
            </a:r>
            <a:r>
              <a:rPr b="1" lang="en-US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ratio will give us a measure of direct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v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92C-E159-4871-B5F8-04EA15A700B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200240" y="6858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029040" y="6858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857840" y="6858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6686640" y="6858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1219320" y="34290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3029040" y="34290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857840" y="3429000"/>
            <a:ext cx="1695240" cy="25909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8"/>
          <a:stretch/>
        </p:blipFill>
        <p:spPr>
          <a:xfrm>
            <a:off x="6686640" y="3429000"/>
            <a:ext cx="1695240" cy="25909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 rot="16200000">
            <a:off x="-516240" y="1798560"/>
            <a:ext cx="220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1&lt;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Verdana"/>
              </a:rPr>
              <a:t>(associate)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&lt;1.5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-515880" y="4541760"/>
            <a:ext cx="21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2.5&lt;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Verdana"/>
              </a:rPr>
              <a:t>(associate)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&lt;3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76320"/>
            <a:ext cx="70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hadron-hadron correlation (full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re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6019920"/>
            <a:ext cx="184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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r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27400" y="2971800"/>
            <a:ext cx="11818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rmon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ction 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83000" y="533520"/>
            <a:ext cx="432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0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3000" y="3314880"/>
            <a:ext cx="432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0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81400" y="2895480"/>
            <a:ext cx="118368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rmonic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ar-si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u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ction 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65480" y="601992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0.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36680" y="601992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0.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94280" y="601992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0.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13440" y="2873520"/>
            <a:ext cx="118368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rmonic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ar-side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r-si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u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ction 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81680" y="2857680"/>
            <a:ext cx="1447920" cy="97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rmon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xed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asured 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20320" y="762120"/>
            <a:ext cx="4167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u+Au 200GeV 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295280" y="4419720"/>
            <a:ext cx="5639040" cy="838080"/>
            <a:chOff x="1295280" y="4419720"/>
            <a:chExt cx="5639040" cy="838080"/>
          </a:xfrm>
        </p:grpSpPr>
        <p:sp>
          <p:nvSpPr>
            <p:cNvPr id="453" name=""/>
            <p:cNvSpPr/>
            <p:nvPr/>
          </p:nvSpPr>
          <p:spPr>
            <a:xfrm>
              <a:off x="1343160" y="4419720"/>
              <a:ext cx="0" cy="8380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71960" y="4481640"/>
              <a:ext cx="0" cy="761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00760" y="4710240"/>
              <a:ext cx="0" cy="5331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29560" y="4572000"/>
              <a:ext cx="0" cy="68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95280" y="5257800"/>
              <a:ext cx="5639040" cy="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617120" y="2367000"/>
            <a:ext cx="629352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nother way to get the 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: (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is given by the pair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1200" y="5415120"/>
            <a:ext cx="6318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ays to reduce the jet correlation with additional Gauss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57760" y="6095880"/>
            <a:ext cx="360072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A{1+2 (v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ja-JP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 cos(2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)} + Gauss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429-E937-483A-8D4E-73EBD564E6B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095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5105520" y="4572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3520" y="5607000"/>
            <a:ext cx="6019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Reac. plane v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does have less non-flow because of the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ga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Times New Roman"/>
              </a:rPr>
              <a:t>Non-flow are removed in 2 part. corr.     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ja-JP" sz="18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 cumulant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2819520"/>
            <a:ext cx="2895480" cy="7617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3D9-5983-4BBC-BE0B-5545CEBBA18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76320" y="609480"/>
            <a:ext cx="4571640" cy="4419360"/>
            <a:chOff x="76320" y="609480"/>
            <a:chExt cx="4571640" cy="4419360"/>
          </a:xfrm>
        </p:grpSpPr>
        <p:pic>
          <p:nvPicPr>
            <p:cNvPr id="466" name="" descr=""/>
            <p:cNvPicPr/>
            <p:nvPr/>
          </p:nvPicPr>
          <p:blipFill>
            <a:blip r:embed="rId1"/>
            <a:srcRect l="948" t="0" r="7251" b="4185"/>
            <a:stretch/>
          </p:blipFill>
          <p:spPr>
            <a:xfrm>
              <a:off x="76320" y="609480"/>
              <a:ext cx="457164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1966680" y="835560"/>
              <a:ext cx="162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phenix 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29560" y="1174680"/>
              <a:ext cx="12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nucl-ex/03050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67200" y="3548160"/>
              <a:ext cx="183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+Au 200 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572000" cy="44197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780520" y="342900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81080" y="1676520"/>
            <a:ext cx="2286000" cy="13716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1981080"/>
            <a:ext cx="2286000" cy="13716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5410080"/>
            <a:ext cx="5502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reduction of charged particles in the previous page could be enlarged by the baryon/meson rat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7CD-1C6B-4530-8E7C-F561F7722B59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rcRect l="0" t="3335" r="2279" b="0"/>
          <a:stretch/>
        </p:blipFill>
        <p:spPr>
          <a:xfrm>
            <a:off x="685800" y="1143000"/>
            <a:ext cx="7620120" cy="51055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7316640" y="7621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-170280" y="1395000"/>
            <a:ext cx="21740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particle cor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+ non-f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14800" y="1905120"/>
            <a:ext cx="0" cy="14475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05520" y="1981080"/>
            <a:ext cx="0" cy="60984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1981080"/>
            <a:ext cx="0" cy="83844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324480" y="2743200"/>
            <a:ext cx="0" cy="68580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7400" y="720720"/>
            <a:ext cx="4876920" cy="3708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ifference here is given by the real flow (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70C-F8E8-45F9-A4B7-12900AF0416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4114800" y="146196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6257880" y="1066680"/>
            <a:ext cx="25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TAR : nucl-ex/0409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non-flow reduced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1101600"/>
            <a:ext cx="4495680" cy="43084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043800" y="1469880"/>
            <a:ext cx="8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{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06000" y="2467080"/>
            <a:ext cx="105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66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cc00"/>
                </a:solidFill>
                <a:latin typeface="Arial"/>
              </a:rPr>
              <a:t>{RP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80160" y="3676680"/>
            <a:ext cx="8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854080" y="1728720"/>
            <a:ext cx="190440" cy="17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2854080" y="2178000"/>
            <a:ext cx="253800" cy="270000"/>
          </a:xfrm>
          <a:prstGeom prst="line">
            <a:avLst/>
          </a:prstGeom>
          <a:ln w="9360">
            <a:solidFill>
              <a:srgbClr val="66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2854080" y="3435120"/>
            <a:ext cx="190440" cy="26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17280" y="418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72320" y="685800"/>
            <a:ext cx="268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d partic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22860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35053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51880" y="2895480"/>
            <a:ext cx="8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{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47880" y="2286000"/>
            <a:ext cx="105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{RP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47920" y="2590920"/>
            <a:ext cx="1676160" cy="8380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5880" y="2362320"/>
            <a:ext cx="2362320" cy="19047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0880" y="548640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suppression ends somewher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7CE-3F3A-43DD-85E1-6EB77DD2DE3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rcRect l="0" t="6858" r="7921" b="0"/>
          <a:stretch/>
        </p:blipFill>
        <p:spPr>
          <a:xfrm>
            <a:off x="4419720" y="1523880"/>
            <a:ext cx="4419360" cy="40910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990720" y="1752480"/>
            <a:ext cx="19047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bination + 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443376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-old STA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62920" y="27432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ld STA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05520" y="4013280"/>
            <a:ext cx="2743200" cy="888840"/>
          </a:xfrm>
          <a:custGeom>
            <a:avLst/>
            <a:gdLst/>
            <a:ahLst/>
            <a:rect l="l" t="t" r="r" b="b"/>
            <a:pathLst>
              <a:path w="1728" h="560">
                <a:moveTo>
                  <a:pt x="0" y="544"/>
                </a:moveTo>
                <a:cubicBezTo>
                  <a:pt x="64" y="440"/>
                  <a:pt x="128" y="336"/>
                  <a:pt x="192" y="256"/>
                </a:cubicBezTo>
                <a:cubicBezTo>
                  <a:pt x="256" y="176"/>
                  <a:pt x="320" y="104"/>
                  <a:pt x="384" y="64"/>
                </a:cubicBezTo>
                <a:cubicBezTo>
                  <a:pt x="448" y="24"/>
                  <a:pt x="504" y="0"/>
                  <a:pt x="576" y="16"/>
                </a:cubicBezTo>
                <a:cubicBezTo>
                  <a:pt x="648" y="32"/>
                  <a:pt x="736" y="88"/>
                  <a:pt x="816" y="160"/>
                </a:cubicBezTo>
                <a:cubicBezTo>
                  <a:pt x="896" y="232"/>
                  <a:pt x="984" y="384"/>
                  <a:pt x="1056" y="448"/>
                </a:cubicBezTo>
                <a:cubicBezTo>
                  <a:pt x="1128" y="512"/>
                  <a:pt x="1136" y="528"/>
                  <a:pt x="1248" y="544"/>
                </a:cubicBezTo>
                <a:cubicBezTo>
                  <a:pt x="1360" y="560"/>
                  <a:pt x="1544" y="552"/>
                  <a:pt x="1728" y="544"/>
                </a:cubicBezTo>
              </a:path>
            </a:pathLst>
          </a:custGeom>
          <a:noFill/>
          <a:ln w="255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47200" y="444672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no jet-quen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A8A-C665-4BA6-87BE-BCD05E281EA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533520" y="533520"/>
            <a:ext cx="167616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71600" y="533520"/>
            <a:ext cx="16765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828800" y="914400"/>
            <a:ext cx="14479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80880" y="990720"/>
            <a:ext cx="144792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1295280" y="1295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1066320" y="9907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914400" y="12189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828800" y="9907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44000" y="5475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Verdana"/>
              </a:rPr>
              <a:t>leading par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30080" y="114300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d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28800" y="1295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31360" y="457200"/>
            <a:ext cx="275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: Are jets source of v2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: Does reaction z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ke flowing jet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0" y="2971800"/>
            <a:ext cx="4648320" cy="3428640"/>
            <a:chOff x="0" y="2971800"/>
            <a:chExt cx="4648320" cy="3428640"/>
          </a:xfrm>
        </p:grpSpPr>
        <p:grpSp>
          <p:nvGrpSpPr>
            <p:cNvPr id="522" name=""/>
            <p:cNvGrpSpPr/>
            <p:nvPr/>
          </p:nvGrpSpPr>
          <p:grpSpPr>
            <a:xfrm>
              <a:off x="0" y="2971800"/>
              <a:ext cx="4648320" cy="3428640"/>
              <a:chOff x="0" y="2971800"/>
              <a:chExt cx="4648320" cy="3428640"/>
            </a:xfrm>
          </p:grpSpPr>
          <p:sp>
            <p:nvSpPr>
              <p:cNvPr id="523" name=""/>
              <p:cNvSpPr/>
              <p:nvPr/>
            </p:nvSpPr>
            <p:spPr>
              <a:xfrm>
                <a:off x="2820240" y="5105520"/>
                <a:ext cx="96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-60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0" y="2971800"/>
                <a:ext cx="4648320" cy="3428640"/>
                <a:chOff x="0" y="2971800"/>
                <a:chExt cx="4648320" cy="3428640"/>
              </a:xfrm>
            </p:grpSpPr>
            <p:pic>
              <p:nvPicPr>
                <p:cNvPr id="52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2971800"/>
                  <a:ext cx="4648320" cy="342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6" name=""/>
                <p:cNvSpPr/>
                <p:nvPr/>
              </p:nvSpPr>
              <p:spPr>
                <a:xfrm>
                  <a:off x="2154240" y="3299760"/>
                  <a:ext cx="196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STAR preliminar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2876400" y="52164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-6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419720" y="1752480"/>
            <a:ext cx="4267080" cy="4446720"/>
            <a:chOff x="4419720" y="1752480"/>
            <a:chExt cx="4267080" cy="4446720"/>
          </a:xfrm>
        </p:grpSpPr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4419720" y="1752480"/>
              <a:ext cx="4267080" cy="41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5435640" y="5790960"/>
              <a:ext cx="24886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47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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Verdana"/>
                </a:rPr>
                <a:t>track1 </a:t>
              </a: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-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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Verdana"/>
                </a:rPr>
                <a:t>track2</a:t>
              </a: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08400" y="4533840"/>
              <a:ext cx="106632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032080" y="4608000"/>
              <a:ext cx="114264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5641920" y="4455720"/>
              <a:ext cx="10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042880" y="4838400"/>
              <a:ext cx="122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5413320" y="4455720"/>
              <a:ext cx="4568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18200" y="4978080"/>
              <a:ext cx="4993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</a:rPr>
                <a:t>r.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51400" y="4609800"/>
              <a:ext cx="7596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46480" y="4381200"/>
              <a:ext cx="228240" cy="152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41920" y="4368600"/>
              <a:ext cx="2282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15960" y="2300040"/>
              <a:ext cx="15354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</a:rPr>
                <a:t>in-plane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30040" y="3671640"/>
              <a:ext cx="1988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Verdana"/>
                </a:rPr>
                <a:t>out-of-plane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25880" y="2742840"/>
              <a:ext cx="13741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ff00"/>
                  </a:solidFill>
                  <a:latin typeface="Verdana"/>
                </a:rPr>
                <a:t>in betw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5255640" y="2971440"/>
              <a:ext cx="612360" cy="1526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37400" y="4216320"/>
              <a:ext cx="1529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rigger part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n the select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ngular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72200" y="4902120"/>
              <a:ext cx="380520" cy="152280"/>
            </a:xfrm>
            <a:prstGeom prst="rightArrow">
              <a:avLst>
                <a:gd name="adj1" fmla="val 50000"/>
                <a:gd name="adj2" fmla="val 62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24120" y="4520880"/>
              <a:ext cx="38052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095880" y="4444920"/>
              <a:ext cx="3045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790600" y="4216320"/>
              <a:ext cx="456840" cy="75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8160" y="4216320"/>
              <a:ext cx="45684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00800" y="4444920"/>
              <a:ext cx="304200" cy="759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120" y="2362320"/>
            <a:ext cx="327636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Times New Roman"/>
              </a:rPr>
              <a:t>Proof of the jet quen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Times New Roman"/>
              </a:rPr>
              <a:t>and the source of v</a:t>
            </a:r>
            <a:r>
              <a:rPr b="1" lang="ja-JP" sz="1800" spc="-1" strike="noStrike" baseline="-25000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ja-JP" sz="1800" spc="-1" strike="noStrike">
                <a:solidFill>
                  <a:srgbClr val="ff00ff"/>
                </a:solidFill>
                <a:latin typeface="Times New Roman"/>
              </a:rPr>
              <a:t> at high p</a:t>
            </a:r>
            <a:r>
              <a:rPr b="1" lang="ja-JP" sz="1800" spc="-1" strike="noStrike" baseline="-25000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E83-F298-4336-9D54-9388D308C864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119640" cy="63244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535760" y="594360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204-7013-4F4E-B400-14C57BBB3BE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H="1">
            <a:off x="2838600" y="2895480"/>
            <a:ext cx="121824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5960" y="4648320"/>
            <a:ext cx="1526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38600" y="480060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8080" y="289548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95800" y="2743200"/>
            <a:ext cx="15228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85960" y="2743200"/>
            <a:ext cx="121896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53000" y="2895480"/>
            <a:ext cx="121824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95800" y="274320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743200"/>
            <a:ext cx="15228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28760" y="4495680"/>
            <a:ext cx="112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49568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3400" y="4343400"/>
            <a:ext cx="1526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4191120"/>
            <a:ext cx="3808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24200" y="4192560"/>
            <a:ext cx="30420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443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44358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7880" y="48006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47880" y="41911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495680"/>
            <a:ext cx="103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92920" y="4343400"/>
            <a:ext cx="1648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86360" y="4191120"/>
            <a:ext cx="38124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91640" y="4192560"/>
            <a:ext cx="30420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443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44358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4960" y="41911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9620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1040" y="1066680"/>
            <a:ext cx="21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eam-beam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BBC)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|=3~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4pmts in each BBC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arged part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286000"/>
            <a:ext cx="152280" cy="1828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380520" y="2133720"/>
            <a:ext cx="6400080" cy="39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43320" y="5181480"/>
            <a:ext cx="27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</a:rPr>
              <a:t>two central ar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</a:rPr>
              <a:t>(CNT)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lang="ja-JP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|&lt;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</a:rPr>
              <a:t>Dch,PCs,TOF,EM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tracking, momentum, 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362320" y="4800600"/>
            <a:ext cx="30456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71760" y="5409720"/>
            <a:ext cx="74304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4267080"/>
            <a:ext cx="152280" cy="4572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05080" y="350532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96920" y="31240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ision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16440" y="44337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m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638680" y="1004400"/>
            <a:ext cx="2682360" cy="2273760"/>
            <a:chOff x="5638680" y="1004400"/>
            <a:chExt cx="2682360" cy="2273760"/>
          </a:xfrm>
        </p:grpSpPr>
        <p:sp>
          <p:nvSpPr>
            <p:cNvPr id="81" name=""/>
            <p:cNvSpPr/>
            <p:nvPr/>
          </p:nvSpPr>
          <p:spPr>
            <a:xfrm flipV="1">
              <a:off x="6095880" y="10044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28335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5390640" y="1339920"/>
              <a:ext cx="90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dN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/d</a:t>
              </a:r>
              <a:r>
                <a:rPr b="0" lang="ja-JP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3160" y="2909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1200" y="2833560"/>
              <a:ext cx="18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-6    -3    0     3   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324480" y="2757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705720" y="2757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086600" y="2757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467480" y="2757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848720" y="2757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324480" y="1386000"/>
              <a:ext cx="533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7315200" y="1386000"/>
              <a:ext cx="533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0" y="13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1461960"/>
              <a:ext cx="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62920" y="1461960"/>
              <a:ext cx="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7010280" y="1461960"/>
              <a:ext cx="76320" cy="152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010280" y="1461960"/>
              <a:ext cx="15264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010280" y="1614600"/>
              <a:ext cx="15264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010280" y="1766880"/>
              <a:ext cx="15264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010280" y="1919160"/>
              <a:ext cx="15264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010280" y="2071800"/>
              <a:ext cx="15264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10280" y="2224080"/>
              <a:ext cx="15264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010280" y="2376360"/>
              <a:ext cx="15264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086600" y="2529000"/>
              <a:ext cx="76320" cy="152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720" y="1919160"/>
              <a:ext cx="0" cy="838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53080" y="222408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553080" y="1995480"/>
              <a:ext cx="15264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553080" y="2147760"/>
              <a:ext cx="15264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53080" y="2300400"/>
              <a:ext cx="15264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553080" y="2452680"/>
              <a:ext cx="15264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629400" y="2604960"/>
              <a:ext cx="7632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7480" y="1919160"/>
              <a:ext cx="0" cy="838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0120" y="222408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7480" y="1995480"/>
              <a:ext cx="15264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67480" y="2147760"/>
              <a:ext cx="15264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67480" y="2300400"/>
              <a:ext cx="15264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67480" y="2452680"/>
              <a:ext cx="15264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67480" y="2604960"/>
              <a:ext cx="7632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96080" y="4305240"/>
            <a:ext cx="457200" cy="380880"/>
            <a:chOff x="7696080" y="4305240"/>
            <a:chExt cx="457200" cy="380880"/>
          </a:xfrm>
        </p:grpSpPr>
        <p:sp>
          <p:nvSpPr>
            <p:cNvPr id="120" name=""/>
            <p:cNvSpPr/>
            <p:nvPr/>
          </p:nvSpPr>
          <p:spPr>
            <a:xfrm>
              <a:off x="7696080" y="4305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96080" y="461016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8360" y="4381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430524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48360" y="4381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6080" y="43052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48360" y="4686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53280" y="4381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0640" y="430524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80880" y="4305240"/>
            <a:ext cx="457200" cy="380880"/>
            <a:chOff x="380880" y="4305240"/>
            <a:chExt cx="457200" cy="380880"/>
          </a:xfrm>
        </p:grpSpPr>
        <p:sp>
          <p:nvSpPr>
            <p:cNvPr id="130" name=""/>
            <p:cNvSpPr/>
            <p:nvPr/>
          </p:nvSpPr>
          <p:spPr>
            <a:xfrm>
              <a:off x="380880" y="4305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61016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160" y="4381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880" y="430524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160" y="4381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880" y="43052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160" y="4686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4381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440" y="430524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551280" y="5011560"/>
            <a:ext cx="24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ro Degree Calori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er-Max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ator neutron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m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543800" y="4723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2960" y="1523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2080" y="1004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2590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2590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54760" y="210168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DC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2120" y="1066680"/>
            <a:ext cx="195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00"/>
                </a:solidFill>
                <a:latin typeface="Times New Roman"/>
              </a:rPr>
              <a:t>Muon</a:t>
            </a:r>
            <a:r>
              <a:rPr b="0" lang="ja-JP" sz="1800" spc="-1" strike="noStrike">
                <a:solidFill>
                  <a:srgbClr val="00ff00"/>
                </a:solidFill>
                <a:latin typeface="Times New Roman"/>
              </a:rPr>
              <a:t> arm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00"/>
                </a:solidFill>
                <a:latin typeface="Times New Roman"/>
              </a:rPr>
              <a:t>Silicon multipl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00"/>
                </a:solidFill>
                <a:latin typeface="Times New Roman"/>
              </a:rPr>
              <a:t>(MVD) endc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3733920"/>
            <a:ext cx="457200" cy="152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4114800"/>
            <a:ext cx="152280" cy="7621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428640" y="1981080"/>
            <a:ext cx="762120" cy="17528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114800"/>
            <a:ext cx="152640" cy="7621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3733920"/>
            <a:ext cx="457200" cy="152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97000" y="2960280"/>
            <a:ext cx="2260440" cy="4175280"/>
            <a:chOff x="2997000" y="2960280"/>
            <a:chExt cx="2260440" cy="4175280"/>
          </a:xfrm>
        </p:grpSpPr>
        <p:sp>
          <p:nvSpPr>
            <p:cNvPr id="155" name=""/>
            <p:cNvSpPr/>
            <p:nvPr/>
          </p:nvSpPr>
          <p:spPr>
            <a:xfrm>
              <a:off x="2997000" y="2960280"/>
              <a:ext cx="1168200" cy="40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50" y="61"/>
                  </a:moveTo>
                  <a:arcTo wR="10800" hR="10800" stAng="-5033243" swAng="55650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50" y="61"/>
                  </a:moveTo>
                  <a:arcTo wR="10800" hR="10800" stAng="-5033243" swAng="5565012"/>
                </a:path>
              </a:pathLst>
            </a:custGeom>
            <a:noFill/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13360" y="3053880"/>
              <a:ext cx="1168920" cy="408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50" y="61"/>
                  </a:moveTo>
                  <a:arcTo wR="10800" hR="10800" stAng="-5033243" swAng="55650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50" y="61"/>
                  </a:moveTo>
                  <a:arcTo wR="10800" hR="10800" stAng="-5033243" swAng="5565012"/>
                </a:path>
              </a:pathLst>
            </a:custGeom>
            <a:noFill/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53640" y="2971800"/>
              <a:ext cx="218520" cy="9360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53640" y="2971800"/>
              <a:ext cx="8744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72520" y="3065400"/>
              <a:ext cx="8744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83000" y="5409720"/>
              <a:ext cx="8744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64120" y="5316480"/>
              <a:ext cx="218520" cy="9324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88160" y="3053880"/>
              <a:ext cx="1168920" cy="408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50" y="61"/>
                  </a:moveTo>
                  <a:arcTo wR="10800" hR="10800" stAng="-5033243" swAng="55650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50" y="61"/>
                  </a:moveTo>
                  <a:arcTo wR="10800" hR="10800" stAng="-5033243" swAng="5565012"/>
                </a:path>
              </a:pathLst>
            </a:custGeom>
            <a:noFill/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28440" y="2971800"/>
              <a:ext cx="218520" cy="9360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343400" y="1981080"/>
            <a:ext cx="304920" cy="17528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1752480"/>
            <a:ext cx="0" cy="990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1523880"/>
            <a:ext cx="0" cy="12193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781680" y="1676520"/>
            <a:ext cx="152640" cy="3045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781680" y="1828800"/>
            <a:ext cx="152640" cy="304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781680" y="1981080"/>
            <a:ext cx="152640" cy="304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781680" y="2133720"/>
            <a:ext cx="152640" cy="3045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81680" y="2286000"/>
            <a:ext cx="152640" cy="304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1680" y="2438280"/>
            <a:ext cx="152640" cy="304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1523880"/>
            <a:ext cx="0" cy="12193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1752480"/>
            <a:ext cx="0" cy="990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1676520"/>
            <a:ext cx="152640" cy="3045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1828800"/>
            <a:ext cx="152640" cy="304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1981080"/>
            <a:ext cx="152640" cy="304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2133720"/>
            <a:ext cx="152640" cy="3045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2286000"/>
            <a:ext cx="152640" cy="304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2438280"/>
            <a:ext cx="152640" cy="304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19000" y="12193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MV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2040" y="19368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plane detectors in PHE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3720" y="35812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69240" y="36576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0456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0D2-DC81-4C3F-A6E4-666CE0C2A9A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838080" y="179064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4629240" y="177156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568520" y="2057400"/>
            <a:ext cx="239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-plan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 between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ut-of-plan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5280" y="541008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            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5280" y="541008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                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19960" y="54864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r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53880" y="54100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r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-250920" y="245808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/m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76920" y="1981080"/>
            <a:ext cx="32763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flow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trigge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&gt; 3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 &lt;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associate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&lt; 2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199520" y="965160"/>
            <a:ext cx="29941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curves are fix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d v2 an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65600" y="965160"/>
            <a:ext cx="3505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coalescence of jet-fragmentation could be one of the source of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7692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69F-C87D-4CE5-8773-B858FE1605B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rcRect l="0" t="0" r="8623" b="0"/>
          <a:stretch/>
        </p:blipFill>
        <p:spPr>
          <a:xfrm>
            <a:off x="76320" y="1219320"/>
            <a:ext cx="4647960" cy="44971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4778280" y="1371600"/>
            <a:ext cx="4365720" cy="44197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691240" y="31543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47160" y="879480"/>
            <a:ext cx="399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turating at RHIC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E0C-5ACC-4BCF-8FE5-15110296D5B4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800600" cy="384948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"/>
          <a:srcRect l="0" t="7631" r="0" b="0"/>
          <a:stretch/>
        </p:blipFill>
        <p:spPr>
          <a:xfrm>
            <a:off x="4419720" y="1251000"/>
            <a:ext cx="4724280" cy="36259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5634360" y="10206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OS : nucl-ex/04060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07200" y="1066680"/>
            <a:ext cx="329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OBOS : Phys. Rev. Lett. 91 052303 (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4951440"/>
            <a:ext cx="60962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 change of p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distribution (slope) and/or &lt;p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&gt; could also be a source of slight change of &lt;v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&gt; at mid rapidity at RHIC energies, if the previous page is corr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760-1EFE-499C-81D3-88323B323AB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066680" y="990720"/>
            <a:ext cx="66294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quark number scaling in identified hadr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inary scaled charm and photon, but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ets and its interplay with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saturation at RHIC en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6EA-3C89-4849-8E9F-80CD36320A04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95280" y="596880"/>
            <a:ext cx="3581640" cy="3289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619600" y="3378240"/>
            <a:ext cx="2914920" cy="2184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952880" y="533520"/>
            <a:ext cx="3014640" cy="3352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80280" y="4191120"/>
            <a:ext cx="629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IP calibration for each 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ing gain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verage sin/cos shift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moving 4 special p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ormalized sumx/y distribution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nventional flattering (shifting angle)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040" y="320760"/>
            <a:ext cx="170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-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2CA-0544-4099-A396-031C24951F0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04920" y="533520"/>
            <a:ext cx="8457840" cy="2743200"/>
            <a:chOff x="304920" y="533520"/>
            <a:chExt cx="8457840" cy="274320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rcRect l="6918" t="51504" r="9491" b="6564"/>
            <a:stretch/>
          </p:blipFill>
          <p:spPr>
            <a:xfrm>
              <a:off x="304920" y="533520"/>
              <a:ext cx="84578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573440" y="1588320"/>
              <a:ext cx="78480" cy="21096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68720" y="1588320"/>
              <a:ext cx="78840" cy="21096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95320" y="814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651920" y="1095840"/>
              <a:ext cx="15804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10680" y="1095840"/>
              <a:ext cx="1576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2"/>
          <a:srcRect l="26450" t="8490" r="18864" b="51727"/>
          <a:stretch/>
        </p:blipFill>
        <p:spPr>
          <a:xfrm>
            <a:off x="0" y="4441680"/>
            <a:ext cx="4572000" cy="2111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419720" y="331488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 rot="2425200">
            <a:off x="5562360" y="6095520"/>
            <a:ext cx="130464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Yellow Bea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952880" y="5714640"/>
            <a:ext cx="60984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5486400"/>
            <a:ext cx="609480" cy="304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4648320"/>
            <a:ext cx="1447920" cy="1447560"/>
          </a:xfrm>
          <a:prstGeom prst="rect">
            <a:avLst/>
          </a:prstGeom>
          <a:solidFill>
            <a:srgbClr val="ccffcc">
              <a:alpha val="50000"/>
            </a:srgbClr>
          </a:solidFill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807400">
            <a:off x="1523520" y="2057040"/>
            <a:ext cx="609840" cy="5335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793800">
            <a:off x="7391160" y="2057400"/>
            <a:ext cx="609480" cy="5335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657600" y="2286000"/>
            <a:ext cx="328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FHC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285640" y="2362320"/>
            <a:ext cx="1219320" cy="75960"/>
          </a:xfrm>
          <a:prstGeom prst="line">
            <a:avLst/>
          </a:prstGeom>
          <a:ln w="93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191120" y="2361960"/>
            <a:ext cx="3200400" cy="75960"/>
          </a:xfrm>
          <a:prstGeom prst="line">
            <a:avLst/>
          </a:prstGeom>
          <a:ln w="93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05320" y="2666880"/>
            <a:ext cx="304560" cy="1905120"/>
          </a:xfrm>
          <a:prstGeom prst="line">
            <a:avLst/>
          </a:prstGeom>
          <a:ln w="93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562720" y="3429000"/>
            <a:ext cx="382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D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3809880"/>
            <a:ext cx="38088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24480" y="3352680"/>
            <a:ext cx="619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M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3657600"/>
            <a:ext cx="38088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41148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am’s eye” view of Z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523520" y="1676520"/>
            <a:ext cx="1295640" cy="3045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705360" y="1523880"/>
            <a:ext cx="990360" cy="152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1676520"/>
            <a:ext cx="152640" cy="759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1676520"/>
            <a:ext cx="1676520" cy="304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 rot="21597600">
            <a:off x="4267080" y="3352320"/>
            <a:ext cx="1076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uth tunnel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00200" y="380880"/>
            <a:ext cx="5810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outh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086600" y="380880"/>
            <a:ext cx="552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orth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 rot="1498200">
            <a:off x="7924320" y="5105160"/>
            <a:ext cx="10764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ENIX here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8686800" y="5562720"/>
            <a:ext cx="4572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560" y="3262320"/>
            <a:ext cx="341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ZDC – Zero Degree Calori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BBC – Beam Beam Cou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FHC – Forward Hadron Calori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2860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DC location in RHIC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 rot="2425200">
            <a:off x="5943240" y="5791320"/>
            <a:ext cx="130500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lue Bea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8B0-40EE-45ED-A427-9AB8C37A92D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4582" t="12503" r="5367" b="5835"/>
          <a:stretch/>
        </p:blipFill>
        <p:spPr>
          <a:xfrm>
            <a:off x="668160" y="304920"/>
            <a:ext cx="3810240" cy="3336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592200" y="3719520"/>
            <a:ext cx="3886200" cy="2909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68360" y="36576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Naked” ZDC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811160" y="4343400"/>
            <a:ext cx="91440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649240" y="5029200"/>
            <a:ext cx="53316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39160" y="402444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 PPMA fi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0" y="46483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ungsten absorber 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33560" y="304920"/>
            <a:ext cx="254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chematic of ZDC module as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2203560" cy="6172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254000" y="3049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D fla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5280" y="45720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cintillator str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23760" y="34671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LS f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82040" y="10666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6ch. PMT “M16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858000" y="4876920"/>
            <a:ext cx="99072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476760" y="3809880"/>
            <a:ext cx="99036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6324480" y="3504960"/>
            <a:ext cx="91440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400440" y="1447920"/>
            <a:ext cx="106668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477120" y="685800"/>
            <a:ext cx="121896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5440" y="1752480"/>
            <a:ext cx="167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t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M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8640" y="2486160"/>
            <a:ext cx="19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Calorimet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ZD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4876920"/>
            <a:ext cx="152640" cy="1600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4876920"/>
            <a:ext cx="152280" cy="1600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876920"/>
            <a:ext cx="152280" cy="1600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4876920"/>
            <a:ext cx="152640" cy="1600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4876920"/>
            <a:ext cx="152280" cy="1600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4876920"/>
            <a:ext cx="152280" cy="1600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4876920"/>
            <a:ext cx="152640" cy="1600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943600" y="4952880"/>
            <a:ext cx="1143000" cy="7632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81760" y="5105160"/>
            <a:ext cx="1143000" cy="759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981760" y="5257800"/>
            <a:ext cx="1143000" cy="7632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000840" y="5410080"/>
            <a:ext cx="1143000" cy="7632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039000" y="5562360"/>
            <a:ext cx="1143000" cy="759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58080" y="5715000"/>
            <a:ext cx="1143000" cy="7632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076800" y="5867280"/>
            <a:ext cx="1143000" cy="7632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095880" y="6019560"/>
            <a:ext cx="1143000" cy="759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114960" y="6172200"/>
            <a:ext cx="1143000" cy="7632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5334120"/>
            <a:ext cx="144792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ＭＳ ゴシック"/>
              </a:rPr>
              <a:t>horizontal-str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ＭＳ ゴシック"/>
              </a:rPr>
              <a:t>vertical-str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8FB-C913-4191-9635-B0030620ACB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303200" y="270000"/>
            <a:ext cx="6537600" cy="6011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899000" y="763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D1 (Sou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5040" y="763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D2 (Nor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540720" y="7549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93160" y="28954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720" y="28954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55480" y="6019920"/>
            <a:ext cx="14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X-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375480" y="4139280"/>
            <a:ext cx="14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Y-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03600" y="6019920"/>
            <a:ext cx="14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X-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790720" y="4267080"/>
            <a:ext cx="409680" cy="519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57440" y="4786200"/>
            <a:ext cx="609480" cy="3193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90720" y="4772160"/>
            <a:ext cx="1067040" cy="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4772160"/>
            <a:ext cx="1067040" cy="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6200" y="44956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32560" y="3809880"/>
            <a:ext cx="89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 baseline="-25000">
                <a:solidFill>
                  <a:srgbClr val="ff00ff"/>
                </a:solidFill>
                <a:latin typeface="Times New Roman"/>
              </a:rPr>
              <a:t>SM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52080" y="3962520"/>
            <a:ext cx="89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 baseline="-25000">
                <a:solidFill>
                  <a:srgbClr val="ff00ff"/>
                </a:solidFill>
                <a:latin typeface="Times New Roman"/>
              </a:rPr>
              <a:t>SM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562720" y="4495680"/>
            <a:ext cx="6084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6091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84760" y="175248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am sp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565-9B92-4495-8163-478B762530E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18960" y="657360"/>
            <a:ext cx="8506080" cy="56671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57200" y="304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SMD1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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SM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304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BBC1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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BB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72200" y="304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SMD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s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BBC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35268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BBC1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BB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05320" y="33526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SMD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s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9200" y="2971800"/>
            <a:ext cx="1183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-to-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8720" y="2971800"/>
            <a:ext cx="1183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-to-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02960" y="2994120"/>
            <a:ext cx="1809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spectator neutrons 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s from participa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re flowing opposi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0120" y="5867280"/>
            <a:ext cx="17384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liptic flow a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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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e corre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50960" y="5870520"/>
            <a:ext cx="19058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liptic flow is in-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.r.t. spectator R.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14360" y="361800"/>
            <a:ext cx="400320" cy="400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72040" y="380880"/>
            <a:ext cx="39996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81920" y="380880"/>
            <a:ext cx="39996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977-D467-4C1F-B4C1-235B3533468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438280" y="76320"/>
            <a:ext cx="5722920" cy="63244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06360" y="35244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D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rm, R.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with B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194-3062-4659-ADB2-848021A5D11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fei workshop, 18-19/Oct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2:07:59Z</dcterms:created>
  <dc:creator>江角晋一</dc:creator>
  <dc:description/>
  <dc:language>en-US</dc:language>
  <cp:lastModifiedBy>三明 康郎</cp:lastModifiedBy>
  <dcterms:modified xsi:type="dcterms:W3CDTF">2004-11-02T09:03:48Z</dcterms:modified>
  <cp:revision>65</cp:revision>
  <dc:subject/>
  <dc:title>PowerPoint プレゼンテーション</dc:title>
</cp:coreProperties>
</file>