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156-B6E2-49EF-85CA-62B118BA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AAA-2E69-4B4B-9DE5-198037A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6C7-3D61-4604-827B-219D3274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0F3-71B8-4E0D-8441-7C3D612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07D-C4BD-4F81-8435-497B613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C71-281D-4782-B523-E4DB7F0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9A0-431E-4AF5-840C-8C5D44C4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914-9DFA-4F83-A978-62F90EA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D3C-E824-4B58-B0C2-3F1B40FE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FE3-1DB0-40DA-AC0B-01B5FC7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DF9-B428-4BE9-8D19-17796ED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643-1905-489B-B390-BB1172A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6553080"/>
            <a:ext cx="419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DDD-C5FC-4E1D-832A-2D8782B989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80880"/>
            <a:ext cx="7010640" cy="45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Analysis of event anisotrop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azimuthal pair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--- looking for the origin of large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 at RHIC 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w.r.t. R.P. vs correlati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azimuthal correlation w.r.t. R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- hadron-hadron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- photon-hadron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0320" y="4994280"/>
            <a:ext cx="4400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hinIchi Esu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st. of Physics, Univ. of Tsuku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enno-dai 1-1-1, Tsukuba, Ibaraki 305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sumi @ sakura.cc.tsukuba.ac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el/fax) +81-29-853-4249 (off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el/fax) +81-29-853-6121 (la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3320" y="5562720"/>
            <a:ext cx="26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rk Matt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akland, Jan11-17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 session,  Flow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24240" y="6157800"/>
            <a:ext cx="914400" cy="3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47C-65F4-46DD-B6BE-DDF03398B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corp_sim2_s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994280" cy="1679400"/>
          </a:xfrm>
          <a:prstGeom prst="rect">
            <a:avLst/>
          </a:prstGeom>
          <a:ln w="0">
            <a:noFill/>
          </a:ln>
        </p:spPr>
      </p:pic>
      <p:pic>
        <p:nvPicPr>
          <p:cNvPr id="250" name="corp_sim3_s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4994280" cy="1679400"/>
          </a:xfrm>
          <a:prstGeom prst="rect">
            <a:avLst/>
          </a:prstGeom>
          <a:ln w="0">
            <a:noFill/>
          </a:ln>
        </p:spPr>
      </p:pic>
      <p:pic>
        <p:nvPicPr>
          <p:cNvPr id="251" name="corp_sim4_s" descr=""/>
          <p:cNvPicPr/>
          <p:nvPr/>
        </p:nvPicPr>
        <p:blipFill>
          <a:blip r:embed="rId3"/>
          <a:stretch/>
        </p:blipFill>
        <p:spPr>
          <a:xfrm>
            <a:off x="3692520" y="3425760"/>
            <a:ext cx="4994280" cy="1679760"/>
          </a:xfrm>
          <a:prstGeom prst="rect">
            <a:avLst/>
          </a:prstGeom>
          <a:ln w="0">
            <a:noFill/>
          </a:ln>
        </p:spPr>
      </p:pic>
      <p:pic>
        <p:nvPicPr>
          <p:cNvPr id="252" name="corp_sim5_s" descr=""/>
          <p:cNvPicPr/>
          <p:nvPr/>
        </p:nvPicPr>
        <p:blipFill>
          <a:blip r:embed="rId4"/>
          <a:stretch/>
        </p:blipFill>
        <p:spPr>
          <a:xfrm>
            <a:off x="3692520" y="5025960"/>
            <a:ext cx="4994280" cy="1679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89080" y="6324480"/>
            <a:ext cx="1410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71600" y="1071720"/>
            <a:ext cx="1909800" cy="374400"/>
            <a:chOff x="1371600" y="1071720"/>
            <a:chExt cx="1909800" cy="374400"/>
          </a:xfrm>
        </p:grpSpPr>
        <p:sp>
          <p:nvSpPr>
            <p:cNvPr id="255" name=""/>
            <p:cNvSpPr/>
            <p:nvPr/>
          </p:nvSpPr>
          <p:spPr>
            <a:xfrm>
              <a:off x="1371600" y="1071720"/>
              <a:ext cx="1909800" cy="3744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1360" y="1071720"/>
              <a:ext cx="1789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flowing 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71600" y="2330280"/>
            <a:ext cx="2239920" cy="649440"/>
            <a:chOff x="1371600" y="2330280"/>
            <a:chExt cx="2239920" cy="649440"/>
          </a:xfrm>
        </p:grpSpPr>
        <p:sp>
          <p:nvSpPr>
            <p:cNvPr id="258" name=""/>
            <p:cNvSpPr/>
            <p:nvPr/>
          </p:nvSpPr>
          <p:spPr>
            <a:xfrm>
              <a:off x="1371600" y="2330280"/>
              <a:ext cx="22399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55480" y="2330280"/>
              <a:ext cx="207216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flowing je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reduced jets y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371600" y="4043520"/>
            <a:ext cx="1938240" cy="374760"/>
            <a:chOff x="1371600" y="4043520"/>
            <a:chExt cx="1938240" cy="374760"/>
          </a:xfrm>
        </p:grpSpPr>
        <p:sp>
          <p:nvSpPr>
            <p:cNvPr id="261" name=""/>
            <p:cNvSpPr/>
            <p:nvPr/>
          </p:nvSpPr>
          <p:spPr>
            <a:xfrm>
              <a:off x="1371600" y="4043520"/>
              <a:ext cx="19382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4680" y="4043520"/>
              <a:ext cx="1791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like dec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371600" y="5410080"/>
            <a:ext cx="2055960" cy="671760"/>
            <a:chOff x="1371600" y="5410080"/>
            <a:chExt cx="2055960" cy="671760"/>
          </a:xfrm>
        </p:grpSpPr>
        <p:sp>
          <p:nvSpPr>
            <p:cNvPr id="264" name=""/>
            <p:cNvSpPr/>
            <p:nvPr/>
          </p:nvSpPr>
          <p:spPr>
            <a:xfrm>
              <a:off x="1371600" y="5410080"/>
              <a:ext cx="205596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1600" y="5410080"/>
              <a:ext cx="20559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o 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like deca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reduced v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828800" y="271440"/>
            <a:ext cx="204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trig)&gt;3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880"/>
            <a:ext cx="4496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0&lt;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1GeV/c               1&lt;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2GeV/c                2&lt;p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Verdana"/>
              </a:rPr>
              <a:t>T1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5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AC7-E203-4AA8-936A-64C3B930E9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hoton_v2_comp_ppg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650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651320" y="26240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146-C415-4C15-BCD7-4D81996B5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hhcor_fit_prelim" descr=""/>
          <p:cNvPicPr/>
          <p:nvPr/>
        </p:nvPicPr>
        <p:blipFill>
          <a:blip r:embed="rId1"/>
          <a:stretch/>
        </p:blipFill>
        <p:spPr>
          <a:xfrm>
            <a:off x="2774880" y="228600"/>
            <a:ext cx="6369120" cy="6400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344480" y="0"/>
            <a:ext cx="32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gt;3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1600" y="641664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hadron-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24560" y="549360"/>
            <a:ext cx="41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1           1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2            2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80680" y="1889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-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98320" y="3870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20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8600" y="5861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29240" y="1076400"/>
            <a:ext cx="566640" cy="5257800"/>
            <a:chOff x="5529240" y="1076400"/>
            <a:chExt cx="566640" cy="5257800"/>
          </a:xfrm>
        </p:grpSpPr>
        <p:sp>
          <p:nvSpPr>
            <p:cNvPr id="278" name=""/>
            <p:cNvSpPr/>
            <p:nvPr/>
          </p:nvSpPr>
          <p:spPr>
            <a:xfrm>
              <a:off x="552924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588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3280" y="305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467480" y="1076400"/>
            <a:ext cx="566640" cy="5257800"/>
            <a:chOff x="7467480" y="1076400"/>
            <a:chExt cx="566640" cy="5257800"/>
          </a:xfrm>
        </p:grpSpPr>
        <p:sp>
          <p:nvSpPr>
            <p:cNvPr id="282" name=""/>
            <p:cNvSpPr/>
            <p:nvPr/>
          </p:nvSpPr>
          <p:spPr>
            <a:xfrm>
              <a:off x="746748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412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81520" y="305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057400" y="45720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5840"/>
            <a:ext cx="2533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ssociated had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000" y="838080"/>
            <a:ext cx="14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-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Verdana"/>
              </a:rPr>
              <a:t>mid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out-of-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400" y="1905120"/>
            <a:ext cx="2073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Fitted line sh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is given by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1)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trig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2)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associ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3)R.P.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4)in/out bin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nucl-ex/0311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nd one 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norm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parameter f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done in a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range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" y="61722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1720800" y="1806480"/>
            <a:ext cx="19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c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) [arb. un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5A3-B96E-4FFE-9E3D-76A365D48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hhcor_sub_prelim2" descr=""/>
          <p:cNvPicPr/>
          <p:nvPr/>
        </p:nvPicPr>
        <p:blipFill>
          <a:blip r:embed="rId1"/>
          <a:stretch/>
        </p:blipFill>
        <p:spPr>
          <a:xfrm>
            <a:off x="2854440" y="266760"/>
            <a:ext cx="6289560" cy="6362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33640" y="4299120"/>
            <a:ext cx="24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flow subtra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Verdana"/>
              </a:rPr>
              <a:t>hadron-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orre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4480" y="0"/>
            <a:ext cx="32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gt;3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61600" y="641664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hadron-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24560" y="549360"/>
            <a:ext cx="41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1           1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2            2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0680" y="1889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-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98320" y="3870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20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88600" y="5861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840"/>
            <a:ext cx="2533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ssociated had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45720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1720800" y="1806480"/>
            <a:ext cx="19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c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) [arb. un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" y="61722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629-DA90-4737-A845-F8346D08D1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ghcor_fit_prelim" descr=""/>
          <p:cNvPicPr/>
          <p:nvPr/>
        </p:nvPicPr>
        <p:blipFill>
          <a:blip r:embed="rId1"/>
          <a:stretch/>
        </p:blipFill>
        <p:spPr>
          <a:xfrm>
            <a:off x="2760840" y="157320"/>
            <a:ext cx="6383160" cy="64720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159800" y="64008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photon-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0"/>
            <a:ext cx="2533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ssociated had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24560" y="549360"/>
            <a:ext cx="41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1           1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2            2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80680" y="1889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-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8320" y="3870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20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88600" y="5861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529240" y="1076400"/>
            <a:ext cx="566640" cy="5257800"/>
            <a:chOff x="5529240" y="1076400"/>
            <a:chExt cx="566640" cy="5257800"/>
          </a:xfrm>
        </p:grpSpPr>
        <p:sp>
          <p:nvSpPr>
            <p:cNvPr id="311" name=""/>
            <p:cNvSpPr/>
            <p:nvPr/>
          </p:nvSpPr>
          <p:spPr>
            <a:xfrm>
              <a:off x="552924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588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43280" y="305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467480" y="1076400"/>
            <a:ext cx="566640" cy="5257800"/>
            <a:chOff x="7467480" y="1076400"/>
            <a:chExt cx="566640" cy="5257800"/>
          </a:xfrm>
        </p:grpSpPr>
        <p:sp>
          <p:nvSpPr>
            <p:cNvPr id="315" name=""/>
            <p:cNvSpPr/>
            <p:nvPr/>
          </p:nvSpPr>
          <p:spPr>
            <a:xfrm>
              <a:off x="746748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34120" y="1076400"/>
              <a:ext cx="0" cy="525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81520" y="305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057400" y="45720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2680" y="0"/>
            <a:ext cx="323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phot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gt;2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000" y="838080"/>
            <a:ext cx="14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-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Verdana"/>
              </a:rPr>
              <a:t>mid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out-of-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480" y="61722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1720800" y="1806480"/>
            <a:ext cx="19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c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) [arb. un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8400" y="1905120"/>
            <a:ext cx="2073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Fitted line sh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is given by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1)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trig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2)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associ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3)R.P.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4)in/out bin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(nucl-ex/0311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nd one 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norm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parameter f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done in a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range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F70-5619-4C7E-8A8C-9DB691F975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ghcor_sub_prelim2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6278400" cy="6343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3520" y="0"/>
            <a:ext cx="2533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associated had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2680" y="0"/>
            <a:ext cx="323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phot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gt;2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59800" y="641664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Verdana"/>
              </a:rPr>
              <a:t>photon-hadr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24560" y="549360"/>
            <a:ext cx="41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1           1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2            2&lt;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&l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80680" y="1889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0-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8320" y="3870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20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88600" y="5861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640" y="4299120"/>
            <a:ext cx="24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flow subtra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Verdana"/>
              </a:rPr>
              <a:t>photon-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orre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45720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1720800" y="1806480"/>
            <a:ext cx="19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c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) [arb. un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480" y="61722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1F6-5DC9-4D4D-9A56-F8631382C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641520"/>
            <a:ext cx="8001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1) very pronounced near side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2) very broad far side jets seem to exist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are not much different from far sid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3) Jets seem to be flowing (hav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4) different sensitivity to non-flow in diff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ypes o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80320" y="4994280"/>
            <a:ext cx="4400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hinIchi Esu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st. of Physics, Univ. of Tsuku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enno-dai 1-1-1, Tsukuba, Ibaraki 305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sumi @ sakura.cc.tsukuba.ac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el/fax) +81-29-853-4249 (off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el/fax) +81-29-853-6121 (la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3320" y="5562720"/>
            <a:ext cx="26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rk Matt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akland, Jan11-17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 session,  Flow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24240" y="6157800"/>
            <a:ext cx="914400" cy="3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958-8DFA-48F4-BF82-080B1EE6B1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990360" y="3352680"/>
            <a:ext cx="1401120" cy="1293480"/>
            <a:chOff x="990360" y="3352680"/>
            <a:chExt cx="1401120" cy="1293480"/>
          </a:xfrm>
        </p:grpSpPr>
        <p:sp>
          <p:nvSpPr>
            <p:cNvPr id="46" name=""/>
            <p:cNvSpPr/>
            <p:nvPr/>
          </p:nvSpPr>
          <p:spPr>
            <a:xfrm flipV="1">
              <a:off x="1600200" y="3352680"/>
              <a:ext cx="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2160" y="3962160"/>
              <a:ext cx="129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1294560" y="3656520"/>
              <a:ext cx="306720" cy="30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066680" y="3962160"/>
              <a:ext cx="53496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446480" y="3962160"/>
              <a:ext cx="154800" cy="531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600200" y="3428640"/>
              <a:ext cx="303840" cy="53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600200" y="3428640"/>
              <a:ext cx="607680" cy="53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600200" y="3884400"/>
              <a:ext cx="455760" cy="78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3962160"/>
              <a:ext cx="30384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90360" y="3962160"/>
              <a:ext cx="610920" cy="684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600200" y="3580560"/>
              <a:ext cx="303840" cy="383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4400" y="3506040"/>
              <a:ext cx="487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Times New Roman"/>
                </a:rPr>
                <a:t>r.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90360" y="4800240"/>
            <a:ext cx="1293840" cy="1293840"/>
            <a:chOff x="990360" y="4800240"/>
            <a:chExt cx="1293840" cy="1293840"/>
          </a:xfrm>
        </p:grpSpPr>
        <p:sp>
          <p:nvSpPr>
            <p:cNvPr id="59" name=""/>
            <p:cNvSpPr/>
            <p:nvPr/>
          </p:nvSpPr>
          <p:spPr>
            <a:xfrm flipV="1">
              <a:off x="1600200" y="4800240"/>
              <a:ext cx="1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2160" y="5410080"/>
              <a:ext cx="1292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294560" y="5104440"/>
              <a:ext cx="306720" cy="307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066680" y="5410080"/>
              <a:ext cx="53496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446480" y="5410080"/>
              <a:ext cx="154800" cy="532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600200" y="4875840"/>
              <a:ext cx="303840" cy="53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600200" y="4875840"/>
              <a:ext cx="607680" cy="53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600200" y="5332320"/>
              <a:ext cx="455760" cy="7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5410080"/>
              <a:ext cx="303840" cy="227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90360" y="5410080"/>
              <a:ext cx="610920" cy="684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1836360" y="5032800"/>
              <a:ext cx="79200" cy="78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1826640" y="5194440"/>
              <a:ext cx="78840" cy="15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32440" y="5153400"/>
              <a:ext cx="30672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1294560" y="5541120"/>
              <a:ext cx="231120" cy="15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9360" y="5557320"/>
              <a:ext cx="4399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066680" y="838080"/>
            <a:ext cx="3656160" cy="2207880"/>
            <a:chOff x="1066680" y="838080"/>
            <a:chExt cx="3656160" cy="2207880"/>
          </a:xfrm>
        </p:grpSpPr>
        <p:sp>
          <p:nvSpPr>
            <p:cNvPr id="75" name=""/>
            <p:cNvSpPr/>
            <p:nvPr/>
          </p:nvSpPr>
          <p:spPr>
            <a:xfrm>
              <a:off x="1066680" y="1958040"/>
              <a:ext cx="36561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36440" y="1294560"/>
              <a:ext cx="1305720" cy="129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45560" y="1294560"/>
              <a:ext cx="1305720" cy="129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545560" y="1447200"/>
              <a:ext cx="43776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544120" y="1523160"/>
              <a:ext cx="52488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45200" y="1599480"/>
              <a:ext cx="612360" cy="456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543760" y="1675800"/>
              <a:ext cx="699480" cy="532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630880" y="1827720"/>
              <a:ext cx="612360" cy="456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718720" y="1980000"/>
              <a:ext cx="52488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805840" y="2132640"/>
              <a:ext cx="437760" cy="304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82080" y="838080"/>
              <a:ext cx="261720" cy="532800"/>
            </a:xfrm>
            <a:custGeom>
              <a:avLst/>
              <a:gdLst/>
              <a:ahLst/>
              <a:rect l="l" t="t" r="r" b="b"/>
              <a:pathLst>
                <a:path w="727" h="1483">
                  <a:moveTo>
                    <a:pt x="180" y="1482"/>
                  </a:moveTo>
                  <a:lnTo>
                    <a:pt x="180" y="370"/>
                  </a:lnTo>
                  <a:lnTo>
                    <a:pt x="0" y="370"/>
                  </a:lnTo>
                  <a:lnTo>
                    <a:pt x="362" y="0"/>
                  </a:lnTo>
                  <a:lnTo>
                    <a:pt x="726" y="370"/>
                  </a:lnTo>
                  <a:lnTo>
                    <a:pt x="544" y="370"/>
                  </a:lnTo>
                  <a:lnTo>
                    <a:pt x="544" y="1482"/>
                  </a:lnTo>
                  <a:lnTo>
                    <a:pt x="180" y="1482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43760" y="1101240"/>
              <a:ext cx="593280" cy="518400"/>
            </a:xfrm>
            <a:custGeom>
              <a:avLst/>
              <a:gdLst/>
              <a:ahLst/>
              <a:rect l="l" t="t" r="r" b="b"/>
              <a:pathLst>
                <a:path w="1649" h="1443">
                  <a:moveTo>
                    <a:pt x="0" y="1080"/>
                  </a:moveTo>
                  <a:lnTo>
                    <a:pt x="1027" y="180"/>
                  </a:lnTo>
                  <a:lnTo>
                    <a:pt x="820" y="0"/>
                  </a:lnTo>
                  <a:lnTo>
                    <a:pt x="1575" y="63"/>
                  </a:lnTo>
                  <a:lnTo>
                    <a:pt x="1648" y="723"/>
                  </a:lnTo>
                  <a:lnTo>
                    <a:pt x="1441" y="542"/>
                  </a:lnTo>
                  <a:lnTo>
                    <a:pt x="414" y="1442"/>
                  </a:lnTo>
                  <a:lnTo>
                    <a:pt x="0" y="108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77040" y="1675800"/>
              <a:ext cx="784080" cy="532440"/>
            </a:xfrm>
            <a:custGeom>
              <a:avLst/>
              <a:gdLst/>
              <a:ahLst/>
              <a:rect l="l" t="t" r="r" b="b"/>
              <a:pathLst>
                <a:path w="2178" h="1483">
                  <a:moveTo>
                    <a:pt x="0" y="370"/>
                  </a:moveTo>
                  <a:lnTo>
                    <a:pt x="1634" y="370"/>
                  </a:lnTo>
                  <a:lnTo>
                    <a:pt x="1634" y="0"/>
                  </a:lnTo>
                  <a:lnTo>
                    <a:pt x="2177" y="741"/>
                  </a:lnTo>
                  <a:lnTo>
                    <a:pt x="1634" y="1482"/>
                  </a:lnTo>
                  <a:lnTo>
                    <a:pt x="1634" y="1112"/>
                  </a:lnTo>
                  <a:lnTo>
                    <a:pt x="0" y="1112"/>
                  </a:lnTo>
                  <a:lnTo>
                    <a:pt x="0" y="37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31160" y="2254320"/>
              <a:ext cx="593280" cy="520200"/>
            </a:xfrm>
            <a:custGeom>
              <a:avLst/>
              <a:gdLst/>
              <a:ahLst/>
              <a:rect l="l" t="t" r="r" b="b"/>
              <a:pathLst>
                <a:path w="1651" h="1446">
                  <a:moveTo>
                    <a:pt x="416" y="0"/>
                  </a:moveTo>
                  <a:lnTo>
                    <a:pt x="1443" y="900"/>
                  </a:lnTo>
                  <a:lnTo>
                    <a:pt x="1650" y="719"/>
                  </a:lnTo>
                  <a:lnTo>
                    <a:pt x="1576" y="1380"/>
                  </a:lnTo>
                  <a:lnTo>
                    <a:pt x="819" y="1445"/>
                  </a:lnTo>
                  <a:lnTo>
                    <a:pt x="1027" y="1264"/>
                  </a:lnTo>
                  <a:lnTo>
                    <a:pt x="0" y="364"/>
                  </a:lnTo>
                  <a:lnTo>
                    <a:pt x="416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58320" y="2513160"/>
              <a:ext cx="261720" cy="532800"/>
            </a:xfrm>
            <a:custGeom>
              <a:avLst/>
              <a:gdLst/>
              <a:ahLst/>
              <a:rect l="l" t="t" r="r" b="b"/>
              <a:pathLst>
                <a:path w="726" h="1482">
                  <a:moveTo>
                    <a:pt x="545" y="0"/>
                  </a:moveTo>
                  <a:lnTo>
                    <a:pt x="545" y="1111"/>
                  </a:lnTo>
                  <a:lnTo>
                    <a:pt x="725" y="1111"/>
                  </a:lnTo>
                  <a:lnTo>
                    <a:pt x="363" y="1481"/>
                  </a:lnTo>
                  <a:lnTo>
                    <a:pt x="0" y="1111"/>
                  </a:lnTo>
                  <a:lnTo>
                    <a:pt x="181" y="1111"/>
                  </a:lnTo>
                  <a:lnTo>
                    <a:pt x="181" y="0"/>
                  </a:lnTo>
                  <a:lnTo>
                    <a:pt x="545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02880" y="1056960"/>
              <a:ext cx="593640" cy="518400"/>
            </a:xfrm>
            <a:custGeom>
              <a:avLst/>
              <a:gdLst/>
              <a:ahLst/>
              <a:rect l="l" t="t" r="r" b="b"/>
              <a:pathLst>
                <a:path w="1648" h="1444">
                  <a:moveTo>
                    <a:pt x="1233" y="1443"/>
                  </a:moveTo>
                  <a:lnTo>
                    <a:pt x="205" y="543"/>
                  </a:lnTo>
                  <a:lnTo>
                    <a:pt x="0" y="724"/>
                  </a:lnTo>
                  <a:lnTo>
                    <a:pt x="71" y="63"/>
                  </a:lnTo>
                  <a:lnTo>
                    <a:pt x="826" y="0"/>
                  </a:lnTo>
                  <a:lnTo>
                    <a:pt x="619" y="181"/>
                  </a:lnTo>
                  <a:lnTo>
                    <a:pt x="1647" y="1081"/>
                  </a:lnTo>
                  <a:lnTo>
                    <a:pt x="1233" y="1443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28400" y="1675800"/>
              <a:ext cx="783720" cy="532440"/>
            </a:xfrm>
            <a:custGeom>
              <a:avLst/>
              <a:gdLst/>
              <a:ahLst/>
              <a:rect l="l" t="t" r="r" b="b"/>
              <a:pathLst>
                <a:path w="2178" h="1483">
                  <a:moveTo>
                    <a:pt x="2177" y="1112"/>
                  </a:moveTo>
                  <a:lnTo>
                    <a:pt x="543" y="1112"/>
                  </a:lnTo>
                  <a:lnTo>
                    <a:pt x="543" y="1482"/>
                  </a:lnTo>
                  <a:lnTo>
                    <a:pt x="0" y="741"/>
                  </a:lnTo>
                  <a:lnTo>
                    <a:pt x="543" y="0"/>
                  </a:lnTo>
                  <a:lnTo>
                    <a:pt x="543" y="370"/>
                  </a:lnTo>
                  <a:lnTo>
                    <a:pt x="2177" y="370"/>
                  </a:lnTo>
                  <a:lnTo>
                    <a:pt x="2177" y="1112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0680" y="2276640"/>
              <a:ext cx="593280" cy="519840"/>
            </a:xfrm>
            <a:custGeom>
              <a:avLst/>
              <a:gdLst/>
              <a:ahLst/>
              <a:rect l="l" t="t" r="r" b="b"/>
              <a:pathLst>
                <a:path w="1651" h="1445">
                  <a:moveTo>
                    <a:pt x="1650" y="364"/>
                  </a:moveTo>
                  <a:lnTo>
                    <a:pt x="624" y="1263"/>
                  </a:lnTo>
                  <a:lnTo>
                    <a:pt x="831" y="1444"/>
                  </a:lnTo>
                  <a:lnTo>
                    <a:pt x="74" y="1381"/>
                  </a:lnTo>
                  <a:lnTo>
                    <a:pt x="0" y="717"/>
                  </a:lnTo>
                  <a:lnTo>
                    <a:pt x="208" y="900"/>
                  </a:lnTo>
                  <a:lnTo>
                    <a:pt x="1235" y="0"/>
                  </a:lnTo>
                  <a:lnTo>
                    <a:pt x="1650" y="364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144160" y="1675800"/>
              <a:ext cx="1401840" cy="302760"/>
              <a:chOff x="2144160" y="1675800"/>
              <a:chExt cx="1401840" cy="302760"/>
            </a:xfrm>
          </p:grpSpPr>
          <p:sp>
            <p:nvSpPr>
              <p:cNvPr id="94" name=""/>
              <p:cNvSpPr/>
              <p:nvPr/>
            </p:nvSpPr>
            <p:spPr>
              <a:xfrm>
                <a:off x="2144160" y="1675800"/>
                <a:ext cx="1313280" cy="302760"/>
              </a:xfrm>
              <a:prstGeom prst="roundRect">
                <a:avLst>
                  <a:gd name="adj" fmla="val 519"/>
                </a:avLst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28400" y="1675800"/>
                <a:ext cx="131760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Times New Roman"/>
                  </a:rPr>
                  <a:t>Reaction pla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5438880" y="838080"/>
            <a:ext cx="2975400" cy="2254320"/>
            <a:chOff x="5438880" y="838080"/>
            <a:chExt cx="2975400" cy="2254320"/>
          </a:xfrm>
        </p:grpSpPr>
        <p:grpSp>
          <p:nvGrpSpPr>
            <p:cNvPr id="97" name=""/>
            <p:cNvGrpSpPr/>
            <p:nvPr/>
          </p:nvGrpSpPr>
          <p:grpSpPr>
            <a:xfrm>
              <a:off x="5438880" y="838080"/>
              <a:ext cx="2358720" cy="2054160"/>
              <a:chOff x="5438880" y="838080"/>
              <a:chExt cx="2358720" cy="205416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6505200" y="838080"/>
                <a:ext cx="1292400" cy="99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438880" y="1828080"/>
                <a:ext cx="1067760" cy="1064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505200" y="914040"/>
                <a:ext cx="456120" cy="9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6505200" y="990000"/>
                <a:ext cx="760320" cy="8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505200" y="1446120"/>
                <a:ext cx="76032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505200" y="1446120"/>
                <a:ext cx="106452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5514840" y="1828080"/>
                <a:ext cx="99144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514840" y="1828080"/>
                <a:ext cx="991440" cy="76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895000" y="1828080"/>
                <a:ext cx="611280" cy="83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508160" y="980640"/>
              <a:ext cx="906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par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4120" y="2732400"/>
              <a:ext cx="906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par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00480" y="1818720"/>
              <a:ext cx="10753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had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80320" y="457200"/>
            <a:ext cx="19760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+p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6920" y="457200"/>
            <a:ext cx="19911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+A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38360" y="3413160"/>
            <a:ext cx="602784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r.p. for a geometrical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suffer r.p. resolution (smeared sha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N/d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s(n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no smearing (detailed shape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event anisotropy shape (no relation to r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ea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/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mix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s(n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A26-31C0-424E-B041-3C2AD86AE2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oft_hard" descr=""/>
          <p:cNvPicPr/>
          <p:nvPr/>
        </p:nvPicPr>
        <p:blipFill>
          <a:blip r:embed="rId1"/>
          <a:stretch/>
        </p:blipFill>
        <p:spPr>
          <a:xfrm>
            <a:off x="0" y="2057400"/>
            <a:ext cx="327672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312408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0120" y="457200"/>
            <a:ext cx="47876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dels (hydro/recombination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ets/fra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16080" y="1982880"/>
            <a:ext cx="3124440" cy="4189320"/>
            <a:chOff x="3016080" y="1982880"/>
            <a:chExt cx="3124440" cy="41893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016080" y="1982880"/>
              <a:ext cx="3124440" cy="41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016080" y="1982880"/>
              <a:ext cx="3124440" cy="41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203840" y="182880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ydro+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7400" y="18288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recomb.+frag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895480"/>
            <a:ext cx="1752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hydro: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572000"/>
            <a:ext cx="137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jets: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82840" y="3809880"/>
            <a:ext cx="645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5240" y="182880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 toy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52400" y="5943600"/>
            <a:ext cx="9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GeV/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505480" y="2305800"/>
            <a:ext cx="1584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dn/d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(arb.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74400" y="380880"/>
            <a:ext cx="21495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soft had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) amount of 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3)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j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nergy loss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mond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409-1511-4B3E-8FFE-DB74F98D1E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est_pair" descr=""/>
          <p:cNvPicPr/>
          <p:nvPr/>
        </p:nvPicPr>
        <p:blipFill>
          <a:blip r:embed="rId1"/>
          <a:stretch/>
        </p:blipFill>
        <p:spPr>
          <a:xfrm>
            <a:off x="0" y="11430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129" name="flow_jet_v2" descr=""/>
          <p:cNvPicPr/>
          <p:nvPr/>
        </p:nvPicPr>
        <p:blipFill>
          <a:blip r:embed="rId2"/>
          <a:stretch/>
        </p:blipFill>
        <p:spPr>
          <a:xfrm>
            <a:off x="4019400" y="1066680"/>
            <a:ext cx="5124600" cy="507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15440" y="1752480"/>
            <a:ext cx="7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15320" y="4114800"/>
            <a:ext cx="59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5920" y="2833560"/>
            <a:ext cx="64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7920" y="3824280"/>
            <a:ext cx="64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94120" y="2666880"/>
            <a:ext cx="61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ff00"/>
                </a:solidFill>
                <a:latin typeface="Verdana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210520" y="274320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620120" y="425448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60560" y="2057400"/>
            <a:ext cx="1326600" cy="520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ts like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48760" y="4800600"/>
            <a:ext cx="1287000" cy="520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ke (90d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ay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82200" y="7621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21800" y="510552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.p. 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5280" y="838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00" y="63244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NP03/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0B4-E7DF-43F9-AB68-EE1924516E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19640" y="735120"/>
            <a:ext cx="3133800" cy="530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857680" y="762120"/>
            <a:ext cx="3130200" cy="5333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95360" y="760320"/>
            <a:ext cx="3124080" cy="5326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120" y="6324480"/>
            <a:ext cx="1410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57800" y="1143000"/>
            <a:ext cx="74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2952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1295280"/>
            <a:ext cx="47242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295280"/>
            <a:ext cx="2362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8040" y="4267080"/>
            <a:ext cx="59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666880" y="3655800"/>
            <a:ext cx="304920" cy="7650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4419720"/>
            <a:ext cx="167652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419720"/>
            <a:ext cx="41148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7440" y="4915080"/>
            <a:ext cx="875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55680" y="4648320"/>
            <a:ext cx="875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3778200"/>
            <a:ext cx="112716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ets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602-1BB2-46EE-A627-E02B41369B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19640" y="685800"/>
            <a:ext cx="3049560" cy="529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09960" y="685800"/>
            <a:ext cx="3044880" cy="5181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62120" y="685800"/>
            <a:ext cx="3051000" cy="5243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9080" y="6324480"/>
            <a:ext cx="14104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65960" y="1066680"/>
            <a:ext cx="128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Verdana"/>
              </a:rPr>
              <a:t>hydro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ff"/>
                </a:solidFill>
                <a:latin typeface="Verdana"/>
              </a:rPr>
              <a:t>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920" y="1981080"/>
            <a:ext cx="174132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58920" y="4038480"/>
            <a:ext cx="1357200" cy="9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pair 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55880" y="264168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19240" y="4152960"/>
            <a:ext cx="1800" cy="76212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80880" y="1219320"/>
            <a:ext cx="1707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90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ke decay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27400" y="3340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7400" y="3975120"/>
            <a:ext cx="1800" cy="43164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36450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37440" y="4280040"/>
            <a:ext cx="1440" cy="431640"/>
          </a:xfrm>
          <a:prstGeom prst="line">
            <a:avLst/>
          </a:prstGeom>
          <a:ln w="9360">
            <a:solidFill>
              <a:srgbClr val="00ff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36960" y="3124080"/>
            <a:ext cx="457200" cy="16002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46640" y="3352680"/>
            <a:ext cx="457200" cy="16002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3048120"/>
            <a:ext cx="457200" cy="19810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21440" y="1244520"/>
            <a:ext cx="187956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90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ke decay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duced v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2971800"/>
            <a:ext cx="190476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24280" y="2588760"/>
            <a:ext cx="1800" cy="38412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592-5C4A-4995-A9ED-894B9A8E8D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rr_low_g0" descr=""/>
          <p:cNvPicPr/>
          <p:nvPr/>
        </p:nvPicPr>
        <p:blipFill>
          <a:blip r:embed="rId1"/>
          <a:stretch/>
        </p:blipFill>
        <p:spPr>
          <a:xfrm>
            <a:off x="12002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corr_low_g1" descr=""/>
          <p:cNvPicPr/>
          <p:nvPr/>
        </p:nvPicPr>
        <p:blipFill>
          <a:blip r:embed="rId2"/>
          <a:stretch/>
        </p:blipFill>
        <p:spPr>
          <a:xfrm>
            <a:off x="30290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1" name="corr_low_g2" descr=""/>
          <p:cNvPicPr/>
          <p:nvPr/>
        </p:nvPicPr>
        <p:blipFill>
          <a:blip r:embed="rId3"/>
          <a:stretch/>
        </p:blipFill>
        <p:spPr>
          <a:xfrm>
            <a:off x="48578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corr_low_g3" descr=""/>
          <p:cNvPicPr/>
          <p:nvPr/>
        </p:nvPicPr>
        <p:blipFill>
          <a:blip r:embed="rId4"/>
          <a:stretch/>
        </p:blipFill>
        <p:spPr>
          <a:xfrm>
            <a:off x="66866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3" name="corr_high_g0" descr=""/>
          <p:cNvPicPr/>
          <p:nvPr/>
        </p:nvPicPr>
        <p:blipFill>
          <a:blip r:embed="rId5"/>
          <a:stretch/>
        </p:blipFill>
        <p:spPr>
          <a:xfrm>
            <a:off x="121932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4" name="corr_high_g1" descr=""/>
          <p:cNvPicPr/>
          <p:nvPr/>
        </p:nvPicPr>
        <p:blipFill>
          <a:blip r:embed="rId6"/>
          <a:stretch/>
        </p:blipFill>
        <p:spPr>
          <a:xfrm>
            <a:off x="302904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5" name="corr_high_g2" descr=""/>
          <p:cNvPicPr/>
          <p:nvPr/>
        </p:nvPicPr>
        <p:blipFill>
          <a:blip r:embed="rId7"/>
          <a:stretch/>
        </p:blipFill>
        <p:spPr>
          <a:xfrm>
            <a:off x="485784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corr_high_g3" descr=""/>
          <p:cNvPicPr/>
          <p:nvPr/>
        </p:nvPicPr>
        <p:blipFill>
          <a:blip r:embed="rId8"/>
          <a:stretch/>
        </p:blipFill>
        <p:spPr>
          <a:xfrm>
            <a:off x="6686640" y="3429000"/>
            <a:ext cx="16952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6200000">
            <a:off x="-516240" y="1798560"/>
            <a:ext cx="22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1&lt;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Verdana"/>
              </a:rPr>
              <a:t>(associate)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&lt;1.5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515880" y="4541760"/>
            <a:ext cx="21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2.5&lt;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Verdana"/>
              </a:rPr>
              <a:t>(associate)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&lt;3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763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hadron-hadron correlation (full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6019920"/>
            <a:ext cx="184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7400" y="3048120"/>
            <a:ext cx="11818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3000" y="533520"/>
            <a:ext cx="43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3000" y="3314880"/>
            <a:ext cx="43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81400" y="2895480"/>
            <a:ext cx="11836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ar-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u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54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66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942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3440" y="2743200"/>
            <a:ext cx="11836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ar-side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r-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u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2857680"/>
            <a:ext cx="1447920" cy="97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x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asured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3080" y="628020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4419720"/>
            <a:ext cx="5639040" cy="838080"/>
            <a:chOff x="1295280" y="4419720"/>
            <a:chExt cx="5639040" cy="838080"/>
          </a:xfrm>
        </p:grpSpPr>
        <p:sp>
          <p:nvSpPr>
            <p:cNvPr id="202" name=""/>
            <p:cNvSpPr/>
            <p:nvPr/>
          </p:nvSpPr>
          <p:spPr>
            <a:xfrm>
              <a:off x="1343160" y="4419720"/>
              <a:ext cx="0" cy="838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71960" y="4481640"/>
              <a:ext cx="0" cy="761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00760" y="4710240"/>
              <a:ext cx="0" cy="5331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9560" y="4572000"/>
              <a:ext cx="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5257800"/>
              <a:ext cx="563904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9D4-C965-46CA-A8C7-11BF9A844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31640" y="1047600"/>
            <a:ext cx="4267440" cy="4184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95680" y="1041480"/>
            <a:ext cx="4267440" cy="4184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88200" y="4324320"/>
            <a:ext cx="10782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jet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49760" y="2514600"/>
            <a:ext cx="309168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low only (wrong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low + flow&amp;jets cross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77120" y="1504800"/>
            <a:ext cx="11484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flow+j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365640"/>
            <a:ext cx="33685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je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0 : reduce v2 just as 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je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&gt;0 : almost no change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crease in 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01720" y="5079960"/>
            <a:ext cx="2336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11960" y="5079960"/>
            <a:ext cx="24890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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4720" y="382284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108400" y="3897000"/>
            <a:ext cx="11430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18240" y="3744720"/>
            <a:ext cx="1440" cy="76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19560" y="4127400"/>
            <a:ext cx="122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89640" y="3744720"/>
            <a:ext cx="457200" cy="76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94880" y="4267080"/>
            <a:ext cx="4993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7720" y="3898800"/>
            <a:ext cx="7632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22800" y="3670200"/>
            <a:ext cx="22860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8240" y="365760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92640" y="1589040"/>
            <a:ext cx="15354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-plane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6720" y="2960640"/>
            <a:ext cx="1988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out-of-plane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02560" y="2031840"/>
            <a:ext cx="13741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Verdana"/>
              </a:rPr>
              <a:t>in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2320" y="2260440"/>
            <a:ext cx="6127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3720" y="3505320"/>
            <a:ext cx="152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igger p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sel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gular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41911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400800" y="38098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171840" y="3733920"/>
            <a:ext cx="3049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867280" y="3505320"/>
            <a:ext cx="45720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505320"/>
            <a:ext cx="4572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3733920"/>
            <a:ext cx="304560" cy="759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DC3-C699-40B9-80FA-2EF1674600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sim_trig" descr=""/>
          <p:cNvPicPr/>
          <p:nvPr/>
        </p:nvPicPr>
        <p:blipFill>
          <a:blip r:embed="rId1"/>
          <a:stretch/>
        </p:blipFill>
        <p:spPr>
          <a:xfrm>
            <a:off x="620640" y="3260880"/>
            <a:ext cx="8005680" cy="2759040"/>
          </a:xfrm>
          <a:prstGeom prst="rect">
            <a:avLst/>
          </a:prstGeom>
          <a:ln w="0">
            <a:noFill/>
          </a:ln>
        </p:spPr>
      </p:pic>
      <p:pic>
        <p:nvPicPr>
          <p:cNvPr id="236" name="shin_cen_mid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8001000" cy="2666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6200000">
            <a:off x="-292320" y="45345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780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0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1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224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1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2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360" y="5334120"/>
            <a:ext cx="139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2&lt;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&lt;5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8672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track1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trac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5029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hadron-hadron correlation     (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trig)&gt;3GeV/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429000"/>
            <a:ext cx="5943600" cy="62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ydro flow, flowing jets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like decay are included in the simulation as same as in the previous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780120" y="177372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5240" y="281952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15800" y="281952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34320" y="974880"/>
            <a:ext cx="14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63244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NP03/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B16-7EB6-4327-B0DA-3B9156076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3:23:34Z</dcterms:created>
  <dc:creator>江角晋一</dc:creator>
  <dc:description/>
  <dc:language>en-US</dc:language>
  <cp:lastModifiedBy>江角晋一</cp:lastModifiedBy>
  <dcterms:modified xsi:type="dcterms:W3CDTF">2004-01-09T07:55:34Z</dcterms:modified>
  <cp:revision>17</cp:revision>
  <dc:subject/>
  <dc:title>PowerPoint プレゼンテーション</dc:title>
</cp:coreProperties>
</file>