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B61-1634-4790-98EB-C34813FA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CB13-5F8C-4D30-B52C-25509229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3A26-C0CC-41A5-874F-887025E7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EE7-DF7A-441A-9F2A-3761845F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8DB-EDB3-4411-A85E-F0C086CE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938B-7AE5-4458-834B-5D84DA00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BD6A-5B56-4A1A-A346-AD216709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F16B-371C-49DA-A182-610998EC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257-D4A8-46DC-A688-AA64A835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3ED-B205-490B-87D9-D2BCE214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C9B-EE55-4C6E-A4E6-C18111AC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0E13-F512-4A74-BB9C-881D79CA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0000" y="6244920"/>
            <a:ext cx="49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. Masui / Univ. of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rk Matter 2004 @ Oak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2E3D-AE0F-4CAC-98BD-924634D2A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8716" t="13827" r="16335" b="0"/>
          <a:stretch/>
        </p:blipFill>
        <p:spPr>
          <a:xfrm>
            <a:off x="395280" y="6093000"/>
            <a:ext cx="1728720" cy="71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asurement of Directed Flow in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√s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NN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= 200 GeV Au + Au, d + Au,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 + p collisions at RHIC - PHENIX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oshi Masui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HENIX Collabor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k Matter 2004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516720" y="2060640"/>
            <a:ext cx="1440000" cy="288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8720" y="2708280"/>
            <a:ext cx="1439640" cy="289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1437-6EA2-482F-A25F-4D5AC7CA51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5591160" cy="3752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rected Flow</a:t>
            </a:r>
            <a:br>
              <a:rPr sz="32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rality dependen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219280" y="1600200"/>
            <a:ext cx="374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nally results obtained from three independent analysis, where those are expected to be free from the non-flow contribu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good agreement within the error b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B1A5-75E9-4281-BF21-F11C3CFDC3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920" y="1405080"/>
            <a:ext cx="5591160" cy="3752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rected Flow</a:t>
            </a:r>
            <a:br>
              <a:rPr sz="32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seudo-rapidity dependen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19280" y="1600200"/>
            <a:ext cx="374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egrated Directed Flow in 10 – 70 % centrality bin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 of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efined by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atic errors are shown by color b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B706-348C-4751-8159-8E89735965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920" y="1405080"/>
            <a:ext cx="5591160" cy="3752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rected Flow</a:t>
            </a:r>
            <a:br>
              <a:rPr sz="32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arison of PHENIX and STA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19280" y="1600200"/>
            <a:ext cx="374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arison of PHENIX results to STAR v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3}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f the PHENIX results are consistent with STAR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}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417-2826-4588-9138-9F75358C26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rst measurement of Elliptic Flow (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 in Forward rapidity (3&lt;|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|&lt;4) @ PHENIX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 3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 with PHOBOS and 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rst measurement of Directed Flow (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 @ PHENIX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 0 @ mid-rapidity (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&lt;0.3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 1 % @ forward rapidity (3&lt;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&lt;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results of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{R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} and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{3} indicate th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@ RHIC is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n-plan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 0)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{R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} and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{3} are less sensitive than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from the standard reaction plane method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results of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@ PHENIX is consistent with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{3} from STAR experiment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B95C-8ABD-4AD2-8E8D-AD03A1349C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iptic Flow has been measured @ RHIC – PHENIX experiments. But Directed Flow has not been shown up to now because it is difficult to measure the strength of directed flow, which is very small in RHIC energie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asurement of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with three particle correla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expected to be less sensitive to non-flow contribution than other technique, such as reaction plane method, two particle correlation, are shown. We discuss its centrality, pseudo-rapidity dependence and comparison of other methods, data from other experiment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B94D-5FF4-45CB-9530-63A508ADFD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Azimuthal anisotropy </a:t>
            </a:r>
            <a:br>
              <a:rPr sz="3200"/>
            </a:b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Directed/Elliptic Flow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7712" t="3475" r="5768" b="7615"/>
          <a:stretch/>
        </p:blipFill>
        <p:spPr>
          <a:xfrm>
            <a:off x="971640" y="2500200"/>
            <a:ext cx="3600360" cy="3521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7674" t="3027" r="5807" b="8064"/>
          <a:stretch/>
        </p:blipFill>
        <p:spPr>
          <a:xfrm>
            <a:off x="4572000" y="2500200"/>
            <a:ext cx="3600360" cy="3521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79280" y="1544760"/>
                <a:ext cx="482436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φ</m:t>
                            </m:r>
                            <m:r>
                              <m:t xml:space="preserve">−</m:t>
                            </m:r>
                            <m:r>
                              <m:t xml:space="preserve">Ψ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5086800" y="1484280"/>
            <a:ext cx="39434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(n=1,2): strength of directed/elliptic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: azimuthal angle of detected part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: azimuthal angle of reaction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1718-5A67-4E2F-8BFC-EE4768170A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0" y="124920"/>
            <a:ext cx="4392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erimental Setup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ENIX Detecto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0" y="134136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nimum Bias Trigg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C (Beam Beam Cou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llision Vertex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C, ZDC (Zero Degree Calorime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action Plan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C, DCH (Drift Chamber), PC (Pad Cham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acking / Momentum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H,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2200" y="189000"/>
            <a:ext cx="3673440" cy="2985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4133" r="7179" b="0"/>
          <a:stretch/>
        </p:blipFill>
        <p:spPr>
          <a:xfrm>
            <a:off x="468360" y="3429000"/>
            <a:ext cx="3241800" cy="2651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3564000" y="3141720"/>
            <a:ext cx="1295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4BED-DFD8-4BB6-82EE-2FD25C3F36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alysis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action Plane method   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{R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},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{R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wo particle + Reaction Plane   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{R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ree particle correlation   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{3}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332000" y="2133720"/>
                <a:ext cx="23000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(</m:t>
                            </m:r>
                            <m:r>
                              <m:t xml:space="preserve">φ</m:t>
                            </m:r>
                            <m:r>
                              <m:t xml:space="preserve">−</m:t>
                            </m:r>
                            <m:r>
                              <m:t xml:space="preserve">Ψ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271520" y="3535200"/>
                <a:ext cx="64692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d>
                      <m:dPr>
                        <m:begChr m:val="⟨"/>
                        <m:endChr m:val="⟩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258920" y="4838760"/>
                <a:ext cx="34765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572000" y="4221000"/>
            <a:ext cx="309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551664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38960" y="500688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by independent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948360" y="4220640"/>
            <a:ext cx="144720" cy="86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16000" y="5229360"/>
            <a:ext cx="863640" cy="14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B09-8911-4DE0-9982-B94078C522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5591160" cy="3752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lliptic Flow v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RP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}</a:t>
            </a:r>
            <a:br>
              <a:rPr sz="32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arison of Mid-rapidity (|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|&lt;0.35)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 Forward rapidity (3&lt;|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|&lt;4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19280" y="1773000"/>
            <a:ext cx="36003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lliptic Flow measurement has been done by the standard reaction plane method @ mid-rapidity and forward rapidity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re is a little difference of shape between mid and forward rapidity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of Mid.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round 40 – 50 %, while max of Forward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round 30 – 40 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9507-B891-448B-98F9-98F21CD78D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14067" t="2181" r="-1515" b="37972"/>
          <a:stretch/>
        </p:blipFill>
        <p:spPr>
          <a:xfrm>
            <a:off x="4572000" y="1600200"/>
            <a:ext cx="4572000" cy="3282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0" r="8544" b="0"/>
          <a:stretch/>
        </p:blipFill>
        <p:spPr>
          <a:xfrm>
            <a:off x="34920" y="1405080"/>
            <a:ext cx="4537080" cy="3330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lliptic Flow</a:t>
            </a:r>
            <a:br>
              <a:rPr sz="32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arison of PHENIX to other experimen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HENIX v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is consistent with PHOBOS and STAR result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FF9E-89DF-423C-90B7-85EE66636D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5591160" cy="37526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rected Flow (3&lt;|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|&lt;4)</a:t>
            </a:r>
            <a:br>
              <a:rPr sz="32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arison of several metho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19280" y="1600200"/>
            <a:ext cx="374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rst measurement of Directed Flow @ PHENIX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R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increase linearly due to non-flow contrib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R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and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} are about 1 – 1.5 % and less tha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R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. This indicate that these two method are insensitive to non-flow contribution as we exp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71B-AAF7-4FDE-AC17-1B3241250C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5591160" cy="3752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rected Flow (3&lt;|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|&lt;4)</a:t>
            </a:r>
            <a:br>
              <a:rPr sz="32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flow con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19280" y="1600200"/>
            <a:ext cx="374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Estimate non-flow contribution from Pythia simulation with scaling by number of participant (N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part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Extract only flow contribution (solid black) by subtracting Pythia results (green) from v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{RP</a:t>
            </a:r>
            <a:r>
              <a:rPr b="0" lang="ja-JP" sz="20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} (open black)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rue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is about 1 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0F0-DD9C-4802-8ED2-B2FB4CBCFF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7:12:53Z</dcterms:created>
  <dc:creator>Hiroshi Masui</dc:creator>
  <dc:description/>
  <dc:language>en-US</dc:language>
  <cp:lastModifiedBy>Hiroshi Masui</cp:lastModifiedBy>
  <dcterms:modified xsi:type="dcterms:W3CDTF">2004-01-09T23:03:23Z</dcterms:modified>
  <cp:revision>29</cp:revision>
  <dc:subject/>
  <dc:title>Measurement of directed flow in √sNN = 200 GeV Au + Au, d + Au,  p + p collisions at RHIC - PHENIX</dc:title>
</cp:coreProperties>
</file>