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48.png" ContentType="image/png"/>
  <Override PartName="/ppt/media/image11.png" ContentType="image/png"/>
  <Override PartName="/ppt/media/image51.wmf" ContentType="image/x-wmf"/>
  <Override PartName="/ppt/media/image29.png" ContentType="image/png"/>
  <Override PartName="/ppt/media/image6.png" ContentType="image/png"/>
  <Override PartName="/ppt/media/image36.png" ContentType="image/png"/>
  <Override PartName="/ppt/media/image35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7B39-5835-4AC8-8333-511486F0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AE76-A823-46AE-AB35-384B8F5B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7C25-638B-40BC-8E5F-67986EE7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500-15E9-4C3F-B331-C533BB84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B433-BDDB-484A-85FA-FA0EC0FE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FC76-25E3-4DD0-A4EF-C8B48C6F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06F-09F7-4D0D-BCB8-992C9A1F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AD9E-6DE7-48BD-BE67-347250B2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43B1-04AD-4C31-A33B-E650C2AE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3ED-1449-42BE-9D58-E5B5CD00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FDFA-2246-4E7D-885A-7AD772BD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82F-597C-4F94-8770-A4807EFE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29040" y="655272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DE94-8859-410B-987E-CE5E7FD75B6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240" y="380880"/>
            <a:ext cx="648396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vent anisotropy in high-energy heavy-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ollisions at RH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hinIchi E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nst. of Physics, Univ. of Tsuk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lliptic flow and nuclear suppression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dentified hadron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quark coalescence or hyd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lectron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charm qua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nclusive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(direct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eccentricity) sc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jet correlation and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58D9-266A-4901-B634-4CCEB927786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20520" y="1585800"/>
            <a:ext cx="4551120" cy="3900600"/>
            <a:chOff x="20520" y="1585800"/>
            <a:chExt cx="4551120" cy="3900600"/>
          </a:xfrm>
        </p:grpSpPr>
        <p:graphicFrame>
          <p:nvGraphicFramePr>
            <p:cNvPr id="458" name=""/>
            <p:cNvGraphicFramePr/>
            <p:nvPr/>
          </p:nvGraphicFramePr>
          <p:xfrm>
            <a:off x="20520" y="1585800"/>
            <a:ext cx="4551120" cy="3900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20" y="1585800"/>
                      <a:ext cx="4551120" cy="390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0" name=""/>
            <p:cNvSpPr/>
            <p:nvPr/>
          </p:nvSpPr>
          <p:spPr>
            <a:xfrm>
              <a:off x="4566600" y="1585800"/>
              <a:ext cx="0" cy="77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313000" y="4665600"/>
            <a:ext cx="18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(3) q_hat = 14 GeV</a:t>
            </a:r>
            <a:r>
              <a:rPr b="0" lang="ja-JP" sz="1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/f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78160" y="3774960"/>
            <a:ext cx="184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(2) q_hat = 4 GeV</a:t>
            </a:r>
            <a:r>
              <a:rPr b="0" lang="ja-JP" sz="1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/f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438280" y="2543040"/>
            <a:ext cx="184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1) q_hat = 0 GeV</a:t>
            </a:r>
            <a:r>
              <a:rPr b="0" lang="ja-JP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/f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514600" y="3228840"/>
            <a:ext cx="1574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ff"/>
                </a:solidFill>
                <a:latin typeface="Arial"/>
              </a:rPr>
              <a:t>(4) dN</a:t>
            </a:r>
            <a:r>
              <a:rPr b="0" lang="ja-JP" sz="1200" spc="-1" strike="noStrike" baseline="-25000">
                <a:solidFill>
                  <a:srgbClr val="ff00ff"/>
                </a:solidFill>
                <a:latin typeface="Arial"/>
              </a:rPr>
              <a:t>g</a:t>
            </a:r>
            <a:r>
              <a:rPr b="0" lang="ja-JP" sz="1200" spc="-1" strike="noStrike">
                <a:solidFill>
                  <a:srgbClr val="ff00ff"/>
                </a:solidFill>
                <a:latin typeface="Arial"/>
              </a:rPr>
              <a:t> / dy =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4876920" y="1371600"/>
            <a:ext cx="3908160" cy="41148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491760" y="222120"/>
            <a:ext cx="8087400" cy="13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Non-photonic electron (charm origin) R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compared with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Non-photonic electron is less suppressed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, but it is still a significant suppress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~ 0.3 at higher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region 4~5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4343400" y="762120"/>
            <a:ext cx="4724280" cy="5088960"/>
            <a:chOff x="4343400" y="762120"/>
            <a:chExt cx="4724280" cy="5088960"/>
          </a:xfrm>
        </p:grpSpPr>
        <p:pic>
          <p:nvPicPr>
            <p:cNvPr id="468" name="" descr=""/>
            <p:cNvPicPr/>
            <p:nvPr/>
          </p:nvPicPr>
          <p:blipFill>
            <a:blip r:embed="rId4"/>
            <a:stretch/>
          </p:blipFill>
          <p:spPr>
            <a:xfrm>
              <a:off x="4343400" y="1347480"/>
              <a:ext cx="4724280" cy="45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4648320" y="762120"/>
              <a:ext cx="42670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0000"/>
                  </a:solidFill>
                  <a:latin typeface="Times New Roman"/>
                </a:rPr>
                <a:t>non-photonic electron v2 is similar with other hadrons</a:t>
              </a:r>
              <a:br>
                <a:rPr sz="1400"/>
              </a:br>
              <a:r>
                <a:rPr b="0" lang="ja-JP" sz="1400" spc="-1" strike="noStrike">
                  <a:solidFill>
                    <a:srgbClr val="ff0000"/>
                  </a:solidFill>
                  <a:latin typeface="Times New Roman"/>
                </a:rPr>
                <a:t>at low p</a:t>
              </a:r>
              <a:r>
                <a:rPr b="0" lang="ja-JP" sz="1400" spc="-1" strike="noStrike" baseline="-25000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ja-JP" sz="1400" spc="-1" strike="noStrike">
                  <a:solidFill>
                    <a:srgbClr val="ff0000"/>
                  </a:solidFill>
                  <a:latin typeface="Times New Roman"/>
                </a:rPr>
                <a:t> but smaller at higher p</a:t>
              </a:r>
              <a:r>
                <a:rPr b="0" lang="ja-JP" sz="1400" spc="-1" strike="noStrike" baseline="-25000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ja-JP" sz="1400" spc="-1" strike="noStrike">
                  <a:solidFill>
                    <a:srgbClr val="ff0000"/>
                  </a:solidFill>
                  <a:latin typeface="Times New Roman"/>
                </a:rPr>
                <a:t> region 4~5GeV/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97960" y="2498400"/>
              <a:ext cx="3013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0000"/>
                  </a:solidFill>
                  <a:latin typeface="Times New Roman"/>
                </a:rPr>
                <a:t>photonic electron v2 originated from </a:t>
              </a:r>
              <a:r>
                <a:rPr b="0" lang="ja-JP" sz="1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ja-JP" sz="1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br>
                <a:rPr sz="1400"/>
              </a:br>
              <a:r>
                <a:rPr b="0" lang="ja-JP" sz="1400" spc="-1" strike="noStrike">
                  <a:solidFill>
                    <a:srgbClr val="ff0000"/>
                  </a:solidFill>
                  <a:latin typeface="Times New Roman"/>
                </a:rPr>
                <a:t>is above </a:t>
              </a:r>
              <a:r>
                <a:rPr b="0" lang="ja-JP" sz="1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ja-JP" sz="1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ja-JP" sz="1400" spc="-1" strike="noStrike">
                  <a:solidFill>
                    <a:srgbClr val="ff0000"/>
                  </a:solidFill>
                  <a:latin typeface="Times New Roman"/>
                </a:rPr>
                <a:t> v2 at low pT and similar to </a:t>
              </a:r>
              <a:br>
                <a:rPr sz="1400"/>
              </a:br>
              <a:r>
                <a:rPr b="0" lang="ja-JP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ja-JP" sz="1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ja-JP" sz="1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ja-JP" sz="1400" spc="-1" strike="noStrike">
                  <a:solidFill>
                    <a:srgbClr val="ff0000"/>
                  </a:solidFill>
                  <a:latin typeface="Times New Roman"/>
                </a:rPr>
                <a:t> v2 at high pT and </a:t>
              </a:r>
              <a:br>
                <a:rPr sz="1400"/>
              </a:br>
              <a:r>
                <a:rPr b="0" lang="ja-JP" sz="1400" spc="-1" strike="noStrike">
                  <a:solidFill>
                    <a:srgbClr val="ff0000"/>
                  </a:solidFill>
                  <a:latin typeface="Times New Roman"/>
                </a:rPr>
                <a:t>subtracted alread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D58-C1E2-43C4-85C4-2E84B0C4732E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4343400" y="1676520"/>
            <a:ext cx="4692600" cy="4319640"/>
            <a:chOff x="4343400" y="1676520"/>
            <a:chExt cx="4692600" cy="4319640"/>
          </a:xfrm>
        </p:grpSpPr>
        <p:pic>
          <p:nvPicPr>
            <p:cNvPr id="472" name="" descr=""/>
            <p:cNvPicPr/>
            <p:nvPr/>
          </p:nvPicPr>
          <p:blipFill>
            <a:blip r:embed="rId1"/>
            <a:stretch/>
          </p:blipFill>
          <p:spPr>
            <a:xfrm>
              <a:off x="4343400" y="1676520"/>
              <a:ext cx="469260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5212440" y="4532400"/>
              <a:ext cx="163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. Zhang et a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ccff"/>
                  </a:solidFill>
                  <a:latin typeface="Arial"/>
                  <a:ea typeface="宋体"/>
                </a:rPr>
                <a:t>nucl-th/05020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76320" y="1623960"/>
            <a:ext cx="4343400" cy="431964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542520" y="228600"/>
            <a:ext cx="83221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non-photonic electron : charm (+beauty) R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and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very significant suppression at higher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                                 some difference between experiments at higher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almost same as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suppression above 5GeV/c                          which needs to be sol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D-meson flows (+ve 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),  should determine charm 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14600" y="3581280"/>
            <a:ext cx="228600" cy="762120"/>
          </a:xfrm>
          <a:prstGeom prst="upArrow">
            <a:avLst>
              <a:gd name="adj1" fmla="val 50000"/>
              <a:gd name="adj2" fmla="val 83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1200" y="2851200"/>
            <a:ext cx="1343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b contrib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less sup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less inte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32520" y="3079800"/>
            <a:ext cx="134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Times New Roman"/>
              </a:rPr>
              <a:t>b contrib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Times New Roman"/>
              </a:rPr>
              <a:t>less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Times New Roman"/>
              </a:rPr>
              <a:t>less thermal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10800000">
            <a:off x="8229240" y="3123720"/>
            <a:ext cx="228600" cy="762120"/>
          </a:xfrm>
          <a:prstGeom prst="upArrow">
            <a:avLst>
              <a:gd name="adj1" fmla="val 50000"/>
              <a:gd name="adj2" fmla="val 83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535040" y="5987880"/>
            <a:ext cx="631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’m very much looking forward to hearing following electron v2 talks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BE2E-DF0E-4C70-9332-167DB97DDA0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419720" cy="45720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4724280" cy="453996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457200" y="384120"/>
            <a:ext cx="457200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irect photons are not suppr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is about 1.0 high pT,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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ratio &gt; 1 at high 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Direct photon contribution is significant at high pT and 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central collisions compared to the inclusive photon y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from the known hadronic sourc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7849-5219-463A-94FA-9D57A53A069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pg046_fig1" descr=""/>
          <p:cNvPicPr/>
          <p:nvPr/>
        </p:nvPicPr>
        <p:blipFill>
          <a:blip r:embed="rId1"/>
          <a:stretch/>
        </p:blipFill>
        <p:spPr>
          <a:xfrm>
            <a:off x="914400" y="947880"/>
            <a:ext cx="6095880" cy="53989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295280" y="228600"/>
            <a:ext cx="289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si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519560" y="59436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nucl-ex/0508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76920" y="228600"/>
            <a:ext cx="33526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direct photon gives complimentary information in understanding the origin of binary scaled direct photon produ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505640" y="1876320"/>
            <a:ext cx="762120" cy="129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7886880" y="2257200"/>
            <a:ext cx="6094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344080" y="2333520"/>
            <a:ext cx="419040" cy="104760"/>
          </a:xfrm>
          <a:prstGeom prst="line">
            <a:avLst/>
          </a:prstGeom>
          <a:ln w="255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7238520" y="2514600"/>
            <a:ext cx="83844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7162920" y="2552760"/>
            <a:ext cx="304560" cy="190440"/>
          </a:xfrm>
          <a:prstGeom prst="line">
            <a:avLst/>
          </a:prstGeom>
          <a:ln w="255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7810200" y="2028960"/>
            <a:ext cx="22860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0560" y="2362320"/>
            <a:ext cx="7632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7924680" y="1676160"/>
            <a:ext cx="76320" cy="6094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7772400" y="2819520"/>
            <a:ext cx="76320" cy="6094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6560" y="3657600"/>
            <a:ext cx="1402920" cy="10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Times New Roman"/>
              </a:rPr>
              <a:t>Bresmsrahlu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Times New Roman"/>
              </a:rPr>
              <a:t>because of lar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Times New Roman"/>
              </a:rPr>
              <a:t>energy lo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ja-JP" sz="16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ja-JP" sz="1600" spc="-1" strike="noStrike">
                <a:solidFill>
                  <a:srgbClr val="ff0000"/>
                </a:solidFill>
                <a:latin typeface="Times New Roman"/>
              </a:rPr>
              <a:t>&lt;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772400" y="4572000"/>
            <a:ext cx="121932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cc"/>
                </a:solidFill>
                <a:latin typeface="Times New Roman"/>
              </a:rPr>
              <a:t>fragmentation </a:t>
            </a:r>
            <a:br>
              <a:rPr sz="1400"/>
            </a:br>
            <a:r>
              <a:rPr b="0" lang="ja-JP" sz="1400" spc="-1" strike="noStrike">
                <a:solidFill>
                  <a:srgbClr val="3333cc"/>
                </a:solidFill>
                <a:latin typeface="Times New Roman"/>
              </a:rPr>
              <a:t>in vacuum, from escaped</a:t>
            </a:r>
            <a:br>
              <a:rPr sz="1400"/>
            </a:br>
            <a:r>
              <a:rPr b="0" lang="ja-JP" sz="1400" spc="-1" strike="noStrike">
                <a:solidFill>
                  <a:srgbClr val="3333cc"/>
                </a:solidFill>
                <a:latin typeface="Times New Roman"/>
              </a:rPr>
              <a:t>parton</a:t>
            </a:r>
            <a:br>
              <a:rPr sz="1400"/>
            </a:br>
            <a:r>
              <a:rPr b="0" lang="ja-JP" sz="16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ja-JP" sz="16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ja-JP" sz="1600" spc="-1" strike="noStrike">
                <a:solidFill>
                  <a:srgbClr val="3333cc"/>
                </a:solidFill>
                <a:latin typeface="Times New Roman"/>
              </a:rPr>
              <a:t>&gt;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7238880" y="3352320"/>
            <a:ext cx="45720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8305920" y="2514240"/>
            <a:ext cx="304560" cy="2057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7B21-FE29-48EB-9F61-04FD862109C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pg046_fig2" descr=""/>
          <p:cNvPicPr/>
          <p:nvPr/>
        </p:nvPicPr>
        <p:blipFill>
          <a:blip r:embed="rId1"/>
          <a:stretch/>
        </p:blipFill>
        <p:spPr>
          <a:xfrm>
            <a:off x="76320" y="1965240"/>
            <a:ext cx="4495680" cy="4032360"/>
          </a:xfrm>
          <a:prstGeom prst="rect">
            <a:avLst/>
          </a:prstGeom>
          <a:ln w="0">
            <a:noFill/>
          </a:ln>
        </p:spPr>
      </p:pic>
      <p:pic>
        <p:nvPicPr>
          <p:cNvPr id="502" name="ppg046_fig3" descr=""/>
          <p:cNvPicPr/>
          <p:nvPr/>
        </p:nvPicPr>
        <p:blipFill>
          <a:blip r:embed="rId2"/>
          <a:stretch/>
        </p:blipFill>
        <p:spPr>
          <a:xfrm>
            <a:off x="4419720" y="1965240"/>
            <a:ext cx="4572000" cy="405468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3276720" y="152280"/>
            <a:ext cx="31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extract dire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002960" y="765000"/>
            <a:ext cx="2426040" cy="612000"/>
            <a:chOff x="1002960" y="765000"/>
            <a:chExt cx="2426040" cy="612000"/>
          </a:xfrm>
        </p:grpSpPr>
        <p:sp>
          <p:nvSpPr>
            <p:cNvPr id="505" name=""/>
            <p:cNvSpPr/>
            <p:nvPr/>
          </p:nvSpPr>
          <p:spPr>
            <a:xfrm>
              <a:off x="1002960" y="917640"/>
              <a:ext cx="964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direct 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=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23120" y="765000"/>
              <a:ext cx="142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R v</a:t>
              </a:r>
              <a:r>
                <a:rPr b="0" lang="en-US" sz="1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1400" spc="-1" strike="noStrike" baseline="30000">
                  <a:solidFill>
                    <a:srgbClr val="3333cc"/>
                  </a:solidFill>
                  <a:latin typeface="Times New Roman"/>
                </a:rPr>
                <a:t>inclusive </a:t>
              </a:r>
              <a:r>
                <a:rPr b="0" lang="en-US" sz="14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</a:t>
              </a: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– v</a:t>
              </a:r>
              <a:r>
                <a:rPr b="0" lang="en-US" sz="1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1400" spc="-1" strike="noStrike" baseline="30000">
                  <a:solidFill>
                    <a:srgbClr val="3333cc"/>
                  </a:solidFill>
                  <a:latin typeface="Times New Roman"/>
                </a:rPr>
                <a:t>b.g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250720" y="106992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 –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28800" y="1069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753840" y="1371600"/>
            <a:ext cx="3288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b.g.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: expected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v2 from hadronic decay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44920" y="1146240"/>
            <a:ext cx="1119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direct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29400" y="1222200"/>
            <a:ext cx="380880" cy="152640"/>
          </a:xfrm>
          <a:prstGeom prst="rightArrow">
            <a:avLst>
              <a:gd name="adj1" fmla="val 50000"/>
              <a:gd name="adj2" fmla="val 62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7183440" y="993600"/>
            <a:ext cx="1178640" cy="641160"/>
            <a:chOff x="7183440" y="993600"/>
            <a:chExt cx="1178640" cy="641160"/>
          </a:xfrm>
        </p:grpSpPr>
        <p:sp>
          <p:nvSpPr>
            <p:cNvPr id="513" name=""/>
            <p:cNvSpPr/>
            <p:nvPr/>
          </p:nvSpPr>
          <p:spPr>
            <a:xfrm>
              <a:off x="7183440" y="1145880"/>
              <a:ext cx="48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 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82320" y="1298520"/>
              <a:ext cx="779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inclusive 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48920" y="993600"/>
              <a:ext cx="452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b.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638840" y="129852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7386840" y="19051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nucl-ex/0508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FA9-9A0A-401C-B9EC-36BED5C50F1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380880" y="571680"/>
            <a:ext cx="8382240" cy="5829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19" name=""/>
          <p:cNvSpPr/>
          <p:nvPr/>
        </p:nvSpPr>
        <p:spPr>
          <a:xfrm>
            <a:off x="6241320" y="30492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QM05 : Phenix preliminary run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7632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si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43200" y="1371600"/>
            <a:ext cx="7632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743200" y="114300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826360" y="990720"/>
            <a:ext cx="35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818440" y="1219320"/>
            <a:ext cx="10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siv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60640" y="84312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61880" y="6172200"/>
            <a:ext cx="3469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0                                 5        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(GeV/c)  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6560" y="83808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-10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67440" y="838080"/>
            <a:ext cx="8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-20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142240" y="2819520"/>
            <a:ext cx="8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-40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42240" y="4724280"/>
            <a:ext cx="8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-60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16200" y="4724280"/>
            <a:ext cx="8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-50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916200" y="2787480"/>
            <a:ext cx="8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-30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83FA-3873-4D3E-B197-E0095483CB1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821120" y="228600"/>
            <a:ext cx="3942000" cy="6324480"/>
          </a:xfrm>
          <a:prstGeom prst="rect">
            <a:avLst/>
          </a:prstGeom>
          <a:ln w="0">
            <a:noFill/>
          </a:ln>
        </p:spPr>
      </p:pic>
      <p:pic>
        <p:nvPicPr>
          <p:cNvPr id="534" name="vgam" descr=""/>
          <p:cNvPicPr/>
          <p:nvPr/>
        </p:nvPicPr>
        <p:blipFill>
          <a:blip r:embed="rId2"/>
          <a:stretch/>
        </p:blipFill>
        <p:spPr>
          <a:xfrm>
            <a:off x="593640" y="1515960"/>
            <a:ext cx="4191120" cy="366552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1219320" y="4114800"/>
            <a:ext cx="7162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35160" y="3324240"/>
            <a:ext cx="7162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85480" y="304920"/>
            <a:ext cx="42328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Low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direct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can be extra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n a different wa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oth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distribution and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10800" y="5562720"/>
            <a:ext cx="3355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better accuracy at low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might be expec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4A0-882F-45D9-A149-3B304BE3A910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ho_sca2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5695920" cy="2589120"/>
          </a:xfrm>
          <a:prstGeom prst="rect">
            <a:avLst/>
          </a:prstGeom>
          <a:ln w="0">
            <a:noFill/>
          </a:ln>
        </p:spPr>
      </p:pic>
      <p:pic>
        <p:nvPicPr>
          <p:cNvPr id="540" name="pho_sca3" descr=""/>
          <p:cNvPicPr/>
          <p:nvPr/>
        </p:nvPicPr>
        <p:blipFill>
          <a:blip r:embed="rId2"/>
          <a:stretch/>
        </p:blipFill>
        <p:spPr>
          <a:xfrm>
            <a:off x="1447920" y="3659040"/>
            <a:ext cx="5867280" cy="251172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1143000" y="22860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N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scales with N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for both Au+Au / Cu+C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7D6B-7E34-4998-8CB3-2747B00BBDEF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ho_sca1" descr=""/>
          <p:cNvPicPr/>
          <p:nvPr/>
        </p:nvPicPr>
        <p:blipFill>
          <a:blip r:embed="rId1"/>
          <a:stretch/>
        </p:blipFill>
        <p:spPr>
          <a:xfrm>
            <a:off x="1273320" y="838080"/>
            <a:ext cx="6575400" cy="49896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1523880" y="228600"/>
            <a:ext cx="601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scales with N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for both Au+Au / Cu+C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EA8-AA14-4BE4-AB76-F070215770B5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ecc_sca0" descr=""/>
          <p:cNvPicPr/>
          <p:nvPr/>
        </p:nvPicPr>
        <p:blipFill>
          <a:blip r:embed="rId1"/>
          <a:stretch/>
        </p:blipFill>
        <p:spPr>
          <a:xfrm>
            <a:off x="152280" y="2049480"/>
            <a:ext cx="5486400" cy="4173480"/>
          </a:xfrm>
          <a:prstGeom prst="rect">
            <a:avLst/>
          </a:prstGeom>
          <a:ln w="0">
            <a:noFill/>
          </a:ln>
        </p:spPr>
      </p:pic>
      <p:pic>
        <p:nvPicPr>
          <p:cNvPr id="545" name="ecc_sca1" descr=""/>
          <p:cNvPicPr/>
          <p:nvPr/>
        </p:nvPicPr>
        <p:blipFill>
          <a:blip r:embed="rId2"/>
          <a:stretch/>
        </p:blipFill>
        <p:spPr>
          <a:xfrm>
            <a:off x="4092480" y="380880"/>
            <a:ext cx="4822920" cy="3643560"/>
          </a:xfrm>
          <a:prstGeom prst="rect">
            <a:avLst/>
          </a:prstGeom>
          <a:ln w="0">
            <a:noFill/>
          </a:ln>
        </p:spPr>
      </p:pic>
      <p:pic>
        <p:nvPicPr>
          <p:cNvPr id="546" name="rqmd" descr=""/>
          <p:cNvPicPr/>
          <p:nvPr/>
        </p:nvPicPr>
        <p:blipFill>
          <a:blip r:embed="rId3"/>
          <a:stretch/>
        </p:blipFill>
        <p:spPr>
          <a:xfrm>
            <a:off x="5638680" y="4343400"/>
            <a:ext cx="3048120" cy="188928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7239960" y="4038480"/>
            <a:ext cx="111384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(|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&lt;2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772320" y="4786200"/>
            <a:ext cx="1765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black : Au+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red : Cu+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285960" y="411480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RQMDv2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99160" y="304920"/>
            <a:ext cx="36342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does NOT scale with N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or obvious reason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----- Geometry 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4114800" y="4114800"/>
            <a:ext cx="1523880" cy="1143000"/>
            <a:chOff x="4114800" y="4114800"/>
            <a:chExt cx="1523880" cy="1143000"/>
          </a:xfrm>
        </p:grpSpPr>
        <p:sp>
          <p:nvSpPr>
            <p:cNvPr id="552" name=""/>
            <p:cNvSpPr/>
            <p:nvPr/>
          </p:nvSpPr>
          <p:spPr>
            <a:xfrm>
              <a:off x="4827960" y="4800600"/>
              <a:ext cx="81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true R.P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14800" y="4114800"/>
              <a:ext cx="15238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67080" y="44956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00600" y="449568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762440" y="475308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38760" y="475308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191120" y="4800600"/>
              <a:ext cx="137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4838760" y="443844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22520" y="4143240"/>
              <a:ext cx="12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participant R.P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7390800" y="441972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true R.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7391520" y="990720"/>
            <a:ext cx="761760" cy="83808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0880" y="5334120"/>
            <a:ext cx="53341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use all participants to define its axis and its deforma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imum auto-correlation in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finition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1828800" y="426708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3733920" y="4495320"/>
            <a:ext cx="0" cy="2286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01D4-9DDD-428D-A470-17779F659ACB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576360" y="278280"/>
            <a:ext cx="4046400" cy="2949120"/>
            <a:chOff x="576360" y="278280"/>
            <a:chExt cx="4046400" cy="2949120"/>
          </a:xfrm>
        </p:grpSpPr>
        <p:sp>
          <p:nvSpPr>
            <p:cNvPr id="43" name=""/>
            <p:cNvSpPr/>
            <p:nvPr/>
          </p:nvSpPr>
          <p:spPr>
            <a:xfrm>
              <a:off x="3169080" y="1765800"/>
              <a:ext cx="1058040" cy="12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1634400" y="2304000"/>
              <a:ext cx="498600" cy="58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11267400">
              <a:off x="3711600" y="304920"/>
              <a:ext cx="417600" cy="37008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403640" y="487440"/>
              <a:ext cx="864720" cy="990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750680" y="532800"/>
              <a:ext cx="851760" cy="9745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90880" y="682920"/>
              <a:ext cx="2360520" cy="323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66600" y="1819800"/>
              <a:ext cx="1661040" cy="2275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467400">
              <a:off x="711360" y="533520"/>
              <a:ext cx="3784320" cy="2131920"/>
            </a:xfrm>
            <a:prstGeom prst="parallelogram">
              <a:avLst>
                <a:gd name="adj" fmla="val 65858"/>
              </a:avLst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576360" y="1997640"/>
              <a:ext cx="363600" cy="419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881360" y="574200"/>
              <a:ext cx="1053000" cy="1206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 rot="11268000">
              <a:off x="1794960" y="1664640"/>
              <a:ext cx="295560" cy="854280"/>
            </a:xfrm>
            <a:custGeom>
              <a:avLst/>
              <a:gdLst/>
              <a:ahLst/>
              <a:rect l="l" t="t" r="r" b="b"/>
              <a:pathLst>
                <a:path w="252" h="715">
                  <a:moveTo>
                    <a:pt x="84" y="643"/>
                  </a:moveTo>
                  <a:cubicBezTo>
                    <a:pt x="64" y="611"/>
                    <a:pt x="38" y="568"/>
                    <a:pt x="24" y="519"/>
                  </a:cubicBezTo>
                  <a:cubicBezTo>
                    <a:pt x="10" y="470"/>
                    <a:pt x="0" y="403"/>
                    <a:pt x="1" y="351"/>
                  </a:cubicBezTo>
                  <a:cubicBezTo>
                    <a:pt x="2" y="299"/>
                    <a:pt x="14" y="251"/>
                    <a:pt x="30" y="205"/>
                  </a:cubicBezTo>
                  <a:cubicBezTo>
                    <a:pt x="46" y="159"/>
                    <a:pt x="77" y="106"/>
                    <a:pt x="100" y="73"/>
                  </a:cubicBezTo>
                  <a:cubicBezTo>
                    <a:pt x="123" y="40"/>
                    <a:pt x="163" y="0"/>
                    <a:pt x="166" y="4"/>
                  </a:cubicBezTo>
                  <a:cubicBezTo>
                    <a:pt x="198" y="57"/>
                    <a:pt x="212" y="120"/>
                    <a:pt x="225" y="171"/>
                  </a:cubicBezTo>
                  <a:cubicBezTo>
                    <a:pt x="239" y="226"/>
                    <a:pt x="246" y="280"/>
                    <a:pt x="249" y="337"/>
                  </a:cubicBezTo>
                  <a:cubicBezTo>
                    <a:pt x="252" y="394"/>
                    <a:pt x="249" y="464"/>
                    <a:pt x="241" y="514"/>
                  </a:cubicBezTo>
                  <a:cubicBezTo>
                    <a:pt x="233" y="564"/>
                    <a:pt x="216" y="603"/>
                    <a:pt x="199" y="636"/>
                  </a:cubicBezTo>
                  <a:cubicBezTo>
                    <a:pt x="182" y="669"/>
                    <a:pt x="142" y="715"/>
                    <a:pt x="142" y="712"/>
                  </a:cubicBezTo>
                  <a:cubicBezTo>
                    <a:pt x="142" y="711"/>
                    <a:pt x="104" y="675"/>
                    <a:pt x="84" y="643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572840" y="1648800"/>
              <a:ext cx="776880" cy="8856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467400">
              <a:off x="3811320" y="1887480"/>
              <a:ext cx="59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467400">
              <a:off x="1829520" y="2540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2889720" y="378720"/>
              <a:ext cx="1327680" cy="1344960"/>
              <a:chOff x="2889720" y="378720"/>
              <a:chExt cx="1327680" cy="134496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2889720" y="378720"/>
                <a:ext cx="1327680" cy="1344960"/>
                <a:chOff x="2889720" y="378720"/>
                <a:chExt cx="1327680" cy="1344960"/>
              </a:xfrm>
            </p:grpSpPr>
            <p:sp>
              <p:nvSpPr>
                <p:cNvPr id="59" name=""/>
                <p:cNvSpPr/>
                <p:nvPr/>
              </p:nvSpPr>
              <p:spPr>
                <a:xfrm rot="467400">
                  <a:off x="2993760" y="452160"/>
                  <a:ext cx="1149120" cy="117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467400">
                  <a:off x="2993760" y="451080"/>
                  <a:ext cx="1149120" cy="1175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467400">
                  <a:off x="2932920" y="927000"/>
                  <a:ext cx="1202040" cy="718560"/>
                </a:xfrm>
                <a:custGeom>
                  <a:avLst/>
                  <a:gdLst/>
                  <a:ahLst/>
                  <a:rect l="l" t="t" r="r" b="b"/>
                  <a:pathLst>
                    <a:path w="1026" h="600">
                      <a:moveTo>
                        <a:pt x="43" y="123"/>
                      </a:moveTo>
                      <a:cubicBezTo>
                        <a:pt x="61" y="136"/>
                        <a:pt x="84" y="160"/>
                        <a:pt x="120" y="181"/>
                      </a:cubicBezTo>
                      <a:cubicBezTo>
                        <a:pt x="156" y="202"/>
                        <a:pt x="210" y="233"/>
                        <a:pt x="262" y="250"/>
                      </a:cubicBezTo>
                      <a:cubicBezTo>
                        <a:pt x="314" y="267"/>
                        <a:pt x="370" y="279"/>
                        <a:pt x="432" y="280"/>
                      </a:cubicBezTo>
                      <a:cubicBezTo>
                        <a:pt x="494" y="281"/>
                        <a:pt x="573" y="272"/>
                        <a:pt x="634" y="259"/>
                      </a:cubicBezTo>
                      <a:cubicBezTo>
                        <a:pt x="695" y="246"/>
                        <a:pt x="749" y="229"/>
                        <a:pt x="799" y="201"/>
                      </a:cubicBezTo>
                      <a:cubicBezTo>
                        <a:pt x="849" y="173"/>
                        <a:pt x="899" y="122"/>
                        <a:pt x="937" y="90"/>
                      </a:cubicBezTo>
                      <a:cubicBezTo>
                        <a:pt x="975" y="58"/>
                        <a:pt x="1012" y="0"/>
                        <a:pt x="1026" y="9"/>
                      </a:cubicBezTo>
                      <a:cubicBezTo>
                        <a:pt x="1021" y="13"/>
                        <a:pt x="1025" y="101"/>
                        <a:pt x="1019" y="144"/>
                      </a:cubicBezTo>
                      <a:cubicBezTo>
                        <a:pt x="1013" y="187"/>
                        <a:pt x="1007" y="227"/>
                        <a:pt x="992" y="267"/>
                      </a:cubicBezTo>
                      <a:cubicBezTo>
                        <a:pt x="978" y="307"/>
                        <a:pt x="952" y="351"/>
                        <a:pt x="929" y="384"/>
                      </a:cubicBezTo>
                      <a:cubicBezTo>
                        <a:pt x="907" y="417"/>
                        <a:pt x="886" y="440"/>
                        <a:pt x="857" y="467"/>
                      </a:cubicBezTo>
                      <a:cubicBezTo>
                        <a:pt x="827" y="493"/>
                        <a:pt x="790" y="521"/>
                        <a:pt x="749" y="542"/>
                      </a:cubicBezTo>
                      <a:cubicBezTo>
                        <a:pt x="708" y="562"/>
                        <a:pt x="659" y="580"/>
                        <a:pt x="610" y="588"/>
                      </a:cubicBezTo>
                      <a:cubicBezTo>
                        <a:pt x="561" y="596"/>
                        <a:pt x="505" y="600"/>
                        <a:pt x="455" y="594"/>
                      </a:cubicBezTo>
                      <a:cubicBezTo>
                        <a:pt x="404" y="588"/>
                        <a:pt x="353" y="572"/>
                        <a:pt x="310" y="553"/>
                      </a:cubicBezTo>
                      <a:cubicBezTo>
                        <a:pt x="267" y="533"/>
                        <a:pt x="229" y="510"/>
                        <a:pt x="193" y="479"/>
                      </a:cubicBezTo>
                      <a:cubicBezTo>
                        <a:pt x="157" y="448"/>
                        <a:pt x="121" y="408"/>
                        <a:pt x="95" y="368"/>
                      </a:cubicBezTo>
                      <a:cubicBezTo>
                        <a:pt x="69" y="328"/>
                        <a:pt x="52" y="286"/>
                        <a:pt x="36" y="237"/>
                      </a:cubicBezTo>
                      <a:cubicBezTo>
                        <a:pt x="20" y="188"/>
                        <a:pt x="0" y="92"/>
                        <a:pt x="1" y="73"/>
                      </a:cubicBezTo>
                      <a:lnTo>
                        <a:pt x="43" y="123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467400">
                  <a:off x="2983680" y="957960"/>
                  <a:ext cx="1146600" cy="307800"/>
                </a:xfrm>
                <a:custGeom>
                  <a:avLst/>
                  <a:gdLst/>
                  <a:ahLst/>
                  <a:rect l="l" t="t" r="r" b="b"/>
                  <a:pathLst>
                    <a:path w="979" h="257">
                      <a:moveTo>
                        <a:pt x="0" y="78"/>
                      </a:moveTo>
                      <a:cubicBezTo>
                        <a:pt x="17" y="92"/>
                        <a:pt x="57" y="134"/>
                        <a:pt x="101" y="160"/>
                      </a:cubicBezTo>
                      <a:cubicBezTo>
                        <a:pt x="145" y="186"/>
                        <a:pt x="213" y="216"/>
                        <a:pt x="263" y="232"/>
                      </a:cubicBezTo>
                      <a:cubicBezTo>
                        <a:pt x="313" y="248"/>
                        <a:pt x="347" y="255"/>
                        <a:pt x="404" y="256"/>
                      </a:cubicBezTo>
                      <a:cubicBezTo>
                        <a:pt x="461" y="257"/>
                        <a:pt x="542" y="254"/>
                        <a:pt x="608" y="238"/>
                      </a:cubicBezTo>
                      <a:cubicBezTo>
                        <a:pt x="674" y="222"/>
                        <a:pt x="738" y="200"/>
                        <a:pt x="800" y="160"/>
                      </a:cubicBezTo>
                      <a:cubicBezTo>
                        <a:pt x="862" y="120"/>
                        <a:pt x="942" y="33"/>
                        <a:pt x="979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 rot="467400">
                <a:off x="2991240" y="556560"/>
                <a:ext cx="294840" cy="85608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2290680" y="478080"/>
              <a:ext cx="973440" cy="13320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11440" y="757080"/>
              <a:ext cx="698400" cy="95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01880" y="894600"/>
              <a:ext cx="1385640" cy="189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840760" y="992160"/>
              <a:ext cx="454320" cy="520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20800" y="1100520"/>
              <a:ext cx="2365200" cy="323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1582920" y="613080"/>
              <a:ext cx="1672200" cy="1914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36840" y="1310040"/>
              <a:ext cx="2365200" cy="323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2180520" y="960480"/>
              <a:ext cx="726120" cy="1247760"/>
              <a:chOff x="2180520" y="960480"/>
              <a:chExt cx="726120" cy="1247760"/>
            </a:xfrm>
          </p:grpSpPr>
          <p:sp>
            <p:nvSpPr>
              <p:cNvPr id="72" name=""/>
              <p:cNvSpPr/>
              <p:nvPr/>
            </p:nvSpPr>
            <p:spPr>
              <a:xfrm rot="467400">
                <a:off x="2257560" y="994680"/>
                <a:ext cx="571680" cy="1176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467400">
                <a:off x="2219400" y="1554480"/>
                <a:ext cx="573120" cy="617400"/>
              </a:xfrm>
              <a:custGeom>
                <a:avLst/>
                <a:gdLst/>
                <a:ahLst/>
                <a:rect l="l" t="t" r="r" b="b"/>
                <a:pathLst>
                  <a:path w="489" h="515">
                    <a:moveTo>
                      <a:pt x="13" y="46"/>
                    </a:moveTo>
                    <a:cubicBezTo>
                      <a:pt x="24" y="55"/>
                      <a:pt x="47" y="72"/>
                      <a:pt x="65" y="81"/>
                    </a:cubicBezTo>
                    <a:cubicBezTo>
                      <a:pt x="83" y="90"/>
                      <a:pt x="103" y="92"/>
                      <a:pt x="121" y="97"/>
                    </a:cubicBezTo>
                    <a:cubicBezTo>
                      <a:pt x="139" y="102"/>
                      <a:pt x="156" y="109"/>
                      <a:pt x="176" y="112"/>
                    </a:cubicBezTo>
                    <a:cubicBezTo>
                      <a:pt x="196" y="115"/>
                      <a:pt x="218" y="115"/>
                      <a:pt x="241" y="114"/>
                    </a:cubicBezTo>
                    <a:cubicBezTo>
                      <a:pt x="264" y="113"/>
                      <a:pt x="289" y="109"/>
                      <a:pt x="313" y="103"/>
                    </a:cubicBezTo>
                    <a:cubicBezTo>
                      <a:pt x="337" y="97"/>
                      <a:pt x="362" y="90"/>
                      <a:pt x="385" y="78"/>
                    </a:cubicBezTo>
                    <a:cubicBezTo>
                      <a:pt x="408" y="66"/>
                      <a:pt x="435" y="41"/>
                      <a:pt x="452" y="29"/>
                    </a:cubicBezTo>
                    <a:cubicBezTo>
                      <a:pt x="469" y="17"/>
                      <a:pt x="479" y="0"/>
                      <a:pt x="485" y="7"/>
                    </a:cubicBezTo>
                    <a:cubicBezTo>
                      <a:pt x="483" y="11"/>
                      <a:pt x="489" y="40"/>
                      <a:pt x="487" y="70"/>
                    </a:cubicBezTo>
                    <a:cubicBezTo>
                      <a:pt x="485" y="100"/>
                      <a:pt x="481" y="151"/>
                      <a:pt x="474" y="190"/>
                    </a:cubicBezTo>
                    <a:cubicBezTo>
                      <a:pt x="467" y="229"/>
                      <a:pt x="455" y="272"/>
                      <a:pt x="444" y="304"/>
                    </a:cubicBezTo>
                    <a:cubicBezTo>
                      <a:pt x="433" y="336"/>
                      <a:pt x="423" y="359"/>
                      <a:pt x="408" y="385"/>
                    </a:cubicBezTo>
                    <a:cubicBezTo>
                      <a:pt x="394" y="411"/>
                      <a:pt x="376" y="438"/>
                      <a:pt x="356" y="458"/>
                    </a:cubicBezTo>
                    <a:cubicBezTo>
                      <a:pt x="336" y="478"/>
                      <a:pt x="313" y="495"/>
                      <a:pt x="289" y="503"/>
                    </a:cubicBezTo>
                    <a:cubicBezTo>
                      <a:pt x="265" y="511"/>
                      <a:pt x="238" y="515"/>
                      <a:pt x="214" y="509"/>
                    </a:cubicBezTo>
                    <a:cubicBezTo>
                      <a:pt x="189" y="503"/>
                      <a:pt x="164" y="488"/>
                      <a:pt x="143" y="469"/>
                    </a:cubicBezTo>
                    <a:cubicBezTo>
                      <a:pt x="122" y="450"/>
                      <a:pt x="104" y="427"/>
                      <a:pt x="87" y="397"/>
                    </a:cubicBezTo>
                    <a:cubicBezTo>
                      <a:pt x="69" y="367"/>
                      <a:pt x="52" y="328"/>
                      <a:pt x="39" y="289"/>
                    </a:cubicBezTo>
                    <a:cubicBezTo>
                      <a:pt x="27" y="250"/>
                      <a:pt x="17" y="204"/>
                      <a:pt x="10" y="161"/>
                    </a:cubicBezTo>
                    <a:cubicBezTo>
                      <a:pt x="4" y="118"/>
                      <a:pt x="0" y="47"/>
                      <a:pt x="0" y="28"/>
                    </a:cubicBez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467400">
                <a:off x="2251800" y="1559160"/>
                <a:ext cx="570600" cy="131760"/>
              </a:xfrm>
              <a:custGeom>
                <a:avLst/>
                <a:gdLst/>
                <a:ahLst/>
                <a:rect l="l" t="t" r="r" b="b"/>
                <a:pathLst>
                  <a:path w="979" h="257">
                    <a:moveTo>
                      <a:pt x="0" y="78"/>
                    </a:moveTo>
                    <a:cubicBezTo>
                      <a:pt x="17" y="92"/>
                      <a:pt x="57" y="134"/>
                      <a:pt x="101" y="160"/>
                    </a:cubicBezTo>
                    <a:cubicBezTo>
                      <a:pt x="145" y="186"/>
                      <a:pt x="213" y="216"/>
                      <a:pt x="263" y="232"/>
                    </a:cubicBezTo>
                    <a:cubicBezTo>
                      <a:pt x="313" y="248"/>
                      <a:pt x="347" y="255"/>
                      <a:pt x="404" y="256"/>
                    </a:cubicBezTo>
                    <a:cubicBezTo>
                      <a:pt x="461" y="257"/>
                      <a:pt x="542" y="254"/>
                      <a:pt x="608" y="238"/>
                    </a:cubicBezTo>
                    <a:cubicBezTo>
                      <a:pt x="674" y="222"/>
                      <a:pt x="738" y="200"/>
                      <a:pt x="800" y="160"/>
                    </a:cubicBezTo>
                    <a:cubicBezTo>
                      <a:pt x="862" y="120"/>
                      <a:pt x="942" y="33"/>
                      <a:pt x="97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467400">
                <a:off x="2257920" y="993600"/>
                <a:ext cx="571680" cy="1176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 flipH="1">
              <a:off x="2597040" y="1224720"/>
              <a:ext cx="1252800" cy="14385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2261520" y="1263240"/>
              <a:ext cx="1183320" cy="13521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27640" y="1684800"/>
              <a:ext cx="1086840" cy="1486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1906200" y="1674000"/>
              <a:ext cx="792360" cy="908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161800" y="1645920"/>
              <a:ext cx="194400" cy="2232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31320" y="1586520"/>
              <a:ext cx="550440" cy="756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853200" y="1386000"/>
              <a:ext cx="1312200" cy="1343160"/>
              <a:chOff x="853200" y="1386000"/>
              <a:chExt cx="1312200" cy="1343160"/>
            </a:xfrm>
          </p:grpSpPr>
          <p:sp>
            <p:nvSpPr>
              <p:cNvPr id="83" name=""/>
              <p:cNvSpPr/>
              <p:nvPr/>
            </p:nvSpPr>
            <p:spPr>
              <a:xfrm rot="467400">
                <a:off x="946440" y="1459440"/>
                <a:ext cx="1144440" cy="117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467400">
                <a:off x="943920" y="1458000"/>
                <a:ext cx="1144080" cy="11718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467400">
                <a:off x="895680" y="1943280"/>
                <a:ext cx="1185840" cy="708840"/>
              </a:xfrm>
              <a:custGeom>
                <a:avLst/>
                <a:gdLst/>
                <a:ahLst/>
                <a:rect l="l" t="t" r="r" b="b"/>
                <a:pathLst>
                  <a:path w="982" h="568">
                    <a:moveTo>
                      <a:pt x="22" y="106"/>
                    </a:moveTo>
                    <a:cubicBezTo>
                      <a:pt x="39" y="120"/>
                      <a:pt x="60" y="144"/>
                      <a:pt x="100" y="166"/>
                    </a:cubicBezTo>
                    <a:cubicBezTo>
                      <a:pt x="140" y="188"/>
                      <a:pt x="212" y="222"/>
                      <a:pt x="262" y="238"/>
                    </a:cubicBezTo>
                    <a:cubicBezTo>
                      <a:pt x="312" y="254"/>
                      <a:pt x="346" y="261"/>
                      <a:pt x="403" y="262"/>
                    </a:cubicBezTo>
                    <a:cubicBezTo>
                      <a:pt x="460" y="263"/>
                      <a:pt x="546" y="257"/>
                      <a:pt x="607" y="244"/>
                    </a:cubicBezTo>
                    <a:cubicBezTo>
                      <a:pt x="668" y="231"/>
                      <a:pt x="719" y="210"/>
                      <a:pt x="769" y="183"/>
                    </a:cubicBezTo>
                    <a:cubicBezTo>
                      <a:pt x="819" y="156"/>
                      <a:pt x="872" y="111"/>
                      <a:pt x="907" y="82"/>
                    </a:cubicBezTo>
                    <a:cubicBezTo>
                      <a:pt x="942" y="53"/>
                      <a:pt x="966" y="0"/>
                      <a:pt x="978" y="7"/>
                    </a:cubicBezTo>
                    <a:cubicBezTo>
                      <a:pt x="973" y="11"/>
                      <a:pt x="982" y="84"/>
                      <a:pt x="978" y="123"/>
                    </a:cubicBezTo>
                    <a:cubicBezTo>
                      <a:pt x="974" y="162"/>
                      <a:pt x="966" y="204"/>
                      <a:pt x="952" y="243"/>
                    </a:cubicBezTo>
                    <a:cubicBezTo>
                      <a:pt x="938" y="282"/>
                      <a:pt x="913" y="325"/>
                      <a:pt x="891" y="357"/>
                    </a:cubicBezTo>
                    <a:cubicBezTo>
                      <a:pt x="869" y="389"/>
                      <a:pt x="849" y="412"/>
                      <a:pt x="820" y="438"/>
                    </a:cubicBezTo>
                    <a:cubicBezTo>
                      <a:pt x="791" y="464"/>
                      <a:pt x="755" y="491"/>
                      <a:pt x="715" y="511"/>
                    </a:cubicBezTo>
                    <a:cubicBezTo>
                      <a:pt x="675" y="531"/>
                      <a:pt x="628" y="548"/>
                      <a:pt x="580" y="556"/>
                    </a:cubicBezTo>
                    <a:cubicBezTo>
                      <a:pt x="532" y="564"/>
                      <a:pt x="478" y="568"/>
                      <a:pt x="429" y="562"/>
                    </a:cubicBezTo>
                    <a:cubicBezTo>
                      <a:pt x="380" y="556"/>
                      <a:pt x="330" y="541"/>
                      <a:pt x="288" y="522"/>
                    </a:cubicBezTo>
                    <a:cubicBezTo>
                      <a:pt x="246" y="503"/>
                      <a:pt x="209" y="480"/>
                      <a:pt x="174" y="450"/>
                    </a:cubicBezTo>
                    <a:cubicBezTo>
                      <a:pt x="139" y="420"/>
                      <a:pt x="104" y="381"/>
                      <a:pt x="79" y="342"/>
                    </a:cubicBezTo>
                    <a:cubicBezTo>
                      <a:pt x="54" y="303"/>
                      <a:pt x="34" y="257"/>
                      <a:pt x="21" y="214"/>
                    </a:cubicBezTo>
                    <a:cubicBezTo>
                      <a:pt x="8" y="171"/>
                      <a:pt x="0" y="99"/>
                      <a:pt x="0" y="81"/>
                    </a:cubicBezTo>
                    <a:lnTo>
                      <a:pt x="22" y="10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267400">
                <a:off x="1795680" y="1659240"/>
                <a:ext cx="294840" cy="85428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467400">
                <a:off x="1769400" y="1639080"/>
                <a:ext cx="132840" cy="870120"/>
              </a:xfrm>
              <a:custGeom>
                <a:avLst/>
                <a:gdLst/>
                <a:ahLst/>
                <a:rect l="l" t="t" r="r" b="b"/>
                <a:pathLst>
                  <a:path w="114" h="728">
                    <a:moveTo>
                      <a:pt x="90" y="621"/>
                    </a:moveTo>
                    <a:cubicBezTo>
                      <a:pt x="86" y="592"/>
                      <a:pt x="86" y="572"/>
                      <a:pt x="84" y="540"/>
                    </a:cubicBezTo>
                    <a:cubicBezTo>
                      <a:pt x="82" y="508"/>
                      <a:pt x="78" y="467"/>
                      <a:pt x="78" y="426"/>
                    </a:cubicBezTo>
                    <a:cubicBezTo>
                      <a:pt x="78" y="385"/>
                      <a:pt x="80" y="339"/>
                      <a:pt x="81" y="291"/>
                    </a:cubicBezTo>
                    <a:cubicBezTo>
                      <a:pt x="82" y="243"/>
                      <a:pt x="83" y="185"/>
                      <a:pt x="84" y="138"/>
                    </a:cubicBezTo>
                    <a:cubicBezTo>
                      <a:pt x="85" y="91"/>
                      <a:pt x="95" y="0"/>
                      <a:pt x="86" y="6"/>
                    </a:cubicBezTo>
                    <a:cubicBezTo>
                      <a:pt x="54" y="59"/>
                      <a:pt x="40" y="122"/>
                      <a:pt x="27" y="173"/>
                    </a:cubicBezTo>
                    <a:cubicBezTo>
                      <a:pt x="13" y="228"/>
                      <a:pt x="6" y="282"/>
                      <a:pt x="3" y="339"/>
                    </a:cubicBezTo>
                    <a:cubicBezTo>
                      <a:pt x="0" y="396"/>
                      <a:pt x="3" y="465"/>
                      <a:pt x="11" y="516"/>
                    </a:cubicBezTo>
                    <a:cubicBezTo>
                      <a:pt x="19" y="567"/>
                      <a:pt x="35" y="608"/>
                      <a:pt x="52" y="643"/>
                    </a:cubicBezTo>
                    <a:cubicBezTo>
                      <a:pt x="69" y="678"/>
                      <a:pt x="108" y="728"/>
                      <a:pt x="114" y="724"/>
                    </a:cubicBezTo>
                    <a:cubicBezTo>
                      <a:pt x="114" y="723"/>
                      <a:pt x="95" y="642"/>
                      <a:pt x="90" y="621"/>
                    </a:cubicBez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467400">
                <a:off x="931680" y="2042640"/>
                <a:ext cx="921240" cy="212760"/>
              </a:xfrm>
              <a:custGeom>
                <a:avLst/>
                <a:gdLst/>
                <a:ahLst/>
                <a:rect l="l" t="t" r="r" b="b"/>
                <a:pathLst>
                  <a:path w="790" h="179">
                    <a:moveTo>
                      <a:pt x="0" y="0"/>
                    </a:moveTo>
                    <a:cubicBezTo>
                      <a:pt x="17" y="14"/>
                      <a:pt x="57" y="56"/>
                      <a:pt x="101" y="82"/>
                    </a:cubicBezTo>
                    <a:cubicBezTo>
                      <a:pt x="145" y="108"/>
                      <a:pt x="213" y="138"/>
                      <a:pt x="263" y="154"/>
                    </a:cubicBezTo>
                    <a:cubicBezTo>
                      <a:pt x="313" y="170"/>
                      <a:pt x="347" y="177"/>
                      <a:pt x="404" y="178"/>
                    </a:cubicBezTo>
                    <a:cubicBezTo>
                      <a:pt x="461" y="179"/>
                      <a:pt x="556" y="169"/>
                      <a:pt x="608" y="160"/>
                    </a:cubicBezTo>
                    <a:cubicBezTo>
                      <a:pt x="660" y="151"/>
                      <a:pt x="687" y="140"/>
                      <a:pt x="714" y="123"/>
                    </a:cubicBezTo>
                    <a:cubicBezTo>
                      <a:pt x="741" y="106"/>
                      <a:pt x="755" y="73"/>
                      <a:pt x="768" y="60"/>
                    </a:cubicBezTo>
                    <a:cubicBezTo>
                      <a:pt x="781" y="47"/>
                      <a:pt x="785" y="46"/>
                      <a:pt x="79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H="1">
              <a:off x="1888200" y="1410480"/>
              <a:ext cx="317160" cy="360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64080" y="1820520"/>
              <a:ext cx="1465920" cy="200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467400">
              <a:off x="1685880" y="2359080"/>
              <a:ext cx="1482840" cy="3240"/>
            </a:xfrm>
            <a:custGeom>
              <a:avLst/>
              <a:gdLst/>
              <a:ahLst/>
              <a:rect l="l" t="t" r="r" b="b"/>
              <a:pathLst>
                <a:path w="1266" h="3">
                  <a:moveTo>
                    <a:pt x="0" y="3"/>
                  </a:moveTo>
                  <a:lnTo>
                    <a:pt x="1266" y="0"/>
                  </a:lnTo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16920" y="2043720"/>
              <a:ext cx="1547640" cy="2116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571040" y="1855440"/>
              <a:ext cx="597240" cy="6854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247400" y="2274480"/>
              <a:ext cx="195840" cy="2264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920520" y="2184840"/>
              <a:ext cx="230040" cy="2678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8840" y="2412360"/>
              <a:ext cx="2311920" cy="3160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467400">
              <a:off x="973080" y="2249280"/>
              <a:ext cx="417600" cy="36828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874880" y="1163520"/>
              <a:ext cx="1368360" cy="477360"/>
              <a:chOff x="1874880" y="1163520"/>
              <a:chExt cx="1368360" cy="477360"/>
            </a:xfrm>
          </p:grpSpPr>
          <p:sp>
            <p:nvSpPr>
              <p:cNvPr id="99" name=""/>
              <p:cNvSpPr/>
              <p:nvPr/>
            </p:nvSpPr>
            <p:spPr>
              <a:xfrm flipV="1">
                <a:off x="2633760" y="1302840"/>
                <a:ext cx="99000" cy="109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2784600" y="1262880"/>
                <a:ext cx="237600" cy="154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2864160" y="1491840"/>
                <a:ext cx="345960" cy="442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853720" y="1614240"/>
                <a:ext cx="389520" cy="266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 flipV="1">
                <a:off x="2058120" y="1163520"/>
                <a:ext cx="326160" cy="1944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flipV="1">
                <a:off x="1924920" y="1331640"/>
                <a:ext cx="363240" cy="1411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flipV="1">
                <a:off x="1874880" y="1512000"/>
                <a:ext cx="333000" cy="514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flipV="1">
                <a:off x="2190240" y="1492200"/>
                <a:ext cx="236160" cy="586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 flipV="1">
                <a:off x="2237400" y="1347480"/>
                <a:ext cx="204120" cy="928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2460960" y="1293480"/>
                <a:ext cx="66240" cy="1044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2711880" y="1424160"/>
                <a:ext cx="152280" cy="320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687040" y="1542960"/>
                <a:ext cx="241560" cy="172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2400480" y="1461960"/>
                <a:ext cx="127800" cy="597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1848600" y="1700640"/>
              <a:ext cx="1334160" cy="468720"/>
              <a:chOff x="1848600" y="1700640"/>
              <a:chExt cx="1334160" cy="468720"/>
            </a:xfrm>
          </p:grpSpPr>
          <p:sp>
            <p:nvSpPr>
              <p:cNvPr id="113" name=""/>
              <p:cNvSpPr/>
              <p:nvPr/>
            </p:nvSpPr>
            <p:spPr>
              <a:xfrm flipH="1">
                <a:off x="2316240" y="1873080"/>
                <a:ext cx="110160" cy="1472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2036520" y="1914120"/>
                <a:ext cx="237600" cy="155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1848600" y="1796400"/>
                <a:ext cx="345600" cy="442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flipV="1">
                <a:off x="1949040" y="1700640"/>
                <a:ext cx="256680" cy="172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74440" y="1974960"/>
                <a:ext cx="325800" cy="1944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68760" y="1859040"/>
                <a:ext cx="362520" cy="141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850480" y="1768320"/>
                <a:ext cx="332280" cy="511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33040" y="1781280"/>
                <a:ext cx="235440" cy="590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616840" y="1892520"/>
                <a:ext cx="203760" cy="932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31160" y="1933560"/>
                <a:ext cx="66240" cy="1044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194560" y="1877400"/>
                <a:ext cx="151920" cy="320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flipV="1">
                <a:off x="2131920" y="1770480"/>
                <a:ext cx="240840" cy="176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530080" y="1809360"/>
                <a:ext cx="127800" cy="601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806760" y="2150280"/>
              <a:ext cx="385200" cy="525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75120" y="1163160"/>
              <a:ext cx="287640" cy="396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138920" y="735840"/>
              <a:ext cx="141480" cy="164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24640" y="2859120"/>
              <a:ext cx="260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n-central Colli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872240" y="765000"/>
            <a:ext cx="357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collision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/density gradien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l/elliptic expan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momentum anisotr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3657600" cy="320040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1226520" y="5424480"/>
            <a:ext cx="2811600" cy="786960"/>
            <a:chOff x="1226520" y="5424480"/>
            <a:chExt cx="2811600" cy="786960"/>
          </a:xfrm>
        </p:grpSpPr>
        <p:sp>
          <p:nvSpPr>
            <p:cNvPr id="133" name=""/>
            <p:cNvSpPr/>
            <p:nvPr/>
          </p:nvSpPr>
          <p:spPr>
            <a:xfrm>
              <a:off x="2514600" y="5805720"/>
              <a:ext cx="15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22520" y="5424480"/>
              <a:ext cx="1416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 w</a:t>
              </a:r>
              <a:r>
                <a:rPr b="1" lang="ja-JP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sin(n</a:t>
              </a:r>
              <a:r>
                <a:rPr b="1" lang="ja-JP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ja-JP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26520" y="5591160"/>
              <a:ext cx="1326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tan(n</a:t>
              </a:r>
              <a:r>
                <a:rPr b="1" lang="ja-JP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ja-JP" sz="1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22160" y="5805720"/>
              <a:ext cx="1442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 w</a:t>
              </a:r>
              <a:r>
                <a:rPr b="1" lang="ja-JP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cos(n</a:t>
              </a:r>
              <a:r>
                <a:rPr b="1" lang="ja-JP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1" lang="ja-JP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62120" y="3516480"/>
            <a:ext cx="3097440" cy="2045880"/>
            <a:chOff x="762120" y="3516480"/>
            <a:chExt cx="3097440" cy="2045880"/>
          </a:xfrm>
        </p:grpSpPr>
        <p:sp>
          <p:nvSpPr>
            <p:cNvPr id="138" name=""/>
            <p:cNvSpPr/>
            <p:nvPr/>
          </p:nvSpPr>
          <p:spPr>
            <a:xfrm flipV="1">
              <a:off x="1447560" y="358128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2120" y="4876920"/>
              <a:ext cx="19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08760" y="3516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15320" y="49532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8080" y="4648320"/>
              <a:ext cx="83772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18960" y="4267440"/>
              <a:ext cx="83772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838080" y="3886200"/>
              <a:ext cx="1599840" cy="16002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81800" y="4191120"/>
              <a:ext cx="45576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6000" y="4038840"/>
              <a:ext cx="15735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action pla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gle :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84360" y="6186600"/>
            <a:ext cx="80136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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572000"/>
            <a:ext cx="1890720" cy="12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rmon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itude 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86680" y="3753000"/>
            <a:ext cx="0" cy="304560"/>
          </a:xfrm>
          <a:prstGeom prst="line">
            <a:avLst/>
          </a:prstGeom>
          <a:ln w="12600">
            <a:solidFill>
              <a:srgbClr val="ff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10120" y="375300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406728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9320" y="3348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33E6-E0D0-48F5-BF92-9A0EB4E274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ecc_sca2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734160" cy="510696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2971800" y="5029200"/>
            <a:ext cx="3276720" cy="1401840"/>
          </a:xfrm>
          <a:prstGeom prst="rect">
            <a:avLst/>
          </a:prstGeom>
          <a:solidFill>
            <a:srgbClr val="00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ticipant eccentricity includes initial statistical fluctuation of 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its 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axi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while experimental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reaction pla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from participants with the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oment axis) includes all fluctuations until final particle production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C5C5-C29D-4677-B961-DB6BD602711A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836640" y="914400"/>
            <a:ext cx="3827520" cy="42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9" name=""/>
          <p:cNvGraphicFramePr/>
          <p:nvPr/>
        </p:nvGraphicFramePr>
        <p:xfrm>
          <a:off x="4572000" y="1047600"/>
          <a:ext cx="3519360" cy="373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047600"/>
                    <a:ext cx="351936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"/>
          <p:cNvSpPr/>
          <p:nvPr/>
        </p:nvSpPr>
        <p:spPr>
          <a:xfrm>
            <a:off x="1428840" y="4371840"/>
            <a:ext cx="6629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86000" y="1371600"/>
            <a:ext cx="685800" cy="304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105520" y="1123920"/>
            <a:ext cx="685800" cy="247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8280" y="371520"/>
            <a:ext cx="4572000" cy="520200"/>
          </a:xfrm>
          <a:prstGeom prst="rect">
            <a:avLst/>
          </a:prstGeom>
          <a:solidFill>
            <a:srgbClr val="00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sson from PHOBOS should also be considered when comparing between experiments especially for light system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362320" y="5238720"/>
            <a:ext cx="2743200" cy="943560"/>
            <a:chOff x="2362320" y="5238720"/>
            <a:chExt cx="2743200" cy="943560"/>
          </a:xfrm>
        </p:grpSpPr>
        <p:sp>
          <p:nvSpPr>
            <p:cNvPr id="576" name=""/>
            <p:cNvSpPr/>
            <p:nvPr/>
          </p:nvSpPr>
          <p:spPr>
            <a:xfrm>
              <a:off x="2438280" y="5257800"/>
              <a:ext cx="1244880" cy="924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ja-JP" sz="1600" spc="-1" strike="noStrike" baseline="-25000">
                  <a:solidFill>
                    <a:srgbClr val="000000"/>
                  </a:solidFill>
                  <a:latin typeface="Times New Roman"/>
                </a:rPr>
                <a:t>part.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 sca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ja-JP" sz="1600" spc="-1" strike="noStrike" baseline="-25000">
                  <a:solidFill>
                    <a:srgbClr val="000000"/>
                  </a:solidFill>
                  <a:latin typeface="Times New Roman"/>
                </a:rPr>
                <a:t>coll. 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sca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ja-JP" sz="1600" spc="-1" strike="noStrike" baseline="-25000">
                  <a:solidFill>
                    <a:srgbClr val="000000"/>
                  </a:solidFill>
                  <a:latin typeface="Times New Roman"/>
                </a:rPr>
                <a:t>ecc. 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sca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980520" y="5238720"/>
              <a:ext cx="108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3333cc"/>
                  </a:solidFill>
                  <a:latin typeface="Times New Roman"/>
                </a:rPr>
                <a:t>Au+A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3333cc"/>
                  </a:solidFill>
                  <a:latin typeface="Times New Roman"/>
                </a:rPr>
                <a:t>Cu+C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0000"/>
                  </a:solidFill>
                  <a:latin typeface="Times New Roman"/>
                </a:rPr>
                <a:t>Si(Cu)+A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24360" y="5302080"/>
              <a:ext cx="152280" cy="7621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30"/>
                  </a:lnTo>
                  <a:cubicBezTo>
                    <a:pt x="10800" y="9630"/>
                    <a:pt x="5400" y="10530"/>
                    <a:pt x="0" y="10530"/>
                  </a:cubicBezTo>
                  <a:cubicBezTo>
                    <a:pt x="5400" y="10530"/>
                    <a:pt x="10800" y="11430"/>
                    <a:pt x="10800" y="1233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10800000">
              <a:off x="4952880" y="5301720"/>
              <a:ext cx="152640" cy="76212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30"/>
                  </a:lnTo>
                  <a:cubicBezTo>
                    <a:pt x="10800" y="9630"/>
                    <a:pt x="5400" y="10530"/>
                    <a:pt x="0" y="10530"/>
                  </a:cubicBezTo>
                  <a:cubicBezTo>
                    <a:pt x="5400" y="10530"/>
                    <a:pt x="10800" y="11430"/>
                    <a:pt x="10800" y="1233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362320" y="5295960"/>
              <a:ext cx="152280" cy="7621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30"/>
                  </a:lnTo>
                  <a:cubicBezTo>
                    <a:pt x="10800" y="9630"/>
                    <a:pt x="5400" y="10530"/>
                    <a:pt x="0" y="10530"/>
                  </a:cubicBezTo>
                  <a:cubicBezTo>
                    <a:pt x="5400" y="10530"/>
                    <a:pt x="10800" y="11430"/>
                    <a:pt x="10800" y="1233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0800000">
              <a:off x="3619440" y="5295600"/>
              <a:ext cx="152640" cy="76212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30"/>
                  </a:lnTo>
                  <a:cubicBezTo>
                    <a:pt x="10800" y="9630"/>
                    <a:pt x="5400" y="10530"/>
                    <a:pt x="0" y="10530"/>
                  </a:cubicBezTo>
                  <a:cubicBezTo>
                    <a:pt x="5400" y="10530"/>
                    <a:pt x="10800" y="11430"/>
                    <a:pt x="10800" y="1233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766440" y="5410080"/>
            <a:ext cx="13784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    R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jet/HBT(R.P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409760" y="1914480"/>
            <a:ext cx="6629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00800" y="1212840"/>
            <a:ext cx="1539720" cy="115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The difference between 2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and 4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order cumulant results differ especially for Cu+Cu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820600" y="396252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M05 PHEN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411160" y="396252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M05 S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5486040" y="4781520"/>
            <a:ext cx="2629440" cy="1467720"/>
            <a:chOff x="5486040" y="4781520"/>
            <a:chExt cx="2629440" cy="1467720"/>
          </a:xfrm>
        </p:grpSpPr>
        <p:sp>
          <p:nvSpPr>
            <p:cNvPr id="588" name=""/>
            <p:cNvSpPr/>
            <p:nvPr/>
          </p:nvSpPr>
          <p:spPr>
            <a:xfrm rot="10800000">
              <a:off x="5692680" y="5179680"/>
              <a:ext cx="782640" cy="809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0800000">
              <a:off x="5486040" y="5341680"/>
              <a:ext cx="469800" cy="485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745240" y="5719680"/>
              <a:ext cx="15696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5745240" y="5665680"/>
              <a:ext cx="15696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5738040" y="5611680"/>
              <a:ext cx="15732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5738040" y="5557680"/>
              <a:ext cx="15732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32640" y="5503680"/>
              <a:ext cx="156960" cy="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5727600" y="5450040"/>
              <a:ext cx="15552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5715000" y="5396040"/>
              <a:ext cx="15552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9800000">
              <a:off x="6773400" y="5192640"/>
              <a:ext cx="990720" cy="685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9800000">
              <a:off x="7209000" y="4881240"/>
              <a:ext cx="685800" cy="1066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92920" y="5911920"/>
              <a:ext cx="104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238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 + 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238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66320" y="591192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Si + A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264440" y="5326200"/>
              <a:ext cx="38088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7292160" y="5385960"/>
              <a:ext cx="3812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7323840" y="5442120"/>
              <a:ext cx="38124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7368480" y="5562720"/>
              <a:ext cx="25092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7399440" y="5614920"/>
              <a:ext cx="25056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240680" y="5257440"/>
              <a:ext cx="38088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7210440" y="5189040"/>
              <a:ext cx="38088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7198560" y="5189400"/>
              <a:ext cx="25092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28D6-7F18-4DAE-8079-4C37D5A41A4C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04920" y="1828800"/>
          <a:ext cx="457668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457668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766800" y="200988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u +Au 200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20700000">
            <a:off x="2885760" y="4758840"/>
            <a:ext cx="18432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ffcc"/>
                </a:solidFill>
                <a:latin typeface="Book Antiqua"/>
                <a:ea typeface="华文新魏"/>
              </a:rPr>
              <a:t>STAR prelimi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3433680" y="5057280"/>
            <a:ext cx="381240" cy="381240"/>
          </a:xfrm>
          <a:prstGeom prst="line">
            <a:avLst/>
          </a:prstGeom>
          <a:ln w="9360">
            <a:solidFill>
              <a:srgbClr val="66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3"/>
          <a:stretch/>
        </p:blipFill>
        <p:spPr>
          <a:xfrm>
            <a:off x="4913280" y="0"/>
            <a:ext cx="4230720" cy="287028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7010280" y="914400"/>
            <a:ext cx="838440" cy="6094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DC/SMD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ator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6019920" y="2971800"/>
            <a:ext cx="1904400" cy="1295280"/>
            <a:chOff x="6019920" y="2971800"/>
            <a:chExt cx="1904400" cy="1295280"/>
          </a:xfrm>
        </p:grpSpPr>
        <p:sp>
          <p:nvSpPr>
            <p:cNvPr id="617" name=""/>
            <p:cNvSpPr/>
            <p:nvPr/>
          </p:nvSpPr>
          <p:spPr>
            <a:xfrm rot="10800000">
              <a:off x="6629040" y="2971800"/>
              <a:ext cx="1295280" cy="129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0800000">
              <a:off x="6019920" y="2971800"/>
              <a:ext cx="1294920" cy="1295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391880" y="3810600"/>
              <a:ext cx="4568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7239240" y="3657960"/>
              <a:ext cx="6091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239240" y="3505680"/>
              <a:ext cx="6091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7344360" y="3391200"/>
              <a:ext cx="456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353360" y="3238920"/>
              <a:ext cx="39024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344000" y="3143880"/>
              <a:ext cx="285120" cy="27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7305840" y="3096000"/>
              <a:ext cx="151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7191720" y="3020040"/>
              <a:ext cx="1522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6553800" y="4076640"/>
              <a:ext cx="21852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449040" y="3981960"/>
              <a:ext cx="218520" cy="190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325200" y="3848400"/>
              <a:ext cx="266040" cy="266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248520" y="3734280"/>
              <a:ext cx="266400" cy="266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6163200" y="3486600"/>
              <a:ext cx="380520" cy="380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96240" y="3124800"/>
              <a:ext cx="609120" cy="609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6125040" y="3057840"/>
              <a:ext cx="38052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0800000">
              <a:off x="6134040" y="3505680"/>
              <a:ext cx="380880" cy="228240"/>
            </a:xfrm>
            <a:prstGeom prst="rightArrow">
              <a:avLst>
                <a:gd name="adj1" fmla="val 50000"/>
                <a:gd name="adj2" fmla="val 4171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468200" y="3505680"/>
              <a:ext cx="380520" cy="228240"/>
            </a:xfrm>
            <a:prstGeom prst="rightArrow">
              <a:avLst>
                <a:gd name="adj1" fmla="val 50000"/>
                <a:gd name="adj2" fmla="val 4168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6183360" y="4598280"/>
            <a:ext cx="1653480" cy="1471320"/>
            <a:chOff x="6183360" y="4598280"/>
            <a:chExt cx="1653480" cy="1471320"/>
          </a:xfrm>
        </p:grpSpPr>
        <p:sp>
          <p:nvSpPr>
            <p:cNvPr id="637" name=""/>
            <p:cNvSpPr/>
            <p:nvPr/>
          </p:nvSpPr>
          <p:spPr>
            <a:xfrm>
              <a:off x="6705720" y="4800600"/>
              <a:ext cx="685800" cy="10666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365880" y="5089680"/>
              <a:ext cx="1288800" cy="46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200000">
              <a:off x="6324120" y="4800600"/>
              <a:ext cx="1371600" cy="106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6169680" y="4267080"/>
            <a:ext cx="18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tator directed R.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162480" y="5867280"/>
            <a:ext cx="18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ticipant elliptic R.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" y="228600"/>
            <a:ext cx="434340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ment R.P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SMD/ZDC, BBC, FTP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participant with axis from spectator 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t another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eeded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u+Cu w.r.t. SMD/ZDC (spectator directed) R.P. need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can be different with participant elliptic R.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14800" y="304812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191120" y="2590920"/>
            <a:ext cx="0" cy="12189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564160" y="205740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M05 PHOB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5480" y="541008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M05 S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C1E4-33DC-4889-83B8-2A2C39A31193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4343400" cy="358956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4496040" cy="358632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7886520" y="152388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D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4440" y="198108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UrQ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90720" y="380880"/>
            <a:ext cx="7102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We should not forget that hadronic cascade can generate apparent number of quark scaling without quark coalescence, although the  magnitude of v2 is about a half of experimental dat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931760" y="5576760"/>
            <a:ext cx="50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origin of this apparent scaling needs to be underst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80F3-44BC-43FC-A7C4-42579FA9F85D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rcRect l="4009" t="20512" r="13691" b="8546"/>
          <a:stretch/>
        </p:blipFill>
        <p:spPr>
          <a:xfrm>
            <a:off x="152280" y="3276720"/>
            <a:ext cx="3657600" cy="32256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4942800" y="822240"/>
            <a:ext cx="41036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High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away-side jet sup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softening of associated pT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modification of jet shape at mid-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2"/>
          <a:srcRect l="0" t="56250" r="10182" b="0"/>
          <a:stretch/>
        </p:blipFill>
        <p:spPr>
          <a:xfrm>
            <a:off x="76320" y="152280"/>
            <a:ext cx="4876560" cy="318132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3"/>
          <a:stretch/>
        </p:blipFill>
        <p:spPr>
          <a:xfrm>
            <a:off x="3809880" y="3124080"/>
            <a:ext cx="5105520" cy="346248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6450840" y="4191120"/>
            <a:ext cx="216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QM05 : Phenix 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8D81-8FC6-4B11-BB2D-F0A0FB6D975F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380880" y="1312920"/>
            <a:ext cx="8305920" cy="226836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8534160" cy="26334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371600" y="5592600"/>
            <a:ext cx="139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66"/>
                </a:solidFill>
                <a:latin typeface="Arial"/>
              </a:rPr>
              <a:t>STAR 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391400" y="5302080"/>
            <a:ext cx="14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Au+Au, 0-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527480" y="4068720"/>
            <a:ext cx="1598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ja-JP" sz="1200" spc="-1" strike="noStrike" baseline="-25000">
                <a:solidFill>
                  <a:srgbClr val="008000"/>
                </a:solidFill>
                <a:latin typeface="Arial"/>
              </a:rPr>
              <a:t>T</a:t>
            </a:r>
            <a:r>
              <a:rPr b="1" lang="ja-JP" sz="1200" spc="-1" strike="noStrike">
                <a:solidFill>
                  <a:srgbClr val="008000"/>
                </a:solidFill>
                <a:latin typeface="Arial"/>
              </a:rPr>
              <a:t>(assoc) &gt; 2 GeV/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73520" y="380880"/>
            <a:ext cx="5441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re-appearance (escaped) of high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back-to-back 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600200" y="114300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02520" y="762120"/>
            <a:ext cx="398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752480" y="502920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655160" y="4648320"/>
            <a:ext cx="398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32A3-F107-42A1-A326-26E68646D469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304920" y="1139760"/>
            <a:ext cx="8458200" cy="249732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2"/>
          <a:stretch/>
        </p:blipFill>
        <p:spPr>
          <a:xfrm>
            <a:off x="380880" y="3789360"/>
            <a:ext cx="8458200" cy="261144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4170240" y="4124160"/>
            <a:ext cx="139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66"/>
                </a:solidFill>
                <a:latin typeface="Arial"/>
              </a:rPr>
              <a:t>STAR 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568920" y="4170240"/>
            <a:ext cx="1964160" cy="3362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8 &lt;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trig) &lt; 15 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761160" y="4541760"/>
            <a:ext cx="1540080" cy="3362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assoc)&gt;6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73520" y="228600"/>
            <a:ext cx="5441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re-appearance (escaped) of high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back-to-back 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600200" y="9907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72040" y="6858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tr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86000" y="510552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463640" y="4800600"/>
            <a:ext cx="140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em/centr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077480" y="2901960"/>
            <a:ext cx="149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PHENIX 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B2DB-C215-424F-8FC4-C4503C9184F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" descr=""/>
          <p:cNvPicPr/>
          <p:nvPr/>
        </p:nvPicPr>
        <p:blipFill>
          <a:blip r:embed="rId1"/>
          <a:srcRect l="8669" t="3160" r="8288" b="0"/>
          <a:stretch/>
        </p:blipFill>
        <p:spPr>
          <a:xfrm>
            <a:off x="504720" y="3276720"/>
            <a:ext cx="3838680" cy="3276360"/>
          </a:xfrm>
          <a:prstGeom prst="rect">
            <a:avLst/>
          </a:prstGeom>
          <a:ln w="0">
            <a:noFill/>
          </a:ln>
        </p:spPr>
      </p:pic>
      <p:grpSp>
        <p:nvGrpSpPr>
          <p:cNvPr id="680" name=""/>
          <p:cNvGrpSpPr/>
          <p:nvPr/>
        </p:nvGrpSpPr>
        <p:grpSpPr>
          <a:xfrm>
            <a:off x="284760" y="243360"/>
            <a:ext cx="2146320" cy="1976040"/>
            <a:chOff x="284760" y="243360"/>
            <a:chExt cx="2146320" cy="1976040"/>
          </a:xfrm>
        </p:grpSpPr>
        <p:sp>
          <p:nvSpPr>
            <p:cNvPr id="681" name=""/>
            <p:cNvSpPr/>
            <p:nvPr/>
          </p:nvSpPr>
          <p:spPr>
            <a:xfrm>
              <a:off x="534960" y="758880"/>
              <a:ext cx="1109520" cy="1460520"/>
            </a:xfrm>
            <a:prstGeom prst="ellipse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 flipV="1">
              <a:off x="953640" y="243360"/>
              <a:ext cx="12600" cy="876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947160" y="1147680"/>
              <a:ext cx="3960" cy="949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85600" y="1060560"/>
              <a:ext cx="171720" cy="152280"/>
            </a:xfrm>
            <a:prstGeom prst="sun">
              <a:avLst>
                <a:gd name="adj" fmla="val 25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 flipV="1">
              <a:off x="284760" y="1649160"/>
              <a:ext cx="928800" cy="52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280160" y="1684080"/>
              <a:ext cx="1150920" cy="302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136520" y="1616040"/>
              <a:ext cx="184320" cy="152280"/>
            </a:xfrm>
            <a:prstGeom prst="sun">
              <a:avLst>
                <a:gd name="adj" fmla="val 25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5263560" y="6019920"/>
            <a:ext cx="338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0                                     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　　　　　  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530040" y="60958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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corr_dnp2" descr=""/>
          <p:cNvPicPr/>
          <p:nvPr/>
        </p:nvPicPr>
        <p:blipFill>
          <a:blip r:embed="rId2"/>
          <a:stretch/>
        </p:blipFill>
        <p:spPr>
          <a:xfrm>
            <a:off x="5486400" y="3124080"/>
            <a:ext cx="2895480" cy="289584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5943600" y="4267080"/>
            <a:ext cx="2343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600" spc="-1" strike="noStrike" baseline="30000">
                <a:solidFill>
                  <a:srgbClr val="000000"/>
                </a:solidFill>
                <a:latin typeface="Times New Roman"/>
              </a:rPr>
              <a:t>trigger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(h) &gt; 3GeV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1&lt;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600" spc="-1" strike="noStrike" baseline="30000">
                <a:solidFill>
                  <a:srgbClr val="000000"/>
                </a:solidFill>
                <a:latin typeface="Times New Roman"/>
              </a:rPr>
              <a:t>associated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(h) &lt;2GeV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398640" y="556272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3"/>
          <a:srcRect l="52099" t="0" r="0" b="4743"/>
          <a:stretch/>
        </p:blipFill>
        <p:spPr>
          <a:xfrm>
            <a:off x="4952880" y="152280"/>
            <a:ext cx="3429000" cy="289260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1752480" y="609480"/>
            <a:ext cx="3124440" cy="28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jet shape w.r.t. R.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source of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at high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effects need to be conside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jet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= b.g.(thermal)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extract jet shape or jet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338560" y="2362320"/>
            <a:ext cx="75960" cy="22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40080" y="3289320"/>
            <a:ext cx="1651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n-plane p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in between p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out-of-plane p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rot="16200000">
            <a:off x="4666320" y="3636720"/>
            <a:ext cx="11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et yield (a.u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553080" y="304920"/>
            <a:ext cx="170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0442-B1C6-40D5-8109-2295F26D35DD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296640" y="533520"/>
            <a:ext cx="4647600" cy="47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dentified particles,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lang="ja-JP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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artonic flow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eavy quark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irect photon producti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part.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, N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coll.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ecc.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c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est with asymmetric collision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jet correlation and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jet shape w.r.t. R.P. or jet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4488840" y="380880"/>
            <a:ext cx="4349880" cy="5305320"/>
            <a:chOff x="4488840" y="380880"/>
            <a:chExt cx="4349880" cy="5305320"/>
          </a:xfrm>
        </p:grpSpPr>
        <p:grpSp>
          <p:nvGrpSpPr>
            <p:cNvPr id="701" name=""/>
            <p:cNvGrpSpPr/>
            <p:nvPr/>
          </p:nvGrpSpPr>
          <p:grpSpPr>
            <a:xfrm>
              <a:off x="4488840" y="380880"/>
              <a:ext cx="4349880" cy="2220120"/>
              <a:chOff x="4488840" y="380880"/>
              <a:chExt cx="4349880" cy="2220120"/>
            </a:xfrm>
          </p:grpSpPr>
          <p:grpSp>
            <p:nvGrpSpPr>
              <p:cNvPr id="702" name=""/>
              <p:cNvGrpSpPr/>
              <p:nvPr/>
            </p:nvGrpSpPr>
            <p:grpSpPr>
              <a:xfrm>
                <a:off x="5028840" y="750600"/>
                <a:ext cx="1599840" cy="1523880"/>
                <a:chOff x="5028840" y="750600"/>
                <a:chExt cx="1599840" cy="152388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5028840" y="750600"/>
                  <a:ext cx="1599840" cy="15238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104800" y="1055160"/>
                  <a:ext cx="1294920" cy="330480"/>
                </a:xfrm>
                <a:custGeom>
                  <a:avLst/>
                  <a:gdLst/>
                  <a:ahLst/>
                  <a:rect l="l" t="t" r="r" b="b"/>
                  <a:pathLst>
                    <a:path w="816" h="208">
                      <a:moveTo>
                        <a:pt x="0" y="0"/>
                      </a:moveTo>
                      <a:cubicBezTo>
                        <a:pt x="4" y="32"/>
                        <a:pt x="8" y="64"/>
                        <a:pt x="48" y="96"/>
                      </a:cubicBezTo>
                      <a:cubicBezTo>
                        <a:pt x="88" y="128"/>
                        <a:pt x="152" y="176"/>
                        <a:pt x="240" y="192"/>
                      </a:cubicBezTo>
                      <a:cubicBezTo>
                        <a:pt x="328" y="208"/>
                        <a:pt x="480" y="192"/>
                        <a:pt x="576" y="192"/>
                      </a:cubicBezTo>
                      <a:cubicBezTo>
                        <a:pt x="672" y="192"/>
                        <a:pt x="744" y="192"/>
                        <a:pt x="816" y="192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5257080" y="1436400"/>
                  <a:ext cx="1295280" cy="685800"/>
                </a:xfrm>
                <a:custGeom>
                  <a:avLst/>
                  <a:gdLst/>
                  <a:ahLst/>
                  <a:rect l="l" t="t" r="r" b="b"/>
                  <a:pathLst>
                    <a:path w="816" h="432">
                      <a:moveTo>
                        <a:pt x="0" y="432"/>
                      </a:moveTo>
                      <a:cubicBezTo>
                        <a:pt x="48" y="392"/>
                        <a:pt x="96" y="352"/>
                        <a:pt x="144" y="288"/>
                      </a:cubicBezTo>
                      <a:cubicBezTo>
                        <a:pt x="192" y="224"/>
                        <a:pt x="216" y="96"/>
                        <a:pt x="288" y="48"/>
                      </a:cubicBezTo>
                      <a:cubicBezTo>
                        <a:pt x="360" y="0"/>
                        <a:pt x="488" y="0"/>
                        <a:pt x="576" y="0"/>
                      </a:cubicBezTo>
                      <a:cubicBezTo>
                        <a:pt x="664" y="0"/>
                        <a:pt x="740" y="24"/>
                        <a:pt x="816" y="48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181120" y="1740960"/>
                  <a:ext cx="1307520" cy="304920"/>
                </a:xfrm>
                <a:custGeom>
                  <a:avLst/>
                  <a:gdLst/>
                  <a:ahLst/>
                  <a:rect l="l" t="t" r="r" b="b"/>
                  <a:pathLst>
                    <a:path w="824" h="192">
                      <a:moveTo>
                        <a:pt x="0" y="192"/>
                      </a:moveTo>
                      <a:cubicBezTo>
                        <a:pt x="52" y="136"/>
                        <a:pt x="104" y="80"/>
                        <a:pt x="144" y="48"/>
                      </a:cubicBezTo>
                      <a:cubicBezTo>
                        <a:pt x="184" y="16"/>
                        <a:pt x="184" y="0"/>
                        <a:pt x="240" y="0"/>
                      </a:cubicBezTo>
                      <a:cubicBezTo>
                        <a:pt x="296" y="0"/>
                        <a:pt x="392" y="24"/>
                        <a:pt x="480" y="48"/>
                      </a:cubicBezTo>
                      <a:cubicBezTo>
                        <a:pt x="568" y="72"/>
                        <a:pt x="712" y="128"/>
                        <a:pt x="768" y="144"/>
                      </a:cubicBezTo>
                      <a:cubicBezTo>
                        <a:pt x="824" y="160"/>
                        <a:pt x="820" y="152"/>
                        <a:pt x="816" y="144"/>
                      </a:cubicBez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181120" y="1436400"/>
                  <a:ext cx="1333080" cy="406440"/>
                </a:xfrm>
                <a:custGeom>
                  <a:avLst/>
                  <a:gdLst/>
                  <a:ahLst/>
                  <a:rect l="l" t="t" r="r" b="b"/>
                  <a:pathLst>
                    <a:path w="840" h="256">
                      <a:moveTo>
                        <a:pt x="0" y="0"/>
                      </a:moveTo>
                      <a:cubicBezTo>
                        <a:pt x="64" y="12"/>
                        <a:pt x="128" y="24"/>
                        <a:pt x="192" y="48"/>
                      </a:cubicBezTo>
                      <a:cubicBezTo>
                        <a:pt x="256" y="72"/>
                        <a:pt x="288" y="112"/>
                        <a:pt x="384" y="144"/>
                      </a:cubicBezTo>
                      <a:cubicBezTo>
                        <a:pt x="480" y="176"/>
                        <a:pt x="696" y="224"/>
                        <a:pt x="768" y="240"/>
                      </a:cubicBezTo>
                      <a:cubicBezTo>
                        <a:pt x="840" y="256"/>
                        <a:pt x="828" y="248"/>
                        <a:pt x="816" y="240"/>
                      </a:cubicBezTo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5028840" y="1407600"/>
                  <a:ext cx="1599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7238880" y="747360"/>
                <a:ext cx="1599840" cy="1523880"/>
                <a:chOff x="7238880" y="747360"/>
                <a:chExt cx="1599840" cy="152388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7238880" y="747360"/>
                  <a:ext cx="1599840" cy="15238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7238880" y="1140840"/>
                  <a:ext cx="1523880" cy="749520"/>
                </a:xfrm>
                <a:custGeom>
                  <a:avLst/>
                  <a:gdLst/>
                  <a:ahLst/>
                  <a:rect l="l" t="t" r="r" b="b"/>
                  <a:pathLst>
                    <a:path w="960" h="472">
                      <a:moveTo>
                        <a:pt x="0" y="472"/>
                      </a:moveTo>
                      <a:cubicBezTo>
                        <a:pt x="40" y="412"/>
                        <a:pt x="80" y="352"/>
                        <a:pt x="144" y="280"/>
                      </a:cubicBezTo>
                      <a:cubicBezTo>
                        <a:pt x="208" y="208"/>
                        <a:pt x="288" y="80"/>
                        <a:pt x="384" y="40"/>
                      </a:cubicBezTo>
                      <a:cubicBezTo>
                        <a:pt x="480" y="0"/>
                        <a:pt x="624" y="24"/>
                        <a:pt x="720" y="40"/>
                      </a:cubicBezTo>
                      <a:cubicBezTo>
                        <a:pt x="816" y="56"/>
                        <a:pt x="888" y="96"/>
                        <a:pt x="960" y="136"/>
                      </a:cubicBez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7238880" y="887040"/>
                  <a:ext cx="1447560" cy="1028520"/>
                </a:xfrm>
                <a:custGeom>
                  <a:avLst/>
                  <a:gdLst/>
                  <a:ahLst/>
                  <a:rect l="l" t="t" r="r" b="b"/>
                  <a:pathLst>
                    <a:path w="912" h="648">
                      <a:moveTo>
                        <a:pt x="0" y="632"/>
                      </a:moveTo>
                      <a:cubicBezTo>
                        <a:pt x="32" y="640"/>
                        <a:pt x="64" y="648"/>
                        <a:pt x="96" y="632"/>
                      </a:cubicBezTo>
                      <a:cubicBezTo>
                        <a:pt x="128" y="616"/>
                        <a:pt x="152" y="584"/>
                        <a:pt x="192" y="536"/>
                      </a:cubicBezTo>
                      <a:cubicBezTo>
                        <a:pt x="232" y="488"/>
                        <a:pt x="280" y="416"/>
                        <a:pt x="336" y="344"/>
                      </a:cubicBezTo>
                      <a:cubicBezTo>
                        <a:pt x="392" y="272"/>
                        <a:pt x="472" y="160"/>
                        <a:pt x="528" y="104"/>
                      </a:cubicBezTo>
                      <a:cubicBezTo>
                        <a:pt x="584" y="48"/>
                        <a:pt x="608" y="16"/>
                        <a:pt x="672" y="8"/>
                      </a:cubicBezTo>
                      <a:cubicBezTo>
                        <a:pt x="736" y="0"/>
                        <a:pt x="872" y="48"/>
                        <a:pt x="912" y="56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7238880" y="1433160"/>
                  <a:ext cx="1447560" cy="457200"/>
                </a:xfrm>
                <a:custGeom>
                  <a:avLst/>
                  <a:gdLst/>
                  <a:ahLst/>
                  <a:rect l="l" t="t" r="r" b="b"/>
                  <a:pathLst>
                    <a:path w="912" h="288">
                      <a:moveTo>
                        <a:pt x="0" y="288"/>
                      </a:moveTo>
                      <a:cubicBezTo>
                        <a:pt x="52" y="236"/>
                        <a:pt x="104" y="184"/>
                        <a:pt x="144" y="144"/>
                      </a:cubicBezTo>
                      <a:cubicBezTo>
                        <a:pt x="184" y="104"/>
                        <a:pt x="200" y="72"/>
                        <a:pt x="240" y="48"/>
                      </a:cubicBezTo>
                      <a:cubicBezTo>
                        <a:pt x="280" y="24"/>
                        <a:pt x="312" y="0"/>
                        <a:pt x="384" y="0"/>
                      </a:cubicBezTo>
                      <a:cubicBezTo>
                        <a:pt x="456" y="0"/>
                        <a:pt x="584" y="24"/>
                        <a:pt x="672" y="48"/>
                      </a:cubicBezTo>
                      <a:cubicBezTo>
                        <a:pt x="760" y="72"/>
                        <a:pt x="836" y="108"/>
                        <a:pt x="912" y="144"/>
                      </a:cubicBezTo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7238880" y="1877400"/>
                  <a:ext cx="1523880" cy="101880"/>
                </a:xfrm>
                <a:custGeom>
                  <a:avLst/>
                  <a:gdLst/>
                  <a:ahLst/>
                  <a:rect l="l" t="t" r="r" b="b"/>
                  <a:pathLst>
                    <a:path w="960" h="64">
                      <a:moveTo>
                        <a:pt x="0" y="8"/>
                      </a:moveTo>
                      <a:cubicBezTo>
                        <a:pt x="76" y="28"/>
                        <a:pt x="152" y="48"/>
                        <a:pt x="240" y="56"/>
                      </a:cubicBezTo>
                      <a:cubicBezTo>
                        <a:pt x="328" y="64"/>
                        <a:pt x="432" y="64"/>
                        <a:pt x="528" y="56"/>
                      </a:cubicBezTo>
                      <a:cubicBezTo>
                        <a:pt x="624" y="48"/>
                        <a:pt x="744" y="16"/>
                        <a:pt x="816" y="8"/>
                      </a:cubicBezTo>
                      <a:cubicBezTo>
                        <a:pt x="888" y="0"/>
                        <a:pt x="924" y="4"/>
                        <a:pt x="960" y="8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7238880" y="1890360"/>
                  <a:ext cx="1599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6" name=""/>
              <p:cNvSpPr/>
              <p:nvPr/>
            </p:nvSpPr>
            <p:spPr>
              <a:xfrm>
                <a:off x="4488840" y="733320"/>
                <a:ext cx="524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A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870240" y="671400"/>
                <a:ext cx="362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097240" y="380880"/>
                <a:ext cx="371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ff0000"/>
                    </a:solidFill>
                    <a:latin typeface="Times New Roman"/>
                  </a:rPr>
                  <a:t>proton</a:t>
                </a:r>
                <a:r>
                  <a:rPr b="0" lang="ja-JP" sz="18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ja-JP" sz="1800" spc="-1" strike="noStrike">
                    <a:solidFill>
                      <a:srgbClr val="0000ff"/>
                    </a:solidFill>
                    <a:latin typeface="Times New Roman"/>
                  </a:rPr>
                  <a:t>pion</a:t>
                </a:r>
                <a:r>
                  <a:rPr b="0" lang="ja-JP" sz="18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ja-JP" sz="1800" spc="-1" strike="noStrike">
                    <a:solidFill>
                      <a:srgbClr val="00ff00"/>
                    </a:solidFill>
                    <a:latin typeface="Times New Roman"/>
                  </a:rPr>
                  <a:t>electron</a:t>
                </a:r>
                <a:r>
                  <a:rPr b="0" lang="ja-JP" sz="18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0" lang="ja-JP" sz="1800" spc="-1" strike="noStrike">
                    <a:solidFill>
                      <a:srgbClr val="00ffff"/>
                    </a:solidFill>
                    <a:latin typeface="Times New Roman"/>
                  </a:rPr>
                  <a:t>phot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244920" y="2195280"/>
                <a:ext cx="3758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ja-JP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454600" y="2195280"/>
                <a:ext cx="3758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ja-JP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756680" y="12394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756680" y="2104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966720" y="17236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58360" y="1253880"/>
                <a:ext cx="40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5159160" y="4695120"/>
              <a:ext cx="3581640" cy="991080"/>
              <a:chOff x="5159160" y="4695120"/>
              <a:chExt cx="3581640" cy="991080"/>
            </a:xfrm>
          </p:grpSpPr>
          <p:sp>
            <p:nvSpPr>
              <p:cNvPr id="726" name=""/>
              <p:cNvSpPr/>
              <p:nvPr/>
            </p:nvSpPr>
            <p:spPr>
              <a:xfrm>
                <a:off x="5219640" y="515268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 flipV="1">
                <a:off x="5159160" y="4848120"/>
                <a:ext cx="15228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19720" y="5229000"/>
                <a:ext cx="144360" cy="380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835680" y="4924080"/>
                <a:ext cx="685800" cy="685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 flipV="1">
                <a:off x="6911640" y="4695120"/>
                <a:ext cx="15228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064280" y="5076720"/>
                <a:ext cx="15264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74120" y="5152680"/>
                <a:ext cx="685800" cy="2286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 flipV="1">
                <a:off x="7826040" y="4848120"/>
                <a:ext cx="15228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978680" y="5305320"/>
                <a:ext cx="152640" cy="380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512200" y="4924080"/>
                <a:ext cx="228600" cy="685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 flipV="1">
                <a:off x="8512200" y="4695480"/>
                <a:ext cx="7632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588520" y="5152680"/>
                <a:ext cx="75960" cy="304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600880" y="5076720"/>
                <a:ext cx="39672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 flipV="1">
                <a:off x="5616360" y="4848120"/>
                <a:ext cx="15228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776920" y="5229000"/>
                <a:ext cx="297000" cy="30492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769000" y="5229000"/>
                <a:ext cx="15228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49880" y="5000400"/>
                <a:ext cx="533520" cy="533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 flipV="1">
                <a:off x="6149880" y="4848120"/>
                <a:ext cx="16848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26280" y="5229000"/>
                <a:ext cx="509400" cy="22860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318360" y="5229000"/>
                <a:ext cx="15228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6" name=""/>
            <p:cNvSpPr/>
            <p:nvPr/>
          </p:nvSpPr>
          <p:spPr>
            <a:xfrm>
              <a:off x="5997600" y="2409480"/>
              <a:ext cx="609480" cy="4572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7140600" y="2409480"/>
              <a:ext cx="533520" cy="4572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6531120" y="2104920"/>
              <a:ext cx="76176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5838480" y="2943000"/>
              <a:ext cx="2062800" cy="1830960"/>
              <a:chOff x="5838480" y="2943000"/>
              <a:chExt cx="2062800" cy="1830960"/>
            </a:xfrm>
          </p:grpSpPr>
          <p:sp>
            <p:nvSpPr>
              <p:cNvPr id="750" name=""/>
              <p:cNvSpPr/>
              <p:nvPr/>
            </p:nvSpPr>
            <p:spPr>
              <a:xfrm>
                <a:off x="6631560" y="4404960"/>
                <a:ext cx="62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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838480" y="41623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022440" y="44668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3000" y="4464000"/>
                <a:ext cx="27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683760" y="2957400"/>
                <a:ext cx="99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et sha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"/>
              <p:cNvGrpSpPr/>
              <p:nvPr/>
            </p:nvGrpSpPr>
            <p:grpSpPr>
              <a:xfrm>
                <a:off x="6141960" y="2943000"/>
                <a:ext cx="1608120" cy="1523880"/>
                <a:chOff x="6141960" y="2943000"/>
                <a:chExt cx="1608120" cy="152388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6141960" y="2943000"/>
                  <a:ext cx="1600200" cy="15238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6141960" y="4346280"/>
                  <a:ext cx="1600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7132680" y="3857400"/>
                  <a:ext cx="609480" cy="457200"/>
                </a:xfrm>
                <a:custGeom>
                  <a:avLst/>
                  <a:gdLst/>
                  <a:ahLst/>
                  <a:rect l="l" t="t" r="r" b="b"/>
                  <a:pathLst>
                    <a:path w="384" h="296">
                      <a:moveTo>
                        <a:pt x="384" y="0"/>
                      </a:moveTo>
                      <a:cubicBezTo>
                        <a:pt x="348" y="12"/>
                        <a:pt x="312" y="24"/>
                        <a:pt x="288" y="48"/>
                      </a:cubicBezTo>
                      <a:cubicBezTo>
                        <a:pt x="264" y="72"/>
                        <a:pt x="256" y="112"/>
                        <a:pt x="240" y="144"/>
                      </a:cubicBezTo>
                      <a:cubicBezTo>
                        <a:pt x="224" y="176"/>
                        <a:pt x="216" y="216"/>
                        <a:pt x="192" y="240"/>
                      </a:cubicBezTo>
                      <a:cubicBezTo>
                        <a:pt x="168" y="264"/>
                        <a:pt x="128" y="280"/>
                        <a:pt x="96" y="288"/>
                      </a:cubicBezTo>
                      <a:cubicBezTo>
                        <a:pt x="64" y="296"/>
                        <a:pt x="32" y="292"/>
                        <a:pt x="0" y="288"/>
                      </a:cubicBez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6980400" y="4009680"/>
                  <a:ext cx="761760" cy="304920"/>
                </a:xfrm>
                <a:custGeom>
                  <a:avLst/>
                  <a:gdLst/>
                  <a:ahLst/>
                  <a:rect l="l" t="t" r="r" b="b"/>
                  <a:pathLst>
                    <a:path w="528" h="192">
                      <a:moveTo>
                        <a:pt x="528" y="0"/>
                      </a:moveTo>
                      <a:cubicBezTo>
                        <a:pt x="464" y="12"/>
                        <a:pt x="400" y="24"/>
                        <a:pt x="336" y="48"/>
                      </a:cubicBezTo>
                      <a:cubicBezTo>
                        <a:pt x="272" y="72"/>
                        <a:pt x="200" y="120"/>
                        <a:pt x="144" y="144"/>
                      </a:cubicBezTo>
                      <a:cubicBezTo>
                        <a:pt x="88" y="168"/>
                        <a:pt x="44" y="180"/>
                        <a:pt x="0" y="192"/>
                      </a:cubicBezTo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6675480" y="4086000"/>
                  <a:ext cx="1066680" cy="228600"/>
                </a:xfrm>
                <a:custGeom>
                  <a:avLst/>
                  <a:gdLst/>
                  <a:ahLst/>
                  <a:rect l="l" t="t" r="r" b="b"/>
                  <a:pathLst>
                    <a:path w="672" h="96">
                      <a:moveTo>
                        <a:pt x="672" y="48"/>
                      </a:moveTo>
                      <a:cubicBezTo>
                        <a:pt x="592" y="24"/>
                        <a:pt x="512" y="0"/>
                        <a:pt x="432" y="0"/>
                      </a:cubicBezTo>
                      <a:cubicBezTo>
                        <a:pt x="352" y="0"/>
                        <a:pt x="264" y="32"/>
                        <a:pt x="192" y="48"/>
                      </a:cubicBezTo>
                      <a:cubicBezTo>
                        <a:pt x="120" y="64"/>
                        <a:pt x="60" y="80"/>
                        <a:pt x="0" y="96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6149880" y="3323880"/>
                  <a:ext cx="943200" cy="1017720"/>
                </a:xfrm>
                <a:custGeom>
                  <a:avLst/>
                  <a:gdLst/>
                  <a:ahLst/>
                  <a:rect l="l" t="t" r="r" b="b"/>
                  <a:pathLst>
                    <a:path w="594" h="641">
                      <a:moveTo>
                        <a:pt x="0" y="0"/>
                      </a:moveTo>
                      <a:cubicBezTo>
                        <a:pt x="16" y="8"/>
                        <a:pt x="32" y="16"/>
                        <a:pt x="48" y="48"/>
                      </a:cubicBezTo>
                      <a:cubicBezTo>
                        <a:pt x="64" y="80"/>
                        <a:pt x="80" y="136"/>
                        <a:pt x="96" y="192"/>
                      </a:cubicBezTo>
                      <a:cubicBezTo>
                        <a:pt x="112" y="248"/>
                        <a:pt x="128" y="328"/>
                        <a:pt x="144" y="384"/>
                      </a:cubicBezTo>
                      <a:cubicBezTo>
                        <a:pt x="160" y="440"/>
                        <a:pt x="168" y="488"/>
                        <a:pt x="192" y="528"/>
                      </a:cubicBezTo>
                      <a:cubicBezTo>
                        <a:pt x="216" y="568"/>
                        <a:pt x="255" y="607"/>
                        <a:pt x="288" y="624"/>
                      </a:cubicBezTo>
                      <a:cubicBezTo>
                        <a:pt x="321" y="641"/>
                        <a:pt x="339" y="629"/>
                        <a:pt x="390" y="628"/>
                      </a:cubicBezTo>
                      <a:cubicBezTo>
                        <a:pt x="441" y="627"/>
                        <a:pt x="552" y="620"/>
                        <a:pt x="594" y="618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6670800" y="4314600"/>
                  <a:ext cx="1079280" cy="6480"/>
                </a:xfrm>
                <a:custGeom>
                  <a:avLst/>
                  <a:gdLst/>
                  <a:ahLst/>
                  <a:rect l="l" t="t" r="r" b="b"/>
                  <a:pathLst>
                    <a:path w="680" h="4">
                      <a:moveTo>
                        <a:pt x="0" y="4"/>
                      </a:moveTo>
                      <a:cubicBezTo>
                        <a:pt x="113" y="4"/>
                        <a:pt x="538" y="1"/>
                        <a:pt x="68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28A9-52F9-4E2E-9E1C-849FCE5D6280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685800" y="544680"/>
            <a:ext cx="7848720" cy="5322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EEC0-615B-4C87-A617-9FD280E54BB0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2509920" y="3124080"/>
            <a:ext cx="1371600" cy="2438280"/>
            <a:chOff x="2509920" y="3124080"/>
            <a:chExt cx="1371600" cy="2438280"/>
          </a:xfrm>
        </p:grpSpPr>
        <p:grpSp>
          <p:nvGrpSpPr>
            <p:cNvPr id="154" name=""/>
            <p:cNvGrpSpPr/>
            <p:nvPr/>
          </p:nvGrpSpPr>
          <p:grpSpPr>
            <a:xfrm>
              <a:off x="3195720" y="3962160"/>
              <a:ext cx="685800" cy="1600200"/>
              <a:chOff x="3195720" y="3962160"/>
              <a:chExt cx="685800" cy="1600200"/>
            </a:xfrm>
          </p:grpSpPr>
          <p:sp>
            <p:nvSpPr>
              <p:cNvPr id="155" name=""/>
              <p:cNvSpPr/>
              <p:nvPr/>
            </p:nvSpPr>
            <p:spPr>
              <a:xfrm>
                <a:off x="3195720" y="3962160"/>
                <a:ext cx="685800" cy="160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72040" y="419076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424320" y="40384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576600" y="411444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652920" y="42670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424320" y="42670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576600" y="441936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29240" y="4571640"/>
                <a:ext cx="15228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452760" y="45525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72040" y="441936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72040" y="464796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576600" y="4724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24320" y="4800240"/>
                <a:ext cx="152280" cy="152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576600" y="4952880"/>
                <a:ext cx="15264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72040" y="4952880"/>
                <a:ext cx="15228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424320" y="5105160"/>
                <a:ext cx="15228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272040" y="5181480"/>
                <a:ext cx="15228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424320" y="5333760"/>
                <a:ext cx="15228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76600" y="5257440"/>
                <a:ext cx="152640" cy="152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52920" y="5105160"/>
                <a:ext cx="15228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29240" y="4800240"/>
                <a:ext cx="152280" cy="152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195720" y="4800240"/>
                <a:ext cx="152280" cy="152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2509920" y="3124080"/>
              <a:ext cx="685800" cy="1600200"/>
              <a:chOff x="2509920" y="3124080"/>
              <a:chExt cx="685800" cy="1600200"/>
            </a:xfrm>
          </p:grpSpPr>
          <p:sp>
            <p:nvSpPr>
              <p:cNvPr id="178" name=""/>
              <p:cNvSpPr/>
              <p:nvPr/>
            </p:nvSpPr>
            <p:spPr>
              <a:xfrm>
                <a:off x="2509920" y="3124080"/>
                <a:ext cx="685800" cy="160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85880" y="4343040"/>
                <a:ext cx="15264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509920" y="388584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814480" y="403848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890800" y="388584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662200" y="399060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890800" y="419076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738520" y="441936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043080" y="403848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67120" y="434304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509920" y="411444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662200" y="419076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890800" y="449568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43080" y="3733560"/>
                <a:ext cx="15264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967120" y="3504960"/>
                <a:ext cx="15228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814480" y="3733560"/>
                <a:ext cx="15264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738520" y="3581280"/>
                <a:ext cx="15228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662200" y="3809880"/>
                <a:ext cx="15228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509920" y="3657240"/>
                <a:ext cx="152280" cy="152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85880" y="3428640"/>
                <a:ext cx="152640" cy="152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14480" y="3352680"/>
                <a:ext cx="15264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814480" y="3200040"/>
                <a:ext cx="152640" cy="152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662200" y="3276360"/>
                <a:ext cx="15228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5408640" y="3124080"/>
            <a:ext cx="1371600" cy="2438280"/>
            <a:chOff x="5408640" y="3124080"/>
            <a:chExt cx="1371600" cy="2438280"/>
          </a:xfrm>
        </p:grpSpPr>
        <p:sp>
          <p:nvSpPr>
            <p:cNvPr id="202" name=""/>
            <p:cNvSpPr/>
            <p:nvPr/>
          </p:nvSpPr>
          <p:spPr>
            <a:xfrm>
              <a:off x="6094440" y="3962160"/>
              <a:ext cx="685800" cy="1600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70400" y="4190760"/>
              <a:ext cx="15264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23040" y="396216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75320" y="411444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51640" y="4267080"/>
              <a:ext cx="15228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23040" y="426708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75320" y="44193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7600" y="4571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23040" y="45716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70400" y="44193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70400" y="464796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75320" y="4705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23040" y="4800240"/>
              <a:ext cx="15228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75320" y="495288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70400" y="4952880"/>
              <a:ext cx="15264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23040" y="510516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70400" y="5181480"/>
              <a:ext cx="15264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23040" y="533376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75320" y="5257440"/>
              <a:ext cx="15228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51640" y="510516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27600" y="4800240"/>
              <a:ext cx="15264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94440" y="4800240"/>
              <a:ext cx="15228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08640" y="3124080"/>
              <a:ext cx="685800" cy="1600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84600" y="4343040"/>
              <a:ext cx="15264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08640" y="388584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13200" y="4038480"/>
              <a:ext cx="15264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89520" y="388584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60920" y="3990600"/>
              <a:ext cx="152280" cy="152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89520" y="4190760"/>
              <a:ext cx="15228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37240" y="44193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1800" y="4038480"/>
              <a:ext cx="15264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65840" y="434304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08640" y="411444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60920" y="4190760"/>
              <a:ext cx="15228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13200" y="4571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41800" y="3733560"/>
              <a:ext cx="15264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65840" y="350496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13200" y="3733560"/>
              <a:ext cx="15264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37240" y="358128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60920" y="380988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08640" y="3657240"/>
              <a:ext cx="15228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84600" y="3428640"/>
              <a:ext cx="15264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13200" y="3352680"/>
              <a:ext cx="15264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13200" y="3200040"/>
              <a:ext cx="15264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60920" y="327636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5256360" y="434340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56360" y="419112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56360" y="449568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6360" y="464832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56360" y="480060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56360" y="403848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56360" y="388620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5680" y="3657600"/>
            <a:ext cx="640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x1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x2=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x3=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x3=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x2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x2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61120" y="5105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03800" y="5181480"/>
            <a:ext cx="14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tal 30 colli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80720" y="5029200"/>
            <a:ext cx="7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2 +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5486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0880" y="5562720"/>
            <a:ext cx="22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tal 23 participant nucle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70680" y="579132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t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3576240" y="5181120"/>
            <a:ext cx="919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952880" y="5105520"/>
            <a:ext cx="14479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240" y="2666880"/>
            <a:ext cx="24253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: number of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participant sca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66280" y="2666880"/>
            <a:ext cx="28202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coll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: number of binary coll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binary sca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24120" y="3905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1520" y="4753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62280" y="47624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19280" y="39052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71720" y="3924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1200" y="4038480"/>
            <a:ext cx="124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 :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743200" y="196920"/>
            <a:ext cx="2665800" cy="2470680"/>
            <a:chOff x="2743200" y="196920"/>
            <a:chExt cx="2665800" cy="2470680"/>
          </a:xfrm>
        </p:grpSpPr>
        <p:sp>
          <p:nvSpPr>
            <p:cNvPr id="272" name=""/>
            <p:cNvSpPr/>
            <p:nvPr/>
          </p:nvSpPr>
          <p:spPr>
            <a:xfrm>
              <a:off x="2895480" y="577800"/>
              <a:ext cx="1371600" cy="137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81280" y="577800"/>
              <a:ext cx="1371600" cy="137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81280" y="1110960"/>
              <a:ext cx="0" cy="137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126360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110960"/>
              <a:ext cx="0" cy="137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526920" y="1209600"/>
              <a:ext cx="108000" cy="107640"/>
              <a:chOff x="3526920" y="1209600"/>
              <a:chExt cx="108000" cy="107640"/>
            </a:xfrm>
          </p:grpSpPr>
          <p:sp>
            <p:nvSpPr>
              <p:cNvPr id="278" name=""/>
              <p:cNvSpPr/>
              <p:nvPr/>
            </p:nvSpPr>
            <p:spPr>
              <a:xfrm flipH="1">
                <a:off x="3526920" y="1209600"/>
                <a:ext cx="10764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527640" y="1209600"/>
                <a:ext cx="10728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4212720" y="1209600"/>
              <a:ext cx="108000" cy="107640"/>
              <a:chOff x="4212720" y="1209600"/>
              <a:chExt cx="108000" cy="107640"/>
            </a:xfrm>
          </p:grpSpPr>
          <p:sp>
            <p:nvSpPr>
              <p:cNvPr id="281" name=""/>
              <p:cNvSpPr/>
              <p:nvPr/>
            </p:nvSpPr>
            <p:spPr>
              <a:xfrm flipH="1">
                <a:off x="4212720" y="1209600"/>
                <a:ext cx="10764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213440" y="1209600"/>
                <a:ext cx="10728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 flipV="1">
              <a:off x="3933720" y="27252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63240" y="196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38280" y="958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3580920" y="2330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11320" y="2330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733920" y="3657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886200" y="3123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18960" y="30481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05480" y="335268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11840" y="627120"/>
            <a:ext cx="68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A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649200" y="38088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ield (A+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92960" y="7938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12400" y="762120"/>
            <a:ext cx="1691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&lt;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coll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&gt; yield (p+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12920" y="1617840"/>
            <a:ext cx="68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C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88280" y="1371600"/>
            <a:ext cx="2012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yield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Central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/ &lt;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coll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Central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92960" y="17845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57320" y="1752480"/>
            <a:ext cx="2252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yield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Peripheral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/ &lt;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coll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Periheral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6080" y="509760"/>
            <a:ext cx="233568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lative yield in A+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lisions normalized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+p yield times number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nary colli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03F9-EB20-4881-BA58-21EF317F372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4" name=""/>
          <p:cNvGraphicFramePr/>
          <p:nvPr/>
        </p:nvGraphicFramePr>
        <p:xfrm>
          <a:off x="762120" y="257040"/>
          <a:ext cx="7315200" cy="547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57040"/>
                    <a:ext cx="7315200" cy="54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66CE-3B89-4CC6-9906-D590B8E0E2C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sky-bbc" descr=""/>
          <p:cNvPicPr/>
          <p:nvPr/>
        </p:nvPicPr>
        <p:blipFill>
          <a:blip r:embed="rId1"/>
          <a:stretch/>
        </p:blipFill>
        <p:spPr>
          <a:xfrm>
            <a:off x="3124080" y="3505320"/>
            <a:ext cx="2895840" cy="28954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382560" y="205740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MD/Z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330960" y="228600"/>
            <a:ext cx="2203560" cy="6172200"/>
            <a:chOff x="6330960" y="228600"/>
            <a:chExt cx="2203560" cy="6172200"/>
          </a:xfrm>
        </p:grpSpPr>
        <p:pic>
          <p:nvPicPr>
            <p:cNvPr id="304" name="smd_pict1_frontview" descr=""/>
            <p:cNvPicPr/>
            <p:nvPr/>
          </p:nvPicPr>
          <p:blipFill>
            <a:blip r:embed="rId2"/>
            <a:stretch/>
          </p:blipFill>
          <p:spPr>
            <a:xfrm>
              <a:off x="6330960" y="228600"/>
              <a:ext cx="220356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7016760" y="4724640"/>
              <a:ext cx="152640" cy="16002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9400" y="4724640"/>
              <a:ext cx="152280" cy="16002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21680" y="4724640"/>
              <a:ext cx="152280" cy="16002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73960" y="4724640"/>
              <a:ext cx="152640" cy="16002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26600" y="4724640"/>
              <a:ext cx="152280" cy="16002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778880" y="4724640"/>
              <a:ext cx="152280" cy="16002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931160" y="4724640"/>
              <a:ext cx="152640" cy="16002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864480" y="4800600"/>
              <a:ext cx="1143000" cy="763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902640" y="4952880"/>
              <a:ext cx="1143000" cy="759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6902640" y="5105520"/>
              <a:ext cx="1143000" cy="763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921720" y="5257800"/>
              <a:ext cx="1143000" cy="763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959880" y="5410080"/>
              <a:ext cx="1143000" cy="759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6978960" y="5562720"/>
              <a:ext cx="1143000" cy="763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97680" y="5715000"/>
              <a:ext cx="1143000" cy="763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7016760" y="5867280"/>
              <a:ext cx="1143000" cy="759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7035840" y="6019920"/>
              <a:ext cx="1143000" cy="763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295280" y="2817720"/>
            <a:ext cx="110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59000" y="2665440"/>
            <a:ext cx="16524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52800" y="2513160"/>
            <a:ext cx="38088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57720" y="2514600"/>
            <a:ext cx="30420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9443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944358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81400" y="251316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62280" y="2817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43000" y="2589120"/>
            <a:ext cx="152280" cy="4572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962520" y="2627280"/>
            <a:ext cx="457200" cy="380880"/>
            <a:chOff x="3962520" y="2627280"/>
            <a:chExt cx="457200" cy="380880"/>
          </a:xfrm>
        </p:grpSpPr>
        <p:sp>
          <p:nvSpPr>
            <p:cNvPr id="329" name=""/>
            <p:cNvSpPr/>
            <p:nvPr/>
          </p:nvSpPr>
          <p:spPr>
            <a:xfrm>
              <a:off x="3962520" y="2627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62520" y="2932200"/>
              <a:ext cx="152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14800" y="27036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962520" y="262728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14800" y="27036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62520" y="2627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14800" y="30081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19720" y="27036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267080" y="262728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362320" y="31226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60640" y="31240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457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2286000"/>
            <a:ext cx="137160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3962520" y="609120"/>
            <a:ext cx="1904400" cy="1295640"/>
            <a:chOff x="3962520" y="609120"/>
            <a:chExt cx="1904400" cy="1295640"/>
          </a:xfrm>
        </p:grpSpPr>
        <p:sp>
          <p:nvSpPr>
            <p:cNvPr id="343" name=""/>
            <p:cNvSpPr/>
            <p:nvPr/>
          </p:nvSpPr>
          <p:spPr>
            <a:xfrm rot="10800000">
              <a:off x="4571640" y="609120"/>
              <a:ext cx="1295280" cy="1295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0800000">
              <a:off x="3962520" y="609120"/>
              <a:ext cx="1294920" cy="1295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334480" y="1447560"/>
              <a:ext cx="456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181840" y="1294920"/>
              <a:ext cx="609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5181840" y="1142640"/>
              <a:ext cx="609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5286960" y="1028160"/>
              <a:ext cx="4568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5295960" y="875880"/>
              <a:ext cx="39024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5286600" y="780840"/>
              <a:ext cx="28512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5248440" y="732960"/>
              <a:ext cx="151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5134320" y="6570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4496400" y="1713960"/>
              <a:ext cx="218520" cy="190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4391640" y="1618920"/>
              <a:ext cx="21852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4267800" y="1485360"/>
              <a:ext cx="266040" cy="266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4191120" y="1371240"/>
              <a:ext cx="266400" cy="266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4105800" y="1123560"/>
              <a:ext cx="38052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4038840" y="761760"/>
              <a:ext cx="60912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4067640" y="694800"/>
              <a:ext cx="38052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0800000">
              <a:off x="4076640" y="114264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10800" y="1143000"/>
              <a:ext cx="380520" cy="228600"/>
            </a:xfrm>
            <a:prstGeom prst="rightArrow">
              <a:avLst>
                <a:gd name="adj1" fmla="val 50000"/>
                <a:gd name="adj2" fmla="val 4161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838080" y="3962520"/>
            <a:ext cx="1371600" cy="1066680"/>
            <a:chOff x="838080" y="3962520"/>
            <a:chExt cx="1371600" cy="1066680"/>
          </a:xfrm>
        </p:grpSpPr>
        <p:sp>
          <p:nvSpPr>
            <p:cNvPr id="363" name=""/>
            <p:cNvSpPr/>
            <p:nvPr/>
          </p:nvSpPr>
          <p:spPr>
            <a:xfrm>
              <a:off x="1218960" y="3962520"/>
              <a:ext cx="685800" cy="10666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38080" y="4486320"/>
              <a:ext cx="13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8080" y="3962520"/>
              <a:ext cx="1371600" cy="106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228600" y="2819520"/>
            <a:ext cx="87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0960" y="6094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plane 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3880" y="2057400"/>
            <a:ext cx="457200" cy="152388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76520" y="2438280"/>
            <a:ext cx="152280" cy="76212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6080" y="5029200"/>
            <a:ext cx="18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ticipant elliptic R.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93120" y="304920"/>
            <a:ext cx="18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tator directed R.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97440" y="15238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V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BD77-7AC4-4070-95F1-0DE59B72494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p2nd" descr=""/>
          <p:cNvPicPr/>
          <p:nvPr/>
        </p:nvPicPr>
        <p:blipFill>
          <a:blip r:embed="rId1"/>
          <a:stretch/>
        </p:blipFill>
        <p:spPr>
          <a:xfrm>
            <a:off x="1447920" y="3591000"/>
            <a:ext cx="7010280" cy="2886120"/>
          </a:xfrm>
          <a:prstGeom prst="rect">
            <a:avLst/>
          </a:prstGeom>
          <a:ln w="0">
            <a:noFill/>
          </a:ln>
        </p:spPr>
      </p:pic>
      <p:pic>
        <p:nvPicPr>
          <p:cNvPr id="374" name="rp1st" descr=""/>
          <p:cNvPicPr/>
          <p:nvPr/>
        </p:nvPicPr>
        <p:blipFill>
          <a:blip r:embed="rId2"/>
          <a:stretch/>
        </p:blipFill>
        <p:spPr>
          <a:xfrm>
            <a:off x="1447920" y="685800"/>
            <a:ext cx="7010280" cy="2700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3733920" y="2890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SMD1</a:t>
            </a:r>
            <a:r>
              <a:rPr b="1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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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SMD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76520" y="2890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BBC1</a:t>
            </a:r>
            <a:r>
              <a:rPr b="1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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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BB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19920" y="289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SMD</a:t>
            </a:r>
            <a:r>
              <a:rPr b="1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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vs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76520" y="341316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BBC1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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BB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07640" y="914400"/>
            <a:ext cx="11836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-to-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8720" y="914400"/>
            <a:ext cx="11836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-to-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9800" y="914400"/>
            <a:ext cx="180972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spectator neutrons 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s from participa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are flowing opposi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9880" y="341316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MVD1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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MVD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5880" y="341316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BBC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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M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87400" y="25909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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8760" y="571500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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2280" y="121932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4920" y="4267080"/>
            <a:ext cx="108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lip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066680" y="2133720"/>
            <a:ext cx="7238880" cy="2361960"/>
            <a:chOff x="1066680" y="2133720"/>
            <a:chExt cx="7238880" cy="2361960"/>
          </a:xfrm>
        </p:grpSpPr>
        <p:sp>
          <p:nvSpPr>
            <p:cNvPr id="389" name=""/>
            <p:cNvSpPr/>
            <p:nvPr/>
          </p:nvSpPr>
          <p:spPr>
            <a:xfrm>
              <a:off x="1066680" y="2133720"/>
              <a:ext cx="7238880" cy="23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143000" y="2215800"/>
              <a:ext cx="7086600" cy="2202840"/>
              <a:chOff x="1143000" y="2215800"/>
              <a:chExt cx="7086600" cy="2202840"/>
            </a:xfrm>
          </p:grpSpPr>
          <p:sp>
            <p:nvSpPr>
              <p:cNvPr id="391" name=""/>
              <p:cNvSpPr/>
              <p:nvPr/>
            </p:nvSpPr>
            <p:spPr>
              <a:xfrm>
                <a:off x="2057400" y="2585520"/>
                <a:ext cx="5257800" cy="1447560"/>
              </a:xfrm>
              <a:prstGeom prst="line">
                <a:avLst/>
              </a:prstGeom>
              <a:ln w="381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414680" y="3104640"/>
                <a:ext cx="457200" cy="380520"/>
              </a:xfrm>
              <a:prstGeom prst="irregularSeal1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186080" y="2933280"/>
                <a:ext cx="685800" cy="99000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491000" y="2704680"/>
                <a:ext cx="685800" cy="99000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495680" y="2933280"/>
                <a:ext cx="380880" cy="7614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738160" y="3104640"/>
                <a:ext cx="144792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252760" y="3104640"/>
                <a:ext cx="144792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143000" y="2585520"/>
                <a:ext cx="7086600" cy="1447560"/>
              </a:xfrm>
              <a:prstGeom prst="parallelogram">
                <a:avLst>
                  <a:gd name="adj" fmla="val 6327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352680" y="2628360"/>
                <a:ext cx="2666880" cy="13712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993720" y="3652200"/>
                <a:ext cx="118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cc"/>
                    </a:solidFill>
                    <a:latin typeface="Verdana"/>
                  </a:rPr>
                  <a:t>beam li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383120" y="3696840"/>
                <a:ext cx="164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reaction pla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2958840" y="2221920"/>
                <a:ext cx="838440" cy="609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5587920" y="3809520"/>
                <a:ext cx="838080" cy="609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9200000">
                <a:off x="3885840" y="3466080"/>
                <a:ext cx="609480" cy="304560"/>
              </a:xfrm>
              <a:prstGeom prst="leftArrow">
                <a:avLst>
                  <a:gd name="adj1" fmla="val 50000"/>
                  <a:gd name="adj2" fmla="val 5003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8400000">
                <a:off x="4838400" y="2780640"/>
                <a:ext cx="609480" cy="304560"/>
              </a:xfrm>
              <a:prstGeom prst="leftArrow">
                <a:avLst>
                  <a:gd name="adj1" fmla="val 50000"/>
                  <a:gd name="adj2" fmla="val 5003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686120" y="3771360"/>
                <a:ext cx="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647960" y="2571120"/>
                <a:ext cx="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819160" y="3009240"/>
                <a:ext cx="3810240" cy="6094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838680" y="2215800"/>
                <a:ext cx="2024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00"/>
                    </a:solidFill>
                    <a:latin typeface="Verdana"/>
                  </a:rPr>
                  <a:t>neutron specta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055560" y="2552040"/>
                <a:ext cx="1939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ff00"/>
                    </a:solidFill>
                    <a:latin typeface="Verdana"/>
                  </a:rPr>
                  <a:t>charged particl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ff00"/>
                    </a:solidFill>
                    <a:latin typeface="Verdana"/>
                  </a:rPr>
                  <a:t>(pions) at mid </a:t>
                </a:r>
                <a:r>
                  <a:rPr b="1" lang="ja-JP" sz="1600" spc="-1" strike="noStrike">
                    <a:solidFill>
                      <a:srgbClr val="00ff00"/>
                    </a:solidFill>
                    <a:latin typeface="Symbol"/>
                    <a:ea typeface="Symbol"/>
                  </a:rPr>
                  <a:t>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6476760" y="3390120"/>
                <a:ext cx="457200" cy="380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2463840" y="2844000"/>
                <a:ext cx="457200" cy="380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774160" y="3237840"/>
                <a:ext cx="75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bea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19FA-54F0-4D1D-A54F-FC08A93F4DE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648320" cy="57150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4343400" y="1817640"/>
            <a:ext cx="4572000" cy="38098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838080" y="4952880"/>
            <a:ext cx="7620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49240" y="2743200"/>
            <a:ext cx="7620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40800" y="457200"/>
            <a:ext cx="279144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dentified hadron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hydro dynamic behavior at low 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baryon/meson difference at  high 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71280" y="190512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M05 PHEN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11600" y="190512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M05 S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B8CF-A78A-4664-BC82-02DED1C0EAF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572000" cy="541008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4191120" y="1730520"/>
            <a:ext cx="4952880" cy="38764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685800" y="5018040"/>
            <a:ext cx="7924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2830680"/>
            <a:ext cx="7924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0" y="262080"/>
            <a:ext cx="42670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meson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mass scaling or number of quark scaling?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baryon/meson (number of quark) difference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hydro dynamic behavior : m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-meso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~ m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proton</a:t>
            </a:r>
            <a:br>
              <a:rPr sz="1400"/>
            </a:br>
            <a:r>
              <a:rPr b="0" lang="ja-JP" sz="1400" spc="-1" strike="noStrike">
                <a:solidFill>
                  <a:srgbClr val="0000ff"/>
                </a:solidFill>
                <a:latin typeface="Times New Roman"/>
              </a:rPr>
              <a:t>early hadronic freeze-out for multi-strangeness hadr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638680" y="4495680"/>
            <a:ext cx="228600" cy="152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943600" y="3580920"/>
            <a:ext cx="228600" cy="83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6477120" y="3885840"/>
            <a:ext cx="380880" cy="228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72200" y="3505320"/>
            <a:ext cx="304920" cy="6094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0" y="3886200"/>
            <a:ext cx="533520" cy="228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638680" y="3276360"/>
            <a:ext cx="228600" cy="685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5867280" y="3047760"/>
            <a:ext cx="304920" cy="228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6172200" y="2514600"/>
            <a:ext cx="304920" cy="5335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77120" y="2514600"/>
            <a:ext cx="380880" cy="838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6858000" y="2590920"/>
            <a:ext cx="533520" cy="761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667960" y="457200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M05 PHEN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387560" y="457200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M05 S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55200" y="2276640"/>
            <a:ext cx="73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0000"/>
                </a:solidFill>
                <a:latin typeface="Verdana"/>
                <a:ea typeface="Arial"/>
              </a:rPr>
              <a:t>Ξ</a:t>
            </a:r>
            <a:r>
              <a:rPr b="0" lang="ja-JP" sz="2000" spc="-1" strike="noStrike">
                <a:solidFill>
                  <a:srgbClr val="ff0000"/>
                </a:solidFill>
                <a:latin typeface="Verdana"/>
              </a:rPr>
              <a:t>+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Verdana"/>
                <a:ea typeface="Arial"/>
              </a:rPr>
              <a:t>Ω</a:t>
            </a:r>
            <a:r>
              <a:rPr b="0" lang="ja-JP" sz="2000" spc="-1" strike="noStrike">
                <a:solidFill>
                  <a:srgbClr val="cc0000"/>
                </a:solidFill>
                <a:latin typeface="Verdana"/>
              </a:rPr>
              <a:t>+</a:t>
            </a:r>
            <a:r>
              <a:rPr b="1" lang="el-GR" sz="2000" spc="-1" strike="noStrike">
                <a:solidFill>
                  <a:srgbClr val="cc0000"/>
                </a:solidFill>
                <a:latin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625be9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572440" y="2278080"/>
            <a:ext cx="3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58040" y="1943280"/>
            <a:ext cx="3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77760" y="5638680"/>
            <a:ext cx="19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need more data/b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EE51-FCC1-49CD-B68F-489BBDB0D84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5029200" y="544680"/>
            <a:ext cx="4114800" cy="59436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152280" y="2590920"/>
            <a:ext cx="5029200" cy="32004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434880" y="5246640"/>
            <a:ext cx="8305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2040" y="3809880"/>
            <a:ext cx="8305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0920" y="762120"/>
            <a:ext cx="423144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ar modification factor :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ear separation between baryon group  / meson grou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cluding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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s well as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K,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25DD-037B-4CC2-AA17-92AF1432A75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648320" cy="464832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4191120" y="1728720"/>
            <a:ext cx="4876560" cy="49006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685800" y="4179960"/>
            <a:ext cx="8055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3005280"/>
            <a:ext cx="8055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31960" y="228600"/>
            <a:ext cx="4571640" cy="16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Number of quark scaling of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rather good description above 1GeV/c in quark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remaining mass dependence at lower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0" lang="ja-JP" sz="1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ja-JP" sz="1400" spc="-1" strike="noStrike">
                <a:solidFill>
                  <a:srgbClr val="0000ff"/>
                </a:solidFill>
                <a:latin typeface="Times New Roman"/>
              </a:rPr>
              <a:t> is already formed during quark phase before hadro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Times New Roman"/>
              </a:rPr>
              <a:t>additional hadronic flow might be there after hadro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71280" y="380988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M05 PHEN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540200" y="380988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M05 S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14400" y="3200400"/>
            <a:ext cx="762120" cy="10666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4495680"/>
            <a:ext cx="838440" cy="1524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952880" y="3276720"/>
            <a:ext cx="762120" cy="10666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EF0-B8E9-43B7-9A99-8DA798E0FAF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/DNP 2005 Sep. Mau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7:51:16Z</dcterms:created>
  <dc:creator>ShinIchi Esumi</dc:creator>
  <dc:description/>
  <dc:language>en-US</dc:language>
  <cp:lastModifiedBy>ShinIchi Esumi</cp:lastModifiedBy>
  <dcterms:modified xsi:type="dcterms:W3CDTF">2005-09-20T12:43:56Z</dcterms:modified>
  <cp:revision>125</cp:revision>
  <dc:subject/>
  <dc:title>PowerPoint プレゼンテーション</dc:title>
</cp:coreProperties>
</file>