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png" ContentType="image/png"/>
  <Override PartName="/ppt/media/image2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15.png" ContentType="image/png"/>
  <Override PartName="/ppt/media/image1.jpeg" ContentType="image/jpeg"/>
  <Override PartName="/ppt/media/image21.png" ContentType="image/png"/>
  <Override PartName="/ppt/media/image35.png" ContentType="image/png"/>
  <Override PartName="/ppt/media/image26.png" ContentType="image/png"/>
  <Override PartName="/ppt/media/image27.png" ContentType="image/png"/>
  <Override PartName="/ppt/media/image60.png" ContentType="image/png"/>
  <Override PartName="/ppt/media/image58.wmf" ContentType="image/x-wmf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40.png" ContentType="image/png"/>
  <Override PartName="/ppt/media/image10.png" ContentType="image/png"/>
  <Override PartName="/ppt/media/image36.jpeg" ContentType="image/jpeg"/>
  <Override PartName="/ppt/media/image20.png" ContentType="image/png"/>
  <Override PartName="/ppt/media/image30.png" ContentType="image/png"/>
  <Override PartName="/ppt/media/image43.jpeg" ContentType="image/jpeg"/>
  <Override PartName="/ppt/media/image28.png" ContentType="image/png"/>
  <Override PartName="/ppt/media/image16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56.jpeg" ContentType="image/jpeg"/>
  <Override PartName="/ppt/media/image53.png" ContentType="image/png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CCE-0BFA-42F0-8992-1C1E5DFC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0C7-B7F8-46CA-B188-BF094D6D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FF0-E944-4720-98FE-6C992956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58D-F61F-4E4D-89A3-BCF79054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56B-A4A8-45CE-B9D1-A548497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4CA-4471-45D8-AEB0-9C240D0A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893-241F-410C-8CC6-5A3D7C17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16F-09AE-4DF8-8D68-42DBF483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3FA-E256-4BE2-89CF-09C4ED1B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C54-4DF9-4425-BBFC-571CFE07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52E-5602-4EF7-944F-F2CEBBF4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BFB-7C1E-4C17-AE1B-6BFD820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D373-C0A6-4511-8FA9-0E3D3D445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18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wmf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gh-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Identified and Inclusive Charged Hadron Spectra from PHE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4038120"/>
            <a:ext cx="5639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a SHIMOM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Tsuk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 PHENIX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25388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520" y="38098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to p+p colli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295280"/>
            <a:ext cx="3886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or 3 sup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out to 20GeV/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difference betwe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charged hadron for pt &lt; 5GeV/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419720" cy="2759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5029200" cy="3108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ged Had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609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&lt;Minimum bia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204156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6200" y="25747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2274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041560"/>
            <a:ext cx="0" cy="8380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660680"/>
            <a:ext cx="3048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762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u + Au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789440"/>
            <a:ext cx="4038480" cy="1800360"/>
          </a:xfrm>
          <a:prstGeom prst="rect">
            <a:avLst/>
          </a:prstGeom>
          <a:solidFill>
            <a:srgbClr val="99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is consistent with energy loss models. (XN-Wang, GL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4360" y="4800600"/>
            <a:ext cx="26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.Lett.B595:165-170,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390204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Ref: talk by </a:t>
            </a: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D.L.Winter for reaction plane dependenc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ity evolution of 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838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&lt;Peripheral to Central Au+Au Collis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1160" y="1852560"/>
            <a:ext cx="5029200" cy="3086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200400" y="1531800"/>
            <a:ext cx="5943600" cy="3641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867120" y="1512720"/>
            <a:ext cx="5229360" cy="3246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871800" y="1509840"/>
            <a:ext cx="5181840" cy="322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886200" y="1511280"/>
            <a:ext cx="5181480" cy="3220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886200" y="1509840"/>
            <a:ext cx="5181480" cy="322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3886200" y="1509840"/>
            <a:ext cx="5181480" cy="3209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3886200" y="1490760"/>
            <a:ext cx="5181480" cy="3230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3886200" y="1460520"/>
            <a:ext cx="5181480" cy="3246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3886200" y="1487520"/>
            <a:ext cx="5181480" cy="3222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5105520"/>
            <a:ext cx="883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Suppression for more central colli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lat for all centrality for pT&gt;5 GeV/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ce betwe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harged increases for pT &lt; 5 GeV/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47920" y="5943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ression is similar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743200" y="1522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7848360" cy="497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629400" y="304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Au + 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320" y="1143000"/>
            <a:ext cx="6324480" cy="3892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92280" y="1168560"/>
            <a:ext cx="6651720" cy="4095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492280" y="1149480"/>
            <a:ext cx="6629400" cy="4081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2568600" y="1228680"/>
            <a:ext cx="6553080" cy="4035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568600" y="1149480"/>
            <a:ext cx="6553080" cy="4033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 Charged Hadron 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n Cu + C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14400" y="438120"/>
                <a:ext cx="669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5334120"/>
            <a:ext cx="8153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1 within error for peripheral coll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0.5 for most central coll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ged Hadron 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higher in more central coll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8600" y="1084320"/>
            <a:ext cx="4648320" cy="4630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Au+Au and Cu+C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029200" y="838080"/>
            <a:ext cx="4062240" cy="2900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029200" y="3733920"/>
            <a:ext cx="4114800" cy="29318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304920" y="2590920"/>
            <a:ext cx="5105160" cy="3827880"/>
            <a:chOff x="304920" y="2590920"/>
            <a:chExt cx="5105160" cy="3827880"/>
          </a:xfrm>
        </p:grpSpPr>
        <p:sp>
          <p:nvSpPr>
            <p:cNvPr id="187" name=""/>
            <p:cNvSpPr/>
            <p:nvPr/>
          </p:nvSpPr>
          <p:spPr>
            <a:xfrm>
              <a:off x="990720" y="2590920"/>
              <a:ext cx="1371600" cy="1752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48120" y="2971440"/>
              <a:ext cx="2361960" cy="3048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419720" y="5714640"/>
              <a:ext cx="99036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914400" y="4343040"/>
              <a:ext cx="457200" cy="1676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6019920"/>
              <a:ext cx="4267080" cy="398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</a:rPr>
                <a:t>Both behave same at mid centr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igh pT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article Ratio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400800" y="152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562720" y="112680"/>
                <a:ext cx="761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600200" y="5638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~0.4 - 0.5. in all systems and for all centralies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990720" y="152280"/>
                <a:ext cx="14475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η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62120" y="5673600"/>
                <a:ext cx="914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η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400800" y="1219320"/>
            <a:ext cx="114300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+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19320"/>
            <a:ext cx="129528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+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219320"/>
            <a:ext cx="99036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+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833480"/>
            <a:ext cx="4495680" cy="3272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2560" y="1828800"/>
            <a:ext cx="45957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5000" y="228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419720" y="112680"/>
                <a:ext cx="1218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8288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+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838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+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66680" y="152280"/>
                <a:ext cx="1524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447560" y="5410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s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atio becomes flat at hig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6320" y="1709640"/>
            <a:ext cx="4419360" cy="3167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648320" y="1701720"/>
            <a:ext cx="44193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360" y="759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igh 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suppression is flat out to 20 GeV/c in Au + A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Consistent with Energy loss models.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as a similar suppression pattern as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Suppression is flat as function of 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nd charged hadron are also suppressed in central Cu+Cu coll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0" lang="ja-JP" sz="1600" spc="-1" strike="noStrike">
                <a:solidFill>
                  <a:srgbClr val="3333cc"/>
                </a:solidFill>
                <a:latin typeface="Tahoma"/>
              </a:rPr>
              <a:t>AA</a:t>
            </a: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 is ~0.5 for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3333c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comparison between Au+Au and Cu+C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Suppression is similar for similar N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ratio = ~0.4 – 0.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The ratio is independent of centralities and system size.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The ratio is similar to pp/dAu, consistent with Jet frag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1488960"/>
            <a:ext cx="2943360" cy="2859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hysics 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3276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e have stud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286000"/>
            <a:ext cx="28195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ossible explanation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in effect in nuclear. (Ini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on interaction in hot dense matter.  (f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ison between Au+Au and d+Au collision with high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00600"/>
            <a:ext cx="8686800" cy="1789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suppression at high pT is due to the final state inte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Ques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ence on the System siz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ence on the  particles specie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28600" y="4387680"/>
            <a:ext cx="311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ahoma"/>
              </a:rPr>
              <a:t>*PRL 91 072303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320" y="1476360"/>
            <a:ext cx="8762760" cy="2943360"/>
            <a:chOff x="76320" y="1476360"/>
            <a:chExt cx="8762760" cy="2943360"/>
          </a:xfrm>
        </p:grpSpPr>
        <p:sp>
          <p:nvSpPr>
            <p:cNvPr id="53" name=""/>
            <p:cNvSpPr/>
            <p:nvPr/>
          </p:nvSpPr>
          <p:spPr>
            <a:xfrm>
              <a:off x="3352680" y="1584360"/>
              <a:ext cx="548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*No suppression in d+Au collision while Au+Au has factor 3 suppression at high pT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6320" y="1476360"/>
              <a:ext cx="3124080" cy="294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5105520" y="2286000"/>
            <a:ext cx="3962160" cy="2761200"/>
            <a:chOff x="5105520" y="2286000"/>
            <a:chExt cx="3962160" cy="2761200"/>
          </a:xfrm>
        </p:grpSpPr>
        <p:grpSp>
          <p:nvGrpSpPr>
            <p:cNvPr id="56" name=""/>
            <p:cNvGrpSpPr/>
            <p:nvPr/>
          </p:nvGrpSpPr>
          <p:grpSpPr>
            <a:xfrm>
              <a:off x="5105520" y="2286000"/>
              <a:ext cx="3962160" cy="2761200"/>
              <a:chOff x="5105520" y="2286000"/>
              <a:chExt cx="3962160" cy="2761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72200" y="2286000"/>
                <a:ext cx="2895480" cy="195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105520" y="4343400"/>
                <a:ext cx="3962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ahoma"/>
                  </a:rPr>
                  <a:t>*Direct photon is not suppressed.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6732720" y="4038480"/>
              <a:ext cx="194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94(2005)2323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6172200" cy="4892400"/>
          </a:xfrm>
          <a:prstGeom prst="rect">
            <a:avLst/>
          </a:prstGeom>
          <a:ln w="38160">
            <a:solidFill>
              <a:srgbClr val="ffccff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anks To Many Eff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58672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m proud of our colleagu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66920" y="13716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E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11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48320" y="3124080"/>
            <a:ext cx="4190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32004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13 Countries;  62 Institutions;  550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rticipants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2600" y="6477120"/>
            <a:ext cx="16880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as of March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616280" y="3660840"/>
          <a:ext cx="4527720" cy="289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6280" y="3660840"/>
                    <a:ext cx="452772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0" y="152280"/>
          <a:ext cx="4645080" cy="6616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52280"/>
                    <a:ext cx="4645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191120" y="384120"/>
            <a:ext cx="4876560" cy="2816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V="1">
            <a:off x="4648320" y="3581280"/>
            <a:ext cx="0" cy="3200400"/>
          </a:xfrm>
          <a:prstGeom prst="line">
            <a:avLst/>
          </a:prstGeom>
          <a:ln w="9360">
            <a:solidFill>
              <a:srgbClr val="c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4495680" y="0"/>
            <a:ext cx="15242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ed talk and 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&lt;Talk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a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ahoma"/>
              </a:rPr>
              <a:t>M.Konno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“Systematic study of identified particle production in PHENIX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3a </a:t>
            </a:r>
            <a:r>
              <a:rPr b="0" lang="ja-JP" sz="2000" spc="-1" strike="noStrike" u="sng">
                <a:solidFill>
                  <a:srgbClr val="003399"/>
                </a:solidFill>
                <a:uFillTx/>
                <a:latin typeface="Tahoma"/>
              </a:rPr>
              <a:t>D.L.Winter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 “PHENIX measurement of particle yields at high p</a:t>
            </a:r>
            <a:r>
              <a:rPr b="0" lang="ja-JP" sz="2000" spc="-1" strike="noStrike" baseline="-25000">
                <a:solidFill>
                  <a:srgbClr val="003399"/>
                </a:solidFill>
                <a:latin typeface="Tahoma"/>
              </a:rPr>
              <a:t>T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 with respect to reaction plane in Au+Au collision at </a:t>
            </a:r>
            <a:r>
              <a:rPr b="0" lang="ja-JP" sz="2000" spc="-1" strike="noStrike">
                <a:solidFill>
                  <a:srgbClr val="003399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s</a:t>
            </a:r>
            <a:r>
              <a:rPr b="0" lang="ja-JP" sz="2000" spc="-1" strike="noStrike" baseline="-25000">
                <a:solidFill>
                  <a:srgbClr val="003399"/>
                </a:solidFill>
                <a:latin typeface="Tahoma"/>
              </a:rPr>
              <a:t>NN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= 200GeV 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6b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ahoma"/>
              </a:rPr>
              <a:t>V.G.Ryabov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“First measurement of th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meson production at RHIC by PHENIX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&lt;Poste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32  </a:t>
            </a:r>
            <a:r>
              <a:rPr b="0" lang="ja-JP" sz="2000" spc="-1" strike="noStrike" u="sng">
                <a:solidFill>
                  <a:srgbClr val="003399"/>
                </a:solidFill>
                <a:uFillTx/>
                <a:latin typeface="Tahoma"/>
              </a:rPr>
              <a:t>C.M.Vale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 “Charged hadron transverse momentum spectra in Cu+Cu collisions from PHENIX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74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ahoma"/>
              </a:rPr>
              <a:t>T.Isob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“Measurement of neutral pions 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= 200GeV and 62.4GeV Au+Au collisions at RHIC-PHENIX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192 </a:t>
            </a:r>
            <a:r>
              <a:rPr b="0" lang="ja-JP" sz="2000" spc="-1" strike="noStrike" u="sng">
                <a:solidFill>
                  <a:srgbClr val="003399"/>
                </a:solidFill>
                <a:uFillTx/>
                <a:latin typeface="Tahoma"/>
              </a:rPr>
              <a:t>K.Miki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 “Measurement of inclusive photon and direct photon v2 in </a:t>
            </a:r>
            <a:r>
              <a:rPr b="0" lang="ja-JP" sz="2000" spc="-1" strike="noStrike">
                <a:solidFill>
                  <a:srgbClr val="003399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s</a:t>
            </a:r>
            <a:r>
              <a:rPr b="0" lang="ja-JP" sz="2000" spc="-1" strike="noStrike" baseline="-25000">
                <a:solidFill>
                  <a:srgbClr val="003399"/>
                </a:solidFill>
                <a:latin typeface="Tahoma"/>
              </a:rPr>
              <a:t>NN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= 200GeV Au-Au collision with the PHENIX experiment at RHI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0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ahoma"/>
              </a:rPr>
              <a:t>M.L. Purschek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“Measurement of eta pT distribution 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= 200GeV Au-Au collision at RHIC-PHENIX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203 </a:t>
            </a:r>
            <a:r>
              <a:rPr b="0" lang="ja-JP" sz="2000" spc="-1" strike="noStrike" u="sng">
                <a:solidFill>
                  <a:srgbClr val="003399"/>
                </a:solidFill>
                <a:uFillTx/>
                <a:latin typeface="Tahoma"/>
              </a:rPr>
              <a:t>Y.G. Riabov</a:t>
            </a:r>
            <a:r>
              <a:rPr b="0" lang="ja-JP" sz="2000" spc="-1" strike="noStrike">
                <a:solidFill>
                  <a:srgbClr val="003399"/>
                </a:solidFill>
                <a:latin typeface="Tahoma"/>
              </a:rPr>
              <a:t> “Measurement of multiparticle hadron decays of light mesons at PHENIX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Back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up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slid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44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66680" y="1604880"/>
            <a:ext cx="685800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6858000" cy="1542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001000" y="2147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50800" y="13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80-92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46040" y="130968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60-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79800" y="130968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0-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32280" y="130968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0-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50800" y="51195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60-9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46040" y="51055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0-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9800" y="51055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0-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31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-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3680" y="2986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4840" y="2986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12280" y="2986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5120" y="29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1080" y="34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42240" y="3443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9680" y="3443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52160" y="3443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4200" y="32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Npar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4281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71640" y="5638680"/>
            <a:ext cx="9268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stribution of Npart density versus x and y (in fermi) for similar &lt;Npart&gt; in Au+Au, Cu+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lipticity is very different –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hould be quite different for same &lt;Npar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44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x,y=0), N</a:t>
            </a:r>
            <a:r>
              <a:rPr b="0" lang="ja-JP" sz="44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y,x=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43280" y="1447920"/>
            <a:ext cx="5200560" cy="2219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962000" y="3733920"/>
            <a:ext cx="5200920" cy="2305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225560" y="21700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lue = Cu+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ed  = Au+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18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(f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1880" y="5805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(f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3800" y="6095880"/>
            <a:ext cx="80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ojection of Npart density in x an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hows that Npart density in Au+Au and Cu+Cu are similar (for same &lt;Npart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sion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2147760"/>
            <a:ext cx="1905120" cy="1905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1004760"/>
            <a:ext cx="1904760" cy="1905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29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986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9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3763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25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4526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23763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5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25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245268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5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9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2909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30621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9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2909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30621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306216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29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30621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199548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91320" y="914400"/>
                <a:ext cx="2003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f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775040" y="2050920"/>
                <a:ext cx="40150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cle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m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cle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180040" y="2819520"/>
                <a:ext cx="32018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36440" y="4075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33520" y="3519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3976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0520" y="332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9520" y="390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1995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2604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66880" y="214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0718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9720" y="210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3619440" y="2232000"/>
            <a:ext cx="152640" cy="533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5400" y="10406"/>
                  <a:pt x="0" y="10406"/>
                </a:cubicBezTo>
                <a:cubicBezTo>
                  <a:pt x="54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4343400"/>
            <a:ext cx="8550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e can calculate at what impact parameter b(=2y) in Au+Au that one gets the same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ucle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s a central Cu+Cu collision (where 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ucle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0) ~ 10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 Au+Au, b=10 fm corresponds to ~ 40% centrality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181480" y="1523880"/>
                <a:ext cx="335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f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rot="5400000">
            <a:off x="3695040" y="1409400"/>
            <a:ext cx="152640" cy="83844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06"/>
                </a:lnTo>
                <a:cubicBezTo>
                  <a:pt x="10800" y="9506"/>
                  <a:pt x="5400" y="10406"/>
                  <a:pt x="0" y="10406"/>
                </a:cubicBezTo>
                <a:cubicBezTo>
                  <a:pt x="5400" y="10406"/>
                  <a:pt x="10800" y="11306"/>
                  <a:pt x="10800" y="122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9040" y="144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48120" y="5029200"/>
                <a:ext cx="2361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≈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657600" y="5452920"/>
                <a:ext cx="12193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f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u+Au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ahoma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4191120" cy="2519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648320" y="1066680"/>
            <a:ext cx="4267080" cy="2565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92600" y="3733920"/>
            <a:ext cx="4222800" cy="25398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4191120" cy="2519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007960" y="633888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.Lett.B595:165-170,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8880" y="6184800"/>
            <a:ext cx="35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hys. Rev. Lett. 89, 252301,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ucl-th/04040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grated 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228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181480" y="76320"/>
                <a:ext cx="12193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19720" y="228600"/>
                <a:ext cx="609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3520" y="914400"/>
            <a:ext cx="3047760" cy="3040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5257800" y="4038480"/>
            <a:ext cx="2743200" cy="2651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609480" y="3998880"/>
            <a:ext cx="29401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mparison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n Cu+Cu collision to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n Au+Au collision as the function of Npar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1295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pheral (Au + Au)   Mid central (Cu + C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600200" y="1960560"/>
            <a:ext cx="55990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HENIX Det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352680" y="1828800"/>
            <a:ext cx="5711760" cy="4876560"/>
            <a:chOff x="3352680" y="1828800"/>
            <a:chExt cx="5711760" cy="48765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352680" y="1828800"/>
              <a:ext cx="5711760" cy="48765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 flipH="1" flipV="1">
              <a:off x="4106880" y="4835880"/>
              <a:ext cx="336240" cy="9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352320" y="3397320"/>
            <a:ext cx="2743560" cy="1517760"/>
            <a:chOff x="3352320" y="3397320"/>
            <a:chExt cx="2743560" cy="1517760"/>
          </a:xfrm>
        </p:grpSpPr>
        <p:sp>
          <p:nvSpPr>
            <p:cNvPr id="65" name=""/>
            <p:cNvSpPr/>
            <p:nvPr/>
          </p:nvSpPr>
          <p:spPr>
            <a:xfrm flipH="1" flipV="1">
              <a:off x="3352320" y="3397320"/>
              <a:ext cx="1676520" cy="13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29200" y="4495680"/>
              <a:ext cx="1066680" cy="419400"/>
            </a:xfrm>
            <a:custGeom>
              <a:avLst/>
              <a:gdLst/>
              <a:ahLst/>
              <a:rect l="l" t="t" r="r" b="b"/>
              <a:pathLst>
                <a:path w="672" h="264">
                  <a:moveTo>
                    <a:pt x="672" y="0"/>
                  </a:moveTo>
                  <a:cubicBezTo>
                    <a:pt x="584" y="108"/>
                    <a:pt x="496" y="216"/>
                    <a:pt x="384" y="240"/>
                  </a:cubicBezTo>
                  <a:cubicBezTo>
                    <a:pt x="272" y="264"/>
                    <a:pt x="136" y="204"/>
                    <a:pt x="0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3352320"/>
            <a:ext cx="3048120" cy="1295640"/>
          </a:xfrm>
          <a:prstGeom prst="rect">
            <a:avLst/>
          </a:prstGeom>
          <a:noFill/>
          <a:ln w="28440">
            <a:solidFill>
              <a:srgbClr val="006600"/>
            </a:solidFill>
            <a:prstDash val="sysDot"/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nd Matching (DC, P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ged 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8240" y="4876920"/>
            <a:ext cx="3281400" cy="1015920"/>
          </a:xfrm>
          <a:prstGeom prst="rect">
            <a:avLst/>
          </a:prstGeom>
          <a:noFill/>
          <a:ln w="2844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MCAL (PbSc + Pb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82404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CAL --- measure energy deposit of electron and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--- obtain momentum of charged part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981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 --- measure hit position of charged part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80040" y="4038480"/>
            <a:ext cx="473040" cy="441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1840" y="448164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377120" y="4572000"/>
            <a:ext cx="776160" cy="138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29600" y="469584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358000">
            <a:off x="8153280" y="4419720"/>
            <a:ext cx="533520" cy="7596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cubicBezTo>
                  <a:pt x="16" y="48"/>
                  <a:pt x="32" y="0"/>
                  <a:pt x="48" y="0"/>
                </a:cubicBezTo>
                <a:cubicBezTo>
                  <a:pt x="64" y="0"/>
                  <a:pt x="80" y="96"/>
                  <a:pt x="96" y="96"/>
                </a:cubicBezTo>
                <a:cubicBezTo>
                  <a:pt x="112" y="96"/>
                  <a:pt x="128" y="0"/>
                  <a:pt x="144" y="0"/>
                </a:cubicBezTo>
                <a:cubicBezTo>
                  <a:pt x="160" y="0"/>
                  <a:pt x="176" y="96"/>
                  <a:pt x="192" y="96"/>
                </a:cubicBezTo>
                <a:cubicBezTo>
                  <a:pt x="208" y="96"/>
                  <a:pt x="224" y="0"/>
                  <a:pt x="240" y="0"/>
                </a:cubicBezTo>
                <a:cubicBezTo>
                  <a:pt x="256" y="0"/>
                  <a:pt x="272" y="96"/>
                  <a:pt x="288" y="96"/>
                </a:cubicBezTo>
                <a:cubicBezTo>
                  <a:pt x="304" y="96"/>
                  <a:pt x="328" y="16"/>
                  <a:pt x="336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81200">
            <a:off x="8091000" y="4662000"/>
            <a:ext cx="457200" cy="7632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cubicBezTo>
                  <a:pt x="16" y="48"/>
                  <a:pt x="32" y="0"/>
                  <a:pt x="48" y="0"/>
                </a:cubicBezTo>
                <a:cubicBezTo>
                  <a:pt x="64" y="0"/>
                  <a:pt x="80" y="96"/>
                  <a:pt x="96" y="96"/>
                </a:cubicBezTo>
                <a:cubicBezTo>
                  <a:pt x="112" y="96"/>
                  <a:pt x="128" y="0"/>
                  <a:pt x="144" y="0"/>
                </a:cubicBezTo>
                <a:cubicBezTo>
                  <a:pt x="160" y="0"/>
                  <a:pt x="176" y="96"/>
                  <a:pt x="192" y="96"/>
                </a:cubicBezTo>
                <a:cubicBezTo>
                  <a:pt x="208" y="96"/>
                  <a:pt x="224" y="0"/>
                  <a:pt x="240" y="0"/>
                </a:cubicBezTo>
                <a:cubicBezTo>
                  <a:pt x="256" y="0"/>
                  <a:pt x="272" y="96"/>
                  <a:pt x="288" y="96"/>
                </a:cubicBezTo>
                <a:cubicBezTo>
                  <a:pt x="304" y="96"/>
                  <a:pt x="328" y="16"/>
                  <a:pt x="336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811800">
            <a:off x="7924320" y="5181480"/>
            <a:ext cx="533520" cy="7632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cubicBezTo>
                  <a:pt x="16" y="48"/>
                  <a:pt x="32" y="0"/>
                  <a:pt x="48" y="0"/>
                </a:cubicBezTo>
                <a:cubicBezTo>
                  <a:pt x="64" y="0"/>
                  <a:pt x="80" y="96"/>
                  <a:pt x="96" y="96"/>
                </a:cubicBezTo>
                <a:cubicBezTo>
                  <a:pt x="112" y="96"/>
                  <a:pt x="128" y="0"/>
                  <a:pt x="144" y="0"/>
                </a:cubicBezTo>
                <a:cubicBezTo>
                  <a:pt x="160" y="0"/>
                  <a:pt x="176" y="96"/>
                  <a:pt x="192" y="96"/>
                </a:cubicBezTo>
                <a:cubicBezTo>
                  <a:pt x="208" y="96"/>
                  <a:pt x="224" y="0"/>
                  <a:pt x="240" y="0"/>
                </a:cubicBezTo>
                <a:cubicBezTo>
                  <a:pt x="256" y="0"/>
                  <a:pt x="272" y="96"/>
                  <a:pt x="288" y="96"/>
                </a:cubicBezTo>
                <a:cubicBezTo>
                  <a:pt x="304" y="96"/>
                  <a:pt x="328" y="16"/>
                  <a:pt x="336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70680" y="5199120"/>
            <a:ext cx="417600" cy="555480"/>
          </a:xfrm>
          <a:custGeom>
            <a:avLst/>
            <a:gdLst/>
            <a:ahLst/>
            <a:rect l="l" t="t" r="r" b="b"/>
            <a:pathLst>
              <a:path w="263" h="350">
                <a:moveTo>
                  <a:pt x="0" y="0"/>
                </a:moveTo>
                <a:cubicBezTo>
                  <a:pt x="16" y="7"/>
                  <a:pt x="89" y="26"/>
                  <a:pt x="98" y="44"/>
                </a:cubicBezTo>
                <a:cubicBezTo>
                  <a:pt x="107" y="62"/>
                  <a:pt x="42" y="97"/>
                  <a:pt x="54" y="110"/>
                </a:cubicBezTo>
                <a:cubicBezTo>
                  <a:pt x="66" y="123"/>
                  <a:pt x="159" y="106"/>
                  <a:pt x="168" y="124"/>
                </a:cubicBezTo>
                <a:cubicBezTo>
                  <a:pt x="177" y="142"/>
                  <a:pt x="100" y="203"/>
                  <a:pt x="109" y="221"/>
                </a:cubicBezTo>
                <a:cubicBezTo>
                  <a:pt x="118" y="239"/>
                  <a:pt x="213" y="216"/>
                  <a:pt x="223" y="235"/>
                </a:cubicBezTo>
                <a:cubicBezTo>
                  <a:pt x="231" y="253"/>
                  <a:pt x="156" y="314"/>
                  <a:pt x="163" y="332"/>
                </a:cubicBezTo>
                <a:cubicBezTo>
                  <a:pt x="170" y="350"/>
                  <a:pt x="242" y="343"/>
                  <a:pt x="263" y="346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1026400">
            <a:off x="6427800" y="2498760"/>
            <a:ext cx="1401840" cy="1411200"/>
          </a:xfrm>
          <a:custGeom>
            <a:avLst/>
            <a:gdLst/>
            <a:ahLst/>
            <a:rect l="l" t="t" r="r" b="b"/>
            <a:pathLst>
              <a:path w="883" h="889">
                <a:moveTo>
                  <a:pt x="17" y="889"/>
                </a:moveTo>
                <a:cubicBezTo>
                  <a:pt x="8" y="836"/>
                  <a:pt x="0" y="783"/>
                  <a:pt x="17" y="774"/>
                </a:cubicBezTo>
                <a:cubicBezTo>
                  <a:pt x="33" y="764"/>
                  <a:pt x="100" y="841"/>
                  <a:pt x="116" y="831"/>
                </a:cubicBezTo>
                <a:cubicBezTo>
                  <a:pt x="133" y="822"/>
                  <a:pt x="100" y="735"/>
                  <a:pt x="116" y="716"/>
                </a:cubicBezTo>
                <a:cubicBezTo>
                  <a:pt x="133" y="697"/>
                  <a:pt x="199" y="735"/>
                  <a:pt x="216" y="716"/>
                </a:cubicBezTo>
                <a:cubicBezTo>
                  <a:pt x="232" y="697"/>
                  <a:pt x="199" y="620"/>
                  <a:pt x="216" y="601"/>
                </a:cubicBezTo>
                <a:cubicBezTo>
                  <a:pt x="232" y="582"/>
                  <a:pt x="299" y="620"/>
                  <a:pt x="315" y="601"/>
                </a:cubicBezTo>
                <a:cubicBezTo>
                  <a:pt x="332" y="582"/>
                  <a:pt x="294" y="501"/>
                  <a:pt x="315" y="486"/>
                </a:cubicBezTo>
                <a:cubicBezTo>
                  <a:pt x="336" y="471"/>
                  <a:pt x="422" y="530"/>
                  <a:pt x="441" y="512"/>
                </a:cubicBezTo>
                <a:cubicBezTo>
                  <a:pt x="460" y="494"/>
                  <a:pt x="411" y="389"/>
                  <a:pt x="432" y="375"/>
                </a:cubicBezTo>
                <a:cubicBezTo>
                  <a:pt x="453" y="361"/>
                  <a:pt x="550" y="442"/>
                  <a:pt x="565" y="428"/>
                </a:cubicBezTo>
                <a:cubicBezTo>
                  <a:pt x="580" y="414"/>
                  <a:pt x="506" y="309"/>
                  <a:pt x="523" y="292"/>
                </a:cubicBezTo>
                <a:cubicBezTo>
                  <a:pt x="540" y="275"/>
                  <a:pt x="655" y="345"/>
                  <a:pt x="670" y="329"/>
                </a:cubicBezTo>
                <a:cubicBezTo>
                  <a:pt x="685" y="313"/>
                  <a:pt x="598" y="210"/>
                  <a:pt x="614" y="198"/>
                </a:cubicBezTo>
                <a:cubicBezTo>
                  <a:pt x="630" y="186"/>
                  <a:pt x="747" y="275"/>
                  <a:pt x="764" y="255"/>
                </a:cubicBezTo>
                <a:cubicBezTo>
                  <a:pt x="780" y="236"/>
                  <a:pt x="697" y="102"/>
                  <a:pt x="714" y="83"/>
                </a:cubicBezTo>
                <a:cubicBezTo>
                  <a:pt x="731" y="63"/>
                  <a:pt x="843" y="154"/>
                  <a:pt x="863" y="140"/>
                </a:cubicBezTo>
                <a:cubicBezTo>
                  <a:pt x="883" y="126"/>
                  <a:pt x="840" y="29"/>
                  <a:pt x="83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927000">
            <a:off x="6657480" y="2917440"/>
            <a:ext cx="1401840" cy="1411200"/>
          </a:xfrm>
          <a:custGeom>
            <a:avLst/>
            <a:gdLst/>
            <a:ahLst/>
            <a:rect l="l" t="t" r="r" b="b"/>
            <a:pathLst>
              <a:path w="883" h="889">
                <a:moveTo>
                  <a:pt x="17" y="889"/>
                </a:moveTo>
                <a:cubicBezTo>
                  <a:pt x="8" y="836"/>
                  <a:pt x="0" y="783"/>
                  <a:pt x="17" y="774"/>
                </a:cubicBezTo>
                <a:cubicBezTo>
                  <a:pt x="33" y="764"/>
                  <a:pt x="100" y="841"/>
                  <a:pt x="116" y="831"/>
                </a:cubicBezTo>
                <a:cubicBezTo>
                  <a:pt x="133" y="822"/>
                  <a:pt x="100" y="735"/>
                  <a:pt x="116" y="716"/>
                </a:cubicBezTo>
                <a:cubicBezTo>
                  <a:pt x="133" y="697"/>
                  <a:pt x="199" y="735"/>
                  <a:pt x="216" y="716"/>
                </a:cubicBezTo>
                <a:cubicBezTo>
                  <a:pt x="232" y="697"/>
                  <a:pt x="199" y="620"/>
                  <a:pt x="216" y="601"/>
                </a:cubicBezTo>
                <a:cubicBezTo>
                  <a:pt x="232" y="582"/>
                  <a:pt x="299" y="620"/>
                  <a:pt x="315" y="601"/>
                </a:cubicBezTo>
                <a:cubicBezTo>
                  <a:pt x="332" y="582"/>
                  <a:pt x="294" y="501"/>
                  <a:pt x="315" y="486"/>
                </a:cubicBezTo>
                <a:cubicBezTo>
                  <a:pt x="336" y="471"/>
                  <a:pt x="422" y="530"/>
                  <a:pt x="441" y="512"/>
                </a:cubicBezTo>
                <a:cubicBezTo>
                  <a:pt x="460" y="494"/>
                  <a:pt x="411" y="389"/>
                  <a:pt x="432" y="375"/>
                </a:cubicBezTo>
                <a:cubicBezTo>
                  <a:pt x="453" y="361"/>
                  <a:pt x="550" y="442"/>
                  <a:pt x="565" y="428"/>
                </a:cubicBezTo>
                <a:cubicBezTo>
                  <a:pt x="580" y="414"/>
                  <a:pt x="506" y="309"/>
                  <a:pt x="523" y="292"/>
                </a:cubicBezTo>
                <a:cubicBezTo>
                  <a:pt x="540" y="275"/>
                  <a:pt x="655" y="345"/>
                  <a:pt x="670" y="329"/>
                </a:cubicBezTo>
                <a:cubicBezTo>
                  <a:pt x="685" y="313"/>
                  <a:pt x="598" y="210"/>
                  <a:pt x="614" y="198"/>
                </a:cubicBezTo>
                <a:cubicBezTo>
                  <a:pt x="630" y="186"/>
                  <a:pt x="747" y="275"/>
                  <a:pt x="764" y="255"/>
                </a:cubicBezTo>
                <a:cubicBezTo>
                  <a:pt x="780" y="236"/>
                  <a:pt x="697" y="102"/>
                  <a:pt x="714" y="83"/>
                </a:cubicBezTo>
                <a:cubicBezTo>
                  <a:pt x="731" y="63"/>
                  <a:pt x="843" y="154"/>
                  <a:pt x="863" y="140"/>
                </a:cubicBezTo>
                <a:cubicBezTo>
                  <a:pt x="883" y="126"/>
                  <a:pt x="840" y="29"/>
                  <a:pt x="83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104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345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487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87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914400" y="1006560"/>
            <a:ext cx="7238880" cy="578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Spect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638680" y="838080"/>
                <a:ext cx="533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38520" y="1522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00800" y="7632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876920" cy="46767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772400" y="6262560"/>
            <a:ext cx="1295280" cy="368280"/>
            <a:chOff x="7772400" y="6262560"/>
            <a:chExt cx="1295280" cy="368280"/>
          </a:xfrm>
        </p:grpSpPr>
        <p:sp>
          <p:nvSpPr>
            <p:cNvPr id="99" name=""/>
            <p:cNvSpPr/>
            <p:nvPr/>
          </p:nvSpPr>
          <p:spPr>
            <a:xfrm>
              <a:off x="7772400" y="62625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  (GeV/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82560" y="63543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1920" y="1522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tra  in differ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62326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6600"/>
                </a:solidFill>
                <a:latin typeface="Tahoma"/>
              </a:rPr>
              <a:t>See poster by T.Is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3581640" cy="596304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Au+ Au @ 200GeV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ahoma"/>
              </a:rPr>
              <a:t>0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ec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ec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harged hadron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Cu + Cu @ 200GeV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ahoma"/>
              </a:rPr>
              <a:t>0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ec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harged hadron spec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d+ Au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s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p+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s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838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+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87720" y="838080"/>
                <a:ext cx="49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5520" y="1522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1143000"/>
            <a:ext cx="2666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ged 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029200" y="7632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54440" y="1676520"/>
            <a:ext cx="432432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7543800" y="6033960"/>
            <a:ext cx="1523880" cy="368280"/>
            <a:chOff x="7543800" y="6033960"/>
            <a:chExt cx="1523880" cy="368280"/>
          </a:xfrm>
        </p:grpSpPr>
        <p:sp>
          <p:nvSpPr>
            <p:cNvPr id="111" name=""/>
            <p:cNvSpPr/>
            <p:nvPr/>
          </p:nvSpPr>
          <p:spPr>
            <a:xfrm>
              <a:off x="7543800" y="60339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  (GeV/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73400" y="6125760"/>
              <a:ext cx="50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4647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tra  in Au+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320" y="1704960"/>
            <a:ext cx="4572000" cy="434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38680" y="6324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C69,034910 (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05120" y="914400"/>
                <a:ext cx="609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tra  in Cu+C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5000" y="2286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419720" y="112680"/>
                <a:ext cx="1218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791320" y="914400"/>
            <a:ext cx="2666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ged 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419360" cy="4724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4400640" cy="474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81480" y="60800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ahoma"/>
              </a:rPr>
              <a:t>See poster by C. M. V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tra  in d + 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5000" y="2286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19720" y="112680"/>
                <a:ext cx="1218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81080" y="1251000"/>
                <a:ext cx="547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572000" cy="394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320" y="5867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6600"/>
                </a:solidFill>
                <a:latin typeface="Tahoma"/>
              </a:rPr>
              <a:t>See talk and poster  by V.G. Ryab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6320" y="1906560"/>
            <a:ext cx="4495680" cy="373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649920" y="1219320"/>
                <a:ext cx="436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216240" y="3124080"/>
            <a:ext cx="11271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tra  in p +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5000" y="2286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 200Ge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19720" y="112680"/>
                <a:ext cx="1218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57400" y="1066680"/>
                <a:ext cx="547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629400" y="1066680"/>
                <a:ext cx="436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19360" cy="4357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6320" y="1835280"/>
            <a:ext cx="4647960" cy="4108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76720" y="3278160"/>
            <a:ext cx="12189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7:53:14Z</dcterms:created>
  <dc:creator>maya</dc:creator>
  <dc:description/>
  <dc:language>en-US</dc:language>
  <cp:lastModifiedBy>Galambos Zoltán</cp:lastModifiedBy>
  <dcterms:modified xsi:type="dcterms:W3CDTF">2005-08-05T10:15:45Z</dcterms:modified>
  <cp:revision>150</cp:revision>
  <dc:subject/>
  <dc:title>High-pT          , Identified and Inclusive Charged Hadron Spectra from PHENIX</dc:title>
</cp:coreProperties>
</file>