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3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9ADE3-D2D6-4D97-B78E-9D1A2B75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FD30-FB75-4A0F-BF9B-DEB10602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AB13B-83E0-40D5-BE04-BF86AD59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D6CD-C561-4F2A-AB16-EDDCCA52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CA06-A7DA-40B9-BB58-B2596A62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5189-9566-486C-A552-2B447BBC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3E3B-9781-46C6-9525-3C71FC46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7417-E1E8-4726-B8E3-ACCC2093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F556-ABA8-4D7F-BDE4-C21654D1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19280" y="189000"/>
            <a:ext cx="734544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81EA-6B53-4956-AAA7-9FF520B5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B7BB-B1DC-4677-BD66-8BE09EEB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10E8E-9EBD-45E2-BA3C-B059D232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2644-DC05-4B3D-9FAD-91AB5170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A453-C74D-4F11-A532-6715B09D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90EE-3429-4C38-8DA0-98B08F39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E6E7-32A8-42FE-A427-F7F77AD1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4336-B027-40B7-8908-9CDE424A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3D46A-6514-4159-84C6-BDDA1643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5221B-D0E3-4F93-843E-694C8847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0EDE-C057-453F-9752-3AD8FDD8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19280" y="189000"/>
            <a:ext cx="734544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D878-E123-46A2-BF75-9D35359A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C6BC-7AE5-4F32-BF02-C3C27B80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5856E-A3A7-449E-94A1-5AB66068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19280" y="186480"/>
            <a:ext cx="73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9D00-C379-4D28-9FAD-BB1C8D13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49440" y="836640"/>
            <a:ext cx="741528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roshi Masui (Univ. of Tsukub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86640" y="6453000"/>
            <a:ext cx="1378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BD5C-022E-4955-8535-EB0DE0B16122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2360" y="6381720"/>
            <a:ext cx="8640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480" y="20520"/>
            <a:ext cx="1828800" cy="6001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2459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M’05 Budapest, Hung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453000"/>
            <a:ext cx="2459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M’05 Budapest, Hung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roshi Masui (Univ. of Tsukub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586640" y="6453000"/>
            <a:ext cx="1378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1554-7961-47D3-BFC1-A3D34EB4739D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2360" y="6381720"/>
            <a:ext cx="8640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80" y="20520"/>
            <a:ext cx="1828800" cy="600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9440" y="836640"/>
            <a:ext cx="741528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64072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 Black"/>
              </a:rPr>
              <a:t>Anisotropic Flow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Arial Black"/>
              </a:rPr>
              <a:t>in </a:t>
            </a: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3600" spc="-1" strike="noStrike">
                <a:solidFill>
                  <a:srgbClr val="000000"/>
                </a:solidFill>
                <a:latin typeface="Arial Black"/>
              </a:rPr>
              <a:t>s</a:t>
            </a:r>
            <a:r>
              <a:rPr b="0" lang="ja-JP" sz="3600" spc="-1" strike="noStrike" baseline="-25000">
                <a:solidFill>
                  <a:srgbClr val="000000"/>
                </a:solidFill>
                <a:latin typeface="Arial Black"/>
              </a:rPr>
              <a:t>NN</a:t>
            </a:r>
            <a:r>
              <a:rPr b="0" lang="ja-JP" sz="3600" spc="-1" strike="noStrike">
                <a:solidFill>
                  <a:srgbClr val="000000"/>
                </a:solidFill>
                <a:latin typeface="Arial Black"/>
              </a:rPr>
              <a:t> = 200 GeV 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Arial Black"/>
              </a:rPr>
              <a:t>Cu+Cu and Au+Au collisions 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Arial Black"/>
              </a:rPr>
              <a:t>at RHIC - PHEN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98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oshi Masu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PHENIX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ust 5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k Matte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A67B-E347-4203-9116-CD201FE2C9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/(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scaling ratio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1680" y="907920"/>
            <a:ext cx="8001000" cy="3753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on, baryon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oalescence calculation, meson ~ 3/4, baryon ~ 2/3 (Kolb et al, PRC 69, 051901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C7BE4-1164-42A1-8550-200BAA280F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/(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scaling ratio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1680" y="907920"/>
            <a:ext cx="8001000" cy="3753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on, baryon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oalescence calculation, meson ~ 3/4, baryon ~ 2/3 (Kolb et al, PRC 69, 051901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eems to be scaled by 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5A0C3-E200-4D6E-9C92-18F6F3CB4C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6560" y="181584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9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1800" spc="-1" strike="noStrike">
                <a:solidFill>
                  <a:srgbClr val="000000"/>
                </a:solidFill>
                <a:latin typeface="Arial"/>
              </a:rPr>
              <a:t>Identified hadron v</a:t>
            </a:r>
            <a:r>
              <a:rPr b="0" i="1" lang="ja-JP" sz="1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54B0C-B1A0-491C-AE20-26003EBDC7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0" y="1557360"/>
            <a:ext cx="5591160" cy="3753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hat’s new ?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63640" y="1600200"/>
            <a:ext cx="3529080" cy="452592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un2002 Au+Au at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asured at High resolution Time-of-Flight cou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K/p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K ~ 3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 ~ 4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97800" y="1508040"/>
            <a:ext cx="164664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L 91, 1823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93C9-095E-49BD-A222-D4DB201806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hat’s new ?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0" y="1552680"/>
            <a:ext cx="5591160" cy="3752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63640" y="1600200"/>
            <a:ext cx="3529080" cy="452592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gh statistics in Run2004 Au+Au at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xtend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K/p with simultaneous 3 gaussian fitting to mass square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p 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lt; 5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K,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lt; 4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D4F43-EAAD-4DC8-A157-1CDCB23640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 Black"/>
              </a:rPr>
              <a:t>Aerogel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4920" y="1552680"/>
            <a:ext cx="5591160" cy="3752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53200" y="1341360"/>
            <a:ext cx="3611520" cy="460872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erogel can cover much higher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ion is quite consistent with reco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roton seems to decrease for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4 – 5 GeV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milar trend in T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ed further study at higher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0EA7-91C9-413A-8247-3AD08C604A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1400" y="941400"/>
            <a:ext cx="6708960" cy="45036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All identified particles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5445000"/>
            <a:ext cx="7561440" cy="86544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harm has strong flow ! 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therm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s also flowing ! 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partonic colle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95720" y="1413000"/>
            <a:ext cx="2242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ja-JP" sz="14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333399"/>
                </a:solidFill>
                <a:latin typeface="Arial"/>
              </a:rPr>
              <a:t> : D. L. Winter (talk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Arial"/>
              </a:rPr>
              <a:t>K. Miki (po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Arial"/>
              </a:rPr>
              <a:t>n.p. electron S. A. Butsy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Arial"/>
              </a:rPr>
              <a:t>(talk), S. Sakai (po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333399"/>
                </a:solidFill>
                <a:latin typeface="Arial"/>
              </a:rPr>
              <a:t>: D. Pal (tal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4F0DA-BE14-46A5-A654-7A4A3A33E7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6560" y="181584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7900" spc="-1" strike="noStrike">
                <a:solidFill>
                  <a:srgbClr val="000000"/>
                </a:solidFill>
                <a:latin typeface="Arial"/>
              </a:rPr>
              <a:t>System size dependence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7900" spc="-1" strike="noStrike">
                <a:solidFill>
                  <a:srgbClr val="000000"/>
                </a:solidFill>
                <a:latin typeface="Arial"/>
              </a:rPr>
              <a:t>Au+Au vs Cu+Cu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9B46-E265-4D57-A45D-DC150FBBC2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Linear scaling ?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920" y="1552680"/>
            <a:ext cx="5591160" cy="3752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81200" y="1279080"/>
            <a:ext cx="3683160" cy="488628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pproximate linear scaling with the system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u+C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 0.3 *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u+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9F90B-836B-4DCA-8007-7353A1D768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Linear scaling ?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4920" y="1552680"/>
            <a:ext cx="5591160" cy="3752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81200" y="1279080"/>
            <a:ext cx="3683160" cy="488628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 approximate linear scaling with the system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Cu+C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~ 0.3 *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Au+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irst results of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in smaller system, Cu+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 10 % of tot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seems to NOT scale by system size line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Cu) ~ 0.84 *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F9DD5-01B5-4C08-81A9-E2651E33A4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1123920"/>
            <a:ext cx="4968720" cy="3370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7455" r="3745" b="0"/>
          <a:stretch/>
        </p:blipFill>
        <p:spPr>
          <a:xfrm>
            <a:off x="4500720" y="2997360"/>
            <a:ext cx="4537080" cy="3311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16000" y="1023480"/>
            <a:ext cx="4248360" cy="190044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Identified hadron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Early therm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ituent quark scaling 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Partonic coll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2360" y="4797360"/>
            <a:ext cx="4248360" cy="139536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ergy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uration of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t R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% increase from 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7800" y="932040"/>
            <a:ext cx="164664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L 91, 1823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0280" y="3021120"/>
            <a:ext cx="164664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L 94, 2323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B438-EBC5-4262-9D02-5D37E0C6F5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1140" t="3403" r="3204" b="6078"/>
          <a:stretch/>
        </p:blipFill>
        <p:spPr>
          <a:xfrm>
            <a:off x="34920" y="1630440"/>
            <a:ext cx="5400720" cy="3238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ccentricity scaling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219280" y="1123920"/>
            <a:ext cx="3745080" cy="518472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integral) ~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/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integ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duce systematic errors related to eccentricity calculation and event plane re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caling would be roughly independent of the syste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uggest that hydrodynamical regime is reached in central - mid-central Cu+Cu coll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5840" y="4941720"/>
            <a:ext cx="204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See po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by A. Taranen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0DA3F-674E-48EE-8B41-A6446D58DB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Constituent quark scaling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797360"/>
            <a:ext cx="8229600" cy="144000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maller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in Cu+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imilar trend for identified hadron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in Cu+Cu compared to that in Au+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nstituent quark scaling in Cu+Cu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286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eed much more stat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604280" cy="356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867B-A51E-48A0-9E61-971D0A8B4E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23560"/>
            <a:ext cx="8229600" cy="500220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ja-JP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/(v</a:t>
            </a:r>
            <a:r>
              <a:rPr b="0" lang="ja-JP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ja-JP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 scaling ratio ~ 1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for both unidentified and identified hadr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SzPct val="1286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arger by factor 2 – 3 from model predi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Identified hadron v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oton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eems to decrease around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~ 4 – 5 GeV/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SzPct val="1286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urther study need to be done at higher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Charm, </a:t>
            </a:r>
            <a:r>
              <a:rPr b="0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 has a strong flow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Scaling with syste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scaling of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with system size seems to not lin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ccentricity scaling would be roughly independent of the system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Suggest that hydro regime is reached in central – mid-central Cu+Cu colli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imilar tendency of identified hadron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in Cu+Cu compared to Au+Au is ob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44D78-B31F-4E0F-A5D8-86FD00EF01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Flow talks, posters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993080" cy="496908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3300"/>
                </a:solidFill>
                <a:latin typeface="Arial"/>
              </a:rPr>
              <a:t>D. L. Winter (</a:t>
            </a:r>
            <a:r>
              <a:rPr b="0" lang="ja-JP" sz="16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ja-JP" sz="1600" spc="-1" strike="noStrike" baseline="30000">
                <a:solidFill>
                  <a:srgbClr val="ff3300"/>
                </a:solidFill>
                <a:latin typeface="Arial"/>
              </a:rPr>
              <a:t>0</a:t>
            </a:r>
            <a:r>
              <a:rPr b="0" lang="ja-JP" sz="1600" spc="-1" strike="noStrike">
                <a:solidFill>
                  <a:srgbClr val="ff3300"/>
                </a:solidFill>
                <a:latin typeface="Arial"/>
              </a:rPr>
              <a:t>, charged hadron at high p</a:t>
            </a:r>
            <a:r>
              <a:rPr b="0" lang="ja-JP" sz="1600" spc="-1" strike="noStrike" baseline="-25000">
                <a:solidFill>
                  <a:srgbClr val="ff33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ff3300"/>
                </a:solidFill>
                <a:latin typeface="Arial"/>
              </a:rPr>
              <a:t>)  Parallel1, 3a (Aug. 5, Fri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ENIX measurement of particle yield at high 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with respect to the reaction plane in Au+Au collisions at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3300"/>
                </a:solidFill>
                <a:latin typeface="Arial"/>
              </a:rPr>
              <a:t>D. Pal (</a:t>
            </a:r>
            <a:r>
              <a:rPr b="0" lang="ja-JP" sz="16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0" lang="ja-JP" sz="1600" spc="-1" strike="noStrike">
                <a:solidFill>
                  <a:srgbClr val="ff3300"/>
                </a:solidFill>
                <a:latin typeface="Arial"/>
              </a:rPr>
              <a:t> meson)  Parallel1, 1b (Aug. 5, Fri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uclear Modifications and elliptic flow measurements for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mesons at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= 200 GeV d+Au and Au+Au collisions by PHEN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3300"/>
                </a:solidFill>
                <a:latin typeface="Arial"/>
              </a:rPr>
              <a:t>B. E. Norman (v</a:t>
            </a:r>
            <a:r>
              <a:rPr b="0" lang="ja-JP" sz="16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ja-JP" sz="1600" spc="-1" strike="noStrike">
                <a:solidFill>
                  <a:srgbClr val="ff3300"/>
                </a:solidFill>
                <a:latin typeface="Arial"/>
              </a:rPr>
              <a:t>, v</a:t>
            </a:r>
            <a:r>
              <a:rPr b="0" lang="ja-JP" sz="1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ja-JP" sz="1600" spc="-1" strike="noStrike" baseline="-25000">
                <a:solidFill>
                  <a:srgbClr val="ff33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ff3300"/>
                </a:solidFill>
                <a:latin typeface="Arial"/>
              </a:rPr>
              <a:t>at MVD)  Poster1, 49  (Aug. 4 –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zimuthal anisotropy at intermediate rapidity in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 = 200 GeV Au-Au collisions using the PHENIX MV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3300"/>
                </a:solidFill>
                <a:latin typeface="Arial"/>
                <a:ea typeface="Arial"/>
              </a:rPr>
              <a:t>S. Sakai (electron v</a:t>
            </a:r>
            <a:r>
              <a:rPr b="0" lang="ja-JP" sz="16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0" lang="ja-JP" sz="1600" spc="-1" strike="noStrike">
                <a:solidFill>
                  <a:srgbClr val="ff3300"/>
                </a:solidFill>
                <a:latin typeface="Arial"/>
                <a:ea typeface="Arial"/>
              </a:rPr>
              <a:t>)  Poster1, 51 </a:t>
            </a:r>
            <a:r>
              <a:rPr b="0" lang="ja-JP" sz="1600" spc="-1" strike="noStrike">
                <a:solidFill>
                  <a:srgbClr val="ff3300"/>
                </a:solidFill>
                <a:latin typeface="Arial"/>
              </a:rPr>
              <a:t> (Aug. 4 –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The azimuthal anisotropy of electrons from heavy flavor decays in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 = 200 GeV Au-Au collisions by PHEN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3300"/>
                </a:solidFill>
                <a:latin typeface="Arial"/>
                <a:ea typeface="Arial"/>
              </a:rPr>
              <a:t>A. Taranenko (identified hadron v</a:t>
            </a:r>
            <a:r>
              <a:rPr b="0" lang="ja-JP" sz="16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0" lang="ja-JP" sz="1600" spc="-1" strike="noStrike">
                <a:solidFill>
                  <a:srgbClr val="ff3300"/>
                </a:solidFill>
                <a:latin typeface="Arial"/>
                <a:ea typeface="Arial"/>
              </a:rPr>
              <a:t> in Au+Au and Cu+Cu)  Poster1, 52 </a:t>
            </a:r>
            <a:r>
              <a:rPr b="0" lang="ja-JP" sz="1600" spc="-1" strike="noStrike">
                <a:solidFill>
                  <a:srgbClr val="ff3300"/>
                </a:solidFill>
                <a:latin typeface="Arial"/>
              </a:rPr>
              <a:t> (Aug. 4 –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caling properties of azimuthal anisotropy at RH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3300"/>
                </a:solidFill>
                <a:latin typeface="Arial"/>
                <a:ea typeface="Arial"/>
              </a:rPr>
              <a:t>K. Miki (</a:t>
            </a:r>
            <a:r>
              <a:rPr b="0" lang="ja-JP" sz="16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ja-JP" sz="16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0</a:t>
            </a:r>
            <a:r>
              <a:rPr b="0" lang="ja-JP" sz="1600" spc="-1" strike="noStrike">
                <a:solidFill>
                  <a:srgbClr val="ff3300"/>
                </a:solidFill>
                <a:latin typeface="Arial"/>
                <a:ea typeface="Arial"/>
              </a:rPr>
              <a:t>, photon v</a:t>
            </a:r>
            <a:r>
              <a:rPr b="0" lang="ja-JP" sz="16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0" lang="ja-JP" sz="1600" spc="-1" strike="noStrike">
                <a:solidFill>
                  <a:srgbClr val="ff3300"/>
                </a:solidFill>
                <a:latin typeface="Arial"/>
                <a:ea typeface="Arial"/>
              </a:rPr>
              <a:t>)  Poster1, 192  </a:t>
            </a:r>
            <a:r>
              <a:rPr b="0" lang="ja-JP" sz="1600" spc="-1" strike="noStrike">
                <a:solidFill>
                  <a:srgbClr val="ff3300"/>
                </a:solidFill>
                <a:latin typeface="Arial"/>
              </a:rPr>
              <a:t> (Aug. 4 –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Measurement of inclusive photon and direct photon 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 = 200 GeV Au-Au collision with PHENIX experiment at RH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3300"/>
                </a:solidFill>
                <a:latin typeface="Arial"/>
                <a:ea typeface="Arial"/>
              </a:rPr>
              <a:t>M. Konno (Aerogel v</a:t>
            </a:r>
            <a:r>
              <a:rPr b="0" lang="ja-JP" sz="16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0" lang="ja-JP" sz="1600" spc="-1" strike="noStrike">
                <a:solidFill>
                  <a:srgbClr val="ff3300"/>
                </a:solidFill>
                <a:latin typeface="Arial"/>
                <a:ea typeface="Arial"/>
              </a:rPr>
              <a:t>) Poster1, 222 (Aug 6 – 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Identified charged hadron production at high pT in 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 = 200 GeV Au+Au coll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94E3-1B3C-486D-86F5-B234AA5316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3240" y="-1440"/>
            <a:ext cx="914724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5059-4DCD-4BCD-B9CD-D09AA20C59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Back up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0217-AC9D-4454-B0A8-B805C6BE76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vent plane Method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4920" y="1401840"/>
            <a:ext cx="4537080" cy="3044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4723920"/>
            <a:ext cx="8785440" cy="151308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event plane at Beam-Beam Counter (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~ 3 –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event anisotropy in PHENIX central arm (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&lt;0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rapidity gap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3)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e non-flow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27640" y="1409760"/>
            <a:ext cx="4572000" cy="309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DC78-0CA9-42DD-8BDA-7920C1E98A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292720" y="1282680"/>
            <a:ext cx="3008160" cy="2886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harged Particle identifica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t PHENI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4332240"/>
            <a:ext cx="8220240" cy="190512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resolution Time-of-f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K separation ~ 3 GeV/c,  K/p separation ~ 5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rcRect l="8720" t="0" r="10472" b="46542"/>
          <a:stretch/>
        </p:blipFill>
        <p:spPr>
          <a:xfrm>
            <a:off x="539640" y="1197000"/>
            <a:ext cx="3673440" cy="288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38600" y="2452680"/>
            <a:ext cx="39600" cy="53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440000">
            <a:off x="3619080" y="2958840"/>
            <a:ext cx="39600" cy="60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2205000"/>
            <a:ext cx="914400" cy="17287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78AE-2583-4552-B492-610A8C3058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harged Particle identific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t PHENI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8720" t="0" r="10472" b="46542"/>
          <a:stretch/>
        </p:blipFill>
        <p:spPr>
          <a:xfrm>
            <a:off x="539640" y="1197000"/>
            <a:ext cx="3673440" cy="2882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379760" cy="2940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16200000">
            <a:off x="772200" y="2683440"/>
            <a:ext cx="496800" cy="86040"/>
          </a:xfrm>
          <a:custGeom>
            <a:avLst/>
            <a:gdLst>
              <a:gd name="textAreaLeft" fmla="*/ 49680 w 496800"/>
              <a:gd name="textAreaRight" fmla="*/ 447120 w 496800"/>
              <a:gd name="textAreaTop" fmla="*/ 8640 h 86040"/>
              <a:gd name="textAreaBottom" fmla="*/ 77400 h 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841" y="21600"/>
                </a:lnTo>
                <a:lnTo>
                  <a:pt x="759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2133720"/>
            <a:ext cx="914400" cy="1081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4332240"/>
            <a:ext cx="8220240" cy="190512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gh resolution Time-of-f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K separation ~ 3 GeV/c,  K/p separation ~ 5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erogel counter 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Threshold type Cherenkov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mbined Aerogel + TOF (EMC) 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PID in higher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C15AA-94E9-4A01-9C8F-64112595C5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at MVD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9280" y="1274760"/>
            <a:ext cx="4392720" cy="30909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49920" y="1267920"/>
            <a:ext cx="4114800" cy="324180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surement at PHENIX MVD with respect to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rmonic BBC event p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intermediate rapidity between PHENIX central arm and BBC,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~ 1 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95440" y="4475160"/>
            <a:ext cx="3400200" cy="1762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0" y="483228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e Poster by B. E. No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AEF4A-0376-426E-BB00-DE8F0F9312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nisotropic flow can be reasonably described with hydrodynamical  model at RH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Hydrodynamics predict large v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and several scaling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(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ccentricity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caling with system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It is crucial to test these scaling in order to understand the system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DE460-A344-422A-8C81-03AB2BF031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at MVD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572000" cy="3219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8160" y="1268280"/>
            <a:ext cx="4533840" cy="31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36EA3-03B5-4B3D-8621-19EC9EBBF0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Arial Black"/>
              </a:rPr>
              <a:t> vs p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Arial Black"/>
              </a:rPr>
              <a:t>, minimum bias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87280" y="1157400"/>
            <a:ext cx="670896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6B9C1-0684-482D-8E5E-30B326EA76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 Black"/>
              </a:rPr>
              <a:t>Centrality depedence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4920" y="1676520"/>
            <a:ext cx="5400720" cy="3624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148360" y="2065320"/>
            <a:ext cx="3960720" cy="265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CF661-B0D0-4F41-B25A-E373005789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Constituent quark scaling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0896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B236-B1C0-4D03-962A-47DE37591E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 Black"/>
              </a:rPr>
              <a:t>PID v2 in Cu+Cu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708960" cy="450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8FEC5-21F9-44EA-B9A5-C1A1F5C2CC0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Recent results of event anisotropy at PHE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for unidentified and identified hadrons in Au+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caling ratio,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(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for identified hadrons in Au+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mediate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harm,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 size dependence of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ccentricity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353C-66A3-424E-AFDB-FC77DFDA08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Analysis method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56000" y="3212640"/>
            <a:ext cx="4680000" cy="302436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Event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eam-Beam Counter, |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 ~ 3 –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arge rapidity gap (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~ 3) 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could reduce non-flow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igh resolution Time-of-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K separation ~ 3 GeV/c, K/p separation ~ 5 GeV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erogel Cherenkov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286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igher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PID with combining EMC tim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79280" y="1079640"/>
            <a:ext cx="4116600" cy="5157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0" t="1995" r="0" b="2484"/>
          <a:stretch/>
        </p:blipFill>
        <p:spPr>
          <a:xfrm>
            <a:off x="5003640" y="933480"/>
            <a:ext cx="3443400" cy="2208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446640" y="2295360"/>
            <a:ext cx="39600" cy="536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440000">
            <a:off x="3327120" y="2801520"/>
            <a:ext cx="39600" cy="60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1320" y="2048040"/>
            <a:ext cx="914400" cy="17287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721080" y="2503800"/>
            <a:ext cx="497160" cy="85680"/>
          </a:xfrm>
          <a:custGeom>
            <a:avLst/>
            <a:gdLst>
              <a:gd name="textAreaLeft" fmla="*/ 49680 w 497160"/>
              <a:gd name="textAreaRight" fmla="*/ 447480 w 497160"/>
              <a:gd name="textAreaTop" fmla="*/ 8640 h 85680"/>
              <a:gd name="textAreaBottom" fmla="*/ 77040 h 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841" y="21600"/>
                </a:lnTo>
                <a:lnTo>
                  <a:pt x="759" y="216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0520" y="1954080"/>
            <a:ext cx="914400" cy="108108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16120" y="4965840"/>
            <a:ext cx="309600" cy="3096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52600" y="4965840"/>
            <a:ext cx="309600" cy="3096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200" y="1479600"/>
            <a:ext cx="105840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Aero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68160" y="1557360"/>
            <a:ext cx="68976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62720" y="3933720"/>
            <a:ext cx="5191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8000" y="4292640"/>
            <a:ext cx="216000" cy="649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6920" y="4292640"/>
            <a:ext cx="216000" cy="649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2B34D-902D-49C1-BF3B-CDB0EBF40C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800" spc="-1" strike="noStrike">
                <a:solidFill>
                  <a:srgbClr val="000000"/>
                </a:solidFill>
                <a:latin typeface="Arial"/>
              </a:rPr>
              <a:t>Scaling of v</a:t>
            </a:r>
            <a:r>
              <a:rPr b="0" i="1" lang="en-US" sz="9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B315-ADCD-4A71-A83B-7D0E04DBE8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920" y="1527120"/>
            <a:ext cx="5400720" cy="4532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ja-JP" sz="32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r>
              <a:rPr b="1" lang="ja-JP" sz="3200" spc="-1" strike="noStrike">
                <a:solidFill>
                  <a:srgbClr val="000000"/>
                </a:solidFill>
                <a:latin typeface="Arial Black"/>
              </a:rPr>
              <a:t>{EP</a:t>
            </a:r>
            <a:r>
              <a:rPr b="1" lang="ja-JP" sz="3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ja-JP" sz="3200" spc="-1" strike="noStrike">
                <a:solidFill>
                  <a:srgbClr val="000000"/>
                </a:solidFill>
                <a:latin typeface="Arial Black"/>
              </a:rPr>
              <a:t>} vs p</a:t>
            </a:r>
            <a:r>
              <a:rPr b="1" lang="ja-JP" sz="32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19280" y="1600200"/>
            <a:ext cx="3745080" cy="452592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{E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with respect to the second harmonic BBC event pl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ery large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at RHIC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ydro 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~ (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Ollitr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(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~ 1.5, fl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istent with STAR results (1.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7B730-AAE0-4984-ADBD-40A8AE27E1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PID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{E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71680" y="1044720"/>
            <a:ext cx="8001000" cy="3752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5272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surement for identified had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the scaling for identified hadron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DB48-03AE-4A98-BD61-F65A1302D1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1680" y="907920"/>
            <a:ext cx="8001000" cy="3753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/(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scaling ratio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on, baryon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C6E3A-F7BF-4AB8-B500-7E023F584F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14:37:23Z</dcterms:created>
  <dc:creator>Hiroshi Masui</dc:creator>
  <dc:description/>
  <dc:language>en-US</dc:language>
  <cp:lastModifiedBy>Hiroshi Masui</cp:lastModifiedBy>
  <dcterms:modified xsi:type="dcterms:W3CDTF">2005-08-05T07:28:02Z</dcterms:modified>
  <cp:revision>158</cp:revision>
  <dc:subject/>
  <dc:title>Anisotropic Flow in sNN = 200 GeV  Cu+Cu and Au+Au collisions  at RHIC - PHENIX</dc:title>
</cp:coreProperties>
</file>