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32A-D982-4DAB-B3B6-D5B436C8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DF6-8CC4-47CB-A256-E09C24B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655-ECA8-48C7-8356-F18BF851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D0F-4D1D-43C5-9577-0FEC1A1C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97-F942-4439-8CA2-19D24557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5C6-AECD-4D8D-BDD1-4FFB564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D74-2F70-475D-B903-11EB105F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3A4-AB58-4084-BDE2-22071A0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3DE-8871-424A-8BC1-1315324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895-8B3B-4456-9B85-5798135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E36-BB8A-4EC8-8A06-DA77202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D2C-8590-478B-BEE1-7A95A74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6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55272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972-9008-4AB4-8F4E-07E68D0834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304920"/>
            <a:ext cx="6183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Heavy flavor collective f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measurements at R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4640" y="5715000"/>
            <a:ext cx="70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In collaboration with : H. Huang, Y. Miake, S. Sakai, N. Xu, Y. Zh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t_sky11" descr="筑波大学"/>
          <p:cNvPicPr/>
          <p:nvPr/>
        </p:nvPicPr>
        <p:blipFill>
          <a:blip r:embed="rId1"/>
          <a:stretch/>
        </p:blipFill>
        <p:spPr>
          <a:xfrm>
            <a:off x="5638680" y="4632480"/>
            <a:ext cx="2590920" cy="777600"/>
          </a:xfrm>
          <a:prstGeom prst="rect">
            <a:avLst/>
          </a:prstGeom>
          <a:ln w="0">
            <a:noFill/>
          </a:ln>
        </p:spPr>
      </p:pic>
      <p:pic>
        <p:nvPicPr>
          <p:cNvPr id="44" name="esumi-name" descr=""/>
          <p:cNvPicPr/>
          <p:nvPr/>
        </p:nvPicPr>
        <p:blipFill>
          <a:blip r:embed="rId2"/>
          <a:stretch/>
        </p:blipFill>
        <p:spPr>
          <a:xfrm>
            <a:off x="6324480" y="3565440"/>
            <a:ext cx="2057400" cy="81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96080" y="1899000"/>
            <a:ext cx="1066680" cy="193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45" y="72"/>
                </a:moveTo>
                <a:arcTo wR="10800" hR="10800" stAng="-5002776" swAng="10119918"/>
                <a:lnTo>
                  <a:pt x="10800" y="10800"/>
                </a:lnTo>
                <a:close/>
              </a:path>
              <a:path fill="none" w="21600" h="21600">
                <a:moveTo>
                  <a:pt x="12045" y="72"/>
                </a:moveTo>
                <a:arcTo wR="10800" hR="10800" stAng="-5002776" swAng="1011991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2275200"/>
            <a:ext cx="1218600" cy="268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2" y="88"/>
                </a:moveTo>
                <a:arcTo wR="10800" hR="10800" stAng="-4961963" swAng="10006786"/>
                <a:lnTo>
                  <a:pt x="10800" y="10800"/>
                </a:lnTo>
                <a:close/>
              </a:path>
              <a:path fill="none" w="21600" h="21600">
                <a:moveTo>
                  <a:pt x="12172" y="88"/>
                </a:moveTo>
                <a:arcTo wR="10800" hR="10800" stAng="-4961963" swAng="1000678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5368" r="0" b="0"/>
          <a:stretch/>
        </p:blipFill>
        <p:spPr>
          <a:xfrm>
            <a:off x="914400" y="1752480"/>
            <a:ext cx="3962520" cy="374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869-E26E-46EB-BEA6-355687DFE4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hoton_v2_comp_ppg" descr=""/>
          <p:cNvPicPr/>
          <p:nvPr/>
        </p:nvPicPr>
        <p:blipFill>
          <a:blip r:embed="rId1"/>
          <a:stretch/>
        </p:blipFill>
        <p:spPr>
          <a:xfrm>
            <a:off x="152280" y="3195720"/>
            <a:ext cx="8686800" cy="3392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57360" y="380880"/>
            <a:ext cx="8153280" cy="3083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85800" y="228600"/>
            <a:ext cx="8153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centrality dependence of non-photonic electron v2 compared with had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200560"/>
            <a:ext cx="7467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4530600"/>
            <a:ext cx="7467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2092320"/>
            <a:ext cx="7467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406520"/>
            <a:ext cx="7467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7908840" y="50554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ENIX RU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7877160" y="19980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ENIX RUN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A99-6A2F-41AE-94B4-2D95449C58A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HENIX_electron_raa_v2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419720" cy="4495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247840" y="68580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#0 of charm quark coll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0" t="6347" r="7697" b="0"/>
          <a:stretch/>
        </p:blipFill>
        <p:spPr>
          <a:xfrm>
            <a:off x="428760" y="1447920"/>
            <a:ext cx="3914640" cy="48006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926440" y="16444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2040" y="137160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nucl-ex/0611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DE3-8993-416B-9935-FDBC1BA620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960" y="1930320"/>
            <a:ext cx="4648320" cy="4394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4920" y="1905120"/>
            <a:ext cx="4429080" cy="4373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486400" y="3809880"/>
            <a:ext cx="3319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81120" y="350532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/d/(s) quarks v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9500000">
            <a:off x="5354640" y="4490640"/>
            <a:ext cx="2438280" cy="711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78040" y="4952880"/>
            <a:ext cx="1174320" cy="33732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quark v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29400" y="4723920"/>
            <a:ext cx="4572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90960" y="6019920"/>
            <a:ext cx="2068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235760" y="2924640"/>
            <a:ext cx="109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2438280"/>
            <a:ext cx="160020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ingo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302800">
            <a:off x="1498320" y="4356000"/>
            <a:ext cx="2666880" cy="5320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70280" y="3962520"/>
            <a:ext cx="1024920" cy="33624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 meson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20760" y="4114800"/>
            <a:ext cx="39384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415080" y="3073680"/>
            <a:ext cx="155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meson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16160" y="6080040"/>
            <a:ext cx="13604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90720" y="139680"/>
            <a:ext cx="3352680" cy="2146320"/>
            <a:chOff x="990720" y="139680"/>
            <a:chExt cx="3352680" cy="21463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990720" y="139680"/>
              <a:ext cx="335268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828080" y="1739880"/>
              <a:ext cx="221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ENIX preliminary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41680" y="1849320"/>
              <a:ext cx="75960" cy="76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720" y="825480"/>
              <a:ext cx="14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lectron v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 meson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181480" y="3946680"/>
            <a:ext cx="35053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67720" y="1905120"/>
            <a:ext cx="355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~ 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1/6) + 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5/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304920"/>
            <a:ext cx="322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of D-meson and charm quark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27560" y="2286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1219320"/>
            <a:ext cx="3505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hape assumption for D-me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gnitude fitted to minimize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D4-0199-4A41-B8D2-29EC0ECFF2F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4572000" y="3552840"/>
            <a:ext cx="3809880" cy="2771640"/>
            <a:chOff x="4572000" y="3552840"/>
            <a:chExt cx="3809880" cy="277164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4572000" y="3552840"/>
              <a:ext cx="38098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484240" y="3786120"/>
              <a:ext cx="19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um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8840" y="4200480"/>
              <a:ext cx="150840" cy="1220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6640" y="405756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-&gt;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2000" y="690480"/>
            <a:ext cx="3962160" cy="2966760"/>
            <a:chOff x="4572000" y="690480"/>
            <a:chExt cx="3962160" cy="296676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4572000" y="690480"/>
              <a:ext cx="3962160" cy="29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048440" y="1193760"/>
              <a:ext cx="64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615000" y="1336320"/>
              <a:ext cx="4334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772320" y="2518920"/>
              <a:ext cx="57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48320" y="2734920"/>
              <a:ext cx="5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7040" y="1962000"/>
              <a:ext cx="64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556320" y="2106360"/>
              <a:ext cx="720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92280" y="5057640"/>
            <a:ext cx="3255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inimum  : a = 1, b = 0.9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ndf = 22/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(u,d,s) ~ v</a:t>
            </a:r>
            <a:r>
              <a:rPr b="1" lang="ja-JP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3333cc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3520" y="731880"/>
            <a:ext cx="3961800" cy="2925720"/>
            <a:chOff x="533520" y="731880"/>
            <a:chExt cx="3961800" cy="2925720"/>
          </a:xfrm>
        </p:grpSpPr>
        <p:grpSp>
          <p:nvGrpSpPr>
            <p:cNvPr id="395" name=""/>
            <p:cNvGrpSpPr/>
            <p:nvPr/>
          </p:nvGrpSpPr>
          <p:grpSpPr>
            <a:xfrm>
              <a:off x="533520" y="731880"/>
              <a:ext cx="3961800" cy="2925720"/>
              <a:chOff x="533520" y="731880"/>
              <a:chExt cx="3961800" cy="2925720"/>
            </a:xfrm>
          </p:grpSpPr>
          <p:pic>
            <p:nvPicPr>
              <p:cNvPr id="3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160" y="731880"/>
                <a:ext cx="3953160" cy="292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33520" y="731880"/>
                <a:ext cx="726840" cy="218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92840" y="1023120"/>
                <a:ext cx="244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iversal 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 for qua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907200" y="1649520"/>
              <a:ext cx="32148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85800" y="3657600"/>
            <a:ext cx="38862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~ 2*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1/2)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~ 3*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1/3) 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~ 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1/6) + v2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5/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ultaneous fitting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K/p/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304920"/>
            <a:ext cx="594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of D-meson and charm quark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547-6DEB-4F7A-9BBE-46439B30E42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19920" cy="3689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6002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follow the scaling with other hadr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46360" y="1143000"/>
            <a:ext cx="5697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his is when we assume D meson v2 has same pT dependence as prot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his is at the lower limit of D meson v2 from the previous page 1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We can not rule out that D-meson flowing with other hadr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Quark mass difference is neglected here. (n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=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B87-3D1E-419D-B4C6-7D51F38F4B3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Yifei-fig1" descr=""/>
          <p:cNvPicPr/>
          <p:nvPr/>
        </p:nvPicPr>
        <p:blipFill>
          <a:blip r:embed="rId1"/>
          <a:stretch/>
        </p:blipFill>
        <p:spPr>
          <a:xfrm>
            <a:off x="457200" y="1454040"/>
            <a:ext cx="8001000" cy="388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483320" y="1219320"/>
            <a:ext cx="7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762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of B-meson con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FEC-5F14-426A-A4E9-F80477C5A5F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Yifei-fig2" descr=""/>
          <p:cNvPicPr/>
          <p:nvPr/>
        </p:nvPicPr>
        <p:blipFill>
          <a:blip r:embed="rId1"/>
          <a:stretch/>
        </p:blipFill>
        <p:spPr>
          <a:xfrm>
            <a:off x="457200" y="1050840"/>
            <a:ext cx="8001000" cy="5197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407000" y="958680"/>
            <a:ext cx="7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0" y="42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D- and B-me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2920" y="5791320"/>
            <a:ext cx="5668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need to increase B contribution further more even with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will be more difficult to explain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90E-757B-4AF7-A711-5C956FB0F27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Yifei-fig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053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568920" y="1035000"/>
            <a:ext cx="7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89480" y="5562720"/>
            <a:ext cx="4426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D meson only (b/c=0) case : no-bottom at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Charm v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reduction at high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is prefer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457200"/>
            <a:ext cx="44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lect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rom D-meson alone with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reduction at 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596-B406-465C-9575-CBE50866C19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comp2" descr=""/>
          <p:cNvPicPr/>
          <p:nvPr/>
        </p:nvPicPr>
        <p:blipFill>
          <a:blip r:embed="rId1"/>
          <a:stretch/>
        </p:blipFill>
        <p:spPr>
          <a:xfrm>
            <a:off x="3809880" y="762120"/>
            <a:ext cx="5181840" cy="2590560"/>
          </a:xfrm>
          <a:prstGeom prst="rect">
            <a:avLst/>
          </a:prstGeom>
          <a:ln w="0">
            <a:noFill/>
          </a:ln>
        </p:spPr>
      </p:pic>
      <p:pic>
        <p:nvPicPr>
          <p:cNvPr id="419" name="comp" descr=""/>
          <p:cNvPicPr/>
          <p:nvPr/>
        </p:nvPicPr>
        <p:blipFill>
          <a:blip r:embed="rId2"/>
          <a:stretch/>
        </p:blipFill>
        <p:spPr>
          <a:xfrm>
            <a:off x="3762360" y="3581280"/>
            <a:ext cx="52293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380880" y="457200"/>
            <a:ext cx="2286000" cy="2546280"/>
            <a:chOff x="380880" y="457200"/>
            <a:chExt cx="2286000" cy="2546280"/>
          </a:xfrm>
        </p:grpSpPr>
        <p:pic>
          <p:nvPicPr>
            <p:cNvPr id="421" name="D-e" descr=""/>
            <p:cNvPicPr/>
            <p:nvPr/>
          </p:nvPicPr>
          <p:blipFill>
            <a:blip r:embed="rId3"/>
            <a:stretch/>
          </p:blipFill>
          <p:spPr>
            <a:xfrm>
              <a:off x="609480" y="762120"/>
              <a:ext cx="195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93640" y="457200"/>
              <a:ext cx="20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Pythia D-meson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4080" y="2667240"/>
              <a:ext cx="1029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electron p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-9000" y="1535400"/>
              <a:ext cx="1116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D-meson p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743560" y="5335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43560" y="333684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11430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meson 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2241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9625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meson 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50608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6094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2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3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4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5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228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33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3276720"/>
            <a:ext cx="20574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expected and output electr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used to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eed 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input D-mes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ithout shape assum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ght difference in feed back procedure and expected electron v2 between case1 and case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0CC-F1A1-4865-A03B-002690FAF41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est_ev204" descr=""/>
          <p:cNvPicPr/>
          <p:nvPr/>
        </p:nvPicPr>
        <p:blipFill>
          <a:blip r:embed="rId1"/>
          <a:stretch/>
        </p:blipFill>
        <p:spPr>
          <a:xfrm>
            <a:off x="4591080" y="17524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436" name="test_ev203" descr=""/>
          <p:cNvPicPr/>
          <p:nvPr/>
        </p:nvPicPr>
        <p:blipFill>
          <a:blip r:embed="rId2"/>
          <a:stretch/>
        </p:blipFill>
        <p:spPr>
          <a:xfrm>
            <a:off x="1676520" y="1809720"/>
            <a:ext cx="2903400" cy="29718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609000" y="19620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04480" y="19461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017800" y="2247840"/>
            <a:ext cx="5221080" cy="1847880"/>
            <a:chOff x="2017800" y="2247840"/>
            <a:chExt cx="5221080" cy="1847880"/>
          </a:xfrm>
        </p:grpSpPr>
        <p:sp>
          <p:nvSpPr>
            <p:cNvPr id="440" name=""/>
            <p:cNvSpPr/>
            <p:nvPr/>
          </p:nvSpPr>
          <p:spPr>
            <a:xfrm>
              <a:off x="2017800" y="2554200"/>
              <a:ext cx="2209680" cy="1541520"/>
            </a:xfrm>
            <a:custGeom>
              <a:avLst/>
              <a:gdLst/>
              <a:ahLst/>
              <a:rect l="l" t="t" r="r" b="b"/>
              <a:pathLst>
                <a:path w="1392" h="971">
                  <a:moveTo>
                    <a:pt x="0" y="827"/>
                  </a:moveTo>
                  <a:cubicBezTo>
                    <a:pt x="36" y="779"/>
                    <a:pt x="69" y="733"/>
                    <a:pt x="96" y="683"/>
                  </a:cubicBezTo>
                  <a:cubicBezTo>
                    <a:pt x="123" y="633"/>
                    <a:pt x="139" y="582"/>
                    <a:pt x="162" y="529"/>
                  </a:cubicBezTo>
                  <a:cubicBezTo>
                    <a:pt x="185" y="476"/>
                    <a:pt x="207" y="422"/>
                    <a:pt x="235" y="365"/>
                  </a:cubicBezTo>
                  <a:cubicBezTo>
                    <a:pt x="263" y="308"/>
                    <a:pt x="293" y="241"/>
                    <a:pt x="331" y="185"/>
                  </a:cubicBezTo>
                  <a:cubicBezTo>
                    <a:pt x="369" y="129"/>
                    <a:pt x="420" y="55"/>
                    <a:pt x="463" y="29"/>
                  </a:cubicBezTo>
                  <a:cubicBezTo>
                    <a:pt x="506" y="3"/>
                    <a:pt x="539" y="0"/>
                    <a:pt x="589" y="29"/>
                  </a:cubicBezTo>
                  <a:cubicBezTo>
                    <a:pt x="639" y="58"/>
                    <a:pt x="705" y="137"/>
                    <a:pt x="763" y="203"/>
                  </a:cubicBezTo>
                  <a:cubicBezTo>
                    <a:pt x="821" y="269"/>
                    <a:pt x="879" y="352"/>
                    <a:pt x="937" y="425"/>
                  </a:cubicBezTo>
                  <a:cubicBezTo>
                    <a:pt x="995" y="498"/>
                    <a:pt x="1059" y="576"/>
                    <a:pt x="1112" y="640"/>
                  </a:cubicBezTo>
                  <a:cubicBezTo>
                    <a:pt x="1165" y="704"/>
                    <a:pt x="1206" y="757"/>
                    <a:pt x="1253" y="812"/>
                  </a:cubicBezTo>
                  <a:cubicBezTo>
                    <a:pt x="1300" y="867"/>
                    <a:pt x="1363" y="938"/>
                    <a:pt x="1392" y="971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27160" y="2247840"/>
              <a:ext cx="2316240" cy="1434960"/>
            </a:xfrm>
            <a:custGeom>
              <a:avLst/>
              <a:gdLst/>
              <a:ahLst/>
              <a:rect l="l" t="t" r="r" b="b"/>
              <a:pathLst>
                <a:path w="1459" h="904">
                  <a:moveTo>
                    <a:pt x="0" y="0"/>
                  </a:moveTo>
                  <a:cubicBezTo>
                    <a:pt x="16" y="23"/>
                    <a:pt x="53" y="115"/>
                    <a:pt x="96" y="144"/>
                  </a:cubicBezTo>
                  <a:cubicBezTo>
                    <a:pt x="139" y="173"/>
                    <a:pt x="215" y="178"/>
                    <a:pt x="258" y="174"/>
                  </a:cubicBezTo>
                  <a:cubicBezTo>
                    <a:pt x="301" y="170"/>
                    <a:pt x="306" y="138"/>
                    <a:pt x="354" y="120"/>
                  </a:cubicBezTo>
                  <a:cubicBezTo>
                    <a:pt x="402" y="102"/>
                    <a:pt x="480" y="55"/>
                    <a:pt x="546" y="66"/>
                  </a:cubicBezTo>
                  <a:cubicBezTo>
                    <a:pt x="612" y="77"/>
                    <a:pt x="686" y="129"/>
                    <a:pt x="752" y="186"/>
                  </a:cubicBezTo>
                  <a:cubicBezTo>
                    <a:pt x="818" y="243"/>
                    <a:pt x="887" y="342"/>
                    <a:pt x="944" y="409"/>
                  </a:cubicBezTo>
                  <a:cubicBezTo>
                    <a:pt x="1001" y="476"/>
                    <a:pt x="1045" y="534"/>
                    <a:pt x="1095" y="591"/>
                  </a:cubicBezTo>
                  <a:cubicBezTo>
                    <a:pt x="1145" y="648"/>
                    <a:pt x="1186" y="700"/>
                    <a:pt x="1247" y="752"/>
                  </a:cubicBezTo>
                  <a:cubicBezTo>
                    <a:pt x="1308" y="804"/>
                    <a:pt x="1415" y="872"/>
                    <a:pt x="1459" y="904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3280" y="2554200"/>
              <a:ext cx="2209680" cy="1541520"/>
            </a:xfrm>
            <a:custGeom>
              <a:avLst/>
              <a:gdLst/>
              <a:ahLst/>
              <a:rect l="l" t="t" r="r" b="b"/>
              <a:pathLst>
                <a:path w="1392" h="971">
                  <a:moveTo>
                    <a:pt x="0" y="827"/>
                  </a:moveTo>
                  <a:cubicBezTo>
                    <a:pt x="36" y="779"/>
                    <a:pt x="69" y="733"/>
                    <a:pt x="96" y="683"/>
                  </a:cubicBezTo>
                  <a:cubicBezTo>
                    <a:pt x="123" y="633"/>
                    <a:pt x="139" y="582"/>
                    <a:pt x="162" y="529"/>
                  </a:cubicBezTo>
                  <a:cubicBezTo>
                    <a:pt x="185" y="476"/>
                    <a:pt x="207" y="422"/>
                    <a:pt x="235" y="365"/>
                  </a:cubicBezTo>
                  <a:cubicBezTo>
                    <a:pt x="263" y="308"/>
                    <a:pt x="293" y="241"/>
                    <a:pt x="331" y="185"/>
                  </a:cubicBezTo>
                  <a:cubicBezTo>
                    <a:pt x="369" y="129"/>
                    <a:pt x="420" y="55"/>
                    <a:pt x="463" y="29"/>
                  </a:cubicBezTo>
                  <a:cubicBezTo>
                    <a:pt x="506" y="3"/>
                    <a:pt x="539" y="0"/>
                    <a:pt x="589" y="29"/>
                  </a:cubicBezTo>
                  <a:cubicBezTo>
                    <a:pt x="639" y="58"/>
                    <a:pt x="705" y="137"/>
                    <a:pt x="763" y="203"/>
                  </a:cubicBezTo>
                  <a:cubicBezTo>
                    <a:pt x="821" y="269"/>
                    <a:pt x="879" y="352"/>
                    <a:pt x="937" y="425"/>
                  </a:cubicBezTo>
                  <a:cubicBezTo>
                    <a:pt x="995" y="498"/>
                    <a:pt x="1059" y="576"/>
                    <a:pt x="1112" y="640"/>
                  </a:cubicBezTo>
                  <a:cubicBezTo>
                    <a:pt x="1165" y="704"/>
                    <a:pt x="1206" y="757"/>
                    <a:pt x="1253" y="812"/>
                  </a:cubicBezTo>
                  <a:cubicBezTo>
                    <a:pt x="1300" y="867"/>
                    <a:pt x="1363" y="938"/>
                    <a:pt x="1392" y="971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23000" y="2247840"/>
              <a:ext cx="2315880" cy="1434960"/>
            </a:xfrm>
            <a:custGeom>
              <a:avLst/>
              <a:gdLst/>
              <a:ahLst/>
              <a:rect l="l" t="t" r="r" b="b"/>
              <a:pathLst>
                <a:path w="1459" h="904">
                  <a:moveTo>
                    <a:pt x="0" y="0"/>
                  </a:moveTo>
                  <a:cubicBezTo>
                    <a:pt x="16" y="23"/>
                    <a:pt x="53" y="115"/>
                    <a:pt x="96" y="144"/>
                  </a:cubicBezTo>
                  <a:cubicBezTo>
                    <a:pt x="139" y="173"/>
                    <a:pt x="215" y="178"/>
                    <a:pt x="258" y="174"/>
                  </a:cubicBezTo>
                  <a:cubicBezTo>
                    <a:pt x="301" y="170"/>
                    <a:pt x="306" y="138"/>
                    <a:pt x="354" y="120"/>
                  </a:cubicBezTo>
                  <a:cubicBezTo>
                    <a:pt x="402" y="102"/>
                    <a:pt x="480" y="55"/>
                    <a:pt x="546" y="66"/>
                  </a:cubicBezTo>
                  <a:cubicBezTo>
                    <a:pt x="612" y="77"/>
                    <a:pt x="686" y="129"/>
                    <a:pt x="752" y="186"/>
                  </a:cubicBezTo>
                  <a:cubicBezTo>
                    <a:pt x="818" y="243"/>
                    <a:pt x="887" y="342"/>
                    <a:pt x="944" y="409"/>
                  </a:cubicBezTo>
                  <a:cubicBezTo>
                    <a:pt x="1001" y="476"/>
                    <a:pt x="1045" y="534"/>
                    <a:pt x="1095" y="591"/>
                  </a:cubicBezTo>
                  <a:cubicBezTo>
                    <a:pt x="1145" y="648"/>
                    <a:pt x="1186" y="700"/>
                    <a:pt x="1247" y="752"/>
                  </a:cubicBezTo>
                  <a:cubicBezTo>
                    <a:pt x="1308" y="804"/>
                    <a:pt x="1415" y="872"/>
                    <a:pt x="1459" y="904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057400" y="76212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D-meson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ption in D-meson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19320" y="4743360"/>
            <a:ext cx="3329280" cy="1091520"/>
            <a:chOff x="1219320" y="4743360"/>
            <a:chExt cx="3329280" cy="1091520"/>
          </a:xfrm>
        </p:grpSpPr>
        <p:sp>
          <p:nvSpPr>
            <p:cNvPr id="446" name=""/>
            <p:cNvSpPr/>
            <p:nvPr/>
          </p:nvSpPr>
          <p:spPr>
            <a:xfrm>
              <a:off x="1250640" y="4857480"/>
              <a:ext cx="7596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0640" y="5162400"/>
              <a:ext cx="75960" cy="763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19320" y="5467320"/>
              <a:ext cx="151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7520" y="4743360"/>
              <a:ext cx="210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input pythia D-meson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95360" y="504828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output pythia electron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00760" y="5314680"/>
              <a:ext cx="314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expected electron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(parameterized by experimental dat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1512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98440" y="4800600"/>
            <a:ext cx="148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1A0-386C-4AA7-8B67-0E3D4223224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06280" y="1866960"/>
            <a:ext cx="3499920" cy="3239280"/>
            <a:chOff x="4706280" y="1866960"/>
            <a:chExt cx="3499920" cy="3239280"/>
          </a:xfrm>
        </p:grpSpPr>
        <p:sp>
          <p:nvSpPr>
            <p:cNvPr id="49" name=""/>
            <p:cNvSpPr/>
            <p:nvPr/>
          </p:nvSpPr>
          <p:spPr>
            <a:xfrm>
              <a:off x="6945480" y="3683520"/>
              <a:ext cx="912600" cy="1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822000" y="2090160"/>
              <a:ext cx="503640" cy="6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1267400">
              <a:off x="7413120" y="2349000"/>
              <a:ext cx="360360" cy="33660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418360" y="2513880"/>
              <a:ext cx="753480" cy="906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717880" y="2554560"/>
              <a:ext cx="742320" cy="892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4880" y="2702520"/>
              <a:ext cx="2037240" cy="278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21920" y="3734280"/>
              <a:ext cx="1432440" cy="195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467400">
              <a:off x="4824360" y="2557080"/>
              <a:ext cx="3265200" cy="1941480"/>
            </a:xfrm>
            <a:prstGeom prst="parallelogram">
              <a:avLst>
                <a:gd name="adj" fmla="val 62398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06280" y="3890160"/>
              <a:ext cx="317520" cy="384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829480" y="2592720"/>
              <a:ext cx="917280" cy="1103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1268000">
              <a:off x="5759640" y="3586680"/>
              <a:ext cx="255600" cy="77796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564880" y="3571200"/>
              <a:ext cx="676440" cy="811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467400">
              <a:off x="7497720" y="379116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467400">
              <a:off x="6941520" y="1886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99960" y="2420640"/>
              <a:ext cx="1152720" cy="1216440"/>
              <a:chOff x="6699960" y="2420640"/>
              <a:chExt cx="1152720" cy="12164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699960" y="2420640"/>
                <a:ext cx="1152720" cy="1216440"/>
                <a:chOff x="6699960" y="2420640"/>
                <a:chExt cx="1152720" cy="1216440"/>
              </a:xfrm>
            </p:grpSpPr>
            <p:sp>
              <p:nvSpPr>
                <p:cNvPr id="65" name=""/>
                <p:cNvSpPr/>
                <p:nvPr/>
              </p:nvSpPr>
              <p:spPr>
                <a:xfrm rot="467400">
                  <a:off x="6793200" y="2483640"/>
                  <a:ext cx="99108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467400">
                  <a:off x="6793560" y="2482560"/>
                  <a:ext cx="991080" cy="1069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467400">
                  <a:off x="6739200" y="2915640"/>
                  <a:ext cx="1036800" cy="6537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467400">
                  <a:off x="6784200" y="2944440"/>
                  <a:ext cx="988920" cy="27972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 rot="467400">
                <a:off x="6791400" y="2581560"/>
                <a:ext cx="254520" cy="77904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187320" y="2511000"/>
              <a:ext cx="839880" cy="1152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64160" y="2764080"/>
              <a:ext cx="602280" cy="82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52160" y="2891880"/>
              <a:ext cx="1195920" cy="163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660000" y="2974320"/>
              <a:ext cx="395640" cy="47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95920" y="3081600"/>
              <a:ext cx="2040120" cy="279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569920" y="2626200"/>
              <a:ext cx="1456200" cy="175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37160" y="3272040"/>
              <a:ext cx="2040120" cy="279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6142320" y="2969640"/>
              <a:ext cx="525600" cy="1089720"/>
              <a:chOff x="6142320" y="2969640"/>
              <a:chExt cx="525600" cy="1089720"/>
            </a:xfrm>
          </p:grpSpPr>
          <p:sp>
            <p:nvSpPr>
              <p:cNvPr id="78" name=""/>
              <p:cNvSpPr/>
              <p:nvPr/>
            </p:nvSpPr>
            <p:spPr>
              <a:xfrm rot="100200">
                <a:off x="6158160" y="2977200"/>
                <a:ext cx="494280" cy="1072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00200">
                <a:off x="6150240" y="3489480"/>
                <a:ext cx="495360" cy="5626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0200">
                <a:off x="6156720" y="3491640"/>
                <a:ext cx="493200" cy="1198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00200">
                <a:off x="6158160" y="2976480"/>
                <a:ext cx="494280" cy="1072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6446160" y="3184560"/>
              <a:ext cx="1092240" cy="1316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158160" y="3218400"/>
              <a:ext cx="1030320" cy="1238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8200" y="3609360"/>
              <a:ext cx="937440" cy="12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852160" y="3594600"/>
              <a:ext cx="691200" cy="83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75000" y="3569760"/>
              <a:ext cx="169200" cy="204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0240" y="3519000"/>
              <a:ext cx="475200" cy="648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942800" y="3337920"/>
              <a:ext cx="1140480" cy="1216080"/>
              <a:chOff x="4942800" y="3337920"/>
              <a:chExt cx="1140480" cy="1216080"/>
            </a:xfrm>
          </p:grpSpPr>
          <p:sp>
            <p:nvSpPr>
              <p:cNvPr id="89" name=""/>
              <p:cNvSpPr/>
              <p:nvPr/>
            </p:nvSpPr>
            <p:spPr>
              <a:xfrm rot="467400">
                <a:off x="5027040" y="3400920"/>
                <a:ext cx="988200" cy="106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467400">
                <a:off x="5025240" y="3399840"/>
                <a:ext cx="987840" cy="1067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67400">
                <a:off x="4981680" y="3841560"/>
                <a:ext cx="1023840" cy="64584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267400">
                <a:off x="5760720" y="3580560"/>
                <a:ext cx="254520" cy="7783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467400">
                <a:off x="5737680" y="3562560"/>
                <a:ext cx="114840" cy="79236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467400">
                <a:off x="5013360" y="3933000"/>
                <a:ext cx="795600" cy="19368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5838480" y="3355920"/>
              <a:ext cx="276120" cy="32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19400" y="3734640"/>
              <a:ext cx="1264680" cy="1728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467400">
              <a:off x="5665680" y="4219200"/>
              <a:ext cx="127944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78360" y="3937680"/>
              <a:ext cx="1335600" cy="182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63440" y="3759840"/>
              <a:ext cx="520200" cy="627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85520" y="4143240"/>
              <a:ext cx="171000" cy="207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03280" y="4060800"/>
              <a:ext cx="201960" cy="2448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45160" y="4275360"/>
              <a:ext cx="1994040" cy="2728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467400">
              <a:off x="5050080" y="4119480"/>
              <a:ext cx="360360" cy="33660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827320" y="3134520"/>
              <a:ext cx="1180800" cy="426960"/>
              <a:chOff x="5827320" y="3134520"/>
              <a:chExt cx="1180800" cy="4269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6483240" y="3257280"/>
                <a:ext cx="86040" cy="100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613560" y="3219120"/>
                <a:ext cx="20628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681960" y="3425400"/>
                <a:ext cx="298440" cy="42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671880" y="3539160"/>
                <a:ext cx="3362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988240" y="3134520"/>
                <a:ext cx="280440" cy="174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5872680" y="3287880"/>
                <a:ext cx="312480" cy="12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5827320" y="3452400"/>
                <a:ext cx="287280" cy="45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6099840" y="3432600"/>
                <a:ext cx="203400" cy="5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6141960" y="3300840"/>
                <a:ext cx="175320" cy="83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6335280" y="3250080"/>
                <a:ext cx="56160" cy="94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6550560" y="3366000"/>
                <a:ext cx="131760" cy="30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28600" y="3475440"/>
                <a:ext cx="208440" cy="14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6281280" y="3403800"/>
                <a:ext cx="110160" cy="53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720" y="3624120"/>
              <a:ext cx="1152720" cy="420120"/>
              <a:chOff x="5805720" y="3624120"/>
              <a:chExt cx="1152720" cy="42012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6208560" y="3777480"/>
                <a:ext cx="95760" cy="134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966280" y="3816000"/>
                <a:ext cx="206280" cy="1429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805720" y="3710160"/>
                <a:ext cx="298800" cy="42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893200" y="3624120"/>
                <a:ext cx="221400" cy="14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17080" y="3869280"/>
                <a:ext cx="280080" cy="174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00240" y="3763800"/>
                <a:ext cx="312120" cy="126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71520" y="3679200"/>
                <a:ext cx="286920" cy="44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83600" y="3693600"/>
                <a:ext cx="203040" cy="5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68840" y="3793680"/>
                <a:ext cx="175320" cy="83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94680" y="3831840"/>
                <a:ext cx="56520" cy="94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103800" y="3781440"/>
                <a:ext cx="131760" cy="30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6050880" y="3686400"/>
                <a:ext cx="208080" cy="14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93600" y="3719880"/>
                <a:ext cx="109800" cy="53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906800" y="4032000"/>
              <a:ext cx="332280" cy="4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0280" y="3132720"/>
              <a:ext cx="248760" cy="33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782480" y="2741400"/>
              <a:ext cx="123120" cy="151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24240" y="476892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central Coll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43000" y="2057400"/>
            <a:ext cx="3280680" cy="3048480"/>
            <a:chOff x="1143000" y="2057400"/>
            <a:chExt cx="3280680" cy="3048480"/>
          </a:xfrm>
        </p:grpSpPr>
        <p:sp>
          <p:nvSpPr>
            <p:cNvPr id="137" name=""/>
            <p:cNvSpPr/>
            <p:nvPr/>
          </p:nvSpPr>
          <p:spPr>
            <a:xfrm>
              <a:off x="1357200" y="3379680"/>
              <a:ext cx="1365120" cy="13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01680" y="3573360"/>
              <a:ext cx="496800" cy="51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19120" y="3832200"/>
              <a:ext cx="496800" cy="51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447200" y="4071960"/>
              <a:ext cx="3812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241360" y="3690360"/>
              <a:ext cx="282600" cy="252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2439720"/>
              <a:ext cx="1055520" cy="109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514600" y="3506400"/>
              <a:ext cx="12189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09680" y="2592000"/>
              <a:ext cx="91440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219480" y="2697120"/>
              <a:ext cx="24912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92440" y="2890800"/>
              <a:ext cx="6192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68600" y="3149280"/>
              <a:ext cx="37152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57560" y="3020760"/>
              <a:ext cx="2491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219480" y="2633400"/>
              <a:ext cx="24912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654360" y="2955600"/>
              <a:ext cx="2476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406680" y="2697120"/>
              <a:ext cx="4334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281400" y="3084120"/>
              <a:ext cx="1872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592440" y="2568240"/>
              <a:ext cx="24768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530520" y="2826720"/>
              <a:ext cx="37152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4200" y="2057400"/>
              <a:ext cx="15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ally the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8400" y="4768560"/>
              <a:ext cx="28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adial Collective Expa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181400">
              <a:off x="3128400" y="2768040"/>
              <a:ext cx="762120" cy="380880"/>
            </a:xfrm>
            <a:prstGeom prst="rightArrow">
              <a:avLst>
                <a:gd name="adj1" fmla="val 50000"/>
                <a:gd name="adj2" fmla="val 50024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43000" y="4071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057400" y="347796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324080" y="106668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Collectivity in Heavy Ion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8680" y="251460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adial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9560" y="205740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liptic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220000">
            <a:off x="2908080" y="370188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7840" y="5410080"/>
            <a:ext cx="59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Arial"/>
              </a:rPr>
              <a:t>coalescence/hydro                          jet suppression/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874-F8E8-4CFD-9F04-EA0568A2A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520" y="1509840"/>
            <a:ext cx="2590560" cy="382428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3048120" y="1482840"/>
            <a:ext cx="5638320" cy="4079520"/>
            <a:chOff x="3048120" y="1482840"/>
            <a:chExt cx="5638320" cy="4079520"/>
          </a:xfrm>
        </p:grpSpPr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3048120" y="1520280"/>
              <a:ext cx="525780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802040" y="2853360"/>
              <a:ext cx="2808720" cy="1756080"/>
            </a:xfrm>
            <a:custGeom>
              <a:avLst/>
              <a:gdLst/>
              <a:ahLst/>
              <a:rect l="l" t="t" r="r" b="b"/>
              <a:pathLst>
                <a:path w="1215" h="724">
                  <a:moveTo>
                    <a:pt x="35" y="512"/>
                  </a:moveTo>
                  <a:cubicBezTo>
                    <a:pt x="192" y="534"/>
                    <a:pt x="352" y="526"/>
                    <a:pt x="510" y="539"/>
                  </a:cubicBezTo>
                  <a:cubicBezTo>
                    <a:pt x="889" y="534"/>
                    <a:pt x="1215" y="724"/>
                    <a:pt x="1113" y="448"/>
                  </a:cubicBezTo>
                  <a:cubicBezTo>
                    <a:pt x="1103" y="388"/>
                    <a:pt x="1115" y="314"/>
                    <a:pt x="1049" y="293"/>
                  </a:cubicBezTo>
                  <a:cubicBezTo>
                    <a:pt x="1021" y="264"/>
                    <a:pt x="1016" y="225"/>
                    <a:pt x="995" y="192"/>
                  </a:cubicBezTo>
                  <a:cubicBezTo>
                    <a:pt x="977" y="163"/>
                    <a:pt x="883" y="76"/>
                    <a:pt x="848" y="55"/>
                  </a:cubicBezTo>
                  <a:cubicBezTo>
                    <a:pt x="828" y="43"/>
                    <a:pt x="769" y="39"/>
                    <a:pt x="757" y="37"/>
                  </a:cubicBezTo>
                  <a:cubicBezTo>
                    <a:pt x="739" y="31"/>
                    <a:pt x="721" y="23"/>
                    <a:pt x="702" y="18"/>
                  </a:cubicBezTo>
                  <a:cubicBezTo>
                    <a:pt x="678" y="12"/>
                    <a:pt x="629" y="0"/>
                    <a:pt x="629" y="0"/>
                  </a:cubicBezTo>
                  <a:cubicBezTo>
                    <a:pt x="470" y="3"/>
                    <a:pt x="311" y="1"/>
                    <a:pt x="153" y="9"/>
                  </a:cubicBezTo>
                  <a:cubicBezTo>
                    <a:pt x="124" y="10"/>
                    <a:pt x="71" y="37"/>
                    <a:pt x="71" y="37"/>
                  </a:cubicBezTo>
                  <a:cubicBezTo>
                    <a:pt x="0" y="131"/>
                    <a:pt x="37" y="266"/>
                    <a:pt x="44" y="375"/>
                  </a:cubicBezTo>
                  <a:cubicBezTo>
                    <a:pt x="45" y="387"/>
                    <a:pt x="54" y="399"/>
                    <a:pt x="53" y="411"/>
                  </a:cubicBezTo>
                  <a:cubicBezTo>
                    <a:pt x="51" y="445"/>
                    <a:pt x="41" y="478"/>
                    <a:pt x="35" y="5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55000" y="1646280"/>
              <a:ext cx="275040" cy="311400"/>
            </a:xfrm>
            <a:custGeom>
              <a:avLst/>
              <a:gdLst/>
              <a:ahLst/>
              <a:rect l="l" t="t" r="r" b="b"/>
              <a:pathLst>
                <a:path w="233" h="241">
                  <a:moveTo>
                    <a:pt x="0" y="45"/>
                  </a:moveTo>
                  <a:cubicBezTo>
                    <a:pt x="49" y="98"/>
                    <a:pt x="98" y="151"/>
                    <a:pt x="136" y="181"/>
                  </a:cubicBezTo>
                  <a:cubicBezTo>
                    <a:pt x="174" y="211"/>
                    <a:pt x="219" y="241"/>
                    <a:pt x="226" y="226"/>
                  </a:cubicBezTo>
                  <a:cubicBezTo>
                    <a:pt x="233" y="211"/>
                    <a:pt x="204" y="127"/>
                    <a:pt x="181" y="90"/>
                  </a:cubicBezTo>
                  <a:cubicBezTo>
                    <a:pt x="158" y="53"/>
                    <a:pt x="124" y="26"/>
                    <a:pt x="90" y="0"/>
                  </a:cubicBezTo>
                </a:path>
              </a:pathLst>
            </a:custGeom>
            <a:noFill/>
            <a:ln cap="rnd" w="25560">
              <a:solidFill>
                <a:srgbClr val="ff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61760" y="1674360"/>
              <a:ext cx="554760" cy="757080"/>
            </a:xfrm>
            <a:custGeom>
              <a:avLst/>
              <a:gdLst/>
              <a:ahLst/>
              <a:rect l="l" t="t" r="r" b="b"/>
              <a:pathLst>
                <a:path w="370" h="408">
                  <a:moveTo>
                    <a:pt x="0" y="45"/>
                  </a:moveTo>
                  <a:cubicBezTo>
                    <a:pt x="83" y="132"/>
                    <a:pt x="167" y="219"/>
                    <a:pt x="227" y="272"/>
                  </a:cubicBezTo>
                  <a:cubicBezTo>
                    <a:pt x="287" y="325"/>
                    <a:pt x="370" y="408"/>
                    <a:pt x="363" y="363"/>
                  </a:cubicBezTo>
                  <a:cubicBezTo>
                    <a:pt x="356" y="318"/>
                    <a:pt x="269" y="159"/>
                    <a:pt x="182" y="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86000" y="1674360"/>
              <a:ext cx="1200960" cy="1608480"/>
            </a:xfrm>
            <a:custGeom>
              <a:avLst/>
              <a:gdLst/>
              <a:ahLst/>
              <a:rect l="l" t="t" r="r" b="b"/>
              <a:pathLst>
                <a:path w="892" h="870">
                  <a:moveTo>
                    <a:pt x="0" y="0"/>
                  </a:moveTo>
                  <a:cubicBezTo>
                    <a:pt x="200" y="200"/>
                    <a:pt x="401" y="401"/>
                    <a:pt x="545" y="545"/>
                  </a:cubicBezTo>
                  <a:cubicBezTo>
                    <a:pt x="689" y="689"/>
                    <a:pt x="832" y="870"/>
                    <a:pt x="862" y="862"/>
                  </a:cubicBezTo>
                  <a:cubicBezTo>
                    <a:pt x="892" y="854"/>
                    <a:pt x="801" y="642"/>
                    <a:pt x="726" y="499"/>
                  </a:cubicBezTo>
                  <a:cubicBezTo>
                    <a:pt x="651" y="356"/>
                    <a:pt x="530" y="178"/>
                    <a:pt x="409" y="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06760" y="3660120"/>
              <a:ext cx="309960" cy="37944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7" y="106"/>
                  </a:moveTo>
                  <a:cubicBezTo>
                    <a:pt x="104" y="85"/>
                    <a:pt x="108" y="61"/>
                    <a:pt x="98" y="42"/>
                  </a:cubicBezTo>
                  <a:cubicBezTo>
                    <a:pt x="94" y="33"/>
                    <a:pt x="71" y="33"/>
                    <a:pt x="71" y="33"/>
                  </a:cubicBezTo>
                  <a:lnTo>
                    <a:pt x="0" y="0"/>
                  </a:lnTo>
                  <a:lnTo>
                    <a:pt x="0" y="90"/>
                  </a:lnTo>
                  <a:lnTo>
                    <a:pt x="107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27000" y="1482840"/>
              <a:ext cx="136476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harm h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75320" y="4357800"/>
              <a:ext cx="2456640" cy="46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77160" y="1862280"/>
              <a:ext cx="491760" cy="40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7400000">
              <a:off x="5136120" y="1989360"/>
              <a:ext cx="2716560" cy="291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91920" y="4349880"/>
              <a:ext cx="102492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, K, 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39280" y="1482840"/>
              <a:ext cx="184716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Au Central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trangeness h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785920" y="1862280"/>
              <a:ext cx="560520" cy="11520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94640" y="439992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QM06, Yifei Zha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2247840" y="53352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#1 of charm quark coll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FB4-1AE1-4BEF-A290-02CC99553C8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603440" y="1066680"/>
            <a:ext cx="547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N. Xu, SQM 2006, PHENIX (</a:t>
            </a:r>
            <a:r>
              <a:rPr b="1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, K, p, J/</a:t>
            </a:r>
            <a:r>
              <a:rPr b="1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): PRC69, 034909(04), QM05;  STAR (</a:t>
            </a:r>
            <a:r>
              <a:rPr b="1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): QM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66680" y="1301760"/>
            <a:ext cx="6324840" cy="3123720"/>
            <a:chOff x="1066680" y="1301760"/>
            <a:chExt cx="6324840" cy="312372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rcRect l="0" t="11678" r="0" b="9492"/>
            <a:stretch/>
          </p:blipFill>
          <p:spPr>
            <a:xfrm>
              <a:off x="1125360" y="1301760"/>
              <a:ext cx="602892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066680" y="2941560"/>
              <a:ext cx="632484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066680" y="2186280"/>
              <a:ext cx="6324840" cy="707400"/>
            </a:xfrm>
            <a:prstGeom prst="line">
              <a:avLst/>
            </a:prstGeom>
            <a:ln w="2556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893600" y="2067840"/>
              <a:ext cx="1241640" cy="129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495320" y="1831680"/>
              <a:ext cx="885600" cy="1415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21300000">
            <a:off x="5443200" y="1600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16360" y="251460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4120" y="2482920"/>
            <a:ext cx="7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47840" y="30492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#2 of charm quark coll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rhic_jpsi" descr=""/>
          <p:cNvPicPr/>
          <p:nvPr/>
        </p:nvPicPr>
        <p:blipFill>
          <a:blip r:embed="rId2"/>
          <a:stretch/>
        </p:blipFill>
        <p:spPr>
          <a:xfrm>
            <a:off x="1828800" y="4879800"/>
            <a:ext cx="3048120" cy="1292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483" name="sps_jpsi" descr=""/>
          <p:cNvPicPr/>
          <p:nvPr/>
        </p:nvPicPr>
        <p:blipFill>
          <a:blip r:embed="rId3"/>
          <a:stretch/>
        </p:blipFill>
        <p:spPr>
          <a:xfrm>
            <a:off x="5029200" y="4721400"/>
            <a:ext cx="190512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057400" y="5410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ENIX J/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5440" y="452592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M et. al. QM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29F-FC30-42FF-BF52-D7B191909AC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28600" y="1663560"/>
            <a:ext cx="4572000" cy="4356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495680" y="2035080"/>
            <a:ext cx="4419720" cy="3997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247840" y="99072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#3 of charm quark coll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266-6855-49BD-85E0-6CC726FD320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715040" y="380880"/>
            <a:ext cx="576972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vy flavor tracker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licon vertex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measurement 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 meson v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ew reaction plan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resolution =&gt; reduce error from R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J/ψ v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igh pT non-photonic electron v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28600" y="2817720"/>
            <a:ext cx="2743200" cy="2059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400800" y="490536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plane detector for PHE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6248520" y="2782800"/>
            <a:ext cx="2666880" cy="20178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rcRect l="0" t="19789" r="0" b="15330"/>
          <a:stretch/>
        </p:blipFill>
        <p:spPr>
          <a:xfrm>
            <a:off x="3276720" y="2805120"/>
            <a:ext cx="2743200" cy="2071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505320" y="4829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avy Flavor Tracker for 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4952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tex Tracker, Forward Calorimeter for PHE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E8A-F101-4D60-8B02-84C640F40A3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051280" y="1676520"/>
            <a:ext cx="4725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 quark shows collectivity at RH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0DC-6B0B-4084-9955-F44B91E05A1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7200" y="2936880"/>
            <a:ext cx="4537080" cy="3240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95280" y="533412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495680" cy="32878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529000" y="571680"/>
            <a:ext cx="3489480" cy="2021040"/>
            <a:chOff x="2529000" y="571680"/>
            <a:chExt cx="3489480" cy="2021040"/>
          </a:xfrm>
        </p:grpSpPr>
        <p:sp>
          <p:nvSpPr>
            <p:cNvPr id="169" name=""/>
            <p:cNvSpPr/>
            <p:nvPr/>
          </p:nvSpPr>
          <p:spPr>
            <a:xfrm>
              <a:off x="3817080" y="856440"/>
              <a:ext cx="646920" cy="1360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585400">
              <a:off x="3530160" y="1175400"/>
              <a:ext cx="502560" cy="240120"/>
            </a:xfrm>
            <a:custGeom>
              <a:avLst/>
              <a:gdLst>
                <a:gd name="textAreaLeft" fmla="*/ 62640 w 502560"/>
                <a:gd name="textAreaRight" fmla="*/ 439920 w 502560"/>
                <a:gd name="textAreaTop" fmla="*/ 60120 h 240120"/>
                <a:gd name="textAreaBottom" fmla="*/ 180360 h 24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5558600">
              <a:off x="3878640" y="1085760"/>
              <a:ext cx="560160" cy="180720"/>
            </a:xfrm>
            <a:custGeom>
              <a:avLst/>
              <a:gdLst>
                <a:gd name="textAreaLeft" fmla="*/ 69840 w 560160"/>
                <a:gd name="textAreaRight" fmla="*/ 490320 w 560160"/>
                <a:gd name="textAreaTop" fmla="*/ 45000 h 180720"/>
                <a:gd name="textAreaBottom" fmla="*/ 1357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89200">
              <a:off x="4212360" y="1576080"/>
              <a:ext cx="502920" cy="241560"/>
            </a:xfrm>
            <a:custGeom>
              <a:avLst/>
              <a:gdLst>
                <a:gd name="textAreaLeft" fmla="*/ 62640 w 502920"/>
                <a:gd name="textAreaRight" fmla="*/ 440280 w 50292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4521600">
              <a:off x="3843000" y="1846800"/>
              <a:ext cx="560160" cy="180720"/>
            </a:xfrm>
            <a:custGeom>
              <a:avLst/>
              <a:gdLst>
                <a:gd name="textAreaLeft" fmla="*/ 69840 w 560160"/>
                <a:gd name="textAreaRight" fmla="*/ 490320 w 560160"/>
                <a:gd name="textAreaTop" fmla="*/ 45000 h 180720"/>
                <a:gd name="textAreaBottom" fmla="*/ 1357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9351000">
              <a:off x="3206520" y="1376640"/>
              <a:ext cx="539640" cy="119520"/>
            </a:xfrm>
            <a:custGeom>
              <a:avLst/>
              <a:gdLst>
                <a:gd name="textAreaLeft" fmla="*/ 84240 w 539640"/>
                <a:gd name="textAreaRight" fmla="*/ 472320 w 539640"/>
                <a:gd name="textAreaTop" fmla="*/ 29880 h 119520"/>
                <a:gd name="textAreaBottom" fmla="*/ 8964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5439600">
              <a:off x="3787560" y="2142360"/>
              <a:ext cx="599760" cy="108720"/>
            </a:xfrm>
            <a:custGeom>
              <a:avLst/>
              <a:gdLst>
                <a:gd name="textAreaLeft" fmla="*/ 93600 w 599760"/>
                <a:gd name="textAreaRight" fmla="*/ 524880 w 599760"/>
                <a:gd name="textAreaTop" fmla="*/ 27000 h 108720"/>
                <a:gd name="textAreaBottom" fmla="*/ 81720 h 1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20870400">
              <a:off x="4463640" y="1536480"/>
              <a:ext cx="539640" cy="120240"/>
            </a:xfrm>
            <a:custGeom>
              <a:avLst/>
              <a:gdLst>
                <a:gd name="textAreaLeft" fmla="*/ 84240 w 539640"/>
                <a:gd name="textAreaRight" fmla="*/ 472320 w 539640"/>
                <a:gd name="textAreaTop" fmla="*/ 29880 h 120240"/>
                <a:gd name="textAreaBottom" fmla="*/ 9036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6859400">
              <a:off x="3930840" y="822600"/>
              <a:ext cx="599760" cy="107280"/>
            </a:xfrm>
            <a:custGeom>
              <a:avLst/>
              <a:gdLst>
                <a:gd name="textAreaLeft" fmla="*/ 93600 w 599760"/>
                <a:gd name="textAreaRight" fmla="*/ 524880 w 599760"/>
                <a:gd name="textAreaTop" fmla="*/ 26640 h 107280"/>
                <a:gd name="textAreaBottom" fmla="*/ 80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1880" y="1028160"/>
              <a:ext cx="159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nihi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compton scatt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29000" y="213372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Bremsstrah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(energy lo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400800" y="837720"/>
            <a:ext cx="2062080" cy="1368360"/>
            <a:chOff x="6400800" y="837720"/>
            <a:chExt cx="2062080" cy="1368360"/>
          </a:xfrm>
        </p:grpSpPr>
        <p:sp>
          <p:nvSpPr>
            <p:cNvPr id="181" name=""/>
            <p:cNvSpPr/>
            <p:nvPr/>
          </p:nvSpPr>
          <p:spPr>
            <a:xfrm>
              <a:off x="6400800" y="152208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43720" y="8377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306920" y="1228320"/>
              <a:ext cx="272880" cy="566640"/>
              <a:chOff x="7306920" y="1228320"/>
              <a:chExt cx="272880" cy="566640"/>
            </a:xfrm>
          </p:grpSpPr>
          <p:sp>
            <p:nvSpPr>
              <p:cNvPr id="184" name=""/>
              <p:cNvSpPr/>
              <p:nvPr/>
            </p:nvSpPr>
            <p:spPr>
              <a:xfrm>
                <a:off x="7306920" y="1228680"/>
                <a:ext cx="272160" cy="56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6920" y="1498680"/>
                <a:ext cx="272880" cy="296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06920" y="1499760"/>
                <a:ext cx="27180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06920" y="1228320"/>
                <a:ext cx="272160" cy="564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16200000">
              <a:off x="7324920" y="89100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7324560" y="1819800"/>
              <a:ext cx="249120" cy="339480"/>
            </a:xfrm>
            <a:custGeom>
              <a:avLst/>
              <a:gdLst>
                <a:gd name="textAreaLeft" fmla="*/ 38880 w 249120"/>
                <a:gd name="textAreaRight" fmla="*/ 209160 w 24912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8596800">
              <a:off x="6861960" y="1647360"/>
              <a:ext cx="356760" cy="330480"/>
            </a:xfrm>
            <a:custGeom>
              <a:avLst/>
              <a:gdLst>
                <a:gd name="textAreaLeft" fmla="*/ 55800 w 356760"/>
                <a:gd name="textAreaRight" fmla="*/ 299880 w 356760"/>
                <a:gd name="textAreaTop" fmla="*/ 83160 h 330480"/>
                <a:gd name="textAreaBottom" fmla="*/ 24732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6551280" y="1350360"/>
              <a:ext cx="560160" cy="330120"/>
            </a:xfrm>
            <a:custGeom>
              <a:avLst/>
              <a:gdLst>
                <a:gd name="textAreaLeft" fmla="*/ 87480 w 560160"/>
                <a:gd name="textAreaRight" fmla="*/ 470520 w 5601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3749600">
              <a:off x="6898680" y="988560"/>
              <a:ext cx="349200" cy="339480"/>
            </a:xfrm>
            <a:custGeom>
              <a:avLst/>
              <a:gdLst>
                <a:gd name="textAreaLeft" fmla="*/ 54360 w 349200"/>
                <a:gd name="textAreaRight" fmla="*/ 293400 w 349200"/>
                <a:gd name="textAreaTop" fmla="*/ 85320 h 339480"/>
                <a:gd name="textAreaBottom" fmla="*/ 25416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495400">
              <a:off x="7657920" y="1667880"/>
              <a:ext cx="358560" cy="33012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687800">
              <a:off x="7657560" y="1034640"/>
              <a:ext cx="358560" cy="328680"/>
            </a:xfrm>
            <a:custGeom>
              <a:avLst/>
              <a:gdLst>
                <a:gd name="textAreaLeft" fmla="*/ 55800 w 358560"/>
                <a:gd name="textAreaRight" fmla="*/ 301320 w 358560"/>
                <a:gd name="textAreaTop" fmla="*/ 82440 h 328680"/>
                <a:gd name="textAreaBottom" fmla="*/ 24624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59440" y="1355400"/>
              <a:ext cx="558360" cy="330120"/>
            </a:xfrm>
            <a:custGeom>
              <a:avLst/>
              <a:gdLst>
                <a:gd name="textAreaLeft" fmla="*/ 87120 w 558360"/>
                <a:gd name="textAreaRight" fmla="*/ 469080 w 558360"/>
                <a:gd name="textAreaTop" fmla="*/ 82800 h 330120"/>
                <a:gd name="textAreaBottom" fmla="*/ 24732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5800" y="713520"/>
            <a:ext cx="1710720" cy="1820160"/>
            <a:chOff x="685800" y="713520"/>
            <a:chExt cx="1710720" cy="182016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 rot="19997400">
              <a:off x="1572480" y="863280"/>
              <a:ext cx="7686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 rot="1821000">
              <a:off x="804240" y="1859400"/>
              <a:ext cx="768600" cy="5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85800" y="149328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5760" y="1493280"/>
              <a:ext cx="118440" cy="156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76920" y="1440000"/>
              <a:ext cx="294480" cy="26208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4240" y="1545120"/>
              <a:ext cx="471600" cy="51840"/>
            </a:xfrm>
            <a:prstGeom prst="rightArrow">
              <a:avLst>
                <a:gd name="adj1" fmla="val 50000"/>
                <a:gd name="adj2" fmla="val 2274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1572480" y="1545120"/>
              <a:ext cx="471240" cy="51840"/>
            </a:xfrm>
            <a:prstGeom prst="rightArrow">
              <a:avLst>
                <a:gd name="adj1" fmla="val 50000"/>
                <a:gd name="adj2" fmla="val 2272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94280" y="1177560"/>
              <a:ext cx="236880" cy="2232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276920" y="1701360"/>
              <a:ext cx="235440" cy="261000"/>
            </a:xfrm>
            <a:custGeom>
              <a:avLst/>
              <a:gdLst/>
              <a:ahLst/>
              <a:rect l="l" t="t" r="r" b="b"/>
              <a:pathLst>
                <a:path w="652" h="599">
                  <a:moveTo>
                    <a:pt x="0" y="599"/>
                  </a:moveTo>
                  <a:lnTo>
                    <a:pt x="9" y="426"/>
                  </a:lnTo>
                  <a:lnTo>
                    <a:pt x="19" y="334"/>
                  </a:lnTo>
                  <a:lnTo>
                    <a:pt x="64" y="234"/>
                  </a:lnTo>
                  <a:lnTo>
                    <a:pt x="165" y="115"/>
                  </a:lnTo>
                  <a:lnTo>
                    <a:pt x="137" y="252"/>
                  </a:lnTo>
                  <a:lnTo>
                    <a:pt x="156" y="343"/>
                  </a:lnTo>
                  <a:lnTo>
                    <a:pt x="229" y="407"/>
                  </a:lnTo>
                  <a:lnTo>
                    <a:pt x="302" y="444"/>
                  </a:lnTo>
                  <a:lnTo>
                    <a:pt x="403" y="426"/>
                  </a:lnTo>
                  <a:lnTo>
                    <a:pt x="485" y="371"/>
                  </a:lnTo>
                  <a:lnTo>
                    <a:pt x="531" y="298"/>
                  </a:lnTo>
                  <a:lnTo>
                    <a:pt x="549" y="215"/>
                  </a:lnTo>
                  <a:lnTo>
                    <a:pt x="494" y="124"/>
                  </a:lnTo>
                  <a:lnTo>
                    <a:pt x="412" y="87"/>
                  </a:lnTo>
                  <a:lnTo>
                    <a:pt x="329" y="78"/>
                  </a:lnTo>
                  <a:lnTo>
                    <a:pt x="229" y="97"/>
                  </a:lnTo>
                  <a:lnTo>
                    <a:pt x="137" y="151"/>
                  </a:lnTo>
                  <a:lnTo>
                    <a:pt x="247" y="60"/>
                  </a:lnTo>
                  <a:lnTo>
                    <a:pt x="384" y="5"/>
                  </a:ln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6120" y="2362320"/>
            <a:ext cx="183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rompt phot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1160" y="2514600"/>
            <a:ext cx="63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12400" y="2274840"/>
            <a:ext cx="187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thermal photon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828800"/>
            <a:ext cx="1828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Jet-frag. photon from the survived par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4880" y="15876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photon as a probe of bulk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600000">
            <a:off x="2768040" y="4130280"/>
            <a:ext cx="387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consistent with prompt photon produc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but we are free to specul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ED3-F92D-4ABC-B436-D3C8CBA9818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2280" y="1143000"/>
            <a:ext cx="5105160" cy="5028840"/>
            <a:chOff x="152280" y="1143000"/>
            <a:chExt cx="5105160" cy="502884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3038" t="0" r="0" b="0"/>
            <a:stretch/>
          </p:blipFill>
          <p:spPr>
            <a:xfrm>
              <a:off x="152280" y="1143000"/>
              <a:ext cx="510516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22160" y="154692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3300"/>
                  </a:solidFill>
                  <a:latin typeface="Arial"/>
                </a:rPr>
                <a:t>STAR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43240" y="304920"/>
            <a:ext cx="510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caling with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m + number of qu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rqmd" descr=""/>
          <p:cNvPicPr/>
          <p:nvPr/>
        </p:nvPicPr>
        <p:blipFill>
          <a:blip r:embed="rId2"/>
          <a:stretch/>
        </p:blipFill>
        <p:spPr>
          <a:xfrm>
            <a:off x="5662440" y="3962520"/>
            <a:ext cx="2503800" cy="2068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40240" y="39765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12640" y="5958000"/>
            <a:ext cx="121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70240" y="3657600"/>
            <a:ext cx="22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QMD Au+Au 200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33160" y="403848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SimSun"/>
              </a:rPr>
              <a:t>Feng Liu, QM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2286000"/>
            <a:ext cx="28195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No separation in freeze-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Mass effect after freeze-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Feed down effect mas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Low p</a:t>
            </a:r>
            <a:r>
              <a:rPr b="1" lang="ja-JP" sz="16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 part squeez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imes New Roman"/>
              </a:rPr>
              <a:t>Scaling in RQ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22860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943600" y="442800"/>
            <a:ext cx="1808280" cy="1767600"/>
            <a:chOff x="5943600" y="442800"/>
            <a:chExt cx="1808280" cy="1767600"/>
          </a:xfrm>
        </p:grpSpPr>
        <p:grpSp>
          <p:nvGrpSpPr>
            <p:cNvPr id="225" name=""/>
            <p:cNvGrpSpPr/>
            <p:nvPr/>
          </p:nvGrpSpPr>
          <p:grpSpPr>
            <a:xfrm>
              <a:off x="5943600" y="442800"/>
              <a:ext cx="1808280" cy="1767600"/>
              <a:chOff x="5943600" y="442800"/>
              <a:chExt cx="1808280" cy="1767600"/>
            </a:xfrm>
          </p:grpSpPr>
          <p:sp>
            <p:nvSpPr>
              <p:cNvPr id="226" name=""/>
              <p:cNvSpPr/>
              <p:nvPr/>
            </p:nvSpPr>
            <p:spPr>
              <a:xfrm>
                <a:off x="5943600" y="442800"/>
                <a:ext cx="1808280" cy="175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323040" y="807840"/>
                <a:ext cx="1265400" cy="1095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23040" y="1538280"/>
                <a:ext cx="126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6323040" y="1027080"/>
                <a:ext cx="126540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04920" y="1873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5693400" y="1184040"/>
                <a:ext cx="918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ja-JP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 sl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400000">
                <a:off x="6628320" y="97632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+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70880" y="1465200"/>
                <a:ext cx="52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+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98280" y="487080"/>
                <a:ext cx="112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adial flo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958080" y="1279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53-7751-406B-92B1-AFF562FCF1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4094280" y="2703600"/>
            <a:ext cx="4820400" cy="3173040"/>
            <a:chOff x="4094280" y="2703600"/>
            <a:chExt cx="4820400" cy="3173040"/>
          </a:xfrm>
        </p:grpSpPr>
        <p:sp>
          <p:nvSpPr>
            <p:cNvPr id="238" name=""/>
            <p:cNvSpPr/>
            <p:nvPr/>
          </p:nvSpPr>
          <p:spPr>
            <a:xfrm>
              <a:off x="4173120" y="3711960"/>
              <a:ext cx="45046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764240" y="289404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6280" y="5519160"/>
              <a:ext cx="43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6440" y="4538880"/>
              <a:ext cx="83880" cy="6732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16360" y="4844160"/>
              <a:ext cx="83880" cy="6732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331160" y="2986200"/>
              <a:ext cx="37789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58800" y="2703600"/>
              <a:ext cx="434016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ja-JP" sz="1800" spc="-1" strike="noStrike" baseline="-16000">
                  <a:solidFill>
                    <a:srgbClr val="000000"/>
                  </a:solidFill>
                  <a:latin typeface="Tahoma"/>
                </a:rPr>
                <a:t>e  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 : inclusive electron y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0760" y="5491440"/>
              <a:ext cx="276624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terial amounts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</a:t>
              </a:r>
              <a:r>
                <a:rPr b="0" lang="en-US" sz="1800" spc="-1" strike="noStrike" baseline="-16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60520" y="289404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19000" y="289404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26440" y="346572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3080" y="3465720"/>
              <a:ext cx="102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5960" y="348012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.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03000" y="346428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.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4680" y="346572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23200" y="4903920"/>
              <a:ext cx="28497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litz : 0.8% X</a:t>
              </a:r>
              <a:r>
                <a:rPr b="1" lang="en-US" sz="1200" spc="-1" strike="noStrike" baseline="-14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equival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7440" y="549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5800" y="3730320"/>
              <a:ext cx="21088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th c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Conversion in c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1920" y="4227840"/>
              <a:ext cx="189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/O c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87160" y="346572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.8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94280" y="5130360"/>
              <a:ext cx="31003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n-photonic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98400" y="5087880"/>
              <a:ext cx="83880" cy="6732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31160" y="5117040"/>
              <a:ext cx="0" cy="4442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320" y="3656160"/>
              <a:ext cx="157680" cy="63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3080" y="289404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79760" y="346572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2200" y="4546800"/>
              <a:ext cx="27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Conversion from known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53880" y="4227840"/>
              <a:ext cx="158040" cy="63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1160" y="289404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12520" y="3465720"/>
              <a:ext cx="50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?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94280" y="4283640"/>
              <a:ext cx="450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73120" y="3711960"/>
              <a:ext cx="450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02120" y="3529080"/>
              <a:ext cx="316080" cy="253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75040" y="4100760"/>
              <a:ext cx="315720" cy="253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1160" y="3711960"/>
              <a:ext cx="0" cy="1396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14800" y="3952440"/>
              <a:ext cx="1123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Photonic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351080" y="60339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cocktail method                              converter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439560"/>
            <a:ext cx="3505320" cy="1998720"/>
            <a:chOff x="380880" y="439560"/>
            <a:chExt cx="3505320" cy="19987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620640" y="592200"/>
              <a:ext cx="32655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flipH="1">
              <a:off x="2209320" y="896760"/>
              <a:ext cx="304920" cy="38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21080" y="739800"/>
              <a:ext cx="1180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eID with R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49120" y="1125360"/>
              <a:ext cx="552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B.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209320" y="1353960"/>
              <a:ext cx="30492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1219320"/>
              <a:ext cx="12952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BG subtra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1080" y="1049400"/>
              <a:ext cx="0" cy="12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1600" y="1506600"/>
              <a:ext cx="22860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880" y="515880"/>
              <a:ext cx="1440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97840" y="439560"/>
              <a:ext cx="27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ergy – momentum matc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86200" y="152280"/>
            <a:ext cx="3886200" cy="2286000"/>
            <a:chOff x="3886200" y="152280"/>
            <a:chExt cx="3886200" cy="22860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886200" y="152280"/>
              <a:ext cx="3886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19423200">
              <a:off x="5728680" y="1314720"/>
              <a:ext cx="482760" cy="25776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620120" y="762120"/>
            <a:ext cx="1241280" cy="1600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30280" y="2438280"/>
            <a:ext cx="3432240" cy="3657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420440" y="38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4C3-ACCE-4F7A-9AEA-FD38D6DA7CE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343400" cy="4191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038480" cy="434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19040" y="990720"/>
            <a:ext cx="49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n-photonic electron spectra and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4920" y="149220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nucl-ex/0611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354-AA2C-4735-8076-FB8CFD159DF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76320" y="2057400"/>
            <a:ext cx="9067680" cy="2971800"/>
            <a:chOff x="76320" y="2057400"/>
            <a:chExt cx="906768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76320" y="2057400"/>
              <a:ext cx="9067680" cy="2971800"/>
              <a:chOff x="76320" y="2057400"/>
              <a:chExt cx="9067680" cy="2971800"/>
            </a:xfrm>
          </p:grpSpPr>
          <p:pic>
            <p:nvPicPr>
              <p:cNvPr id="2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2057400"/>
                <a:ext cx="1904760" cy="294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2057400"/>
                <a:ext cx="1904760" cy="294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0" y="2057400"/>
                <a:ext cx="190512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080" y="2057400"/>
                <a:ext cx="190512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057400"/>
                <a:ext cx="1905120" cy="29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3" name=""/>
            <p:cNvSpPr/>
            <p:nvPr/>
          </p:nvSpPr>
          <p:spPr>
            <a:xfrm>
              <a:off x="304920" y="3504960"/>
              <a:ext cx="861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57200" y="3200040"/>
              <a:ext cx="723888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20560" y="3413160"/>
              <a:ext cx="0" cy="1295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330280" y="3396600"/>
              <a:ext cx="0" cy="1295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102200" y="3276360"/>
              <a:ext cx="0" cy="1447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851440" y="3260520"/>
              <a:ext cx="0" cy="1447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664400" y="3200040"/>
              <a:ext cx="0" cy="1492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946080" y="417492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759040" y="4114440"/>
              <a:ext cx="0" cy="59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527720" y="3961800"/>
              <a:ext cx="0" cy="746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280200" y="3733560"/>
              <a:ext cx="0" cy="97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109000" y="3886200"/>
              <a:ext cx="0" cy="83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914400" y="3733560"/>
              <a:ext cx="716292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015200" y="1143000"/>
            <a:ext cx="70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n-photonic electron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A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centrality 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DFE-6094-4A78-9D97-17C008F30D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805200" cy="2514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543120" y="1197000"/>
            <a:ext cx="65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π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4600" y="1195920"/>
            <a:ext cx="19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cl-ex/06080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415880" y="1484280"/>
            <a:ext cx="863640" cy="328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4648320" y="99072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62120" y="838080"/>
            <a:ext cx="7543800" cy="2667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1160" y="3362040"/>
            <a:ext cx="1066680" cy="182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63" y="794"/>
                </a:moveTo>
                <a:arcTo wR="10800" hR="10800" stAng="-4073913" swAng="9216547"/>
                <a:lnTo>
                  <a:pt x="10800" y="10800"/>
                </a:lnTo>
                <a:close/>
              </a:path>
              <a:path fill="none" w="21600" h="21600">
                <a:moveTo>
                  <a:pt x="14863" y="794"/>
                </a:moveTo>
                <a:arcTo wR="10800" hR="10800" stAng="-4073913" swAng="9216547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5120" y="41464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1219320"/>
              <a:gd name="textAreaBottom" fmla="*/ 11520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05"/>
                  <a:pt x="10800" y="3810"/>
                </a:cubicBezTo>
                <a:lnTo>
                  <a:pt x="10800" y="6720"/>
                </a:lnTo>
                <a:cubicBezTo>
                  <a:pt x="10800" y="8625"/>
                  <a:pt x="16200" y="10530"/>
                  <a:pt x="21600" y="10530"/>
                </a:cubicBezTo>
                <a:cubicBezTo>
                  <a:pt x="16200" y="10530"/>
                  <a:pt x="10800" y="12435"/>
                  <a:pt x="10800" y="14340"/>
                </a:cubicBezTo>
                <a:lnTo>
                  <a:pt x="10800" y="17790"/>
                </a:lnTo>
                <a:cubicBezTo>
                  <a:pt x="10800" y="196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2680" y="228600"/>
            <a:ext cx="43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stimation of photonic elect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8073000" y="41155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09040" y="441972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0C9-53F2-4BD3-9FDC-FD8D3D4B442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6562440" cy="373536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1472040" y="1995480"/>
            <a:ext cx="3769920" cy="825480"/>
            <a:chOff x="1472040" y="1995480"/>
            <a:chExt cx="3769920" cy="825480"/>
          </a:xfrm>
        </p:grpSpPr>
        <p:sp>
          <p:nvSpPr>
            <p:cNvPr id="334" name=""/>
            <p:cNvSpPr/>
            <p:nvPr/>
          </p:nvSpPr>
          <p:spPr>
            <a:xfrm>
              <a:off x="1472040" y="2224080"/>
              <a:ext cx="84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imes New Roman"/>
                </a:rPr>
                <a:t>incl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1880" y="1995480"/>
              <a:ext cx="3070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non-ph. </a:t>
              </a:r>
              <a:r>
                <a:rPr b="1" lang="ja-JP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ja-JP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ja-JP" sz="1800" spc="-1" strike="noStrike" baseline="30000">
                  <a:solidFill>
                    <a:srgbClr val="ff0000"/>
                  </a:solidFill>
                  <a:latin typeface="Times New Roman"/>
                </a:rPr>
                <a:t>non-ph.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+ N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phot. </a:t>
              </a:r>
              <a:r>
                <a:rPr b="1" lang="ja-JP" sz="1800" spc="-1" strike="noStrike">
                  <a:solidFill>
                    <a:srgbClr val="3333cc"/>
                  </a:solidFill>
                  <a:latin typeface="Times New Roman"/>
                  <a:ea typeface=""/>
                </a:rPr>
                <a:t>v</a:t>
              </a:r>
              <a:r>
                <a:rPr b="1" lang="ja-JP" sz="1800" spc="-1" strike="noStrike" baseline="-25000">
                  <a:solidFill>
                    <a:srgbClr val="3333cc"/>
                  </a:solidFill>
                  <a:latin typeface="Times New Roman"/>
                  <a:ea typeface=""/>
                </a:rPr>
                <a:t>2</a:t>
              </a:r>
              <a:r>
                <a:rPr b="1" lang="ja-JP" sz="1800" spc="-1" strike="noStrike" baseline="30000">
                  <a:solidFill>
                    <a:srgbClr val="3333cc"/>
                  </a:solidFill>
                  <a:latin typeface="Times New Roman"/>
                  <a:ea typeface=""/>
                </a:rPr>
                <a:t>pho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2452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non-ph.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+ N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pho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24160" y="2438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019320" cy="2689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1375920" y="914400"/>
            <a:ext cx="325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n-photonic elect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47080" y="22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M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inIchi Esumi, Univ. of Tsuku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CCF-1941-4D3F-AD19-7048F69E0C7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eavy Flavor Workshop, Beijing, China, 2006.11.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37:59Z</dcterms:created>
  <dc:creator>ShinIchi Esumi</dc:creator>
  <dc:description/>
  <dc:language>en-US</dc:language>
  <cp:lastModifiedBy>ShinIchi Esumi</cp:lastModifiedBy>
  <dcterms:modified xsi:type="dcterms:W3CDTF">2006-11-29T01:17:53Z</dcterms:modified>
  <cp:revision>65</cp:revision>
  <dc:subject/>
  <dc:title>PowerPoint プレゼンテーション</dc:title>
</cp:coreProperties>
</file>