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3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40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5.png" ContentType="image/png"/>
  <Override PartName="/ppt/media/image5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5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6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7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A674D110-A87C-4D88-B498-DCE5EED592EF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 electron v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872F-9909-4E25-9970-45324AC9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0CF-CC5A-4BC0-A851-66D33C68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2A7-9986-4511-8CDE-9E6EFC85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253-87C3-4F83-9A7B-7738A427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65993-5E97-4BDE-861C-B7478E08F5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683DC-C7F3-4205-BB95-C7679B04A0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E5B12-D84C-4E01-AE20-5356DC2329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57FB1-5315-4856-8A26-8A17DB1F84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38FB6-6638-49A7-AA2A-4ACD1DF704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35120" y="44280"/>
            <a:ext cx="82296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28A5F-D392-4839-9419-B62ACFA788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39398-6EFC-44AF-A5F2-2D00280AC8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762-032B-48A3-BAC1-7EDAE6D4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126BA-58E9-4DC1-94CC-B4F197F6ED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4225C-DD6F-4BFE-87BD-4BB0CB2508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576A2-3FC6-4B05-9068-7D0190679E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53F41-B142-4AE2-99EC-97B705EB29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E78F3-E6E1-4B4D-B194-0732B506E0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C27-D6B5-480A-A024-8659C5FB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F52-B720-416D-A191-14A54654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748-8CCC-421A-84E4-679B4370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35120" y="44280"/>
            <a:ext cx="82296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756-5340-478C-96F2-79F7B1A7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0B5-851A-489A-8186-6C6AB918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56B-0C71-467F-9EF7-0E6219E1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512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0EF-0760-4D7D-9659-B95E688C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400000">
            <a:off x="-2993040" y="3542400"/>
            <a:ext cx="6310080" cy="324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99080"/>
            <a:ext cx="9144000" cy="3747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362640" y="6453360"/>
            <a:ext cx="11620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03280" y="6524280"/>
            <a:ext cx="41054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Hiroshi Masui / University of Tsuku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-1440" y="6496200"/>
            <a:ext cx="1150920" cy="369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667280" y="6453000"/>
            <a:ext cx="1152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39AD-C3CF-40E8-BCF6-D1909A83222F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2448360" y="3680280"/>
            <a:ext cx="52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IPANP 2006, Westin Rio Mar Beach, Puerto Rico, May 30 – Jun 3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8000" y="6505560"/>
            <a:ext cx="9036000" cy="3524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4"/>
          </p:nvPr>
        </p:nvSpPr>
        <p:spPr>
          <a:xfrm>
            <a:off x="7667280" y="6453000"/>
            <a:ext cx="1152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4C32-47A2-4679-91D2-3851D4B673ED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989000"/>
            <a:ext cx="806616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3716280"/>
            <a:ext cx="806616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88000" y="5734080"/>
            <a:ext cx="2663640" cy="706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019240" y="5737320"/>
            <a:ext cx="2192400" cy="716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-2993040" y="3542400"/>
            <a:ext cx="6310080" cy="324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iptic Flow in PHENIX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roshi Masui 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the PHENIX collaboration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CIPANP 2006, Westin Rio Mar Beach</a:t>
            </a: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Puerto Rico</a:t>
            </a: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May 30 – Jun 3, 2006</a:t>
            </a: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22BB6-DA2F-4DD3-B643-8FF18F67BD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11280" y="3429000"/>
            <a:ext cx="806616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 Black"/>
              </a:rPr>
              <a:t>2. Heavy flavor electron v</a:t>
            </a:r>
            <a:r>
              <a:rPr b="1" i="1" lang="en-US" sz="60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1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A91-E4DD-4159-82A2-0466F677EC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466560" y="1025640"/>
          <a:ext cx="4038840" cy="39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025640"/>
                    <a:ext cx="4038840" cy="39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lean heavy flavor electron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9760" y="4979520"/>
            <a:ext cx="8435880" cy="132876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Two different techniques show an excess heavy flavor electron signal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/Background &gt; 1 f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1 GeV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3"/>
          <a:srcRect l="0" t="0" r="3862" b="0"/>
          <a:stretch/>
        </p:blipFill>
        <p:spPr>
          <a:xfrm>
            <a:off x="4645080" y="1222200"/>
            <a:ext cx="4464000" cy="31435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223960" y="155736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gnal / Background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01400" y="765000"/>
            <a:ext cx="2404080" cy="398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1604"/>
                </a:solidFill>
                <a:latin typeface="Arial"/>
              </a:rPr>
              <a:t>Cocktail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69720" y="800280"/>
            <a:ext cx="2617560" cy="398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1604"/>
                </a:solidFill>
                <a:latin typeface="Arial"/>
              </a:rPr>
              <a:t>Converter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81080" y="203976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435640" y="2131920"/>
            <a:ext cx="14436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435640" y="2421000"/>
            <a:ext cx="144360" cy="1443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81080" y="233208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Run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680-63AE-4D55-B717-747BEDDC71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Hint of Charm flow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889440" y="981000"/>
            <a:ext cx="5219640" cy="37274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65120" y="1125360"/>
            <a:ext cx="3243240" cy="40323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90400" y="5157360"/>
            <a:ext cx="8229600" cy="12574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 Black"/>
              </a:rPr>
              <a:t>Data indicate finite v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ja-JP" sz="2400" spc="-1" strike="noStrike">
                <a:solidFill>
                  <a:srgbClr val="000000"/>
                </a:solidFill>
                <a:latin typeface="Arial Black"/>
              </a:rPr>
              <a:t> of charm quark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ggest thermalization of c quark as well as light qu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 Black"/>
              </a:rPr>
              <a:t>What is the origin of high p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i="1" lang="ja-JP" sz="2400" spc="-1" strike="noStrike">
                <a:solidFill>
                  <a:srgbClr val="000000"/>
                </a:solidFill>
                <a:latin typeface="Arial Black"/>
              </a:rPr>
              <a:t> drop ?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711360"/>
            <a:ext cx="350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. </a:t>
            </a: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Greco, C. M. Ko, R. Rapp: PL B 595, 202 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62640" y="677880"/>
            <a:ext cx="154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333399"/>
                </a:solidFill>
                <a:latin typeface="Arial Black"/>
              </a:rPr>
              <a:t>e v</a:t>
            </a:r>
            <a:r>
              <a:rPr b="0" i="1" lang="ja-JP" sz="2800" spc="-1" strike="noStrike" baseline="-25000">
                <a:solidFill>
                  <a:srgbClr val="333399"/>
                </a:solidFill>
                <a:latin typeface="Arial Black"/>
              </a:rPr>
              <a:t>2</a:t>
            </a:r>
            <a:r>
              <a:rPr b="0" i="1" lang="ja-JP" sz="2800" spc="-1" strike="noStrike">
                <a:solidFill>
                  <a:srgbClr val="333399"/>
                </a:solidFill>
                <a:latin typeface="Arial Black"/>
              </a:rPr>
              <a:t> vs p</a:t>
            </a:r>
            <a:r>
              <a:rPr b="0" i="1" lang="ja-JP" sz="2800" spc="-1" strike="noStrike" baseline="-25000">
                <a:solidFill>
                  <a:srgbClr val="333399"/>
                </a:solidFill>
                <a:latin typeface="Arial Black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3CA8-CF07-48EA-823C-BF330C5ADE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rcRect l="0" t="5342" r="7021" b="0"/>
          <a:stretch/>
        </p:blipFill>
        <p:spPr>
          <a:xfrm>
            <a:off x="3851280" y="1447920"/>
            <a:ext cx="4959360" cy="34210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 quark contribution ?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19120" y="5013000"/>
            <a:ext cx="8229600" cy="132876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High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 drop might be explained by B meson contribution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505320" cy="2592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288120" y="2997360"/>
            <a:ext cx="237636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409880" y="4616280"/>
            <a:ext cx="133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eV/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3799800" y="158076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00720" y="1214280"/>
            <a:ext cx="4535280" cy="14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64240" y="1957320"/>
            <a:ext cx="576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04320" y="1241280"/>
            <a:ext cx="2666520" cy="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or B meson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rease, (2) flat at high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664240" y="2246400"/>
            <a:ext cx="57636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59320" y="2075040"/>
            <a:ext cx="10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ff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e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64240" y="2533680"/>
            <a:ext cx="576360" cy="0"/>
          </a:xfrm>
          <a:prstGeom prst="line">
            <a:avLst/>
          </a:prstGeom>
          <a:ln cap="rnd" w="255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59320" y="2376360"/>
            <a:ext cx="10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ff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e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467320" y="135720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81640" y="180036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68760" y="1574640"/>
            <a:ext cx="57636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72760" y="11970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72760" y="14130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10880" y="1285920"/>
            <a:ext cx="674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8840" y="2062080"/>
            <a:ext cx="81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64000" y="1247760"/>
            <a:ext cx="71640" cy="431640"/>
          </a:xfrm>
          <a:custGeom>
            <a:avLst/>
            <a:gdLst>
              <a:gd name="textAreaLeft" fmla="*/ 45720 w 71640"/>
              <a:gd name="textAreaRight" fmla="*/ 72000 w 7164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22760" y="1933560"/>
            <a:ext cx="71640" cy="649440"/>
          </a:xfrm>
          <a:custGeom>
            <a:avLst/>
            <a:gdLst>
              <a:gd name="textAreaLeft" fmla="*/ 45720 w 71640"/>
              <a:gd name="textAreaRight" fmla="*/ 72000 w 7164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716960" y="22874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24200" y="400536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c1604"/>
                </a:solidFill>
                <a:uFillTx/>
                <a:latin typeface="Arial"/>
              </a:rPr>
              <a:t>SQM 2006, S. Sak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5280" y="711360"/>
            <a:ext cx="350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. Hees, V. Greco, R. Rapp:  PRC 73, 034913 (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262640" y="677880"/>
            <a:ext cx="154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333399"/>
                </a:solidFill>
                <a:latin typeface="Arial Black"/>
              </a:rPr>
              <a:t>e v</a:t>
            </a:r>
            <a:r>
              <a:rPr b="0" i="1" lang="ja-JP" sz="2800" spc="-1" strike="noStrike" baseline="-25000">
                <a:solidFill>
                  <a:srgbClr val="333399"/>
                </a:solidFill>
                <a:latin typeface="Arial Black"/>
              </a:rPr>
              <a:t>2</a:t>
            </a:r>
            <a:r>
              <a:rPr b="0" i="1" lang="ja-JP" sz="2800" spc="-1" strike="noStrike">
                <a:solidFill>
                  <a:srgbClr val="333399"/>
                </a:solidFill>
                <a:latin typeface="Arial Black"/>
              </a:rPr>
              <a:t> vs p</a:t>
            </a:r>
            <a:r>
              <a:rPr b="0" i="1" lang="ja-JP" sz="2800" spc="-1" strike="noStrike" baseline="-25000">
                <a:solidFill>
                  <a:srgbClr val="333399"/>
                </a:solidFill>
                <a:latin typeface="Arial Black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764-7B35-44EC-A820-0E1C7B27B4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11280" y="3429000"/>
            <a:ext cx="806616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 Black"/>
              </a:rPr>
              <a:t>3. Direct </a:t>
            </a:r>
            <a:r>
              <a:rPr b="1" i="1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6000" spc="-1" strike="noStrike">
                <a:solidFill>
                  <a:srgbClr val="000000"/>
                </a:solidFill>
                <a:latin typeface="Arial Black"/>
              </a:rPr>
              <a:t> v</a:t>
            </a:r>
            <a:r>
              <a:rPr b="1" i="1" lang="en-US" sz="60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1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BF5-1D63-4CCD-95D6-0AAD0C15CF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lear Direct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signal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19120" y="5054760"/>
            <a:ext cx="8229600" cy="132696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 Black"/>
              </a:rPr>
              <a:t>Large direct </a:t>
            </a:r>
            <a:r>
              <a:rPr b="0" i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ja-JP" sz="2800" spc="-1" strike="noStrike">
                <a:solidFill>
                  <a:srgbClr val="000000"/>
                </a:solidFill>
                <a:latin typeface="Arial Black"/>
              </a:rPr>
              <a:t> excess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ja-JP" sz="2800" spc="-1" strike="noStrike" baseline="30000">
                <a:solidFill>
                  <a:srgbClr val="000000"/>
                </a:solidFill>
                <a:latin typeface="Arial Black"/>
              </a:rPr>
              <a:t>0</a:t>
            </a:r>
            <a:r>
              <a:rPr b="0" i="1" lang="ja-JP" sz="2800" spc="-1" strike="noStrike">
                <a:solidFill>
                  <a:srgbClr val="000000"/>
                </a:solidFill>
                <a:latin typeface="Arial Black"/>
              </a:rPr>
              <a:t> is suppressed but direct </a:t>
            </a:r>
            <a:r>
              <a:rPr b="0" i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ja-JP" sz="2800" spc="-1" strike="noStrike">
                <a:solidFill>
                  <a:srgbClr val="000000"/>
                </a:solidFill>
                <a:latin typeface="Arial Black"/>
              </a:rPr>
              <a:t> not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oth results are consistent with pQ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887480" y="4008600"/>
            <a:ext cx="1195560" cy="228600"/>
          </a:xfrm>
          <a:custGeom>
            <a:avLst/>
            <a:gdLst/>
            <a:ahLst/>
            <a:rect l="l" t="t" r="r" b="b"/>
            <a:pathLst>
              <a:path w="753" h="144">
                <a:moveTo>
                  <a:pt x="0" y="144"/>
                </a:moveTo>
                <a:cubicBezTo>
                  <a:pt x="44" y="142"/>
                  <a:pt x="88" y="141"/>
                  <a:pt x="129" y="135"/>
                </a:cubicBezTo>
                <a:cubicBezTo>
                  <a:pt x="170" y="129"/>
                  <a:pt x="208" y="114"/>
                  <a:pt x="249" y="108"/>
                </a:cubicBezTo>
                <a:cubicBezTo>
                  <a:pt x="290" y="102"/>
                  <a:pt x="334" y="102"/>
                  <a:pt x="375" y="99"/>
                </a:cubicBezTo>
                <a:cubicBezTo>
                  <a:pt x="416" y="96"/>
                  <a:pt x="453" y="98"/>
                  <a:pt x="495" y="90"/>
                </a:cubicBezTo>
                <a:cubicBezTo>
                  <a:pt x="537" y="82"/>
                  <a:pt x="584" y="63"/>
                  <a:pt x="627" y="48"/>
                </a:cubicBezTo>
                <a:cubicBezTo>
                  <a:pt x="670" y="33"/>
                  <a:pt x="711" y="16"/>
                  <a:pt x="753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71640" y="69228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L 94, 232301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96720" y="981000"/>
            <a:ext cx="4680000" cy="38386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4932360" y="1346040"/>
            <a:ext cx="4133880" cy="28036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5722920" y="841320"/>
            <a:ext cx="2736720" cy="6429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409" name=""/>
          <p:cNvSpPr/>
          <p:nvPr/>
        </p:nvSpPr>
        <p:spPr>
          <a:xfrm>
            <a:off x="5148360" y="4221000"/>
            <a:ext cx="604800" cy="605160"/>
          </a:xfrm>
          <a:prstGeom prst="ellipse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51560" y="4221000"/>
            <a:ext cx="604800" cy="605160"/>
          </a:xfrm>
          <a:prstGeom prst="ellipse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143920" y="4221000"/>
            <a:ext cx="604800" cy="605160"/>
          </a:xfrm>
          <a:prstGeom prst="ellipse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44000" y="4221000"/>
            <a:ext cx="604800" cy="605160"/>
          </a:xfrm>
          <a:prstGeom prst="ellipse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27640" y="4292640"/>
            <a:ext cx="1800360" cy="360360"/>
          </a:xfrm>
          <a:prstGeom prst="leftRightArrow">
            <a:avLst>
              <a:gd name="adj1" fmla="val 50000"/>
              <a:gd name="adj2" fmla="val 994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8C5-ED5F-4577-B820-3507436DD9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Possible 3 different scenarios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47760" y="725400"/>
            <a:ext cx="4922640" cy="43592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187280" y="65880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L 96, 032302 (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543000">
            <a:off x="6031080" y="1079280"/>
            <a:ext cx="988920" cy="19904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43000">
            <a:off x="6024240" y="1068480"/>
            <a:ext cx="993600" cy="2000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661080" y="178740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5794200" y="2003040"/>
            <a:ext cx="5781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64360" y="1860480"/>
            <a:ext cx="503280" cy="216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5508360" y="2076480"/>
            <a:ext cx="431640" cy="144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6587640" y="1269720"/>
            <a:ext cx="7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300360" y="2278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659640" y="764640"/>
            <a:ext cx="144360" cy="721080"/>
          </a:xfrm>
          <a:prstGeom prst="line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72360" y="2565360"/>
            <a:ext cx="71280" cy="792360"/>
          </a:xfrm>
          <a:prstGeom prst="line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219280" y="3500280"/>
            <a:ext cx="3816360" cy="288144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 Black"/>
              </a:rPr>
              <a:t>Direct </a:t>
            </a:r>
            <a:r>
              <a:rPr b="0" i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ja-JP" sz="2800" spc="-1" strike="noStrike">
                <a:solidFill>
                  <a:srgbClr val="000000"/>
                </a:solidFill>
                <a:latin typeface="Arial Black"/>
              </a:rPr>
              <a:t> v</a:t>
            </a:r>
            <a:r>
              <a:rPr b="0" i="1" lang="ja-JP" sz="2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. Hard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. Parton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. Bremsstrah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3440" y="5373720"/>
            <a:ext cx="115092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51640" y="6021360"/>
            <a:ext cx="1150920" cy="0"/>
          </a:xfrm>
          <a:prstGeom prst="line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640" y="5157720"/>
            <a:ext cx="4537080" cy="12240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 Black"/>
              </a:rPr>
              <a:t>Inclusive </a:t>
            </a:r>
            <a:r>
              <a:rPr b="0" i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istent with expected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from hadron dec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295760" y="549360"/>
            <a:ext cx="156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i="1" lang="ja-JP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i="1" lang="ja-JP" sz="2800" spc="-1" strike="noStrike">
                <a:solidFill>
                  <a:srgbClr val="333399"/>
                </a:solidFill>
                <a:latin typeface="Arial Black"/>
              </a:rPr>
              <a:t>v</a:t>
            </a:r>
            <a:r>
              <a:rPr b="0" i="1" lang="ja-JP" sz="2800" spc="-1" strike="noStrike" baseline="-25000">
                <a:solidFill>
                  <a:srgbClr val="333399"/>
                </a:solidFill>
                <a:latin typeface="Arial Black"/>
              </a:rPr>
              <a:t>2</a:t>
            </a:r>
            <a:r>
              <a:rPr b="0" i="1" lang="ja-JP" sz="2800" spc="-1" strike="noStrike">
                <a:solidFill>
                  <a:srgbClr val="333399"/>
                </a:solidFill>
                <a:latin typeface="Arial Black"/>
              </a:rPr>
              <a:t> vs p</a:t>
            </a:r>
            <a:r>
              <a:rPr b="0" i="1" lang="ja-JP" sz="2800" spc="-1" strike="noStrike" baseline="-25000">
                <a:solidFill>
                  <a:srgbClr val="333399"/>
                </a:solidFill>
                <a:latin typeface="Arial Black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C348-75B1-440C-A46A-C1F5C59AA2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v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Black"/>
              </a:rPr>
              <a:t>direct</a:t>
            </a:r>
            <a:r>
              <a:rPr b="1" lang="en-US" sz="3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= 0 ?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1280" y="5157360"/>
            <a:ext cx="8229600" cy="129564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Direc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cess ratio is consistent with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B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nclusiv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uggest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direc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vors prompt photon production for dominant source of direc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512640" y="725400"/>
            <a:ext cx="4059360" cy="36403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4643280" y="836640"/>
            <a:ext cx="4127760" cy="36608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826920" y="4076640"/>
            <a:ext cx="2449800" cy="10000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5940360" y="4292640"/>
            <a:ext cx="1798560" cy="7779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438" name=""/>
          <p:cNvSpPr/>
          <p:nvPr/>
        </p:nvSpPr>
        <p:spPr>
          <a:xfrm>
            <a:off x="7295760" y="549360"/>
            <a:ext cx="156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i="1" lang="ja-JP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i="1" lang="ja-JP" sz="2800" spc="-1" strike="noStrike">
                <a:solidFill>
                  <a:srgbClr val="333399"/>
                </a:solidFill>
                <a:latin typeface="Arial Black"/>
              </a:rPr>
              <a:t>v</a:t>
            </a:r>
            <a:r>
              <a:rPr b="0" i="1" lang="ja-JP" sz="2800" spc="-1" strike="noStrike" baseline="-25000">
                <a:solidFill>
                  <a:srgbClr val="333399"/>
                </a:solidFill>
                <a:latin typeface="Arial Black"/>
              </a:rPr>
              <a:t>2</a:t>
            </a:r>
            <a:r>
              <a:rPr b="0" i="1" lang="ja-JP" sz="2800" spc="-1" strike="noStrike">
                <a:solidFill>
                  <a:srgbClr val="333399"/>
                </a:solidFill>
                <a:latin typeface="Arial Black"/>
              </a:rPr>
              <a:t> vs p</a:t>
            </a:r>
            <a:r>
              <a:rPr b="0" i="1" lang="ja-JP" sz="2800" spc="-1" strike="noStrike" baseline="-25000">
                <a:solidFill>
                  <a:srgbClr val="333399"/>
                </a:solidFill>
                <a:latin typeface="Arial Black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87280" y="65880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L 96, 032302 (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A05-CEC3-43C8-A3B5-45E600F8CC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 Black"/>
              </a:rPr>
              <a:t>Elliptic Flow is powerful tool to study hot and dense matter at RHIC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ja-JP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ja-JP" sz="2400" spc="-1" strike="noStrike">
                <a:solidFill>
                  <a:srgbClr val="000000"/>
                </a:solidFill>
                <a:latin typeface="Arial Black"/>
              </a:rPr>
              <a:t>meson </a:t>
            </a:r>
            <a:r>
              <a:rPr b="0" i="1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ja-JP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ja-JP" sz="2400" spc="-1" strike="noStrike">
                <a:solidFill>
                  <a:srgbClr val="ff0000"/>
                </a:solidFill>
                <a:latin typeface="Arial Black"/>
              </a:rPr>
              <a:t>Partonic degrees of freedom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ydro. mass ordering for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lt; 2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or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gt; 2 GeV/c,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 prefer quark composition no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ydro + Nquark scaling works for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meson as well as other had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 Black"/>
              </a:rPr>
              <a:t>Heavy flavor electron </a:t>
            </a:r>
            <a:r>
              <a:rPr b="0" i="1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ja-JP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ja-JP" sz="2400" spc="-1" strike="noStrike">
                <a:solidFill>
                  <a:srgbClr val="ff0000"/>
                </a:solidFill>
                <a:latin typeface="Arial Black"/>
              </a:rPr>
              <a:t>Thermalization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nsistent with non-zero charm flow, suggest thermalization of c quark as well as light qu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ottom contribution at 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need to be studied experiment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 Black"/>
              </a:rPr>
              <a:t>Direct </a:t>
            </a:r>
            <a:r>
              <a:rPr b="0" i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ja-JP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ja-JP" sz="2400" spc="-1" strike="noStrike">
                <a:solidFill>
                  <a:srgbClr val="000000"/>
                </a:solidFill>
                <a:latin typeface="Arial Black"/>
              </a:rPr>
              <a:t> Coming soon …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direct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0, consistent with the scenario of direct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production from initial hard scat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Year-4 data may enable us to reduce statistical error bars, and extend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ach, and to measure thermal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166-F357-4CB8-84EC-E0A464FA88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042920" y="803160"/>
            <a:ext cx="7129440" cy="56502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779C-E586-41C6-89A5-A9A078D334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H="1">
            <a:off x="1203840" y="3770640"/>
            <a:ext cx="2113200" cy="226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78680" y="965520"/>
            <a:ext cx="2113200" cy="226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y Elliptic Flow ?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26240" y="709560"/>
            <a:ext cx="3900960" cy="2548080"/>
            <a:chOff x="426240" y="709560"/>
            <a:chExt cx="3900960" cy="2548080"/>
          </a:xfrm>
        </p:grpSpPr>
        <p:sp>
          <p:nvSpPr>
            <p:cNvPr id="105" name=""/>
            <p:cNvSpPr/>
            <p:nvPr/>
          </p:nvSpPr>
          <p:spPr>
            <a:xfrm rot="11343000">
              <a:off x="3445920" y="809640"/>
              <a:ext cx="401400" cy="34776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221840" y="925920"/>
              <a:ext cx="848520" cy="908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556640" y="976680"/>
              <a:ext cx="831960" cy="894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93960" y="1116720"/>
              <a:ext cx="2257560" cy="359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71120" y="2174400"/>
              <a:ext cx="158652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3000">
              <a:off x="561600" y="982440"/>
              <a:ext cx="3630600" cy="2001960"/>
            </a:xfrm>
            <a:prstGeom prst="parallelogram">
              <a:avLst>
                <a:gd name="adj" fmla="val 67285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26240" y="2305800"/>
              <a:ext cx="355320" cy="383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677240" y="1027800"/>
              <a:ext cx="1031400" cy="1107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 rot="11343000">
              <a:off x="1598040" y="2024640"/>
              <a:ext cx="282600" cy="803520"/>
            </a:xfrm>
            <a:custGeom>
              <a:avLst/>
              <a:gdLst/>
              <a:ahLst/>
              <a:rect l="l" t="t" r="r" b="b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379880" y="2020320"/>
              <a:ext cx="759240" cy="8128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2645640" y="857160"/>
              <a:ext cx="1289520" cy="1285200"/>
              <a:chOff x="2645640" y="857160"/>
              <a:chExt cx="1289520" cy="128520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2645640" y="857160"/>
                <a:ext cx="1289520" cy="1285200"/>
                <a:chOff x="2645640" y="857160"/>
                <a:chExt cx="1289520" cy="1285200"/>
              </a:xfrm>
            </p:grpSpPr>
            <p:sp>
              <p:nvSpPr>
                <p:cNvPr id="117" name=""/>
                <p:cNvSpPr/>
                <p:nvPr/>
              </p:nvSpPr>
              <p:spPr>
                <a:xfrm rot="543000">
                  <a:off x="2754000" y="937800"/>
                  <a:ext cx="1100880" cy="110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543000">
                  <a:off x="2754360" y="936720"/>
                  <a:ext cx="1100880" cy="110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543000">
                  <a:off x="2691000" y="1382400"/>
                  <a:ext cx="1152360" cy="673560"/>
                </a:xfrm>
                <a:custGeom>
                  <a:avLst/>
                  <a:gdLst/>
                  <a:ahLst/>
                  <a:rect l="l" t="t" r="r" b="b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543000">
                  <a:off x="2743560" y="1412280"/>
                  <a:ext cx="1099080" cy="2880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 rot="543000">
                <a:off x="2752560" y="1025640"/>
                <a:ext cx="282240" cy="80316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086920" y="923760"/>
              <a:ext cx="929880" cy="1483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91120" y="1195920"/>
              <a:ext cx="667800" cy="106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12880" y="1304640"/>
              <a:ext cx="132336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601720" y="1433880"/>
              <a:ext cx="446040" cy="4784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36120" y="1496520"/>
              <a:ext cx="2260800" cy="360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383120" y="1072440"/>
              <a:ext cx="1635480" cy="1758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57920" y="1686960"/>
              <a:ext cx="226044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961280" y="1378440"/>
              <a:ext cx="714960" cy="1180440"/>
              <a:chOff x="1961280" y="1378440"/>
              <a:chExt cx="714960" cy="1180440"/>
            </a:xfrm>
          </p:grpSpPr>
          <p:sp>
            <p:nvSpPr>
              <p:cNvPr id="130" name=""/>
              <p:cNvSpPr/>
              <p:nvPr/>
            </p:nvSpPr>
            <p:spPr>
              <a:xfrm rot="543000">
                <a:off x="2044800" y="1415520"/>
                <a:ext cx="547920" cy="1103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3000">
                <a:off x="2003040" y="1939320"/>
                <a:ext cx="549360" cy="57960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543000">
                <a:off x="2038320" y="1945080"/>
                <a:ext cx="546120" cy="12348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543000">
                <a:off x="2044800" y="1414440"/>
                <a:ext cx="547920" cy="1103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>
              <a:off x="2352600" y="166824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035440" y="1691640"/>
              <a:ext cx="1157400" cy="12430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99760" y="2070000"/>
              <a:ext cx="1039320" cy="165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697040" y="2054160"/>
              <a:ext cx="776160" cy="834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949400" y="2018880"/>
              <a:ext cx="190080" cy="20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5840" y="1950120"/>
              <a:ext cx="528480" cy="8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685080" y="1737000"/>
              <a:ext cx="1280160" cy="1287360"/>
              <a:chOff x="685080" y="1737000"/>
              <a:chExt cx="1280160" cy="1287360"/>
            </a:xfrm>
          </p:grpSpPr>
          <p:sp>
            <p:nvSpPr>
              <p:cNvPr id="141" name=""/>
              <p:cNvSpPr/>
              <p:nvPr/>
            </p:nvSpPr>
            <p:spPr>
              <a:xfrm rot="543000">
                <a:off x="783720" y="1818000"/>
                <a:ext cx="1101600" cy="110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543000">
                <a:off x="781200" y="1816560"/>
                <a:ext cx="1101600" cy="1101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543000">
                <a:off x="730080" y="2271600"/>
                <a:ext cx="1141560" cy="666720"/>
              </a:xfrm>
              <a:custGeom>
                <a:avLst/>
                <a:gdLst/>
                <a:ahLst/>
                <a:rect l="l" t="t" r="r" b="b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 rot="11343000">
                <a:off x="1600560" y="2016360"/>
                <a:ext cx="283680" cy="80352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543000">
                <a:off x="1575000" y="1994400"/>
                <a:ext cx="127800" cy="81828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543000">
                <a:off x="766800" y="2363400"/>
                <a:ext cx="887040" cy="200160"/>
              </a:xfrm>
              <a:custGeom>
                <a:avLst/>
                <a:gdLst/>
                <a:ahLst/>
                <a:rect l="l" t="t" r="r" b="b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flipH="1">
              <a:off x="1688400" y="1792080"/>
              <a:ext cx="308880" cy="331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69320" y="2175480"/>
              <a:ext cx="140004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3000">
              <a:off x="1490760" y="2692440"/>
              <a:ext cx="1422360" cy="324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8200" y="2384280"/>
              <a:ext cx="148140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376640" y="2209320"/>
              <a:ext cx="583920" cy="628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069920" y="2583000"/>
              <a:ext cx="191880" cy="206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55280" y="2485800"/>
              <a:ext cx="227880" cy="248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0880" y="2693520"/>
              <a:ext cx="2210760" cy="35244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3000">
              <a:off x="806040" y="2550960"/>
              <a:ext cx="401760" cy="34596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78320" y="1562040"/>
              <a:ext cx="1308240" cy="475920"/>
              <a:chOff x="1678320" y="1562040"/>
              <a:chExt cx="1308240" cy="475920"/>
            </a:xfrm>
          </p:grpSpPr>
          <p:sp>
            <p:nvSpPr>
              <p:cNvPr id="157" name=""/>
              <p:cNvSpPr/>
              <p:nvPr/>
            </p:nvSpPr>
            <p:spPr>
              <a:xfrm flipV="1">
                <a:off x="2406960" y="1707120"/>
                <a:ext cx="96120" cy="101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2551320" y="1677600"/>
                <a:ext cx="230400" cy="138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2625840" y="1896120"/>
                <a:ext cx="332640" cy="33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613960" y="2001960"/>
                <a:ext cx="372600" cy="36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1861200" y="1562040"/>
                <a:ext cx="308880" cy="189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730160" y="1715400"/>
                <a:ext cx="345240" cy="141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1678320" y="1883160"/>
                <a:ext cx="318600" cy="56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1980720" y="1873440"/>
                <a:ext cx="225720" cy="59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2029320" y="1737360"/>
                <a:ext cx="193320" cy="91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2244600" y="1693440"/>
                <a:ext cx="61560" cy="986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480760" y="1824120"/>
                <a:ext cx="146880" cy="2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455200" y="1932120"/>
                <a:ext cx="23184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>
                <a:off x="2183040" y="1848600"/>
                <a:ext cx="121320" cy="59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1652040" y="2064240"/>
              <a:ext cx="1278000" cy="465120"/>
              <a:chOff x="1652040" y="2064240"/>
              <a:chExt cx="1278000" cy="465120"/>
            </a:xfrm>
          </p:grpSpPr>
          <p:sp>
            <p:nvSpPr>
              <p:cNvPr id="171" name=""/>
              <p:cNvSpPr/>
              <p:nvPr/>
            </p:nvSpPr>
            <p:spPr>
              <a:xfrm flipH="1">
                <a:off x="2096280" y="2237040"/>
                <a:ext cx="108360" cy="1360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1826640" y="2271960"/>
                <a:ext cx="230760" cy="140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1652040" y="2159280"/>
                <a:ext cx="331200" cy="33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1750680" y="2064240"/>
                <a:ext cx="245520" cy="21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39360" y="2338560"/>
                <a:ext cx="30924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32600" y="2232000"/>
                <a:ext cx="345240" cy="141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612520" y="2148120"/>
                <a:ext cx="317520" cy="56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03360" y="2156400"/>
                <a:ext cx="225360" cy="59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86800" y="2259720"/>
                <a:ext cx="193680" cy="914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304000" y="2295720"/>
                <a:ext cx="61560" cy="1004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1981080" y="2239920"/>
                <a:ext cx="147240" cy="255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>
                <a:off x="1924200" y="2134080"/>
                <a:ext cx="230040" cy="21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04000" y="2180160"/>
                <a:ext cx="121320" cy="59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651240" y="2449080"/>
              <a:ext cx="36684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93240" y="1620000"/>
              <a:ext cx="275760" cy="43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852000" y="1225800"/>
              <a:ext cx="139680" cy="152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00720" y="836640"/>
            <a:ext cx="4464000" cy="44640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tudy the properties of matter created at RHIC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The probe for early time</a:t>
            </a:r>
            <a:endParaRPr b="0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nse nuclear overlap is ellipsoid at the beginning of heavy i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 gradient is largest in the shortest direction of the ellips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anisotrop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mentum aniso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s self-quenching wit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tic flow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defined by 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 of Fourier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8639000">
            <a:off x="2897640" y="194184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ction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569320" y="783720"/>
            <a:ext cx="490320" cy="52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56080" y="3033000"/>
            <a:ext cx="642600" cy="9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68840" y="3065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93800" y="685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674440" y="2518560"/>
            <a:ext cx="2520" cy="509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2160" y="249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62000" y="3357720"/>
            <a:ext cx="485640" cy="647640"/>
          </a:xfrm>
          <a:prstGeom prst="downArrow">
            <a:avLst>
              <a:gd name="adj1" fmla="val 39213"/>
              <a:gd name="adj2" fmla="val 408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5200" y="471816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5701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19280" y="356724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65760" y="3524040"/>
            <a:ext cx="3901320" cy="2748240"/>
            <a:chOff x="365760" y="3524040"/>
            <a:chExt cx="3901320" cy="2748240"/>
          </a:xfrm>
        </p:grpSpPr>
        <p:sp>
          <p:nvSpPr>
            <p:cNvPr id="200" name=""/>
            <p:cNvSpPr/>
            <p:nvPr/>
          </p:nvSpPr>
          <p:spPr>
            <a:xfrm>
              <a:off x="1297080" y="4701600"/>
              <a:ext cx="226044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664720" y="427932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382120" y="4192200"/>
              <a:ext cx="1227960" cy="1319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045520" y="413964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75440" y="4464720"/>
              <a:ext cx="132336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39240" y="5082480"/>
              <a:ext cx="139968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74240" y="4706280"/>
              <a:ext cx="1158120" cy="124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161360" y="3939480"/>
              <a:ext cx="848520" cy="907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496160" y="3990600"/>
              <a:ext cx="832320" cy="89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33840" y="4130280"/>
              <a:ext cx="2257200" cy="359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543000">
              <a:off x="501480" y="3997080"/>
              <a:ext cx="3630600" cy="2001960"/>
            </a:xfrm>
            <a:prstGeom prst="parallelogram">
              <a:avLst>
                <a:gd name="adj" fmla="val 67285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365760" y="5319720"/>
              <a:ext cx="355320" cy="383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616040" y="4041360"/>
              <a:ext cx="1031760" cy="1107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318320" y="5034600"/>
              <a:ext cx="759960" cy="8128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26800" y="3937320"/>
              <a:ext cx="929880" cy="1483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29920" y="4209120"/>
              <a:ext cx="667800" cy="106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51320" y="4318920"/>
              <a:ext cx="132336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540520" y="4446720"/>
              <a:ext cx="446040" cy="478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74920" y="4510800"/>
              <a:ext cx="226044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321200" y="4086360"/>
              <a:ext cx="1635480" cy="1758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291760" y="468252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887840" y="5033160"/>
              <a:ext cx="190080" cy="20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75000" y="4963320"/>
              <a:ext cx="528480" cy="8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627560" y="4805280"/>
              <a:ext cx="308520" cy="331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07760" y="5189040"/>
              <a:ext cx="139968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3000">
              <a:off x="936720" y="5663880"/>
              <a:ext cx="1922400" cy="288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57360" y="5398200"/>
              <a:ext cx="148140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008360" y="5596920"/>
              <a:ext cx="191520" cy="205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91560" y="5496480"/>
              <a:ext cx="229320" cy="248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9320" y="5707080"/>
              <a:ext cx="2210400" cy="3520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680" y="5461920"/>
              <a:ext cx="36720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32400" y="4633920"/>
              <a:ext cx="275760" cy="43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790440" y="4239000"/>
              <a:ext cx="140040" cy="153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71800">
              <a:off x="1395000" y="4363560"/>
              <a:ext cx="1944720" cy="961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636200" y="5067360"/>
              <a:ext cx="776160" cy="83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4720" y="5272920"/>
              <a:ext cx="148140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1371800">
              <a:off x="1045800" y="3748680"/>
              <a:ext cx="2817000" cy="124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57" y="2880"/>
                  </a:moveTo>
                  <a:arcTo wR="10800" hR="10800" stAng="-7970201" swAng="5200149"/>
                  <a:lnTo>
                    <a:pt x="10800" y="10800"/>
                  </a:lnTo>
                  <a:close/>
                </a:path>
                <a:path fill="none" w="21600" h="21600">
                  <a:moveTo>
                    <a:pt x="3457" y="2880"/>
                  </a:moveTo>
                  <a:arcTo wR="10800" hR="10800" stAng="-7970201" swAng="520014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06520" y="4651200"/>
              <a:ext cx="1924200" cy="695520"/>
            </a:xfrm>
            <a:custGeom>
              <a:avLst/>
              <a:gdLst/>
              <a:ahLst/>
              <a:rect l="l" t="t" r="r" b="b"/>
              <a:pathLst>
                <a:path w="1212" h="438">
                  <a:moveTo>
                    <a:pt x="58" y="184"/>
                  </a:moveTo>
                  <a:cubicBezTo>
                    <a:pt x="69" y="195"/>
                    <a:pt x="60" y="192"/>
                    <a:pt x="108" y="234"/>
                  </a:cubicBezTo>
                  <a:cubicBezTo>
                    <a:pt x="157" y="271"/>
                    <a:pt x="130" y="252"/>
                    <a:pt x="163" y="276"/>
                  </a:cubicBezTo>
                  <a:cubicBezTo>
                    <a:pt x="200" y="299"/>
                    <a:pt x="211" y="307"/>
                    <a:pt x="244" y="322"/>
                  </a:cubicBezTo>
                  <a:cubicBezTo>
                    <a:pt x="276" y="337"/>
                    <a:pt x="318" y="355"/>
                    <a:pt x="334" y="361"/>
                  </a:cubicBezTo>
                  <a:cubicBezTo>
                    <a:pt x="354" y="369"/>
                    <a:pt x="374" y="375"/>
                    <a:pt x="394" y="382"/>
                  </a:cubicBezTo>
                  <a:cubicBezTo>
                    <a:pt x="415" y="390"/>
                    <a:pt x="445" y="396"/>
                    <a:pt x="471" y="405"/>
                  </a:cubicBezTo>
                  <a:cubicBezTo>
                    <a:pt x="516" y="411"/>
                    <a:pt x="505" y="411"/>
                    <a:pt x="526" y="414"/>
                  </a:cubicBezTo>
                  <a:cubicBezTo>
                    <a:pt x="555" y="420"/>
                    <a:pt x="559" y="421"/>
                    <a:pt x="579" y="424"/>
                  </a:cubicBezTo>
                  <a:cubicBezTo>
                    <a:pt x="615" y="429"/>
                    <a:pt x="637" y="433"/>
                    <a:pt x="658" y="433"/>
                  </a:cubicBezTo>
                  <a:cubicBezTo>
                    <a:pt x="697" y="438"/>
                    <a:pt x="717" y="435"/>
                    <a:pt x="730" y="436"/>
                  </a:cubicBezTo>
                  <a:cubicBezTo>
                    <a:pt x="774" y="436"/>
                    <a:pt x="763" y="438"/>
                    <a:pt x="792" y="436"/>
                  </a:cubicBezTo>
                  <a:cubicBezTo>
                    <a:pt x="828" y="435"/>
                    <a:pt x="849" y="433"/>
                    <a:pt x="871" y="430"/>
                  </a:cubicBezTo>
                  <a:cubicBezTo>
                    <a:pt x="934" y="420"/>
                    <a:pt x="915" y="424"/>
                    <a:pt x="940" y="418"/>
                  </a:cubicBezTo>
                  <a:cubicBezTo>
                    <a:pt x="987" y="406"/>
                    <a:pt x="985" y="408"/>
                    <a:pt x="1008" y="400"/>
                  </a:cubicBezTo>
                  <a:cubicBezTo>
                    <a:pt x="1054" y="385"/>
                    <a:pt x="1068" y="381"/>
                    <a:pt x="1090" y="367"/>
                  </a:cubicBezTo>
                  <a:cubicBezTo>
                    <a:pt x="1137" y="334"/>
                    <a:pt x="1142" y="336"/>
                    <a:pt x="1167" y="312"/>
                  </a:cubicBezTo>
                  <a:cubicBezTo>
                    <a:pt x="1191" y="281"/>
                    <a:pt x="1183" y="292"/>
                    <a:pt x="1195" y="271"/>
                  </a:cubicBezTo>
                  <a:cubicBezTo>
                    <a:pt x="1210" y="237"/>
                    <a:pt x="1201" y="259"/>
                    <a:pt x="1205" y="251"/>
                  </a:cubicBezTo>
                  <a:cubicBezTo>
                    <a:pt x="1206" y="236"/>
                    <a:pt x="1209" y="237"/>
                    <a:pt x="1212" y="207"/>
                  </a:cubicBezTo>
                  <a:cubicBezTo>
                    <a:pt x="1176" y="213"/>
                    <a:pt x="1163" y="217"/>
                    <a:pt x="1143" y="219"/>
                  </a:cubicBezTo>
                  <a:cubicBezTo>
                    <a:pt x="1134" y="222"/>
                    <a:pt x="1107" y="225"/>
                    <a:pt x="1107" y="225"/>
                  </a:cubicBezTo>
                  <a:cubicBezTo>
                    <a:pt x="1068" y="232"/>
                    <a:pt x="1054" y="231"/>
                    <a:pt x="1027" y="232"/>
                  </a:cubicBezTo>
                  <a:cubicBezTo>
                    <a:pt x="994" y="235"/>
                    <a:pt x="962" y="238"/>
                    <a:pt x="940" y="238"/>
                  </a:cubicBezTo>
                  <a:cubicBezTo>
                    <a:pt x="907" y="237"/>
                    <a:pt x="891" y="235"/>
                    <a:pt x="861" y="237"/>
                  </a:cubicBezTo>
                  <a:cubicBezTo>
                    <a:pt x="818" y="236"/>
                    <a:pt x="814" y="234"/>
                    <a:pt x="777" y="234"/>
                  </a:cubicBezTo>
                  <a:cubicBezTo>
                    <a:pt x="738" y="229"/>
                    <a:pt x="723" y="230"/>
                    <a:pt x="675" y="222"/>
                  </a:cubicBezTo>
                  <a:cubicBezTo>
                    <a:pt x="654" y="219"/>
                    <a:pt x="634" y="217"/>
                    <a:pt x="615" y="214"/>
                  </a:cubicBezTo>
                  <a:cubicBezTo>
                    <a:pt x="593" y="210"/>
                    <a:pt x="567" y="204"/>
                    <a:pt x="541" y="199"/>
                  </a:cubicBezTo>
                  <a:cubicBezTo>
                    <a:pt x="511" y="194"/>
                    <a:pt x="494" y="191"/>
                    <a:pt x="460" y="183"/>
                  </a:cubicBezTo>
                  <a:cubicBezTo>
                    <a:pt x="424" y="176"/>
                    <a:pt x="424" y="172"/>
                    <a:pt x="387" y="165"/>
                  </a:cubicBezTo>
                  <a:cubicBezTo>
                    <a:pt x="358" y="157"/>
                    <a:pt x="338" y="149"/>
                    <a:pt x="316" y="142"/>
                  </a:cubicBezTo>
                  <a:cubicBezTo>
                    <a:pt x="306" y="138"/>
                    <a:pt x="262" y="122"/>
                    <a:pt x="252" y="121"/>
                  </a:cubicBezTo>
                  <a:cubicBezTo>
                    <a:pt x="233" y="114"/>
                    <a:pt x="219" y="107"/>
                    <a:pt x="203" y="101"/>
                  </a:cubicBezTo>
                  <a:cubicBezTo>
                    <a:pt x="187" y="95"/>
                    <a:pt x="185" y="92"/>
                    <a:pt x="169" y="87"/>
                  </a:cubicBezTo>
                  <a:cubicBezTo>
                    <a:pt x="154" y="81"/>
                    <a:pt x="138" y="73"/>
                    <a:pt x="123" y="64"/>
                  </a:cubicBezTo>
                  <a:cubicBezTo>
                    <a:pt x="106" y="55"/>
                    <a:pt x="86" y="46"/>
                    <a:pt x="70" y="36"/>
                  </a:cubicBezTo>
                  <a:cubicBezTo>
                    <a:pt x="59" y="29"/>
                    <a:pt x="40" y="21"/>
                    <a:pt x="29" y="15"/>
                  </a:cubicBezTo>
                  <a:cubicBezTo>
                    <a:pt x="27" y="14"/>
                    <a:pt x="6" y="0"/>
                    <a:pt x="7" y="1"/>
                  </a:cubicBezTo>
                  <a:cubicBezTo>
                    <a:pt x="5" y="12"/>
                    <a:pt x="1" y="15"/>
                    <a:pt x="0" y="45"/>
                  </a:cubicBezTo>
                  <a:cubicBezTo>
                    <a:pt x="0" y="73"/>
                    <a:pt x="1" y="77"/>
                    <a:pt x="10" y="106"/>
                  </a:cubicBezTo>
                  <a:cubicBezTo>
                    <a:pt x="27" y="139"/>
                    <a:pt x="40" y="163"/>
                    <a:pt x="57" y="183"/>
                  </a:cubicBezTo>
                </a:path>
              </a:pathLst>
            </a:custGeom>
            <a:solidFill>
              <a:srgbClr val="ffffff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1508760" y="4949640"/>
              <a:ext cx="642240" cy="691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045080" y="4869720"/>
              <a:ext cx="830880" cy="894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38360" y="4758480"/>
              <a:ext cx="87120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694880" y="5004000"/>
              <a:ext cx="776160" cy="83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055240" y="5029200"/>
              <a:ext cx="776160" cy="834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38560" y="5084280"/>
              <a:ext cx="1039680" cy="165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18160" y="4889880"/>
              <a:ext cx="158652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81600" y="4700160"/>
              <a:ext cx="319680" cy="52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07600" y="5005440"/>
              <a:ext cx="35532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323440" y="5002920"/>
              <a:ext cx="896040" cy="963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10280" y="5188320"/>
              <a:ext cx="158652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828160" y="4452480"/>
              <a:ext cx="820800" cy="491040"/>
              <a:chOff x="2828160" y="4452480"/>
              <a:chExt cx="820800" cy="491040"/>
            </a:xfrm>
          </p:grpSpPr>
          <p:sp>
            <p:nvSpPr>
              <p:cNvPr id="250" name=""/>
              <p:cNvSpPr/>
              <p:nvPr/>
            </p:nvSpPr>
            <p:spPr>
              <a:xfrm flipV="1">
                <a:off x="2828160" y="4541760"/>
                <a:ext cx="96480" cy="102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3048120" y="4452480"/>
                <a:ext cx="231120" cy="138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3163680" y="4695840"/>
                <a:ext cx="333360" cy="32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76720" y="4908600"/>
                <a:ext cx="372240" cy="349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917800" y="4683960"/>
                <a:ext cx="145440" cy="2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900520" y="4848480"/>
                <a:ext cx="23112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175760" y="4265280"/>
              <a:ext cx="932760" cy="403920"/>
              <a:chOff x="1175760" y="4265280"/>
              <a:chExt cx="932760" cy="403920"/>
            </a:xfrm>
          </p:grpSpPr>
          <p:sp>
            <p:nvSpPr>
              <p:cNvPr id="257" name=""/>
              <p:cNvSpPr/>
              <p:nvPr/>
            </p:nvSpPr>
            <p:spPr>
              <a:xfrm flipH="1" flipV="1">
                <a:off x="1474560" y="4265280"/>
                <a:ext cx="309240" cy="190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1255320" y="4393080"/>
                <a:ext cx="345600" cy="1418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1175760" y="4552560"/>
                <a:ext cx="318960" cy="57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1592280" y="4609440"/>
                <a:ext cx="225360" cy="597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flipV="1">
                <a:off x="1826640" y="4346280"/>
                <a:ext cx="192600" cy="91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2045880" y="4267800"/>
                <a:ext cx="62640" cy="997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1824840" y="4528080"/>
                <a:ext cx="122400" cy="601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1252080" y="4787280"/>
              <a:ext cx="484560" cy="432000"/>
              <a:chOff x="1252080" y="4787280"/>
              <a:chExt cx="484560" cy="43200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1629720" y="5083560"/>
                <a:ext cx="106920" cy="1357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1424160" y="5021640"/>
                <a:ext cx="229680" cy="140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1277640" y="4946400"/>
                <a:ext cx="331560" cy="32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flipV="1">
                <a:off x="1252080" y="4787280"/>
                <a:ext cx="245880" cy="216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1570320" y="4969080"/>
                <a:ext cx="146880" cy="24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1425600" y="4856760"/>
                <a:ext cx="230760" cy="223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696760" y="5117040"/>
              <a:ext cx="784440" cy="351720"/>
              <a:chOff x="2696760" y="5117040"/>
              <a:chExt cx="784440" cy="351720"/>
            </a:xfrm>
          </p:grpSpPr>
          <p:sp>
            <p:nvSpPr>
              <p:cNvPr id="272" name=""/>
              <p:cNvSpPr/>
              <p:nvPr/>
            </p:nvSpPr>
            <p:spPr>
              <a:xfrm>
                <a:off x="2802240" y="5277960"/>
                <a:ext cx="30888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985480" y="5202360"/>
                <a:ext cx="345600" cy="1418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64040" y="5133240"/>
                <a:ext cx="317160" cy="565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94040" y="5117040"/>
                <a:ext cx="226800" cy="60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80280" y="5214600"/>
                <a:ext cx="194040" cy="92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96760" y="5297400"/>
                <a:ext cx="61200" cy="101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68760" y="5149080"/>
                <a:ext cx="122040" cy="59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3230280" y="5020200"/>
            <a:ext cx="898200" cy="122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381040" y="3784320"/>
            <a:ext cx="3600" cy="705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952000" y="3634920"/>
            <a:ext cx="490320" cy="52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24320" y="5445000"/>
            <a:ext cx="5611680" cy="943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83" name=""/>
          <p:cNvSpPr/>
          <p:nvPr/>
        </p:nvSpPr>
        <p:spPr>
          <a:xfrm>
            <a:off x="7392960" y="5541840"/>
            <a:ext cx="36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CF9-DB43-4DAC-8D4C-9DD24900B0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35120" y="2563920"/>
            <a:ext cx="8229600" cy="12967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Back up</a:t>
            </a:r>
            <a:endParaRPr b="1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9134-B8E6-4FCD-BA12-8C4A96AEDA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26960" y="2611440"/>
            <a:ext cx="4535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26960" y="1674720"/>
            <a:ext cx="4535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onverter Subtraction method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050920" y="764640"/>
            <a:ext cx="0" cy="45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353880" y="4795920"/>
            <a:ext cx="45370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626840" y="6145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48960" y="49338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547640" y="764640"/>
            <a:ext cx="0" cy="4535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671920" y="764640"/>
            <a:ext cx="0" cy="4535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174840" y="764640"/>
            <a:ext cx="0" cy="4535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4111560" y="764640"/>
            <a:ext cx="0" cy="4535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096920" y="4221000"/>
            <a:ext cx="3433680" cy="576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Non-photonic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00680" y="3476520"/>
            <a:ext cx="150624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alitz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0.8 % X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34240" y="3357720"/>
            <a:ext cx="237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Conversion from beam pi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13480" y="2836800"/>
            <a:ext cx="1293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/o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632760" y="2044800"/>
            <a:ext cx="133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1487520" y="1068480"/>
            <a:ext cx="3207240" cy="320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014720" y="1576440"/>
            <a:ext cx="184320" cy="1839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014720" y="1576440"/>
            <a:ext cx="184320" cy="183960"/>
          </a:xfrm>
          <a:prstGeom prst="ellipse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78000" y="2523960"/>
            <a:ext cx="184320" cy="1843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078000" y="2523960"/>
            <a:ext cx="184320" cy="184320"/>
          </a:xfrm>
          <a:prstGeom prst="ellipse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85880" y="3016080"/>
            <a:ext cx="184320" cy="1843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585880" y="3016080"/>
            <a:ext cx="184320" cy="184320"/>
          </a:xfrm>
          <a:prstGeom prst="ellipse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69920" y="3605040"/>
            <a:ext cx="184320" cy="1843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969920" y="3605040"/>
            <a:ext cx="184320" cy="184320"/>
          </a:xfrm>
          <a:prstGeom prst="ellipse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547640" y="148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65800" y="4791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547640" y="4222800"/>
            <a:ext cx="0" cy="57456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02640" y="11239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052720" y="1484280"/>
            <a:ext cx="61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12120" y="11239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664000" y="148428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688480" y="112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03640" y="148428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407400" y="11239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4932360" y="765000"/>
            <a:ext cx="1730520" cy="223236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692760" y="920880"/>
            <a:ext cx="2416320" cy="17874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4945680" y="3097080"/>
            <a:ext cx="40561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ton Converter (Brass 1.7 %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ar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m pi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5435640" y="3728880"/>
            <a:ext cx="3313080" cy="26528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484" name=""/>
          <p:cNvSpPr/>
          <p:nvPr/>
        </p:nvSpPr>
        <p:spPr>
          <a:xfrm>
            <a:off x="539640" y="5229360"/>
            <a:ext cx="3168720" cy="11890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Source of backgroun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c16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Photon conversion </a:t>
            </a:r>
            <a:r>
              <a:rPr b="0" lang="ja-JP" sz="1200" spc="-1" strike="noStrike">
                <a:solidFill>
                  <a:srgbClr val="fc1604"/>
                </a:solidFill>
                <a:latin typeface="Symbol"/>
                <a:ea typeface="Symbol"/>
              </a:rPr>
              <a:t></a:t>
            </a:r>
            <a:r>
              <a:rPr b="0" lang="ja-JP" sz="1200" spc="-1" strike="noStrike" baseline="30000">
                <a:solidFill>
                  <a:srgbClr val="fc1604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fc1604"/>
                </a:solidFill>
                <a:latin typeface="Wingdings"/>
                <a:ea typeface="Wingdings"/>
              </a:rPr>
              <a:t>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fc1604"/>
                </a:solidFill>
                <a:latin typeface="Symbol"/>
                <a:ea typeface="Symbol"/>
              </a:rPr>
              <a:t>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fc1604"/>
                </a:solidFill>
                <a:latin typeface="Symbol"/>
                <a:ea typeface="Symbol"/>
              </a:rPr>
              <a:t>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fc1604"/>
                </a:solidFill>
                <a:latin typeface="Wingdings"/>
                <a:ea typeface="Wingdings"/>
              </a:rPr>
              <a:t>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 e</a:t>
            </a:r>
            <a:r>
              <a:rPr b="0" lang="ja-JP" sz="1200" spc="-1" strike="noStrike" baseline="30000">
                <a:solidFill>
                  <a:srgbClr val="fc1604"/>
                </a:solidFill>
                <a:latin typeface="Arial"/>
              </a:rPr>
              <a:t>+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e</a:t>
            </a:r>
            <a:r>
              <a:rPr b="0" lang="ja-JP" sz="1200" spc="-1" strike="noStrike" baseline="30000">
                <a:solidFill>
                  <a:srgbClr val="fc1604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c16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Dalitz decay (</a:t>
            </a:r>
            <a:r>
              <a:rPr b="0" lang="ja-JP" sz="1200" spc="-1" strike="noStrike">
                <a:solidFill>
                  <a:srgbClr val="fc1604"/>
                </a:solidFill>
                <a:latin typeface="Symbol"/>
                <a:ea typeface="Symbol"/>
              </a:rPr>
              <a:t></a:t>
            </a:r>
            <a:r>
              <a:rPr b="0" lang="ja-JP" sz="1200" spc="-1" strike="noStrike" baseline="30000">
                <a:solidFill>
                  <a:srgbClr val="fc1604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fc1604"/>
                </a:solidFill>
                <a:latin typeface="Wingdings"/>
                <a:ea typeface="Wingdings"/>
              </a:rPr>
              <a:t>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ee</a:t>
            </a:r>
            <a:r>
              <a:rPr b="0" lang="ja-JP" sz="1200" spc="-1" strike="noStrike">
                <a:solidFill>
                  <a:srgbClr val="fc1604"/>
                </a:solidFill>
                <a:latin typeface="Symbol"/>
                <a:ea typeface="Symbol"/>
              </a:rPr>
              <a:t>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, </a:t>
            </a:r>
            <a:r>
              <a:rPr b="0" lang="ja-JP" sz="1200" spc="-1" strike="noStrike">
                <a:solidFill>
                  <a:srgbClr val="fc1604"/>
                </a:solidFill>
                <a:latin typeface="Symbol"/>
                <a:ea typeface="Symbol"/>
              </a:rPr>
              <a:t>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fc1604"/>
                </a:solidFill>
                <a:latin typeface="Wingdings"/>
                <a:ea typeface="Wingdings"/>
              </a:rPr>
              <a:t>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ee</a:t>
            </a:r>
            <a:r>
              <a:rPr b="0" lang="ja-JP" sz="1200" spc="-1" strike="noStrike">
                <a:solidFill>
                  <a:srgbClr val="fc1604"/>
                </a:solidFill>
                <a:latin typeface="Symbol"/>
                <a:ea typeface="Symbol"/>
              </a:rPr>
              <a:t>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c16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Di-electron decays of </a:t>
            </a:r>
            <a:r>
              <a:rPr b="0" lang="ja-JP" sz="1200" spc="-1" strike="noStrike">
                <a:solidFill>
                  <a:srgbClr val="fc1604"/>
                </a:solidFill>
                <a:latin typeface="Symbol"/>
                <a:ea typeface="Symbol"/>
              </a:rPr>
              <a:t>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, </a:t>
            </a:r>
            <a:r>
              <a:rPr b="0" lang="ja-JP" sz="1200" spc="-1" strike="noStrike">
                <a:solidFill>
                  <a:srgbClr val="fc1604"/>
                </a:solidFill>
                <a:latin typeface="Symbol"/>
                <a:ea typeface="Symbol"/>
              </a:rPr>
              <a:t>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, </a:t>
            </a:r>
            <a:r>
              <a:rPr b="0" lang="ja-JP" sz="1200" spc="-1" strike="noStrike">
                <a:solidFill>
                  <a:srgbClr val="fc1604"/>
                </a:solidFill>
                <a:latin typeface="Symbol"/>
                <a:ea typeface="Symbol"/>
              </a:rPr>
              <a:t>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c16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Kaon dec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c16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fc1604"/>
                </a:solidFill>
                <a:latin typeface="Arial"/>
              </a:rPr>
              <a:t>Conversion of direct ph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1547640" y="1700280"/>
            <a:ext cx="0" cy="2520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447920" y="4121280"/>
            <a:ext cx="183960" cy="1839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4121280"/>
            <a:ext cx="183960" cy="183960"/>
          </a:xfrm>
          <a:prstGeom prst="ellipse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0760" y="2355840"/>
            <a:ext cx="1067760" cy="642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1604"/>
                </a:solidFill>
                <a:latin typeface="Arial"/>
              </a:rPr>
              <a:t>Phot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1604"/>
                </a:solidFill>
                <a:latin typeface="Arial"/>
              </a:rPr>
              <a:t>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6B9-E632-4635-BB2E-E85D185478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4859280" cy="34560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"/>
          <a:srcRect l="0" t="0" r="0" b="67359"/>
          <a:stretch/>
        </p:blipFill>
        <p:spPr>
          <a:xfrm>
            <a:off x="324000" y="981000"/>
            <a:ext cx="4533840" cy="170676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Inclusive electron 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(w., w/o. converter)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932000" y="980640"/>
            <a:ext cx="4032360" cy="532764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Converter subtraction method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sive electron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. and w/o. conver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difference between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v2 with converter include large photonic compo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rcRect l="0" t="93232" r="0" b="0"/>
          <a:stretch/>
        </p:blipFill>
        <p:spPr>
          <a:xfrm>
            <a:off x="324000" y="2662200"/>
            <a:ext cx="4533840" cy="3538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399960" y="2629080"/>
            <a:ext cx="57636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D9F-2E99-4F55-8F94-27024CDDF5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 Black"/>
              </a:rPr>
              <a:t>Inclusive &amp; photonic electron v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500720" cy="32400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476360" y="1916280"/>
            <a:ext cx="295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clusive e v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(w/o. conver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476360" y="155736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nic e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32000" y="980640"/>
            <a:ext cx="4032360" cy="532764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Photonic electron 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1 GeV/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e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1 GeV/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clusive) &lt;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hoton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n-photonic) &lt;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hoton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16000" y="17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116000" y="206064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87F-2E30-40B7-974F-2E615FD880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entrality dependence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rcRect l="0" t="1731" r="0" b="0"/>
          <a:stretch/>
        </p:blipFill>
        <p:spPr>
          <a:xfrm>
            <a:off x="324000" y="981000"/>
            <a:ext cx="8820000" cy="414504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90400" y="5266800"/>
            <a:ext cx="8229600" cy="10414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Non zero heavy flavor electron 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 !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7BA-B3C1-487C-A22E-445F0E1483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Run4 inclusive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v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84360" y="858960"/>
            <a:ext cx="7941960" cy="5522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07" name=""/>
          <p:cNvSpPr/>
          <p:nvPr/>
        </p:nvSpPr>
        <p:spPr>
          <a:xfrm>
            <a:off x="2743200" y="137160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743200" y="11430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25640" y="95724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11960" y="1170000"/>
            <a:ext cx="137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59360" y="10270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136000" y="602136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48E4-A514-4882-AB8D-93FE0D07DB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ndependent on system size 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rcRect l="7654" t="2842" r="18949" b="0"/>
          <a:stretch/>
        </p:blipFill>
        <p:spPr>
          <a:xfrm>
            <a:off x="395280" y="692280"/>
            <a:ext cx="3456000" cy="488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5" name=""/>
          <p:cNvGraphicFramePr/>
          <p:nvPr/>
        </p:nvGraphicFramePr>
        <p:xfrm>
          <a:off x="4572000" y="981000"/>
          <a:ext cx="4038480" cy="267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981000"/>
                    <a:ext cx="40384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062240" y="3716280"/>
            <a:ext cx="4902480" cy="266544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Eccentricity scaling</a:t>
            </a:r>
            <a:endParaRPr b="0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de range of centr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of system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Integrated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eccentricity</a:t>
            </a:r>
            <a:endParaRPr b="0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systematic error from eccentricity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l systematic error by the ratio of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(integrated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92880" y="62064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 Black"/>
              </a:rPr>
              <a:t>Eccentricity sc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E86-8F7C-4FA8-A790-B58F1AD5B5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ff"/>
                </a:solidFill>
                <a:latin typeface="Arial Black"/>
              </a:rPr>
              <a:t>Hadron identification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4697280" y="982800"/>
            <a:ext cx="4338720" cy="29574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3384360" cy="32464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572000" y="907920"/>
            <a:ext cx="0" cy="5257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6560" y="4221000"/>
            <a:ext cx="3889440" cy="16560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Arial Black"/>
              </a:rPr>
              <a:t>Time-of-flight</a:t>
            </a:r>
            <a:endParaRPr b="0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 &lt;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4, |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 &lt;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iming resolution ~ 120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K separation ~ 2 GeV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/p separation ~ 4 GeV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03640" y="4221000"/>
            <a:ext cx="3889440" cy="16560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Arial Black"/>
              </a:rPr>
              <a:t>EM Calori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 &lt;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2, |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 &lt;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iming resolution ~ 400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K separation ~ 1 GeV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/p separation ~ 2 GeV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9F1-94C3-40CE-9BC1-CBD77495F9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The PHENIX experiment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rcRect l="0" t="0" r="0" b="46862"/>
          <a:stretch/>
        </p:blipFill>
        <p:spPr>
          <a:xfrm>
            <a:off x="395280" y="765000"/>
            <a:ext cx="4392720" cy="292608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32360" y="907920"/>
            <a:ext cx="4114800" cy="54007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Arial Black"/>
              </a:rPr>
              <a:t>Acceptance</a:t>
            </a:r>
            <a:endParaRPr b="0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entral arm: |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 &lt;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|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 &lt;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Arial Black"/>
              </a:rPr>
              <a:t>Centrality</a:t>
            </a:r>
            <a:endParaRPr b="0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eam-Beam Counter, Zero Degree Calorim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Arial Black"/>
              </a:rPr>
              <a:t>Event plane</a:t>
            </a:r>
            <a:endParaRPr b="0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Arial Black"/>
              </a:rPr>
              <a:t>Tracking</a:t>
            </a:r>
            <a:endParaRPr b="0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rift chamber, Pad cha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Arial Black"/>
              </a:rPr>
              <a:t>Particle identification</a:t>
            </a:r>
            <a:endParaRPr b="0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lectro-Magnetic Calori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ad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ime-of-Flight, Aerogel Cherenkov Counter, EM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B11-6C98-4FFD-BE06-85565AC892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00720" y="4292640"/>
            <a:ext cx="4392360" cy="2087640"/>
          </a:xfrm>
          <a:prstGeom prst="flowChartAlternateProcess">
            <a:avLst/>
          </a:prstGeom>
          <a:solidFill>
            <a:srgbClr val="bbe0e3">
              <a:alpha val="8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9640" y="4292640"/>
            <a:ext cx="3529080" cy="2089080"/>
          </a:xfrm>
          <a:prstGeom prst="flowChartAlternateProcess">
            <a:avLst/>
          </a:prstGeom>
          <a:solidFill>
            <a:srgbClr val="bbe0e3">
              <a:alpha val="8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77960" y="3900600"/>
            <a:ext cx="7970760" cy="4651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Outline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3924" t="0" r="-2627" b="0"/>
          <a:stretch/>
        </p:blipFill>
        <p:spPr>
          <a:xfrm>
            <a:off x="395280" y="982800"/>
            <a:ext cx="8686800" cy="1719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84360" y="270972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8000" y="2684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92240" y="270972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4520" y="26226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31240" y="269388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06120" y="2622600"/>
            <a:ext cx="12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3745440" y="2672640"/>
            <a:ext cx="718920" cy="1657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00">
                  <a:alpha val="7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 Black"/>
              </a:rPr>
              <a:t>Elliptic Flow, v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333520" y="62064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ff0000"/>
                </a:solidFill>
                <a:latin typeface="Arial Black"/>
              </a:rPr>
              <a:t>par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83920" y="62064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 Black"/>
              </a:rPr>
              <a:t>had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13200" y="5073480"/>
            <a:ext cx="730080" cy="730440"/>
          </a:xfrm>
          <a:prstGeom prst="ellipse">
            <a:avLst/>
          </a:prstGeom>
          <a:solidFill>
            <a:srgbClr val="ffff99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24080" y="5157000"/>
            <a:ext cx="522720" cy="52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1560" y="4436640"/>
            <a:ext cx="339408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Elliptic Flow, v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Arial Black"/>
              </a:rPr>
              <a:t>2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k, early probe</a:t>
            </a:r>
            <a:endParaRPr b="0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d hadrons </a:t>
            </a:r>
            <a:endParaRPr b="0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us a base line</a:t>
            </a:r>
            <a:endParaRPr b="0" i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4788000" y="4444920"/>
            <a:ext cx="4176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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M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interaction cross section, long lived life time (~40 fm/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Penetrating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y flavor electrons (cha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02480" y="5182920"/>
            <a:ext cx="520920" cy="52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98680" y="388764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ff0000"/>
                </a:solidFill>
                <a:latin typeface="Arial Black"/>
              </a:rPr>
              <a:t>Partonic degrees of freedom, Thermalization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D75-5B76-4DA4-8394-D9C912FEAD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Baseline : charged hadrons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6200" y="4374720"/>
            <a:ext cx="8426520" cy="193356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 Black"/>
              </a:rPr>
              <a:t>Large elliptic flow at RHIC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istent with hydrodynamics with rapid thermalization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~ 1 fm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scales initial eccentricity (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 of reactio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34800" y="1154160"/>
            <a:ext cx="4524480" cy="30668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23040" y="1076400"/>
            <a:ext cx="321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ENIX : PRL 91, 182301 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0" y="654120"/>
            <a:ext cx="446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333399"/>
                </a:solidFill>
                <a:latin typeface="Arial Black"/>
              </a:rPr>
              <a:t>Charged hadrons, v</a:t>
            </a:r>
            <a:r>
              <a:rPr b="0" i="1" lang="ja-JP" sz="2400" spc="-1" strike="noStrike" baseline="-25000">
                <a:solidFill>
                  <a:srgbClr val="333399"/>
                </a:solidFill>
                <a:latin typeface="Arial Black"/>
              </a:rPr>
              <a:t>2</a:t>
            </a:r>
            <a:r>
              <a:rPr b="0" i="1" lang="ja-JP" sz="2400" spc="-1" strike="noStrike">
                <a:solidFill>
                  <a:srgbClr val="333399"/>
                </a:solidFill>
                <a:latin typeface="Arial Black"/>
              </a:rPr>
              <a:t> vs p</a:t>
            </a:r>
            <a:r>
              <a:rPr b="0" i="1" lang="ja-JP" sz="2400" spc="-1" strike="noStrike" baseline="-25000">
                <a:solidFill>
                  <a:srgbClr val="333399"/>
                </a:solidFill>
                <a:latin typeface="Arial Blac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643280" y="1311120"/>
          <a:ext cx="4392720" cy="29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1311120"/>
                    <a:ext cx="439272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845760" y="2849400"/>
            <a:ext cx="14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~ k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066-846D-4B84-9114-9F5F2B8A62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rcRect l="0" t="7205" r="0" b="0"/>
          <a:stretch/>
        </p:blipFill>
        <p:spPr>
          <a:xfrm>
            <a:off x="324000" y="692280"/>
            <a:ext cx="5867280" cy="45370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ydro scaling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1280" y="4797360"/>
            <a:ext cx="8075520" cy="161784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 Black"/>
              </a:rPr>
              <a:t>Scaling holds up to KE</a:t>
            </a:r>
            <a:r>
              <a:rPr b="0" i="1" lang="ja-JP" sz="32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i="1" lang="ja-JP" sz="3200" spc="-1" strike="noStrike">
                <a:solidFill>
                  <a:srgbClr val="000000"/>
                </a:solidFill>
                <a:latin typeface="Arial Black"/>
              </a:rPr>
              <a:t> = 1 GeV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 Black"/>
              </a:rPr>
              <a:t>Meson/Baryon v</a:t>
            </a:r>
            <a:r>
              <a:rPr b="0" i="1" lang="ja-JP" sz="3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Possible hint of partonic degrees of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64120" y="3068640"/>
            <a:ext cx="111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65560" y="3481560"/>
            <a:ext cx="115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y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20440" y="4214880"/>
            <a:ext cx="259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* KE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 ~ m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 – m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 at y ~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30360" y="666720"/>
            <a:ext cx="270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 Black"/>
              </a:rPr>
              <a:t>Hydro scaling of v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819760" y="1197000"/>
            <a:ext cx="3144960" cy="11980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TAR) : PRL 92, 052302 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AR) : PRL 95, 122301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K, p (PHENIX) :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24360" y="1873080"/>
            <a:ext cx="1376280" cy="908280"/>
          </a:xfrm>
          <a:custGeom>
            <a:avLst/>
            <a:gdLst/>
            <a:ahLst/>
            <a:rect l="l" t="t" r="r" b="b"/>
            <a:pathLst>
              <a:path w="867" h="572">
                <a:moveTo>
                  <a:pt x="0" y="572"/>
                </a:moveTo>
                <a:cubicBezTo>
                  <a:pt x="46" y="520"/>
                  <a:pt x="182" y="348"/>
                  <a:pt x="276" y="260"/>
                </a:cubicBezTo>
                <a:cubicBezTo>
                  <a:pt x="370" y="172"/>
                  <a:pt x="466" y="84"/>
                  <a:pt x="564" y="42"/>
                </a:cubicBezTo>
                <a:cubicBezTo>
                  <a:pt x="662" y="0"/>
                  <a:pt x="804" y="18"/>
                  <a:pt x="867" y="11"/>
                </a:cubicBezTo>
              </a:path>
            </a:pathLst>
          </a:custGeom>
          <a:noFill/>
          <a:ln w="50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111400" y="646200"/>
            <a:ext cx="344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. Issah, A. Taranenko, nucl-ex/0604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12000" y="3265560"/>
            <a:ext cx="79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12000" y="3697200"/>
            <a:ext cx="792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16440" y="2563920"/>
            <a:ext cx="1735200" cy="450720"/>
          </a:xfrm>
          <a:custGeom>
            <a:avLst/>
            <a:gdLst/>
            <a:ahLst/>
            <a:rect l="l" t="t" r="r" b="b"/>
            <a:pathLst>
              <a:path w="1093" h="284">
                <a:moveTo>
                  <a:pt x="0" y="284"/>
                </a:moveTo>
                <a:cubicBezTo>
                  <a:pt x="48" y="250"/>
                  <a:pt x="193" y="119"/>
                  <a:pt x="288" y="74"/>
                </a:cubicBezTo>
                <a:cubicBezTo>
                  <a:pt x="383" y="29"/>
                  <a:pt x="435" y="24"/>
                  <a:pt x="569" y="12"/>
                </a:cubicBezTo>
                <a:cubicBezTo>
                  <a:pt x="703" y="0"/>
                  <a:pt x="984" y="3"/>
                  <a:pt x="1093" y="1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EFB-1846-4F2E-AB1F-59672337E4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11280" y="3429000"/>
            <a:ext cx="806616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1" i="1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i="1" lang="en-US" sz="6000" spc="-1" strike="noStrike">
                <a:solidFill>
                  <a:srgbClr val="000000"/>
                </a:solidFill>
                <a:latin typeface="Arial Black"/>
              </a:rPr>
              <a:t> meson v</a:t>
            </a:r>
            <a:r>
              <a:rPr b="1" i="1" lang="en-US" sz="60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1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E4F-C1BE-4A95-9E2F-89F7F31260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rcRect l="1655" t="53070" r="8307" b="1464"/>
          <a:stretch/>
        </p:blipFill>
        <p:spPr>
          <a:xfrm>
            <a:off x="324000" y="3500280"/>
            <a:ext cx="4248000" cy="29116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rcRect l="1693" t="4083" r="3310" b="51464"/>
          <a:stretch/>
        </p:blipFill>
        <p:spPr>
          <a:xfrm>
            <a:off x="324000" y="692280"/>
            <a:ext cx="4464000" cy="2835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lear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signal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860720" y="980640"/>
            <a:ext cx="4103640" cy="52578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reconstruction via K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 Black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 Black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 decay channel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 ~ 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Centrality 20 – 60 %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 is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plane resolution is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on between meson/baryo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not be varied too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86480" y="2581200"/>
            <a:ext cx="20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+ 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80720" y="28512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89280" y="2690640"/>
            <a:ext cx="90360" cy="907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89280" y="2978280"/>
            <a:ext cx="90360" cy="90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18880" y="2198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sub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197800" y="4141800"/>
            <a:ext cx="1843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ub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95ED-A22B-4538-BC74-C21A4E2A2A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Meson” type flow !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560" y="4508280"/>
            <a:ext cx="8498160" cy="18730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Hydro. mass ordering for 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 &lt; 2 GeV/c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) ~ 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), 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(K) for 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 &gt; 2 GeV/c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                Number of constituent qu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t with the description by quark coalescence, recombin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5297400" cy="35924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rcRect l="2541" t="3860" r="6332" b="3860"/>
          <a:stretch/>
        </p:blipFill>
        <p:spPr>
          <a:xfrm>
            <a:off x="5219640" y="1123920"/>
            <a:ext cx="3889440" cy="2592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724360" y="3716280"/>
            <a:ext cx="3095640" cy="6476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7464600" y="3659040"/>
            <a:ext cx="358560" cy="414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233480" y="627120"/>
            <a:ext cx="155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i="1" lang="ja-JP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i="1" lang="ja-JP" sz="2800" spc="-1" strike="noStrike">
                <a:solidFill>
                  <a:srgbClr val="333399"/>
                </a:solidFill>
                <a:latin typeface="Arial Black"/>
              </a:rPr>
              <a:t>v</a:t>
            </a:r>
            <a:r>
              <a:rPr b="0" i="1" lang="ja-JP" sz="2800" spc="-1" strike="noStrike" baseline="-25000">
                <a:solidFill>
                  <a:srgbClr val="333399"/>
                </a:solidFill>
                <a:latin typeface="Arial Black"/>
              </a:rPr>
              <a:t>2</a:t>
            </a:r>
            <a:r>
              <a:rPr b="0" i="1" lang="ja-JP" sz="2800" spc="-1" strike="noStrike">
                <a:solidFill>
                  <a:srgbClr val="333399"/>
                </a:solidFill>
                <a:latin typeface="Arial Black"/>
              </a:rPr>
              <a:t> vs p</a:t>
            </a:r>
            <a:r>
              <a:rPr b="0" i="1" lang="ja-JP" sz="2800" spc="-1" strike="noStrike" baseline="-25000">
                <a:solidFill>
                  <a:srgbClr val="333399"/>
                </a:solidFill>
                <a:latin typeface="Arial Black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5398920"/>
            <a:ext cx="718920" cy="28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40000" y="5411880"/>
            <a:ext cx="976320" cy="287280"/>
          </a:xfrm>
          <a:prstGeom prst="rightArrow">
            <a:avLst>
              <a:gd name="adj1" fmla="val 50000"/>
              <a:gd name="adj2" fmla="val 84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5458-AC8D-4D69-99C5-5E68F95921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0" t="3355" r="0" b="0"/>
          <a:stretch/>
        </p:blipFill>
        <p:spPr>
          <a:xfrm>
            <a:off x="349200" y="1144440"/>
            <a:ext cx="6238800" cy="2860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Arial Black"/>
              </a:rPr>
              <a:t>Hint of partonic d.o.f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rcRect l="5430" t="7848" r="6571" b="8889"/>
          <a:stretch/>
        </p:blipFill>
        <p:spPr>
          <a:xfrm>
            <a:off x="395280" y="3962520"/>
            <a:ext cx="3816360" cy="24908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467400" y="1447920"/>
            <a:ext cx="2568600" cy="19486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TAR) : PR 92, 052302 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AR) : PRL 95, 122301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AR) :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K, p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  (PHENIX) :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427280" y="4292280"/>
            <a:ext cx="4608360" cy="20890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 Black"/>
              </a:rPr>
              <a:t>Hydro + N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 Black"/>
              </a:rPr>
              <a:t>quark</a:t>
            </a:r>
            <a:r>
              <a:rPr b="0" i="1" lang="ja-JP" sz="2400" spc="-1" strike="noStrike">
                <a:solidFill>
                  <a:srgbClr val="000000"/>
                </a:solidFill>
                <a:latin typeface="Arial Black"/>
              </a:rPr>
              <a:t> scaling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orks for a broad range of K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son also follow the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Partonic degree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5600" y="5756400"/>
            <a:ext cx="224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c1604"/>
                </a:solidFill>
                <a:uFillTx/>
                <a:latin typeface="Arial"/>
              </a:rPr>
              <a:t>WWND 2006, M. Iss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30360" y="666720"/>
            <a:ext cx="270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 Black"/>
              </a:rPr>
              <a:t>Hydro scaling of v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046-6D40-4350-BE43-B54D79CCFB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4:00:54Z</dcterms:created>
  <dc:creator>Hiroshi Masui</dc:creator>
  <dc:description/>
  <dc:language>en-US</dc:language>
  <cp:lastModifiedBy>Hiroshi Masui</cp:lastModifiedBy>
  <dcterms:modified xsi:type="dcterms:W3CDTF">2006-05-30T21:59:41Z</dcterms:modified>
  <cp:revision>9</cp:revision>
  <dc:subject/>
  <dc:title>Elliptic Flow in PHENIX</dc:title>
</cp:coreProperties>
</file>