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809-F94C-4B4C-AC54-17316D7B261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mode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 pred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m quark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arm v2 shape same as light qu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 meson made quark coale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P/JP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quark v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analysi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phha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ron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production mech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* direct photon v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.4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2 has been measu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F90B-2A09-4C64-B9AA-D1B0053D519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imuthal anisotropy of particle emission is sensitive to the early stages of system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of jet que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identified particle v2 give up much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of the collis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TP prediction --- v2 (Cu+Cu) = 0.3 * v2 (Au+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; same Npart Au+Au &amp; Cu+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. Kaji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T (pT&lt;1.5 GeV/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[electron analysis ; F.Kajihara @ 2/17 15:05-15:40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xperimentally determ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043A-A464-4BCA-98B5-731D6E7E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2E2C-7A44-4E44-B6B3-9AFDF2E6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4292-7E88-4E0E-ABA3-53A92BEE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CECD-3289-4106-B69D-430663C4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C54A-3502-4B88-899A-B854F121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D1F-A49A-440B-8A6F-E9055066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571-7446-4670-A56A-BC9D3446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24A-B997-47A7-A3A2-D14B6F5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0F1-F301-4C78-8CC0-1C545CE2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B5C-15FA-4E06-9D99-38A6516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BE50-94E5-4C68-97C8-689FAB2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980D-357E-4216-9337-E7FCA2B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2210-EA9B-4593-9ED2-7F97D7B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9C7-281A-4EDD-923E-9E98321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6A46-DB41-40EE-A8CB-18295EA0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35BE-BDF9-40B9-B7AC-F0142132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BAFC-2FBD-461D-BF64-5DE532BA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4939-D0F8-4A9D-8356-E6570D4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07C2-2C68-4013-B201-E2D8F3D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BE31-C1E9-4934-B048-66B5798F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CBED-060B-409F-BC4B-05C4762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B2F1-E90B-42F7-8418-632111A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89F1-AD95-47D9-94A2-25250D0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E53C-B18E-4FA7-8425-B8E967E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48F-490D-4877-957C-3B37C6F2D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60E0-FE04-4E31-8A58-604B3AB5E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scitation.aip.org/getabs/servlet/GetabsServlet?prog=normal&amp;id=PRLTAO000094000023232302000001&amp;idtype=cvips&amp;gifs=yes" TargetMode="External"/><Relationship Id="rId3" Type="http://schemas.openxmlformats.org/officeDocument/2006/relationships/hyperlink" Target="http://scitation.aip.org/getabs/servlet/GetabsServlet?prog=normal&amp;id=PRLTAO000094000023232302000001&amp;idtype=cvips&amp;gifs=yes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scitation.aip.org/getabs/servlet/GetabsServlet?prog=normal&amp;id=PRLTAO000094000023232302000001&amp;idtype=cvips&amp;gifs=yes" TargetMode="External"/><Relationship Id="rId3" Type="http://schemas.openxmlformats.org/officeDocument/2006/relationships/hyperlink" Target="http://scitation.aip.org/getabs/servlet/GetabsServlet?prog=normal&amp;id=PRLTAO000094000023232302000001&amp;idtype=cvips&amp;gifs=ye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zimuthal anisotropy in high energy heavy ion collisions at RHIC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708360" y="4581000"/>
            <a:ext cx="417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go Sa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. of Tsuk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11C9-ED7C-470D-A791-26410603AE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-photonic electr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9280" y="1341360"/>
            <a:ext cx="45720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T dependence non-γ e v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p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; increasing with p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p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small energy los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contributi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ompared with qua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oalescence model predi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with/without charm quar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(Greco, Ko, Rapp: PLB 595 (2004) 2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Below 2.0 GeV/c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consistent with </a:t>
            </a:r>
            <a:r>
              <a:rPr b="0" lang="ja-JP" sz="2200" spc="-1" strike="noStrike" u="sng">
                <a:solidFill>
                  <a:srgbClr val="ff0000"/>
                </a:solidFill>
                <a:uFillTx/>
                <a:latin typeface="Arial"/>
              </a:rPr>
              <a:t>charm qua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 u="sng">
                <a:solidFill>
                  <a:srgbClr val="ff0000"/>
                </a:solidFill>
                <a:uFillTx/>
                <a:latin typeface="Arial"/>
              </a:rPr>
              <a:t>flow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indicate 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charm quark flow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95640" y="4724280"/>
            <a:ext cx="4896000" cy="1652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0908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980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5052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980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7BB2-FBB7-4812-B5D8-288A15FE4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v2 estimate from non-γ e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41360"/>
            <a:ext cx="532764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harm v2 with non-γ e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uming several v2 shap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meson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T)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pi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T)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ka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T)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prot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e D -&gt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-squared test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” non-photonic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chi-squared “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e charm v2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 v2 with N.Q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38560" y="90792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032000" cy="2808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438160" y="19890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mes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9380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86560" y="335772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4720" y="35733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3692-868E-4237-B5A5-7689BD6E13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privat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197000"/>
            <a:ext cx="424800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effect for N.Q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/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i ; effective mass of quark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.Rev. C68 (2003) 0449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-wei &amp; Dence Moln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T) ~ 2*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2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T) ~ 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5/6*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628640"/>
            <a:ext cx="4176720" cy="71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653000"/>
            <a:ext cx="41036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5516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3480" y="5641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0200" y="582948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effect in partonic lev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38600" y="1268280"/>
            <a:ext cx="4505400" cy="4448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651640" y="350028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5240" y="31417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quark v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177A-9F81-4B92-AA1D-CF22952199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oton v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848360" cy="1609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357336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pt phot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=0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3429000"/>
            <a:ext cx="163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rmal photon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&gt;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smsrahlung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268360" y="2637000"/>
            <a:ext cx="43200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08000" y="2708280"/>
            <a:ext cx="2142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355920"/>
            <a:ext cx="4537080" cy="93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3280" y="4421160"/>
            <a:ext cx="658584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oton provide very early tim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 @ high 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pt photon domin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pt photon ; binary scale (no energy lo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@ high pT ; expect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0800000">
            <a:off x="4791240" y="13395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 Unicode MS"/>
              </a:rPr>
              <a:t>Hadro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285264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5600" y="3573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ron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85800" y="13399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HGP明朝B"/>
              </a:rPr>
              <a:t>the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240" y="1052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Photon production mechanis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DFDA-84FB-40A9-93D5-20D048A8DF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rect photon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343640" cy="431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17440" y="5373720"/>
            <a:ext cx="71344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rend ; v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seems like smaller @ most centr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emsstrahlung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main source pT &lt; 4.0 GeV/c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direct photon v2 @ high pT &lt; 10 GeV/c coming soon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37080" y="1987560"/>
            <a:ext cx="22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R*direct photon v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4653000"/>
            <a:ext cx="2305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7DD0-FCC4-4A56-A719-1B6F51C5A1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ummary for identified v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3800" y="1268280"/>
            <a:ext cx="78012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dentified hadrons (π,K,p,Λ,φ -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@ low pT consistent with hydr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arly ti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e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cale number of quarks (quark coalesc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tonic leve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n-photonic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 charm flow model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quark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 ph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nd ; v2 seems like smaller @ most cen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msstrahlu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ain source pT &lt; 4.0 GeV/c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2EB9-3891-4873-BA5D-3538CDBB7E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1197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size depend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68DB-C4B0-4050-9863-7FF6A67892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2 (Au+Au) @ 62.4 , 130 &amp; 200 G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128000" cy="4392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826920" y="5445000"/>
            <a:ext cx="7777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ilar v2 @ 62.4, 130 &amp; 130 GeV at sam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@ 62.4 GeV &amp;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112428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ea typeface="Arial Unicode MS"/>
                <a:hlinkClick r:id="rId2"/>
              </a:rPr>
              <a:t>Phys. Rev. Lett. 94, 232302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ea typeface="Arial Unicode MS"/>
                <a:hlinkClick r:id="rId3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DC40-9B7D-4DBD-ABF1-D50A33E266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ergy dependence ; Softening EOS @ R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409080" cy="3673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47640" y="5300640"/>
            <a:ext cx="6842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u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@ √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2.4 ~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icate “softening” of E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2133720"/>
            <a:ext cx="1727280" cy="172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2160" y="37180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8000" y="37893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2160" y="3789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4520" y="170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6880" y="134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46160" y="184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372000" y="220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940000" y="1773360"/>
            <a:ext cx="71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06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79628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ea typeface="Arial Unicode MS"/>
                <a:hlinkClick r:id="rId2"/>
              </a:rPr>
              <a:t>Phys. Rev. Lett. 94, 232302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ea typeface="Arial Unicode MS"/>
                <a:hlinkClick r:id="rId3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BFC0-E917-44E3-A477-AA5FCBFB1C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+Cu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248000" cy="3906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71280" y="5229360"/>
            <a:ext cx="75718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drodynamical behavior @ Cu+Cu collision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’s the scaling laws of v2 between Au+Au &amp; Cu+Cu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43400" cy="3529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580000" y="83664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rano et al., nucl-th/05060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859C-8AA0-4BA3-BE4C-DB35BCB99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zimuthal aniso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889600" y="439560"/>
            <a:ext cx="2437920" cy="1905120"/>
            <a:chOff x="5889600" y="439560"/>
            <a:chExt cx="2437920" cy="1905120"/>
          </a:xfrm>
        </p:grpSpPr>
        <p:sp>
          <p:nvSpPr>
            <p:cNvPr id="117" name=""/>
            <p:cNvSpPr/>
            <p:nvPr/>
          </p:nvSpPr>
          <p:spPr>
            <a:xfrm>
              <a:off x="6543720" y="1280160"/>
              <a:ext cx="1130040" cy="106452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9600" y="1280160"/>
              <a:ext cx="1129680" cy="106452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43720" y="1335960"/>
              <a:ext cx="475560" cy="95256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840320"/>
              <a:ext cx="11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781680" y="831600"/>
              <a:ext cx="0" cy="10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69680" y="161640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03120" y="43956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36960" y="3335400"/>
            <a:ext cx="2895120" cy="2282760"/>
            <a:chOff x="5736960" y="3335400"/>
            <a:chExt cx="2895120" cy="2282760"/>
          </a:xfrm>
        </p:grpSpPr>
        <p:grpSp>
          <p:nvGrpSpPr>
            <p:cNvPr id="125" name=""/>
            <p:cNvGrpSpPr/>
            <p:nvPr/>
          </p:nvGrpSpPr>
          <p:grpSpPr>
            <a:xfrm>
              <a:off x="6177600" y="3335400"/>
              <a:ext cx="2454480" cy="2270160"/>
              <a:chOff x="6177600" y="3335400"/>
              <a:chExt cx="2454480" cy="2270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177600" y="4416480"/>
                <a:ext cx="138456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69880" y="4836960"/>
                <a:ext cx="12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869880" y="3755520"/>
                <a:ext cx="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28440" y="4599360"/>
                <a:ext cx="5036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4840" y="3335400"/>
                <a:ext cx="690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7184880" y="40561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99520" y="4296600"/>
              <a:ext cx="314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5520" y="4837320"/>
              <a:ext cx="314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9520" y="507744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7880" y="525744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0240" y="5317920"/>
              <a:ext cx="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870240" y="3995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366600" y="40561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988240" y="4296600"/>
              <a:ext cx="251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736960" y="4837320"/>
              <a:ext cx="37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960" y="513756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240600" y="5317920"/>
              <a:ext cx="188640" cy="24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502960" y="24210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itial spatial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5516640"/>
            <a:ext cx="3429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mentum spac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of particle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27680" y="284004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0" y="2035080"/>
            <a:ext cx="5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160" y="1413000"/>
            <a:ext cx="485928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A powerful probe of the initial state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the high energy heavy ion colli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sure gradient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stage of coll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on energy loss in hot &am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se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589720"/>
            <a:ext cx="4824360" cy="6116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N/d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1+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(2φ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568F-9AD6-48C3-A80B-A93DC967F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2 is scaled by system size (A) linearl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688000" cy="3889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763640" y="5734080"/>
            <a:ext cx="5724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(Cu+Cu) ~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.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* v2(Au+Au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2 doesn’t scale system size (A) lin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1341360"/>
            <a:ext cx="809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PT : v2 scale system size ; v2 (Cu+Cu) ~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.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* v2(Au+Au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76360" y="1844640"/>
            <a:ext cx="194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4C86-33B5-4C7D-BA6E-A1CA48E7B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ccentricity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7240" y="4508640"/>
            <a:ext cx="7784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v2(cent,pT) divide by v2(cent) ;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2(pT,cent)/v2(cent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(cent) = ∫v2(pT,cent)dpT ~ 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v2 divide by eccentricity (ε) ;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2/&lt;ε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60360" y="2421000"/>
            <a:ext cx="1368720" cy="1368360"/>
          </a:xfrm>
          <a:prstGeom prst="ellipse">
            <a:avLst/>
          </a:prstGeom>
          <a:solidFill>
            <a:srgbClr val="9999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63640" y="2421000"/>
            <a:ext cx="1368360" cy="1368360"/>
          </a:xfrm>
          <a:prstGeom prst="ellipse">
            <a:avLst/>
          </a:prstGeom>
          <a:solidFill>
            <a:srgbClr val="9999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3120" y="1268280"/>
            <a:ext cx="474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dro ; v2 scales with eccentric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1160" y="1989000"/>
            <a:ext cx="49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centricity ; relate to geometry of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292720" y="2708280"/>
                <a:ext cx="2303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H="1">
            <a:off x="2268360" y="2349360"/>
            <a:ext cx="1224000" cy="792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314172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195640" y="1844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180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6544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8597-6E02-4088-B5EC-4867DC8FDC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ccentricity scailing v2 @ Au+Au &amp; Cu+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3527280" cy="2809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50920" y="3787920"/>
            <a:ext cx="3673440" cy="2781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067280" y="1052640"/>
            <a:ext cx="4513320" cy="4103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V="1">
            <a:off x="3348000" y="3500280"/>
            <a:ext cx="1295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563920"/>
            <a:ext cx="122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24720" y="5013360"/>
            <a:ext cx="46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Au+Au @ Cu+Cu fall on sa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ve after eccentricity scai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centricity works we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1800" y="11970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2160" y="37162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B6AC-46AF-43AD-8414-8A01B457B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N/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amp; 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@ Au+Au &amp; Cu+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85760" y="1344600"/>
            <a:ext cx="4087800" cy="3676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595160" y="2303640"/>
            <a:ext cx="172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+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-25%, N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 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09640" y="3706920"/>
            <a:ext cx="1219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71600" y="172260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B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63280" y="1268280"/>
            <a:ext cx="109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57360" y="3751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5-55%, N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part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32900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211640" y="1197000"/>
            <a:ext cx="4608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8160" y="5877000"/>
            <a:ext cx="8109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/dη &amp;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@ Au+Au &amp; Cu+Cu --- very similar at same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73360"/>
            <a:ext cx="142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u+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PHOB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50160" y="29242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u+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E4CE-1213-4306-AF52-F4D6DA21FD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2 scales with 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7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3827520" cy="3598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564000" y="2492280"/>
            <a:ext cx="936720" cy="289080"/>
          </a:xfrm>
          <a:prstGeom prst="rightArrow">
            <a:avLst>
              <a:gd name="adj1" fmla="val 50000"/>
              <a:gd name="adj2" fmla="val 81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4221000"/>
            <a:ext cx="42480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2 @ Au+Au &amp; Cu+Cu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different same at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/&lt;ε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 @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ame 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p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; taking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ctuation in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4724280"/>
            <a:ext cx="1295280" cy="122400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64000" y="4724280"/>
            <a:ext cx="1295640" cy="122400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4360" y="4869000"/>
            <a:ext cx="914400" cy="914400"/>
          </a:xfrm>
          <a:prstGeom prst="ellipse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08720" y="4869000"/>
            <a:ext cx="914400" cy="914400"/>
          </a:xfrm>
          <a:prstGeom prst="ellipse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90160" y="616572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; same Npart Au+Au &amp;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5440" y="48690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79240" y="47973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7080" y="12682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B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65440" y="12682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B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2DB3-66D0-45C8-B21A-E47E1A7E7E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mmary for energy &amp; system size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2 @ 62.4 GeV, 130 GeV and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icate “softening” of E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ize dependence (Au+Au v.s. Cu+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2 doesn’t scale with system size (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centricity scailing well 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between Au+Au &amp; Cu+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0AD0-0816-4E32-9CD6-BE53DCF880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or update @ 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action plan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good reaction plane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uce error 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vertex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direct measurement of D m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v2 result @ PHE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T v2 with smaller error (non-γ e &amp; direct photon, et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ψ v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meson v2, et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3FB5-AFBB-4BF5-A874-51086747BA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2149-1C83-4615-BA7F-4BB58DE5FF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80" y="1125360"/>
            <a:ext cx="8785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non-photonic &amp; photonic e v2 by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verter run &amp; convert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on-photonic) &amp;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8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(photoni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eriment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  determined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635640" cy="2376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4076640"/>
            <a:ext cx="748836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- ratio of electrons with &amp; without converter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non-photonic/photonic ratio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inclusive e v2 measured with non-converter run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- inclusive e v2 measured with converter run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364500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82960" y="2133720"/>
            <a:ext cx="270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hotonic/phot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4360" y="2276640"/>
            <a:ext cx="142560" cy="647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3213000"/>
            <a:ext cx="142560" cy="647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7272360" cy="863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3357720"/>
            <a:ext cx="360360" cy="269640"/>
          </a:xfrm>
          <a:prstGeom prst="rightArrow">
            <a:avLst>
              <a:gd name="adj1" fmla="val 50000"/>
              <a:gd name="adj2" fmla="val 334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342A-0C51-4A17-8344-B85B851A79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4000" y="1197000"/>
            <a:ext cx="85690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photonic electron v2 with si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ubtract it from electron v2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n-convert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pho.e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on-pho.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/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{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 -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} /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ktai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7240" y="3933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04680" y="4508640"/>
            <a:ext cx="47847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non-photonic/photonic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ly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--- inclusive electron v2 (without conve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photonic electr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from pi0 (pion)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3492360" cy="2660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070160" y="393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alc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3284640"/>
            <a:ext cx="360360" cy="269640"/>
          </a:xfrm>
          <a:prstGeom prst="rightArrow">
            <a:avLst>
              <a:gd name="adj1" fmla="val 50000"/>
              <a:gd name="adj2" fmla="val 334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43320" y="3860640"/>
            <a:ext cx="270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hotonic/phot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2000" y="5950080"/>
            <a:ext cx="28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7440" y="4365720"/>
            <a:ext cx="25963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ear non-photonic signal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/B &gt; 1 in pT&gt;1.5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1197000"/>
            <a:ext cx="6985080" cy="11523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995640" y="36446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348000" y="364464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219640" y="3357720"/>
            <a:ext cx="28728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82880" y="3141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2520" y="6381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. Kaji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1ABE-4B43-4E51-BF01-AB6FF78832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ction pla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86480" y="2801880"/>
            <a:ext cx="91440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2421000"/>
            <a:ext cx="914400" cy="91440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34200" y="3106800"/>
            <a:ext cx="22860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5960" y="21160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257880" y="2192040"/>
            <a:ext cx="205740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2800" y="3335400"/>
            <a:ext cx="12078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Re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24800" y="3560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16880" y="2192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960" y="1557360"/>
            <a:ext cx="5898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ion plane ; defined beam direction &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 parameter dir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le’s φ measured with respect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action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is obtained (1) by fitting dN/d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&lt;cos(2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3141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5440" y="2708280"/>
            <a:ext cx="152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sin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8280" y="2897280"/>
            <a:ext cx="150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4720" y="3213000"/>
            <a:ext cx="159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637000"/>
            <a:ext cx="3313080" cy="1081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2800" y="4941720"/>
            <a:ext cx="4917600" cy="4752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/d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∝ N (1 + 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2o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(2(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88B1-5137-4780-944C-D02CDD03E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i2 map &amp; D mes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704360" cy="5221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477800" y="148428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D =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pi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4520" y="148428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D =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ka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05080" y="407664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D =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prot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22160" y="407664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D =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D v2 (y_T scai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3280" y="3573360"/>
            <a:ext cx="410544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9F55-0900-4F82-920D-C76B075FBA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’s top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particles v2 (Au+Au 200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ns, kaons,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dependence of v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4, 130 and 2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iz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+Au &amp; Cu+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5373720"/>
            <a:ext cx="748980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These measurement gives us much more information                               of the collision dynamics and particle p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061C-429F-4C82-84B8-9BC3A1CE3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ed particles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E263-4B47-42EF-8A61-D763B9F6BC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dentified hadron v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4824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2520" y="1341360"/>
            <a:ext cx="4365720" cy="53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T&lt;1.5 GeV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depen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π)&gt;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K)&gt;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dro model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τ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.6 fm/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thermalizes very 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T&gt;2.0 GeV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2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ｂ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 &gt; v2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ｍ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 qua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lescence model (N.Q.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3ED3-9FC8-4075-86EC-B9A9790E2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ready developed in partonic pha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3344" r="0" b="0"/>
          <a:stretch/>
        </p:blipFill>
        <p:spPr>
          <a:xfrm>
            <a:off x="3924360" y="1341360"/>
            <a:ext cx="475308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2160" y="1628640"/>
            <a:ext cx="389628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d hadrons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ing number of qu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after scaling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all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ame cur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onic level v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2 already formed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onic phase for hadr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de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ight quarks (u,d,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2BBA-26A8-4C01-836C-0FC12BB67F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Φ mes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3080" y="1268280"/>
            <a:ext cx="431532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φ v2 is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dependenc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2(p) ~ v2(φ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buClr>
                <a:srgbClr val="3333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rk number scal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number of quarks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urate around 2.0 GeV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ke π,K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φ v2 has larg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consistent with hydro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quark coalescenc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46400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C467-6538-45E8-8D95-4AB15E931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ectr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52640"/>
            <a:ext cx="475308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source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otonic --- hadronic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π0,η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n-photonic --- heavy fl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cay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give us charm flow in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non-γ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{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}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phonic / non-phot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phonic e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 ; experimentally determ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/without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ktail ;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88000" y="3500280"/>
            <a:ext cx="4249800" cy="288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12000" y="5299200"/>
            <a:ext cx="167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clusive e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435560"/>
            <a:ext cx="167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4243320" cy="2519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37480" y="11984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n ph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9600" y="2563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b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32720" y="22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32720" y="1123920"/>
            <a:ext cx="0" cy="1109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724360" y="429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6920" y="395604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imentally determ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524720" y="4581360"/>
            <a:ext cx="287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7800" y="43876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E2A2-20FA-4200-8522-CBE61163C0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15:42:22Z</dcterms:created>
  <dc:creator>shingo</dc:creator>
  <dc:description/>
  <dc:language>en-US</dc:language>
  <cp:lastModifiedBy>shingo</cp:lastModifiedBy>
  <dcterms:modified xsi:type="dcterms:W3CDTF">2006-02-15T14:48:38Z</dcterms:modified>
  <cp:revision>402</cp:revision>
  <dc:subject/>
  <dc:title>スライド 1</dc:title>
</cp:coreProperties>
</file>