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pct" ContentType="image/x-pict"/>
  <Override PartName="/ppt/media/image27.pct" ContentType="image/x-pict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0.png" ContentType="image/png"/>
  <Override PartName="/ppt/media/image9.pct" ContentType="image/x-pict"/>
  <Override PartName="/ppt/media/image11.png" ContentType="image/png"/>
  <Override PartName="/ppt/media/image45.pct" ContentType="image/x-pict"/>
  <Override PartName="/ppt/media/image33.png" ContentType="image/png"/>
  <Override PartName="/ppt/media/image38.png" ContentType="image/png"/>
  <Override PartName="/ppt/media/image8.png" ContentType="image/png"/>
  <Override PartName="/ppt/media/image19.pct" ContentType="image/x-pict"/>
  <Override PartName="/ppt/media/image37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9.png" ContentType="image/png"/>
  <Override PartName="/ppt/media/image6.pct" ContentType="image/x-pict"/>
  <Override PartName="/ppt/media/image7.pct" ContentType="image/x-pict"/>
  <Override PartName="/ppt/media/image10.png" ContentType="image/png"/>
  <Override PartName="/ppt/media/image5.png" ContentType="image/png"/>
  <Override PartName="/ppt/media/image35.png" ContentType="image/png"/>
  <Override PartName="/ppt/media/image3.pct" ContentType="image/x-pict"/>
  <Override PartName="/ppt/media/image3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1.pct" ContentType="image/x-pict"/>
  <Override PartName="/ppt/media/image4.png" ContentType="image/png"/>
  <Override PartName="/ppt/media/image12.jpeg" ContentType="image/jpeg"/>
  <Override PartName="/ppt/media/image3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0066"/>
                </a:solidFill>
                <a:latin typeface="Tahoma"/>
              </a:rPr>
              <a:t>Click to move the slide</a:t>
            </a:r>
            <a:endParaRPr b="1" i="1" lang="en-US" sz="44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AE33-6111-4126-A2B6-833AAA319B6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B0F1-2107-4E51-A040-35736BFBBD7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.D. thesis for Shingo SA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0E361-A360-4DE9-AEAD-7EDAEE714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4495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19720" y="3995280"/>
            <a:ext cx="4495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0070-08B9-4B43-8999-E9B55E10E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23720" y="144792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19720" y="399528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723720" y="399528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DB44-B1B0-4486-BA1A-0B125119B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144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39640" y="1447920"/>
            <a:ext cx="144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59560" y="1447920"/>
            <a:ext cx="144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19720" y="3995280"/>
            <a:ext cx="144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5939640" y="3995280"/>
            <a:ext cx="144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7459560" y="3995280"/>
            <a:ext cx="144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CAC8-A839-43F4-A6E4-E6F03598D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9209F-F604-47FC-B3CA-108A8634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419720" y="14479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50438-5FB7-4E8D-AEDA-FCEB41C8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973C1-5B84-42F0-B1FE-65723B98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2193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23720" y="1447920"/>
            <a:ext cx="2193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DCD9A-B560-4F3E-B152-9AA50FC8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946C3-6AB9-4DB9-B2CF-067C8E8B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BA826-9A82-4D6F-9E14-19C0FE69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723720" y="1447920"/>
            <a:ext cx="2193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419720" y="399528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CBB09-A1D3-4FC7-AA71-9CF19505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419720" y="14479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7D79-9D58-444C-AD82-D28B65982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2193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723720" y="144792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723720" y="399528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546D6-0F28-4E03-98E9-0D8BF0CB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723720" y="144792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419720" y="3995280"/>
            <a:ext cx="4495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37354-FA4E-4AAD-AAA0-9C007D98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4495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720" y="3995280"/>
            <a:ext cx="4495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1DD98-60AF-4C79-941F-5B83DDE3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723720" y="144792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419720" y="399528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723720" y="399528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A029B-C64B-4410-9B52-1B7D0A7A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144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39640" y="1447920"/>
            <a:ext cx="144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459560" y="1447920"/>
            <a:ext cx="144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419720" y="3995280"/>
            <a:ext cx="144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5939640" y="3995280"/>
            <a:ext cx="144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7459560" y="3995280"/>
            <a:ext cx="144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61E93-90BF-4472-A747-824EB2DC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76D95-39EB-453F-8D79-73739F83A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2193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723720" y="1447920"/>
            <a:ext cx="2193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4874F-E78C-49E7-AB74-995F14DF6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86705-16CC-4E8E-8571-52C2E8869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02047-DEE8-4151-9B50-8F10DC089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723720" y="1447920"/>
            <a:ext cx="2193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419720" y="399528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AA68D-9A7D-42B5-B24D-9A4B9AF14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2193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723720" y="144792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23720" y="399528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F0FC3-11FF-4221-A0AF-38A58C654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23720" y="1447920"/>
            <a:ext cx="2193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19720" y="3995280"/>
            <a:ext cx="4495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6C2E8-9D05-4D86-A8FF-BDDF57171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53280" y="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66"/>
                </a:solidFill>
                <a:latin typeface="Tahoma"/>
              </a:rPr>
              <a:t>Click to edit the title text format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19720" y="14479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4560" indent="-2883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19360" indent="-24372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063080" indent="-24228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326960" indent="-262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326960" indent="-262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326960" indent="-262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5410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576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DED3-ECCC-484D-B66B-9ABE03EB8BFF}" type="slidenum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292960" y="152280"/>
            <a:ext cx="652320" cy="1066680"/>
            <a:chOff x="8292960" y="152280"/>
            <a:chExt cx="652320" cy="1066680"/>
          </a:xfrm>
        </p:grpSpPr>
        <p:sp>
          <p:nvSpPr>
            <p:cNvPr id="6" name=""/>
            <p:cNvSpPr/>
            <p:nvPr/>
          </p:nvSpPr>
          <p:spPr>
            <a:xfrm>
              <a:off x="8292960" y="152280"/>
              <a:ext cx="9864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31200" y="152280"/>
              <a:ext cx="9864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69800" y="152280"/>
              <a:ext cx="9864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92960" y="290520"/>
              <a:ext cx="9864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31200" y="290520"/>
              <a:ext cx="9864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69800" y="290520"/>
              <a:ext cx="9864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08040" y="290520"/>
              <a:ext cx="98640" cy="9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292960" y="428760"/>
              <a:ext cx="9864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31200" y="428760"/>
              <a:ext cx="9864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69800" y="428760"/>
              <a:ext cx="98640" cy="9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708040" y="428760"/>
              <a:ext cx="98640" cy="9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46640" y="428760"/>
              <a:ext cx="98640" cy="98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292960" y="567360"/>
              <a:ext cx="9864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31200" y="567360"/>
              <a:ext cx="98640" cy="9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569800" y="567360"/>
              <a:ext cx="98640" cy="9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708040" y="567360"/>
              <a:ext cx="98640" cy="98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292960" y="705600"/>
              <a:ext cx="98640" cy="9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31200" y="705600"/>
              <a:ext cx="98640" cy="9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569800" y="705600"/>
              <a:ext cx="98640" cy="98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708040" y="705600"/>
              <a:ext cx="98640" cy="98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846640" y="705600"/>
              <a:ext cx="98640" cy="98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292960" y="843840"/>
              <a:ext cx="98640" cy="9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31200" y="843840"/>
              <a:ext cx="98640" cy="98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569800" y="843840"/>
              <a:ext cx="98640" cy="98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708040" y="843840"/>
              <a:ext cx="98640" cy="98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292960" y="982440"/>
              <a:ext cx="98640" cy="982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431200" y="982440"/>
              <a:ext cx="98640" cy="982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569800" y="982440"/>
              <a:ext cx="98640" cy="98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708040" y="982440"/>
              <a:ext cx="98640" cy="98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431200" y="1120680"/>
              <a:ext cx="98640" cy="98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708040" y="1120680"/>
              <a:ext cx="98640" cy="98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"/>
          <p:cNvSpPr/>
          <p:nvPr/>
        </p:nvSpPr>
        <p:spPr>
          <a:xfrm>
            <a:off x="152280" y="12193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0066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7445-5463-4F88-B98F-E0B543D97588}" type="slidenum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3445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93720" algn="ctr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4400" spc="-1" strike="noStrike">
                <a:solidFill>
                  <a:srgbClr val="330066"/>
                </a:solidFill>
                <a:latin typeface="Tahoma"/>
              </a:rPr>
              <a:t>Azimuthal Anisotropy </a:t>
            </a:r>
            <a:br>
              <a:rPr sz="4400"/>
            </a:br>
            <a:r>
              <a:rPr b="1" i="1" lang="ja-JP" sz="4400" spc="-1" strike="noStrike">
                <a:solidFill>
                  <a:srgbClr val="330066"/>
                </a:solidFill>
                <a:latin typeface="Tahoma"/>
              </a:rPr>
              <a:t>and the QGP</a:t>
            </a:r>
            <a:endParaRPr b="1" i="1" lang="en-US" sz="44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040" y="289512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Tahoma"/>
              </a:rPr>
              <a:t>Yasuo MIAKE, Univ. of Tsukub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572000"/>
            <a:ext cx="701028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20000"/>
              </a:lnSpc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hy I Iike azimuthal anisot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sukuba strategy for RHIC-PHE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hat is found at R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380880" y="1600200"/>
            <a:ext cx="4496040" cy="3246480"/>
            <a:chOff x="380880" y="1600200"/>
            <a:chExt cx="4496040" cy="324648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380880" y="1600200"/>
              <a:ext cx="449604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256760" y="3818520"/>
              <a:ext cx="3211200" cy="0"/>
            </a:xfrm>
            <a:prstGeom prst="line">
              <a:avLst/>
            </a:prstGeom>
            <a:ln w="127080">
              <a:solidFill>
                <a:srgbClr val="ff8000">
                  <a:alpha val="5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 </a:t>
            </a: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v</a:t>
            </a:r>
            <a:r>
              <a:rPr b="1" i="1" lang="ja-JP" sz="3600" spc="-1" strike="noStrike" baseline="-25000">
                <a:solidFill>
                  <a:srgbClr val="330066"/>
                </a:solidFill>
                <a:latin typeface="Tahoma"/>
              </a:rPr>
              <a:t>2</a:t>
            </a: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 vs. Eccentricity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1920" y="5334120"/>
            <a:ext cx="8991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At low pt region,  the ratio stays ~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Eccentricity scaling observed in comparison of Au+Au, Cu+C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9640" indent="-271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Scaling with eccentricity shows v</a:t>
            </a:r>
            <a:r>
              <a:rPr b="0" lang="ja-JP" sz="2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 builds up at early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0" y="1752120"/>
            <a:ext cx="685800" cy="1752840"/>
            <a:chOff x="0" y="1752120"/>
            <a:chExt cx="685800" cy="1752840"/>
          </a:xfrm>
        </p:grpSpPr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0" y="2819160"/>
                  <a:ext cx="6858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2" name=""/>
            <p:cNvSpPr/>
            <p:nvPr/>
          </p:nvSpPr>
          <p:spPr>
            <a:xfrm flipV="1">
              <a:off x="304920" y="175212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990720" y="13716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8040"/>
                </a:solidFill>
                <a:latin typeface="Arial"/>
              </a:rPr>
              <a:t>Phenix; PRL 89(2002)212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809960" y="2057400"/>
            <a:ext cx="4334040" cy="2598840"/>
            <a:chOff x="4809960" y="2057400"/>
            <a:chExt cx="4334040" cy="2598840"/>
          </a:xfrm>
        </p:grpSpPr>
        <p:pic>
          <p:nvPicPr>
            <p:cNvPr id="285" name="" descr=""/>
            <p:cNvPicPr/>
            <p:nvPr/>
          </p:nvPicPr>
          <p:blipFill>
            <a:blip r:embed="rId2"/>
            <a:srcRect l="1140" t="3403" r="3204" b="6078"/>
            <a:stretch/>
          </p:blipFill>
          <p:spPr>
            <a:xfrm>
              <a:off x="4809960" y="2057400"/>
              <a:ext cx="4334040" cy="25988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7543800" y="3810240"/>
                  <a:ext cx="106668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d>
                        <m:dPr>
                          <m:begChr m:val="⟨"/>
                          <m:endChr m:val="⟩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µ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10507-FE13-43C3-805B-9C63CE0F5A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3259080"/>
            <a:ext cx="5362560" cy="3598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5334120" cy="361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 </a:t>
            </a: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v</a:t>
            </a:r>
            <a:r>
              <a:rPr b="1" i="1" lang="ja-JP" sz="3600" spc="-1" strike="noStrike" baseline="-25000">
                <a:solidFill>
                  <a:srgbClr val="330066"/>
                </a:solidFill>
                <a:latin typeface="Tahoma"/>
              </a:rPr>
              <a:t>2</a:t>
            </a: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 with particle identification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Low pt reg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1644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v2(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 &gt; v2(K) &gt; v2(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8560" indent="-26712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600" spc="-1" strike="noStrike">
                <a:solidFill>
                  <a:srgbClr val="ff0000"/>
                </a:solidFill>
                <a:latin typeface="Tahoma"/>
              </a:rPr>
              <a:t>Mass Ord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1644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Good agreement with hydrodynam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8560" indent="-26712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Very early thermalization (0.6 fm/c) &amp; high energy density (~20 GeV/fm</a:t>
            </a:r>
            <a:r>
              <a:rPr b="0" lang="ja-JP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) required 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165680" indent="-2656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ja-JP" sz="1600" spc="-1" strike="noStrike">
                <a:solidFill>
                  <a:srgbClr val="ff0000"/>
                </a:solidFill>
                <a:latin typeface="Tahoma"/>
              </a:rPr>
              <a:t>More from Hirano’s tal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98560" indent="-26712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Perfect fluid (low viscou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1644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What brings the system thermalization in such a short time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165680" indent="-2656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ja-JP" sz="1600" spc="-1" strike="noStrike">
                <a:solidFill>
                  <a:srgbClr val="ff0000"/>
                </a:solidFill>
                <a:latin typeface="Tahoma"/>
              </a:rPr>
              <a:t>Partonic degree of freed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eviations at high pt region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(&gt; 1.5 GeV/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1644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v2(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,K) &lt; v2(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8560" indent="-26712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600" spc="-1" strike="noStrike">
                <a:solidFill>
                  <a:srgbClr val="ff0000"/>
                </a:solidFill>
                <a:latin typeface="Tahoma"/>
              </a:rPr>
              <a:t>Meson vs Baryon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98560" indent="-26712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Other mechanism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1071720" y="1295280"/>
            <a:ext cx="33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40"/>
                </a:solidFill>
                <a:latin typeface="Arial"/>
              </a:rPr>
              <a:t>PHENIX : P.R.L. 91, 182301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4572000"/>
            <a:ext cx="3809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r>
              <a:rPr b="0" lang="ja-JP" sz="1200" spc="-1" strike="noStrike">
                <a:solidFill>
                  <a:srgbClr val="008040"/>
                </a:solidFill>
                <a:latin typeface="Arial"/>
              </a:rPr>
              <a:t> : Masui@QM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0F654-C870-415C-ABB6-F6456C9823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Mass Ordering in single spectra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8120" y="54100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xponential in mt for low pt reg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9640" indent="-27108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Known from AGS &amp; SPS e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Tahoma"/>
              </a:rPr>
              <a:t>Mass orderin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of slope parame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9640" indent="-27108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Proof of hydrodynamical collective f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5429160" cy="33894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2514600" cy="24271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2514600" cy="476280"/>
          </a:xfrm>
          <a:prstGeom prst="rect">
            <a:avLst/>
          </a:prstGeom>
          <a:ln w="0">
            <a:noFill/>
          </a:ln>
        </p:spPr>
      </p:pic>
      <p:grpSp>
        <p:nvGrpSpPr>
          <p:cNvPr id="298" name=""/>
          <p:cNvGrpSpPr/>
          <p:nvPr/>
        </p:nvGrpSpPr>
        <p:grpSpPr>
          <a:xfrm>
            <a:off x="609480" y="1447920"/>
            <a:ext cx="1906200" cy="1969920"/>
            <a:chOff x="609480" y="1447920"/>
            <a:chExt cx="1906200" cy="1969920"/>
          </a:xfrm>
        </p:grpSpPr>
        <p:sp>
          <p:nvSpPr>
            <p:cNvPr id="299" name=""/>
            <p:cNvSpPr/>
            <p:nvPr/>
          </p:nvSpPr>
          <p:spPr>
            <a:xfrm>
              <a:off x="1258920" y="2931480"/>
              <a:ext cx="11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1255680" y="1447920"/>
              <a:ext cx="17280" cy="149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94640" y="1721880"/>
              <a:ext cx="615960" cy="1085040"/>
            </a:xfrm>
            <a:prstGeom prst="line">
              <a:avLst/>
            </a:prstGeom>
            <a:ln w="284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96880" y="2907720"/>
              <a:ext cx="101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m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Times New Roman"/>
                  <a:ea typeface="Osaka"/>
                </a:rPr>
                <a:t>t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-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1742400" y="1460520"/>
                  <a:ext cx="65412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"/>
            <p:cNvSpPr/>
            <p:nvPr/>
          </p:nvSpPr>
          <p:spPr>
            <a:xfrm>
              <a:off x="1447200" y="1637280"/>
              <a:ext cx="689400" cy="9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609480" y="1620000"/>
                  <a:ext cx="627120" cy="6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p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267080" y="4800600"/>
                <a:ext cx="20574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»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sSup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6629400" y="5029200"/>
            <a:ext cx="2286000" cy="457200"/>
          </a:xfrm>
          <a:prstGeom prst="wedgeEllipseCallout">
            <a:avLst>
              <a:gd name="adj1" fmla="val -69444"/>
              <a:gd name="adj2" fmla="val -10416"/>
            </a:avLst>
          </a:pr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ive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33040" y="1371600"/>
            <a:ext cx="26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40"/>
                </a:solidFill>
                <a:latin typeface="Arial"/>
              </a:rPr>
              <a:t>PHENIX, PRC69,034909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0" y="3048120"/>
                <a:ext cx="12952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503880" y="1371600"/>
            <a:ext cx="182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8040"/>
                </a:solidFill>
                <a:latin typeface="Arial"/>
              </a:rPr>
              <a:t>Au+Au at 200 GeV/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382C0-6588-426A-9E5E-1160FB7800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66"/>
                </a:solidFill>
                <a:latin typeface="Tahoma"/>
              </a:rPr>
              <a:t>Other surprise; baryon dominance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257440" y="14475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We had many reasons to consider &gt; 2GeV/c is the jet reg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In peripheral, p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ratio similar to those in ee/pp suggesting fragmentaton pro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0520" indent="-3268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Fragmentation process should show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&lt;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as seen in ee/pp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In central Au+Au, p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ratio increases with centrality, suggesting other mechan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1222" t="4228" r="10405" b="4781"/>
          <a:stretch/>
        </p:blipFill>
        <p:spPr>
          <a:xfrm>
            <a:off x="0" y="1828800"/>
            <a:ext cx="5181480" cy="358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52388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8040"/>
                </a:solidFill>
                <a:latin typeface="Arial"/>
              </a:rPr>
              <a:t>Phenix; P.R.L. 91(2003)172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61200" y="5638680"/>
            <a:ext cx="328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uark Recombin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Quark Coalescence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14400" y="5486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40"/>
                </a:solidFill>
                <a:latin typeface="Wingdings"/>
                <a:ea typeface="Wingdings"/>
              </a:rPr>
              <a:t>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40"/>
                </a:solidFill>
                <a:latin typeface="Arial"/>
              </a:rPr>
              <a:t>High resolution </a:t>
            </a:r>
            <a:br>
              <a:rPr sz="1800"/>
            </a:br>
            <a:r>
              <a:rPr b="1" lang="ja-JP" sz="1800" spc="-1" strike="noStrike">
                <a:solidFill>
                  <a:srgbClr val="008040"/>
                </a:solidFill>
                <a:latin typeface="Arial"/>
              </a:rPr>
              <a:t>Time-of flight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470E-2B79-447C-9FA6-20EA48AF1D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Quark recombination model (RECO)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14800" y="1295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Quarks, anti-quarks combine to form mesons and baryons from universal quark distribution,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w(pt)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9200" y="1295280"/>
            <a:ext cx="3847320" cy="5334120"/>
            <a:chOff x="169200" y="1295280"/>
            <a:chExt cx="3847320" cy="5334120"/>
          </a:xfrm>
        </p:grpSpPr>
        <p:sp>
          <p:nvSpPr>
            <p:cNvPr id="320" name=""/>
            <p:cNvSpPr/>
            <p:nvPr/>
          </p:nvSpPr>
          <p:spPr>
            <a:xfrm>
              <a:off x="228600" y="1295280"/>
              <a:ext cx="3787920" cy="5334120"/>
            </a:xfrm>
            <a:custGeom>
              <a:avLst/>
              <a:gdLst>
                <a:gd name="textAreaLeft" fmla="*/ 91440 w 3787920"/>
                <a:gd name="textAreaRight" fmla="*/ 3696480 w 3787920"/>
                <a:gd name="textAreaTop" fmla="*/ 91440 h 5334120"/>
                <a:gd name="textAreaBottom" fmla="*/ 5242680 h 5334120"/>
              </a:gdLst>
              <a:ahLst/>
              <a:rect l="textAreaLeft" t="textAreaTop" r="textAreaRight" b="textAreaBottom"/>
              <a:pathLst>
                <a:path w="21600" h="30416">
                  <a:moveTo>
                    <a:pt x="1782" y="0"/>
                  </a:moveTo>
                  <a:arcTo wR="1782" hR="1782" stAng="16200000" swAng="-5400000"/>
                  <a:lnTo>
                    <a:pt x="0" y="28634"/>
                  </a:lnTo>
                  <a:arcTo wR="1782" hR="1782" stAng="10800000" swAng="-5400000"/>
                  <a:lnTo>
                    <a:pt x="19818" y="30416"/>
                  </a:lnTo>
                  <a:arcTo wR="1782" hR="1782" stAng="5400000" swAng="-5400000"/>
                  <a:lnTo>
                    <a:pt x="21600" y="1782"/>
                  </a:lnTo>
                  <a:arcTo wR="1782" hR="1782" stAng="0" swAng="-5400000"/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 rot="5400000">
              <a:off x="544680" y="2861280"/>
              <a:ext cx="4045320" cy="23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04160" y="2406240"/>
              <a:ext cx="370080" cy="2666880"/>
            </a:xfrm>
            <a:prstGeom prst="upArrow">
              <a:avLst>
                <a:gd name="adj1" fmla="val 50000"/>
                <a:gd name="adj2" fmla="val 180156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5400" y="5574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Osaka"/>
                </a:rPr>
                <a:t>QG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9200" y="17967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  <a:ea typeface="Osaka"/>
                </a:rPr>
                <a:t>Had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876920" y="2133720"/>
            <a:ext cx="3898800" cy="838080"/>
            <a:chOff x="4876920" y="2133720"/>
            <a:chExt cx="3898800" cy="838080"/>
          </a:xfrm>
        </p:grpSpPr>
        <p:sp>
          <p:nvSpPr>
            <p:cNvPr id="326" name=""/>
            <p:cNvSpPr/>
            <p:nvPr/>
          </p:nvSpPr>
          <p:spPr>
            <a:xfrm>
              <a:off x="4876920" y="2133720"/>
              <a:ext cx="3657600" cy="838080"/>
            </a:xfrm>
            <a:prstGeom prst="wedgeRoundRectCallout">
              <a:avLst>
                <a:gd name="adj1" fmla="val -83162"/>
                <a:gd name="adj2" fmla="val -1287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  <a:ea typeface="Osaka"/>
                </a:rPr>
                <a:t>Mom. distr. of meson (2q)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  <a:ea typeface="Osaka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5486400" y="2362320"/>
                  <a:ext cx="328932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»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  <m:e/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8" name=""/>
          <p:cNvGrpSpPr/>
          <p:nvPr/>
        </p:nvGrpSpPr>
        <p:grpSpPr>
          <a:xfrm>
            <a:off x="5181480" y="3124080"/>
            <a:ext cx="3692520" cy="876600"/>
            <a:chOff x="5181480" y="3124080"/>
            <a:chExt cx="3692520" cy="876600"/>
          </a:xfrm>
        </p:grpSpPr>
        <p:sp>
          <p:nvSpPr>
            <p:cNvPr id="329" name=""/>
            <p:cNvSpPr/>
            <p:nvPr/>
          </p:nvSpPr>
          <p:spPr>
            <a:xfrm>
              <a:off x="5181480" y="3124080"/>
              <a:ext cx="3581640" cy="876600"/>
            </a:xfrm>
            <a:prstGeom prst="wedgeRoundRectCallout">
              <a:avLst>
                <a:gd name="adj1" fmla="val -97032"/>
                <a:gd name="adj2" fmla="val -3460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  <a:ea typeface="Osaka"/>
                </a:rPr>
                <a:t>Mom. distr. of baryon (3q)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  <a:ea typeface="Osaka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5791320" y="3352680"/>
                  <a:ext cx="308268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»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e>
                          <m:e/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1" name=""/>
          <p:cNvGrpSpPr/>
          <p:nvPr/>
        </p:nvGrpSpPr>
        <p:grpSpPr>
          <a:xfrm>
            <a:off x="4343400" y="4191120"/>
            <a:ext cx="4495680" cy="1676160"/>
            <a:chOff x="4343400" y="4191120"/>
            <a:chExt cx="4495680" cy="1676160"/>
          </a:xfrm>
        </p:grpSpPr>
        <p:sp>
          <p:nvSpPr>
            <p:cNvPr id="332" name=""/>
            <p:cNvSpPr/>
            <p:nvPr/>
          </p:nvSpPr>
          <p:spPr>
            <a:xfrm>
              <a:off x="4343400" y="4191120"/>
              <a:ext cx="4495680" cy="1676160"/>
            </a:xfrm>
            <a:prstGeom prst="wedgeRoundRectCallout">
              <a:avLst>
                <a:gd name="adj1" fmla="val -76800"/>
                <a:gd name="adj2" fmla="val -7098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ja-JP" sz="2000" spc="-1" strike="noStrike">
                  <a:solidFill>
                    <a:srgbClr val="ff0000"/>
                  </a:solidFill>
                  <a:latin typeface="Arial"/>
                </a:rPr>
                <a:t>w(pt)</a:t>
              </a:r>
              <a:r>
                <a:rPr b="0" lang="ja-JP" sz="2000" spc="-1" strike="noStrike">
                  <a:solidFill>
                    <a:srgbClr val="ff0000"/>
                  </a:solidFill>
                  <a:latin typeface="Arial"/>
                </a:rPr>
                <a:t>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Arial"/>
                </a:rPr>
                <a:t>Universal mom.</a:t>
              </a:r>
              <a:br>
                <a:rPr sz="1800"/>
              </a:br>
              <a:r>
                <a:rPr b="0" lang="ja-JP" sz="1800" spc="-1" strike="noStrike">
                  <a:solidFill>
                    <a:srgbClr val="ff0000"/>
                  </a:solidFill>
                  <a:latin typeface="Arial"/>
                </a:rPr>
                <a:t> distr. of quar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800" spc="-1" strike="noStrike">
                  <a:solidFill>
                    <a:srgbClr val="ff0000"/>
                  </a:solidFill>
                  <a:latin typeface="Arial"/>
                </a:rPr>
                <a:t>｛</a:t>
              </a:r>
              <a:r>
                <a:rPr b="0" i="1" lang="ja-JP" sz="1800" spc="-1" strike="noStrike">
                  <a:solidFill>
                    <a:srgbClr val="ff0000"/>
                  </a:solidFill>
                  <a:latin typeface="Arial"/>
                </a:rPr>
                <a:t>steep in p</a:t>
              </a:r>
              <a:r>
                <a:rPr b="0" i="1" lang="ja-JP" sz="16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i="1" lang="ja-JP" sz="1800" spc="-1" strike="noStrike">
                  <a:solidFill>
                    <a:srgbClr val="ff0000"/>
                  </a:solidFill>
                  <a:latin typeface="Arial"/>
                </a:rPr>
                <a:t>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6700680" y="4252680"/>
              <a:ext cx="1783080" cy="1553040"/>
              <a:chOff x="6700680" y="4252680"/>
              <a:chExt cx="1783080" cy="1553040"/>
            </a:xfrm>
          </p:grpSpPr>
          <p:pic>
            <p:nvPicPr>
              <p:cNvPr id="334" name="" descr=""/>
              <p:cNvPicPr/>
              <p:nvPr/>
            </p:nvPicPr>
            <p:blipFill>
              <a:blip r:embed="rId2"/>
              <a:srcRect l="22449" t="27205" r="29618" b="2127"/>
              <a:stretch/>
            </p:blipFill>
            <p:spPr>
              <a:xfrm>
                <a:off x="6700680" y="4252680"/>
                <a:ext cx="1783080" cy="155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 flipV="1">
                <a:off x="7802640" y="5351760"/>
                <a:ext cx="0" cy="299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214000">
                <a:off x="8176680" y="5551560"/>
                <a:ext cx="204480" cy="99360"/>
              </a:xfrm>
              <a:prstGeom prst="ellipse">
                <a:avLst/>
              </a:prstGeom>
              <a:solidFill>
                <a:srgbClr val="3366ff">
                  <a:alpha val="45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850160" y="5317920"/>
                <a:ext cx="366120" cy="233640"/>
              </a:xfrm>
              <a:custGeom>
                <a:avLst/>
                <a:gdLst/>
                <a:ahLst/>
                <a:rect l="l" t="t" r="r" b="b"/>
                <a:pathLst>
                  <a:path w="408" h="317">
                    <a:moveTo>
                      <a:pt x="408" y="317"/>
                    </a:moveTo>
                    <a:cubicBezTo>
                      <a:pt x="374" y="203"/>
                      <a:pt x="340" y="90"/>
                      <a:pt x="272" y="45"/>
                    </a:cubicBezTo>
                    <a:cubicBezTo>
                      <a:pt x="204" y="0"/>
                      <a:pt x="45" y="45"/>
                      <a:pt x="0" y="45"/>
                    </a:cubicBezTo>
                  </a:path>
                </a:pathLst>
              </a:custGeom>
              <a:noFill/>
              <a:ln w="28440">
                <a:solidFill>
                  <a:srgbClr val="3366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3308400">
                <a:off x="7324200" y="4973760"/>
                <a:ext cx="164880" cy="122040"/>
              </a:xfrm>
              <a:prstGeom prst="ellipse">
                <a:avLst/>
              </a:prstGeom>
              <a:solidFill>
                <a:srgbClr val="996600">
                  <a:alpha val="72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427160" y="5101920"/>
                <a:ext cx="381240" cy="249480"/>
              </a:xfrm>
              <a:custGeom>
                <a:avLst/>
                <a:gdLst/>
                <a:ahLst/>
                <a:rect l="l" t="t" r="r" b="b"/>
                <a:pathLst>
                  <a:path w="379" h="317">
                    <a:moveTo>
                      <a:pt x="16" y="0"/>
                    </a:moveTo>
                    <a:cubicBezTo>
                      <a:pt x="8" y="64"/>
                      <a:pt x="0" y="128"/>
                      <a:pt x="61" y="181"/>
                    </a:cubicBezTo>
                    <a:cubicBezTo>
                      <a:pt x="122" y="234"/>
                      <a:pt x="250" y="275"/>
                      <a:pt x="379" y="317"/>
                    </a:cubicBezTo>
                  </a:path>
                </a:pathLst>
              </a:custGeom>
              <a:noFill/>
              <a:ln w="28440">
                <a:solidFill>
                  <a:srgbClr val="9966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271280" y="5019840"/>
                <a:ext cx="497520" cy="405000"/>
              </a:xfrm>
              <a:custGeom>
                <a:avLst/>
                <a:gdLst/>
                <a:ahLst/>
                <a:rect l="l" t="t" r="r" b="b"/>
                <a:pathLst>
                  <a:path w="551" h="552">
                    <a:moveTo>
                      <a:pt x="98" y="0"/>
                    </a:moveTo>
                    <a:cubicBezTo>
                      <a:pt x="49" y="49"/>
                      <a:pt x="0" y="98"/>
                      <a:pt x="7" y="181"/>
                    </a:cubicBezTo>
                    <a:cubicBezTo>
                      <a:pt x="14" y="264"/>
                      <a:pt x="52" y="446"/>
                      <a:pt x="143" y="499"/>
                    </a:cubicBezTo>
                    <a:cubicBezTo>
                      <a:pt x="234" y="552"/>
                      <a:pt x="392" y="525"/>
                      <a:pt x="551" y="499"/>
                    </a:cubicBezTo>
                  </a:path>
                </a:pathLst>
              </a:custGeom>
              <a:noFill/>
              <a:ln w="28440">
                <a:solidFill>
                  <a:srgbClr val="9966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870400">
                <a:off x="7149240" y="4807440"/>
                <a:ext cx="182520" cy="121680"/>
              </a:xfrm>
              <a:prstGeom prst="ellipse">
                <a:avLst/>
              </a:prstGeom>
              <a:solidFill>
                <a:srgbClr val="008000">
                  <a:alpha val="51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318800" y="4847040"/>
                <a:ext cx="489600" cy="470880"/>
              </a:xfrm>
              <a:custGeom>
                <a:avLst/>
                <a:gdLst/>
                <a:ahLst/>
                <a:rect l="l" t="t" r="r" b="b"/>
                <a:pathLst>
                  <a:path w="544" h="642">
                    <a:moveTo>
                      <a:pt x="0" y="52"/>
                    </a:moveTo>
                    <a:cubicBezTo>
                      <a:pt x="67" y="26"/>
                      <a:pt x="135" y="0"/>
                      <a:pt x="226" y="98"/>
                    </a:cubicBezTo>
                    <a:cubicBezTo>
                      <a:pt x="317" y="196"/>
                      <a:pt x="491" y="551"/>
                      <a:pt x="544" y="642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277400" y="4730040"/>
                <a:ext cx="584640" cy="587880"/>
              </a:xfrm>
              <a:custGeom>
                <a:avLst/>
                <a:gdLst/>
                <a:ahLst/>
                <a:rect l="l" t="t" r="r" b="b"/>
                <a:pathLst>
                  <a:path w="650" h="802">
                    <a:moveTo>
                      <a:pt x="0" y="121"/>
                    </a:moveTo>
                    <a:cubicBezTo>
                      <a:pt x="64" y="60"/>
                      <a:pt x="129" y="0"/>
                      <a:pt x="227" y="76"/>
                    </a:cubicBezTo>
                    <a:cubicBezTo>
                      <a:pt x="325" y="152"/>
                      <a:pt x="530" y="454"/>
                      <a:pt x="590" y="575"/>
                    </a:cubicBezTo>
                    <a:cubicBezTo>
                      <a:pt x="650" y="696"/>
                      <a:pt x="620" y="749"/>
                      <a:pt x="590" y="802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18800" y="4785840"/>
                <a:ext cx="489600" cy="465840"/>
              </a:xfrm>
              <a:custGeom>
                <a:avLst/>
                <a:gdLst/>
                <a:ahLst/>
                <a:rect l="l" t="t" r="r" b="b"/>
                <a:pathLst>
                  <a:path w="544" h="635">
                    <a:moveTo>
                      <a:pt x="0" y="91"/>
                    </a:moveTo>
                    <a:cubicBezTo>
                      <a:pt x="34" y="45"/>
                      <a:pt x="68" y="0"/>
                      <a:pt x="136" y="45"/>
                    </a:cubicBezTo>
                    <a:cubicBezTo>
                      <a:pt x="204" y="90"/>
                      <a:pt x="340" y="265"/>
                      <a:pt x="408" y="363"/>
                    </a:cubicBezTo>
                    <a:cubicBezTo>
                      <a:pt x="476" y="461"/>
                      <a:pt x="510" y="548"/>
                      <a:pt x="544" y="635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228600" y="6095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Because of the steep distr. of </a:t>
            </a:r>
            <a:r>
              <a:rPr b="0" i="1" lang="ja-JP" sz="1600" spc="-1" strike="noStrike">
                <a:solidFill>
                  <a:srgbClr val="0000ff"/>
                </a:solidFill>
                <a:latin typeface="Arial"/>
              </a:rPr>
              <a:t>w(pt),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ja-JP" sz="1600" spc="-1" strike="noStrike">
                <a:solidFill>
                  <a:srgbClr val="0000ff"/>
                </a:solidFill>
                <a:latin typeface="Arial"/>
              </a:rPr>
              <a:t>RECO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 wins at high pt even w. small </a:t>
            </a:r>
            <a:r>
              <a:rPr b="0" i="1" lang="ja-JP" sz="1600" spc="-1" strike="noStrike">
                <a:solidFill>
                  <a:srgbClr val="0000ff"/>
                </a:solidFill>
                <a:latin typeface="Arial"/>
              </a:rPr>
              <a:t>Cx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91240" y="5943600"/>
            <a:ext cx="68864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ヒラギノ角ゴ Pro W3"/>
              </a:rPr>
              <a:t>Characteristic scaling features exp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i="1" lang="ja-JP" sz="2000" spc="-1" strike="noStrike">
                <a:solidFill>
                  <a:srgbClr val="ff0000"/>
                </a:solidFill>
                <a:latin typeface="Tahoma"/>
                <a:ea typeface="ヒラギノ角ゴ Pro W3"/>
              </a:rPr>
              <a:t>Quark number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D3909-B456-40DC-B61A-52A0DEC463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66"/>
                </a:solidFill>
                <a:latin typeface="Tahoma"/>
              </a:rPr>
              <a:t>Proton dominance by RECO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57146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mbination model explains the proton domin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324480" cy="42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4C880-1816-4C4D-B606-2C85A5EE1C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169200" y="1295280"/>
            <a:ext cx="3847320" cy="5334120"/>
            <a:chOff x="169200" y="1295280"/>
            <a:chExt cx="3847320" cy="5334120"/>
          </a:xfrm>
        </p:grpSpPr>
        <p:sp>
          <p:nvSpPr>
            <p:cNvPr id="351" name=""/>
            <p:cNvSpPr/>
            <p:nvPr/>
          </p:nvSpPr>
          <p:spPr>
            <a:xfrm>
              <a:off x="228600" y="1295280"/>
              <a:ext cx="3787920" cy="5334120"/>
            </a:xfrm>
            <a:custGeom>
              <a:avLst/>
              <a:gdLst>
                <a:gd name="textAreaLeft" fmla="*/ 91440 w 3787920"/>
                <a:gd name="textAreaRight" fmla="*/ 3696480 w 3787920"/>
                <a:gd name="textAreaTop" fmla="*/ 91440 h 5334120"/>
                <a:gd name="textAreaBottom" fmla="*/ 5242680 h 5334120"/>
              </a:gdLst>
              <a:ahLst/>
              <a:rect l="textAreaLeft" t="textAreaTop" r="textAreaRight" b="textAreaBottom"/>
              <a:pathLst>
                <a:path w="21600" h="30416">
                  <a:moveTo>
                    <a:pt x="1782" y="0"/>
                  </a:moveTo>
                  <a:arcTo wR="1782" hR="1782" stAng="16200000" swAng="-5400000"/>
                  <a:lnTo>
                    <a:pt x="0" y="28634"/>
                  </a:lnTo>
                  <a:arcTo wR="1782" hR="1782" stAng="10800000" swAng="-5400000"/>
                  <a:lnTo>
                    <a:pt x="19818" y="30416"/>
                  </a:lnTo>
                  <a:arcTo wR="1782" hR="1782" stAng="5400000" swAng="-5400000"/>
                  <a:lnTo>
                    <a:pt x="21600" y="1782"/>
                  </a:lnTo>
                  <a:arcTo wR="1782" hR="1782" stAng="0" swAng="-5400000"/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1"/>
            <a:stretch/>
          </p:blipFill>
          <p:spPr>
            <a:xfrm rot="5400000">
              <a:off x="544680" y="2861280"/>
              <a:ext cx="4045320" cy="23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04160" y="2406240"/>
              <a:ext cx="370080" cy="2666880"/>
            </a:xfrm>
            <a:prstGeom prst="upArrow">
              <a:avLst>
                <a:gd name="adj1" fmla="val 50000"/>
                <a:gd name="adj2" fmla="val 180156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5400" y="5574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Osaka"/>
                </a:rPr>
                <a:t>QG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9200" y="17967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  <a:ea typeface="Osaka"/>
                </a:rPr>
                <a:t>Had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214200"/>
            <a:ext cx="7543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V</a:t>
            </a:r>
            <a:r>
              <a:rPr b="1" i="1" lang="ja-JP" sz="3600" spc="-1" strike="noStrike" baseline="-25000">
                <a:solidFill>
                  <a:srgbClr val="330066"/>
                </a:solidFill>
                <a:latin typeface="Tahoma"/>
              </a:rPr>
              <a:t>2</a:t>
            </a: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 from RECO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114800" y="1371240"/>
            <a:ext cx="50292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haracteristic scaling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4343400" y="5854680"/>
            <a:ext cx="4495680" cy="851040"/>
          </a:xfrm>
          <a:prstGeom prst="wedgeRoundRectCallout">
            <a:avLst>
              <a:gd name="adj1" fmla="val -80791"/>
              <a:gd name="adj2" fmla="val -141976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Azimuthal distr of quark;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2265480"/>
            <a:ext cx="3657600" cy="1509480"/>
          </a:xfrm>
          <a:prstGeom prst="wedgeRoundRectCallout">
            <a:avLst>
              <a:gd name="adj1" fmla="val -102865"/>
              <a:gd name="adj2" fmla="val -2823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  <a:ea typeface="Osaka"/>
              </a:rPr>
              <a:t>Azimutal distr. of meson (2q)</a:t>
            </a:r>
            <a:r>
              <a:rPr b="0" lang="ja-JP" sz="1800" spc="-1" strike="noStrike">
                <a:solidFill>
                  <a:srgbClr val="ff0000"/>
                </a:solidFill>
                <a:latin typeface="Times New Roman"/>
                <a:ea typeface="Osaka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32320" y="4048200"/>
            <a:ext cx="3581640" cy="1550880"/>
          </a:xfrm>
          <a:prstGeom prst="wedgeRoundRectCallout">
            <a:avLst>
              <a:gd name="adj1" fmla="val -103768"/>
              <a:gd name="adj2" fmla="val -94726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  <a:ea typeface="Osaka"/>
              </a:rPr>
              <a:t>Azimuthal distr. of baryon (3q)</a:t>
            </a:r>
            <a:r>
              <a:rPr b="0" lang="ja-JP" sz="1800" spc="-1" strike="noStrike">
                <a:solidFill>
                  <a:srgbClr val="ff0000"/>
                </a:solidFill>
                <a:latin typeface="Times New Roman"/>
                <a:ea typeface="Osaka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800680" y="2602080"/>
                <a:ext cx="334332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f</m:t>
                            </m:r>
                          </m:den>
                        </m:f>
                        <m:sSup>
                          <m:e>
                            <m:r>
                              <m:t xml:space="preserve">µ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»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600880" y="4440240"/>
                <a:ext cx="31161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f</m:t>
                            </m:r>
                          </m:den>
                        </m:f>
                        <m:sSup>
                          <m:e>
                            <m:r>
                              <m:t xml:space="preserve">µw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»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342040" y="6197760"/>
                <a:ext cx="25905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µ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BBFCC-CAFE-4A83-8A5B-5D9C45969C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Quark number scaling observed!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54864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Quark number scaling clearly observed in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istinct difference between Baryon Meson also seen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in 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, yield ratio of central and peripheral co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968280" y="1801800"/>
            <a:ext cx="5023080" cy="3395520"/>
            <a:chOff x="3968280" y="1801800"/>
            <a:chExt cx="5023080" cy="3395520"/>
          </a:xfrm>
        </p:grpSpPr>
        <p:pic>
          <p:nvPicPr>
            <p:cNvPr id="367" name="" descr=""/>
            <p:cNvPicPr/>
            <p:nvPr/>
          </p:nvPicPr>
          <p:blipFill>
            <a:blip r:embed="rId1"/>
            <a:srcRect l="1565" t="0" r="8197" b="0"/>
            <a:stretch/>
          </p:blipFill>
          <p:spPr>
            <a:xfrm>
              <a:off x="3989160" y="1801800"/>
              <a:ext cx="5002200" cy="33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968280" y="1819440"/>
              <a:ext cx="202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resented by M. Lamont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(QM0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26320" y="2950920"/>
              <a:ext cx="3538440" cy="803160"/>
            </a:xfrm>
            <a:custGeom>
              <a:avLst/>
              <a:gdLst/>
              <a:ahLst/>
              <a:rect l="l" t="t" r="r" b="b"/>
              <a:pathLst>
                <a:path w="2784" h="632">
                  <a:moveTo>
                    <a:pt x="0" y="200"/>
                  </a:moveTo>
                  <a:cubicBezTo>
                    <a:pt x="72" y="164"/>
                    <a:pt x="144" y="128"/>
                    <a:pt x="192" y="104"/>
                  </a:cubicBezTo>
                  <a:cubicBezTo>
                    <a:pt x="240" y="80"/>
                    <a:pt x="256" y="72"/>
                    <a:pt x="288" y="56"/>
                  </a:cubicBezTo>
                  <a:cubicBezTo>
                    <a:pt x="320" y="40"/>
                    <a:pt x="344" y="16"/>
                    <a:pt x="384" y="8"/>
                  </a:cubicBezTo>
                  <a:cubicBezTo>
                    <a:pt x="424" y="0"/>
                    <a:pt x="488" y="8"/>
                    <a:pt x="528" y="8"/>
                  </a:cubicBezTo>
                  <a:cubicBezTo>
                    <a:pt x="568" y="8"/>
                    <a:pt x="576" y="0"/>
                    <a:pt x="624" y="8"/>
                  </a:cubicBezTo>
                  <a:cubicBezTo>
                    <a:pt x="672" y="16"/>
                    <a:pt x="760" y="40"/>
                    <a:pt x="816" y="56"/>
                  </a:cubicBezTo>
                  <a:cubicBezTo>
                    <a:pt x="872" y="72"/>
                    <a:pt x="904" y="80"/>
                    <a:pt x="960" y="104"/>
                  </a:cubicBezTo>
                  <a:cubicBezTo>
                    <a:pt x="1016" y="128"/>
                    <a:pt x="1088" y="168"/>
                    <a:pt x="1152" y="200"/>
                  </a:cubicBezTo>
                  <a:cubicBezTo>
                    <a:pt x="1216" y="232"/>
                    <a:pt x="1280" y="264"/>
                    <a:pt x="1344" y="296"/>
                  </a:cubicBezTo>
                  <a:cubicBezTo>
                    <a:pt x="1408" y="328"/>
                    <a:pt x="1440" y="360"/>
                    <a:pt x="1536" y="392"/>
                  </a:cubicBezTo>
                  <a:cubicBezTo>
                    <a:pt x="1632" y="424"/>
                    <a:pt x="1824" y="464"/>
                    <a:pt x="1920" y="488"/>
                  </a:cubicBezTo>
                  <a:cubicBezTo>
                    <a:pt x="2016" y="512"/>
                    <a:pt x="2048" y="520"/>
                    <a:pt x="2112" y="536"/>
                  </a:cubicBezTo>
                  <a:cubicBezTo>
                    <a:pt x="2176" y="552"/>
                    <a:pt x="2192" y="568"/>
                    <a:pt x="2304" y="584"/>
                  </a:cubicBezTo>
                  <a:cubicBezTo>
                    <a:pt x="2416" y="600"/>
                    <a:pt x="2704" y="624"/>
                    <a:pt x="2784" y="632"/>
                  </a:cubicBezTo>
                </a:path>
              </a:pathLst>
            </a:custGeom>
            <a:noFill/>
            <a:ln w="2556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6320" y="2747520"/>
              <a:ext cx="3538440" cy="1006560"/>
            </a:xfrm>
            <a:custGeom>
              <a:avLst/>
              <a:gdLst/>
              <a:ahLst/>
              <a:rect l="l" t="t" r="r" b="b"/>
              <a:pathLst>
                <a:path w="2784" h="792">
                  <a:moveTo>
                    <a:pt x="0" y="312"/>
                  </a:moveTo>
                  <a:cubicBezTo>
                    <a:pt x="44" y="300"/>
                    <a:pt x="88" y="288"/>
                    <a:pt x="144" y="264"/>
                  </a:cubicBezTo>
                  <a:cubicBezTo>
                    <a:pt x="200" y="240"/>
                    <a:pt x="272" y="192"/>
                    <a:pt x="336" y="168"/>
                  </a:cubicBezTo>
                  <a:cubicBezTo>
                    <a:pt x="400" y="144"/>
                    <a:pt x="456" y="136"/>
                    <a:pt x="528" y="120"/>
                  </a:cubicBezTo>
                  <a:cubicBezTo>
                    <a:pt x="600" y="104"/>
                    <a:pt x="704" y="88"/>
                    <a:pt x="768" y="72"/>
                  </a:cubicBezTo>
                  <a:cubicBezTo>
                    <a:pt x="832" y="56"/>
                    <a:pt x="856" y="32"/>
                    <a:pt x="912" y="24"/>
                  </a:cubicBezTo>
                  <a:cubicBezTo>
                    <a:pt x="968" y="16"/>
                    <a:pt x="1040" y="24"/>
                    <a:pt x="1104" y="24"/>
                  </a:cubicBezTo>
                  <a:cubicBezTo>
                    <a:pt x="1168" y="24"/>
                    <a:pt x="1208" y="0"/>
                    <a:pt x="1296" y="24"/>
                  </a:cubicBezTo>
                  <a:cubicBezTo>
                    <a:pt x="1384" y="48"/>
                    <a:pt x="1560" y="136"/>
                    <a:pt x="1632" y="168"/>
                  </a:cubicBezTo>
                  <a:cubicBezTo>
                    <a:pt x="1704" y="200"/>
                    <a:pt x="1680" y="192"/>
                    <a:pt x="1728" y="216"/>
                  </a:cubicBezTo>
                  <a:cubicBezTo>
                    <a:pt x="1776" y="240"/>
                    <a:pt x="1872" y="280"/>
                    <a:pt x="1920" y="312"/>
                  </a:cubicBezTo>
                  <a:cubicBezTo>
                    <a:pt x="1968" y="344"/>
                    <a:pt x="1936" y="344"/>
                    <a:pt x="2016" y="408"/>
                  </a:cubicBezTo>
                  <a:cubicBezTo>
                    <a:pt x="2096" y="472"/>
                    <a:pt x="2272" y="632"/>
                    <a:pt x="2400" y="696"/>
                  </a:cubicBezTo>
                  <a:cubicBezTo>
                    <a:pt x="2528" y="760"/>
                    <a:pt x="2656" y="776"/>
                    <a:pt x="2784" y="79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3000" y="2778120"/>
              <a:ext cx="122940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ry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45160" y="3831840"/>
              <a:ext cx="1095120" cy="459720"/>
            </a:xfrm>
            <a:prstGeom prst="rect">
              <a:avLst/>
            </a:pr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es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" descr=""/>
          <p:cNvPicPr/>
          <p:nvPr/>
        </p:nvPicPr>
        <p:blipFill>
          <a:blip r:embed="rId2"/>
          <a:srcRect l="0" t="3344" r="0" b="0"/>
          <a:stretch/>
        </p:blipFill>
        <p:spPr>
          <a:xfrm>
            <a:off x="0" y="1981080"/>
            <a:ext cx="4648320" cy="318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DD0A7-3AFA-4D66-B7A1-5F9B18457F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5059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5715000" y="4648320"/>
            <a:ext cx="1752480" cy="405720"/>
          </a:xfrm>
          <a:prstGeom prst="rect">
            <a:avLst/>
          </a:pr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–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Mass ordering of quarks?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5486040" y="1447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8040"/>
                </a:solidFill>
                <a:latin typeface="Arial"/>
              </a:rPr>
              <a:t>WWND 2006, M. Iss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5943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Accidental OR ordering in mass of quark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919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xistence of hypersurface where QGP converted to hadron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5936040" y="579132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ff0000"/>
                </a:solidFill>
                <a:latin typeface="Arial"/>
              </a:rPr>
              <a:t>Kinetic energy of constituent qu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A8D9-AB3B-4F2A-B3B0-42FA90CF92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5562720" y="4419720"/>
            <a:ext cx="2965320" cy="2162160"/>
            <a:chOff x="5562720" y="4419720"/>
            <a:chExt cx="2965320" cy="216216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5562720" y="4419720"/>
              <a:ext cx="296532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 rot="19423200">
              <a:off x="6968880" y="5519160"/>
              <a:ext cx="368280" cy="24372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Study of electron for charm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7640" y="1219320"/>
            <a:ext cx="4144680" cy="4267080"/>
            <a:chOff x="17640" y="1219320"/>
            <a:chExt cx="4144680" cy="4267080"/>
          </a:xfrm>
        </p:grpSpPr>
        <p:pic>
          <p:nvPicPr>
            <p:cNvPr id="385" name="" descr=""/>
            <p:cNvPicPr/>
            <p:nvPr/>
          </p:nvPicPr>
          <p:blipFill>
            <a:blip r:embed="rId2"/>
            <a:stretch/>
          </p:blipFill>
          <p:spPr>
            <a:xfrm>
              <a:off x="17640" y="1219320"/>
              <a:ext cx="414468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 flipV="1">
              <a:off x="1023840" y="2304360"/>
              <a:ext cx="290160" cy="294840"/>
            </a:xfrm>
            <a:prstGeom prst="line">
              <a:avLst/>
            </a:prstGeom>
            <a:ln w="28440">
              <a:solidFill>
                <a:srgbClr val="d8d8ec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1123920" y="2597400"/>
              <a:ext cx="290160" cy="294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1225440" y="2964600"/>
              <a:ext cx="445680" cy="407880"/>
            </a:xfrm>
            <a:prstGeom prst="line">
              <a:avLst/>
            </a:prstGeom>
            <a:ln w="28440">
              <a:solidFill>
                <a:srgbClr val="669999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1366560" y="3328560"/>
              <a:ext cx="645840" cy="587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1504800" y="3605760"/>
              <a:ext cx="828360" cy="63972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95120" y="2042640"/>
              <a:ext cx="138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ff00"/>
                  </a:solidFill>
                  <a:latin typeface="Times New Roman"/>
                </a:rPr>
                <a:t>co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831600" y="3909600"/>
              <a:ext cx="29880" cy="36108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04800" y="4750200"/>
              <a:ext cx="267840" cy="17280"/>
            </a:xfrm>
            <a:prstGeom prst="line">
              <a:avLst/>
            </a:prstGeom>
            <a:ln w="28440">
              <a:solidFill>
                <a:srgbClr val="6666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05360" y="2379600"/>
              <a:ext cx="91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81840" y="2751840"/>
              <a:ext cx="123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99"/>
                  </a:solidFill>
                  <a:latin typeface="Symbol"/>
                  <a:ea typeface="Symbol"/>
                </a:rPr>
                <a:t></a:t>
              </a:r>
              <a:r>
                <a:rPr b="1" lang="en-US" sz="1600" spc="-1" strike="noStrike">
                  <a:solidFill>
                    <a:srgbClr val="669999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669999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669999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669999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669999"/>
                  </a:solidFill>
                  <a:latin typeface="Times New Roman"/>
                </a:rPr>
                <a:t>ee, 3</a:t>
              </a:r>
              <a:r>
                <a:rPr b="1" lang="en-US" sz="1600" spc="-1" strike="noStrike">
                  <a:solidFill>
                    <a:srgbClr val="669999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 baseline="30000">
                  <a:solidFill>
                    <a:srgbClr val="669999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2400" y="3101760"/>
              <a:ext cx="12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</a:t>
              </a:r>
              <a:r>
                <a:rPr b="1" lang="ja-JP" sz="16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lang="ja-JP" sz="16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</a:t>
              </a:r>
              <a:r>
                <a:rPr b="1" lang="ja-JP" sz="16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lang="ja-JP" sz="1600" spc="-1" strike="noStrike">
                  <a:solidFill>
                    <a:srgbClr val="00cc99"/>
                  </a:solidFill>
                  <a:latin typeface="Times New Roman"/>
                </a:rPr>
                <a:t>ee, </a:t>
              </a:r>
              <a:r>
                <a:rPr b="1" lang="ja-JP" sz="16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</a:t>
              </a:r>
              <a:r>
                <a:rPr b="1" lang="ja-JP" sz="1600" spc="-1" strike="noStrike" baseline="30000">
                  <a:solidFill>
                    <a:srgbClr val="00cc99"/>
                  </a:solidFill>
                  <a:latin typeface="Times New Roman"/>
                </a:rPr>
                <a:t>0</a:t>
              </a:r>
              <a:r>
                <a:rPr b="1" lang="ja-JP" sz="1600" spc="-1" strike="noStrike">
                  <a:solidFill>
                    <a:srgbClr val="00cc99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78440" y="3408480"/>
              <a:ext cx="113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6666ff"/>
                  </a:solidFill>
                  <a:latin typeface="Symbol"/>
                  <a:ea typeface="Symbol"/>
                </a:rPr>
                <a:t></a:t>
              </a:r>
              <a:r>
                <a:rPr b="1" lang="ja-JP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1" lang="ja-JP" sz="1600" spc="-1" strike="noStrike">
                  <a:solidFill>
                    <a:srgbClr val="6666ff"/>
                  </a:solidFill>
                  <a:latin typeface="Symbol"/>
                  <a:ea typeface="Symbol"/>
                </a:rPr>
                <a:t></a:t>
              </a:r>
              <a:r>
                <a:rPr b="1" lang="ja-JP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1" lang="ja-JP" sz="1600" spc="-1" strike="noStrike">
                  <a:solidFill>
                    <a:srgbClr val="6666ff"/>
                  </a:solidFill>
                  <a:latin typeface="Times New Roman"/>
                </a:rPr>
                <a:t>ee, </a:t>
              </a:r>
              <a:r>
                <a:rPr b="1" lang="ja-JP" sz="1600" spc="-1" strike="noStrike">
                  <a:solidFill>
                    <a:srgbClr val="6666ff"/>
                  </a:solidFill>
                  <a:latin typeface="Symbol"/>
                  <a:ea typeface="Symbol"/>
                </a:rPr>
                <a:t></a:t>
              </a:r>
              <a:r>
                <a:rPr b="1" lang="ja-JP" sz="1600" spc="-1" strike="noStrike">
                  <a:solidFill>
                    <a:srgbClr val="6666ff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1760" y="4191480"/>
              <a:ext cx="73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</a:t>
              </a:r>
              <a:r>
                <a:rPr b="1" lang="ja-JP" sz="16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r>
                <a:rPr b="1" lang="ja-JP" sz="16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</a:t>
              </a:r>
              <a:r>
                <a:rPr b="1" lang="ja-JP" sz="16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r>
                <a:rPr b="1" lang="ja-JP" sz="1600" spc="-1" strike="noStrike">
                  <a:solidFill>
                    <a:srgbClr val="666633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4800" y="4606920"/>
              <a:ext cx="92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99"/>
                  </a:solidFill>
                  <a:latin typeface="Symbol"/>
                  <a:ea typeface="Symbol"/>
                </a:rPr>
                <a:t></a:t>
              </a:r>
              <a:r>
                <a:rPr b="1" lang="en-US" sz="1600" spc="-1" strike="noStrike">
                  <a:solidFill>
                    <a:srgbClr val="666699"/>
                  </a:solidFill>
                  <a:latin typeface="Times New Roman"/>
                </a:rPr>
                <a:t>’ </a:t>
              </a:r>
              <a:r>
                <a:rPr b="1" lang="en-US" sz="1600" spc="-1" strike="noStrike">
                  <a:solidFill>
                    <a:srgbClr val="666699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666699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666699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666699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>
            <a:off x="1007640" y="2286000"/>
            <a:ext cx="304920" cy="3049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5486400"/>
          <a:ext cx="403848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86400"/>
                    <a:ext cx="40384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3522600" y="449568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62160" y="1437840"/>
            <a:ext cx="4978440" cy="27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Origins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7360" indent="-28512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photonic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9640" indent="-240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Dalitz decays of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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09640" indent="-240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Photon conver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7360" indent="-28512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non-photonic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9640" indent="-240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emi-leptonic decays of heavy flavored mes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Electron yields are consistent with those photonic + charm dec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3184560" y="6086520"/>
            <a:ext cx="0" cy="550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8CD4A-259F-469A-A3D5-D62D66A927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Reasons why I love </a:t>
            </a:r>
            <a:br>
              <a:rPr sz="3600"/>
            </a:b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azimuthal anisotropy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9000" y="27432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Info. on mean free path </a:t>
            </a:r>
            <a:r>
              <a:rPr b="0" i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8760" indent="-26136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Anisotropy of the coordinate space converted to that of the momentum spa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lear origin of the signal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5960" indent="-3092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Geometry is cl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5960" indent="-3092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From eccentricity to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5960" indent="-3092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entrailty dependence gives good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ensitivity to the early stage of collisions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553080" y="1523880"/>
                <a:ext cx="2060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33920" y="1523880"/>
                <a:ext cx="20574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3240" y="1676520"/>
            <a:ext cx="3695400" cy="4269960"/>
            <a:chOff x="3240" y="1676520"/>
            <a:chExt cx="3695400" cy="426996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70920" y="3027600"/>
              <a:ext cx="3556440" cy="29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70920" y="1676520"/>
              <a:ext cx="3200760" cy="238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240" y="18183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e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60680" y="3383280"/>
              <a:ext cx="113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lmond sha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F3CC-D410-456B-9B5A-4E3007A77B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Charm v</a:t>
            </a:r>
            <a:r>
              <a:rPr b="1" i="1" lang="ja-JP" sz="3600" spc="-1" strike="noStrike" baseline="-25000">
                <a:solidFill>
                  <a:srgbClr val="330066"/>
                </a:solidFill>
                <a:latin typeface="Tahoma"/>
              </a:rPr>
              <a:t>2</a:t>
            </a: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 from electrons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Measure v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of inclusive electr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valuate contribution of photonic electr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4560" indent="-33372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cktail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4560" indent="-33372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verter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hen, subtract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07080" y="5029200"/>
            <a:ext cx="7910640" cy="1831320"/>
            <a:chOff x="307080" y="5029200"/>
            <a:chExt cx="7910640" cy="1831320"/>
          </a:xfrm>
        </p:grpSpPr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1219320" y="5029200"/>
                  <a:ext cx="6705360" cy="108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[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2</m:t>
                          </m:r>
                          <m:r>
                            <m:t xml:space="preserve">f</m:t>
                          </m:r>
                          <m:r>
                            <m:t xml:space="preserve">]</m:t>
                          </m:r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  <m:sup>
                              <m:r>
                                <m:t xml:space="preserve">g</m:t>
                              </m:r>
                            </m:sup>
                          </m:sSubSup>
                          <m:r>
                            <m:t xml:space="preserve">[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e</m:t>
                              </m:r>
                            </m:sub>
                            <m:sup>
                              <m:r>
                                <m:t xml:space="preserve">g</m:t>
                              </m:r>
                            </m:sup>
                          </m:sSubSup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2</m:t>
                          </m:r>
                          <m:r>
                            <m:t xml:space="preserve">f</m:t>
                          </m:r>
                          <m:r>
                            <m:t xml:space="preserve">]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o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g</m:t>
                              </m:r>
                            </m:sup>
                          </m:sSubSup>
                          <m:r>
                            <m:t xml:space="preserve">[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e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o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g</m:t>
                              </m:r>
                            </m:sup>
                          </m:sSubSup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2</m:t>
                          </m:r>
                          <m:r>
                            <m:t xml:space="preserve">f</m:t>
                          </m:r>
                          <m:r>
                            <m:t xml:space="preserve">]</m:t>
                          </m:r>
                        </m:e>
                        <m:e>
                          <m:r>
                            <m:t xml:space="preserve">(</m:t>
                          </m:r>
                          <m:sSubSup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  <m:sup>
                              <m:r>
                                <m:t xml:space="preserve">g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o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g</m:t>
                              </m:r>
                            </m:sup>
                          </m:sSubSup>
                          <m:r>
                            <m:t xml:space="preserve">)</m:t>
                          </m:r>
                          <m:r>
                            <m:t xml:space="preserve">[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  <m:sup>
                                  <m:r>
                                    <m:t xml:space="preserve">g</m:t>
                                  </m:r>
                                </m:sup>
                              </m:sSubSup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e</m:t>
                                  </m:r>
                                </m:sub>
                                <m:sup>
                                  <m:r>
                                    <m:t xml:space="preserve">g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o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g</m:t>
                                  </m:r>
                                </m:sup>
                              </m:sSubSup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e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o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g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  <m:sup>
                                  <m:r>
                                    <m:t xml:space="preserve">g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o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g</m:t>
                                  </m:r>
                                </m:sup>
                              </m:sSubSup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2</m:t>
                          </m:r>
                          <m:r>
                            <m:t xml:space="preserve">f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10" name=""/>
            <p:cNvSpPr/>
            <p:nvPr/>
          </p:nvSpPr>
          <p:spPr>
            <a:xfrm>
              <a:off x="307080" y="594360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measu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12560" y="617220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evalu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3640" y="640080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kn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84200" y="64008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obtained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1066680" y="5410080"/>
              <a:ext cx="53352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2895480" y="5943240"/>
              <a:ext cx="76212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800600" y="5714640"/>
              <a:ext cx="68580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05720" y="5715000"/>
              <a:ext cx="68580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28600" y="1371600"/>
            <a:ext cx="4038480" cy="3490920"/>
            <a:chOff x="228600" y="1371600"/>
            <a:chExt cx="4038480" cy="34909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228600" y="1371600"/>
              <a:ext cx="4038480" cy="34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1261080" y="3440160"/>
              <a:ext cx="15058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inclusive e v</a:t>
              </a:r>
              <a:r>
                <a:rPr b="0" lang="ja-JP" sz="1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(w.o. convert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58000" y="2664000"/>
              <a:ext cx="1502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otonic e v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41320" y="137160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8040"/>
                </a:solidFill>
                <a:latin typeface="Arial"/>
              </a:rPr>
              <a:t>S.Esumi &amp; S. Sakai@SQM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F528C-6CA8-4FF3-99D2-426E88C02B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5410080" cy="48099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Charm seems to flow!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562360" y="190512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ata seem to favor the flow of the char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If so, thermalized &amp; flowing charm supports quark-coalescence &amp;  formation of QG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971800" y="27432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8040"/>
                </a:solidFill>
                <a:latin typeface="Arial"/>
              </a:rPr>
              <a:t>V.Greco, C.M.Ko, R.Rapp,PLB595(2004)2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41320" y="137160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8040"/>
                </a:solidFill>
                <a:latin typeface="Arial"/>
              </a:rPr>
              <a:t>S.Esumi &amp; S. Sakai@SQM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280E0-71BD-4C64-8699-C32CEE0A11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Study of direct photon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-360" y="51051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i-zero results consistent with other me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No significant diff. btwn inclusive v2 and expected photon v2 from hadronic decay (pion, eta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955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irect photons are from compton-like “prompt” proces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7520040" y="5181480"/>
            <a:ext cx="16239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4343400" y="1600200"/>
            <a:ext cx="3885840" cy="3519000"/>
            <a:chOff x="4343400" y="1600200"/>
            <a:chExt cx="3885840" cy="3519000"/>
          </a:xfrm>
        </p:grpSpPr>
        <p:pic>
          <p:nvPicPr>
            <p:cNvPr id="432" name="" descr=""/>
            <p:cNvPicPr/>
            <p:nvPr/>
          </p:nvPicPr>
          <p:blipFill>
            <a:blip r:embed="rId2"/>
            <a:stretch/>
          </p:blipFill>
          <p:spPr>
            <a:xfrm>
              <a:off x="4895280" y="1668960"/>
              <a:ext cx="3333960" cy="345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4343400" y="3739320"/>
              <a:ext cx="46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43400" y="2980440"/>
              <a:ext cx="46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43400" y="2221200"/>
              <a:ext cx="46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43400" y="1600200"/>
              <a:ext cx="379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6395040" y="510552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40"/>
                </a:solidFill>
                <a:latin typeface="Arial"/>
              </a:rPr>
              <a:t>R; direct photon excess rat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08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52280" y="1600200"/>
            <a:ext cx="3885840" cy="3451320"/>
            <a:chOff x="152280" y="1600200"/>
            <a:chExt cx="3885840" cy="3451320"/>
          </a:xfrm>
        </p:grpSpPr>
        <p:pic>
          <p:nvPicPr>
            <p:cNvPr id="440" name="" descr=""/>
            <p:cNvPicPr/>
            <p:nvPr/>
          </p:nvPicPr>
          <p:blipFill>
            <a:blip r:embed="rId3"/>
            <a:stretch/>
          </p:blipFill>
          <p:spPr>
            <a:xfrm>
              <a:off x="645120" y="1600200"/>
              <a:ext cx="339300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52280" y="4417560"/>
              <a:ext cx="47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2280" y="3360960"/>
              <a:ext cx="47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52280" y="2374920"/>
              <a:ext cx="47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2280" y="1600200"/>
              <a:ext cx="387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3121920" y="12859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40"/>
                </a:solidFill>
                <a:latin typeface="Arial"/>
              </a:rPr>
              <a:t>PHENIX, PRL 96,032302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C76B-A29D-4EBD-A8D9-E64EF4F26C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813880" cy="393552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66"/>
                </a:solidFill>
                <a:latin typeface="Tahoma"/>
              </a:rPr>
              <a:t>Summary of my talk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266720" y="1294920"/>
            <a:ext cx="48769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is fun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919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stablishment of R.P. is great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is even useful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919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ensitive to the early stage of colli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919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hermalization as early as 0.6 fm/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29440" indent="-24660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Large azimuthal anisotropy cannot be generated with hadronic proces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919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upport the quark recombination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29440" indent="-24660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llectivity at parton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29440" indent="-24660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Phenomenological, but universal quark distribution function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29440" indent="-24660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ja-JP" sz="1800" spc="-1" strike="noStrike">
                <a:solidFill>
                  <a:srgbClr val="ff0000"/>
                </a:solidFill>
                <a:latin typeface="Tahoma"/>
              </a:rPr>
              <a:t>statistical description of quarks </a:t>
            </a:r>
            <a:r>
              <a:rPr b="0" lang="ja-JP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ja-JP" sz="1800" spc="-1" strike="noStrike">
                <a:solidFill>
                  <a:srgbClr val="ff0000"/>
                </a:solidFill>
                <a:latin typeface="Tahoma"/>
              </a:rPr>
              <a:t>QG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Much fun to 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919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harm &amp; photon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152280" y="56386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New text book for graduate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D006F-CA43-4E47-91EA-C7BF0225E7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66"/>
                </a:solidFill>
                <a:latin typeface="Tahoma"/>
              </a:rPr>
              <a:t>Sensitivity to the early stage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38480" y="4571640"/>
            <a:ext cx="5105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isotropy in coordinate space disappears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 of eccentricity after a tim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955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appears quick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955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senses early stage of coll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962520" cy="3882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83600" y="12952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40"/>
                </a:solidFill>
                <a:latin typeface="Arial"/>
              </a:rPr>
              <a:t>RQ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572000" cy="308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871240" y="1295280"/>
            <a:ext cx="31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40"/>
                </a:solidFill>
                <a:latin typeface="Arial"/>
              </a:rPr>
              <a:t>Kolb et.al., PRC62(2000)0549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182880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21720" y="3581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EBD6E-C1E3-4BE6-AF11-B9B0E5D971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4953600" y="1447920"/>
            <a:ext cx="3618720" cy="2232360"/>
            <a:chOff x="4953600" y="1447920"/>
            <a:chExt cx="3618720" cy="2232360"/>
          </a:xfrm>
        </p:grpSpPr>
        <p:sp>
          <p:nvSpPr>
            <p:cNvPr id="177" name=""/>
            <p:cNvSpPr/>
            <p:nvPr/>
          </p:nvSpPr>
          <p:spPr>
            <a:xfrm>
              <a:off x="7715880" y="3243600"/>
              <a:ext cx="53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99"/>
                  </a:solidFill>
                  <a:latin typeface="Times New Roman"/>
                  <a:ea typeface="ＭＳ Ｐ明朝"/>
                </a:rPr>
                <a:t>BB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34280" y="3373200"/>
              <a:ext cx="11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ＭＳ Ｐ明朝"/>
                </a:rPr>
                <a:t>Central a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53600" y="32148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b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988160" y="1447920"/>
              <a:ext cx="3584160" cy="1899720"/>
              <a:chOff x="4988160" y="1447920"/>
              <a:chExt cx="3584160" cy="18997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4988160" y="1447920"/>
                <a:ext cx="3584160" cy="1620360"/>
                <a:chOff x="4988160" y="1447920"/>
                <a:chExt cx="3584160" cy="1620360"/>
              </a:xfrm>
            </p:grpSpPr>
            <p:pic>
              <p:nvPicPr>
                <p:cNvPr id="182" name="dndeta_all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988160" y="1447920"/>
                  <a:ext cx="3584160" cy="162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>
                  <a:off x="5366880" y="1584360"/>
                  <a:ext cx="1839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437800" y="1768320"/>
                  <a:ext cx="1832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674320" y="1832040"/>
                  <a:ext cx="308880" cy="453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5502960" y="1832040"/>
                  <a:ext cx="171000" cy="686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75560" y="1590480"/>
                  <a:ext cx="180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800760" y="1781640"/>
                  <a:ext cx="59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a-DK" sz="1400" spc="-1" strike="noStrike">
                      <a:solidFill>
                        <a:srgbClr val="000000"/>
                      </a:solidFill>
                      <a:latin typeface="Times New Roman"/>
                    </a:rPr>
                    <a:t>0-5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800040" y="1987200"/>
                  <a:ext cx="68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a-DK" sz="1400" spc="-1" strike="noStrike">
                      <a:solidFill>
                        <a:srgbClr val="000000"/>
                      </a:solidFill>
                      <a:latin typeface="Times New Roman"/>
                    </a:rPr>
                    <a:t>5-1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731280" y="2243160"/>
                  <a:ext cx="777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a-DK" sz="1400" spc="-1" strike="noStrike">
                      <a:solidFill>
                        <a:srgbClr val="000000"/>
                      </a:solidFill>
                      <a:latin typeface="Times New Roman"/>
                    </a:rPr>
                    <a:t>10-2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6811560" y="1447920"/>
                <a:ext cx="251280" cy="156456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880400" y="1447920"/>
                <a:ext cx="251280" cy="1527120"/>
              </a:xfrm>
              <a:prstGeom prst="rect">
                <a:avLst/>
              </a:prstGeom>
              <a:noFill/>
              <a:ln w="2844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805360" y="1447920"/>
                <a:ext cx="251280" cy="1527120"/>
              </a:xfrm>
              <a:prstGeom prst="rect">
                <a:avLst/>
              </a:prstGeom>
              <a:noFill/>
              <a:ln w="2844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65440" y="3198600"/>
                <a:ext cx="3206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11560" y="3049560"/>
                <a:ext cx="251280" cy="111600"/>
              </a:xfrm>
              <a:custGeom>
                <a:avLst/>
                <a:gdLst>
                  <a:gd name="textAreaLeft" fmla="*/ 55080 w 251280"/>
                  <a:gd name="textAreaRight" fmla="*/ 196200 w 251280"/>
                  <a:gd name="textAreaTop" fmla="*/ 24480 h 111600"/>
                  <a:gd name="textAreaBottom" fmla="*/ 87120 h 11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6811560" y="3236040"/>
                <a:ext cx="251280" cy="111600"/>
              </a:xfrm>
              <a:custGeom>
                <a:avLst/>
                <a:gdLst>
                  <a:gd name="textAreaLeft" fmla="*/ 55080 w 251280"/>
                  <a:gd name="textAreaRight" fmla="*/ 196200 w 251280"/>
                  <a:gd name="textAreaTop" fmla="*/ 24480 h 111600"/>
                  <a:gd name="textAreaBottom" fmla="*/ 87120 h 11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68360" y="3124080"/>
                <a:ext cx="251280" cy="149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80400" y="3124080"/>
                <a:ext cx="251280" cy="149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673240" y="3276000"/>
              <a:ext cx="53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99"/>
                  </a:solidFill>
                  <a:latin typeface="Times New Roman"/>
                  <a:ea typeface="ＭＳ Ｐ明朝"/>
                </a:rPr>
                <a:t>BB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4648320" cy="17193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Key1; reliable R.P. determination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5181480"/>
            <a:ext cx="8839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ide rapidity gap from central det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919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Free from other source of corr such as HBT, decays, jets &amp; auto-cor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rr. between SMD(spect) and BBC(part) also confi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919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Tahoma"/>
              </a:rPr>
              <a:t>→</a:t>
            </a:r>
            <a:r>
              <a:rPr b="1" i="1" lang="ja-JP" sz="2000" spc="-1" strike="noStrike">
                <a:solidFill>
                  <a:srgbClr val="ff0000"/>
                </a:solidFill>
                <a:latin typeface="Tahoma"/>
              </a:rPr>
              <a:t>R.P. determination from whole event w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3276720" cy="189072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5562720" y="3581280"/>
            <a:ext cx="2311200" cy="1575000"/>
            <a:chOff x="5562720" y="3581280"/>
            <a:chExt cx="2311200" cy="1575000"/>
          </a:xfrm>
        </p:grpSpPr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6095880" y="3581280"/>
              <a:ext cx="1676520" cy="1339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5562720" y="3886200"/>
                  <a:ext cx="60948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or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7238880" y="4800600"/>
                  <a:ext cx="63504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8" name=""/>
          <p:cNvSpPr/>
          <p:nvPr/>
        </p:nvSpPr>
        <p:spPr>
          <a:xfrm flipH="1">
            <a:off x="5790960" y="3505320"/>
            <a:ext cx="75960" cy="380880"/>
          </a:xfrm>
          <a:prstGeom prst="line">
            <a:avLst/>
          </a:prstGeom>
          <a:ln w="12600">
            <a:solidFill>
              <a:srgbClr val="008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772040" y="3505320"/>
            <a:ext cx="152280" cy="1447560"/>
          </a:xfrm>
          <a:prstGeom prst="line">
            <a:avLst/>
          </a:prstGeom>
          <a:ln w="12600">
            <a:solidFill>
              <a:srgbClr val="008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04FF-DA95-4BCE-8CD6-FB2A829280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3276720" cy="22208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819520" y="1371600"/>
            <a:ext cx="2819160" cy="238428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4495680" y="3432240"/>
            <a:ext cx="2743200" cy="2684520"/>
            <a:chOff x="4495680" y="3432240"/>
            <a:chExt cx="2743200" cy="2684520"/>
          </a:xfrm>
        </p:grpSpPr>
        <p:pic>
          <p:nvPicPr>
            <p:cNvPr id="213" name="" descr=""/>
            <p:cNvPicPr/>
            <p:nvPr/>
          </p:nvPicPr>
          <p:blipFill>
            <a:blip r:embed="rId3"/>
            <a:srcRect l="760" t="5659" r="50261" b="50125"/>
            <a:stretch/>
          </p:blipFill>
          <p:spPr>
            <a:xfrm>
              <a:off x="4495680" y="3452040"/>
              <a:ext cx="2743200" cy="26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310360" y="3497040"/>
              <a:ext cx="159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PHENIX Prelimin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22840" y="39499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Pro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29520" y="390168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1360" y="5033880"/>
              <a:ext cx="40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2680" y="3483000"/>
              <a:ext cx="53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39720" y="5378040"/>
              <a:ext cx="52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6081120" y="4732560"/>
              <a:ext cx="220680" cy="398880"/>
              <a:chOff x="6081120" y="4732560"/>
              <a:chExt cx="220680" cy="398880"/>
            </a:xfrm>
          </p:grpSpPr>
          <p:sp>
            <p:nvSpPr>
              <p:cNvPr id="221" name=""/>
              <p:cNvSpPr/>
              <p:nvPr/>
            </p:nvSpPr>
            <p:spPr>
              <a:xfrm>
                <a:off x="6081120" y="4732560"/>
                <a:ext cx="220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72200" y="4780440"/>
                <a:ext cx="67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972320" y="3432240"/>
              <a:ext cx="43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39560" y="5460840"/>
              <a:ext cx="40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Key2; PID  with TOF &amp; Aerogel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6019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igh resolution TOF and low index of 1.01 Aerogel Cherenk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960" indent="-2642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Both Tsukuba contrib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846480" y="1295280"/>
            <a:ext cx="1889280" cy="2362320"/>
            <a:chOff x="6846480" y="1295280"/>
            <a:chExt cx="1889280" cy="2362320"/>
          </a:xfrm>
        </p:grpSpPr>
        <p:pic>
          <p:nvPicPr>
            <p:cNvPr id="228" name="" descr=""/>
            <p:cNvPicPr/>
            <p:nvPr/>
          </p:nvPicPr>
          <p:blipFill>
            <a:blip r:embed="rId4"/>
            <a:stretch/>
          </p:blipFill>
          <p:spPr>
            <a:xfrm>
              <a:off x="6970680" y="1295280"/>
              <a:ext cx="17650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 flipV="1">
              <a:off x="7544880" y="1756080"/>
              <a:ext cx="860760" cy="57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6680" y="152532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85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430040" y="1928880"/>
              <a:ext cx="56880" cy="749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31800" y="2620440"/>
              <a:ext cx="57240" cy="5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46480" y="21016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00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90640" y="279432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00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772400" y="3276720"/>
            <a:ext cx="1066680" cy="1054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7162920" y="4572000"/>
            <a:ext cx="1809720" cy="12272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457200" y="1600200"/>
            <a:ext cx="1905120" cy="1901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>
            <a:off x="2819520" y="4800600"/>
            <a:ext cx="1600200" cy="10746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286000" y="1676520"/>
            <a:ext cx="1066680" cy="68580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62120" y="2742840"/>
            <a:ext cx="2590560" cy="68580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257800" y="1905120"/>
            <a:ext cx="2057400" cy="45720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3200400"/>
            <a:ext cx="2361960" cy="22860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52280" y="1295280"/>
                <a:ext cx="1295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de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2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</m:sub>
                        </m:sSub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715000" y="1371600"/>
                <a:ext cx="106668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F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5CF7-B2E2-4BF2-B9A4-DD212A1EB6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66"/>
                </a:solidFill>
                <a:latin typeface="Tahoma"/>
              </a:rPr>
              <a:t>What we expected before RHIC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4640" y="2742840"/>
            <a:ext cx="3429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here is a tendency of saturation!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adron cascade predicts a few 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0" y="1523880"/>
            <a:ext cx="5715000" cy="4695840"/>
            <a:chOff x="0" y="1523880"/>
            <a:chExt cx="5715000" cy="469584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0" y="1523880"/>
              <a:ext cx="5715000" cy="46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195160" y="2841120"/>
              <a:ext cx="21924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219320" y="3276720"/>
            <a:ext cx="4114800" cy="1676160"/>
          </a:xfrm>
          <a:custGeom>
            <a:avLst/>
            <a:gdLst/>
            <a:ahLst/>
            <a:rect l="l" t="t" r="r" b="b"/>
            <a:pathLst>
              <a:path w="2592" h="1056">
                <a:moveTo>
                  <a:pt x="0" y="1056"/>
                </a:moveTo>
                <a:cubicBezTo>
                  <a:pt x="188" y="800"/>
                  <a:pt x="376" y="544"/>
                  <a:pt x="576" y="384"/>
                </a:cubicBezTo>
                <a:cubicBezTo>
                  <a:pt x="776" y="224"/>
                  <a:pt x="864" y="160"/>
                  <a:pt x="1200" y="96"/>
                </a:cubicBezTo>
                <a:cubicBezTo>
                  <a:pt x="1536" y="32"/>
                  <a:pt x="2360" y="16"/>
                  <a:pt x="2592" y="0"/>
                </a:cubicBezTo>
              </a:path>
            </a:pathLst>
          </a:custGeom>
          <a:noFill/>
          <a:ln w="2844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516E-30BC-4401-B280-8148684217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66"/>
                </a:solidFill>
                <a:latin typeface="Tahoma"/>
              </a:rPr>
              <a:t>Surprise !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040" y="6019920"/>
            <a:ext cx="8001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y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600200" y="1371600"/>
            <a:ext cx="5181480" cy="4676760"/>
            <a:chOff x="1600200" y="1371600"/>
            <a:chExt cx="5181480" cy="467676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1600200" y="1371600"/>
              <a:ext cx="5181480" cy="46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668320" y="5473800"/>
              <a:ext cx="663840" cy="3682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59040" y="3198960"/>
              <a:ext cx="637920" cy="3682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31360" y="1816200"/>
              <a:ext cx="7383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R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73966-F711-4FB2-AE66-8193A82010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6553080" cy="24890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Large azimuthal anisotropy 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29040" y="4038480"/>
            <a:ext cx="2514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r in higher energ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 with pt and satu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362320" y="1371600"/>
                <a:ext cx="4402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2090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478560" y="1828800"/>
            <a:ext cx="26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40"/>
                </a:solidFill>
                <a:latin typeface="Arial"/>
              </a:rPr>
              <a:t>PHOBOS; nucl-ex/0406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3962520"/>
            <a:ext cx="6705720" cy="2895480"/>
            <a:chOff x="0" y="3962520"/>
            <a:chExt cx="6705720" cy="2895480"/>
          </a:xfrm>
        </p:grpSpPr>
        <p:sp>
          <p:nvSpPr>
            <p:cNvPr id="265" name=""/>
            <p:cNvSpPr/>
            <p:nvPr/>
          </p:nvSpPr>
          <p:spPr>
            <a:xfrm>
              <a:off x="0" y="3962520"/>
              <a:ext cx="6705720" cy="28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143000" y="4114800"/>
              <a:ext cx="4038480" cy="2743200"/>
              <a:chOff x="1143000" y="4114800"/>
              <a:chExt cx="4038480" cy="2743200"/>
            </a:xfrm>
          </p:grpSpPr>
          <p:pic>
            <p:nvPicPr>
              <p:cNvPr id="2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4299120"/>
                <a:ext cx="4038480" cy="25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2209680" y="4114800"/>
                <a:ext cx="2615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8040"/>
                    </a:solidFill>
                    <a:latin typeface="Arial"/>
                  </a:rPr>
                  <a:t>Phenix; P.R.L. 94, 232302(2005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505680" y="5257800"/>
                <a:ext cx="67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Cent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505680" y="5791320"/>
                <a:ext cx="877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Periphe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2B90D-8B07-4C5A-BA06-9DF3D56EB2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330066"/>
                </a:solidFill>
                <a:latin typeface="Tahoma"/>
              </a:rPr>
              <a:t>Failure of hadronic scenarios</a:t>
            </a:r>
            <a:endParaRPr b="1" i="1" lang="en-US" sz="3600" spc="-1" strike="noStrike">
              <a:solidFill>
                <a:srgbClr val="33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800600" y="21333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adronic scenario underestimates v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at RH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 ~ 1 - 2 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ystem thermalized early with the mechanism other than hadronic rescatter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084920" cy="3790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55880" y="1600200"/>
            <a:ext cx="48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8040"/>
                </a:solidFill>
                <a:latin typeface="Arial"/>
              </a:rPr>
              <a:t>M. Bleicher, H. Stocker Phys. Lett. B526 (2003) 3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.Miake, 6th China-Japan Joint Nuclear Physics Symposium, Shanghai, May 16-20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FD0C-E851-4DF5-8DBF-8A9A25A202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3:56:26Z</dcterms:created>
  <dc:creator>三明 康郎</dc:creator>
  <dc:description/>
  <dc:language>en-US</dc:language>
  <cp:lastModifiedBy>三明 康郎</cp:lastModifiedBy>
  <cp:lastPrinted>2006-05-12T06:17:43Z</cp:lastPrinted>
  <dcterms:modified xsi:type="dcterms:W3CDTF">2006-06-05T07:04:32Z</dcterms:modified>
  <cp:revision>291</cp:revision>
  <dc:subject/>
  <dc:title>PowerPoint プレゼンテーション  -  Have we seen a QGP at RHIC?</dc:title>
</cp:coreProperties>
</file>