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3.png" ContentType="image/png"/>
  <Override PartName="/ppt/media/image50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6.pct" ContentType="image/x-pict"/>
  <Override PartName="/ppt/media/image9.png" ContentType="image/png"/>
  <Override PartName="/ppt/media/image27.jpeg" ContentType="image/jpeg"/>
  <Override PartName="/ppt/media/image52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077-2080-4A97-81AA-EB434694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00D-714C-4995-849C-67392944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747-43A5-49E1-9DAE-FC2D8F54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3D9C-73F6-4EF9-9A4A-E5070292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9EA1-7936-4C9D-9E17-5270519B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402D-3837-4057-A6D0-B72907A6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AA2D-6AB0-4626-A401-BE109AAE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B005-AAEF-4F1B-84DF-00052B9A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4907-6ABF-4957-9817-7549C46E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452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450D-9C38-4164-99D0-A4676901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6188-3823-4F73-B3D6-100836D0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3097-D989-409C-9A92-04C7723B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2DF7-5A1C-4791-BFB6-7F5D384C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4C06-8E35-4A99-BE2B-590362A4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6642-9C3A-454A-AE97-12F0CEAE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ACC7-86C7-4692-8072-A993A1A8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69B0-1D43-4736-A436-E38CF8C6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57DF-C9E2-4EC8-ABE5-D2BA2A2F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280-87FC-46FC-BD24-5DB784B8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4B38-95E5-4759-BDA3-9026960A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452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214-5D08-48D0-A681-D26B2C38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0D0-29F3-40AC-873D-F35D362A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CEC-2417-4DB7-877B-339225DE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DBA-7EDA-440D-A3E8-C78E0B37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24E0-3C78-4CD7-841E-F99A5780E69C}" type="slidenum"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85560" y="66135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atsuya Chu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60888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Hot Quarks 2006 (2006.05.1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902720" y="63360"/>
            <a:ext cx="1164960" cy="38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374E-F3C5-4EAA-A002-F1D22D5E62B7}" type="slidenum"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60888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Hot Quarks 2006 (2006.05.1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16761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Search for the onset of baryon anomaly at RHIC-PHENIX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Tatsuya Ch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for the PHENIX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162920" y="6248520"/>
            <a:ext cx="466560" cy="466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96080" y="6292800"/>
            <a:ext cx="1359000" cy="432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281400" y="5334120"/>
            <a:ext cx="258120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in Cu+Cu 22.5 GeV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99920" y="5181480"/>
            <a:ext cx="75438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Larger p/</a:t>
            </a:r>
            <a:r>
              <a:rPr b="1" lang="ja-JP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 ratios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han those in Au+Au 200 GeV (0.5 @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= 1.5 GeV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Affected by the participant protons (not produced protons) at lower </a:t>
            </a:r>
            <a:r>
              <a:rPr b="1" lang="ja-JP" sz="1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ja-JP" sz="1400" spc="-1" strike="noStrike" baseline="-25000">
                <a:solidFill>
                  <a:srgbClr val="ff0000"/>
                </a:solidFill>
                <a:latin typeface="Arial"/>
              </a:rPr>
              <a:t>NN</a:t>
            </a: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p/</a:t>
            </a:r>
            <a:r>
              <a:rPr b="1" lang="ja-JP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6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 ratios are ~0.3-0.4 at p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 = 2 GeV/c,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hich is close to the fragmentation expectations in p+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Almost no centrality depen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2920" y="990720"/>
            <a:ext cx="8856720" cy="419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B8C-BFB6-4AAB-B636-755CACE8FA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in Cu+Cu 62.4 GeV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39960" y="5334120"/>
            <a:ext cx="7264080" cy="1066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Arial"/>
                <a:ea typeface="Osaka"/>
              </a:rPr>
              <a:t>p/</a:t>
            </a:r>
            <a:r>
              <a:rPr b="1" lang="ja-JP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600" spc="-1" strike="noStrike" baseline="30000">
                <a:solidFill>
                  <a:srgbClr val="ff0000"/>
                </a:solidFill>
                <a:latin typeface="Arial"/>
                <a:ea typeface="Osaka"/>
              </a:rPr>
              <a:t>+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  <a:ea typeface="Osaka"/>
              </a:rPr>
              <a:t> ratios are reduce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, compared to those in Cu+Cu 22 GeV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  <a:ea typeface="Osaka"/>
              </a:rPr>
              <a:t>p/</a:t>
            </a:r>
            <a:r>
              <a:rPr b="1" lang="ja-JP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600" spc="-1" strike="noStrike" baseline="30000">
                <a:solidFill>
                  <a:srgbClr val="ff0000"/>
                </a:solidFill>
                <a:latin typeface="Arial"/>
                <a:ea typeface="Osaka"/>
              </a:rPr>
              <a:t>-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  <a:ea typeface="Osaka"/>
              </a:rPr>
              <a:t> ratio in most central collisions reaches R=~0.6 at p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Arial"/>
                <a:ea typeface="Osaka"/>
              </a:rPr>
              <a:t>T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  <a:ea typeface="Osaka"/>
              </a:rPr>
              <a:t> = 2 GeV/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Centrality dependence is se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Peripheral pbar/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-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: consistent with p+p valu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4360" y="990720"/>
            <a:ext cx="8853480" cy="419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272-541C-4173-934C-124891D9D9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eam energy dep. in Cu+Cu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3960" y="51814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  <a:ea typeface="Osaka"/>
              </a:rPr>
              <a:t>p/</a:t>
            </a:r>
            <a:r>
              <a:rPr b="1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800" spc="-1" strike="noStrike" baseline="30000">
                <a:solidFill>
                  <a:srgbClr val="ff0000"/>
                </a:solidFill>
                <a:latin typeface="Arial"/>
                <a:ea typeface="Osaka"/>
              </a:rPr>
              <a:t>+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  <a:ea typeface="Osaka"/>
              </a:rPr>
              <a:t> ratio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Osaka"/>
              </a:rPr>
              <a:t>: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  <a:ea typeface="Osak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Osaka"/>
              </a:rPr>
              <a:t>decreasing as a function of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Osaka"/>
              </a:rPr>
              <a:t>s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N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Osak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ja-JP" sz="1800" spc="-1" strike="noStrike">
                <a:solidFill>
                  <a:srgbClr val="0000ff"/>
                </a:solidFill>
                <a:latin typeface="Arial"/>
                <a:ea typeface="Osaka"/>
              </a:rPr>
              <a:t>p/</a:t>
            </a:r>
            <a:r>
              <a:rPr b="1" lang="ja-JP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1800" spc="-1" strike="noStrike" baseline="30000">
                <a:solidFill>
                  <a:srgbClr val="0000ff"/>
                </a:solidFill>
                <a:latin typeface="Arial"/>
                <a:ea typeface="Osaka"/>
              </a:rPr>
              <a:t>-</a:t>
            </a:r>
            <a:r>
              <a:rPr b="1" lang="ja-JP" sz="1800" spc="-1" strike="noStrike">
                <a:solidFill>
                  <a:srgbClr val="0000ff"/>
                </a:solidFill>
                <a:latin typeface="Arial"/>
                <a:ea typeface="Osaka"/>
              </a:rPr>
              <a:t> ratio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  <a:ea typeface="Osak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Osaka"/>
              </a:rPr>
              <a:t>:  increasing as a function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Osaka"/>
              </a:rPr>
              <a:t>s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N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Osak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Cu+Cu 22.5 GeV central data reaches the p+p val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Cu+Cu 62.4 GeV central data is higher than that in 22.5 Ge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30120" y="762120"/>
            <a:ext cx="8481960" cy="423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306-F7D2-4FD9-9357-FF1EFEF3C1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for pions (22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46200" y="1033560"/>
            <a:ext cx="6050160" cy="4790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14600" y="2590920"/>
            <a:ext cx="2819520" cy="102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000" spc="-1" strike="noStrike">
                <a:solidFill>
                  <a:srgbClr val="8000ff"/>
                </a:solidFill>
                <a:latin typeface="Arial"/>
              </a:rPr>
              <a:t>Error notati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Error bars: statistical error for Cu+Cu spec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Gray boxe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) sys. error for p+p refere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) sys. error for Cu+Cu spectra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Lines: N</a:t>
            </a:r>
            <a:r>
              <a:rPr b="0" lang="ja-JP" sz="1000" spc="-1" strike="noStrike" baseline="-25000">
                <a:solidFill>
                  <a:srgbClr val="000000"/>
                </a:solidFill>
                <a:latin typeface="Arial"/>
              </a:rPr>
              <a:t>coll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error (1</a:t>
            </a:r>
            <a:r>
              <a:rPr b="0" lang="ja-JP" sz="1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82680" y="5892840"/>
            <a:ext cx="6515280" cy="68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+p reference: global fit of pion data at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 ~22 GeV in p+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is ~1.5  at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= 2 GeV/c,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no suppress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360" y="4343400"/>
            <a:ext cx="18288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+p reference: global fit of pion data at </a:t>
            </a:r>
            <a:r>
              <a:rPr b="0" lang="ja-JP" sz="1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 ~23 GeV (D. d’Enterri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031-4ECC-4DDA-814C-9B2EBEF2FD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for pions (62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44760" y="1031760"/>
            <a:ext cx="6053040" cy="4794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486080" y="6019920"/>
            <a:ext cx="6172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imilar, might be slightly smaller than that in 22 GeV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360" y="4343400"/>
            <a:ext cx="18288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+p reference: global fit of pion data at </a:t>
            </a:r>
            <a:r>
              <a:rPr b="0" lang="ja-JP" sz="1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 ~62 Ge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ucl-ex/ nucl-ex/0411049, D. d’Enterr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5A87-506B-4E39-B336-BA924B714E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for proton (22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09760" y="5943600"/>
            <a:ext cx="63244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Larger than pions significantl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which suggests the large contributions of participant prot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46200" y="1033560"/>
            <a:ext cx="6050160" cy="4790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3360" y="4343400"/>
            <a:ext cx="18288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+p reference: fitted the ISR data in p+p 23 GeV, B. Alper et al, NPB 100, 237 (1975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3AB-360C-4437-8AAA-71859E1400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for proton (62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86080" y="6019920"/>
            <a:ext cx="6172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imilar as in 22.5 GeV, but slightly smaller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46200" y="1033560"/>
            <a:ext cx="6050160" cy="4790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3360" y="4343400"/>
            <a:ext cx="18288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+p reference: fitted the ISR data in p+p 63 GeV, B. Alper et al, NPB 100, 237 (1975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A83-3CF5-4345-B18A-E30D15670C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for antiproton (22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61920" y="5943600"/>
            <a:ext cx="7220160" cy="71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Different p</a:t>
            </a:r>
            <a:r>
              <a:rPr b="1" lang="ja-JP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dependence from prot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ja-JP" sz="1800" spc="-1" strike="noStrike" baseline="-25000">
                <a:solidFill>
                  <a:srgbClr val="ff0000"/>
                </a:solidFill>
                <a:latin typeface="Arial"/>
              </a:rPr>
              <a:t>AA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~ 1 (similar to pions’ R</a:t>
            </a:r>
            <a:r>
              <a:rPr b="1" lang="ja-JP" sz="1800" spc="-1" strike="noStrike" baseline="-25000">
                <a:solidFill>
                  <a:srgbClr val="ff0000"/>
                </a:solidFill>
                <a:latin typeface="Arial"/>
              </a:rPr>
              <a:t>AA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),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inary collision scaling work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42960" y="1030320"/>
            <a:ext cx="6056280" cy="4797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3360" y="4343400"/>
            <a:ext cx="18288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+p reference: fitted the ISR data in p+p 23 GeV, B. Alper et al, NPB 100, 237 (1975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D7E8-5C7A-4167-9DF6-2729F2F185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for antiproton (62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52680" y="1036800"/>
            <a:ext cx="6038640" cy="47829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914480" y="5943600"/>
            <a:ext cx="531504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imilar to that for 22 GeV (and also pion’s R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360" y="4343400"/>
            <a:ext cx="18288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+p reference: fitted the ISR data in p+p 63 GeV, B. Alper et al, NPB 100, 237 (1975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3514-A1CC-49FB-8FAB-504159CA07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90544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Measured p</a:t>
            </a:r>
            <a:r>
              <a:rPr b="1" lang="ja-JP" sz="28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 spectra for </a:t>
            </a:r>
            <a:r>
              <a:rPr b="1" lang="ja-JP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, K</a:t>
            </a:r>
            <a:r>
              <a:rPr b="1" lang="ja-JP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, p, </a:t>
            </a:r>
            <a:r>
              <a:rPr b="1" lang="ja-JP" sz="28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p in Cu+Cu at </a:t>
            </a:r>
            <a:r>
              <a:rPr b="1" lang="ja-JP" sz="28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ja-JP" sz="2800" spc="-1" strike="noStrike" baseline="-25000">
                <a:solidFill>
                  <a:srgbClr val="0000ff"/>
                </a:solidFill>
                <a:latin typeface="Arial"/>
              </a:rPr>
              <a:t>NN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 = 22.5 and 62.4 GeV in PHEN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ja-JP" sz="20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 ratio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decreas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s a function of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Cu+C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uggests a significant contribution of paticipant protons (not by the produced protons) in lower energies Cu+C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ja-JP" sz="20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20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 ratio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increas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s a function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Cu+C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u+Cu 22.5 GeV shows that there is (almost)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no centrality dependen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and central Cu+Cu already reaches to the p+p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u+Cu 62.4 GeV central data is higher than that in 22.5 GeV, centrality dependence is s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ja-JP" sz="20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: depends on particl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5280" indent="-219240">
              <a:lnSpc>
                <a:spcPct val="90000"/>
              </a:lnSpc>
              <a:spcBef>
                <a:spcPts val="451"/>
              </a:spcBef>
              <a:buClr>
                <a:srgbClr val="8000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8000ff"/>
                </a:solidFill>
                <a:latin typeface="Symbol"/>
                <a:ea typeface="Symbol"/>
              </a:rPr>
              <a:t></a:t>
            </a:r>
            <a:r>
              <a:rPr b="1" lang="ja-JP" sz="1800" spc="-1" strike="noStrike">
                <a:solidFill>
                  <a:srgbClr val="8000ff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8000ff"/>
                </a:solidFill>
                <a:latin typeface="Arial"/>
              </a:rPr>
              <a:t>: no suppression at both 22.5 and 62.4 GeV in Cu+Cu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5280" indent="-219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p: enhanced (mostly due to the participant nucleo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5280" indent="-219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p: binary scaling, very similar to pion’s R</a:t>
            </a:r>
            <a:r>
              <a:rPr b="1" lang="ja-JP" sz="1800" spc="-1" strike="noStrike" baseline="-25000">
                <a:solidFill>
                  <a:srgbClr val="ff0000"/>
                </a:solidFill>
                <a:latin typeface="Arial"/>
              </a:rPr>
              <a:t>AA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0000ff"/>
                </a:solidFill>
                <a:latin typeface="Arial"/>
              </a:rPr>
              <a:t>New reference p+p data at 62.4 GeV will be taken in June 2006 (2 week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5BB4-2D85-40CD-9C91-E76F8FF85B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Introduction </a:t>
            </a:r>
            <a:br>
              <a:rPr sz="3600"/>
            </a:b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~ Baryon Anomaly at RHIC ~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512720"/>
            <a:ext cx="4952880" cy="3830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9480" y="1295280"/>
            <a:ext cx="420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ENIX: PRL 91, 172301 (2003), PRC 69, 034909 (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036880"/>
            <a:ext cx="3657600" cy="290304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In Au+Au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s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N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 = 200 GeV central collis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Pions: Strong suppression of yields above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 ~ 2 GeV/c, due to jet quenching eff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Protons: No suppression for at intermediate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 (2-5 GeV/c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Arial"/>
                <a:ea typeface="Osaka"/>
              </a:rPr>
              <a:t> 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  <a:ea typeface="Osaka"/>
              </a:rPr>
              <a:t>Called “Baryon anomaly at RHIC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1" lang="ja-JP" sz="1600" spc="-1" strike="noStrike">
                <a:solidFill>
                  <a:srgbClr val="0000ff"/>
                </a:solidFill>
                <a:latin typeface="Arial"/>
                <a:ea typeface="Osaka"/>
              </a:rPr>
              <a:t>Quark recombination model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 reproduce the data qualitative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5334120"/>
            <a:ext cx="4419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5880" y="5371200"/>
            <a:ext cx="24044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ear Modification Fact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5715000"/>
          <a:ext cx="3276720" cy="70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5715000"/>
                    <a:ext cx="32767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843360" y="5821200"/>
            <a:ext cx="95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4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4000"/>
                </a:solidFill>
                <a:latin typeface="Arial"/>
              </a:rPr>
              <a:t>~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1120" y="2514600"/>
            <a:ext cx="194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u+Au @ 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= 200 G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776-634F-4B4E-B936-E8729D908E7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5A17-109C-45F8-B3B3-B5729290CC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Backup Slides</a:t>
            </a: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964-0019-4AF4-A5B9-F60D0864F2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+p fit at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 = 22.5 GeV (pions)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7696440" cy="3943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410080" y="4876920"/>
            <a:ext cx="271152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Compilation and fitting by D. d’Enter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E5F-A465-448A-A7FE-3A41C34272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for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in Cu+Cu 22.5 GeV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71144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572000" y="1622520"/>
            <a:ext cx="4572000" cy="3612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373040" y="133020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bSc (0-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42360" y="1330200"/>
            <a:ext cx="20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bGl (0-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789-8325-4663-8642-245809A29D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PS and AG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46080" y="1093680"/>
            <a:ext cx="7251840" cy="46688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5000" y="5943600"/>
            <a:ext cx="266688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. Phys. A 757, 184 (2005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, nucl-ex/0410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5B0-B34D-4027-828E-3F32140941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NA49 dat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19920" y="6248160"/>
            <a:ext cx="2743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49 collaboration, nucl-ex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510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918" t="1235" r="0" b="-1832"/>
          <a:stretch/>
        </p:blipFill>
        <p:spPr>
          <a:xfrm>
            <a:off x="304920" y="1287360"/>
            <a:ext cx="8534160" cy="4283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055960" y="5597640"/>
            <a:ext cx="1828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A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895480" y="3429000"/>
            <a:ext cx="685800" cy="2209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83680" y="5486400"/>
            <a:ext cx="17200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A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696080" y="2133360"/>
            <a:ext cx="228600" cy="3352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887-C24B-4318-8B2D-2471053DAC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for pi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19320" y="773280"/>
            <a:ext cx="3352680" cy="2655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0" y="773280"/>
            <a:ext cx="3352680" cy="2655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214280" y="3429000"/>
            <a:ext cx="3357720" cy="2660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3352680" cy="2655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811280" y="443232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2.4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98680" y="17524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2.5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3429000"/>
            <a:ext cx="8763120" cy="0"/>
          </a:xfrm>
          <a:prstGeom prst="line">
            <a:avLst/>
          </a:prstGeom>
          <a:ln w="38160">
            <a:solidFill>
              <a:srgbClr val="008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A99F-53AB-45A6-AF0A-CE1EA352B7D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for ka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19320" y="773280"/>
            <a:ext cx="3352680" cy="2655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572000" y="774720"/>
            <a:ext cx="3352680" cy="2654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1219320" y="3429000"/>
            <a:ext cx="3352680" cy="2655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3352680" cy="2654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811280" y="443232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2.4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98680" y="17524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2.5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3429000"/>
            <a:ext cx="8763120" cy="0"/>
          </a:xfrm>
          <a:prstGeom prst="line">
            <a:avLst/>
          </a:prstGeom>
          <a:ln w="38160">
            <a:solidFill>
              <a:srgbClr val="008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DBE-4B34-452C-BD87-61DF74F5E2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summary (22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06200" y="1312920"/>
            <a:ext cx="8931600" cy="423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CDD8-AC0A-4C09-8F28-5517ADF84C6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summary (62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06200" y="1312920"/>
            <a:ext cx="8931600" cy="423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FAD-38D2-4873-8974-5499406345F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ratios in Au+Au 200 GeV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685800"/>
            <a:ext cx="8839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  <a:ea typeface="Arial"/>
              </a:rPr>
              <a:t>More (anti) baryons than pions at moderate p</a:t>
            </a:r>
            <a:r>
              <a:rPr b="1" lang="ja-JP" sz="18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T </a:t>
            </a:r>
            <a:r>
              <a:rPr b="1" lang="ja-JP" sz="1800" spc="-1" strike="noStrike">
                <a:solidFill>
                  <a:srgbClr val="0000ff"/>
                </a:solidFill>
                <a:latin typeface="Arial"/>
                <a:ea typeface="Arial"/>
              </a:rPr>
              <a:t>(2-5 GeV/c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  <a:ea typeface="Arial"/>
              </a:rPr>
              <a:t>Does not look like vacuum jet fragm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89080" y="1625760"/>
            <a:ext cx="6840360" cy="4173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55760" y="3166920"/>
            <a:ext cx="2087640" cy="2016360"/>
          </a:xfrm>
          <a:custGeom>
            <a:avLst/>
            <a:gdLst/>
            <a:ahLst/>
            <a:rect l="l" t="t" r="r" b="b"/>
            <a:pathLst>
              <a:path w="1315" h="1270">
                <a:moveTo>
                  <a:pt x="0" y="1270"/>
                </a:moveTo>
                <a:cubicBezTo>
                  <a:pt x="128" y="1032"/>
                  <a:pt x="257" y="794"/>
                  <a:pt x="363" y="635"/>
                </a:cubicBezTo>
                <a:cubicBezTo>
                  <a:pt x="469" y="476"/>
                  <a:pt x="476" y="423"/>
                  <a:pt x="635" y="317"/>
                </a:cubicBezTo>
                <a:cubicBezTo>
                  <a:pt x="794" y="211"/>
                  <a:pt x="1054" y="105"/>
                  <a:pt x="1315" y="0"/>
                </a:cubicBezTo>
              </a:path>
            </a:pathLst>
          </a:custGeom>
          <a:noFill/>
          <a:ln w="507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64120" y="3741840"/>
            <a:ext cx="2232000" cy="1368360"/>
          </a:xfrm>
          <a:custGeom>
            <a:avLst/>
            <a:gdLst/>
            <a:ahLst/>
            <a:rect l="l" t="t" r="r" b="b"/>
            <a:pathLst>
              <a:path w="1406" h="907">
                <a:moveTo>
                  <a:pt x="0" y="907"/>
                </a:moveTo>
                <a:cubicBezTo>
                  <a:pt x="113" y="759"/>
                  <a:pt x="227" y="612"/>
                  <a:pt x="318" y="499"/>
                </a:cubicBezTo>
                <a:cubicBezTo>
                  <a:pt x="409" y="386"/>
                  <a:pt x="423" y="303"/>
                  <a:pt x="544" y="227"/>
                </a:cubicBezTo>
                <a:cubicBezTo>
                  <a:pt x="665" y="151"/>
                  <a:pt x="899" y="83"/>
                  <a:pt x="1043" y="45"/>
                </a:cubicBezTo>
                <a:cubicBezTo>
                  <a:pt x="1187" y="7"/>
                  <a:pt x="1296" y="3"/>
                  <a:pt x="1406" y="0"/>
                </a:cubicBezTo>
              </a:path>
            </a:pathLst>
          </a:custGeom>
          <a:noFill/>
          <a:ln w="507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84480" y="4462560"/>
            <a:ext cx="2303280" cy="647640"/>
          </a:xfrm>
          <a:custGeom>
            <a:avLst/>
            <a:gdLst/>
            <a:ahLst/>
            <a:rect l="l" t="t" r="r" b="b"/>
            <a:pathLst>
              <a:path w="1451" h="408">
                <a:moveTo>
                  <a:pt x="0" y="408"/>
                </a:moveTo>
                <a:cubicBezTo>
                  <a:pt x="45" y="344"/>
                  <a:pt x="91" y="280"/>
                  <a:pt x="136" y="227"/>
                </a:cubicBezTo>
                <a:cubicBezTo>
                  <a:pt x="181" y="174"/>
                  <a:pt x="204" y="121"/>
                  <a:pt x="272" y="91"/>
                </a:cubicBezTo>
                <a:cubicBezTo>
                  <a:pt x="340" y="61"/>
                  <a:pt x="348" y="60"/>
                  <a:pt x="544" y="45"/>
                </a:cubicBezTo>
                <a:cubicBezTo>
                  <a:pt x="740" y="30"/>
                  <a:pt x="1095" y="15"/>
                  <a:pt x="1451" y="0"/>
                </a:cubicBezTo>
              </a:path>
            </a:pathLst>
          </a:custGeom>
          <a:noFill/>
          <a:ln cap="rnd" w="507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64120" y="4678200"/>
            <a:ext cx="2232000" cy="432000"/>
          </a:xfrm>
          <a:custGeom>
            <a:avLst/>
            <a:gdLst/>
            <a:ahLst/>
            <a:rect l="l" t="t" r="r" b="b"/>
            <a:pathLst>
              <a:path w="1406" h="272">
                <a:moveTo>
                  <a:pt x="0" y="272"/>
                </a:moveTo>
                <a:cubicBezTo>
                  <a:pt x="64" y="223"/>
                  <a:pt x="129" y="174"/>
                  <a:pt x="182" y="136"/>
                </a:cubicBezTo>
                <a:cubicBezTo>
                  <a:pt x="235" y="98"/>
                  <a:pt x="265" y="69"/>
                  <a:pt x="318" y="46"/>
                </a:cubicBezTo>
                <a:cubicBezTo>
                  <a:pt x="371" y="23"/>
                  <a:pt x="416" y="0"/>
                  <a:pt x="499" y="0"/>
                </a:cubicBezTo>
                <a:cubicBezTo>
                  <a:pt x="582" y="0"/>
                  <a:pt x="711" y="23"/>
                  <a:pt x="817" y="46"/>
                </a:cubicBezTo>
                <a:cubicBezTo>
                  <a:pt x="923" y="69"/>
                  <a:pt x="1036" y="106"/>
                  <a:pt x="1134" y="136"/>
                </a:cubicBezTo>
                <a:cubicBezTo>
                  <a:pt x="1232" y="166"/>
                  <a:pt x="1319" y="196"/>
                  <a:pt x="1406" y="227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492280"/>
            <a:ext cx="2737080" cy="40176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29680" y="2540160"/>
            <a:ext cx="15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Rounded MT Bold"/>
              </a:rPr>
              <a:t>Periph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16600" y="2084400"/>
            <a:ext cx="1728720" cy="358920"/>
          </a:xfrm>
          <a:prstGeom prst="ellipse">
            <a:avLst/>
          </a:prstGeom>
          <a:noFill/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05640" y="200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Rounded MT Bold"/>
              </a:rPr>
              <a:t>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05040" y="1397160"/>
            <a:ext cx="533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HENIX: PRL 91, 172301 (2003), PRC 69, 034909 (200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-869760" y="3534120"/>
            <a:ext cx="41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nti-) Proton 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2640" y="6039000"/>
            <a:ext cx="7602480" cy="79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  <a:ea typeface="Osaka"/>
              </a:rPr>
              <a:t>Where is the onset of the baryon anomaly at RH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Osaka"/>
              </a:rPr>
              <a:t>New Cu+Cu data at lower  </a:t>
            </a:r>
            <a:r>
              <a:rPr b="1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Osaka"/>
              </a:rPr>
              <a:t>s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Arial"/>
                <a:ea typeface="Osaka"/>
              </a:rPr>
              <a:t>NN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Osaka"/>
              </a:rPr>
              <a:t> may give an answer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BD1-51E1-43C0-9420-0CB27C04B7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/p ratio vs. p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0840" y="48006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2.4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0840" y="190512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2.5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539720" y="762120"/>
            <a:ext cx="6064560" cy="2832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539720" y="3733920"/>
            <a:ext cx="6064560" cy="28335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80880" y="3657600"/>
            <a:ext cx="8763120" cy="0"/>
          </a:xfrm>
          <a:prstGeom prst="line">
            <a:avLst/>
          </a:prstGeom>
          <a:ln w="38160">
            <a:solidFill>
              <a:srgbClr val="008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5412-58AB-4D90-A390-6EFFD6891C5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 K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/K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vs. p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(22.5 GeV) 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635120" y="581040"/>
            <a:ext cx="5872320" cy="569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047-6311-4075-81B6-1BF3BD7752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, K</a:t>
            </a:r>
            <a:r>
              <a:rPr b="1" lang="ja-JP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/K</a:t>
            </a:r>
            <a:r>
              <a:rPr b="1" lang="ja-JP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vs. p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(62.4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638360" y="582480"/>
            <a:ext cx="5867280" cy="569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C53-35D1-4098-BBC6-BF3842C1387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+p reference data (with fit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22200" y="1066680"/>
            <a:ext cx="3349800" cy="1555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352680" cy="15591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7440" y="6094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3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21360" y="6094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3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66960" y="6172200"/>
            <a:ext cx="541008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aons and protons: Fit results of ISR p+p 63 GeV data.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. Alper et al, NPB100(1975)237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ions: global fits of p+p data, e.g. nucl-ex/0411049, D. d’Enterr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1219320" y="2703600"/>
            <a:ext cx="3352680" cy="1557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4876920" y="2666880"/>
            <a:ext cx="3276360" cy="1522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1295280" y="4495680"/>
            <a:ext cx="3276720" cy="1522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4952880" y="4495680"/>
            <a:ext cx="3200400" cy="14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6F05-BA94-4E37-80C9-DBA0BCD5C07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ata Analysi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724280" cy="4190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Data set: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HIC Run-5 (2005), measured by the PHENIX 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u+Cu at 22.5 G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u+Cu at 62.4 G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Detectors: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ft Chamber, PC1, BBC and TOF for PID charged analy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entrality: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divided minimum bias triggered events, based on BBC charge (62 GeV), or the number of PC1 hit (22 GeV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rrections: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metrical acceptance, in flight deca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No weak decay feed-down correction applied.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46249"/>
          <a:stretch/>
        </p:blipFill>
        <p:spPr>
          <a:xfrm>
            <a:off x="5334120" y="1014480"/>
            <a:ext cx="3581280" cy="241452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5028120" y="3733920"/>
            <a:ext cx="4115880" cy="2752920"/>
            <a:chOff x="5028120" y="3733920"/>
            <a:chExt cx="4115880" cy="275292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5078520" y="3899160"/>
              <a:ext cx="4065480" cy="25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674320" y="3733920"/>
              <a:ext cx="294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Charged particle identification by T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26440" y="6210360"/>
              <a:ext cx="226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 x Momentum (GeV/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28120" y="4077000"/>
              <a:ext cx="43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/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57240" y="4077000"/>
              <a:ext cx="1319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+Cu @ 22.5 Ge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9EE4-80FD-4331-8D94-3199F29889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1320" y="2361960"/>
            <a:ext cx="8001000" cy="205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spectra in Cu+Cu at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N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= 22.5 and 62.4 Ge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ratios vs. 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uclear modification factor: R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A41-7040-4260-B567-4378480396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2680" y="5943600"/>
            <a:ext cx="152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Filled symbols : </a:t>
            </a:r>
            <a:r>
              <a:rPr b="1" lang="ja-JP" sz="12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12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Open symbols :  </a:t>
            </a:r>
            <a:r>
              <a:rPr b="1" lang="ja-JP" sz="12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12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9400" y="976320"/>
            <a:ext cx="4422600" cy="4903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0" y="976320"/>
            <a:ext cx="4422600" cy="4905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spectra for pi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65F9-091A-4124-BA76-68243F3A02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3400" y="5943600"/>
            <a:ext cx="155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Filled symbols : K</a:t>
            </a:r>
            <a:r>
              <a:rPr b="1" lang="ja-JP" sz="12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Open symbols :  K</a:t>
            </a:r>
            <a:r>
              <a:rPr b="1" lang="ja-JP" sz="12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977760"/>
            <a:ext cx="4419720" cy="4900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72000" y="976320"/>
            <a:ext cx="4419720" cy="4903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spectra for ka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4B14-351A-4478-A1EB-132B0F476C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280" y="977760"/>
            <a:ext cx="4419720" cy="4900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72000" y="977760"/>
            <a:ext cx="4419720" cy="4902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spectra for prot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4960" y="6172200"/>
            <a:ext cx="411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* No weak decay feed-down correction appl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BB48-2D09-4DCB-8A8E-4C38127E8B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977760"/>
            <a:ext cx="4419720" cy="4900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976320"/>
            <a:ext cx="4419720" cy="4903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spectra for antiprot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14960" y="6172200"/>
            <a:ext cx="411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* No weak decay feed-down correction appl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F97F-908A-4EEB-AC42-BF498BBD2A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08:54:41Z</dcterms:created>
  <dc:creator>Tatsuya Chujo</dc:creator>
  <dc:description/>
  <dc:language>en-US</dc:language>
  <cp:lastModifiedBy>Tatsuya Chujo</cp:lastModifiedBy>
  <cp:lastPrinted>2006-03-19T04:14:36Z</cp:lastPrinted>
  <dcterms:modified xsi:type="dcterms:W3CDTF">2006-06-06T06:53:07Z</dcterms:modified>
  <cp:revision>1957</cp:revision>
  <dc:subject/>
  <dc:title>PowerPoint Presentation  -  Hot Quarks 2004 (chujo)</dc:title>
</cp:coreProperties>
</file>