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CC2-768A-48F4-8F54-701C8310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01B-2668-43AA-92D3-BDC3834E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F0E-2964-4E6A-B440-7EF204A1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C73-8662-4603-BECF-BCDFA680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7F1-FEE3-4AF4-A078-2A97675C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0A4-3167-4CC0-862A-33266941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690-BF31-4B3D-BDEA-086FEAA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BDF-803C-465A-AE96-56CD3E2B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95E-B5C3-4818-A558-5B6D4FCC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246-EFF8-41E3-B834-701B79BA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0F4-4CEA-473C-BBF6-06E26192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7B0-BC24-4789-AE5E-F16789E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D6FB-01E2-4E79-A2C3-D5ECF62BC4E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7800" y="6553080"/>
            <a:ext cx="24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.Konno (Univ. of Tsukub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4120" y="655308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Quark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3000" y="1949400"/>
            <a:ext cx="7808400" cy="102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d Charged Hadron Production at High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√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00 GeV Au+Au Collisions at RHIC-PHENIX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376560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hiro Ko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iv. of Tsuku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PHENIX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64600" y="4800600"/>
            <a:ext cx="121752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PHENIX big logo"/>
          <p:cNvPicPr/>
          <p:nvPr/>
        </p:nvPicPr>
        <p:blipFill>
          <a:blip r:embed="rId2"/>
          <a:stretch/>
        </p:blipFill>
        <p:spPr>
          <a:xfrm>
            <a:off x="7010280" y="90360"/>
            <a:ext cx="2057400" cy="67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79480" y="136440"/>
            <a:ext cx="1863720" cy="59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52280" y="117360"/>
            <a:ext cx="644760" cy="64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157-86A8-4007-BE5B-2662054F9C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120" y="152280"/>
            <a:ext cx="2808360" cy="1136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(anti-)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63960" y="4419720"/>
            <a:ext cx="314496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cis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high 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ank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 stat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3120" y="2971800"/>
            <a:ext cx="15019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71800" y="76320"/>
            <a:ext cx="6095880" cy="2490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563920"/>
            <a:ext cx="5562720" cy="42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A76-E3A5-4F5A-B69A-EC58269509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4500720" cy="277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094680" cy="2168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9480" y="152280"/>
            <a:ext cx="223956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bar/p 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209680"/>
            <a:ext cx="8076960" cy="0"/>
          </a:xfrm>
          <a:prstGeom prst="line">
            <a:avLst/>
          </a:prstGeom>
          <a:ln w="255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5410080"/>
            <a:ext cx="2438280" cy="0"/>
          </a:xfrm>
          <a:prstGeom prst="line">
            <a:avLst/>
          </a:prstGeom>
          <a:ln w="255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07000" y="4594320"/>
            <a:ext cx="3965040" cy="12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 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p to 6 GeV/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3276720"/>
            <a:ext cx="6553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5080" y="3276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7240" y="32878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D91-5179-4B7E-842E-536FDF591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8080" y="106200"/>
            <a:ext cx="173844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72080" y="46227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7960" y="5156280"/>
            <a:ext cx="6575760" cy="113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bar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atios seem to turn over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lose to the value of fragmentation at highe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dicating transition from soft to hard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20760" y="104148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8960" y="1041480"/>
            <a:ext cx="603000" cy="459720"/>
            <a:chOff x="4728960" y="1041480"/>
            <a:chExt cx="603000" cy="459720"/>
          </a:xfrm>
        </p:grpSpPr>
        <p:sp>
          <p:nvSpPr>
            <p:cNvPr id="139" name=""/>
            <p:cNvSpPr/>
            <p:nvPr/>
          </p:nvSpPr>
          <p:spPr>
            <a:xfrm>
              <a:off x="4728960" y="104148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11174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3122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774560" y="380880"/>
            <a:ext cx="822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858-DA1C-412A-AF9D-ECFF765BE9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520" y="914400"/>
            <a:ext cx="9047160" cy="428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320" y="106200"/>
            <a:ext cx="406872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entrality de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5680" y="5791320"/>
            <a:ext cx="690156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 look to have a peak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-4 GeV/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ear peak in central events than that in periph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57880" y="5475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760" y="135396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0640" y="3411360"/>
            <a:ext cx="603000" cy="459720"/>
            <a:chOff x="80640" y="3411360"/>
            <a:chExt cx="603000" cy="459720"/>
          </a:xfrm>
        </p:grpSpPr>
        <p:sp>
          <p:nvSpPr>
            <p:cNvPr id="149" name=""/>
            <p:cNvSpPr/>
            <p:nvPr/>
          </p:nvSpPr>
          <p:spPr>
            <a:xfrm>
              <a:off x="80640" y="341136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80" y="3487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95280" y="5257800"/>
            <a:ext cx="6553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45080" y="52578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240" y="52689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31760" y="76320"/>
            <a:ext cx="822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1BA-7881-4EB3-88EE-1A91C8AF54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137360" cy="3335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1320" y="106200"/>
            <a:ext cx="406872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entrality de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4800" y="114300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52640" y="1143000"/>
            <a:ext cx="603000" cy="459720"/>
            <a:chOff x="4652640" y="1143000"/>
            <a:chExt cx="603000" cy="459720"/>
          </a:xfrm>
        </p:grpSpPr>
        <p:sp>
          <p:nvSpPr>
            <p:cNvPr id="159" name=""/>
            <p:cNvSpPr/>
            <p:nvPr/>
          </p:nvSpPr>
          <p:spPr>
            <a:xfrm>
              <a:off x="4652640" y="114300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4280" y="12189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371960" y="5486400"/>
            <a:ext cx="6354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ty dependence seen in the magnitu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 in peripheral lies slightly above the p+p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59480" y="4708440"/>
            <a:ext cx="34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+p data (nucl-ex/0603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74560" y="380880"/>
            <a:ext cx="822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59B-B325-4345-BC87-4B947B2BA2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4880" y="181080"/>
            <a:ext cx="186948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n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2520" y="304920"/>
            <a:ext cx="79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00800" cy="29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09480" y="990720"/>
                <a:ext cx="3449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ntral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ntra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ipheral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ipher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522880" y="5257800"/>
            <a:ext cx="47725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s unity above 2 GeV/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structure at 2~3 GeV/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295280" y="2133720"/>
            <a:ext cx="6437520" cy="2965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295280" y="2133720"/>
            <a:ext cx="6437520" cy="2965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295280" y="2133720"/>
            <a:ext cx="6400800" cy="29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2A2-6B23-4B52-8706-AAB36677F0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4880" y="181080"/>
            <a:ext cx="186948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n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42520" y="304920"/>
            <a:ext cx="79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934320" cy="3192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458000" y="4930920"/>
            <a:ext cx="6458040" cy="113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ms to show decreasing above 3 GeV/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to merge to pio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highe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more statistics to look at high-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8DA-97DF-4C33-BE18-69AB09468E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09320" y="2743200"/>
            <a:ext cx="457452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llision system d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4F0-37F5-44A7-A956-E4E1590199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917640"/>
            <a:ext cx="6476760" cy="3578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2120" y="4495680"/>
            <a:ext cx="7619760" cy="189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apidly increasing wit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62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er centrality dependences (62GeV) than those of 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difference for p and pbar at 62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dicating more baryon transport and less p-pbar pair production at 62 Ge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 200 GeV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9800" y="147600"/>
            <a:ext cx="4321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tio in 62 GeV Au+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3680" y="177840"/>
            <a:ext cx="2561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 GeV Au+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4AD-3787-4934-A6AF-1CEC219DD2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0" r="5859" b="0"/>
          <a:stretch/>
        </p:blipFill>
        <p:spPr>
          <a:xfrm>
            <a:off x="4862520" y="1057320"/>
            <a:ext cx="3773520" cy="3286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0" t="0" r="7211" b="0"/>
          <a:stretch/>
        </p:blipFill>
        <p:spPr>
          <a:xfrm>
            <a:off x="298440" y="927000"/>
            <a:ext cx="4273560" cy="3230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H="1">
            <a:off x="2787120" y="2043000"/>
            <a:ext cx="690840" cy="34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60840" y="1649520"/>
            <a:ext cx="190476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entral 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698920" y="2717640"/>
            <a:ext cx="434880" cy="149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0720" y="2627280"/>
            <a:ext cx="18748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 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52280"/>
            <a:ext cx="44960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tio in Cu+Cu / Au+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5800" y="4952880"/>
            <a:ext cx="6665400" cy="14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- Observed a large p,pbar contribution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as seen in 200 GeV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pa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dependences on particle ratios have similar tr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as in Au+Au 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pa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scal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24600" y="44197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4360" y="177840"/>
            <a:ext cx="2799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GeV Cu+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C17-99FA-4BFE-99EC-D4D4ECD671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46680" y="1600200"/>
            <a:ext cx="5176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ysics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ENIX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ision system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omparison with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umm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080" y="304920"/>
            <a:ext cx="15508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0DB-0F0C-42EC-891A-09827E4F6C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28800" y="2803680"/>
            <a:ext cx="529236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rison with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13E-E58D-4F13-9F01-A3270964C5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7240" y="152280"/>
            <a:ext cx="42804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ison with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05600" y="304920"/>
            <a:ext cx="2657520" cy="3200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0" y="3494160"/>
            <a:ext cx="3276720" cy="2220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5800" y="990720"/>
            <a:ext cx="2971800" cy="2280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2680" y="106668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65840" y="838080"/>
            <a:ext cx="20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C 69, 034908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85400" y="228600"/>
            <a:ext cx="20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C 68, 044902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733920" y="1076400"/>
            <a:ext cx="2286000" cy="2276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032720" y="838080"/>
            <a:ext cx="20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C 67, 034902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888840" y="3352680"/>
            <a:ext cx="3302280" cy="2371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369800" y="3200400"/>
            <a:ext cx="20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L 90, 202302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46240" y="5765760"/>
            <a:ext cx="727020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look through several mode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ombination, hydro+jet, …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 mechanism of hadron production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95D-6A6E-4A9E-8D48-EA2731B426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186160" y="518148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es, R et al PRC 68 (2003) 0449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co, V et al PRL 90 (2003) 2023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a, R et al PRC 70(2004) 0249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3929040" cy="4191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957840" cy="2539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4419720"/>
            <a:ext cx="4267080" cy="135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combination of partons may be a more efficient mechanism of hadron production than fra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5720" y="152280"/>
            <a:ext cx="267264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8DA-27DF-4038-B23D-9596D7CDEB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952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84240" y="8082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utura"/>
              </a:rPr>
              <a:t>PHENIX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51200" y="5140440"/>
            <a:ext cx="118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"/>
              </a:rPr>
              <a:t>(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Futur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Futura"/>
              </a:rPr>
              <a:t> -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Futur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Futu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360" y="196920"/>
            <a:ext cx="34498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ing of elliptic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00040" y="5791320"/>
            <a:ext cx="470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partonic 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BB9-35C9-4484-90F3-CF61ED054C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63880" y="166680"/>
            <a:ext cx="15631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5680" y="822240"/>
            <a:ext cx="847728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 of PID (especially for p, pbar) extend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gh 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GeV Au+Au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w PID detector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bar/p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 centrality o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rati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ing transition from soft to hard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C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ti-)proto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s decreasing above 3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ision system depend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imila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urnover curve on p/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62 GeV Au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ca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article ratios (Cu+Cu / Au+A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with mod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mbination 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m to be m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experiment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02920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82400" y="5241960"/>
            <a:ext cx="70840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mprove data analysis, reduce sys. errors for PID at hig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Run5 p+p (abundant) data to mak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highe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PC-T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00p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installed for PID up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6360" y="5288040"/>
            <a:ext cx="8712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7F6-0C8C-4CB3-B888-AB0FD7D76F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6080" y="182520"/>
            <a:ext cx="32943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s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5200" y="4902120"/>
            <a:ext cx="3553200" cy="9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gh-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up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on energy loss in th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et quench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280" y="2050920"/>
            <a:ext cx="3962520" cy="2597400"/>
            <a:chOff x="152280" y="2050920"/>
            <a:chExt cx="3962520" cy="25974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2066400"/>
              <a:ext cx="3962520" cy="25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609480" y="2050920"/>
              <a:ext cx="3454200" cy="22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610920" y="174636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5441" r="4146" b="0"/>
          <a:stretch/>
        </p:blipFill>
        <p:spPr>
          <a:xfrm>
            <a:off x="4514760" y="1920960"/>
            <a:ext cx="4248360" cy="280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54280" y="172080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-ex/0603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53800" y="4865760"/>
            <a:ext cx="4227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suppression patterns dep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particle typ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ns are enhanc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pions and kaons are suppr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2760" y="838080"/>
            <a:ext cx="44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clear Modification Factor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638680" y="457200"/>
                <a:ext cx="2687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3352680"/>
            <a:ext cx="1143000" cy="990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23880" y="2133720"/>
            <a:ext cx="3124440" cy="1218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00200" y="4114440"/>
            <a:ext cx="335268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04D-D6A5-42D7-9296-1F2E7EAD3E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320" y="1638360"/>
            <a:ext cx="4572000" cy="3009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84080" y="1339920"/>
            <a:ext cx="22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L 91, 172301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8240" y="5078520"/>
            <a:ext cx="6809760" cy="126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io ~1 for central Au+Au at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-4 GeV/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than expected from fragmentation (measured in pp,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yon / Meson difference at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uclear modification factor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lliptic flow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3808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77616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ryon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4724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9760" y="152280"/>
            <a:ext cx="32943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s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4495" t="4508" r="6615" b="6625"/>
          <a:stretch/>
        </p:blipFill>
        <p:spPr>
          <a:xfrm>
            <a:off x="4952880" y="123840"/>
            <a:ext cx="4114800" cy="3381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3581280"/>
            <a:ext cx="358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+Au similar to peripheral Au+Au but much smaller than central 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8CF-1E2B-48C8-BE66-B091DEEDD0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9760" y="152280"/>
            <a:ext cx="32943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s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451320"/>
            <a:ext cx="60195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nsverse momentum spec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ticle rat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 the most basic tool to investigate the mechanisms of hadron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12680" y="5203800"/>
            <a:ext cx="5261760" cy="12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distinguish the different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chan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protons and p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intermediate and highe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19520" y="914400"/>
            <a:ext cx="4660200" cy="8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origin of (anti-)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intermediat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64920" y="1905120"/>
            <a:ext cx="408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ources (medium effect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rong radial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comb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aryon j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C78-6425-44A8-9E38-CCEE4549C2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9160" y="200160"/>
            <a:ext cx="308844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IX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495680" y="930240"/>
            <a:ext cx="4267440" cy="2895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560" y="2513160"/>
            <a:ext cx="36936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adron Identification at High 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 = 1.01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ull installation in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ton separation from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π/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8 GeV/c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360" y="2009880"/>
            <a:ext cx="334764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erogel Cherenkov Co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2073240"/>
            <a:ext cx="457200" cy="762120"/>
          </a:xfrm>
          <a:prstGeom prst="ellipse">
            <a:avLst/>
          </a:prstGeom>
          <a:noFill/>
          <a:ln w="442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225520"/>
            <a:ext cx="1600200" cy="15264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8720" y="457200"/>
            <a:ext cx="98676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6120" y="1036800"/>
            <a:ext cx="70812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257440" y="838080"/>
            <a:ext cx="152280" cy="6858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924320" y="1463760"/>
            <a:ext cx="304920" cy="106668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33000" y="3902040"/>
            <a:ext cx="241956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ft Cha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omentum mea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095520" y="2758680"/>
            <a:ext cx="1219320" cy="11430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4880" y="4800600"/>
            <a:ext cx="226692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cking det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C1,PC2,PC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715000" y="3521160"/>
            <a:ext cx="380880" cy="127944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3341400">
            <a:off x="5599800" y="27972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6480" y="912960"/>
            <a:ext cx="3630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entral Arm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gnetic spectrom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vent Characteriza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320" y="4038480"/>
            <a:ext cx="3657600" cy="245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900600" y="4267080"/>
            <a:ext cx="158580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B37-6528-4D34-88DE-C76F59CDF5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0480" y="200160"/>
            <a:ext cx="236628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838080"/>
            <a:ext cx="6281280" cy="256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ta set: Au+Au 200 Ge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ken in Run4, 2003-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gh 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40M events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d Hadron P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erog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or PID extension toward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Run4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Simu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cceptance, efficiency (occupancy) corr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 feed-down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4496040" cy="270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5280" y="38098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G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28080" y="6292800"/>
            <a:ext cx="27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 matching residual (a.u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80" y="5181480"/>
            <a:ext cx="33631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dom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lectrons from photon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cay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5053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2920" y="430380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sidual b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1360" y="3886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N~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69280" y="38862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N~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6960" y="518148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N~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9280" y="518148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N~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1840" y="5105520"/>
            <a:ext cx="102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~7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7680" y="5105520"/>
            <a:ext cx="102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~6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71840" y="3733920"/>
            <a:ext cx="102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~5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47680" y="3733920"/>
            <a:ext cx="102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~4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605-7AD4-4D1D-A047-F8BBFE93C6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34280" y="2727360"/>
            <a:ext cx="167868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D7D-4F2A-4282-BE44-F849D3275C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120" y="152280"/>
            <a:ext cx="2808360" cy="1136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(anti-)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117360"/>
            <a:ext cx="5867640" cy="2397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516040"/>
            <a:ext cx="5638680" cy="4341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721840" y="4648320"/>
            <a:ext cx="333072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reach 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(anti-)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fine centrality b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5800" y="2819520"/>
            <a:ext cx="1533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966-BFA4-41FE-B9CF-F9DBC9611E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21:59:07Z</dcterms:created>
  <dc:creator>M. Konno</dc:creator>
  <dc:description/>
  <dc:language>en-US</dc:language>
  <cp:lastModifiedBy>M. Konno</cp:lastModifiedBy>
  <dcterms:modified xsi:type="dcterms:W3CDTF">2006-05-23T19:18:38Z</dcterms:modified>
  <cp:revision>82</cp:revision>
  <dc:subject/>
  <dc:title>PowerPoint プレゼンテーション</dc:title>
</cp:coreProperties>
</file>