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BA12134-A90E-4D0D-8E83-72714614DE6A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856040"/>
            <a:ext cx="566748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ate D -&gt;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meson v2 (shape is assumed same as pi / K / 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; scale 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“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imum ; 7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Π, deuteron v2 --- 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856040"/>
            <a:ext cx="566748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. Kaji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 b me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o. b me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CBE751D-E11D-45B3-8CA3-DA4A40B0C760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imuthal anisotropy of particle emission is sensitive to the early stages of system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of jet que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identified particle v2 give up much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of the collis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(EMcal) &amp; momentum 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photonic electron v2 (converter meth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nic electron v2 (simu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2731-3321-4AB1-B8C0-B9ECADFF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52CF-94D1-47A3-818A-3992737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DFEA-FA69-4DF5-952B-E53E7B3A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3237-5270-4FC6-95B4-F2522FAF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9B37-B351-405B-8098-92951ED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470-B199-4E08-ABB0-85A67E9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01A-3755-4FB9-A5DA-24F8B88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63E3-3D55-4444-8B2A-773E0A6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3BF5-61E4-4B52-8C5A-D37C0F9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8E3E-7858-4EB7-BC84-75FAE91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F5B1-EFC9-4636-BC43-B305A6E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FC72-4E91-4D65-A2E0-B963CC2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2014-4E75-4BA5-B560-C5118AA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31B8-4D0B-4620-AF46-F2370E0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EEB-0FC2-43D5-BA0B-0CA7274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84C-3E86-4A99-97F7-BF83EB3E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8B8-0ADC-4563-BE9F-FA24F380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FD4F-CAF2-4B54-A155-FDD35416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DDBE-0378-4707-BB42-31B85D1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F736-02D7-4A2C-B5D4-71FE804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E932-BF22-41BF-9A72-C74186B1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F237-5BAB-4B32-A954-1272DF5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01D7-33C3-4C2A-909D-8B3A6A2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362C-2A0C-4C59-B6FA-EFE2CED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1FB-6C58-4768-89A7-043768990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315-D0A9-4C3D-B6C6-D7E3ABA9A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zimuthal Anisotropy of Electrons from Heavy Flavor Decays in √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0 GeV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-Au Collisions at PHE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go Sakai for PHENIX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v. of Tsuku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629400" cy="4227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476360" y="1052640"/>
            <a:ext cx="1079640" cy="2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5157720"/>
            <a:ext cx="68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on-photonic electron v2 : pT &lt; 1.0 (conv.) &amp; pT&gt;1.0 (c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on-photonic electron v2 has non-zero v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indicate non-zero D meson v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80AB-BF35-4539-BC80-93A2D3A88E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flo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537080" cy="4033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4895640" cy="1652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4723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9308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1380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5344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73800" y="4292640"/>
            <a:ext cx="779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T[GeV/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02520" y="6165720"/>
            <a:ext cx="779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T[GeV/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197000"/>
            <a:ext cx="49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mpared with qu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alescence model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with/without charm quar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(Greco, Ko, Rapp: PLB 595 (2004) 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- No Bottom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- c v2 small u v2 @ low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- quark v2 flat @ high p</a:t>
            </a:r>
            <a:r>
              <a:rPr b="1" lang="nb-NO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elow 2.0 GeV/c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consistent with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charm qu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flow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</a:rPr>
              <a:t>favor charm quark flow mode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6DE5-7A0D-4F58-B59B-3D9CFDCCAC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v2 estimate from non-γ e v2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38560" y="90792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53240" y="143784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5600" y="294948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86680" y="2878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4520" y="148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7040" y="1268280"/>
            <a:ext cx="2477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D meson v2 is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v2 D = a * f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f.e. v2 D = 0.6*pi v2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921280" y="40784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34000" y="558972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5080" y="55180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7600" y="414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2160" y="5086440"/>
            <a:ext cx="2147760" cy="503280"/>
          </a:xfrm>
          <a:custGeom>
            <a:avLst/>
            <a:gdLst/>
            <a:ahLst/>
            <a:rect l="l" t="t" r="r" b="b"/>
            <a:pathLst>
              <a:path w="1353" h="317">
                <a:moveTo>
                  <a:pt x="0" y="317"/>
                </a:moveTo>
                <a:cubicBezTo>
                  <a:pt x="49" y="253"/>
                  <a:pt x="99" y="189"/>
                  <a:pt x="182" y="136"/>
                </a:cubicBezTo>
                <a:cubicBezTo>
                  <a:pt x="265" y="83"/>
                  <a:pt x="325" y="0"/>
                  <a:pt x="499" y="0"/>
                </a:cubicBezTo>
                <a:cubicBezTo>
                  <a:pt x="673" y="0"/>
                  <a:pt x="1097" y="113"/>
                  <a:pt x="1225" y="136"/>
                </a:cubicBezTo>
                <a:cubicBezTo>
                  <a:pt x="1353" y="159"/>
                  <a:pt x="1311" y="147"/>
                  <a:pt x="1270" y="13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2160" y="4870440"/>
            <a:ext cx="2328840" cy="647640"/>
          </a:xfrm>
          <a:custGeom>
            <a:avLst/>
            <a:gdLst/>
            <a:ahLst/>
            <a:rect l="l" t="t" r="r" b="b"/>
            <a:pathLst>
              <a:path w="1467" h="408">
                <a:moveTo>
                  <a:pt x="0" y="408"/>
                </a:moveTo>
                <a:cubicBezTo>
                  <a:pt x="53" y="283"/>
                  <a:pt x="106" y="159"/>
                  <a:pt x="182" y="91"/>
                </a:cubicBezTo>
                <a:cubicBezTo>
                  <a:pt x="258" y="23"/>
                  <a:pt x="265" y="0"/>
                  <a:pt x="454" y="0"/>
                </a:cubicBezTo>
                <a:cubicBezTo>
                  <a:pt x="643" y="0"/>
                  <a:pt x="1165" y="76"/>
                  <a:pt x="1316" y="91"/>
                </a:cubicBezTo>
                <a:cubicBezTo>
                  <a:pt x="1467" y="106"/>
                  <a:pt x="1414" y="98"/>
                  <a:pt x="1361" y="91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55720" y="4006800"/>
            <a:ext cx="14698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-- D -&gt;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p e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520" y="44388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732360" y="4869000"/>
            <a:ext cx="360360" cy="12254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093080" y="5229000"/>
            <a:ext cx="144360" cy="8650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1628640"/>
            <a:ext cx="288720" cy="266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63200" y="306864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 ; fre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2347920"/>
            <a:ext cx="2305080" cy="515880"/>
          </a:xfrm>
          <a:custGeom>
            <a:avLst/>
            <a:gdLst/>
            <a:ahLst/>
            <a:rect l="l" t="t" r="r" b="b"/>
            <a:pathLst>
              <a:path w="1452" h="325">
                <a:moveTo>
                  <a:pt x="0" y="325"/>
                </a:moveTo>
                <a:cubicBezTo>
                  <a:pt x="41" y="279"/>
                  <a:pt x="83" y="234"/>
                  <a:pt x="136" y="189"/>
                </a:cubicBezTo>
                <a:cubicBezTo>
                  <a:pt x="189" y="144"/>
                  <a:pt x="258" y="82"/>
                  <a:pt x="318" y="52"/>
                </a:cubicBezTo>
                <a:cubicBezTo>
                  <a:pt x="378" y="22"/>
                  <a:pt x="423" y="14"/>
                  <a:pt x="499" y="7"/>
                </a:cubicBezTo>
                <a:cubicBezTo>
                  <a:pt x="575" y="0"/>
                  <a:pt x="613" y="0"/>
                  <a:pt x="772" y="7"/>
                </a:cubicBezTo>
                <a:cubicBezTo>
                  <a:pt x="931" y="14"/>
                  <a:pt x="1191" y="33"/>
                  <a:pt x="1452" y="52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350028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63520" y="602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59280" y="2349360"/>
            <a:ext cx="733320" cy="1719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00600 h 1719360"/>
              <a:gd name="textAreaBottom" fmla="*/ 1246680 h 17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32680" y="3573360"/>
            <a:ext cx="16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e D -&gt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45640" y="208440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“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052640"/>
            <a:ext cx="5473440" cy="56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fferent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pt) shape assum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 D meso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 v2 = a * f(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(pT) = pi v2 / k v2 / p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; fre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2)  Simulate D -&gt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*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tribution tu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reproduce electron 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ape at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estricted up to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2GeV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due to uncertainty of B con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Σ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v2 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non-γ e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(pT)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v2 </a:t>
            </a:r>
            <a:r>
              <a:rPr b="0" lang="ja-JP" sz="1800" spc="-1" strike="noStrike" baseline="-25000">
                <a:solidFill>
                  <a:srgbClr val="0000ff"/>
                </a:solidFill>
                <a:latin typeface="Arial"/>
              </a:rPr>
              <a:t>D-&gt;e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 (pT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/σ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}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4) Change “a” and find χ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inimum for each f(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C8E5-9333-44F5-9EF0-745E351892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 v2 estimate from non-γ e v2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056360" cy="424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761480" y="5516640"/>
            <a:ext cx="54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２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ndf v.s. scale factor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 meson v2 might be smaller than pi, K, p v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3440" y="2924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2160" y="2924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7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800" y="5013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4F3B-197B-405F-9912-061772BCA8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are D v2 with other hadr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157720"/>
            <a:ext cx="855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 meson v2 from non-photonic electron v2 (pT &lt; 2.0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er than pi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r than Deuteron v2 if D v2 shape same as pi, k,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ss D meson~ Mass Deuter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62800" cy="4448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20360" y="4363920"/>
            <a:ext cx="36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π, deuteron v2 --- PHENIX prelim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46CB-BAD4-4C03-818C-26127EA8F7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659600" y="44272080"/>
            <a:ext cx="13335120" cy="71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on-photonic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from heavy flavor decays has been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RHIC-PHEN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e with model calculations assuming charm flow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=&gt;Out result consistent with charm flow model at low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e with PYTHIA cal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--- scaled p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=&gt;Indicate 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is smaller than p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rom heavy flavor dec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as been measured with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n-photonic electron v2 has non-zero v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&gt; indicate non-zero D meson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pare with model calculations assu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harm flow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r result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istent with charm flow mod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0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stimate D meson v2 from non-photonic electron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suming D meson v2 shape as pion, Kaon, pr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F6AF-2625-4040-87C4-23CDB26BDC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47B8-FAC9-4458-9B47-6B8F2D4130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125360"/>
            <a:ext cx="8785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non-photonic &amp; photonic e v2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rter run &amp; 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on-photonic) &amp;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(photoni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eriment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  determined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4076640"/>
            <a:ext cx="748836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ratio of electrons with &amp; without converter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non-photonic/photonic ratio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inclusive e v2 measured with non-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inclusive e v2 measured with 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27664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321300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1125360"/>
            <a:ext cx="7272360" cy="863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335772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A094-8B4E-498D-A005-90966F12E5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1197000"/>
            <a:ext cx="85690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photonic electron v2 with 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ubtract it from electron v2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n-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pho.e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on-pho.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/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 -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} /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7240" y="393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4680" y="4508640"/>
            <a:ext cx="4784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non-photonic/photoni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ly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--- inclusive electron v2 (without conve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photonic electr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from pi0 (pion)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0160" y="393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alc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328464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197000"/>
            <a:ext cx="6985080" cy="11523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995640" y="36446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48000" y="364464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219640" y="3357720"/>
            <a:ext cx="28728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2880" y="3141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1FA4-EBE7-4717-8B33-0FAE732414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 meson contribution to non-γ.e.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4392720" cy="4037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0920" y="1555920"/>
            <a:ext cx="2257920" cy="86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&amp; B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ssume D &amp; B v2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v2 ~ 0.6 pi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05440" y="2421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285264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256392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 -&gt;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093080" y="37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24000" y="422100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B -&gt;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65000" y="49417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4519440" y="14724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960" y="5373720"/>
            <a:ext cx="72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predict B -&gt; e v2 reduce non-photonic electron v2 @ high 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 meson v2 saturate @ high pT, non-photonic electron v2 red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smearing of electron v2 from B mes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589800" y="2997360"/>
            <a:ext cx="1942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9080" y="4076640"/>
            <a:ext cx="40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quark coalesce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, b reso ; c,b get v2 by elastic scat. in 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2600" y="2276640"/>
            <a:ext cx="190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ndrik, Greco, R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th/0508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18000" y="227664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w.o. B meson (c 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57600" y="277956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. B meson (c,b 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186C-2C16-4ADF-9DEE-0FC25C4F28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89600" y="439560"/>
            <a:ext cx="2437920" cy="1905120"/>
            <a:chOff x="5889600" y="439560"/>
            <a:chExt cx="2437920" cy="1905120"/>
          </a:xfrm>
        </p:grpSpPr>
        <p:sp>
          <p:nvSpPr>
            <p:cNvPr id="117" name=""/>
            <p:cNvSpPr/>
            <p:nvPr/>
          </p:nvSpPr>
          <p:spPr>
            <a:xfrm>
              <a:off x="6543720" y="1280160"/>
              <a:ext cx="1130040" cy="106452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9600" y="1280160"/>
              <a:ext cx="1129680" cy="106452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3720" y="1335960"/>
              <a:ext cx="475560" cy="95256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840320"/>
              <a:ext cx="11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781680" y="831600"/>
              <a:ext cx="0" cy="10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69680" y="161640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03120" y="43956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36960" y="3335400"/>
            <a:ext cx="2895120" cy="2282760"/>
            <a:chOff x="5736960" y="3335400"/>
            <a:chExt cx="2895120" cy="2282760"/>
          </a:xfrm>
        </p:grpSpPr>
        <p:grpSp>
          <p:nvGrpSpPr>
            <p:cNvPr id="125" name=""/>
            <p:cNvGrpSpPr/>
            <p:nvPr/>
          </p:nvGrpSpPr>
          <p:grpSpPr>
            <a:xfrm>
              <a:off x="6177600" y="3335400"/>
              <a:ext cx="2454480" cy="2270160"/>
              <a:chOff x="6177600" y="3335400"/>
              <a:chExt cx="2454480" cy="2270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177600" y="4416480"/>
                <a:ext cx="138456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9880" y="4836960"/>
                <a:ext cx="12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869880" y="3755520"/>
                <a:ext cx="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28440" y="4599360"/>
                <a:ext cx="5036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4840" y="3335400"/>
                <a:ext cx="690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718488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99520" y="4296600"/>
              <a:ext cx="314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5520" y="4837320"/>
              <a:ext cx="314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9520" y="507744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7880" y="525744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0240" y="5317920"/>
              <a:ext cx="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870240" y="3995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36660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988240" y="4296600"/>
              <a:ext cx="251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736960" y="4837320"/>
              <a:ext cx="37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960" y="513756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240600" y="5317920"/>
              <a:ext cx="188640" cy="24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502960" y="24210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itial spatial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5516640"/>
            <a:ext cx="3429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mentum spac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of particle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27680" y="284004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5000" y="1413000"/>
            <a:ext cx="50803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werful probe of the initial stat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igh energy heavy ion coll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initial spatial anisotr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omentum space anisotr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roscopic ; hydro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pressure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c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scattering in th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084640"/>
            <a:ext cx="4824360" cy="6116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N/d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1+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(2φ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2198-DD6B-47AF-A200-031E68525D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ready developed in partonic ph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3344" r="0" b="0"/>
          <a:stretch/>
        </p:blipFill>
        <p:spPr>
          <a:xfrm>
            <a:off x="3924360" y="1341360"/>
            <a:ext cx="4753080" cy="4824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2160" y="1628640"/>
            <a:ext cx="389628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d hadrons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ing number of qu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after scaling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all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ame cur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onic level v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already formed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onic phase for hadr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de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ight quarks (u,d,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F8C4-1E54-45F5-9917-9F41F7BC0D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816360" cy="288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" y="1052640"/>
            <a:ext cx="504540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m is believed to be produced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collisions via gluon f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tal cross-section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; bin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harm propagates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edium created in the coll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 good probe of med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--- suppression @ high 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nitial charm v2 might be 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 charm quark v2 due to scatte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n med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 non-zero charm v2 indic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very high dense medium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n the collision !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9440" cy="302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572800" y="272304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.Rev.Lett.94:082301,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93E6-15B6-4332-B778-0E5F1420C1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study @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859280" y="1052640"/>
            <a:ext cx="3745080" cy="2730240"/>
            <a:chOff x="4859280" y="1052640"/>
            <a:chExt cx="3745080" cy="27302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4859280" y="1052640"/>
              <a:ext cx="3745080" cy="27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9423200">
              <a:off x="6635160" y="2441160"/>
              <a:ext cx="465480" cy="30780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79280" y="1341360"/>
            <a:ext cx="849636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deca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auty decay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itz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electron dec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n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n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dilep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ract photonic electrons following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cktail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– calculation of “photonic” electron background from all known 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rter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– extraction of “photonic” electron background by special run with additional co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rass, X = 1.7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7800" y="2997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91240" y="18446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n-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1844640"/>
            <a:ext cx="73080" cy="576360"/>
          </a:xfrm>
          <a:custGeom>
            <a:avLst/>
            <a:gdLst>
              <a:gd name="textAreaLeft" fmla="*/ 0 w 73080"/>
              <a:gd name="textAreaRight" fmla="*/ 2628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360" y="2637000"/>
            <a:ext cx="71640" cy="1439640"/>
          </a:xfrm>
          <a:custGeom>
            <a:avLst/>
            <a:gdLst>
              <a:gd name="textAreaLeft" fmla="*/ 0 w 71640"/>
              <a:gd name="textAreaRight" fmla="*/ 25920 w 71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DDD6-B57C-4860-B08B-55644DE0B5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-photonic electron v2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052640"/>
            <a:ext cx="828036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vert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 inclusive electron v2 with/without conver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eparate non-photonic &amp; photonic e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on-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v2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non-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on-γ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 (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v2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non-γ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-- ratio of electrons with &amp; without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 inclusive e v2 measured with non-converter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--- inclusive e v2 measured with converter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 photonic e v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v2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non-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 non photonic e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cktail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otonic electron v2 with simu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subtract it from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ectron v2 measured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-converter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non-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}/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2133720"/>
            <a:ext cx="3527280" cy="649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56360" y="3573360"/>
            <a:ext cx="3887640" cy="24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95280" y="44323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04: X=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6000" y="54230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un02: X=1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46920" y="3789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ho./p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22160" y="5877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M05 F. Kajih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B0FE-4083-429A-A06C-5B989469DE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ectron v2 measurement @ PHEN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19640" y="1052640"/>
            <a:ext cx="3677760" cy="3708000"/>
            <a:chOff x="5219640" y="1052640"/>
            <a:chExt cx="3677760" cy="37080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5219640" y="1052640"/>
              <a:ext cx="3677760" cy="37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5620680" y="3080160"/>
              <a:ext cx="1366560" cy="53064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cubicBezTo>
                    <a:pt x="24" y="440"/>
                    <a:pt x="48" y="352"/>
                    <a:pt x="144" y="288"/>
                  </a:cubicBezTo>
                  <a:cubicBezTo>
                    <a:pt x="240" y="224"/>
                    <a:pt x="352" y="192"/>
                    <a:pt x="576" y="144"/>
                  </a:cubicBezTo>
                  <a:cubicBezTo>
                    <a:pt x="800" y="96"/>
                    <a:pt x="1144" y="48"/>
                    <a:pt x="1488" y="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45680" y="3336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 Narrow"/>
                </a:rPr>
                <a:t>e</a:t>
              </a:r>
              <a:r>
                <a:rPr b="1" lang="en-US" sz="2000" spc="-1" strike="noStrike" baseline="30000">
                  <a:solidFill>
                    <a:srgbClr val="006600"/>
                  </a:solidFill>
                  <a:latin typeface="Arial Narro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1341360"/>
            <a:ext cx="42670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明朝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is measured by R.P.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R.P. --- determined with B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Tracking (pT,φ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--- DC +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ID --- RICH &amp; EM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6040" y="2060640"/>
            <a:ext cx="440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N/d(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) = N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1 + 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obs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s(2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2895840" cy="2783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15400" y="6316560"/>
            <a:ext cx="23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E-p/p/sigma)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51200" y="4030560"/>
            <a:ext cx="38088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35320" y="395460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ID @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68960" y="52498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.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69960" y="540216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851200" y="494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08880" y="45640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After subtract B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357336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41720" y="357336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7560" y="5373720"/>
            <a:ext cx="3692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 : Energy (EMcal) &amp; momentum 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electrons identified by R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electron signals around E-p/p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981000"/>
            <a:ext cx="396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486900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486900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D38B-42B2-4159-B6C5-74DFFC7078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clusive electron v2 (in/out conve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977080" cy="388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32000" y="494172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ve electron v2 in / out co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 difference between converter in /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photonic &amp; non-photonic e v2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C89D-5EE7-484B-86EA-D20AB6444E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clusive electron &amp; photonic electr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44720" y="1054080"/>
            <a:ext cx="6769080" cy="3889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87280" y="5084640"/>
            <a:ext cx="741708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mpare with inclusive &amp; 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otonic e v2 ; pT &lt; 1.0 (conv.) &amp; pT &gt; 1.0 (coc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clusive electron v2 is smaller than 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5440" y="981000"/>
            <a:ext cx="115236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15573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lectron v2 (converter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lectron v2 (simulation ; pi0 -&gt;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ve electron v2 (converter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7440" y="2062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9080" y="2205000"/>
            <a:ext cx="142560" cy="14292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Q 2006 (Shingo Sakai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4929-185D-4EC7-81B2-A51996CB23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5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26:35Z</dcterms:created>
  <dc:creator>shingo</dc:creator>
  <dc:description/>
  <dc:language>en-US</dc:language>
  <cp:lastModifiedBy>shingo</cp:lastModifiedBy>
  <dcterms:modified xsi:type="dcterms:W3CDTF">2006-05-13T18:33:00Z</dcterms:modified>
  <cp:revision>181</cp:revision>
  <dc:subject/>
  <dc:title>スライド 1</dc:title>
</cp:coreProperties>
</file>