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B51C-AC21-4361-AE99-36BECE0CA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荷電粒子入射→ガス電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電子発生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)→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電場により電子がドリフト→アノードワイヤーで電子雪崩発生→カソードパッドでイメージチャージの読み込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EA10-24BB-4FF5-950A-F7096861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A5E6-4B7F-4602-908E-7983EAF1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7D4D-ACAD-4B52-8455-D3C483A0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C718-BCCB-45A9-8369-A9FBECD0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8C4F-85FE-4A87-983D-17830410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DD14-6546-4448-99C5-9744DE68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DAF8-4763-4DD2-B5B6-5D7A84EC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83C4-6EEB-4C42-97C7-A7FAF66A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BAF5-2973-4DB1-829A-A3C3A914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9299-C9FC-41A4-8A05-044C6625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FF67-FC84-4238-AE40-A79DD70D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E184-5AC7-4FD9-B48B-DA72C0F0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97FE-E8B4-48A0-8D4D-821B6844A2F9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979560"/>
            <a:ext cx="784836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ＭＳ Ｐゴシック"/>
              </a:rPr>
              <a:t>高位置分解能検出器のための</a:t>
            </a:r>
            <a:br>
              <a:rPr sz="4400"/>
            </a:br>
            <a:r>
              <a:rPr b="1" lang="ja-JP" sz="4400" spc="-1" strike="noStrike">
                <a:solidFill>
                  <a:srgbClr val="000000"/>
                </a:solidFill>
                <a:latin typeface="ＭＳ Ｐゴシック"/>
              </a:rPr>
              <a:t>10</a:t>
            </a:r>
            <a:r>
              <a:rPr b="1" lang="ja-JP" sz="4400" spc="-1" strike="noStrike">
                <a:solidFill>
                  <a:srgbClr val="000000"/>
                </a:solidFill>
                <a:latin typeface="ＭＳ Ｐゴシック"/>
              </a:rPr>
              <a:t>ビット</a:t>
            </a:r>
            <a:r>
              <a:rPr b="1" lang="ja-JP" sz="4400" spc="-1" strike="noStrike">
                <a:solidFill>
                  <a:srgbClr val="000000"/>
                </a:solidFill>
                <a:latin typeface="ＭＳ Ｐゴシック"/>
              </a:rPr>
              <a:t>100M</a:t>
            </a:r>
            <a:r>
              <a:rPr b="1" lang="ja-JP" sz="4400" spc="-1" strike="noStrike">
                <a:solidFill>
                  <a:srgbClr val="000000"/>
                </a:solidFill>
                <a:latin typeface="ＭＳ Ｐゴシック"/>
              </a:rPr>
              <a:t>サンプリング</a:t>
            </a:r>
            <a:br>
              <a:rPr sz="4400"/>
            </a:br>
            <a:r>
              <a:rPr b="1" lang="ja-JP" sz="4400" spc="-1" strike="noStrike">
                <a:solidFill>
                  <a:srgbClr val="000000"/>
                </a:solidFill>
                <a:latin typeface="ＭＳ Ｐゴシック"/>
              </a:rPr>
              <a:t>ADC</a:t>
            </a:r>
            <a:r>
              <a:rPr b="1" lang="ja-JP" sz="4400" spc="-1" strike="noStrike">
                <a:solidFill>
                  <a:srgbClr val="000000"/>
                </a:solidFill>
                <a:latin typeface="ＭＳ Ｐゴシック"/>
              </a:rPr>
              <a:t>チップ搭載</a:t>
            </a:r>
            <a:r>
              <a:rPr b="1" lang="ja-JP" sz="4400" spc="-1" strike="noStrike">
                <a:solidFill>
                  <a:srgbClr val="000000"/>
                </a:solidFill>
                <a:latin typeface="ＭＳ Ｐゴシック"/>
              </a:rPr>
              <a:t>72</a:t>
            </a:r>
            <a:r>
              <a:rPr b="1" lang="ja-JP" sz="4400" spc="-1" strike="noStrike">
                <a:solidFill>
                  <a:srgbClr val="000000"/>
                </a:solidFill>
                <a:latin typeface="ＭＳ Ｐゴシック"/>
              </a:rPr>
              <a:t>チャネル</a:t>
            </a:r>
            <a:br>
              <a:rPr sz="4400"/>
            </a:br>
            <a:r>
              <a:rPr b="1" lang="ja-JP" sz="4400" spc="-1" strike="noStrike">
                <a:solidFill>
                  <a:srgbClr val="000000"/>
                </a:solidFill>
                <a:latin typeface="ＭＳ Ｐゴシック"/>
              </a:rPr>
              <a:t>信号読み出し回路の試作と評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280" y="4352400"/>
            <a:ext cx="7759800" cy="11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稲葉基，三明康郎</a:t>
            </a:r>
            <a:r>
              <a:rPr b="1" lang="ja-JP" sz="3200" spc="-1" strike="noStrike" baseline="30000">
                <a:solidFill>
                  <a:srgbClr val="000000"/>
                </a:solidFill>
                <a:latin typeface="ＭＳ Ｐゴシック"/>
              </a:rPr>
              <a:t>†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，江角晋一</a:t>
            </a:r>
            <a:r>
              <a:rPr b="1" lang="ja-JP" sz="3200" spc="-1" strike="noStrike" baseline="30000">
                <a:solidFill>
                  <a:srgbClr val="000000"/>
                </a:solidFill>
                <a:latin typeface="ＭＳ Ｐゴシック"/>
              </a:rPr>
              <a:t>†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，中條達也</a:t>
            </a:r>
            <a:r>
              <a:rPr b="1" lang="ja-JP" sz="3200" spc="-1" strike="noStrike" baseline="30000">
                <a:solidFill>
                  <a:srgbClr val="000000"/>
                </a:solidFill>
                <a:latin typeface="ＭＳ Ｐゴシック"/>
              </a:rPr>
              <a:t>†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加藤純雄</a:t>
            </a:r>
            <a:r>
              <a:rPr b="1" lang="ja-JP" sz="3200" spc="-1" strike="noStrike" baseline="30000">
                <a:solidFill>
                  <a:srgbClr val="000000"/>
                </a:solidFill>
                <a:latin typeface="ＭＳ Ｐゴシック"/>
              </a:rPr>
              <a:t>†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，三木健太朗</a:t>
            </a:r>
            <a:r>
              <a:rPr b="1" lang="ja-JP" sz="3200" spc="-1" strike="noStrike" baseline="30000">
                <a:solidFill>
                  <a:srgbClr val="000000"/>
                </a:solidFill>
                <a:latin typeface="ＭＳ Ｐゴシック"/>
              </a:rPr>
              <a:t>†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，青木孝憲</a:t>
            </a:r>
            <a:r>
              <a:rPr b="1" lang="ja-JP" sz="3200" spc="-1" strike="noStrike" baseline="30000">
                <a:solidFill>
                  <a:srgbClr val="000000"/>
                </a:solidFill>
                <a:latin typeface="ＭＳ Ｐゴシック"/>
              </a:rPr>
              <a:t>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815840" y="6021360"/>
            <a:ext cx="4831920" cy="520560"/>
            <a:chOff x="1815840" y="6021360"/>
            <a:chExt cx="4831920" cy="520560"/>
          </a:xfrm>
        </p:grpSpPr>
        <p:sp>
          <p:nvSpPr>
            <p:cNvPr id="51" name=""/>
            <p:cNvSpPr/>
            <p:nvPr/>
          </p:nvSpPr>
          <p:spPr>
            <a:xfrm>
              <a:off x="2948400" y="6021360"/>
              <a:ext cx="369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Arial"/>
                </a:rPr>
                <a:t>筑波技術大学，　　　筑波大学</a:t>
              </a:r>
              <a:r>
                <a:rPr b="1" lang="ja-JP" sz="2800" spc="-1" strike="noStrike" baseline="30000">
                  <a:solidFill>
                    <a:srgbClr val="000000"/>
                  </a:solidFill>
                  <a:latin typeface="Arial"/>
                </a:rPr>
                <a:t>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15840" y="6062760"/>
              <a:ext cx="546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国立大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法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09680" y="6062760"/>
              <a:ext cx="546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国立大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法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863640" y="4911840"/>
            <a:ext cx="12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716360" y="4724280"/>
            <a:ext cx="417672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9280" y="4724280"/>
            <a:ext cx="4321440" cy="64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6360" y="50400"/>
            <a:ext cx="5399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ハードウェア・コストの比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9280" y="836640"/>
            <a:ext cx="431964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716360" y="836640"/>
            <a:ext cx="4176720" cy="3384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78120" y="8938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試作した信号読み出し回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893880"/>
            <a:ext cx="26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市販品（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CAMAC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55240" y="5516640"/>
            <a:ext cx="5824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ＭＳ Ｐゴシック"/>
              </a:rPr>
              <a:t>１入力チャネルあたりのコストは，およそ</a:t>
            </a:r>
            <a:r>
              <a:rPr b="1" lang="ja-JP" sz="2800" spc="-1" strike="noStrike">
                <a:solidFill>
                  <a:srgbClr val="ff0000"/>
                </a:solidFill>
                <a:latin typeface="ＭＳ Ｐゴシック"/>
              </a:rPr>
              <a:t>15</a:t>
            </a:r>
            <a:r>
              <a:rPr b="1" lang="ja-JP" sz="2800" spc="-1" strike="noStrike">
                <a:solidFill>
                  <a:srgbClr val="ff0000"/>
                </a:solidFill>
                <a:latin typeface="ＭＳ Ｐゴシック"/>
              </a:rPr>
              <a:t>分の</a:t>
            </a:r>
            <a:r>
              <a:rPr b="1" lang="ja-JP" sz="2800" spc="-1" strike="noStrike">
                <a:solidFill>
                  <a:srgbClr val="ff0000"/>
                </a:solidFill>
                <a:latin typeface="ＭＳ Ｐゴシック"/>
              </a:rPr>
              <a:t>1</a:t>
            </a:r>
            <a:r>
              <a:rPr b="1" lang="ja-JP" sz="2800" spc="-1" strike="noStrike">
                <a:solidFill>
                  <a:srgbClr val="ff0000"/>
                </a:solidFill>
                <a:latin typeface="ＭＳ Ｐゴシック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50920" y="3213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・クレート ：　　　　　　　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716360" y="134136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CAMAC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電源クレート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コントローラ一式： 　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80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4292640"/>
            <a:ext cx="432000" cy="358560"/>
          </a:xfrm>
          <a:prstGeom prst="downArrow">
            <a:avLst>
              <a:gd name="adj1" fmla="val 45593"/>
              <a:gd name="adj2" fmla="val 40264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932360" y="4797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72ch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あたり　約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620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万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0920" y="364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・直流電源：　　　　　　　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5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1341360"/>
            <a:ext cx="43196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FEM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万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7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千円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×9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＝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33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(10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ビッ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ADC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千円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個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FPGA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5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千円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その他：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千円弱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基板：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5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千円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枚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61960" y="4797360"/>
            <a:ext cx="37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72ch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あたり　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40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万円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（※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716360" y="2452680"/>
            <a:ext cx="424836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・フラッシュ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ADC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モジュー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(4ch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，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ビット，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100M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　　 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台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×30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万＝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540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050920" y="4292640"/>
            <a:ext cx="432000" cy="358560"/>
          </a:xfrm>
          <a:prstGeom prst="downArrow">
            <a:avLst>
              <a:gd name="adj1" fmla="val 45593"/>
              <a:gd name="adj2" fmla="val 4026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21320" y="6099120"/>
            <a:ext cx="37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※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ただし，プロトタイプ製作費用および諸経費は除く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59280" y="6539040"/>
            <a:ext cx="156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日本物理学会 第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61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回年次大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6539040"/>
            <a:ext cx="13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稲 葉　基（筑波技術大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653904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平成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28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日　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P.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79280" y="765000"/>
            <a:ext cx="8785440" cy="25927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4920" y="50400"/>
            <a:ext cx="172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75564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66"/>
                </a:solidFill>
                <a:latin typeface="ＭＳ Ｐゴシック"/>
              </a:rPr>
              <a:t>高位置分解能飛跡検出器（</a:t>
            </a:r>
            <a:r>
              <a:rPr b="1" lang="ja-JP" sz="2800" spc="-1" strike="noStrike">
                <a:solidFill>
                  <a:srgbClr val="000066"/>
                </a:solidFill>
                <a:latin typeface="ＭＳ Ｐゴシック"/>
              </a:rPr>
              <a:t>Time Projection Chamber</a:t>
            </a:r>
            <a:r>
              <a:rPr b="1" lang="ja-JP" sz="2800" spc="-1" strike="noStrike">
                <a:solidFill>
                  <a:srgbClr val="000066"/>
                </a:solidFill>
                <a:latin typeface="ＭＳ Ｐゴシック"/>
              </a:rPr>
              <a:t>）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66"/>
                </a:solidFill>
                <a:latin typeface="ＭＳ Ｐゴシック"/>
              </a:rPr>
              <a:t>ための信号読み出し回路の試作をおこなった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0920" y="1598760"/>
            <a:ext cx="87138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　・プリアンプ搭載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Charge-sensitive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型，低ノイズ，高スルーレー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　・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ADC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搭載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分解能：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ビット，サンプリング速度：毎秒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100M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　・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FPGA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搭載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リアルタイム・データ処理，内部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RAM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領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　・低コス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チャネルあたり約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5,500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4920" y="357768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今後の予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79280" y="4292640"/>
            <a:ext cx="8785440" cy="19447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396080" y="566100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66"/>
                </a:solidFill>
                <a:latin typeface="ＭＳ Ｐゴシック"/>
              </a:rPr>
              <a:t>・高速データ転送，汎用インターフェイスへの検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298160" y="5141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66"/>
                </a:solidFill>
                <a:latin typeface="ＭＳ Ｐゴシック"/>
              </a:rPr>
              <a:t>・粒子飛跡ベクトルデータのリアルタイム出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53440" y="4278240"/>
            <a:ext cx="5362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66"/>
                </a:solidFill>
                <a:latin typeface="ＭＳ Ｐゴシック"/>
              </a:rPr>
              <a:t>・さらに詳細なデータの収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　　（分解能，安定性，デュアルヒットの場合の検証など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59280" y="6539040"/>
            <a:ext cx="156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日本物理学会 第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61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回年次大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019400" y="6539040"/>
            <a:ext cx="13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稲 葉　基（筑波技術大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316640" y="6539040"/>
            <a:ext cx="183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平成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28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日　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P.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79280" y="765000"/>
            <a:ext cx="8785440" cy="24498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4920" y="50400"/>
            <a:ext cx="388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「質疑応答」のメ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0920" y="75564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66"/>
                </a:solidFill>
                <a:latin typeface="ＭＳ Ｐゴシック"/>
              </a:rPr>
              <a:t>Q</a:t>
            </a:r>
            <a:r>
              <a:rPr b="1" lang="ja-JP" sz="2800" spc="-1" strike="noStrike">
                <a:solidFill>
                  <a:srgbClr val="000066"/>
                </a:solidFill>
                <a:latin typeface="ＭＳ Ｐゴシック"/>
              </a:rPr>
              <a:t>．読み出し回路をＩＲに置いたときの耐久性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3430440"/>
            <a:ext cx="8785440" cy="25196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9280" y="6539040"/>
            <a:ext cx="156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日本物理学会 第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61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回年次大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019400" y="6539040"/>
            <a:ext cx="13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稲 葉　基（筑波技術大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078680" y="653904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平成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28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日　追加ペー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0920" y="134136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Ａ．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FPGA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は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SRAM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プロセスで作られているので，放射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　　耐性は低いと思われる．　今回の試作では，宇宙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　　テストベンチを想定しているので，詳細な調査はし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　　いない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50920" y="350208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66"/>
                </a:solidFill>
                <a:latin typeface="ＭＳ Ｐゴシック"/>
              </a:rPr>
              <a:t>Q</a:t>
            </a:r>
            <a:r>
              <a:rPr b="1" lang="ja-JP" sz="2800" spc="-1" strike="noStrike">
                <a:solidFill>
                  <a:srgbClr val="000066"/>
                </a:solidFill>
                <a:latin typeface="ＭＳ Ｐゴシック"/>
              </a:rPr>
              <a:t>．しきい値の設定方法および変動の吸収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920" y="407844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Ａ．しきい値は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HDL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レベルで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FPGA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内部に書き込むよ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　　になっている．　制御バスを介して外部から最新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　　しきい値を送り続けるプログラムに変更すること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　　容易である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765000"/>
            <a:ext cx="8785440" cy="14036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800" y="50400"/>
            <a:ext cx="287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背景と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9280" y="6539040"/>
            <a:ext cx="156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日本物理学会 第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61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回年次大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19400" y="6539040"/>
            <a:ext cx="13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稲 葉　基（筑波技術大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23480" y="653904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平成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28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日　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P.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58600" y="765000"/>
            <a:ext cx="572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高エネルギー重イオン衝突実験では，検出器に入射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粒子数が多く，検出器も多種多様で，出力信号チャネル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多いため，膨大な量のデータが出力される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81280" y="2205000"/>
            <a:ext cx="65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例） 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RHIC-PHENIX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実験では，毎秒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500M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バイト相当のデータが作られる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220840"/>
            <a:ext cx="358560" cy="344520"/>
          </a:xfrm>
          <a:prstGeom prst="downArrow">
            <a:avLst>
              <a:gd name="adj1" fmla="val 46019"/>
              <a:gd name="adj2" fmla="val 5161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2637000"/>
            <a:ext cx="8785440" cy="971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262728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3300"/>
                </a:solidFill>
                <a:latin typeface="ＭＳ Ｐゴシック"/>
              </a:rPr>
              <a:t>【問題点】 信号の読み出しとデータの処理・転送・保存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3300"/>
                </a:solidFill>
                <a:latin typeface="ＭＳ Ｐゴシック"/>
              </a:rPr>
              <a:t>解析に時間を要する．また，ハードウェアコストも高い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4030560"/>
            <a:ext cx="8785440" cy="14065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8200" y="4024440"/>
            <a:ext cx="572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66"/>
                </a:solidFill>
                <a:latin typeface="ＭＳ Ｐゴシック"/>
              </a:rPr>
              <a:t>【解決法】 効率良く実験データを収集するためには，</a:t>
            </a:r>
            <a:r>
              <a:rPr b="1" lang="ja-JP" sz="2800" spc="-1" strike="noStrike">
                <a:solidFill>
                  <a:srgbClr val="ff0000"/>
                </a:solidFill>
                <a:latin typeface="ＭＳ Ｐゴシック"/>
              </a:rPr>
              <a:t>精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66"/>
                </a:solidFill>
                <a:latin typeface="ＭＳ Ｐゴシック"/>
              </a:rPr>
              <a:t>を損なうことなく，</a:t>
            </a:r>
            <a:r>
              <a:rPr b="1" lang="ja-JP" sz="2800" spc="-1" strike="noStrike">
                <a:solidFill>
                  <a:srgbClr val="ff0000"/>
                </a:solidFill>
                <a:latin typeface="ＭＳ Ｐゴシック"/>
              </a:rPr>
              <a:t>必要な情報</a:t>
            </a:r>
            <a:r>
              <a:rPr b="1" lang="ja-JP" sz="2800" spc="-1" strike="noStrike">
                <a:solidFill>
                  <a:srgbClr val="000066"/>
                </a:solidFill>
                <a:latin typeface="ＭＳ Ｐゴシック"/>
              </a:rPr>
              <a:t>のみ</a:t>
            </a:r>
            <a:r>
              <a:rPr b="1" lang="ja-JP" sz="2800" spc="-1" strike="noStrike">
                <a:solidFill>
                  <a:srgbClr val="ff0000"/>
                </a:solidFill>
                <a:latin typeface="ＭＳ Ｐゴシック"/>
              </a:rPr>
              <a:t>高速</a:t>
            </a:r>
            <a:r>
              <a:rPr b="1" lang="ja-JP" sz="2800" spc="-1" strike="noStrike">
                <a:solidFill>
                  <a:srgbClr val="000066"/>
                </a:solidFill>
                <a:latin typeface="ＭＳ Ｐゴシック"/>
              </a:rPr>
              <a:t>で読み出すこと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66"/>
                </a:solidFill>
                <a:latin typeface="ＭＳ Ｐゴシック"/>
              </a:rPr>
              <a:t>できる</a:t>
            </a:r>
            <a:r>
              <a:rPr b="1" lang="ja-JP" sz="2800" spc="-1" strike="noStrike">
                <a:solidFill>
                  <a:srgbClr val="003300"/>
                </a:solidFill>
                <a:latin typeface="ＭＳ Ｐゴシック"/>
              </a:rPr>
              <a:t>低コスト</a:t>
            </a:r>
            <a:r>
              <a:rPr b="1" lang="ja-JP" sz="2800" spc="-1" strike="noStrike">
                <a:solidFill>
                  <a:srgbClr val="000066"/>
                </a:solidFill>
                <a:latin typeface="ＭＳ Ｐゴシック"/>
              </a:rPr>
              <a:t>な信号読み出し回路の開発が必要不可欠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3645000"/>
            <a:ext cx="358560" cy="344520"/>
          </a:xfrm>
          <a:prstGeom prst="downArrow">
            <a:avLst>
              <a:gd name="adj1" fmla="val 46019"/>
              <a:gd name="adj2" fmla="val 5161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88120" y="5516640"/>
            <a:ext cx="572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目的：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高位置分解能飛跡検出器の信号から瞬時に必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な情報を読み出す回路とその制御プログラムを開発する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6000" y="5553000"/>
            <a:ext cx="8748720" cy="90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765000"/>
            <a:ext cx="8856720" cy="503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560" y="43920"/>
            <a:ext cx="9001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高位置分解能飛跡検出器（</a:t>
            </a:r>
            <a:r>
              <a:rPr b="1" lang="ja-JP" sz="3600" spc="-1" strike="noStrike" u="sng">
                <a:solidFill>
                  <a:srgbClr val="000000"/>
                </a:solidFill>
                <a:uFillTx/>
                <a:latin typeface="Arial Narrow"/>
              </a:rPr>
              <a:t>T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</a:rPr>
              <a:t>ime </a:t>
            </a:r>
            <a:r>
              <a:rPr b="1" lang="ja-JP" sz="3600" spc="-1" strike="noStrike" u="sng">
                <a:solidFill>
                  <a:srgbClr val="000000"/>
                </a:solidFill>
                <a:uFillTx/>
                <a:latin typeface="Arial Narrow"/>
              </a:rPr>
              <a:t>P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</a:rPr>
              <a:t>rojection </a:t>
            </a:r>
            <a:r>
              <a:rPr b="1" lang="ja-JP" sz="3600" spc="-1" strike="noStrike" u="sng">
                <a:solidFill>
                  <a:srgbClr val="000000"/>
                </a:solidFill>
                <a:uFillTx/>
                <a:latin typeface="Arial Narrow"/>
              </a:rPr>
              <a:t>C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</a:rPr>
              <a:t>hamber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508720" y="1484280"/>
            <a:ext cx="3249360" cy="4062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8000" y="730080"/>
            <a:ext cx="90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333399"/>
                </a:solidFill>
                <a:latin typeface="Arial"/>
              </a:rPr>
              <a:t>入射荷電粒子の飛跡を高い位置分解能で特定する検出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65800" y="5472000"/>
            <a:ext cx="193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TPC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の外観（筑波大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4680" y="5950080"/>
            <a:ext cx="8491320" cy="503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19800" y="5954760"/>
            <a:ext cx="583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高精度の飛跡情報（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ベクトルデータ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）をいかに早く得るか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8000" y="6021360"/>
            <a:ext cx="360360" cy="360360"/>
          </a:xfrm>
          <a:prstGeom prst="rightArrow">
            <a:avLst>
              <a:gd name="adj1" fmla="val 50278"/>
              <a:gd name="adj2" fmla="val 53593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41280" y="547200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TPC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の動作原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1484280"/>
            <a:ext cx="4681440" cy="403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9200" y="4803840"/>
            <a:ext cx="17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カソードパ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chevron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形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1640" y="4292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06000" y="1557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98360" y="2565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57560" y="4255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荷電粒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16360" y="1916280"/>
            <a:ext cx="360360" cy="863280"/>
          </a:xfrm>
          <a:prstGeom prst="downArrow">
            <a:avLst>
              <a:gd name="adj1" fmla="val 50000"/>
              <a:gd name="adj2" fmla="val 5989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3286080"/>
            <a:ext cx="360360" cy="863640"/>
          </a:xfrm>
          <a:prstGeom prst="downArrow">
            <a:avLst>
              <a:gd name="adj1" fmla="val 50000"/>
              <a:gd name="adj2" fmla="val 59915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60360" y="2708280"/>
            <a:ext cx="360360" cy="863640"/>
          </a:xfrm>
          <a:prstGeom prst="downArrow">
            <a:avLst>
              <a:gd name="adj1" fmla="val 50000"/>
              <a:gd name="adj2" fmla="val 59915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6720" y="2205000"/>
            <a:ext cx="360360" cy="863640"/>
          </a:xfrm>
          <a:prstGeom prst="downArrow">
            <a:avLst>
              <a:gd name="adj1" fmla="val 50000"/>
              <a:gd name="adj2" fmla="val 59915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1916280"/>
            <a:ext cx="360360" cy="863280"/>
          </a:xfrm>
          <a:prstGeom prst="downArrow">
            <a:avLst>
              <a:gd name="adj1" fmla="val 50000"/>
              <a:gd name="adj2" fmla="val 5989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68720" y="1916280"/>
            <a:ext cx="360360" cy="863280"/>
          </a:xfrm>
          <a:prstGeom prst="downArrow">
            <a:avLst>
              <a:gd name="adj1" fmla="val 50000"/>
              <a:gd name="adj2" fmla="val 5989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06680" y="1519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660066"/>
                </a:solidFill>
                <a:latin typeface="Arial"/>
              </a:rPr>
              <a:t>電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74680" y="2311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660066"/>
                </a:solidFill>
                <a:latin typeface="Arial"/>
              </a:rPr>
              <a:t>電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66960" y="50594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cc"/>
                </a:solidFill>
                <a:latin typeface="Arial"/>
              </a:rPr>
              <a:t>アノードワイヤ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3060720" y="4724280"/>
            <a:ext cx="216000" cy="14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0160" y="155736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充填ガ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（Ｐ１０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9280" y="6539040"/>
            <a:ext cx="156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日本物理学会 第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61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回年次大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19400" y="6539040"/>
            <a:ext cx="13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稲 葉　基（筑波技術大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21680" y="653904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平成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28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日　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P.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63400" y="1576440"/>
          <a:ext cx="4513320" cy="343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400" y="1576440"/>
                    <a:ext cx="4513320" cy="34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979640" y="3357720"/>
            <a:ext cx="1944720" cy="1079280"/>
          </a:xfrm>
          <a:prstGeom prst="line">
            <a:avLst/>
          </a:prstGeom>
          <a:ln w="698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9280" y="763560"/>
            <a:ext cx="4824360" cy="4334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5373720"/>
            <a:ext cx="8785440" cy="1079640"/>
          </a:xfrm>
          <a:prstGeom prst="rect">
            <a:avLst/>
          </a:prstGeom>
          <a:solidFill>
            <a:srgbClr val="ffffff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データ処理系統の検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513400" y="476280"/>
          <a:ext cx="3451320" cy="20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13400" y="476280"/>
                    <a:ext cx="3451320" cy="20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08000" y="1239840"/>
            <a:ext cx="48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66"/>
                </a:solidFill>
                <a:latin typeface="ＭＳ Ｐゴシック"/>
              </a:rPr>
              <a:t>データ量： </a:t>
            </a:r>
            <a:r>
              <a:rPr b="1" lang="ja-JP" sz="2400" spc="-1" strike="noStrike">
                <a:solidFill>
                  <a:srgbClr val="000066"/>
                </a:solidFill>
                <a:latin typeface="ＭＳ Ｐゴシック"/>
              </a:rPr>
              <a:t>92</a:t>
            </a:r>
            <a:r>
              <a:rPr b="1" lang="ja-JP" sz="2400" spc="-1" strike="noStrike">
                <a:solidFill>
                  <a:srgbClr val="000066"/>
                </a:solidFill>
                <a:latin typeface="ＭＳ Ｐゴシック"/>
              </a:rPr>
              <a:t>ｋバイト</a:t>
            </a:r>
            <a:r>
              <a:rPr b="1" lang="ja-JP" sz="2400" spc="-1" strike="noStrike">
                <a:solidFill>
                  <a:srgbClr val="006600"/>
                </a:solidFill>
                <a:latin typeface="ＭＳ Ｐゴシック"/>
              </a:rPr>
              <a:t>（</a:t>
            </a:r>
            <a:r>
              <a:rPr b="1" lang="ja-JP" sz="2400" spc="-1" strike="noStrike">
                <a:solidFill>
                  <a:srgbClr val="006600"/>
                </a:solidFill>
                <a:latin typeface="ＭＳ Ｐゴシック"/>
              </a:rPr>
              <a:t>258</a:t>
            </a:r>
            <a:r>
              <a:rPr b="1" lang="ja-JP" sz="2400" spc="-1" strike="noStrike">
                <a:solidFill>
                  <a:srgbClr val="006600"/>
                </a:solidFill>
                <a:latin typeface="ＭＳ Ｐゴシック"/>
              </a:rPr>
              <a:t>ｋバイ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66"/>
                </a:solidFill>
                <a:latin typeface="ＭＳ Ｐゴシック"/>
              </a:rPr>
              <a:t>　　　　　 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ADC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データのみ（すべてのデータ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63280" y="692280"/>
            <a:ext cx="34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① 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全データ転送（従来の方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153080" y="5769360"/>
            <a:ext cx="358920" cy="287280"/>
          </a:xfrm>
          <a:prstGeom prst="downArrow">
            <a:avLst>
              <a:gd name="adj1" fmla="val 50444"/>
              <a:gd name="adj2" fmla="val 5407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5516640"/>
            <a:ext cx="792000" cy="79056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検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12000" y="5516640"/>
            <a:ext cx="1008000" cy="79200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コン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ュ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57880" y="115920"/>
            <a:ext cx="13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一般的な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TPC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の波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790560"/>
            <a:ext cx="358920" cy="360360"/>
          </a:xfrm>
          <a:prstGeom prst="rightArrow">
            <a:avLst>
              <a:gd name="adj1" fmla="val 44491"/>
              <a:gd name="adj2" fmla="val 4425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7415640" y="5769360"/>
            <a:ext cx="358920" cy="287280"/>
          </a:xfrm>
          <a:prstGeom prst="downArrow">
            <a:avLst>
              <a:gd name="adj1" fmla="val 50444"/>
              <a:gd name="adj2" fmla="val 5407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8000" y="3835440"/>
            <a:ext cx="4895640" cy="964440"/>
            <a:chOff x="108000" y="3835440"/>
            <a:chExt cx="4895640" cy="964440"/>
          </a:xfrm>
        </p:grpSpPr>
        <p:sp>
          <p:nvSpPr>
            <p:cNvPr id="116" name=""/>
            <p:cNvSpPr/>
            <p:nvPr/>
          </p:nvSpPr>
          <p:spPr>
            <a:xfrm>
              <a:off x="179280" y="3906720"/>
              <a:ext cx="4824360" cy="43344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7840" y="3835440"/>
              <a:ext cx="46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cc"/>
                  </a:solidFill>
                  <a:latin typeface="ＭＳ Ｐゴシック"/>
                </a:rPr>
                <a:t>④ </a:t>
              </a:r>
              <a:r>
                <a:rPr b="1" lang="ja-JP" sz="2800" spc="-1" strike="noStrike">
                  <a:solidFill>
                    <a:srgbClr val="0000cc"/>
                  </a:solidFill>
                  <a:latin typeface="ＭＳ Ｐゴシック"/>
                </a:rPr>
                <a:t>粒子飛跡のベクトルデー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8000" y="4340160"/>
              <a:ext cx="46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66"/>
                  </a:solidFill>
                  <a:latin typeface="ＭＳ Ｐゴシック"/>
                </a:rPr>
                <a:t>データ量： 約</a:t>
              </a:r>
              <a:r>
                <a:rPr b="1" lang="ja-JP" sz="2400" spc="-1" strike="noStrike">
                  <a:solidFill>
                    <a:srgbClr val="000066"/>
                  </a:solidFill>
                  <a:latin typeface="ＭＳ Ｐゴシック"/>
                </a:rPr>
                <a:t>8</a:t>
              </a:r>
              <a:r>
                <a:rPr b="1" lang="ja-JP" sz="2400" spc="-1" strike="noStrike">
                  <a:solidFill>
                    <a:srgbClr val="000066"/>
                  </a:solidFill>
                  <a:latin typeface="ＭＳ Ｐゴシック"/>
                </a:rPr>
                <a:t>バイト（最終目標！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08000" y="2008080"/>
            <a:ext cx="5040360" cy="178128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08000" y="1996920"/>
            <a:ext cx="8856720" cy="2800440"/>
            <a:chOff x="108000" y="1996920"/>
            <a:chExt cx="8856720" cy="2800440"/>
          </a:xfrm>
        </p:grpSpPr>
        <p:graphicFrame>
          <p:nvGraphicFramePr>
            <p:cNvPr id="121" name=""/>
            <p:cNvGraphicFramePr/>
            <p:nvPr/>
          </p:nvGraphicFramePr>
          <p:xfrm>
            <a:off x="5508720" y="2717640"/>
            <a:ext cx="3456000" cy="207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08720" y="2717640"/>
                      <a:ext cx="3456000" cy="207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" name=""/>
            <p:cNvSpPr/>
            <p:nvPr/>
          </p:nvSpPr>
          <p:spPr>
            <a:xfrm>
              <a:off x="179280" y="2070000"/>
              <a:ext cx="4824360" cy="4320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15480" y="1996920"/>
              <a:ext cx="343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0000"/>
                  </a:solidFill>
                  <a:latin typeface="ＭＳ Ｐゴシック"/>
                </a:rPr>
                <a:t>② </a:t>
              </a:r>
              <a:r>
                <a:rPr b="1" lang="ja-JP" sz="2800" spc="-1" strike="noStrike">
                  <a:solidFill>
                    <a:srgbClr val="ff0000"/>
                  </a:solidFill>
                  <a:latin typeface="ＭＳ Ｐゴシック"/>
                </a:rPr>
                <a:t>しきい値を超えたデータの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8000" y="2476440"/>
              <a:ext cx="52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66"/>
                  </a:solidFill>
                  <a:latin typeface="ＭＳ Ｐゴシック"/>
                </a:rPr>
                <a:t>データ量： 約</a:t>
              </a:r>
              <a:r>
                <a:rPr b="1" lang="ja-JP" sz="2400" spc="-1" strike="noStrike">
                  <a:solidFill>
                    <a:srgbClr val="000066"/>
                  </a:solidFill>
                  <a:latin typeface="ＭＳ Ｐゴシック"/>
                </a:rPr>
                <a:t>10</a:t>
              </a:r>
              <a:r>
                <a:rPr b="1" lang="ja-JP" sz="2400" spc="-1" strike="noStrike">
                  <a:solidFill>
                    <a:srgbClr val="000066"/>
                  </a:solidFill>
                  <a:latin typeface="ＭＳ Ｐゴシック"/>
                </a:rPr>
                <a:t>ｋバイト（約</a:t>
              </a:r>
              <a:r>
                <a:rPr b="1" lang="ja-JP" sz="2400" spc="-1" strike="noStrike">
                  <a:solidFill>
                    <a:srgbClr val="000066"/>
                  </a:solidFill>
                  <a:latin typeface="ＭＳ Ｐゴシック"/>
                </a:rPr>
                <a:t>28</a:t>
              </a:r>
              <a:r>
                <a:rPr b="1" lang="ja-JP" sz="2400" spc="-1" strike="noStrike">
                  <a:solidFill>
                    <a:srgbClr val="000066"/>
                  </a:solidFill>
                  <a:latin typeface="ＭＳ Ｐゴシック"/>
                </a:rPr>
                <a:t>ｋバイト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800000">
              <a:off x="5076360" y="2421000"/>
              <a:ext cx="358920" cy="360360"/>
            </a:xfrm>
            <a:prstGeom prst="rightArrow">
              <a:avLst>
                <a:gd name="adj1" fmla="val 44491"/>
                <a:gd name="adj2" fmla="val 4425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08000" y="2657520"/>
            <a:ext cx="8259120" cy="1134360"/>
            <a:chOff x="108000" y="2657520"/>
            <a:chExt cx="8259120" cy="1134360"/>
          </a:xfrm>
        </p:grpSpPr>
        <p:sp>
          <p:nvSpPr>
            <p:cNvPr id="128" name=""/>
            <p:cNvSpPr/>
            <p:nvPr/>
          </p:nvSpPr>
          <p:spPr>
            <a:xfrm>
              <a:off x="6300720" y="2997360"/>
              <a:ext cx="360360" cy="360360"/>
            </a:xfrm>
            <a:prstGeom prst="ellipse">
              <a:avLst/>
            </a:prstGeom>
            <a:noFill/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40720" y="2997360"/>
              <a:ext cx="360360" cy="360360"/>
            </a:xfrm>
            <a:prstGeom prst="ellipse">
              <a:avLst/>
            </a:prstGeom>
            <a:noFill/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86520" y="265752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333399"/>
                  </a:solidFill>
                  <a:latin typeface="Arial"/>
                </a:rPr>
                <a:t>Time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26520" y="265752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333399"/>
                  </a:solidFill>
                  <a:latin typeface="Arial"/>
                </a:rPr>
                <a:t>Tim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9280" y="2925720"/>
              <a:ext cx="4824360" cy="43344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94320" y="2854440"/>
              <a:ext cx="321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0000"/>
                  </a:solidFill>
                  <a:latin typeface="ＭＳ Ｐゴシック"/>
                </a:rPr>
                <a:t>③ </a:t>
              </a:r>
              <a:r>
                <a:rPr b="1" lang="ja-JP" sz="2800" spc="-1" strike="noStrike">
                  <a:solidFill>
                    <a:srgbClr val="ff0000"/>
                  </a:solidFill>
                  <a:latin typeface="ＭＳ Ｐゴシック"/>
                </a:rPr>
                <a:t>波形の時間情報と電荷情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8000" y="3332160"/>
              <a:ext cx="30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66"/>
                  </a:solidFill>
                  <a:latin typeface="ＭＳ Ｐゴシック"/>
                </a:rPr>
                <a:t>データ量： 約</a:t>
              </a:r>
              <a:r>
                <a:rPr b="1" lang="ja-JP" sz="2400" spc="-1" strike="noStrike">
                  <a:solidFill>
                    <a:srgbClr val="000066"/>
                  </a:solidFill>
                  <a:latin typeface="ＭＳ Ｐゴシック"/>
                </a:rPr>
                <a:t>90</a:t>
              </a:r>
              <a:r>
                <a:rPr b="1" lang="ja-JP" sz="2400" spc="-1" strike="noStrike">
                  <a:solidFill>
                    <a:srgbClr val="000066"/>
                  </a:solidFill>
                  <a:latin typeface="ＭＳ Ｐゴシック"/>
                </a:rPr>
                <a:t>バイ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76720" y="2968560"/>
              <a:ext cx="358920" cy="360360"/>
            </a:xfrm>
            <a:prstGeom prst="rightArrow">
              <a:avLst>
                <a:gd name="adj1" fmla="val 44491"/>
                <a:gd name="adj2" fmla="val 4425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59280" y="6539040"/>
            <a:ext cx="156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日本物理学会 第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61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回年次大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19400" y="6539040"/>
            <a:ext cx="13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稲 葉　基（筑波技術大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21680" y="653904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平成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28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日　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P.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68360" y="4941720"/>
            <a:ext cx="8280360" cy="1366920"/>
            <a:chOff x="468360" y="4941720"/>
            <a:chExt cx="8280360" cy="1366920"/>
          </a:xfrm>
        </p:grpSpPr>
        <p:sp>
          <p:nvSpPr>
            <p:cNvPr id="140" name=""/>
            <p:cNvSpPr/>
            <p:nvPr/>
          </p:nvSpPr>
          <p:spPr>
            <a:xfrm>
              <a:off x="468360" y="4941720"/>
              <a:ext cx="1224000" cy="503280"/>
            </a:xfrm>
            <a:prstGeom prst="wedgeEllipseCallout">
              <a:avLst>
                <a:gd name="adj1" fmla="val 23800"/>
                <a:gd name="adj2" fmla="val 84699"/>
              </a:avLst>
            </a:prstGeom>
            <a:solidFill>
              <a:srgbClr val="ffc87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43640" y="5516640"/>
              <a:ext cx="936720" cy="7920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コン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ロー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84360" y="5516640"/>
              <a:ext cx="1513080" cy="7920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Flash AD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モジュー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27640" y="5516640"/>
              <a:ext cx="1584360" cy="79200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インタラプ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レジス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4031280" y="5769360"/>
              <a:ext cx="358920" cy="287280"/>
            </a:xfrm>
            <a:prstGeom prst="downArrow">
              <a:avLst>
                <a:gd name="adj1" fmla="val 50444"/>
                <a:gd name="adj2" fmla="val 5407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6049080" y="5769360"/>
              <a:ext cx="358920" cy="287640"/>
            </a:xfrm>
            <a:prstGeom prst="downArrow">
              <a:avLst>
                <a:gd name="adj1" fmla="val 50444"/>
                <a:gd name="adj2" fmla="val 5407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03640" y="4941720"/>
              <a:ext cx="1800000" cy="503280"/>
            </a:xfrm>
            <a:prstGeom prst="wedgeEllipseCallout">
              <a:avLst>
                <a:gd name="adj1" fmla="val 6527"/>
                <a:gd name="adj2" fmla="val 91638"/>
              </a:avLst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41680" y="497664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全データ転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76720" y="4941720"/>
              <a:ext cx="1800360" cy="503280"/>
            </a:xfrm>
            <a:prstGeom prst="wedgeEllipseCallout">
              <a:avLst>
                <a:gd name="adj1" fmla="val 14199"/>
                <a:gd name="adj2" fmla="val 90064"/>
              </a:avLst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15120" y="497664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全データ転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48360" y="4941720"/>
              <a:ext cx="1800360" cy="503280"/>
            </a:xfrm>
            <a:prstGeom prst="wedgeEllipseCallout">
              <a:avLst>
                <a:gd name="adj1" fmla="val -18166"/>
                <a:gd name="adj2" fmla="val 88171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86760" y="497664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全データ転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6200000">
              <a:off x="2088000" y="5769360"/>
              <a:ext cx="358920" cy="287280"/>
            </a:xfrm>
            <a:prstGeom prst="downArrow">
              <a:avLst>
                <a:gd name="adj1" fmla="val 50444"/>
                <a:gd name="adj2" fmla="val 54074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47640" y="5516640"/>
              <a:ext cx="503280" cy="790560"/>
            </a:xfrm>
            <a:prstGeom prst="rect">
              <a:avLst/>
            </a:prstGeom>
            <a:solidFill>
              <a:srgbClr val="ff737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240" y="49766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アナロ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35280" y="4941720"/>
              <a:ext cx="1296720" cy="503280"/>
            </a:xfrm>
            <a:prstGeom prst="wedgeEllipseCallout">
              <a:avLst>
                <a:gd name="adj1" fmla="val -21115"/>
                <a:gd name="adj2" fmla="val 90064"/>
              </a:avLst>
            </a:prstGeom>
            <a:solidFill>
              <a:srgbClr val="ffc87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07440" y="49766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アナロ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79280" y="4941720"/>
            <a:ext cx="7201080" cy="1366920"/>
            <a:chOff x="179280" y="4941720"/>
            <a:chExt cx="7201080" cy="1366920"/>
          </a:xfrm>
        </p:grpSpPr>
        <p:sp>
          <p:nvSpPr>
            <p:cNvPr id="158" name=""/>
            <p:cNvSpPr/>
            <p:nvPr/>
          </p:nvSpPr>
          <p:spPr>
            <a:xfrm>
              <a:off x="179280" y="4941720"/>
              <a:ext cx="1800360" cy="503280"/>
            </a:xfrm>
            <a:prstGeom prst="wedgeEllipseCallout">
              <a:avLst>
                <a:gd name="adj1" fmla="val 16226"/>
                <a:gd name="adj2" fmla="val 84699"/>
              </a:avLst>
            </a:prstGeom>
            <a:solidFill>
              <a:srgbClr val="ffc87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8400" y="497664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アナログ信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47640" y="5516640"/>
              <a:ext cx="5832720" cy="7920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3300"/>
                  </a:solidFill>
                  <a:latin typeface="ＭＳ Ｐゴシック"/>
                </a:rPr>
                <a:t>読み出し回路（</a:t>
              </a:r>
              <a:r>
                <a:rPr b="1" lang="ja-JP" sz="2400" spc="-1" strike="noStrike">
                  <a:solidFill>
                    <a:srgbClr val="ff3300"/>
                  </a:solidFill>
                  <a:latin typeface="ＭＳ Ｐゴシック"/>
                </a:rPr>
                <a:t>FEM</a:t>
              </a:r>
              <a:r>
                <a:rPr b="1" lang="ja-JP" sz="2400" spc="-1" strike="noStrike">
                  <a:solidFill>
                    <a:srgbClr val="ff3300"/>
                  </a:solidFill>
                  <a:latin typeface="ＭＳ Ｐゴシック"/>
                </a:rPr>
                <a:t>：</a:t>
              </a:r>
              <a:r>
                <a:rPr b="1" lang="ja-JP" sz="2400" spc="-1" strike="noStrike">
                  <a:solidFill>
                    <a:srgbClr val="ff3300"/>
                  </a:solidFill>
                  <a:latin typeface="ＭＳ Ｐゴシック"/>
                </a:rPr>
                <a:t>Front-End Modul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987640" y="4941720"/>
            <a:ext cx="5905440" cy="503280"/>
            <a:chOff x="2987640" y="4941720"/>
            <a:chExt cx="5905440" cy="503280"/>
          </a:xfrm>
        </p:grpSpPr>
        <p:sp>
          <p:nvSpPr>
            <p:cNvPr id="162" name=""/>
            <p:cNvSpPr/>
            <p:nvPr/>
          </p:nvSpPr>
          <p:spPr>
            <a:xfrm>
              <a:off x="6012000" y="4941720"/>
              <a:ext cx="2881080" cy="503280"/>
            </a:xfrm>
            <a:prstGeom prst="wedgeEllipseCallout">
              <a:avLst>
                <a:gd name="adj1" fmla="val 7907"/>
                <a:gd name="adj2" fmla="val 91638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74760" y="497664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必要な情報のみ転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87640" y="4941720"/>
              <a:ext cx="2448000" cy="503280"/>
            </a:xfrm>
            <a:prstGeom prst="wedgeEllipseCallout">
              <a:avLst>
                <a:gd name="adj1" fmla="val 8430"/>
                <a:gd name="adj2" fmla="val 97004"/>
              </a:avLst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99560" y="497664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必要な情報を抽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920" y="50400"/>
            <a:ext cx="8640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TPC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用信号読み出し回路（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FEM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）の仕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765000"/>
            <a:ext cx="8785440" cy="4319640"/>
          </a:xfrm>
          <a:prstGeom prst="rect">
            <a:avLst/>
          </a:prstGeom>
          <a:solidFill>
            <a:srgbClr val="ffffcc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9240" y="11714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微小電流出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45600" y="1312920"/>
            <a:ext cx="3708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ＭＳ Ｐゴシック"/>
              </a:rPr>
              <a:t>NE5532D</a:t>
            </a:r>
            <a:r>
              <a:rPr b="1" lang="ja-JP" sz="2400" spc="-1" strike="noStrike">
                <a:solidFill>
                  <a:srgbClr val="ff0000"/>
                </a:solidFill>
                <a:latin typeface="ＭＳ Ｐゴシック"/>
              </a:rPr>
              <a:t>をベースにし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ＭＳ Ｐゴシック"/>
              </a:rPr>
              <a:t>Charge-sensitive</a:t>
            </a:r>
            <a:r>
              <a:rPr b="1" lang="ja-JP" sz="2400" spc="-1" strike="noStrike">
                <a:solidFill>
                  <a:srgbClr val="ff0000"/>
                </a:solidFill>
                <a:latin typeface="ＭＳ Ｐゴシック"/>
              </a:rPr>
              <a:t>プリアン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64960" y="2276640"/>
            <a:ext cx="35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ＭＳ Ｐゴシック"/>
              </a:rPr>
              <a:t>10</a:t>
            </a:r>
            <a:r>
              <a:rPr b="1" lang="ja-JP" sz="2400" spc="-1" strike="noStrike">
                <a:solidFill>
                  <a:srgbClr val="ff0000"/>
                </a:solidFill>
                <a:latin typeface="ＭＳ Ｐゴシック"/>
              </a:rPr>
              <a:t>ビット</a:t>
            </a:r>
            <a:r>
              <a:rPr b="1" lang="ja-JP" sz="2400" spc="-1" strike="noStrike">
                <a:solidFill>
                  <a:srgbClr val="ff0000"/>
                </a:solidFill>
                <a:latin typeface="ＭＳ Ｐゴシック"/>
              </a:rPr>
              <a:t>105MSPS</a:t>
            </a:r>
            <a:r>
              <a:rPr b="1" lang="ja-JP" sz="2400" spc="-1" strike="noStrike">
                <a:solidFill>
                  <a:srgbClr val="ff0000"/>
                </a:solidFill>
                <a:latin typeface="ＭＳ Ｐゴシック"/>
              </a:rPr>
              <a:t>の</a:t>
            </a:r>
            <a:r>
              <a:rPr b="1" lang="ja-JP" sz="2400" spc="-1" strike="noStrike">
                <a:solidFill>
                  <a:srgbClr val="ff0000"/>
                </a:solidFill>
                <a:latin typeface="ＭＳ Ｐゴシック"/>
              </a:rPr>
              <a:t>A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ＭＳ Ｐゴシック"/>
              </a:rPr>
              <a:t>「</a:t>
            </a:r>
            <a:r>
              <a:rPr b="1" lang="ja-JP" sz="2400" spc="-1" strike="noStrike">
                <a:solidFill>
                  <a:srgbClr val="ff0000"/>
                </a:solidFill>
                <a:latin typeface="ＭＳ Ｐゴシック"/>
              </a:rPr>
              <a:t>AD9215BRU-105</a:t>
            </a:r>
            <a:r>
              <a:rPr b="1" lang="ja-JP" sz="2400" spc="-1" strike="noStrike">
                <a:solidFill>
                  <a:srgbClr val="ff0000"/>
                </a:solidFill>
                <a:latin typeface="ＭＳ Ｐゴシック"/>
              </a:rPr>
              <a:t>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1197000"/>
            <a:ext cx="8785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1628640"/>
            <a:ext cx="41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2924280"/>
            <a:ext cx="41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8920" y="4195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低コスト・低消費電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3640" y="4627440"/>
            <a:ext cx="30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信号チャネル数（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72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チャネル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5229360"/>
            <a:ext cx="8642160" cy="1295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9040" y="5214960"/>
            <a:ext cx="37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※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FPGA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を使用するメリッ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7040" y="5664240"/>
            <a:ext cx="6107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66"/>
                </a:solidFill>
                <a:latin typeface="Arial"/>
              </a:rPr>
              <a:t>・機能をプログラマブルに設定・変更可能，高速応答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66"/>
                </a:solidFill>
                <a:latin typeface="Arial"/>
              </a:rPr>
              <a:t>　</a:t>
            </a:r>
            <a:r>
              <a:rPr b="1" lang="ja-JP" sz="2800" spc="-1" strike="noStrike">
                <a:solidFill>
                  <a:srgbClr val="000066"/>
                </a:solidFill>
                <a:latin typeface="Arial"/>
              </a:rPr>
              <a:t>暴走しにくい，内部</a:t>
            </a:r>
            <a:r>
              <a:rPr b="1" lang="ja-JP" sz="2800" spc="-1" strike="noStrike">
                <a:solidFill>
                  <a:srgbClr val="000066"/>
                </a:solidFill>
                <a:latin typeface="Arial"/>
              </a:rPr>
              <a:t>RAM</a:t>
            </a:r>
            <a:r>
              <a:rPr b="1" lang="ja-JP" sz="2800" spc="-1" strike="noStrike">
                <a:solidFill>
                  <a:srgbClr val="000066"/>
                </a:solidFill>
                <a:latin typeface="Arial"/>
              </a:rPr>
              <a:t>領域，低消費電力，低価格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765000"/>
            <a:ext cx="0" cy="431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87120" y="739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70200" y="7398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実現方法ならびに設計仕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5880" y="2467080"/>
            <a:ext cx="30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高速サンプリング（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10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ナノ秒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2060640"/>
            <a:ext cx="8785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3200" y="3763800"/>
            <a:ext cx="30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波形取込時間（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10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マイクロ秒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3357720"/>
            <a:ext cx="8785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4653000"/>
            <a:ext cx="8785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4680" y="3500280"/>
            <a:ext cx="30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ＭＳ Ｐゴシック"/>
              </a:rPr>
              <a:t>FPGA Cyclone</a:t>
            </a:r>
            <a:r>
              <a:rPr b="1" lang="ja-JP" sz="2400" spc="-1" strike="noStrike">
                <a:solidFill>
                  <a:srgbClr val="ff0000"/>
                </a:solidFill>
                <a:latin typeface="ＭＳ Ｐゴシック"/>
              </a:rPr>
              <a:t>シリー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ＭＳ Ｐゴシック"/>
              </a:rPr>
              <a:t>「</a:t>
            </a:r>
            <a:r>
              <a:rPr b="1" lang="ja-JP" sz="2400" spc="-1" strike="noStrike">
                <a:solidFill>
                  <a:srgbClr val="ff0000"/>
                </a:solidFill>
                <a:latin typeface="ＭＳ Ｐゴシック"/>
              </a:rPr>
              <a:t>EP1C12Q240C8</a:t>
            </a:r>
            <a:r>
              <a:rPr b="1" lang="ja-JP" sz="2400" spc="-1" strike="noStrike">
                <a:solidFill>
                  <a:srgbClr val="ff0000"/>
                </a:solidFill>
                <a:latin typeface="ＭＳ Ｐゴシック"/>
              </a:rPr>
              <a:t>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95760" y="46274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９個の読み出し回路を用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14320" y="33321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66"/>
                </a:solidFill>
                <a:latin typeface="Arial"/>
              </a:rPr>
              <a:t>リアルタイム・データ識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9280" y="6539040"/>
            <a:ext cx="156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日本物理学会 第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61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回年次大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19400" y="6539040"/>
            <a:ext cx="13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稲 葉　基（筑波技術大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21680" y="653904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平成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28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日　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P.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5680" y="1603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高速パルス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2492280"/>
            <a:ext cx="41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79040" y="29005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シンプルな周辺回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3789360"/>
            <a:ext cx="41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7200" y="2035080"/>
            <a:ext cx="25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高い分解能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10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ビッ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4221000"/>
            <a:ext cx="41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43200" y="4206960"/>
            <a:ext cx="38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LE: 12k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，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I/O speed: 640Mbps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81080" y="692280"/>
            <a:ext cx="8783640" cy="576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360" y="50400"/>
            <a:ext cx="806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TPC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用信号読み出し回路（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FEM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）の構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82840" y="704880"/>
            <a:ext cx="61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８チャネル入力の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FEM</a:t>
            </a:r>
            <a:r>
              <a:rPr b="1" lang="ja-JP" sz="8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９台で信号読み出しシステムを構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03280" y="2278080"/>
            <a:ext cx="6697800" cy="2592360"/>
          </a:xfrm>
          <a:prstGeom prst="rect">
            <a:avLst/>
          </a:prstGeom>
          <a:solidFill>
            <a:srgbClr val="ffffff">
              <a:alpha val="70000"/>
            </a:srgbClr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2278080"/>
            <a:ext cx="649080" cy="4032360"/>
          </a:xfrm>
          <a:prstGeom prst="rect">
            <a:avLst/>
          </a:prstGeom>
          <a:solidFill>
            <a:srgbClr val="ff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03280" y="5878440"/>
            <a:ext cx="6697800" cy="432000"/>
          </a:xfrm>
          <a:prstGeom prst="rect">
            <a:avLst/>
          </a:prstGeom>
          <a:solidFill>
            <a:srgbClr val="ffffff">
              <a:alpha val="70000"/>
            </a:srgbClr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92360" y="2854440"/>
            <a:ext cx="1295280" cy="431640"/>
          </a:xfrm>
          <a:prstGeom prst="rect">
            <a:avLst/>
          </a:prstGeom>
          <a:solidFill>
            <a:srgbClr val="ffcc99"/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プリアン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74920" y="2852640"/>
            <a:ext cx="1081080" cy="433440"/>
          </a:xfrm>
          <a:prstGeom prst="rect">
            <a:avLst/>
          </a:prstGeom>
          <a:solidFill>
            <a:srgbClr val="ffff99"/>
          </a:soli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ADC #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72360" y="2279520"/>
            <a:ext cx="1725480" cy="430200"/>
          </a:xfrm>
          <a:prstGeom prst="rect">
            <a:avLst/>
          </a:prstGeom>
          <a:solidFill>
            <a:srgbClr val="99ff66"/>
          </a:solidFill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電源回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72360" y="3430440"/>
            <a:ext cx="1728720" cy="432000"/>
          </a:xfrm>
          <a:prstGeom prst="rect">
            <a:avLst/>
          </a:prstGeom>
          <a:solidFill>
            <a:srgbClr val="ffffff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入力ポー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72360" y="3862440"/>
            <a:ext cx="1728720" cy="431640"/>
          </a:xfrm>
          <a:prstGeom prst="rect">
            <a:avLst/>
          </a:prstGeom>
          <a:solidFill>
            <a:srgbClr val="ffffff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出力ポー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72360" y="4295880"/>
            <a:ext cx="1728720" cy="430200"/>
          </a:xfrm>
          <a:prstGeom prst="rect">
            <a:avLst/>
          </a:prstGeom>
          <a:solidFill>
            <a:srgbClr val="ffffff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入出力ポー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10120" y="585324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FEM #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5013360"/>
            <a:ext cx="6697800" cy="431640"/>
          </a:xfrm>
          <a:prstGeom prst="rect">
            <a:avLst/>
          </a:prstGeom>
          <a:solidFill>
            <a:srgbClr val="ffffff">
              <a:alpha val="70000"/>
            </a:srgbClr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10120" y="498780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FEM #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39240" y="50450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0360" y="4078440"/>
            <a:ext cx="432000" cy="0"/>
          </a:xfrm>
          <a:prstGeom prst="line">
            <a:avLst/>
          </a:prstGeom>
          <a:ln w="31680">
            <a:solidFill>
              <a:srgbClr val="66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675640" y="1270080"/>
            <a:ext cx="0" cy="518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39600" y="35654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6000" y="1773360"/>
            <a:ext cx="360360" cy="0"/>
          </a:xfrm>
          <a:prstGeom prst="line">
            <a:avLst/>
          </a:prstGeom>
          <a:ln w="3168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84720" y="1486080"/>
            <a:ext cx="2013120" cy="576000"/>
          </a:xfrm>
          <a:prstGeom prst="rect">
            <a:avLst/>
          </a:prstGeom>
          <a:solidFill>
            <a:srgbClr val="ffff99">
              <a:alpha val="70000"/>
            </a:srgbClr>
          </a:solidFill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コンピュ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101080" y="4078440"/>
            <a:ext cx="5763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88360" y="1917720"/>
            <a:ext cx="0" cy="1152360"/>
          </a:xfrm>
          <a:prstGeom prst="line">
            <a:avLst/>
          </a:prstGeom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101080" y="3645000"/>
            <a:ext cx="57636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101080" y="4510080"/>
            <a:ext cx="57636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101080" y="1628640"/>
            <a:ext cx="57636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72360" y="2855880"/>
            <a:ext cx="1728720" cy="430200"/>
          </a:xfrm>
          <a:prstGeom prst="rect">
            <a:avLst/>
          </a:prstGeom>
          <a:solidFill>
            <a:srgbClr val="ccffff"/>
          </a:solidFill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ＪＴＡＧポー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0360" y="4510080"/>
            <a:ext cx="4320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940360" y="3645000"/>
            <a:ext cx="4320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40360" y="3070080"/>
            <a:ext cx="432000" cy="0"/>
          </a:xfrm>
          <a:prstGeom prst="line">
            <a:avLst/>
          </a:prstGeom>
          <a:ln w="31680">
            <a:solidFill>
              <a:srgbClr val="333399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6000" y="2997360"/>
            <a:ext cx="432000" cy="0"/>
          </a:xfrm>
          <a:prstGeom prst="line">
            <a:avLst/>
          </a:prstGeom>
          <a:ln w="31680">
            <a:solidFill>
              <a:srgbClr val="66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56000" y="3141720"/>
            <a:ext cx="432000" cy="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19640" y="2421000"/>
            <a:ext cx="720720" cy="288720"/>
          </a:xfrm>
          <a:prstGeom prst="rect">
            <a:avLst/>
          </a:prstGeom>
          <a:solidFill>
            <a:srgbClr val="33cc3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4920" y="3429000"/>
            <a:ext cx="1081080" cy="433440"/>
          </a:xfrm>
          <a:prstGeom prst="rect">
            <a:avLst/>
          </a:prstGeom>
          <a:solidFill>
            <a:srgbClr val="ffff99"/>
          </a:soli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ADC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74920" y="4292640"/>
            <a:ext cx="1081080" cy="433440"/>
          </a:xfrm>
          <a:prstGeom prst="rect">
            <a:avLst/>
          </a:prstGeom>
          <a:solidFill>
            <a:srgbClr val="ffff99"/>
          </a:soli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ADC #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56000" y="3573360"/>
            <a:ext cx="432000" cy="0"/>
          </a:xfrm>
          <a:prstGeom prst="line">
            <a:avLst/>
          </a:prstGeom>
          <a:ln w="31680">
            <a:solidFill>
              <a:srgbClr val="66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56000" y="3718080"/>
            <a:ext cx="432000" cy="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4437000"/>
            <a:ext cx="432000" cy="0"/>
          </a:xfrm>
          <a:prstGeom prst="line">
            <a:avLst/>
          </a:prstGeom>
          <a:ln w="31680">
            <a:solidFill>
              <a:srgbClr val="66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56000" y="4581360"/>
            <a:ext cx="432000" cy="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3070080"/>
            <a:ext cx="287280" cy="0"/>
          </a:xfrm>
          <a:prstGeom prst="line">
            <a:avLst/>
          </a:prstGeom>
          <a:ln w="31680">
            <a:solidFill>
              <a:srgbClr val="66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03280" y="3070080"/>
            <a:ext cx="287280" cy="0"/>
          </a:xfrm>
          <a:prstGeom prst="line">
            <a:avLst/>
          </a:prstGeom>
          <a:ln w="31680">
            <a:solidFill>
              <a:srgbClr val="66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92360" y="3430440"/>
            <a:ext cx="1295280" cy="432000"/>
          </a:xfrm>
          <a:prstGeom prst="rect">
            <a:avLst/>
          </a:prstGeom>
          <a:solidFill>
            <a:srgbClr val="ffcc99"/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プリアン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92360" y="4294080"/>
            <a:ext cx="1295280" cy="432000"/>
          </a:xfrm>
          <a:prstGeom prst="rect">
            <a:avLst/>
          </a:prstGeom>
          <a:solidFill>
            <a:srgbClr val="ffcc99"/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プリアン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28320" y="35654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87640" y="3645000"/>
            <a:ext cx="287280" cy="0"/>
          </a:xfrm>
          <a:prstGeom prst="line">
            <a:avLst/>
          </a:prstGeom>
          <a:ln w="31680">
            <a:solidFill>
              <a:srgbClr val="66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87640" y="4510080"/>
            <a:ext cx="287280" cy="0"/>
          </a:xfrm>
          <a:prstGeom prst="line">
            <a:avLst/>
          </a:prstGeom>
          <a:ln w="31680">
            <a:solidFill>
              <a:srgbClr val="66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03280" y="3645000"/>
            <a:ext cx="287280" cy="0"/>
          </a:xfrm>
          <a:prstGeom prst="line">
            <a:avLst/>
          </a:prstGeom>
          <a:ln w="31680">
            <a:solidFill>
              <a:srgbClr val="66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03280" y="4510080"/>
            <a:ext cx="287280" cy="0"/>
          </a:xfrm>
          <a:prstGeom prst="line">
            <a:avLst/>
          </a:prstGeom>
          <a:ln w="31680">
            <a:solidFill>
              <a:srgbClr val="66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59280" y="2637000"/>
            <a:ext cx="0" cy="215640"/>
          </a:xfrm>
          <a:prstGeom prst="line">
            <a:avLst/>
          </a:prstGeom>
          <a:ln w="31680">
            <a:solidFill>
              <a:srgbClr val="660033"/>
            </a:solidFill>
            <a:prstDash val="sysDot"/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76720" y="2276640"/>
            <a:ext cx="0" cy="576000"/>
          </a:xfrm>
          <a:prstGeom prst="line">
            <a:avLst/>
          </a:prstGeom>
          <a:ln w="31680">
            <a:solidFill>
              <a:srgbClr val="ff3300"/>
            </a:solidFill>
            <a:prstDash val="sysDot"/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8108640" y="36882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および制御バ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87520" y="2252520"/>
            <a:ext cx="128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FEM #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45360" y="32479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45360" y="36813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219520" y="411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101080" y="5229360"/>
            <a:ext cx="57636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101080" y="6094440"/>
            <a:ext cx="57636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00000" y="3070080"/>
            <a:ext cx="503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00000" y="3645000"/>
            <a:ext cx="503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00000" y="4510080"/>
            <a:ext cx="503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39240" y="35654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00000" y="5229360"/>
            <a:ext cx="503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00000" y="6094440"/>
            <a:ext cx="503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64440" y="4832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64440" y="5697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145360" y="47973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45360" y="56624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920" y="1486080"/>
            <a:ext cx="649080" cy="576000"/>
          </a:xfrm>
          <a:prstGeom prst="rect">
            <a:avLst/>
          </a:prstGeom>
          <a:solidFill>
            <a:srgbClr val="ff99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40360" y="2565360"/>
            <a:ext cx="432000" cy="360360"/>
          </a:xfrm>
          <a:prstGeom prst="line">
            <a:avLst/>
          </a:prstGeom>
          <a:ln w="31680">
            <a:solidFill>
              <a:srgbClr val="333399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80000" y="2709720"/>
            <a:ext cx="0" cy="1429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101080" y="3070080"/>
            <a:ext cx="288720" cy="0"/>
          </a:xfrm>
          <a:prstGeom prst="line">
            <a:avLst/>
          </a:prstGeom>
          <a:ln w="31680">
            <a:solidFill>
              <a:srgbClr val="333399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101080" y="1917720"/>
            <a:ext cx="288720" cy="0"/>
          </a:xfrm>
          <a:prstGeom prst="line">
            <a:avLst/>
          </a:prstGeom>
          <a:ln w="31680">
            <a:solidFill>
              <a:srgbClr val="333399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88000" y="2854440"/>
            <a:ext cx="1152360" cy="1871640"/>
          </a:xfrm>
          <a:prstGeom prst="rect">
            <a:avLst/>
          </a:prstGeom>
          <a:solidFill>
            <a:srgbClr val="0066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99"/>
                </a:solidFill>
                <a:latin typeface="ＭＳ Ｐゴシック"/>
              </a:rPr>
              <a:t>ＦＰＧ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03280" y="1486080"/>
            <a:ext cx="1152720" cy="5760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DIS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1773360"/>
            <a:ext cx="503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03640" y="1700280"/>
            <a:ext cx="2592360" cy="576360"/>
          </a:xfrm>
          <a:prstGeom prst="rect">
            <a:avLst/>
          </a:prstGeom>
          <a:solidFill>
            <a:srgbClr val="ffc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CLOCK(100MH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ｚ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16360" y="1773360"/>
            <a:ext cx="0" cy="504720"/>
          </a:xfrm>
          <a:prstGeom prst="line">
            <a:avLst/>
          </a:prstGeom>
          <a:ln w="31680">
            <a:solidFill>
              <a:srgbClr val="660033"/>
            </a:solidFill>
            <a:prstDash val="sysDot"/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916360" y="2278080"/>
            <a:ext cx="0" cy="358920"/>
          </a:xfrm>
          <a:prstGeom prst="line">
            <a:avLst/>
          </a:prstGeom>
          <a:ln w="3168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2637000"/>
            <a:ext cx="1942920" cy="0"/>
          </a:xfrm>
          <a:prstGeom prst="line">
            <a:avLst/>
          </a:prstGeom>
          <a:ln w="3168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59280" y="4870440"/>
            <a:ext cx="0" cy="142920"/>
          </a:xfrm>
          <a:prstGeom prst="line">
            <a:avLst/>
          </a:prstGeom>
          <a:ln w="3168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59280" y="5445000"/>
            <a:ext cx="0" cy="433440"/>
          </a:xfrm>
          <a:prstGeom prst="line">
            <a:avLst/>
          </a:prstGeom>
          <a:ln w="31680">
            <a:solidFill>
              <a:srgbClr val="660033"/>
            </a:solidFill>
            <a:prstDash val="sysDot"/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076720" y="5445000"/>
            <a:ext cx="0" cy="432000"/>
          </a:xfrm>
          <a:prstGeom prst="line">
            <a:avLst/>
          </a:prstGeom>
          <a:ln w="31680">
            <a:solidFill>
              <a:srgbClr val="ff3300"/>
            </a:solidFill>
            <a:prstDash val="sysDot"/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332160" y="2239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スタート信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76720" y="4870440"/>
            <a:ext cx="0" cy="14292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280" y="6539040"/>
            <a:ext cx="156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日本物理学会 第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61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回年次大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019400" y="6539040"/>
            <a:ext cx="13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稲 葉　基（筑波技術大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21680" y="653904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平成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28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日　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P.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8675640" y="1628640"/>
            <a:ext cx="0" cy="244800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101080" y="1628640"/>
            <a:ext cx="57636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79280" y="692280"/>
            <a:ext cx="8785440" cy="57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7800" y="50400"/>
            <a:ext cx="8278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TPC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用信号読み出し回路（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FEM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）の外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7061400" cy="55897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8550720" y="1771200"/>
            <a:ext cx="485280" cy="33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データおよび制御バ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4000" y="4941720"/>
            <a:ext cx="122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Start t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02480" y="3159000"/>
            <a:ext cx="101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TPC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接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コネク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9000" y="90792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基板サイ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17.5×22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9280" y="6539040"/>
            <a:ext cx="156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日本物理学会 第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61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回年次大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019400" y="6539040"/>
            <a:ext cx="13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稲 葉　基（筑波技術大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21680" y="653904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平成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28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日　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P.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2200" y="5300640"/>
            <a:ext cx="137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Ext.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908000" y="1197000"/>
            <a:ext cx="1727280" cy="5257800"/>
            <a:chOff x="1908000" y="1197000"/>
            <a:chExt cx="1727280" cy="5257800"/>
          </a:xfrm>
        </p:grpSpPr>
        <p:sp>
          <p:nvSpPr>
            <p:cNvPr id="301" name=""/>
            <p:cNvSpPr/>
            <p:nvPr/>
          </p:nvSpPr>
          <p:spPr>
            <a:xfrm>
              <a:off x="2484360" y="1197000"/>
              <a:ext cx="647640" cy="468000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08000" y="5991120"/>
              <a:ext cx="1727280" cy="4320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39840" y="59342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0000"/>
                  </a:solidFill>
                  <a:latin typeface="Arial"/>
                </a:rPr>
                <a:t>プリアン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843280" y="1197000"/>
            <a:ext cx="952200" cy="5278320"/>
            <a:chOff x="2843280" y="1197000"/>
            <a:chExt cx="952200" cy="5278320"/>
          </a:xfrm>
        </p:grpSpPr>
        <p:sp>
          <p:nvSpPr>
            <p:cNvPr id="305" name=""/>
            <p:cNvSpPr/>
            <p:nvPr/>
          </p:nvSpPr>
          <p:spPr>
            <a:xfrm>
              <a:off x="2916360" y="1197000"/>
              <a:ext cx="792000" cy="468000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43280" y="5991120"/>
              <a:ext cx="936720" cy="4320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46520" y="5954760"/>
              <a:ext cx="94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0000"/>
                  </a:solidFill>
                  <a:latin typeface="Arial"/>
                </a:rPr>
                <a:t>AD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4284720" y="2781360"/>
            <a:ext cx="1582560" cy="3693960"/>
            <a:chOff x="4284720" y="2781360"/>
            <a:chExt cx="1582560" cy="3693960"/>
          </a:xfrm>
        </p:grpSpPr>
        <p:sp>
          <p:nvSpPr>
            <p:cNvPr id="309" name=""/>
            <p:cNvSpPr/>
            <p:nvPr/>
          </p:nvSpPr>
          <p:spPr>
            <a:xfrm>
              <a:off x="4284720" y="2781360"/>
              <a:ext cx="1582560" cy="158436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00720" y="5991120"/>
              <a:ext cx="1150920" cy="4320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03600" y="5954760"/>
              <a:ext cx="116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0000"/>
                  </a:solidFill>
                  <a:latin typeface="Arial"/>
                </a:rPr>
                <a:t>FPG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084720" y="1197000"/>
            <a:ext cx="2087640" cy="5257800"/>
            <a:chOff x="6084720" y="1197000"/>
            <a:chExt cx="2087640" cy="5257800"/>
          </a:xfrm>
        </p:grpSpPr>
        <p:sp>
          <p:nvSpPr>
            <p:cNvPr id="313" name=""/>
            <p:cNvSpPr/>
            <p:nvPr/>
          </p:nvSpPr>
          <p:spPr>
            <a:xfrm>
              <a:off x="6948360" y="1197000"/>
              <a:ext cx="792360" cy="259236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84720" y="5991120"/>
              <a:ext cx="2087640" cy="4320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92520" y="5934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0000"/>
                  </a:solidFill>
                  <a:latin typeface="Arial"/>
                </a:rPr>
                <a:t>出力バッフ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908000" y="981000"/>
            <a:ext cx="5040360" cy="5473800"/>
            <a:chOff x="1908000" y="981000"/>
            <a:chExt cx="5040360" cy="5473800"/>
          </a:xfrm>
        </p:grpSpPr>
        <p:sp>
          <p:nvSpPr>
            <p:cNvPr id="317" name=""/>
            <p:cNvSpPr/>
            <p:nvPr/>
          </p:nvSpPr>
          <p:spPr>
            <a:xfrm>
              <a:off x="1908000" y="1052640"/>
              <a:ext cx="719280" cy="1584360"/>
            </a:xfrm>
            <a:prstGeom prst="ellipse">
              <a:avLst/>
            </a:prstGeom>
            <a:noFill/>
            <a:ln w="63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92720" y="981000"/>
              <a:ext cx="1655640" cy="1656000"/>
            </a:xfrm>
            <a:prstGeom prst="ellipse">
              <a:avLst/>
            </a:prstGeom>
            <a:noFill/>
            <a:ln w="63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780000" y="4508640"/>
              <a:ext cx="1439640" cy="1441440"/>
            </a:xfrm>
            <a:prstGeom prst="ellipse">
              <a:avLst/>
            </a:prstGeom>
            <a:noFill/>
            <a:ln w="63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08360" y="5991120"/>
              <a:ext cx="1612800" cy="4320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97440" y="59342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66"/>
                  </a:solidFill>
                  <a:latin typeface="Arial"/>
                </a:rPr>
                <a:t>電源回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995640" y="1700280"/>
            <a:ext cx="2035440" cy="4754520"/>
            <a:chOff x="3995640" y="1700280"/>
            <a:chExt cx="2035440" cy="4754520"/>
          </a:xfrm>
        </p:grpSpPr>
        <p:sp>
          <p:nvSpPr>
            <p:cNvPr id="323" name=""/>
            <p:cNvSpPr/>
            <p:nvPr/>
          </p:nvSpPr>
          <p:spPr>
            <a:xfrm>
              <a:off x="3995640" y="1700280"/>
              <a:ext cx="936720" cy="936720"/>
            </a:xfrm>
            <a:prstGeom prst="ellipse">
              <a:avLst/>
            </a:prstGeom>
            <a:noFill/>
            <a:ln w="63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72000" y="4437000"/>
              <a:ext cx="936720" cy="936720"/>
            </a:xfrm>
            <a:prstGeom prst="ellipse">
              <a:avLst/>
            </a:prstGeom>
            <a:noFill/>
            <a:ln w="63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86360" y="5991120"/>
              <a:ext cx="1944720" cy="4320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88600" y="5934240"/>
              <a:ext cx="173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66"/>
                  </a:solidFill>
                  <a:latin typeface="ＭＳ Ｐゴシック"/>
                </a:rPr>
                <a:t>JTAG</a:t>
              </a:r>
              <a:r>
                <a:rPr b="1" lang="ja-JP" sz="2800" spc="-1" strike="noStrike">
                  <a:solidFill>
                    <a:srgbClr val="000066"/>
                  </a:solidFill>
                  <a:latin typeface="ＭＳ Ｐゴシック"/>
                </a:rPr>
                <a:t>ポー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771640" y="1989000"/>
            <a:ext cx="4753080" cy="4465800"/>
            <a:chOff x="2771640" y="1989000"/>
            <a:chExt cx="4753080" cy="4465800"/>
          </a:xfrm>
        </p:grpSpPr>
        <p:sp>
          <p:nvSpPr>
            <p:cNvPr id="328" name=""/>
            <p:cNvSpPr/>
            <p:nvPr/>
          </p:nvSpPr>
          <p:spPr>
            <a:xfrm>
              <a:off x="2771640" y="5991120"/>
              <a:ext cx="4753080" cy="4320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33680" y="5934240"/>
              <a:ext cx="33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66"/>
                  </a:solidFill>
                  <a:latin typeface="Arial"/>
                </a:rPr>
                <a:t>オンボードクロックジェネレー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573440" y="1989000"/>
              <a:ext cx="646200" cy="64620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402480" y="2709720"/>
            <a:ext cx="2081880" cy="1656000"/>
            <a:chOff x="402480" y="2709720"/>
            <a:chExt cx="2081880" cy="1656000"/>
          </a:xfrm>
        </p:grpSpPr>
        <p:sp>
          <p:nvSpPr>
            <p:cNvPr id="332" name=""/>
            <p:cNvSpPr/>
            <p:nvPr/>
          </p:nvSpPr>
          <p:spPr>
            <a:xfrm>
              <a:off x="1547640" y="2709720"/>
              <a:ext cx="936720" cy="165600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2480" y="3159000"/>
              <a:ext cx="101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0000"/>
                  </a:solidFill>
                  <a:latin typeface="ＭＳ Ｐゴシック"/>
                </a:rPr>
                <a:t>TPC</a:t>
              </a:r>
              <a:r>
                <a:rPr b="1" lang="ja-JP" sz="2000" spc="-1" strike="noStrike">
                  <a:solidFill>
                    <a:srgbClr val="ff0000"/>
                  </a:solidFill>
                  <a:latin typeface="ＭＳ Ｐゴシック"/>
                </a:rPr>
                <a:t>接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0000"/>
                  </a:solidFill>
                  <a:latin typeface="ＭＳ Ｐゴシック"/>
                </a:rPr>
                <a:t>コネク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4560" y="43920"/>
            <a:ext cx="2592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実験結果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57440" y="130320"/>
            <a:ext cx="6478560" cy="5778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21080" y="13176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擬似信号による動作検証（正弦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79280" y="765000"/>
            <a:ext cx="4897440" cy="2808360"/>
            <a:chOff x="179280" y="765000"/>
            <a:chExt cx="4897440" cy="2808360"/>
          </a:xfrm>
        </p:grpSpPr>
        <p:sp>
          <p:nvSpPr>
            <p:cNvPr id="338" name=""/>
            <p:cNvSpPr/>
            <p:nvPr/>
          </p:nvSpPr>
          <p:spPr>
            <a:xfrm>
              <a:off x="179280" y="765000"/>
              <a:ext cx="4897440" cy="28083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250920" y="1135080"/>
              <a:ext cx="4740120" cy="236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"/>
          <p:cNvGrpSpPr/>
          <p:nvPr/>
        </p:nvGrpSpPr>
        <p:grpSpPr>
          <a:xfrm>
            <a:off x="5148360" y="765000"/>
            <a:ext cx="3816360" cy="2808360"/>
            <a:chOff x="5148360" y="765000"/>
            <a:chExt cx="3816360" cy="2808360"/>
          </a:xfrm>
        </p:grpSpPr>
        <p:sp>
          <p:nvSpPr>
            <p:cNvPr id="341" name=""/>
            <p:cNvSpPr/>
            <p:nvPr/>
          </p:nvSpPr>
          <p:spPr>
            <a:xfrm>
              <a:off x="5148360" y="765000"/>
              <a:ext cx="3816360" cy="28083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67280" y="765000"/>
              <a:ext cx="21924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モードⅢ（しきい値を超え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最初と最後の信号の時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情報（デー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アドレス）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電荷情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（</a:t>
              </a: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ADC</a:t>
              </a: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コー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の積分値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2"/>
            <a:stretch/>
          </p:blipFill>
          <p:spPr>
            <a:xfrm>
              <a:off x="7093080" y="1593720"/>
              <a:ext cx="1730160" cy="183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4" name=""/>
          <p:cNvSpPr/>
          <p:nvPr/>
        </p:nvSpPr>
        <p:spPr>
          <a:xfrm>
            <a:off x="5487840" y="4005360"/>
            <a:ext cx="3456000" cy="1800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63480" y="4005360"/>
            <a:ext cx="231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ＭＳ Ｐゴシック"/>
              </a:rPr>
              <a:t>擬似信号を読み出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ＭＳ Ｐゴシック"/>
              </a:rPr>
              <a:t>それぞれのモード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ＭＳ Ｐゴシック"/>
              </a:rPr>
              <a:t>目的通りのデー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ＭＳ Ｐゴシック"/>
              </a:rPr>
              <a:t>収集が確認できた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18900000">
            <a:off x="5127120" y="3644640"/>
            <a:ext cx="360360" cy="287280"/>
          </a:xfrm>
          <a:prstGeom prst="downArrow">
            <a:avLst>
              <a:gd name="adj1" fmla="val 49778"/>
              <a:gd name="adj2" fmla="val 3977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30760" y="3645000"/>
            <a:ext cx="360360" cy="287280"/>
          </a:xfrm>
          <a:prstGeom prst="downArrow">
            <a:avLst>
              <a:gd name="adj1" fmla="val 49778"/>
              <a:gd name="adj2" fmla="val 3977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5091120" y="4076280"/>
            <a:ext cx="360360" cy="287640"/>
          </a:xfrm>
          <a:prstGeom prst="downArrow">
            <a:avLst>
              <a:gd name="adj1" fmla="val 49778"/>
              <a:gd name="adj2" fmla="val 3977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27960" y="58053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最初の立ち上がりとそれに続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立ち下がりの検出も成功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9280" y="6539040"/>
            <a:ext cx="156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日本物理学会 第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61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回年次大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019400" y="6539040"/>
            <a:ext cx="13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稲 葉　基（筑波技術大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321680" y="653904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平成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28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日　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P.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713600" y="739800"/>
            <a:ext cx="2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モードⅠ（全信号を転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79280" y="3645000"/>
            <a:ext cx="4897440" cy="28083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250920" y="4021200"/>
            <a:ext cx="4732200" cy="23605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2489400" y="361944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モードⅡ（しきい値を超えた信号の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5076720" y="5876640"/>
            <a:ext cx="216000" cy="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5508720" y="4005360"/>
            <a:ext cx="3456000" cy="1800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48360" y="765000"/>
            <a:ext cx="3816360" cy="28083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79280" y="3645000"/>
            <a:ext cx="4897440" cy="28083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9280" y="765000"/>
            <a:ext cx="4897440" cy="28083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42600" y="4005360"/>
            <a:ext cx="241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ＭＳ Ｐゴシック"/>
              </a:rPr>
              <a:t>それぞれのモード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ＭＳ Ｐゴシック"/>
              </a:rPr>
              <a:t>TPC</a:t>
            </a:r>
            <a:r>
              <a:rPr b="1" lang="ja-JP" sz="2800" spc="-1" strike="noStrike">
                <a:solidFill>
                  <a:srgbClr val="ff0000"/>
                </a:solidFill>
                <a:latin typeface="ＭＳ Ｐゴシック"/>
              </a:rPr>
              <a:t>信号の取り込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ＭＳ Ｐゴシック"/>
              </a:rPr>
              <a:t>および（圧縮）デー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ＭＳ Ｐゴシック"/>
              </a:rPr>
              <a:t>の転送が確認できた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13600" y="739800"/>
            <a:ext cx="2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モードⅠ（全信号を転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89400" y="361944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モードⅡ（しきい値を超えた信号の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867280" y="765000"/>
            <a:ext cx="219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モードⅢ（しきい値を超え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最初と最後の信号の時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情報（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アドレス）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電荷情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ADC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コー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の積分値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18900000">
            <a:off x="5148000" y="3644640"/>
            <a:ext cx="360360" cy="287280"/>
          </a:xfrm>
          <a:prstGeom prst="downArrow">
            <a:avLst>
              <a:gd name="adj1" fmla="val 49778"/>
              <a:gd name="adj2" fmla="val 3977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51640" y="3645000"/>
            <a:ext cx="360360" cy="287280"/>
          </a:xfrm>
          <a:prstGeom prst="downArrow">
            <a:avLst>
              <a:gd name="adj1" fmla="val 49778"/>
              <a:gd name="adj2" fmla="val 3977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5111640" y="4076280"/>
            <a:ext cx="360360" cy="287280"/>
          </a:xfrm>
          <a:prstGeom prst="downArrow">
            <a:avLst>
              <a:gd name="adj1" fmla="val 49778"/>
              <a:gd name="adj2" fmla="val 3977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4560" y="43920"/>
            <a:ext cx="2592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実験結果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56000" y="130320"/>
            <a:ext cx="6480000" cy="5778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21080" y="131760"/>
            <a:ext cx="66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TPC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信号の取り込み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（宇宙線テストベン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21520" y="739800"/>
            <a:ext cx="2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モードⅠ（全信号を転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7093080" y="1593720"/>
            <a:ext cx="1730160" cy="18352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250920" y="4035600"/>
            <a:ext cx="4752720" cy="23461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246240" y="1128600"/>
            <a:ext cx="4757400" cy="23716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59280" y="6539040"/>
            <a:ext cx="156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日本物理学会 第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61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回年次大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019400" y="6539040"/>
            <a:ext cx="13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稲 葉　基（筑波技術大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321680" y="653904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平成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28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日　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P.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099040" y="5805360"/>
            <a:ext cx="41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内部処理時間</a:t>
            </a:r>
            <a:r>
              <a:rPr b="1" lang="ja-JP" sz="1800" spc="-1" strike="noStrike">
                <a:solidFill>
                  <a:srgbClr val="333399"/>
                </a:solidFill>
                <a:latin typeface="ＭＳ Ｐゴシック"/>
              </a:rPr>
              <a:t>（シミュレーション値）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55ns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＋</a:t>
            </a:r>
            <a:r>
              <a:rPr b="1" lang="ja-JP" sz="1800" spc="-1" strike="noStrike">
                <a:solidFill>
                  <a:srgbClr val="333399"/>
                </a:solidFill>
                <a:latin typeface="ＭＳ Ｐゴシック"/>
              </a:rPr>
              <a:t>（</a:t>
            </a:r>
            <a:r>
              <a:rPr b="1" lang="ja-JP" sz="1800" spc="-1" strike="noStrike">
                <a:solidFill>
                  <a:srgbClr val="333399"/>
                </a:solidFill>
                <a:latin typeface="ＭＳ Ｐゴシック"/>
              </a:rPr>
              <a:t>26.5ns</a:t>
            </a:r>
            <a:r>
              <a:rPr b="1" lang="ja-JP" sz="1800" spc="-1" strike="noStrike">
                <a:solidFill>
                  <a:srgbClr val="333399"/>
                </a:solidFill>
                <a:latin typeface="ＭＳ Ｐゴシック"/>
              </a:rPr>
              <a:t>＋</a:t>
            </a:r>
            <a:r>
              <a:rPr b="1" lang="ja-JP" sz="1800" spc="-1" strike="noStrike">
                <a:solidFill>
                  <a:srgbClr val="333399"/>
                </a:solidFill>
                <a:latin typeface="ＭＳ Ｐゴシック"/>
              </a:rPr>
              <a:t>14.6ns</a:t>
            </a:r>
            <a:r>
              <a:rPr b="1" lang="ja-JP" sz="1800" spc="-1" strike="noStrike">
                <a:solidFill>
                  <a:srgbClr val="333399"/>
                </a:solidFill>
                <a:latin typeface="ＭＳ Ｐゴシック"/>
              </a:rPr>
              <a:t>）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=</a:t>
            </a:r>
            <a:r>
              <a:rPr b="1" lang="ja-JP" sz="1800" spc="-1" strike="noStrike" u="sng">
                <a:solidFill>
                  <a:srgbClr val="ff0000"/>
                </a:solidFill>
                <a:uFillTx/>
                <a:latin typeface="ＭＳ Ｐゴシック"/>
              </a:rPr>
              <a:t>約</a:t>
            </a:r>
            <a:r>
              <a:rPr b="1" lang="ja-JP" sz="1800" spc="-1" strike="noStrike" u="sng">
                <a:solidFill>
                  <a:srgbClr val="ff0000"/>
                </a:solidFill>
                <a:uFillTx/>
                <a:latin typeface="ＭＳ Ｐゴシック"/>
              </a:rPr>
              <a:t>96</a:t>
            </a:r>
            <a:r>
              <a:rPr b="1" lang="ja-JP" sz="1800" spc="-1" strike="noStrike" u="sng">
                <a:solidFill>
                  <a:srgbClr val="ff0000"/>
                </a:solidFill>
                <a:uFillTx/>
                <a:latin typeface="ＭＳ Ｐゴシック"/>
              </a:rPr>
              <a:t>ナノ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13:29:39Z</dcterms:created>
  <dc:creator>inaba</dc:creator>
  <dc:description/>
  <dc:language>en-US</dc:language>
  <cp:lastModifiedBy>inaba</cp:lastModifiedBy>
  <dcterms:modified xsi:type="dcterms:W3CDTF">2006-04-07T03:05:14Z</dcterms:modified>
  <cp:revision>1349</cp:revision>
  <dc:subject/>
  <dc:title>高位置分解能検出器のための 10ビット100Mサンプリング ADCチップ搭載72チャネル信 号読み出し回路の試作と評価</dc:title>
</cp:coreProperties>
</file>