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3.png" ContentType="image/png"/>
  <Override PartName="/ppt/media/image50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6.pct" ContentType="image/x-pict"/>
  <Override PartName="/ppt/media/image9.png" ContentType="image/png"/>
  <Override PartName="/ppt/media/image27.jpeg" ContentType="image/jpeg"/>
  <Override PartName="/ppt/media/image52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79A0-BAB7-4DD7-B9A6-36901A85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085-C9C6-4B2A-9441-51300756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35B-4E9C-494B-8480-BAD07F3E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B3C-4037-4F43-AD18-46BA62BF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6802-CF25-414D-A743-7CAF705E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061B-E225-481E-B46E-53706F3C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5DAB-3ABD-41DC-BC8B-041253C9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692F-B8BE-45C4-94CF-B5575029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5CC9-17DC-40DB-B0AC-BDE359FE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452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F9B4-4963-445F-8F87-4304F1A4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BE8F-FBFF-4E5C-99A5-A889DF4C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461-7CEA-4496-BDA3-AD55FF1B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4B6C-5074-4F10-93CB-F101A9FA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4661-C71A-4FD1-9F2E-AB09B740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430F-5338-448D-A14E-AB573286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4E15-B507-4213-897B-837F44E1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8117-1572-4B01-8D40-E971ABD8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AD7-0F90-426E-9682-422D0E53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5AAB-10F1-464C-ABF4-6072C790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836-AEA3-436F-8B73-18C3D049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452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17D-5B47-417A-8500-340D2AEA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816-5153-47DF-92B6-9DF3D09E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168-8DA6-4C56-A790-7A49CAA5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E93-C381-484D-8D2C-F323E909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8412-A52D-4313-9F61-D8CA4C4EE59C}" type="slidenum"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85560" y="66135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atsuya Chu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60888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JPS 2006 Spring meeting (2006.03.2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902720" y="63360"/>
            <a:ext cx="1164960" cy="38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13EC-9B5A-4487-80A5-5A86C2686799}" type="slidenum"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60888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JPS 2006 Spring meeting (2006.03.2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16761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Identified charged hadron production</a:t>
            </a:r>
            <a:br>
              <a:rPr sz="3600"/>
            </a:b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in Cu+Cu at 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NN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= 22.5 and 62.4 GeV in PHENIX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Tatsuya Ch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for the PHENIX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162920" y="6248520"/>
            <a:ext cx="466560" cy="466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96080" y="6292800"/>
            <a:ext cx="1359000" cy="43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281400" y="5334120"/>
            <a:ext cx="258120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in Cu+Cu 22.5 GeV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99920" y="5181480"/>
            <a:ext cx="75438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Larger p/</a:t>
            </a:r>
            <a:r>
              <a:rPr b="1" lang="ja-JP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 ratios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an those in Au+Au 200 GeV (0.5 @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= 1.5 GeV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Affected by the spectator protons (not produced protons) at lower </a:t>
            </a:r>
            <a:r>
              <a:rPr b="1" lang="ja-JP" sz="1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ja-JP" sz="1400" spc="-1" strike="noStrike" baseline="-25000">
                <a:solidFill>
                  <a:srgbClr val="ff0000"/>
                </a:solidFill>
                <a:latin typeface="Arial"/>
              </a:rPr>
              <a:t>NN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p/</a:t>
            </a:r>
            <a:r>
              <a:rPr b="1" lang="ja-JP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6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 ratios are ~0.3-0.4 at p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 = 2 GeV/c,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hich is close to the fragmentation expectations in p+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Almost no centrality depen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2920" y="990720"/>
            <a:ext cx="8856720" cy="419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563-F41F-492C-A247-5C95D028EF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in Cu+Cu 62.4 GeV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39960" y="5334120"/>
            <a:ext cx="7264080" cy="1066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  <a:ea typeface="Osaka"/>
              </a:rPr>
              <a:t>p/</a:t>
            </a:r>
            <a:r>
              <a:rPr b="1" lang="ja-JP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600" spc="-1" strike="noStrike" baseline="30000">
                <a:solidFill>
                  <a:srgbClr val="ff0000"/>
                </a:solidFill>
                <a:latin typeface="Arial"/>
                <a:ea typeface="Osaka"/>
              </a:rPr>
              <a:t>+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  <a:ea typeface="Osaka"/>
              </a:rPr>
              <a:t> ratios are reduce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, compared to those in Cu+Cu 22 GeV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  <a:ea typeface="Osaka"/>
              </a:rPr>
              <a:t>p/</a:t>
            </a:r>
            <a:r>
              <a:rPr b="1" lang="ja-JP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600" spc="-1" strike="noStrike" baseline="30000">
                <a:solidFill>
                  <a:srgbClr val="ff0000"/>
                </a:solidFill>
                <a:latin typeface="Arial"/>
                <a:ea typeface="Osaka"/>
              </a:rPr>
              <a:t>-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  <a:ea typeface="Osaka"/>
              </a:rPr>
              <a:t> ratio in most central collisions reaches R=~0.6 at p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Arial"/>
                <a:ea typeface="Osaka"/>
              </a:rPr>
              <a:t>T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  <a:ea typeface="Osaka"/>
              </a:rPr>
              <a:t> = 2 GeV/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Centrality dependence is se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Peripheral pbar/</a:t>
            </a: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-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Osaka"/>
              </a:rPr>
              <a:t>: consistent with p+p valu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4360" y="990720"/>
            <a:ext cx="8853480" cy="419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F98-CAC5-4E0B-8933-FB9A6FFFEE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eam energy dep. in Cu+Cu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3960" y="51814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  <a:ea typeface="Osaka"/>
              </a:rPr>
              <a:t>p/</a:t>
            </a:r>
            <a:r>
              <a:rPr b="1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 baseline="30000">
                <a:solidFill>
                  <a:srgbClr val="ff0000"/>
                </a:solidFill>
                <a:latin typeface="Arial"/>
                <a:ea typeface="Osaka"/>
              </a:rPr>
              <a:t>+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  <a:ea typeface="Osaka"/>
              </a:rPr>
              <a:t> ratio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Osaka"/>
              </a:rPr>
              <a:t>: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  <a:ea typeface="Osak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Osaka"/>
              </a:rPr>
              <a:t>decreasing as a function of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Osaka"/>
              </a:rPr>
              <a:t>s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N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Osak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ja-JP" sz="1800" spc="-1" strike="noStrike">
                <a:solidFill>
                  <a:srgbClr val="0000ff"/>
                </a:solidFill>
                <a:latin typeface="Arial"/>
                <a:ea typeface="Osaka"/>
              </a:rPr>
              <a:t>p/</a:t>
            </a:r>
            <a:r>
              <a:rPr b="1" lang="ja-JP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 baseline="30000">
                <a:solidFill>
                  <a:srgbClr val="0000ff"/>
                </a:solidFill>
                <a:latin typeface="Arial"/>
                <a:ea typeface="Osaka"/>
              </a:rPr>
              <a:t>-</a:t>
            </a:r>
            <a:r>
              <a:rPr b="1" lang="ja-JP" sz="1800" spc="-1" strike="noStrike">
                <a:solidFill>
                  <a:srgbClr val="0000ff"/>
                </a:solidFill>
                <a:latin typeface="Arial"/>
                <a:ea typeface="Osaka"/>
              </a:rPr>
              <a:t> ratio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  <a:ea typeface="Osak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Osaka"/>
              </a:rPr>
              <a:t>:  increasing as a function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Osaka"/>
              </a:rPr>
              <a:t>s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N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Osak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Cu+Cu 22.5 GeV central data reaches the p+p val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Cu+Cu 62.4 GeV central data is higher than that in 22.5 Ge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30120" y="762120"/>
            <a:ext cx="8481960" cy="423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A2E-2E20-41F5-8B7F-74397E2E0B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for pions (22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46200" y="1033560"/>
            <a:ext cx="6050160" cy="4790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14600" y="2590920"/>
            <a:ext cx="2819520" cy="102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000" spc="-1" strike="noStrike">
                <a:solidFill>
                  <a:srgbClr val="8000ff"/>
                </a:solidFill>
                <a:latin typeface="Arial"/>
              </a:rPr>
              <a:t>Error notati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Error bars: statistical error for Cu+Cu spec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Gray boxe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) sys. error for p+p refere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) sys. error for Cu+Cu spectra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Lines: N</a:t>
            </a:r>
            <a:r>
              <a:rPr b="0" lang="ja-JP" sz="1000" spc="-1" strike="noStrike" baseline="-25000">
                <a:solidFill>
                  <a:srgbClr val="000000"/>
                </a:solidFill>
                <a:latin typeface="Arial"/>
              </a:rPr>
              <a:t>coll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error (1</a:t>
            </a:r>
            <a:r>
              <a:rPr b="0" lang="ja-JP" sz="1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82680" y="5892840"/>
            <a:ext cx="6515280" cy="68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+p reference: global fit of pion data at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 ~22 GeV in p+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is ~1.5  at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= 2 GeV/c,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no suppress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360" y="4343400"/>
            <a:ext cx="18288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+p reference: global fit of pion data at </a:t>
            </a:r>
            <a:r>
              <a:rPr b="0" lang="ja-JP" sz="1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 ~62 GeV (D. d’Enterri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65A-FC3C-4103-B7A1-7A88C3EE7F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for pions (62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44760" y="1031760"/>
            <a:ext cx="6053040" cy="4794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486080" y="6019920"/>
            <a:ext cx="6172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imilar, might be slightly smaller than that in 22 GeV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360" y="4343400"/>
            <a:ext cx="18288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+p reference: global fit of pion data at </a:t>
            </a:r>
            <a:r>
              <a:rPr b="0" lang="ja-JP" sz="1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 ~62 Ge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ucl-ex/ nucl-ex/0411049, D. d’Enterr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5B0-A114-484D-BF17-D8EC35E89A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for proton (22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09760" y="5943600"/>
            <a:ext cx="63244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Larger than pions significantl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which suggests the large contributions of spectator prot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46200" y="1033560"/>
            <a:ext cx="6050160" cy="4790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3360" y="4343400"/>
            <a:ext cx="18288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+p reference: fitted the ISR data in p+p 63 GeV, B. Alper et al, NPB 100, 237 (1975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37B5-8ADA-447B-B0AA-FD505F006F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for proton (62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86080" y="6019920"/>
            <a:ext cx="6172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milar as in 22.5 GeV, but slightly smaller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46200" y="1033560"/>
            <a:ext cx="6050160" cy="4790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3360" y="4343400"/>
            <a:ext cx="18288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+p reference: fitted the ISR data in p+p 63 GeV, B. Alper et al, NPB 100, 237 (1975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921-E5CB-4FAA-952D-A013B65EFD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for antiproton (22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61920" y="5943600"/>
            <a:ext cx="7220160" cy="71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Different p</a:t>
            </a:r>
            <a:r>
              <a:rPr b="1" lang="ja-JP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dependence from prot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ja-JP" sz="1800" spc="-1" strike="noStrike" baseline="-25000">
                <a:solidFill>
                  <a:srgbClr val="ff0000"/>
                </a:solidFill>
                <a:latin typeface="Arial"/>
              </a:rPr>
              <a:t>AA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~ 1 (similar to pions’ R</a:t>
            </a:r>
            <a:r>
              <a:rPr b="1" lang="ja-JP" sz="1800" spc="-1" strike="noStrike" baseline="-25000">
                <a:solidFill>
                  <a:srgbClr val="ff0000"/>
                </a:solidFill>
                <a:latin typeface="Arial"/>
              </a:rPr>
              <a:t>AA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),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inary collision scaling work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42960" y="1030320"/>
            <a:ext cx="6056280" cy="4797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3360" y="4343400"/>
            <a:ext cx="18288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+p reference: fitted the ISR data in p+p 63 GeV, B. Alper et al, NPB 100, 237 (1975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E60-149A-4230-929D-245388268B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for antiproton (62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52680" y="1036800"/>
            <a:ext cx="6038640" cy="47829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914480" y="5943600"/>
            <a:ext cx="531504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imilar to that for 22 GeV (and also pion’s R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360" y="4343400"/>
            <a:ext cx="18288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+p reference: fitted the ISR data in p+p 63 GeV, B. Alper et al, NPB 100, 237 (1975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DFA0-CEC1-442D-8584-5A9BC7D143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90544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easured p</a:t>
            </a:r>
            <a:r>
              <a:rPr b="1" lang="ja-JP" sz="2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spectra for 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ja-JP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, K</a:t>
            </a:r>
            <a:r>
              <a:rPr b="1" lang="ja-JP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, p, 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p in Cu+Cu at 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ja-JP" sz="2800" spc="-1" strike="noStrike" baseline="-25000">
                <a:solidFill>
                  <a:srgbClr val="ff0000"/>
                </a:solidFill>
                <a:latin typeface="Arial"/>
              </a:rPr>
              <a:t>NN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= 22.5 and 62.4 GeV in PHEN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ja-JP" sz="20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 ratio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decreas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s a function of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Cu+C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uggests a significant contribution of spectator protons (not by the produced protons) in lower energies Cu+C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ja-JP" sz="20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20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 ratio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increas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s a function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Cu+C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u+Cu 22.5 GeV shows that there is (almost)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no centrality dependen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and central Cu+Cu already reaches to the p+p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u+Cu 62.4 GeV central data is higher than that in 22.5 GeV, centrality dependence is s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ja-JP" sz="20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article type 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200" indent="-226080">
              <a:lnSpc>
                <a:spcPct val="90000"/>
              </a:lnSpc>
              <a:spcBef>
                <a:spcPts val="451"/>
              </a:spcBef>
              <a:buClr>
                <a:srgbClr val="8000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8000ff"/>
                </a:solidFill>
                <a:latin typeface="Symbol"/>
                <a:ea typeface="Symbol"/>
              </a:rPr>
              <a:t></a:t>
            </a:r>
            <a:r>
              <a:rPr b="1" lang="ja-JP" sz="1800" spc="-1" strike="noStrike">
                <a:solidFill>
                  <a:srgbClr val="8000ff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8000ff"/>
                </a:solidFill>
                <a:latin typeface="Arial"/>
              </a:rPr>
              <a:t>: no suppression at both 22.5 and 62.4 GeV in Cu+Cu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02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p: enhanced (mostly due to the spectator nucleo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02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p: binary scaling, very similar to pion’s R</a:t>
            </a:r>
            <a:r>
              <a:rPr b="1" lang="ja-JP" sz="1800" spc="-1" strike="noStrike" baseline="-25000">
                <a:solidFill>
                  <a:srgbClr val="ff0000"/>
                </a:solidFill>
                <a:latin typeface="Arial"/>
              </a:rPr>
              <a:t>AA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79F1-0E61-409B-AA83-B8A0BD0321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Introduction </a:t>
            </a:r>
            <a:br>
              <a:rPr sz="3600"/>
            </a:b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~ Baryon Anomaly at RHIC ~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512720"/>
            <a:ext cx="4952880" cy="3830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9480" y="1295280"/>
            <a:ext cx="420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ENIX: PRL 91, 172301 (2003), PRC 69, 034909 (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036880"/>
            <a:ext cx="3657600" cy="29030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In Au+Au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s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N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 = 200 GeV central collis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Pions: Strong suppression of yields above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 ~ 2 GeV/c, due to jet quenching eff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Protons: No suppression for at intermediate 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 (2-5 GeV/c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  <a:ea typeface="Osaka"/>
              </a:rPr>
              <a:t> 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  <a:ea typeface="Osaka"/>
              </a:rPr>
              <a:t>Called “Baryon anomaly at RHIC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1" lang="ja-JP" sz="1600" spc="-1" strike="noStrike">
                <a:solidFill>
                  <a:srgbClr val="0000ff"/>
                </a:solidFill>
                <a:latin typeface="Arial"/>
                <a:ea typeface="Osaka"/>
              </a:rPr>
              <a:t>Quark recombination model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Osaka"/>
              </a:rPr>
              <a:t> reproduce the data qualitative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5334120"/>
            <a:ext cx="4419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5880" y="5371200"/>
            <a:ext cx="24044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ear Modification Fact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5715000"/>
          <a:ext cx="3276720" cy="70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5715000"/>
                    <a:ext cx="32767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843360" y="5821200"/>
            <a:ext cx="95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4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4000"/>
                </a:solidFill>
                <a:latin typeface="Arial"/>
              </a:rPr>
              <a:t>~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1120" y="2514600"/>
            <a:ext cx="194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u+Au @ </a:t>
            </a:r>
            <a:r>
              <a:rPr b="0" lang="ja-JP" sz="1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2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= 200 G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8AB-71C7-4139-8615-7309C6F5DAD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2D0-0FE1-46F6-9F15-F4B1F1D0F6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Backup Slides</a:t>
            </a: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D91-D589-42CC-96EC-E05E557885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+p fit at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 = 22.5 GeV (pions)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7696440" cy="3943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410080" y="4876920"/>
            <a:ext cx="271152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Compilation and fitting by D. d’Enter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24D-94C7-44A7-9DD4-0F49CC5F6F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for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in Cu+Cu 22.5 GeV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71144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572000" y="1622520"/>
            <a:ext cx="4572000" cy="3612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373040" y="133020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bSc (0-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42360" y="1330200"/>
            <a:ext cx="20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bGl (0-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3F1-8016-49B3-B871-DAB506F9DF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PS and AG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46080" y="1093680"/>
            <a:ext cx="7251840" cy="46688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5000" y="5943600"/>
            <a:ext cx="266688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. Phys. A 757, 184 (2005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ENIX, nucl-ex/0410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556-D0BE-4870-A2C0-CC28A5D864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NA49 dat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19920" y="6248160"/>
            <a:ext cx="2743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49 collaboration, nucl-ex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510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918" t="1235" r="0" b="-1832"/>
          <a:stretch/>
        </p:blipFill>
        <p:spPr>
          <a:xfrm>
            <a:off x="304920" y="1287360"/>
            <a:ext cx="8534160" cy="4283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055960" y="5597640"/>
            <a:ext cx="182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A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895480" y="3429000"/>
            <a:ext cx="685800" cy="2209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83680" y="5486400"/>
            <a:ext cx="17200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A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696080" y="2133360"/>
            <a:ext cx="228600" cy="3352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A66-4C52-472C-BBE5-D62DDFF9E6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for pi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19320" y="773280"/>
            <a:ext cx="3352680" cy="2655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0" y="773280"/>
            <a:ext cx="3352680" cy="2655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214280" y="3429000"/>
            <a:ext cx="3357720" cy="2660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3352680" cy="2655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811280" y="443232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2.4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98680" y="17524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2.5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3429000"/>
            <a:ext cx="8763120" cy="0"/>
          </a:xfrm>
          <a:prstGeom prst="line">
            <a:avLst/>
          </a:prstGeom>
          <a:ln w="38160">
            <a:solidFill>
              <a:srgbClr val="008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ADD9-FA52-496F-9894-29FA888837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for ka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19320" y="773280"/>
            <a:ext cx="3352680" cy="2655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572000" y="774720"/>
            <a:ext cx="3352680" cy="2654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1219320" y="3429000"/>
            <a:ext cx="3352680" cy="2655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3352680" cy="2654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811280" y="443232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2.4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98680" y="17524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2.5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3429000"/>
            <a:ext cx="8763120" cy="0"/>
          </a:xfrm>
          <a:prstGeom prst="line">
            <a:avLst/>
          </a:prstGeom>
          <a:ln w="38160">
            <a:solidFill>
              <a:srgbClr val="008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9A9C-A48C-4C9A-8161-EE74B3A98C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summary (22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06200" y="1312920"/>
            <a:ext cx="8931600" cy="423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F03-72A4-45F2-B0C4-3D7BFD10D0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summary (62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06200" y="1312920"/>
            <a:ext cx="8931600" cy="423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2276-5742-43B9-BD39-B850F52A9E2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ratios in Au+Au 200 GeV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685800"/>
            <a:ext cx="8839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  <a:ea typeface="Arial"/>
              </a:rPr>
              <a:t>More (anti) baryons than pions at moderate p</a:t>
            </a:r>
            <a:r>
              <a:rPr b="1" lang="ja-JP" sz="18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T </a:t>
            </a:r>
            <a:r>
              <a:rPr b="1" lang="ja-JP" sz="1800" spc="-1" strike="noStrike">
                <a:solidFill>
                  <a:srgbClr val="0000ff"/>
                </a:solidFill>
                <a:latin typeface="Arial"/>
                <a:ea typeface="Arial"/>
              </a:rPr>
              <a:t>(2-5 GeV/c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  <a:ea typeface="Arial"/>
              </a:rPr>
              <a:t>Does not look like vacuum jet fragm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9080" y="1625760"/>
            <a:ext cx="6840360" cy="4173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55760" y="3166920"/>
            <a:ext cx="2087640" cy="2016360"/>
          </a:xfrm>
          <a:custGeom>
            <a:avLst/>
            <a:gdLst/>
            <a:ahLst/>
            <a:rect l="l" t="t" r="r" b="b"/>
            <a:pathLst>
              <a:path w="1315" h="1270">
                <a:moveTo>
                  <a:pt x="0" y="1270"/>
                </a:moveTo>
                <a:cubicBezTo>
                  <a:pt x="128" y="1032"/>
                  <a:pt x="257" y="794"/>
                  <a:pt x="363" y="635"/>
                </a:cubicBezTo>
                <a:cubicBezTo>
                  <a:pt x="469" y="476"/>
                  <a:pt x="476" y="423"/>
                  <a:pt x="635" y="317"/>
                </a:cubicBezTo>
                <a:cubicBezTo>
                  <a:pt x="794" y="211"/>
                  <a:pt x="1054" y="105"/>
                  <a:pt x="1315" y="0"/>
                </a:cubicBezTo>
              </a:path>
            </a:pathLst>
          </a:custGeom>
          <a:noFill/>
          <a:ln w="507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64120" y="3741840"/>
            <a:ext cx="2232000" cy="1368360"/>
          </a:xfrm>
          <a:custGeom>
            <a:avLst/>
            <a:gdLst/>
            <a:ahLst/>
            <a:rect l="l" t="t" r="r" b="b"/>
            <a:pathLst>
              <a:path w="1406" h="907">
                <a:moveTo>
                  <a:pt x="0" y="907"/>
                </a:moveTo>
                <a:cubicBezTo>
                  <a:pt x="113" y="759"/>
                  <a:pt x="227" y="612"/>
                  <a:pt x="318" y="499"/>
                </a:cubicBezTo>
                <a:cubicBezTo>
                  <a:pt x="409" y="386"/>
                  <a:pt x="423" y="303"/>
                  <a:pt x="544" y="227"/>
                </a:cubicBezTo>
                <a:cubicBezTo>
                  <a:pt x="665" y="151"/>
                  <a:pt x="899" y="83"/>
                  <a:pt x="1043" y="45"/>
                </a:cubicBezTo>
                <a:cubicBezTo>
                  <a:pt x="1187" y="7"/>
                  <a:pt x="1296" y="3"/>
                  <a:pt x="1406" y="0"/>
                </a:cubicBezTo>
              </a:path>
            </a:pathLst>
          </a:custGeom>
          <a:noFill/>
          <a:ln w="507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84480" y="4462560"/>
            <a:ext cx="2303280" cy="647640"/>
          </a:xfrm>
          <a:custGeom>
            <a:avLst/>
            <a:gdLst/>
            <a:ahLst/>
            <a:rect l="l" t="t" r="r" b="b"/>
            <a:pathLst>
              <a:path w="1451" h="408">
                <a:moveTo>
                  <a:pt x="0" y="408"/>
                </a:moveTo>
                <a:cubicBezTo>
                  <a:pt x="45" y="344"/>
                  <a:pt x="91" y="280"/>
                  <a:pt x="136" y="227"/>
                </a:cubicBezTo>
                <a:cubicBezTo>
                  <a:pt x="181" y="174"/>
                  <a:pt x="204" y="121"/>
                  <a:pt x="272" y="91"/>
                </a:cubicBezTo>
                <a:cubicBezTo>
                  <a:pt x="340" y="61"/>
                  <a:pt x="348" y="60"/>
                  <a:pt x="544" y="45"/>
                </a:cubicBezTo>
                <a:cubicBezTo>
                  <a:pt x="740" y="30"/>
                  <a:pt x="1095" y="15"/>
                  <a:pt x="1451" y="0"/>
                </a:cubicBezTo>
              </a:path>
            </a:pathLst>
          </a:custGeom>
          <a:noFill/>
          <a:ln cap="rnd" w="507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64120" y="4678200"/>
            <a:ext cx="2232000" cy="432000"/>
          </a:xfrm>
          <a:custGeom>
            <a:avLst/>
            <a:gdLst/>
            <a:ahLst/>
            <a:rect l="l" t="t" r="r" b="b"/>
            <a:pathLst>
              <a:path w="1406" h="272">
                <a:moveTo>
                  <a:pt x="0" y="272"/>
                </a:moveTo>
                <a:cubicBezTo>
                  <a:pt x="64" y="223"/>
                  <a:pt x="129" y="174"/>
                  <a:pt x="182" y="136"/>
                </a:cubicBezTo>
                <a:cubicBezTo>
                  <a:pt x="235" y="98"/>
                  <a:pt x="265" y="69"/>
                  <a:pt x="318" y="46"/>
                </a:cubicBezTo>
                <a:cubicBezTo>
                  <a:pt x="371" y="23"/>
                  <a:pt x="416" y="0"/>
                  <a:pt x="499" y="0"/>
                </a:cubicBezTo>
                <a:cubicBezTo>
                  <a:pt x="582" y="0"/>
                  <a:pt x="711" y="23"/>
                  <a:pt x="817" y="46"/>
                </a:cubicBezTo>
                <a:cubicBezTo>
                  <a:pt x="923" y="69"/>
                  <a:pt x="1036" y="106"/>
                  <a:pt x="1134" y="136"/>
                </a:cubicBezTo>
                <a:cubicBezTo>
                  <a:pt x="1232" y="166"/>
                  <a:pt x="1319" y="196"/>
                  <a:pt x="1406" y="227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492280"/>
            <a:ext cx="2737080" cy="40176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29680" y="2540160"/>
            <a:ext cx="15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Rounded MT Bold"/>
              </a:rPr>
              <a:t>Periph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16600" y="2084400"/>
            <a:ext cx="1728720" cy="358920"/>
          </a:xfrm>
          <a:prstGeom prst="ellipse">
            <a:avLst/>
          </a:prstGeom>
          <a:noFill/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05640" y="200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Rounded MT Bold"/>
              </a:rPr>
              <a:t>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05040" y="1397160"/>
            <a:ext cx="53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HENIX: PRL 91, 172301 (2003), PRC 69, 034909 (200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-877680" y="3542040"/>
            <a:ext cx="41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ti-) Proton 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2640" y="6039000"/>
            <a:ext cx="7602480" cy="79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  <a:ea typeface="Osaka"/>
              </a:rPr>
              <a:t>Where is the onset of the baryon anomaly at RH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Osaka"/>
              </a:rPr>
              <a:t>New Cu+Cu data at lower  </a:t>
            </a:r>
            <a:r>
              <a:rPr b="1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Osaka"/>
              </a:rPr>
              <a:t>s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Arial"/>
                <a:ea typeface="Osaka"/>
              </a:rPr>
              <a:t>NN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Osaka"/>
              </a:rPr>
              <a:t> may give an answer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F9E-7E0C-4557-9FE7-29340109C3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/p ratio vs. p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0840" y="48006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2.4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0840" y="190512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2.5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539720" y="762120"/>
            <a:ext cx="6064560" cy="2832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539720" y="3733920"/>
            <a:ext cx="6064560" cy="28335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80880" y="3657600"/>
            <a:ext cx="8763120" cy="0"/>
          </a:xfrm>
          <a:prstGeom prst="line">
            <a:avLst/>
          </a:prstGeom>
          <a:ln w="38160">
            <a:solidFill>
              <a:srgbClr val="008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8F4-B09C-4E7D-8925-FC7E6BC2DC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 K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K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vs. p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(22.5 GeV) 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635120" y="581040"/>
            <a:ext cx="5872320" cy="569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E1A-1E11-43C1-B380-132E861B08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, K</a:t>
            </a:r>
            <a:r>
              <a:rPr b="1" lang="ja-JP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/K</a:t>
            </a:r>
            <a:r>
              <a:rPr b="1" lang="ja-JP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vs. p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(62.4 GeV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638360" y="582480"/>
            <a:ext cx="5867280" cy="569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4AA-6586-4C77-A8A1-1CE8BF27FD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+p reference data (with fit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22200" y="1066680"/>
            <a:ext cx="3349800" cy="1555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352680" cy="15591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7440" y="6094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3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21360" y="6094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3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66960" y="6172200"/>
            <a:ext cx="541008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aons and protons: Fit results of ISR p+p 63 GeV data.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. Alper et al, NPB100(1975)237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ions: global fits of p+p data, e.g. nucl-ex/0411049, D. d’Enterr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1219320" y="2703600"/>
            <a:ext cx="3352680" cy="1557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4876920" y="2666880"/>
            <a:ext cx="3276360" cy="1522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1295280" y="4495680"/>
            <a:ext cx="3276720" cy="1522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4952880" y="4495680"/>
            <a:ext cx="3200400" cy="14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C81-A771-4ADB-BD1B-FB752ACF8F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ata Analysi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724280" cy="4190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Data set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HIC Run-5 (2005), measured by the PHENIX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u+Cu at 22.5 G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u+Cu at 62.4 G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Detectors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ft Chamber, PC1, BBC and TOF for PID charged analy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entrality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divided minimum bias triggered events, based on BBC charge (62 GeV), or the number of PC1 hit (22 GeV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rrections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metrical acceptance, in flight deca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No weak decay feed-down correction applied.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46249"/>
          <a:stretch/>
        </p:blipFill>
        <p:spPr>
          <a:xfrm>
            <a:off x="5334120" y="1014480"/>
            <a:ext cx="3581280" cy="241452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5028120" y="3733920"/>
            <a:ext cx="4115880" cy="2752920"/>
            <a:chOff x="5028120" y="3733920"/>
            <a:chExt cx="4115880" cy="275292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5078520" y="3899160"/>
              <a:ext cx="4065480" cy="25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674320" y="3733920"/>
              <a:ext cx="294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Charged particle identification by T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26440" y="6210360"/>
              <a:ext cx="226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 x Momentum (GeV/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28120" y="4077000"/>
              <a:ext cx="43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/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57240" y="4077000"/>
              <a:ext cx="1319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+Cu @ 22.5 Ge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B2AF-F324-4F88-958C-EF610F4BEE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1320" y="2361960"/>
            <a:ext cx="8001000" cy="205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spectra in Cu+Cu at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N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= 22.5 and 62.4 Ge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/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ratios vs. 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uclear modification factor: R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AA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B5C3-0718-4ABE-88FE-CD51EF84ED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2680" y="5943600"/>
            <a:ext cx="152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Filled symbols : </a:t>
            </a:r>
            <a:r>
              <a:rPr b="1" lang="ja-JP" sz="12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12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Open symbols :  </a:t>
            </a:r>
            <a:r>
              <a:rPr b="1" lang="ja-JP" sz="12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ja-JP" sz="12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9400" y="976320"/>
            <a:ext cx="4422600" cy="4903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0" y="976320"/>
            <a:ext cx="4422600" cy="4905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spectra for pi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532-7F35-4F78-8480-801EA96198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3400" y="5943600"/>
            <a:ext cx="155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Filled symbols : K</a:t>
            </a:r>
            <a:r>
              <a:rPr b="1" lang="ja-JP" sz="12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Open symbols :  K</a:t>
            </a:r>
            <a:r>
              <a:rPr b="1" lang="ja-JP" sz="12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977760"/>
            <a:ext cx="4419720" cy="4900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0" y="976320"/>
            <a:ext cx="4419720" cy="4903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spectra for ka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0F80-9D44-4B10-A7F8-CFEDD7681F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280" y="977760"/>
            <a:ext cx="4419720" cy="4900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72000" y="977760"/>
            <a:ext cx="4419720" cy="4902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spectra for prot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4960" y="6172200"/>
            <a:ext cx="411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* No weak decay feed-down correction appl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08A6-3460-433D-99F6-83474DF389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977760"/>
            <a:ext cx="4419720" cy="4900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976320"/>
            <a:ext cx="4419720" cy="4903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4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ja-JP" sz="36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 spectra for antiprot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14960" y="6172200"/>
            <a:ext cx="411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* No weak decay feed-down correction appl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C4B-0A36-49A6-9FD1-9382A1E0EE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08:54:41Z</dcterms:created>
  <dc:creator>Tatsuya Chujo</dc:creator>
  <dc:description/>
  <dc:language>en-US</dc:language>
  <cp:lastModifiedBy>Tatsuya Chujo</cp:lastModifiedBy>
  <cp:lastPrinted>2006-03-19T04:14:36Z</cp:lastPrinted>
  <dcterms:modified xsi:type="dcterms:W3CDTF">2006-03-31T06:51:11Z</dcterms:modified>
  <cp:revision>1948</cp:revision>
  <dc:subject/>
  <dc:title>PowerPoint Presentation  -  Hot Quarks 2004 (chujo)</dc:title>
</cp:coreProperties>
</file>