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1.wmf" ContentType="image/x-wmf"/>
  <Override PartName="/ppt/media/image28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948488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B4F8-EDF0-4442-B4CC-7F5DF6B3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126F-BD6A-49E7-A3A1-35FF135C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C92C-D94F-4EBC-BF2B-5E9D57FB3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5A00-B418-466F-B5FE-B4B1F386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19240" y="30240"/>
            <a:ext cx="870552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33AA-8C0F-4521-B856-96706AB8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9A6E-6D14-4D1B-90F8-10E317F0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C526-925E-4D40-9D10-2713E8D9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E111-C7F1-406C-BBA8-E9A89E9B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9240" y="30240"/>
            <a:ext cx="870552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29BA-9C4F-4D3E-9441-77D1FAA1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6153-CD66-4A7E-94E9-7272E727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34F1-E15E-427C-8901-3C56EEC1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BAE8-C91F-438C-B486-48106C7B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-7560" y="6741360"/>
            <a:ext cx="9159840" cy="71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184320" y="6524280"/>
            <a:ext cx="213336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826320" y="6524280"/>
            <a:ext cx="213336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4765-A968-41EE-AE0D-EAE29D2EE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010040" y="228600"/>
            <a:ext cx="5135400" cy="268200"/>
          </a:xfrm>
          <a:prstGeom prst="rect">
            <a:avLst/>
          </a:prstGeom>
          <a:solidFill>
            <a:srgbClr val="5149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95560" y="457200"/>
            <a:ext cx="2814480" cy="360360"/>
          </a:xfrm>
          <a:prstGeom prst="rect">
            <a:avLst/>
          </a:prstGeom>
          <a:solidFill>
            <a:srgbClr val="2924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4010040" y="457200"/>
            <a:ext cx="5133960" cy="380880"/>
          </a:xfrm>
          <a:prstGeom prst="rect">
            <a:avLst/>
          </a:prstGeom>
          <a:solidFill>
            <a:srgbClr val="777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219240" y="30240"/>
            <a:ext cx="87055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8136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506400" y="508428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5452560"/>
            <a:ext cx="28958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 rot="10800000">
            <a:off x="688680" y="3502080"/>
            <a:ext cx="7769160" cy="712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10040" y="228600"/>
            <a:ext cx="5135400" cy="268200"/>
          </a:xfrm>
          <a:prstGeom prst="rect">
            <a:avLst/>
          </a:prstGeom>
          <a:solidFill>
            <a:srgbClr val="5149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95560" y="457200"/>
            <a:ext cx="2814480" cy="360360"/>
          </a:xfrm>
          <a:prstGeom prst="rect">
            <a:avLst/>
          </a:prstGeom>
          <a:solidFill>
            <a:srgbClr val="2924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10040" y="457200"/>
            <a:ext cx="5133960" cy="380880"/>
          </a:xfrm>
          <a:prstGeom prst="rect">
            <a:avLst/>
          </a:prstGeom>
          <a:solidFill>
            <a:srgbClr val="777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0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5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6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8360" y="6308640"/>
            <a:ext cx="82296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 Mar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42120" y="5084640"/>
            <a:ext cx="726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Bookman Old Style"/>
              </a:rPr>
              <a:t>Kentaro MIKI for the PHENIX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Bookman Old Style"/>
              </a:rPr>
              <a:t>University of Tsuku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91640" y="4292640"/>
            <a:ext cx="58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  <a:ea typeface="HGP明朝B"/>
              </a:rPr>
              <a:t>The Physical Society of Japan 61th Annual Meet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148600" cy="282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5761080" cy="43214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07400" y="285840"/>
            <a:ext cx="521604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4-3. result </a:t>
            </a:r>
            <a:r>
              <a:rPr b="0" lang="en-US" sz="24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~ inclusive photon v</a:t>
            </a:r>
            <a:r>
              <a:rPr b="0" lang="en-US" sz="2400" spc="-1" strike="noStrike" u="sng" baseline="-25000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2</a:t>
            </a:r>
            <a:r>
              <a:rPr b="0" lang="en-US" sz="24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 ~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  <a:ea typeface="HG創英角ﾎﾟｯﾌﾟ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53080" y="1773360"/>
            <a:ext cx="324000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8360" y="5300640"/>
            <a:ext cx="8207280" cy="1079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53080" y="2637000"/>
            <a:ext cx="324000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53080" y="3502080"/>
            <a:ext cx="3240000" cy="4316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3080" y="4365720"/>
            <a:ext cx="324000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21440" y="2278080"/>
            <a:ext cx="360360" cy="289080"/>
          </a:xfrm>
          <a:prstGeom prst="flowChartMerg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21440" y="3141720"/>
            <a:ext cx="360360" cy="288720"/>
          </a:xfrm>
          <a:prstGeom prst="flowChartMerg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021440" y="4005360"/>
            <a:ext cx="360360" cy="288720"/>
          </a:xfrm>
          <a:prstGeom prst="flowChartMerg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5920" y="5373720"/>
            <a:ext cx="82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P明朝B"/>
              </a:rPr>
              <a:t>We calculate the inclusive photon and compared to results of previous analys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50800" y="2637000"/>
            <a:ext cx="278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hadro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decay simulation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274080" y="1773360"/>
            <a:ext cx="21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estimate th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HGP明朝B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731560" y="3573360"/>
            <a:ext cx="3082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P明朝B"/>
              </a:rPr>
              <a:t>estimate the inclusive photon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458040" y="4365720"/>
            <a:ext cx="1823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direct photon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28000" y="213372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HGP明朝B"/>
              </a:rPr>
              <a:t>work in prog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F33D-D07E-4A55-8C67-7D206C975EAF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/Mar/2006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248360" cy="22320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rcRect l="0" t="43316" r="0" b="0"/>
          <a:stretch/>
        </p:blipFill>
        <p:spPr>
          <a:xfrm>
            <a:off x="3564000" y="4941720"/>
            <a:ext cx="4049640" cy="8208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rcRect l="28488" t="0" r="30637" b="64580"/>
          <a:stretch/>
        </p:blipFill>
        <p:spPr>
          <a:xfrm>
            <a:off x="469800" y="4941720"/>
            <a:ext cx="1654200" cy="64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75" name=""/>
          <p:cNvSpPr/>
          <p:nvPr/>
        </p:nvSpPr>
        <p:spPr>
          <a:xfrm>
            <a:off x="785520" y="285840"/>
            <a:ext cx="62614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4-4. result </a:t>
            </a:r>
            <a:r>
              <a:rPr b="0" lang="en-US" sz="24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~ subtract the hadron decay</a:t>
            </a:r>
            <a:r>
              <a:rPr b="0" lang="en-US" sz="2400" spc="-1" strike="noStrike" u="sng" baseline="-25000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 </a:t>
            </a:r>
            <a:r>
              <a:rPr b="0" lang="en-US" sz="24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~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  <a:ea typeface="HG創英角ﾎﾟｯﾌﾟ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3080" y="1773360"/>
            <a:ext cx="324000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8360" y="5661000"/>
            <a:ext cx="8207280" cy="719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53080" y="2637000"/>
            <a:ext cx="324000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3502080"/>
            <a:ext cx="324000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653080" y="4365720"/>
            <a:ext cx="3240000" cy="4316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021440" y="2278080"/>
            <a:ext cx="360360" cy="289080"/>
          </a:xfrm>
          <a:prstGeom prst="flowChartMerg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021440" y="3141720"/>
            <a:ext cx="360360" cy="288720"/>
          </a:xfrm>
          <a:prstGeom prst="flowChartMerg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021440" y="4005360"/>
            <a:ext cx="360360" cy="288720"/>
          </a:xfrm>
          <a:prstGeom prst="flowChartMerg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22440" y="5675400"/>
            <a:ext cx="7497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P明朝B"/>
              </a:rPr>
              <a:t>This plot shows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HGP明朝B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P明朝B"/>
              </a:rPr>
              <a:t> of subtracted the hadron decay photon from inclus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P明朝B"/>
              </a:rPr>
              <a:t>phot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2411280" y="5186520"/>
                <a:ext cx="108108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n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oto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hoton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1980360" y="1557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HGP明朝B"/>
              </a:rPr>
              <a:t>work in prog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950800" y="2637000"/>
            <a:ext cx="278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hadro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decay simulation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274080" y="1773360"/>
            <a:ext cx="21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estimate th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HGP明朝B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731560" y="3573360"/>
            <a:ext cx="3082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P明朝B"/>
              </a:rPr>
              <a:t>estimate the inclusive photon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458040" y="4365720"/>
            <a:ext cx="1823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direct photon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2050920" y="3068640"/>
            <a:ext cx="3600720" cy="2043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753280" y="388152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R: 00 – 92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3C58-F716-4D7D-939D-9F9FE6C5268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/Mar/2006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799480" cy="25192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746280" y="285840"/>
            <a:ext cx="57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4-5. result </a:t>
            </a:r>
            <a:r>
              <a:rPr b="0" lang="en-US" sz="24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~ centrality dependence ~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  <a:ea typeface="HG創英角ﾎﾟｯﾌﾟ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8360" y="5661000"/>
            <a:ext cx="8207280" cy="719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22440" y="5675400"/>
            <a:ext cx="6773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P明朝B"/>
              </a:rPr>
              <a:t>These plots show centrality dependence of subtracted photon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HGP明朝B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P明朝B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1640" y="8366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HGP明朝B"/>
              </a:rPr>
              <a:t>work in prog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rcRect l="67223" t="3542" r="2460" b="0"/>
          <a:stretch/>
        </p:blipFill>
        <p:spPr>
          <a:xfrm>
            <a:off x="6156360" y="3716280"/>
            <a:ext cx="2663640" cy="19447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rcRect l="66939" t="0" r="0" b="0"/>
          <a:stretch/>
        </p:blipFill>
        <p:spPr>
          <a:xfrm>
            <a:off x="3132000" y="3716280"/>
            <a:ext cx="2881440" cy="19432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rcRect l="66939" t="0" r="0" b="0"/>
          <a:stretch/>
        </p:blipFill>
        <p:spPr>
          <a:xfrm>
            <a:off x="250920" y="3716280"/>
            <a:ext cx="2881080" cy="18734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539640" y="508464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492360" y="508464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43640" y="508464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0794-3BDC-43EB-9FC7-5E5AA2B15627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/Mar/2006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16000" y="4076640"/>
            <a:ext cx="7201080" cy="1852200"/>
          </a:xfrm>
          <a:prstGeom prst="rect">
            <a:avLst/>
          </a:prstGeom>
          <a:solidFill>
            <a:srgbClr val="ffffff"/>
          </a:solidFill>
          <a:ln w="442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+ need to more study about systematical err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+ study of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 calculation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+ estimate the direct photon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 from inclusive photon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hadron decay phot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+ prepare to show result at more large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 ran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16000" y="1268280"/>
            <a:ext cx="7201080" cy="2400840"/>
          </a:xfrm>
          <a:prstGeom prst="rect">
            <a:avLst/>
          </a:prstGeom>
          <a:solidFill>
            <a:srgbClr val="ccffcc"/>
          </a:solidFill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+ We estimate 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 of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  <a:ea typeface="HGP明朝B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, inclusive photon, and subtracted pho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to study initial state of relativistic heavy ion collisions and QG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+ We used Au+Au collisions data set in √s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N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 = 200Ge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at RHIC-PHEN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+ Compared to results of previous ana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+ We show the subtract photon at less than 5 GeV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 region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these results are still work in progre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02640" y="285840"/>
            <a:ext cx="449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5. summary and to do list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  <a:ea typeface="HG創英角ﾎﾟｯﾌﾟ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6480" y="1066680"/>
            <a:ext cx="1450440" cy="368280"/>
          </a:xfrm>
          <a:prstGeom prst="rect">
            <a:avLst/>
          </a:prstGeom>
          <a:solidFill>
            <a:srgbClr val="ccffcc"/>
          </a:solidFill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summar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" y="3875040"/>
            <a:ext cx="997560" cy="368280"/>
          </a:xfrm>
          <a:prstGeom prst="rect">
            <a:avLst/>
          </a:prstGeom>
          <a:solidFill>
            <a:srgbClr val="ffffff"/>
          </a:solidFill>
          <a:ln w="47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to 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4A84-7506-4785-84E5-13E345FEDE58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/Mar/2006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72320" y="285840"/>
            <a:ext cx="21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Ex. Back up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  <a:ea typeface="HG創英角ﾎﾟｯﾌﾟ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BB19-9A04-4C53-96DF-E2328EE1DE8A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/Mar/2006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588000" y="1484280"/>
            <a:ext cx="2016360" cy="1008000"/>
          </a:xfrm>
          <a:prstGeom prst="wedgeRectCallout">
            <a:avLst>
              <a:gd name="adj1" fmla="val 629"/>
              <a:gd name="adj2" fmla="val 8495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00720" y="1484280"/>
            <a:ext cx="2016000" cy="1008000"/>
          </a:xfrm>
          <a:prstGeom prst="wedgeRectCallout">
            <a:avLst>
              <a:gd name="adj1" fmla="val 9527"/>
              <a:gd name="adj2" fmla="val 8905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11280" y="1484280"/>
            <a:ext cx="2016360" cy="1008000"/>
          </a:xfrm>
          <a:prstGeom prst="wedgeRectCallout">
            <a:avLst>
              <a:gd name="adj1" fmla="val 68583"/>
              <a:gd name="adj2" fmla="val 8763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4000" y="1484280"/>
            <a:ext cx="2016000" cy="1008000"/>
          </a:xfrm>
          <a:prstGeom prst="wedgeRectCallout">
            <a:avLst>
              <a:gd name="adj1" fmla="val 118819"/>
              <a:gd name="adj2" fmla="val 9645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50920" y="907920"/>
            <a:ext cx="7200720" cy="505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547640" y="2565360"/>
            <a:ext cx="6048720" cy="12240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768240" y="285840"/>
            <a:ext cx="68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Ex. Introduction (generation of photon)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  <a:ea typeface="HG創英角ﾎﾟｯﾌﾟ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68360" y="981000"/>
            <a:ext cx="698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cal generation of photon at heave ion colli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5280" y="1557360"/>
            <a:ext cx="1873080" cy="865080"/>
          </a:xfrm>
          <a:prstGeom prst="flowChartPunchedCard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68360" y="1773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ＭＳ Ｐゴシック"/>
              </a:rPr>
              <a:t>prompt phot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484360" y="1557360"/>
            <a:ext cx="1873440" cy="865080"/>
          </a:xfrm>
          <a:prstGeom prst="flowChartPunchedCard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556000" y="1773360"/>
            <a:ext cx="1636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ＭＳ Ｐゴシック"/>
              </a:rPr>
              <a:t>thermal phot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1557360"/>
            <a:ext cx="1873080" cy="865080"/>
          </a:xfrm>
          <a:prstGeom prst="flowChartPunchedCard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0" y="1628640"/>
            <a:ext cx="1873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ＭＳ Ｐゴシック"/>
              </a:rPr>
              <a:t>photon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ＭＳ Ｐゴシック"/>
              </a:rPr>
              <a:t>jet frag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59640" y="1557360"/>
            <a:ext cx="1873080" cy="865080"/>
          </a:xfrm>
          <a:prstGeom prst="flowChartPunchedCard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04000" y="1773360"/>
            <a:ext cx="1473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ＭＳ Ｐゴシック"/>
              </a:rPr>
              <a:t>hadron dec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538920" y="3933720"/>
            <a:ext cx="7751160" cy="2313000"/>
            <a:chOff x="538920" y="3933720"/>
            <a:chExt cx="7751160" cy="2313000"/>
          </a:xfrm>
        </p:grpSpPr>
        <p:grpSp>
          <p:nvGrpSpPr>
            <p:cNvPr id="327" name=""/>
            <p:cNvGrpSpPr/>
            <p:nvPr/>
          </p:nvGrpSpPr>
          <p:grpSpPr>
            <a:xfrm>
              <a:off x="538920" y="3933720"/>
              <a:ext cx="2282400" cy="2313000"/>
              <a:chOff x="538920" y="3933720"/>
              <a:chExt cx="2282400" cy="2313000"/>
            </a:xfrm>
          </p:grpSpPr>
          <p:pic>
            <p:nvPicPr>
              <p:cNvPr id="32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39640" y="3933720"/>
                <a:ext cx="2266920" cy="203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9" name=""/>
              <p:cNvSpPr/>
              <p:nvPr/>
            </p:nvSpPr>
            <p:spPr>
              <a:xfrm>
                <a:off x="538920" y="5878440"/>
                <a:ext cx="2282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000000"/>
                    </a:solidFill>
                    <a:latin typeface="ＭＳ Ｐ明朝"/>
                    <a:ea typeface="ＭＳ Ｐ明朝"/>
                  </a:rPr>
                  <a:t>compton scatter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3787200" y="4235400"/>
              <a:ext cx="4502880" cy="6426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Photons from compton scattering betw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quark and gluon in initial state of collision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900000" y="3789360"/>
            <a:ext cx="7057440" cy="2867760"/>
            <a:chOff x="900000" y="3789360"/>
            <a:chExt cx="7057440" cy="2867760"/>
          </a:xfrm>
        </p:grpSpPr>
        <p:pic>
          <p:nvPicPr>
            <p:cNvPr id="332" name="" descr=""/>
            <p:cNvPicPr/>
            <p:nvPr/>
          </p:nvPicPr>
          <p:blipFill>
            <a:blip r:embed="rId3"/>
            <a:stretch/>
          </p:blipFill>
          <p:spPr>
            <a:xfrm>
              <a:off x="4140000" y="3860640"/>
              <a:ext cx="1584360" cy="9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4208400" y="4808520"/>
              <a:ext cx="14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annihi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4" name="" descr=""/>
            <p:cNvPicPr/>
            <p:nvPr/>
          </p:nvPicPr>
          <p:blipFill>
            <a:blip r:embed="rId4"/>
            <a:stretch/>
          </p:blipFill>
          <p:spPr>
            <a:xfrm>
              <a:off x="5867280" y="3789360"/>
              <a:ext cx="15130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5675040" y="4808520"/>
              <a:ext cx="22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compton scatte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4665600" y="5168880"/>
              <a:ext cx="2664000" cy="1488240"/>
              <a:chOff x="4665600" y="5168880"/>
              <a:chExt cx="2664000" cy="1488240"/>
            </a:xfrm>
          </p:grpSpPr>
          <p:pic>
            <p:nvPicPr>
              <p:cNvPr id="33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665600" y="5168880"/>
                <a:ext cx="2664000" cy="112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8" name=""/>
              <p:cNvSpPr/>
              <p:nvPr/>
            </p:nvSpPr>
            <p:spPr>
              <a:xfrm>
                <a:off x="5385240" y="6288840"/>
                <a:ext cx="190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000000"/>
                    </a:solidFill>
                    <a:latin typeface="ＭＳ Ｐ明朝"/>
                    <a:ea typeface="ＭＳ Ｐ明朝"/>
                  </a:rPr>
                  <a:t>bremsstrahlu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900000" y="4149720"/>
              <a:ext cx="2160360" cy="1803240"/>
              <a:chOff x="900000" y="4149720"/>
              <a:chExt cx="2160360" cy="1803240"/>
            </a:xfrm>
          </p:grpSpPr>
          <p:sp>
            <p:nvSpPr>
              <p:cNvPr id="340" name=""/>
              <p:cNvSpPr/>
              <p:nvPr/>
            </p:nvSpPr>
            <p:spPr>
              <a:xfrm>
                <a:off x="1080000" y="4642200"/>
                <a:ext cx="1839240" cy="98424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755080" y="4656600"/>
                <a:ext cx="305280" cy="9831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00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900000" y="4618440"/>
                <a:ext cx="306360" cy="991080"/>
              </a:xfrm>
              <a:prstGeom prst="ellipse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bbe0e3"/>
                  </a:gs>
                </a:gsLst>
                <a:lin ang="10800000"/>
              </a:gradFill>
              <a:ln w="936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1981080" y="4687200"/>
                <a:ext cx="209880" cy="37620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2148120" y="4462560"/>
                <a:ext cx="663840" cy="15552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2148120" y="4149720"/>
                <a:ext cx="306360" cy="51768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1934640" y="4373280"/>
                <a:ext cx="212400" cy="266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764360" y="5583600"/>
                <a:ext cx="84960" cy="3128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1464480" y="5538240"/>
                <a:ext cx="255240" cy="41472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1336320" y="5538240"/>
                <a:ext cx="424800" cy="26928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806480" y="5000400"/>
                <a:ext cx="299520" cy="3135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166040" y="5135400"/>
                <a:ext cx="59832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2062440" y="5135400"/>
                <a:ext cx="64116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1721160" y="5218920"/>
                <a:ext cx="208800" cy="40896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"/>
          <p:cNvSpPr/>
          <p:nvPr/>
        </p:nvSpPr>
        <p:spPr>
          <a:xfrm>
            <a:off x="1129320" y="4724280"/>
            <a:ext cx="672336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Photons generated by hadron decay, too. pi0 or eta gener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from hottest matter after it expanded and cool d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When studying QGP by photon, these photons are back ground.</a:t>
            </a:r>
            <a:r>
              <a:rPr b="0" lang="ja-JP" sz="1800" spc="-1" strike="noStrike">
                <a:solidFill>
                  <a:srgbClr val="000000"/>
                </a:solidFill>
                <a:latin typeface="HGP明朝B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476360" y="4653000"/>
            <a:ext cx="5905440" cy="1081080"/>
            <a:chOff x="1476360" y="4653000"/>
            <a:chExt cx="5905440" cy="1081080"/>
          </a:xfrm>
        </p:grpSpPr>
        <p:sp>
          <p:nvSpPr>
            <p:cNvPr id="356" name=""/>
            <p:cNvSpPr/>
            <p:nvPr/>
          </p:nvSpPr>
          <p:spPr>
            <a:xfrm>
              <a:off x="1476360" y="4653000"/>
              <a:ext cx="5905440" cy="1081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547640" y="4726080"/>
              <a:ext cx="5761080" cy="936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 see the initial state used by photon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e need identified these photons.</a:t>
              </a:r>
              <a:r>
                <a:rPr b="1" lang="zh-CN" sz="1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79280" y="3860640"/>
            <a:ext cx="8785440" cy="2617920"/>
            <a:chOff x="179280" y="3860640"/>
            <a:chExt cx="8785440" cy="2617920"/>
          </a:xfrm>
        </p:grpSpPr>
        <p:grpSp>
          <p:nvGrpSpPr>
            <p:cNvPr id="359" name=""/>
            <p:cNvGrpSpPr/>
            <p:nvPr/>
          </p:nvGrpSpPr>
          <p:grpSpPr>
            <a:xfrm>
              <a:off x="5451480" y="3973320"/>
              <a:ext cx="2062080" cy="1368720"/>
              <a:chOff x="5451480" y="3973320"/>
              <a:chExt cx="2062080" cy="1368720"/>
            </a:xfrm>
          </p:grpSpPr>
          <p:sp>
            <p:nvSpPr>
              <p:cNvPr id="360" name=""/>
              <p:cNvSpPr/>
              <p:nvPr/>
            </p:nvSpPr>
            <p:spPr>
              <a:xfrm>
                <a:off x="5451480" y="4657320"/>
                <a:ext cx="206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6494400" y="3973320"/>
                <a:ext cx="0" cy="136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6357240" y="4364280"/>
                <a:ext cx="273600" cy="566640"/>
                <a:chOff x="6357240" y="4364280"/>
                <a:chExt cx="273600" cy="56664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6357240" y="4364640"/>
                  <a:ext cx="272880" cy="56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357240" y="4634640"/>
                  <a:ext cx="273600" cy="296280"/>
                </a:xfrm>
                <a:custGeom>
                  <a:avLst/>
                  <a:gdLst/>
                  <a:ahLst/>
                  <a:rect l="l" t="t" r="r" b="b"/>
                  <a:pathLst>
                    <a:path w="489" h="515">
                      <a:moveTo>
                        <a:pt x="13" y="46"/>
                      </a:moveTo>
                      <a:cubicBezTo>
                        <a:pt x="24" y="55"/>
                        <a:pt x="47" y="72"/>
                        <a:pt x="65" y="81"/>
                      </a:cubicBezTo>
                      <a:cubicBezTo>
                        <a:pt x="83" y="90"/>
                        <a:pt x="103" y="92"/>
                        <a:pt x="121" y="97"/>
                      </a:cubicBezTo>
                      <a:cubicBezTo>
                        <a:pt x="139" y="102"/>
                        <a:pt x="156" y="109"/>
                        <a:pt x="176" y="112"/>
                      </a:cubicBezTo>
                      <a:cubicBezTo>
                        <a:pt x="196" y="115"/>
                        <a:pt x="218" y="115"/>
                        <a:pt x="241" y="114"/>
                      </a:cubicBezTo>
                      <a:cubicBezTo>
                        <a:pt x="264" y="113"/>
                        <a:pt x="289" y="109"/>
                        <a:pt x="313" y="103"/>
                      </a:cubicBezTo>
                      <a:cubicBezTo>
                        <a:pt x="337" y="97"/>
                        <a:pt x="362" y="90"/>
                        <a:pt x="385" y="78"/>
                      </a:cubicBezTo>
                      <a:cubicBezTo>
                        <a:pt x="408" y="66"/>
                        <a:pt x="435" y="41"/>
                        <a:pt x="452" y="29"/>
                      </a:cubicBezTo>
                      <a:cubicBezTo>
                        <a:pt x="469" y="17"/>
                        <a:pt x="479" y="0"/>
                        <a:pt x="485" y="7"/>
                      </a:cubicBezTo>
                      <a:cubicBezTo>
                        <a:pt x="483" y="11"/>
                        <a:pt x="489" y="40"/>
                        <a:pt x="487" y="70"/>
                      </a:cubicBezTo>
                      <a:cubicBezTo>
                        <a:pt x="485" y="100"/>
                        <a:pt x="481" y="151"/>
                        <a:pt x="474" y="190"/>
                      </a:cubicBezTo>
                      <a:cubicBezTo>
                        <a:pt x="467" y="229"/>
                        <a:pt x="455" y="272"/>
                        <a:pt x="444" y="304"/>
                      </a:cubicBezTo>
                      <a:cubicBezTo>
                        <a:pt x="433" y="336"/>
                        <a:pt x="423" y="359"/>
                        <a:pt x="408" y="385"/>
                      </a:cubicBezTo>
                      <a:cubicBezTo>
                        <a:pt x="394" y="411"/>
                        <a:pt x="376" y="438"/>
                        <a:pt x="356" y="458"/>
                      </a:cubicBezTo>
                      <a:cubicBezTo>
                        <a:pt x="336" y="478"/>
                        <a:pt x="313" y="495"/>
                        <a:pt x="289" y="503"/>
                      </a:cubicBezTo>
                      <a:cubicBezTo>
                        <a:pt x="265" y="511"/>
                        <a:pt x="238" y="515"/>
                        <a:pt x="214" y="509"/>
                      </a:cubicBezTo>
                      <a:cubicBezTo>
                        <a:pt x="189" y="503"/>
                        <a:pt x="164" y="488"/>
                        <a:pt x="143" y="469"/>
                      </a:cubicBezTo>
                      <a:cubicBezTo>
                        <a:pt x="122" y="450"/>
                        <a:pt x="104" y="427"/>
                        <a:pt x="87" y="397"/>
                      </a:cubicBezTo>
                      <a:cubicBezTo>
                        <a:pt x="69" y="367"/>
                        <a:pt x="52" y="328"/>
                        <a:pt x="39" y="289"/>
                      </a:cubicBezTo>
                      <a:cubicBezTo>
                        <a:pt x="27" y="250"/>
                        <a:pt x="17" y="204"/>
                        <a:pt x="10" y="161"/>
                      </a:cubicBezTo>
                      <a:cubicBezTo>
                        <a:pt x="4" y="118"/>
                        <a:pt x="0" y="47"/>
                        <a:pt x="0" y="28"/>
                      </a:cubicBezTo>
                      <a:lnTo>
                        <a:pt x="13" y="46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357240" y="4635720"/>
                  <a:ext cx="272520" cy="63000"/>
                </a:xfrm>
                <a:custGeom>
                  <a:avLst/>
                  <a:gdLst/>
                  <a:ahLst/>
                  <a:rect l="l" t="t" r="r" b="b"/>
                  <a:pathLst>
                    <a:path w="979" h="257">
                      <a:moveTo>
                        <a:pt x="0" y="78"/>
                      </a:moveTo>
                      <a:cubicBezTo>
                        <a:pt x="17" y="92"/>
                        <a:pt x="57" y="134"/>
                        <a:pt x="101" y="160"/>
                      </a:cubicBezTo>
                      <a:cubicBezTo>
                        <a:pt x="145" y="186"/>
                        <a:pt x="213" y="216"/>
                        <a:pt x="263" y="232"/>
                      </a:cubicBezTo>
                      <a:cubicBezTo>
                        <a:pt x="313" y="248"/>
                        <a:pt x="347" y="255"/>
                        <a:pt x="404" y="256"/>
                      </a:cubicBezTo>
                      <a:cubicBezTo>
                        <a:pt x="461" y="257"/>
                        <a:pt x="542" y="254"/>
                        <a:pt x="608" y="238"/>
                      </a:cubicBezTo>
                      <a:cubicBezTo>
                        <a:pt x="674" y="222"/>
                        <a:pt x="738" y="200"/>
                        <a:pt x="800" y="160"/>
                      </a:cubicBezTo>
                      <a:cubicBezTo>
                        <a:pt x="862" y="120"/>
                        <a:pt x="942" y="33"/>
                        <a:pt x="979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17280" bIns="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357240" y="4364280"/>
                  <a:ext cx="272880" cy="564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" name=""/>
              <p:cNvSpPr/>
              <p:nvPr/>
            </p:nvSpPr>
            <p:spPr>
              <a:xfrm rot="16200000">
                <a:off x="6374880" y="4026240"/>
                <a:ext cx="250200" cy="339120"/>
              </a:xfrm>
              <a:custGeom>
                <a:avLst/>
                <a:gdLst>
                  <a:gd name="textAreaLeft" fmla="*/ 38880 w 250200"/>
                  <a:gd name="textAreaRight" fmla="*/ 210240 w 250200"/>
                  <a:gd name="textAreaTop" fmla="*/ 85320 h 339120"/>
                  <a:gd name="textAreaBottom" fmla="*/ 253800 h 33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35"/>
                    </a:moveTo>
                    <a:lnTo>
                      <a:pt x="14634" y="5435"/>
                    </a:lnTo>
                    <a:lnTo>
                      <a:pt x="14634" y="0"/>
                    </a:lnTo>
                    <a:lnTo>
                      <a:pt x="21600" y="10800"/>
                    </a:lnTo>
                    <a:lnTo>
                      <a:pt x="14634" y="21600"/>
                    </a:lnTo>
                    <a:lnTo>
                      <a:pt x="14634" y="16165"/>
                    </a:lnTo>
                    <a:lnTo>
                      <a:pt x="3375" y="16165"/>
                    </a:lnTo>
                    <a:close/>
                  </a:path>
                  <a:path w="21600" h="21600">
                    <a:moveTo>
                      <a:pt x="0" y="5435"/>
                    </a:moveTo>
                    <a:lnTo>
                      <a:pt x="675" y="5435"/>
                    </a:lnTo>
                    <a:lnTo>
                      <a:pt x="675" y="16165"/>
                    </a:lnTo>
                    <a:lnTo>
                      <a:pt x="0" y="16165"/>
                    </a:lnTo>
                    <a:close/>
                  </a:path>
                  <a:path w="21600" h="21600">
                    <a:moveTo>
                      <a:pt x="1350" y="5435"/>
                    </a:moveTo>
                    <a:lnTo>
                      <a:pt x="2700" y="5435"/>
                    </a:lnTo>
                    <a:lnTo>
                      <a:pt x="2700" y="16165"/>
                    </a:lnTo>
                    <a:lnTo>
                      <a:pt x="1350" y="16165"/>
                    </a:lnTo>
                    <a:close/>
                  </a:path>
                </a:pathLst>
              </a:cu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5400000">
                <a:off x="6375240" y="4955760"/>
                <a:ext cx="249840" cy="339120"/>
              </a:xfrm>
              <a:custGeom>
                <a:avLst/>
                <a:gdLst>
                  <a:gd name="textAreaLeft" fmla="*/ 38880 w 249840"/>
                  <a:gd name="textAreaRight" fmla="*/ 209880 w 249840"/>
                  <a:gd name="textAreaTop" fmla="*/ 85320 h 339120"/>
                  <a:gd name="textAreaBottom" fmla="*/ 253800 h 33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35"/>
                    </a:moveTo>
                    <a:lnTo>
                      <a:pt x="14634" y="5435"/>
                    </a:lnTo>
                    <a:lnTo>
                      <a:pt x="14634" y="0"/>
                    </a:lnTo>
                    <a:lnTo>
                      <a:pt x="21600" y="10800"/>
                    </a:lnTo>
                    <a:lnTo>
                      <a:pt x="14634" y="21600"/>
                    </a:lnTo>
                    <a:lnTo>
                      <a:pt x="14634" y="16165"/>
                    </a:lnTo>
                    <a:lnTo>
                      <a:pt x="3375" y="16165"/>
                    </a:lnTo>
                    <a:close/>
                  </a:path>
                  <a:path w="21600" h="21600">
                    <a:moveTo>
                      <a:pt x="0" y="5435"/>
                    </a:moveTo>
                    <a:lnTo>
                      <a:pt x="675" y="5435"/>
                    </a:lnTo>
                    <a:lnTo>
                      <a:pt x="675" y="16165"/>
                    </a:lnTo>
                    <a:lnTo>
                      <a:pt x="0" y="16165"/>
                    </a:lnTo>
                    <a:close/>
                  </a:path>
                  <a:path w="21600" h="21600">
                    <a:moveTo>
                      <a:pt x="1350" y="5435"/>
                    </a:moveTo>
                    <a:lnTo>
                      <a:pt x="2700" y="5435"/>
                    </a:lnTo>
                    <a:lnTo>
                      <a:pt x="2700" y="16165"/>
                    </a:lnTo>
                    <a:lnTo>
                      <a:pt x="1350" y="16165"/>
                    </a:lnTo>
                    <a:close/>
                  </a:path>
                </a:pathLst>
              </a:cu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8596800">
                <a:off x="5911560" y="4783680"/>
                <a:ext cx="358200" cy="329760"/>
              </a:xfrm>
              <a:custGeom>
                <a:avLst/>
                <a:gdLst>
                  <a:gd name="textAreaLeft" fmla="*/ 55800 w 358200"/>
                  <a:gd name="textAreaRight" fmla="*/ 300960 w 358200"/>
                  <a:gd name="textAreaTop" fmla="*/ 82800 h 329760"/>
                  <a:gd name="textAreaBottom" fmla="*/ 246960 h 329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35"/>
                    </a:moveTo>
                    <a:lnTo>
                      <a:pt x="14634" y="5435"/>
                    </a:lnTo>
                    <a:lnTo>
                      <a:pt x="14634" y="0"/>
                    </a:lnTo>
                    <a:lnTo>
                      <a:pt x="21600" y="10800"/>
                    </a:lnTo>
                    <a:lnTo>
                      <a:pt x="14634" y="21600"/>
                    </a:lnTo>
                    <a:lnTo>
                      <a:pt x="14634" y="16165"/>
                    </a:lnTo>
                    <a:lnTo>
                      <a:pt x="3375" y="16165"/>
                    </a:lnTo>
                    <a:close/>
                  </a:path>
                  <a:path w="21600" h="21600">
                    <a:moveTo>
                      <a:pt x="0" y="5435"/>
                    </a:moveTo>
                    <a:lnTo>
                      <a:pt x="675" y="5435"/>
                    </a:lnTo>
                    <a:lnTo>
                      <a:pt x="675" y="16165"/>
                    </a:lnTo>
                    <a:lnTo>
                      <a:pt x="0" y="16165"/>
                    </a:lnTo>
                    <a:close/>
                  </a:path>
                  <a:path w="21600" h="21600">
                    <a:moveTo>
                      <a:pt x="1350" y="5435"/>
                    </a:moveTo>
                    <a:lnTo>
                      <a:pt x="2700" y="5435"/>
                    </a:lnTo>
                    <a:lnTo>
                      <a:pt x="2700" y="16165"/>
                    </a:lnTo>
                    <a:lnTo>
                      <a:pt x="1350" y="16165"/>
                    </a:lnTo>
                    <a:close/>
                  </a:path>
                </a:pathLst>
              </a:cu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0800000">
                <a:off x="5601960" y="4485960"/>
                <a:ext cx="559800" cy="329760"/>
              </a:xfrm>
              <a:custGeom>
                <a:avLst/>
                <a:gdLst>
                  <a:gd name="textAreaLeft" fmla="*/ 87480 w 559800"/>
                  <a:gd name="textAreaRight" fmla="*/ 470160 w 559800"/>
                  <a:gd name="textAreaTop" fmla="*/ 82800 h 329760"/>
                  <a:gd name="textAreaBottom" fmla="*/ 246960 h 329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35"/>
                    </a:moveTo>
                    <a:lnTo>
                      <a:pt x="14634" y="5435"/>
                    </a:lnTo>
                    <a:lnTo>
                      <a:pt x="14634" y="0"/>
                    </a:lnTo>
                    <a:lnTo>
                      <a:pt x="21600" y="10800"/>
                    </a:lnTo>
                    <a:lnTo>
                      <a:pt x="14634" y="21600"/>
                    </a:lnTo>
                    <a:lnTo>
                      <a:pt x="14634" y="16165"/>
                    </a:lnTo>
                    <a:lnTo>
                      <a:pt x="3375" y="16165"/>
                    </a:lnTo>
                    <a:close/>
                  </a:path>
                  <a:path w="21600" h="21600">
                    <a:moveTo>
                      <a:pt x="0" y="5435"/>
                    </a:moveTo>
                    <a:lnTo>
                      <a:pt x="675" y="5435"/>
                    </a:lnTo>
                    <a:lnTo>
                      <a:pt x="675" y="16165"/>
                    </a:lnTo>
                    <a:lnTo>
                      <a:pt x="0" y="16165"/>
                    </a:lnTo>
                    <a:close/>
                  </a:path>
                  <a:path w="21600" h="21600">
                    <a:moveTo>
                      <a:pt x="1350" y="5435"/>
                    </a:moveTo>
                    <a:lnTo>
                      <a:pt x="2700" y="5435"/>
                    </a:lnTo>
                    <a:lnTo>
                      <a:pt x="2700" y="16165"/>
                    </a:lnTo>
                    <a:lnTo>
                      <a:pt x="1350" y="16165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3749600">
                <a:off x="5950440" y="4123800"/>
                <a:ext cx="347760" cy="339120"/>
              </a:xfrm>
              <a:custGeom>
                <a:avLst/>
                <a:gdLst>
                  <a:gd name="textAreaLeft" fmla="*/ 54360 w 347760"/>
                  <a:gd name="textAreaRight" fmla="*/ 292320 w 347760"/>
                  <a:gd name="textAreaTop" fmla="*/ 85320 h 339120"/>
                  <a:gd name="textAreaBottom" fmla="*/ 253800 h 33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35"/>
                    </a:moveTo>
                    <a:lnTo>
                      <a:pt x="14634" y="5435"/>
                    </a:lnTo>
                    <a:lnTo>
                      <a:pt x="14634" y="0"/>
                    </a:lnTo>
                    <a:lnTo>
                      <a:pt x="21600" y="10800"/>
                    </a:lnTo>
                    <a:lnTo>
                      <a:pt x="14634" y="21600"/>
                    </a:lnTo>
                    <a:lnTo>
                      <a:pt x="14634" y="16165"/>
                    </a:lnTo>
                    <a:lnTo>
                      <a:pt x="3375" y="16165"/>
                    </a:lnTo>
                    <a:close/>
                  </a:path>
                  <a:path w="21600" h="21600">
                    <a:moveTo>
                      <a:pt x="0" y="5435"/>
                    </a:moveTo>
                    <a:lnTo>
                      <a:pt x="675" y="5435"/>
                    </a:lnTo>
                    <a:lnTo>
                      <a:pt x="675" y="16165"/>
                    </a:lnTo>
                    <a:lnTo>
                      <a:pt x="0" y="16165"/>
                    </a:lnTo>
                    <a:close/>
                  </a:path>
                  <a:path w="21600" h="21600">
                    <a:moveTo>
                      <a:pt x="1350" y="5435"/>
                    </a:moveTo>
                    <a:lnTo>
                      <a:pt x="2700" y="5435"/>
                    </a:lnTo>
                    <a:lnTo>
                      <a:pt x="2700" y="16165"/>
                    </a:lnTo>
                    <a:lnTo>
                      <a:pt x="1350" y="16165"/>
                    </a:lnTo>
                    <a:close/>
                  </a:path>
                </a:pathLst>
              </a:cu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2495400">
                <a:off x="6708600" y="4803840"/>
                <a:ext cx="357840" cy="329400"/>
              </a:xfrm>
              <a:custGeom>
                <a:avLst/>
                <a:gdLst>
                  <a:gd name="textAreaLeft" fmla="*/ 55800 w 357840"/>
                  <a:gd name="textAreaRight" fmla="*/ 300600 w 357840"/>
                  <a:gd name="textAreaTop" fmla="*/ 82800 h 329400"/>
                  <a:gd name="textAreaBottom" fmla="*/ 246600 h 32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35"/>
                    </a:moveTo>
                    <a:lnTo>
                      <a:pt x="14634" y="5435"/>
                    </a:lnTo>
                    <a:lnTo>
                      <a:pt x="14634" y="0"/>
                    </a:lnTo>
                    <a:lnTo>
                      <a:pt x="21600" y="10800"/>
                    </a:lnTo>
                    <a:lnTo>
                      <a:pt x="14634" y="21600"/>
                    </a:lnTo>
                    <a:lnTo>
                      <a:pt x="14634" y="16165"/>
                    </a:lnTo>
                    <a:lnTo>
                      <a:pt x="3375" y="16165"/>
                    </a:lnTo>
                    <a:close/>
                  </a:path>
                  <a:path w="21600" h="21600">
                    <a:moveTo>
                      <a:pt x="0" y="5435"/>
                    </a:moveTo>
                    <a:lnTo>
                      <a:pt x="675" y="5435"/>
                    </a:lnTo>
                    <a:lnTo>
                      <a:pt x="675" y="16165"/>
                    </a:lnTo>
                    <a:lnTo>
                      <a:pt x="0" y="16165"/>
                    </a:lnTo>
                    <a:close/>
                  </a:path>
                  <a:path w="21600" h="21600">
                    <a:moveTo>
                      <a:pt x="1350" y="5435"/>
                    </a:moveTo>
                    <a:lnTo>
                      <a:pt x="2700" y="5435"/>
                    </a:lnTo>
                    <a:lnTo>
                      <a:pt x="2700" y="16165"/>
                    </a:lnTo>
                    <a:lnTo>
                      <a:pt x="1350" y="16165"/>
                    </a:lnTo>
                    <a:close/>
                  </a:path>
                </a:pathLst>
              </a:cu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9687800">
                <a:off x="6708600" y="4169160"/>
                <a:ext cx="357840" cy="329400"/>
              </a:xfrm>
              <a:custGeom>
                <a:avLst/>
                <a:gdLst>
                  <a:gd name="textAreaLeft" fmla="*/ 55800 w 357840"/>
                  <a:gd name="textAreaRight" fmla="*/ 300600 w 357840"/>
                  <a:gd name="textAreaTop" fmla="*/ 82800 h 329400"/>
                  <a:gd name="textAreaBottom" fmla="*/ 246600 h 32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35"/>
                    </a:moveTo>
                    <a:lnTo>
                      <a:pt x="14634" y="5435"/>
                    </a:lnTo>
                    <a:lnTo>
                      <a:pt x="14634" y="0"/>
                    </a:lnTo>
                    <a:lnTo>
                      <a:pt x="21600" y="10800"/>
                    </a:lnTo>
                    <a:lnTo>
                      <a:pt x="14634" y="21600"/>
                    </a:lnTo>
                    <a:lnTo>
                      <a:pt x="14634" y="16165"/>
                    </a:lnTo>
                    <a:lnTo>
                      <a:pt x="3375" y="16165"/>
                    </a:lnTo>
                    <a:close/>
                  </a:path>
                  <a:path w="21600" h="21600">
                    <a:moveTo>
                      <a:pt x="0" y="5435"/>
                    </a:moveTo>
                    <a:lnTo>
                      <a:pt x="675" y="5435"/>
                    </a:lnTo>
                    <a:lnTo>
                      <a:pt x="675" y="16165"/>
                    </a:lnTo>
                    <a:lnTo>
                      <a:pt x="0" y="16165"/>
                    </a:lnTo>
                    <a:close/>
                  </a:path>
                  <a:path w="21600" h="21600">
                    <a:moveTo>
                      <a:pt x="1350" y="5435"/>
                    </a:moveTo>
                    <a:lnTo>
                      <a:pt x="2700" y="5435"/>
                    </a:lnTo>
                    <a:lnTo>
                      <a:pt x="2700" y="16165"/>
                    </a:lnTo>
                    <a:lnTo>
                      <a:pt x="1350" y="16165"/>
                    </a:lnTo>
                    <a:close/>
                  </a:path>
                </a:pathLst>
              </a:cu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809400" y="4491360"/>
                <a:ext cx="559800" cy="329760"/>
              </a:xfrm>
              <a:custGeom>
                <a:avLst/>
                <a:gdLst>
                  <a:gd name="textAreaLeft" fmla="*/ 87480 w 559800"/>
                  <a:gd name="textAreaRight" fmla="*/ 470160 w 559800"/>
                  <a:gd name="textAreaTop" fmla="*/ 82800 h 329760"/>
                  <a:gd name="textAreaBottom" fmla="*/ 246960 h 329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35"/>
                    </a:moveTo>
                    <a:lnTo>
                      <a:pt x="14634" y="5435"/>
                    </a:lnTo>
                    <a:lnTo>
                      <a:pt x="14634" y="0"/>
                    </a:lnTo>
                    <a:lnTo>
                      <a:pt x="21600" y="10800"/>
                    </a:lnTo>
                    <a:lnTo>
                      <a:pt x="14634" y="21600"/>
                    </a:lnTo>
                    <a:lnTo>
                      <a:pt x="14634" y="16165"/>
                    </a:lnTo>
                    <a:lnTo>
                      <a:pt x="3375" y="16165"/>
                    </a:lnTo>
                    <a:close/>
                  </a:path>
                  <a:path w="21600" h="21600">
                    <a:moveTo>
                      <a:pt x="0" y="5435"/>
                    </a:moveTo>
                    <a:lnTo>
                      <a:pt x="675" y="5435"/>
                    </a:lnTo>
                    <a:lnTo>
                      <a:pt x="675" y="16165"/>
                    </a:lnTo>
                    <a:lnTo>
                      <a:pt x="0" y="16165"/>
                    </a:lnTo>
                    <a:close/>
                  </a:path>
                  <a:path w="21600" h="21600">
                    <a:moveTo>
                      <a:pt x="1350" y="5435"/>
                    </a:moveTo>
                    <a:lnTo>
                      <a:pt x="2700" y="5435"/>
                    </a:lnTo>
                    <a:lnTo>
                      <a:pt x="2700" y="16165"/>
                    </a:lnTo>
                    <a:lnTo>
                      <a:pt x="1350" y="16165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179280" y="5562720"/>
              <a:ext cx="8785440" cy="9158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Photons from thermal equilibrium stat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These photon have thermal information of initial stat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GP明朝B"/>
                </a:rPr>
                <a:t>And, these photons are important of studying expansion process about hottest matter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6" name="" descr=""/>
            <p:cNvPicPr/>
            <p:nvPr/>
          </p:nvPicPr>
          <p:blipFill>
            <a:blip r:embed="rId6"/>
            <a:stretch/>
          </p:blipFill>
          <p:spPr>
            <a:xfrm>
              <a:off x="933480" y="3860640"/>
              <a:ext cx="3457440" cy="159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FEA0-97C6-4872-8856-7FA8933167D5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/Mar/2006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725760" y="285840"/>
            <a:ext cx="51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Ex. Introduction </a:t>
            </a:r>
            <a:r>
              <a:rPr b="0" lang="en-US" sz="24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~ elliptic flow ~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  <a:ea typeface="HG創英角ﾎﾟｯﾌﾟ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9280" y="907920"/>
            <a:ext cx="4537080" cy="505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0920" y="981000"/>
            <a:ext cx="43923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直接光子の楕円的方位角異方性を測る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324000" y="2133720"/>
            <a:ext cx="2160360" cy="1677240"/>
            <a:chOff x="324000" y="2133720"/>
            <a:chExt cx="2160360" cy="1677240"/>
          </a:xfrm>
        </p:grpSpPr>
        <p:sp>
          <p:nvSpPr>
            <p:cNvPr id="381" name=""/>
            <p:cNvSpPr/>
            <p:nvPr/>
          </p:nvSpPr>
          <p:spPr>
            <a:xfrm rot="10800000">
              <a:off x="1937880" y="2133720"/>
              <a:ext cx="237600" cy="199440"/>
            </a:xfrm>
            <a:custGeom>
              <a:avLst/>
              <a:gdLst/>
              <a:ahLst/>
              <a:rect l="l" t="t" r="r" b="b"/>
              <a:pathLst>
                <a:path w="720" h="622">
                  <a:moveTo>
                    <a:pt x="430" y="0"/>
                  </a:moveTo>
                  <a:lnTo>
                    <a:pt x="177" y="379"/>
                  </a:lnTo>
                  <a:lnTo>
                    <a:pt x="0" y="379"/>
                  </a:lnTo>
                  <a:lnTo>
                    <a:pt x="168" y="622"/>
                  </a:lnTo>
                  <a:lnTo>
                    <a:pt x="631" y="379"/>
                  </a:lnTo>
                  <a:lnTo>
                    <a:pt x="465" y="382"/>
                  </a:lnTo>
                  <a:lnTo>
                    <a:pt x="72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711360" y="2342520"/>
              <a:ext cx="412560" cy="5918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910800" y="2342520"/>
              <a:ext cx="405720" cy="5835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38240" y="2467440"/>
              <a:ext cx="136116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6200" y="3087000"/>
              <a:ext cx="95616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24000" y="2340360"/>
              <a:ext cx="2160360" cy="1150200"/>
            </a:xfrm>
            <a:prstGeom prst="parallelogram">
              <a:avLst>
                <a:gd name="adj" fmla="val 69686"/>
              </a:avLst>
            </a:prstGeom>
            <a:noFill/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324000" y="3241800"/>
              <a:ext cx="172800" cy="2498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007280" y="2342520"/>
              <a:ext cx="501480" cy="7214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 rot="10800000">
              <a:off x="986400" y="2994120"/>
              <a:ext cx="167760" cy="460080"/>
            </a:xfrm>
            <a:custGeom>
              <a:avLst/>
              <a:gdLst/>
              <a:ahLst/>
              <a:rect l="l" t="t" r="r" b="b"/>
              <a:pathLst>
                <a:path w="252" h="715">
                  <a:moveTo>
                    <a:pt x="84" y="643"/>
                  </a:moveTo>
                  <a:cubicBezTo>
                    <a:pt x="64" y="611"/>
                    <a:pt x="38" y="568"/>
                    <a:pt x="24" y="519"/>
                  </a:cubicBezTo>
                  <a:cubicBezTo>
                    <a:pt x="10" y="470"/>
                    <a:pt x="0" y="403"/>
                    <a:pt x="1" y="351"/>
                  </a:cubicBezTo>
                  <a:cubicBezTo>
                    <a:pt x="2" y="299"/>
                    <a:pt x="14" y="251"/>
                    <a:pt x="30" y="205"/>
                  </a:cubicBezTo>
                  <a:cubicBezTo>
                    <a:pt x="46" y="159"/>
                    <a:pt x="77" y="106"/>
                    <a:pt x="100" y="73"/>
                  </a:cubicBezTo>
                  <a:cubicBezTo>
                    <a:pt x="123" y="40"/>
                    <a:pt x="163" y="0"/>
                    <a:pt x="166" y="4"/>
                  </a:cubicBezTo>
                  <a:cubicBezTo>
                    <a:pt x="198" y="57"/>
                    <a:pt x="212" y="120"/>
                    <a:pt x="225" y="171"/>
                  </a:cubicBezTo>
                  <a:cubicBezTo>
                    <a:pt x="239" y="226"/>
                    <a:pt x="246" y="280"/>
                    <a:pt x="249" y="337"/>
                  </a:cubicBezTo>
                  <a:cubicBezTo>
                    <a:pt x="252" y="394"/>
                    <a:pt x="249" y="464"/>
                    <a:pt x="241" y="514"/>
                  </a:cubicBezTo>
                  <a:cubicBezTo>
                    <a:pt x="233" y="564"/>
                    <a:pt x="216" y="603"/>
                    <a:pt x="199" y="636"/>
                  </a:cubicBezTo>
                  <a:cubicBezTo>
                    <a:pt x="182" y="669"/>
                    <a:pt x="142" y="715"/>
                    <a:pt x="142" y="712"/>
                  </a:cubicBezTo>
                  <a:cubicBezTo>
                    <a:pt x="142" y="711"/>
                    <a:pt x="104" y="675"/>
                    <a:pt x="84" y="643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896040" y="2957760"/>
              <a:ext cx="370440" cy="5288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18480" y="3503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78760" y="2289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1559160" y="2233800"/>
              <a:ext cx="685440" cy="645120"/>
              <a:chOff x="1559160" y="2233800"/>
              <a:chExt cx="685440" cy="645120"/>
            </a:xfrm>
          </p:grpSpPr>
          <p:grpSp>
            <p:nvGrpSpPr>
              <p:cNvPr id="394" name=""/>
              <p:cNvGrpSpPr/>
              <p:nvPr/>
            </p:nvGrpSpPr>
            <p:grpSpPr>
              <a:xfrm>
                <a:off x="1559160" y="2233800"/>
                <a:ext cx="685440" cy="645120"/>
                <a:chOff x="1559160" y="2233800"/>
                <a:chExt cx="685440" cy="6451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1574280" y="2234520"/>
                  <a:ext cx="655200" cy="63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574280" y="2233800"/>
                  <a:ext cx="655200" cy="633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559160" y="2491560"/>
                  <a:ext cx="685440" cy="387360"/>
                </a:xfrm>
                <a:custGeom>
                  <a:avLst/>
                  <a:gdLst/>
                  <a:ahLst/>
                  <a:rect l="l" t="t" r="r" b="b"/>
                  <a:pathLst>
                    <a:path w="1026" h="600">
                      <a:moveTo>
                        <a:pt x="43" y="123"/>
                      </a:moveTo>
                      <a:cubicBezTo>
                        <a:pt x="61" y="136"/>
                        <a:pt x="84" y="160"/>
                        <a:pt x="120" y="181"/>
                      </a:cubicBezTo>
                      <a:cubicBezTo>
                        <a:pt x="156" y="202"/>
                        <a:pt x="210" y="233"/>
                        <a:pt x="262" y="250"/>
                      </a:cubicBezTo>
                      <a:cubicBezTo>
                        <a:pt x="314" y="267"/>
                        <a:pt x="370" y="279"/>
                        <a:pt x="432" y="280"/>
                      </a:cubicBezTo>
                      <a:cubicBezTo>
                        <a:pt x="494" y="281"/>
                        <a:pt x="573" y="272"/>
                        <a:pt x="634" y="259"/>
                      </a:cubicBezTo>
                      <a:cubicBezTo>
                        <a:pt x="695" y="246"/>
                        <a:pt x="749" y="229"/>
                        <a:pt x="799" y="201"/>
                      </a:cubicBezTo>
                      <a:cubicBezTo>
                        <a:pt x="849" y="173"/>
                        <a:pt x="899" y="122"/>
                        <a:pt x="937" y="90"/>
                      </a:cubicBezTo>
                      <a:cubicBezTo>
                        <a:pt x="975" y="58"/>
                        <a:pt x="1012" y="0"/>
                        <a:pt x="1026" y="9"/>
                      </a:cubicBezTo>
                      <a:cubicBezTo>
                        <a:pt x="1021" y="13"/>
                        <a:pt x="1025" y="101"/>
                        <a:pt x="1019" y="144"/>
                      </a:cubicBezTo>
                      <a:cubicBezTo>
                        <a:pt x="1013" y="187"/>
                        <a:pt x="1007" y="227"/>
                        <a:pt x="992" y="267"/>
                      </a:cubicBezTo>
                      <a:cubicBezTo>
                        <a:pt x="978" y="307"/>
                        <a:pt x="952" y="351"/>
                        <a:pt x="929" y="384"/>
                      </a:cubicBezTo>
                      <a:cubicBezTo>
                        <a:pt x="907" y="417"/>
                        <a:pt x="886" y="440"/>
                        <a:pt x="857" y="467"/>
                      </a:cubicBezTo>
                      <a:cubicBezTo>
                        <a:pt x="827" y="493"/>
                        <a:pt x="790" y="521"/>
                        <a:pt x="749" y="542"/>
                      </a:cubicBezTo>
                      <a:cubicBezTo>
                        <a:pt x="708" y="562"/>
                        <a:pt x="659" y="580"/>
                        <a:pt x="610" y="588"/>
                      </a:cubicBezTo>
                      <a:cubicBezTo>
                        <a:pt x="561" y="596"/>
                        <a:pt x="505" y="600"/>
                        <a:pt x="455" y="594"/>
                      </a:cubicBezTo>
                      <a:cubicBezTo>
                        <a:pt x="404" y="588"/>
                        <a:pt x="353" y="572"/>
                        <a:pt x="310" y="553"/>
                      </a:cubicBezTo>
                      <a:cubicBezTo>
                        <a:pt x="267" y="533"/>
                        <a:pt x="229" y="510"/>
                        <a:pt x="193" y="479"/>
                      </a:cubicBezTo>
                      <a:cubicBezTo>
                        <a:pt x="157" y="448"/>
                        <a:pt x="121" y="408"/>
                        <a:pt x="95" y="368"/>
                      </a:cubicBezTo>
                      <a:cubicBezTo>
                        <a:pt x="69" y="328"/>
                        <a:pt x="52" y="286"/>
                        <a:pt x="36" y="237"/>
                      </a:cubicBezTo>
                      <a:cubicBezTo>
                        <a:pt x="20" y="188"/>
                        <a:pt x="0" y="92"/>
                        <a:pt x="1" y="73"/>
                      </a:cubicBezTo>
                      <a:lnTo>
                        <a:pt x="43" y="123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1574280" y="2507400"/>
                  <a:ext cx="654120" cy="165600"/>
                </a:xfrm>
                <a:custGeom>
                  <a:avLst/>
                  <a:gdLst/>
                  <a:ahLst/>
                  <a:rect l="l" t="t" r="r" b="b"/>
                  <a:pathLst>
                    <a:path w="979" h="257">
                      <a:moveTo>
                        <a:pt x="0" y="78"/>
                      </a:moveTo>
                      <a:cubicBezTo>
                        <a:pt x="17" y="92"/>
                        <a:pt x="57" y="134"/>
                        <a:pt x="101" y="160"/>
                      </a:cubicBezTo>
                      <a:cubicBezTo>
                        <a:pt x="145" y="186"/>
                        <a:pt x="213" y="216"/>
                        <a:pt x="263" y="232"/>
                      </a:cubicBezTo>
                      <a:cubicBezTo>
                        <a:pt x="313" y="248"/>
                        <a:pt x="347" y="255"/>
                        <a:pt x="404" y="256"/>
                      </a:cubicBezTo>
                      <a:cubicBezTo>
                        <a:pt x="461" y="257"/>
                        <a:pt x="542" y="254"/>
                        <a:pt x="608" y="238"/>
                      </a:cubicBezTo>
                      <a:cubicBezTo>
                        <a:pt x="674" y="222"/>
                        <a:pt x="738" y="200"/>
                        <a:pt x="800" y="160"/>
                      </a:cubicBezTo>
                      <a:cubicBezTo>
                        <a:pt x="862" y="120"/>
                        <a:pt x="942" y="33"/>
                        <a:pt x="979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9" name=""/>
              <p:cNvSpPr/>
              <p:nvPr/>
            </p:nvSpPr>
            <p:spPr>
              <a:xfrm>
                <a:off x="1571040" y="2322360"/>
                <a:ext cx="168120" cy="461520"/>
              </a:xfrm>
              <a:custGeom>
                <a:avLst/>
                <a:gdLst/>
                <a:ahLst/>
                <a:rect l="l" t="t" r="r" b="b"/>
                <a:pathLst>
                  <a:path w="252" h="715">
                    <a:moveTo>
                      <a:pt x="84" y="643"/>
                    </a:moveTo>
                    <a:cubicBezTo>
                      <a:pt x="64" y="611"/>
                      <a:pt x="38" y="568"/>
                      <a:pt x="24" y="519"/>
                    </a:cubicBezTo>
                    <a:cubicBezTo>
                      <a:pt x="10" y="470"/>
                      <a:pt x="0" y="403"/>
                      <a:pt x="1" y="351"/>
                    </a:cubicBezTo>
                    <a:cubicBezTo>
                      <a:pt x="2" y="299"/>
                      <a:pt x="14" y="251"/>
                      <a:pt x="30" y="205"/>
                    </a:cubicBezTo>
                    <a:cubicBezTo>
                      <a:pt x="46" y="159"/>
                      <a:pt x="77" y="106"/>
                      <a:pt x="100" y="73"/>
                    </a:cubicBezTo>
                    <a:cubicBezTo>
                      <a:pt x="123" y="40"/>
                      <a:pt x="163" y="0"/>
                      <a:pt x="166" y="4"/>
                    </a:cubicBezTo>
                    <a:cubicBezTo>
                      <a:pt x="198" y="57"/>
                      <a:pt x="212" y="120"/>
                      <a:pt x="225" y="171"/>
                    </a:cubicBezTo>
                    <a:cubicBezTo>
                      <a:pt x="239" y="226"/>
                      <a:pt x="246" y="280"/>
                      <a:pt x="249" y="337"/>
                    </a:cubicBezTo>
                    <a:cubicBezTo>
                      <a:pt x="252" y="394"/>
                      <a:pt x="249" y="464"/>
                      <a:pt x="241" y="514"/>
                    </a:cubicBezTo>
                    <a:cubicBezTo>
                      <a:pt x="233" y="564"/>
                      <a:pt x="216" y="603"/>
                      <a:pt x="199" y="636"/>
                    </a:cubicBezTo>
                    <a:cubicBezTo>
                      <a:pt x="182" y="669"/>
                      <a:pt x="142" y="715"/>
                      <a:pt x="142" y="712"/>
                    </a:cubicBezTo>
                    <a:cubicBezTo>
                      <a:pt x="142" y="711"/>
                      <a:pt x="104" y="675"/>
                      <a:pt x="84" y="6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1133280" y="2340360"/>
              <a:ext cx="5608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338480" y="2467440"/>
              <a:ext cx="40176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50760" y="2590200"/>
              <a:ext cx="79632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1528920" y="2543040"/>
              <a:ext cx="216720" cy="3117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63640" y="2715120"/>
              <a:ext cx="136260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899280" y="2340360"/>
              <a:ext cx="796320" cy="11440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77600" y="2839320"/>
              <a:ext cx="136116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1204920" y="2594160"/>
              <a:ext cx="326520" cy="635400"/>
              <a:chOff x="1204920" y="2594160"/>
              <a:chExt cx="326520" cy="635400"/>
            </a:xfrm>
          </p:grpSpPr>
          <p:sp>
            <p:nvSpPr>
              <p:cNvPr id="408" name=""/>
              <p:cNvSpPr/>
              <p:nvPr/>
            </p:nvSpPr>
            <p:spPr>
              <a:xfrm>
                <a:off x="1204920" y="2594520"/>
                <a:ext cx="325800" cy="632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204920" y="2897280"/>
                <a:ext cx="326520" cy="332280"/>
              </a:xfrm>
              <a:custGeom>
                <a:avLst/>
                <a:gdLst/>
                <a:ahLst/>
                <a:rect l="l" t="t" r="r" b="b"/>
                <a:pathLst>
                  <a:path w="489" h="515">
                    <a:moveTo>
                      <a:pt x="13" y="46"/>
                    </a:moveTo>
                    <a:cubicBezTo>
                      <a:pt x="24" y="55"/>
                      <a:pt x="47" y="72"/>
                      <a:pt x="65" y="81"/>
                    </a:cubicBezTo>
                    <a:cubicBezTo>
                      <a:pt x="83" y="90"/>
                      <a:pt x="103" y="92"/>
                      <a:pt x="121" y="97"/>
                    </a:cubicBezTo>
                    <a:cubicBezTo>
                      <a:pt x="139" y="102"/>
                      <a:pt x="156" y="109"/>
                      <a:pt x="176" y="112"/>
                    </a:cubicBezTo>
                    <a:cubicBezTo>
                      <a:pt x="196" y="115"/>
                      <a:pt x="218" y="115"/>
                      <a:pt x="241" y="114"/>
                    </a:cubicBezTo>
                    <a:cubicBezTo>
                      <a:pt x="264" y="113"/>
                      <a:pt x="289" y="109"/>
                      <a:pt x="313" y="103"/>
                    </a:cubicBezTo>
                    <a:cubicBezTo>
                      <a:pt x="337" y="97"/>
                      <a:pt x="362" y="90"/>
                      <a:pt x="385" y="78"/>
                    </a:cubicBezTo>
                    <a:cubicBezTo>
                      <a:pt x="408" y="66"/>
                      <a:pt x="435" y="41"/>
                      <a:pt x="452" y="29"/>
                    </a:cubicBezTo>
                    <a:cubicBezTo>
                      <a:pt x="469" y="17"/>
                      <a:pt x="479" y="0"/>
                      <a:pt x="485" y="7"/>
                    </a:cubicBezTo>
                    <a:cubicBezTo>
                      <a:pt x="483" y="11"/>
                      <a:pt x="489" y="40"/>
                      <a:pt x="487" y="70"/>
                    </a:cubicBezTo>
                    <a:cubicBezTo>
                      <a:pt x="485" y="100"/>
                      <a:pt x="481" y="151"/>
                      <a:pt x="474" y="190"/>
                    </a:cubicBezTo>
                    <a:cubicBezTo>
                      <a:pt x="467" y="229"/>
                      <a:pt x="455" y="272"/>
                      <a:pt x="444" y="304"/>
                    </a:cubicBezTo>
                    <a:cubicBezTo>
                      <a:pt x="433" y="336"/>
                      <a:pt x="423" y="359"/>
                      <a:pt x="408" y="385"/>
                    </a:cubicBezTo>
                    <a:cubicBezTo>
                      <a:pt x="394" y="411"/>
                      <a:pt x="376" y="438"/>
                      <a:pt x="356" y="458"/>
                    </a:cubicBezTo>
                    <a:cubicBezTo>
                      <a:pt x="336" y="478"/>
                      <a:pt x="313" y="495"/>
                      <a:pt x="289" y="503"/>
                    </a:cubicBezTo>
                    <a:cubicBezTo>
                      <a:pt x="265" y="511"/>
                      <a:pt x="238" y="515"/>
                      <a:pt x="214" y="509"/>
                    </a:cubicBezTo>
                    <a:cubicBezTo>
                      <a:pt x="189" y="503"/>
                      <a:pt x="164" y="488"/>
                      <a:pt x="143" y="469"/>
                    </a:cubicBezTo>
                    <a:cubicBezTo>
                      <a:pt x="122" y="450"/>
                      <a:pt x="104" y="427"/>
                      <a:pt x="87" y="397"/>
                    </a:cubicBezTo>
                    <a:cubicBezTo>
                      <a:pt x="69" y="367"/>
                      <a:pt x="52" y="328"/>
                      <a:pt x="39" y="289"/>
                    </a:cubicBezTo>
                    <a:cubicBezTo>
                      <a:pt x="27" y="250"/>
                      <a:pt x="17" y="204"/>
                      <a:pt x="10" y="161"/>
                    </a:cubicBezTo>
                    <a:cubicBezTo>
                      <a:pt x="4" y="118"/>
                      <a:pt x="0" y="47"/>
                      <a:pt x="0" y="28"/>
                    </a:cubicBezTo>
                    <a:lnTo>
                      <a:pt x="13" y="4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204920" y="2898720"/>
                <a:ext cx="325080" cy="70920"/>
              </a:xfrm>
              <a:custGeom>
                <a:avLst/>
                <a:gdLst/>
                <a:ahLst/>
                <a:rect l="l" t="t" r="r" b="b"/>
                <a:pathLst>
                  <a:path w="979" h="257">
                    <a:moveTo>
                      <a:pt x="0" y="78"/>
                    </a:moveTo>
                    <a:cubicBezTo>
                      <a:pt x="17" y="92"/>
                      <a:pt x="57" y="134"/>
                      <a:pt x="101" y="160"/>
                    </a:cubicBezTo>
                    <a:cubicBezTo>
                      <a:pt x="145" y="186"/>
                      <a:pt x="213" y="216"/>
                      <a:pt x="263" y="232"/>
                    </a:cubicBezTo>
                    <a:cubicBezTo>
                      <a:pt x="313" y="248"/>
                      <a:pt x="347" y="255"/>
                      <a:pt x="404" y="256"/>
                    </a:cubicBezTo>
                    <a:cubicBezTo>
                      <a:pt x="461" y="257"/>
                      <a:pt x="542" y="254"/>
                      <a:pt x="608" y="238"/>
                    </a:cubicBezTo>
                    <a:cubicBezTo>
                      <a:pt x="674" y="222"/>
                      <a:pt x="738" y="200"/>
                      <a:pt x="800" y="160"/>
                    </a:cubicBezTo>
                    <a:cubicBezTo>
                      <a:pt x="862" y="120"/>
                      <a:pt x="942" y="33"/>
                      <a:pt x="979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5200" bIns="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204920" y="2594160"/>
                <a:ext cx="325800" cy="6328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 flipH="1">
              <a:off x="1483920" y="2628000"/>
              <a:ext cx="597600" cy="8589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1292040" y="2676240"/>
              <a:ext cx="563400" cy="8085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25960" y="2962800"/>
              <a:ext cx="6256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1065960" y="2273760"/>
              <a:ext cx="104400" cy="14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1087920" y="2946960"/>
              <a:ext cx="378360" cy="5436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1175760" y="2956320"/>
              <a:ext cx="92160" cy="1328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65160" y="2962800"/>
              <a:ext cx="31860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490320" y="2911680"/>
              <a:ext cx="678600" cy="645120"/>
              <a:chOff x="490320" y="2911680"/>
              <a:chExt cx="678600" cy="645120"/>
            </a:xfrm>
          </p:grpSpPr>
          <p:sp>
            <p:nvSpPr>
              <p:cNvPr id="420" name=""/>
              <p:cNvSpPr/>
              <p:nvPr/>
            </p:nvSpPr>
            <p:spPr>
              <a:xfrm>
                <a:off x="499680" y="2912400"/>
                <a:ext cx="654840" cy="632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98240" y="2911680"/>
                <a:ext cx="654840" cy="632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90320" y="3174120"/>
                <a:ext cx="678600" cy="382680"/>
              </a:xfrm>
              <a:custGeom>
                <a:avLst/>
                <a:gdLst/>
                <a:ahLst/>
                <a:rect l="l" t="t" r="r" b="b"/>
                <a:pathLst>
                  <a:path w="982" h="568">
                    <a:moveTo>
                      <a:pt x="22" y="106"/>
                    </a:moveTo>
                    <a:cubicBezTo>
                      <a:pt x="39" y="120"/>
                      <a:pt x="60" y="144"/>
                      <a:pt x="100" y="166"/>
                    </a:cubicBezTo>
                    <a:cubicBezTo>
                      <a:pt x="140" y="188"/>
                      <a:pt x="212" y="222"/>
                      <a:pt x="262" y="238"/>
                    </a:cubicBezTo>
                    <a:cubicBezTo>
                      <a:pt x="312" y="254"/>
                      <a:pt x="346" y="261"/>
                      <a:pt x="403" y="262"/>
                    </a:cubicBezTo>
                    <a:cubicBezTo>
                      <a:pt x="460" y="263"/>
                      <a:pt x="546" y="257"/>
                      <a:pt x="607" y="244"/>
                    </a:cubicBezTo>
                    <a:cubicBezTo>
                      <a:pt x="668" y="231"/>
                      <a:pt x="719" y="210"/>
                      <a:pt x="769" y="183"/>
                    </a:cubicBezTo>
                    <a:cubicBezTo>
                      <a:pt x="819" y="156"/>
                      <a:pt x="872" y="111"/>
                      <a:pt x="907" y="82"/>
                    </a:cubicBezTo>
                    <a:cubicBezTo>
                      <a:pt x="942" y="53"/>
                      <a:pt x="966" y="0"/>
                      <a:pt x="978" y="7"/>
                    </a:cubicBezTo>
                    <a:cubicBezTo>
                      <a:pt x="973" y="11"/>
                      <a:pt x="982" y="84"/>
                      <a:pt x="978" y="123"/>
                    </a:cubicBezTo>
                    <a:cubicBezTo>
                      <a:pt x="974" y="162"/>
                      <a:pt x="966" y="204"/>
                      <a:pt x="952" y="243"/>
                    </a:cubicBezTo>
                    <a:cubicBezTo>
                      <a:pt x="938" y="282"/>
                      <a:pt x="913" y="325"/>
                      <a:pt x="891" y="357"/>
                    </a:cubicBezTo>
                    <a:cubicBezTo>
                      <a:pt x="869" y="389"/>
                      <a:pt x="849" y="412"/>
                      <a:pt x="820" y="438"/>
                    </a:cubicBezTo>
                    <a:cubicBezTo>
                      <a:pt x="791" y="464"/>
                      <a:pt x="755" y="491"/>
                      <a:pt x="715" y="511"/>
                    </a:cubicBezTo>
                    <a:cubicBezTo>
                      <a:pt x="675" y="531"/>
                      <a:pt x="628" y="548"/>
                      <a:pt x="580" y="556"/>
                    </a:cubicBezTo>
                    <a:cubicBezTo>
                      <a:pt x="532" y="564"/>
                      <a:pt x="478" y="568"/>
                      <a:pt x="429" y="562"/>
                    </a:cubicBezTo>
                    <a:cubicBezTo>
                      <a:pt x="380" y="556"/>
                      <a:pt x="330" y="541"/>
                      <a:pt x="288" y="522"/>
                    </a:cubicBezTo>
                    <a:cubicBezTo>
                      <a:pt x="246" y="503"/>
                      <a:pt x="209" y="480"/>
                      <a:pt x="174" y="450"/>
                    </a:cubicBezTo>
                    <a:cubicBezTo>
                      <a:pt x="139" y="420"/>
                      <a:pt x="104" y="381"/>
                      <a:pt x="79" y="342"/>
                    </a:cubicBezTo>
                    <a:cubicBezTo>
                      <a:pt x="54" y="303"/>
                      <a:pt x="34" y="257"/>
                      <a:pt x="21" y="214"/>
                    </a:cubicBezTo>
                    <a:cubicBezTo>
                      <a:pt x="8" y="171"/>
                      <a:pt x="0" y="99"/>
                      <a:pt x="0" y="81"/>
                    </a:cubicBezTo>
                    <a:lnTo>
                      <a:pt x="22" y="10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 rot="10800000">
                <a:off x="987120" y="2988000"/>
                <a:ext cx="168480" cy="461160"/>
              </a:xfrm>
              <a:custGeom>
                <a:avLst/>
                <a:gdLst/>
                <a:ahLst/>
                <a:rect l="l" t="t" r="r" b="b"/>
                <a:pathLst>
                  <a:path w="252" h="715">
                    <a:moveTo>
                      <a:pt x="84" y="643"/>
                    </a:moveTo>
                    <a:cubicBezTo>
                      <a:pt x="64" y="611"/>
                      <a:pt x="38" y="568"/>
                      <a:pt x="24" y="519"/>
                    </a:cubicBezTo>
                    <a:cubicBezTo>
                      <a:pt x="10" y="470"/>
                      <a:pt x="0" y="403"/>
                      <a:pt x="1" y="351"/>
                    </a:cubicBezTo>
                    <a:cubicBezTo>
                      <a:pt x="2" y="299"/>
                      <a:pt x="14" y="251"/>
                      <a:pt x="30" y="205"/>
                    </a:cubicBezTo>
                    <a:cubicBezTo>
                      <a:pt x="46" y="159"/>
                      <a:pt x="77" y="106"/>
                      <a:pt x="100" y="73"/>
                    </a:cubicBezTo>
                    <a:cubicBezTo>
                      <a:pt x="123" y="40"/>
                      <a:pt x="163" y="0"/>
                      <a:pt x="166" y="4"/>
                    </a:cubicBezTo>
                    <a:cubicBezTo>
                      <a:pt x="198" y="57"/>
                      <a:pt x="212" y="120"/>
                      <a:pt x="225" y="171"/>
                    </a:cubicBezTo>
                    <a:cubicBezTo>
                      <a:pt x="239" y="226"/>
                      <a:pt x="246" y="280"/>
                      <a:pt x="249" y="337"/>
                    </a:cubicBezTo>
                    <a:cubicBezTo>
                      <a:pt x="252" y="394"/>
                      <a:pt x="249" y="464"/>
                      <a:pt x="241" y="514"/>
                    </a:cubicBezTo>
                    <a:cubicBezTo>
                      <a:pt x="233" y="564"/>
                      <a:pt x="216" y="603"/>
                      <a:pt x="199" y="636"/>
                    </a:cubicBezTo>
                    <a:cubicBezTo>
                      <a:pt x="182" y="669"/>
                      <a:pt x="142" y="715"/>
                      <a:pt x="142" y="712"/>
                    </a:cubicBezTo>
                    <a:cubicBezTo>
                      <a:pt x="142" y="711"/>
                      <a:pt x="104" y="675"/>
                      <a:pt x="84" y="6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971280" y="2985840"/>
                <a:ext cx="75960" cy="469440"/>
              </a:xfrm>
              <a:custGeom>
                <a:avLst/>
                <a:gdLst/>
                <a:ahLst/>
                <a:rect l="l" t="t" r="r" b="b"/>
                <a:pathLst>
                  <a:path w="114" h="728">
                    <a:moveTo>
                      <a:pt x="90" y="621"/>
                    </a:moveTo>
                    <a:cubicBezTo>
                      <a:pt x="86" y="592"/>
                      <a:pt x="86" y="572"/>
                      <a:pt x="84" y="540"/>
                    </a:cubicBezTo>
                    <a:cubicBezTo>
                      <a:pt x="82" y="508"/>
                      <a:pt x="78" y="467"/>
                      <a:pt x="78" y="426"/>
                    </a:cubicBezTo>
                    <a:cubicBezTo>
                      <a:pt x="78" y="385"/>
                      <a:pt x="80" y="339"/>
                      <a:pt x="81" y="291"/>
                    </a:cubicBezTo>
                    <a:cubicBezTo>
                      <a:pt x="82" y="243"/>
                      <a:pt x="83" y="185"/>
                      <a:pt x="84" y="138"/>
                    </a:cubicBezTo>
                    <a:cubicBezTo>
                      <a:pt x="85" y="91"/>
                      <a:pt x="95" y="0"/>
                      <a:pt x="86" y="6"/>
                    </a:cubicBezTo>
                    <a:cubicBezTo>
                      <a:pt x="54" y="59"/>
                      <a:pt x="40" y="122"/>
                      <a:pt x="27" y="173"/>
                    </a:cubicBezTo>
                    <a:cubicBezTo>
                      <a:pt x="13" y="228"/>
                      <a:pt x="6" y="282"/>
                      <a:pt x="3" y="339"/>
                    </a:cubicBezTo>
                    <a:cubicBezTo>
                      <a:pt x="0" y="396"/>
                      <a:pt x="3" y="465"/>
                      <a:pt x="11" y="516"/>
                    </a:cubicBezTo>
                    <a:cubicBezTo>
                      <a:pt x="19" y="567"/>
                      <a:pt x="35" y="608"/>
                      <a:pt x="52" y="643"/>
                    </a:cubicBezTo>
                    <a:cubicBezTo>
                      <a:pt x="69" y="678"/>
                      <a:pt x="108" y="728"/>
                      <a:pt x="114" y="724"/>
                    </a:cubicBezTo>
                    <a:cubicBezTo>
                      <a:pt x="114" y="723"/>
                      <a:pt x="95" y="642"/>
                      <a:pt x="90" y="621"/>
                    </a:cubicBez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99680" y="3235680"/>
                <a:ext cx="527400" cy="114840"/>
              </a:xfrm>
              <a:custGeom>
                <a:avLst/>
                <a:gdLst/>
                <a:ahLst/>
                <a:rect l="l" t="t" r="r" b="b"/>
                <a:pathLst>
                  <a:path w="790" h="179">
                    <a:moveTo>
                      <a:pt x="0" y="0"/>
                    </a:moveTo>
                    <a:cubicBezTo>
                      <a:pt x="17" y="14"/>
                      <a:pt x="57" y="56"/>
                      <a:pt x="101" y="82"/>
                    </a:cubicBezTo>
                    <a:cubicBezTo>
                      <a:pt x="145" y="108"/>
                      <a:pt x="213" y="138"/>
                      <a:pt x="263" y="154"/>
                    </a:cubicBezTo>
                    <a:cubicBezTo>
                      <a:pt x="313" y="170"/>
                      <a:pt x="347" y="177"/>
                      <a:pt x="404" y="178"/>
                    </a:cubicBezTo>
                    <a:cubicBezTo>
                      <a:pt x="461" y="179"/>
                      <a:pt x="556" y="169"/>
                      <a:pt x="608" y="160"/>
                    </a:cubicBezTo>
                    <a:cubicBezTo>
                      <a:pt x="660" y="151"/>
                      <a:pt x="687" y="140"/>
                      <a:pt x="714" y="123"/>
                    </a:cubicBezTo>
                    <a:cubicBezTo>
                      <a:pt x="741" y="106"/>
                      <a:pt x="755" y="73"/>
                      <a:pt x="768" y="60"/>
                    </a:cubicBezTo>
                    <a:cubicBezTo>
                      <a:pt x="781" y="47"/>
                      <a:pt x="785" y="46"/>
                      <a:pt x="79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 flipH="1">
              <a:off x="1012680" y="2840400"/>
              <a:ext cx="149400" cy="216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05120" y="3088080"/>
              <a:ext cx="84384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944280" y="3333600"/>
              <a:ext cx="846360" cy="1080"/>
            </a:xfrm>
            <a:custGeom>
              <a:avLst/>
              <a:gdLst/>
              <a:ahLst/>
              <a:rect l="l" t="t" r="r" b="b"/>
              <a:pathLst>
                <a:path w="1266" h="3">
                  <a:moveTo>
                    <a:pt x="0" y="3"/>
                  </a:moveTo>
                  <a:lnTo>
                    <a:pt x="1266" y="0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995760" y="3210480"/>
              <a:ext cx="89280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896400" y="3081240"/>
              <a:ext cx="284400" cy="4093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711360" y="3355560"/>
              <a:ext cx="92160" cy="135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520920" y="3326400"/>
              <a:ext cx="110880" cy="1605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0280" y="3490920"/>
              <a:ext cx="133056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48640" y="3358800"/>
              <a:ext cx="239400" cy="199440"/>
            </a:xfrm>
            <a:custGeom>
              <a:avLst/>
              <a:gdLst/>
              <a:ahLst/>
              <a:rect l="l" t="t" r="r" b="b"/>
              <a:pathLst>
                <a:path w="720" h="622">
                  <a:moveTo>
                    <a:pt x="430" y="0"/>
                  </a:moveTo>
                  <a:lnTo>
                    <a:pt x="177" y="379"/>
                  </a:lnTo>
                  <a:lnTo>
                    <a:pt x="0" y="379"/>
                  </a:lnTo>
                  <a:lnTo>
                    <a:pt x="168" y="622"/>
                  </a:lnTo>
                  <a:lnTo>
                    <a:pt x="631" y="379"/>
                  </a:lnTo>
                  <a:lnTo>
                    <a:pt x="465" y="382"/>
                  </a:lnTo>
                  <a:lnTo>
                    <a:pt x="72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983520" y="2704680"/>
              <a:ext cx="783360" cy="219960"/>
              <a:chOff x="983520" y="2704680"/>
              <a:chExt cx="783360" cy="219960"/>
            </a:xfrm>
          </p:grpSpPr>
          <p:sp>
            <p:nvSpPr>
              <p:cNvPr id="436" name=""/>
              <p:cNvSpPr/>
              <p:nvPr/>
            </p:nvSpPr>
            <p:spPr>
              <a:xfrm flipV="1">
                <a:off x="1404720" y="2747520"/>
                <a:ext cx="47160" cy="655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1490400" y="2704680"/>
                <a:ext cx="122400" cy="997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1544760" y="2813400"/>
                <a:ext cx="191880" cy="489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>
                <a:off x="1544760" y="2890440"/>
                <a:ext cx="222120" cy="140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 flipV="1">
                <a:off x="1060560" y="2722320"/>
                <a:ext cx="199440" cy="7992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 flipV="1">
                <a:off x="998280" y="2821680"/>
                <a:ext cx="216000" cy="489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 flipV="1">
                <a:off x="983520" y="2921760"/>
                <a:ext cx="191880" cy="28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 flipV="1">
                <a:off x="1159920" y="2887920"/>
                <a:ext cx="137880" cy="140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 flipV="1">
                <a:off x="1175760" y="2807640"/>
                <a:ext cx="122400" cy="345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298520" y="2761920"/>
                <a:ext cx="45360" cy="507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1452240" y="2802240"/>
                <a:ext cx="83520" cy="280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1445040" y="2870280"/>
                <a:ext cx="137520" cy="82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 flipV="1">
                <a:off x="1276560" y="2856240"/>
                <a:ext cx="76680" cy="226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996840" y="2988000"/>
              <a:ext cx="752040" cy="219960"/>
              <a:chOff x="996840" y="2988000"/>
              <a:chExt cx="752040" cy="219960"/>
            </a:xfrm>
          </p:grpSpPr>
          <p:sp>
            <p:nvSpPr>
              <p:cNvPr id="450" name=""/>
              <p:cNvSpPr/>
              <p:nvPr/>
            </p:nvSpPr>
            <p:spPr>
              <a:xfrm flipH="1">
                <a:off x="1275120" y="3074760"/>
                <a:ext cx="50760" cy="864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1120680" y="3107880"/>
                <a:ext cx="122400" cy="1000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996840" y="3051000"/>
                <a:ext cx="191880" cy="489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1042920" y="3008520"/>
                <a:ext cx="146520" cy="93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473120" y="3111120"/>
                <a:ext cx="199080" cy="799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518840" y="3042720"/>
                <a:ext cx="216000" cy="489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57000" y="2988000"/>
                <a:ext cx="191880" cy="28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436040" y="3010320"/>
                <a:ext cx="137520" cy="140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435320" y="3071160"/>
                <a:ext cx="122400" cy="345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390320" y="3098880"/>
                <a:ext cx="45360" cy="5076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1197720" y="3082680"/>
                <a:ext cx="83520" cy="280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1151640" y="3033000"/>
                <a:ext cx="137520" cy="82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379160" y="3033000"/>
                <a:ext cx="76680" cy="226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433800" y="3334680"/>
              <a:ext cx="2206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142720" y="2590200"/>
              <a:ext cx="1666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214000" y="2340360"/>
              <a:ext cx="67320" cy="975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22440" y="3492000"/>
              <a:ext cx="27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5040720" y="1413000"/>
            <a:ext cx="30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衝突初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明朝B"/>
              </a:rPr>
              <a:t>の反応関与部の幾何学的異方性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明朝B"/>
              </a:rPr>
              <a:t>粒子の運動量空間における異方性に反映され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rcRect l="1586" t="50007" r="1586" b="267"/>
          <a:stretch/>
        </p:blipFill>
        <p:spPr>
          <a:xfrm>
            <a:off x="5651640" y="4437000"/>
            <a:ext cx="3168360" cy="195732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6888240" y="4005360"/>
            <a:ext cx="16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明朝B"/>
                <a:ea typeface="HGP明朝B"/>
              </a:rPr>
              <a:t>例：荷電ハドロンの</a:t>
            </a:r>
            <a:r>
              <a:rPr b="0" lang="en-US" sz="1800" spc="-1" strike="noStrike">
                <a:solidFill>
                  <a:srgbClr val="000000"/>
                </a:solidFill>
                <a:latin typeface="HGP明朝B"/>
                <a:ea typeface="HGP明朝B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GP明朝B"/>
                <a:ea typeface="HGP明朝B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476680" y="213372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明朝B"/>
              </a:rPr>
              <a:t>粒子の生成過程を探る上で重要な情報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0920" y="3860640"/>
            <a:ext cx="5400720" cy="792360"/>
          </a:xfrm>
          <a:prstGeom prst="flowChartAlternateProcess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773800" y="4581360"/>
            <a:ext cx="2783520" cy="1898280"/>
            <a:chOff x="2773800" y="4581360"/>
            <a:chExt cx="2783520" cy="1898280"/>
          </a:xfrm>
        </p:grpSpPr>
        <p:sp>
          <p:nvSpPr>
            <p:cNvPr id="473" name=""/>
            <p:cNvSpPr/>
            <p:nvPr/>
          </p:nvSpPr>
          <p:spPr>
            <a:xfrm>
              <a:off x="2959920" y="5683320"/>
              <a:ext cx="213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4027680" y="4704120"/>
              <a:ext cx="0" cy="177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3522000">
              <a:off x="3782880" y="5055480"/>
              <a:ext cx="489600" cy="1256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3022200" y="5071320"/>
              <a:ext cx="2010960" cy="1224720"/>
            </a:xfrm>
            <a:prstGeom prst="line">
              <a:avLst/>
            </a:prstGeom>
            <a:ln w="255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18993000">
              <a:off x="3776760" y="5070960"/>
              <a:ext cx="502200" cy="1224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034960" y="5622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714480" y="458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82200" y="464220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re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pla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579560" y="5333400"/>
              <a:ext cx="9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pla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773800" y="488772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t pla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2195640" y="2276280"/>
            <a:ext cx="2232000" cy="1368360"/>
            <a:chOff x="2195640" y="2276280"/>
            <a:chExt cx="2232000" cy="1368360"/>
          </a:xfrm>
        </p:grpSpPr>
        <p:sp>
          <p:nvSpPr>
            <p:cNvPr id="484" name=""/>
            <p:cNvSpPr/>
            <p:nvPr/>
          </p:nvSpPr>
          <p:spPr>
            <a:xfrm>
              <a:off x="2195640" y="296064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3324600" y="227628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3175920" y="2667600"/>
              <a:ext cx="296280" cy="565920"/>
              <a:chOff x="3175920" y="2667600"/>
              <a:chExt cx="296280" cy="565920"/>
            </a:xfrm>
          </p:grpSpPr>
          <p:sp>
            <p:nvSpPr>
              <p:cNvPr id="487" name=""/>
              <p:cNvSpPr/>
              <p:nvPr/>
            </p:nvSpPr>
            <p:spPr>
              <a:xfrm>
                <a:off x="3175920" y="2667960"/>
                <a:ext cx="295560" cy="564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175920" y="2937600"/>
                <a:ext cx="296280" cy="295920"/>
              </a:xfrm>
              <a:custGeom>
                <a:avLst/>
                <a:gdLst/>
                <a:ahLst/>
                <a:rect l="l" t="t" r="r" b="b"/>
                <a:pathLst>
                  <a:path w="489" h="515">
                    <a:moveTo>
                      <a:pt x="13" y="46"/>
                    </a:moveTo>
                    <a:cubicBezTo>
                      <a:pt x="24" y="55"/>
                      <a:pt x="47" y="72"/>
                      <a:pt x="65" y="81"/>
                    </a:cubicBezTo>
                    <a:cubicBezTo>
                      <a:pt x="83" y="90"/>
                      <a:pt x="103" y="92"/>
                      <a:pt x="121" y="97"/>
                    </a:cubicBezTo>
                    <a:cubicBezTo>
                      <a:pt x="139" y="102"/>
                      <a:pt x="156" y="109"/>
                      <a:pt x="176" y="112"/>
                    </a:cubicBezTo>
                    <a:cubicBezTo>
                      <a:pt x="196" y="115"/>
                      <a:pt x="218" y="115"/>
                      <a:pt x="241" y="114"/>
                    </a:cubicBezTo>
                    <a:cubicBezTo>
                      <a:pt x="264" y="113"/>
                      <a:pt x="289" y="109"/>
                      <a:pt x="313" y="103"/>
                    </a:cubicBezTo>
                    <a:cubicBezTo>
                      <a:pt x="337" y="97"/>
                      <a:pt x="362" y="90"/>
                      <a:pt x="385" y="78"/>
                    </a:cubicBezTo>
                    <a:cubicBezTo>
                      <a:pt x="408" y="66"/>
                      <a:pt x="435" y="41"/>
                      <a:pt x="452" y="29"/>
                    </a:cubicBezTo>
                    <a:cubicBezTo>
                      <a:pt x="469" y="17"/>
                      <a:pt x="479" y="0"/>
                      <a:pt x="485" y="7"/>
                    </a:cubicBezTo>
                    <a:cubicBezTo>
                      <a:pt x="483" y="11"/>
                      <a:pt x="489" y="40"/>
                      <a:pt x="487" y="70"/>
                    </a:cubicBezTo>
                    <a:cubicBezTo>
                      <a:pt x="485" y="100"/>
                      <a:pt x="481" y="151"/>
                      <a:pt x="474" y="190"/>
                    </a:cubicBezTo>
                    <a:cubicBezTo>
                      <a:pt x="467" y="229"/>
                      <a:pt x="455" y="272"/>
                      <a:pt x="444" y="304"/>
                    </a:cubicBezTo>
                    <a:cubicBezTo>
                      <a:pt x="433" y="336"/>
                      <a:pt x="423" y="359"/>
                      <a:pt x="408" y="385"/>
                    </a:cubicBezTo>
                    <a:cubicBezTo>
                      <a:pt x="394" y="411"/>
                      <a:pt x="376" y="438"/>
                      <a:pt x="356" y="458"/>
                    </a:cubicBezTo>
                    <a:cubicBezTo>
                      <a:pt x="336" y="478"/>
                      <a:pt x="313" y="495"/>
                      <a:pt x="289" y="503"/>
                    </a:cubicBezTo>
                    <a:cubicBezTo>
                      <a:pt x="265" y="511"/>
                      <a:pt x="238" y="515"/>
                      <a:pt x="214" y="509"/>
                    </a:cubicBezTo>
                    <a:cubicBezTo>
                      <a:pt x="189" y="503"/>
                      <a:pt x="164" y="488"/>
                      <a:pt x="143" y="469"/>
                    </a:cubicBezTo>
                    <a:cubicBezTo>
                      <a:pt x="122" y="450"/>
                      <a:pt x="104" y="427"/>
                      <a:pt x="87" y="397"/>
                    </a:cubicBezTo>
                    <a:cubicBezTo>
                      <a:pt x="69" y="367"/>
                      <a:pt x="52" y="328"/>
                      <a:pt x="39" y="289"/>
                    </a:cubicBezTo>
                    <a:cubicBezTo>
                      <a:pt x="27" y="250"/>
                      <a:pt x="17" y="204"/>
                      <a:pt x="10" y="161"/>
                    </a:cubicBezTo>
                    <a:cubicBezTo>
                      <a:pt x="4" y="118"/>
                      <a:pt x="0" y="47"/>
                      <a:pt x="0" y="28"/>
                    </a:cubicBezTo>
                    <a:lnTo>
                      <a:pt x="13" y="4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175920" y="2939040"/>
                <a:ext cx="295200" cy="63000"/>
              </a:xfrm>
              <a:custGeom>
                <a:avLst/>
                <a:gdLst/>
                <a:ahLst/>
                <a:rect l="l" t="t" r="r" b="b"/>
                <a:pathLst>
                  <a:path w="979" h="257">
                    <a:moveTo>
                      <a:pt x="0" y="78"/>
                    </a:moveTo>
                    <a:cubicBezTo>
                      <a:pt x="17" y="92"/>
                      <a:pt x="57" y="134"/>
                      <a:pt x="101" y="160"/>
                    </a:cubicBezTo>
                    <a:cubicBezTo>
                      <a:pt x="145" y="186"/>
                      <a:pt x="213" y="216"/>
                      <a:pt x="263" y="232"/>
                    </a:cubicBezTo>
                    <a:cubicBezTo>
                      <a:pt x="313" y="248"/>
                      <a:pt x="347" y="255"/>
                      <a:pt x="404" y="256"/>
                    </a:cubicBezTo>
                    <a:cubicBezTo>
                      <a:pt x="461" y="257"/>
                      <a:pt x="542" y="254"/>
                      <a:pt x="608" y="238"/>
                    </a:cubicBezTo>
                    <a:cubicBezTo>
                      <a:pt x="674" y="222"/>
                      <a:pt x="738" y="200"/>
                      <a:pt x="800" y="160"/>
                    </a:cubicBezTo>
                    <a:cubicBezTo>
                      <a:pt x="862" y="120"/>
                      <a:pt x="942" y="33"/>
                      <a:pt x="979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175920" y="2667600"/>
                <a:ext cx="295560" cy="5641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 rot="16200000">
              <a:off x="3205440" y="2315880"/>
              <a:ext cx="249840" cy="366840"/>
            </a:xfrm>
            <a:custGeom>
              <a:avLst/>
              <a:gdLst>
                <a:gd name="textAreaLeft" fmla="*/ 38880 w 249840"/>
                <a:gd name="textAreaRight" fmla="*/ 209880 w 249840"/>
                <a:gd name="textAreaTop" fmla="*/ 92160 h 366840"/>
                <a:gd name="textAreaBottom" fmla="*/ 274680 h 3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5400000">
              <a:off x="3205080" y="3244680"/>
              <a:ext cx="249840" cy="366840"/>
            </a:xfrm>
            <a:custGeom>
              <a:avLst/>
              <a:gdLst>
                <a:gd name="textAreaLeft" fmla="*/ 38880 w 249840"/>
                <a:gd name="textAreaRight" fmla="*/ 209880 w 249840"/>
                <a:gd name="textAreaTop" fmla="*/ 92160 h 366840"/>
                <a:gd name="textAreaBottom" fmla="*/ 274680 h 3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8596800">
              <a:off x="2694240" y="3086280"/>
              <a:ext cx="387720" cy="329760"/>
            </a:xfrm>
            <a:custGeom>
              <a:avLst/>
              <a:gdLst>
                <a:gd name="textAreaLeft" fmla="*/ 60480 w 387720"/>
                <a:gd name="textAreaRight" fmla="*/ 325800 w 387720"/>
                <a:gd name="textAreaTop" fmla="*/ 82800 h 329760"/>
                <a:gd name="textAreaBottom" fmla="*/ 246960 h 32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0800000">
              <a:off x="2358360" y="2789280"/>
              <a:ext cx="605880" cy="329760"/>
            </a:xfrm>
            <a:custGeom>
              <a:avLst/>
              <a:gdLst>
                <a:gd name="textAreaLeft" fmla="*/ 94680 w 605880"/>
                <a:gd name="textAreaRight" fmla="*/ 509040 w 605880"/>
                <a:gd name="textAreaTop" fmla="*/ 82800 h 329760"/>
                <a:gd name="textAreaBottom" fmla="*/ 246960 h 32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13749600">
              <a:off x="2749680" y="2413080"/>
              <a:ext cx="347760" cy="366840"/>
            </a:xfrm>
            <a:custGeom>
              <a:avLst/>
              <a:gdLst>
                <a:gd name="textAreaLeft" fmla="*/ 54360 w 347760"/>
                <a:gd name="textAreaRight" fmla="*/ 292320 w 347760"/>
                <a:gd name="textAreaTop" fmla="*/ 92160 h 366840"/>
                <a:gd name="textAreaBottom" fmla="*/ 274680 h 3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2495400">
              <a:off x="3556080" y="3106800"/>
              <a:ext cx="387360" cy="329400"/>
            </a:xfrm>
            <a:custGeom>
              <a:avLst/>
              <a:gdLst>
                <a:gd name="textAreaLeft" fmla="*/ 60480 w 387360"/>
                <a:gd name="textAreaRight" fmla="*/ 325440 w 387360"/>
                <a:gd name="textAreaTop" fmla="*/ 82800 h 329400"/>
                <a:gd name="textAreaBottom" fmla="*/ 246600 h 32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19687800">
              <a:off x="3556440" y="2472120"/>
              <a:ext cx="387360" cy="329400"/>
            </a:xfrm>
            <a:custGeom>
              <a:avLst/>
              <a:gdLst>
                <a:gd name="textAreaLeft" fmla="*/ 60480 w 387360"/>
                <a:gd name="textAreaRight" fmla="*/ 325440 w 387360"/>
                <a:gd name="textAreaTop" fmla="*/ 82800 h 329400"/>
                <a:gd name="textAreaBottom" fmla="*/ 246600 h 32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665520" y="2794680"/>
              <a:ext cx="605880" cy="329760"/>
            </a:xfrm>
            <a:custGeom>
              <a:avLst/>
              <a:gdLst>
                <a:gd name="textAreaLeft" fmla="*/ 94680 w 605880"/>
                <a:gd name="textAreaRight" fmla="*/ 509040 w 605880"/>
                <a:gd name="textAreaTop" fmla="*/ 82800 h 329760"/>
                <a:gd name="textAreaBottom" fmla="*/ 246960 h 32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35"/>
                  </a:moveTo>
                  <a:lnTo>
                    <a:pt x="14634" y="5435"/>
                  </a:lnTo>
                  <a:lnTo>
                    <a:pt x="14634" y="0"/>
                  </a:lnTo>
                  <a:lnTo>
                    <a:pt x="21600" y="10800"/>
                  </a:lnTo>
                  <a:lnTo>
                    <a:pt x="14634" y="21600"/>
                  </a:lnTo>
                  <a:lnTo>
                    <a:pt x="14634" y="16165"/>
                  </a:lnTo>
                  <a:lnTo>
                    <a:pt x="3375" y="16165"/>
                  </a:lnTo>
                  <a:close/>
                </a:path>
                <a:path w="21600" h="21600">
                  <a:moveTo>
                    <a:pt x="0" y="5435"/>
                  </a:moveTo>
                  <a:lnTo>
                    <a:pt x="675" y="5435"/>
                  </a:lnTo>
                  <a:lnTo>
                    <a:pt x="675" y="16165"/>
                  </a:lnTo>
                  <a:lnTo>
                    <a:pt x="0" y="16165"/>
                  </a:lnTo>
                  <a:close/>
                </a:path>
                <a:path w="21600" h="21600">
                  <a:moveTo>
                    <a:pt x="1350" y="5435"/>
                  </a:moveTo>
                  <a:lnTo>
                    <a:pt x="2700" y="5435"/>
                  </a:lnTo>
                  <a:lnTo>
                    <a:pt x="2700" y="16165"/>
                  </a:lnTo>
                  <a:lnTo>
                    <a:pt x="1350" y="1616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4427640" y="2565360"/>
            <a:ext cx="4538520" cy="76212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969480" y="3933720"/>
            <a:ext cx="39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反応平面法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action pla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明朝B"/>
              </a:rPr>
              <a:t>ビーム軸方向とインパクトパラメータ方向が張る平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089760" y="3141720"/>
            <a:ext cx="27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明朝B"/>
              </a:rPr>
              <a:t>発生粒子の方位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HGP明朝B"/>
                <a:ea typeface="HGP明朝B"/>
              </a:rPr>
              <a:t>reaction plan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明朝B"/>
              </a:rPr>
              <a:t>の方位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50920" y="1484280"/>
            <a:ext cx="3168720" cy="50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68360" y="1557360"/>
            <a:ext cx="265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ゴシック"/>
              </a:rPr>
              <a:t>楕円的方位角異方性 </a:t>
            </a:r>
            <a:r>
              <a:rPr b="1" lang="en-US" sz="1800" spc="-1" strike="noStrike">
                <a:solidFill>
                  <a:srgbClr val="000000"/>
                </a:solidFill>
                <a:latin typeface="ＭＳ Ｐゴシック"/>
              </a:rPr>
              <a:t>(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ＭＳ Ｐゴシック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3"/>
          <a:stretch/>
        </p:blipFill>
        <p:spPr>
          <a:xfrm>
            <a:off x="250920" y="4653000"/>
            <a:ext cx="2593800" cy="18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13C7-0FFE-4FB9-9828-BD09B39DF89A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/Mar/2006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789480" y="285840"/>
            <a:ext cx="595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Ex. systematical error propagate  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  <a:ea typeface="HG創英角ﾎﾟｯﾌﾟ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39640" y="1916280"/>
            <a:ext cx="1297080" cy="57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36760" y="1989000"/>
            <a:ext cx="131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明朝B"/>
              </a:rPr>
              <a:t>hadron deca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明朝B"/>
              </a:rPr>
              <a:t>photon erro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76360" y="3449520"/>
            <a:ext cx="1224000" cy="576360"/>
          </a:xfrm>
          <a:prstGeom prst="rect">
            <a:avLst/>
          </a:prstGeom>
          <a:solidFill>
            <a:srgbClr val="ccffcc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08040" y="3500280"/>
            <a:ext cx="120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明朝B"/>
              </a:rPr>
              <a:t>inclus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明朝B"/>
              </a:rPr>
              <a:t>photon err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95280" y="4794120"/>
            <a:ext cx="1511280" cy="576360"/>
          </a:xfrm>
          <a:prstGeom prst="rect">
            <a:avLst/>
          </a:prstGeom>
          <a:solidFill>
            <a:srgbClr val="ccffcc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93480" y="4867200"/>
            <a:ext cx="154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明朝B"/>
              </a:rPr>
              <a:t>R=N(inc.)/N(B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明朝B"/>
              </a:rPr>
              <a:t>err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79280" y="909720"/>
            <a:ext cx="1944720" cy="934920"/>
          </a:xfrm>
          <a:prstGeom prst="rect">
            <a:avLst/>
          </a:prstGeom>
          <a:solidFill>
            <a:srgbClr val="ffff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53080" y="1052640"/>
            <a:ext cx="18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direct phot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systematic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337040" y="2492280"/>
            <a:ext cx="312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pi0 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conta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HGP明朝B"/>
              </a:rPr>
              <a:t>reaction plane determin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6084720" y="2852640"/>
            <a:ext cx="2724480" cy="145728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3995640" y="907920"/>
            <a:ext cx="4929120" cy="1729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5656680" y="2565360"/>
            <a:ext cx="30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reaction plane de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603200" y="421812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HGP明朝B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P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3"/>
          <a:stretch/>
        </p:blipFill>
        <p:spPr>
          <a:xfrm>
            <a:off x="5580000" y="4581360"/>
            <a:ext cx="3343320" cy="15843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6303960" y="6021360"/>
            <a:ext cx="23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calculation method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inclusive pho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336320" y="4003560"/>
            <a:ext cx="32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calculation method differ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HGP明朝B"/>
              </a:rPr>
              <a:t>reaction plane determin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386000" y="539100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from PPG0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H="1" flipV="1">
            <a:off x="3924000" y="3357360"/>
            <a:ext cx="64764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 flipV="1">
            <a:off x="3348000" y="458136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928680" y="4869000"/>
            <a:ext cx="160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P明朝B"/>
              </a:rPr>
              <a:t>there are sa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P明朝B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427640" y="5445000"/>
            <a:ext cx="431640" cy="289080"/>
          </a:xfrm>
          <a:prstGeom prst="downArrow">
            <a:avLst>
              <a:gd name="adj1" fmla="val 50000"/>
              <a:gd name="adj2" fmla="val 6044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569760" y="5734080"/>
            <a:ext cx="239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P明朝B"/>
              </a:rPr>
              <a:t>they have to re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P明朝B"/>
              </a:rPr>
              <a:t>when error propagat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P明朝B"/>
              </a:rPr>
              <a:t>direct phot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CA16-6F65-4D62-80AE-EBCFA6E03A42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/Mar/2006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435960" y="285840"/>
            <a:ext cx="151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Ex. R    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  <a:ea typeface="HG創英角ﾎﾟｯﾌﾟ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713800" cy="194328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179280" y="2781360"/>
            <a:ext cx="8785440" cy="20160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828720" y="1628640"/>
            <a:ext cx="1335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20 to 30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710160" y="1628640"/>
            <a:ext cx="1335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30 to 40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589800" y="1628640"/>
            <a:ext cx="1335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20 to 40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28720" y="3573360"/>
            <a:ext cx="1335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40 to 50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710160" y="3573360"/>
            <a:ext cx="1335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50 to 60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589800" y="3573360"/>
            <a:ext cx="1335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40 to 60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3"/>
          <a:stretch/>
        </p:blipFill>
        <p:spPr>
          <a:xfrm>
            <a:off x="1116000" y="4581360"/>
            <a:ext cx="2016000" cy="90360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4"/>
          <a:srcRect l="0" t="45915" r="0" b="0"/>
          <a:stretch/>
        </p:blipFill>
        <p:spPr>
          <a:xfrm>
            <a:off x="684360" y="5516640"/>
            <a:ext cx="5040000" cy="90792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6012000" y="981000"/>
            <a:ext cx="2881080" cy="1798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012000" y="2852640"/>
            <a:ext cx="2881080" cy="172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589800" y="5300640"/>
            <a:ext cx="1335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00 to 92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5"/>
          <a:stretch/>
        </p:blipFill>
        <p:spPr>
          <a:xfrm>
            <a:off x="5867280" y="4508640"/>
            <a:ext cx="3024360" cy="20430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6012000" y="4653000"/>
            <a:ext cx="2881080" cy="180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F61A-19C9-4DD0-AA66-BF20F4DE421B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/Mar/2006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815760" y="285840"/>
            <a:ext cx="614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Ex. systematical error propagate    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  <a:ea typeface="HG創英角ﾎﾟｯﾌﾟ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9640" y="907920"/>
            <a:ext cx="1297080" cy="576360"/>
          </a:xfrm>
          <a:prstGeom prst="rect">
            <a:avLst/>
          </a:prstGeom>
          <a:solidFill>
            <a:srgbClr val="ccffcc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976400" y="981000"/>
            <a:ext cx="131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明朝B"/>
              </a:rPr>
              <a:t>hadron deca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明朝B"/>
              </a:rPr>
              <a:t>photon erro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816360" y="930240"/>
            <a:ext cx="1224000" cy="576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48040" y="981000"/>
            <a:ext cx="120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明朝B"/>
              </a:rPr>
              <a:t>inclus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明朝B"/>
              </a:rPr>
              <a:t>photon err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508720" y="907920"/>
            <a:ext cx="1511280" cy="576360"/>
          </a:xfrm>
          <a:prstGeom prst="rect">
            <a:avLst/>
          </a:prstGeom>
          <a:solidFill>
            <a:srgbClr val="ccffcc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506920" y="981000"/>
            <a:ext cx="154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明朝B"/>
              </a:rPr>
              <a:t>R=N(inc.)/N(B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明朝B"/>
              </a:rPr>
              <a:t>err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rot="5400000">
            <a:off x="3383640" y="1088280"/>
            <a:ext cx="360360" cy="28872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rot="5400000">
            <a:off x="5112360" y="1088280"/>
            <a:ext cx="360360" cy="288720"/>
          </a:xfrm>
          <a:prstGeom prst="triangle">
            <a:avLst>
              <a:gd name="adj" fmla="val 50000"/>
            </a:avLst>
          </a:prstGeom>
          <a:noFill/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rcRect l="48575" t="49941" r="0" b="0"/>
          <a:stretch/>
        </p:blipFill>
        <p:spPr>
          <a:xfrm>
            <a:off x="4427640" y="1628640"/>
            <a:ext cx="4537080" cy="237672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4392720" cy="223200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4572000" y="4005360"/>
            <a:ext cx="4392720" cy="259056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254160" y="4149720"/>
            <a:ext cx="415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As systematic error of inclusive phot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I have estimated error from calc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method difference and reaction pl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determination. The error from pho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PID have not estimated y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150880" y="1989000"/>
            <a:ext cx="1748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P明朝B"/>
              </a:rPr>
              <a:t>differenc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P明朝B"/>
              </a:rPr>
              <a:t>plot by method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P明朝B"/>
              </a:rPr>
              <a:t>and average plo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P明朝B"/>
              </a:rPr>
              <a:t>rat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084280" y="4292640"/>
            <a:ext cx="389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P明朝B"/>
              </a:rPr>
              <a:t>error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P明朝B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P明朝B"/>
              </a:rPr>
              <a:t>difference of calculation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P明朝B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P明朝B"/>
              </a:rPr>
              <a:t>reaction plane deter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2771640" y="2276640"/>
            <a:ext cx="432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205800" y="213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method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2340000" y="2924280"/>
            <a:ext cx="36036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78520" y="3068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method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2771280" y="2781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258720" y="251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50920" y="5805360"/>
            <a:ext cx="40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Please refer to my analysis note 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calculation method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95A7-19B3-4DC6-9AB8-294C68B1DAD6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/Mar/2006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9280" y="4005360"/>
            <a:ext cx="4176720" cy="1655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0960" y="285840"/>
            <a:ext cx="56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1-1. Introduction </a:t>
            </a:r>
            <a:r>
              <a:rPr b="0" lang="en-US" sz="24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~ probe of QGP ~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  <a:ea typeface="HG創英角ﾎﾟｯﾌﾟ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2020" b="0"/>
          <a:stretch/>
        </p:blipFill>
        <p:spPr>
          <a:xfrm>
            <a:off x="6227640" y="1052640"/>
            <a:ext cx="2575080" cy="1697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4752720" cy="1224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930920" y="3070080"/>
            <a:ext cx="3960720" cy="79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03640" y="3141720"/>
            <a:ext cx="3814920" cy="64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3141720"/>
            <a:ext cx="3465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Studying the QGP state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lativistic Heavy Ion Colli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1197000"/>
            <a:ext cx="5040360" cy="431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uark Gluon Plasm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789360"/>
            <a:ext cx="38894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4363920"/>
            <a:ext cx="3816360" cy="5032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4437000"/>
            <a:ext cx="30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We can not see QGP directly</a:t>
            </a:r>
            <a:r>
              <a:rPr b="1" lang="en-US" sz="1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4941720"/>
            <a:ext cx="3816360" cy="5032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5013360"/>
            <a:ext cx="253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large back ground</a:t>
            </a:r>
            <a:r>
              <a:rPr b="1" lang="en-US" sz="1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3789360"/>
            <a:ext cx="396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iculty of QGP stud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30920" y="4292640"/>
            <a:ext cx="3673440" cy="50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3280" y="4365720"/>
            <a:ext cx="4321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e of initial state of collision</a:t>
            </a:r>
            <a:r>
              <a:rPr b="1" lang="en-US" sz="18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photon</a:t>
            </a:r>
            <a:r>
              <a:rPr b="1" lang="en-US" sz="18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00680" y="5661000"/>
            <a:ext cx="494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Photon doesn’t interact with any other hadr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and they keep their condi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when they are generated in final st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4320000" y="4401360"/>
            <a:ext cx="360360" cy="431640"/>
          </a:xfrm>
          <a:prstGeom prst="flowChartExtra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6587640" y="4869000"/>
            <a:ext cx="360360" cy="287280"/>
          </a:xfrm>
          <a:prstGeom prst="flowChartExtra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A44F-799E-4EE2-885A-67E90DD7B4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/Mar/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79280" y="1197000"/>
            <a:ext cx="8640720" cy="1511280"/>
          </a:xfrm>
          <a:prstGeom prst="wedgeRectCallout">
            <a:avLst>
              <a:gd name="adj1" fmla="val 24425"/>
              <a:gd name="adj2" fmla="val 68384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1341360"/>
            <a:ext cx="6337080" cy="1224000"/>
          </a:xfrm>
          <a:prstGeom prst="wedgeRectCallout">
            <a:avLst>
              <a:gd name="adj1" fmla="val -20916"/>
              <a:gd name="adj2" fmla="val 87615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1480" y="285840"/>
            <a:ext cx="56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1-2. Introduction </a:t>
            </a:r>
            <a:r>
              <a:rPr b="0" lang="en-US" sz="24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~ direct photon~</a:t>
            </a: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  <a:ea typeface="HG創英角ﾎﾟｯﾌﾟ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1557360"/>
            <a:ext cx="1873080" cy="865080"/>
          </a:xfrm>
          <a:prstGeom prst="flowChartPunchedCard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184464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mpt photon</a:t>
            </a:r>
            <a:r>
              <a:rPr b="1" lang="en-US" sz="1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84360" y="1557360"/>
            <a:ext cx="1873440" cy="865080"/>
          </a:xfrm>
          <a:prstGeom prst="flowChartPunchedCard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27280" y="1844640"/>
            <a:ext cx="163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rmal photon</a:t>
            </a:r>
            <a:r>
              <a:rPr b="1" lang="en-US" sz="1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1557360"/>
            <a:ext cx="1873080" cy="865080"/>
          </a:xfrm>
          <a:prstGeom prst="flowChartPunchedCard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3280" y="1700280"/>
            <a:ext cx="187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ton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et fragmentation</a:t>
            </a:r>
            <a:r>
              <a:rPr b="1" lang="en-US" sz="1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59640" y="1557360"/>
            <a:ext cx="1873080" cy="865080"/>
          </a:xfrm>
          <a:prstGeom prst="flowChartPunchedCard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04000" y="1773360"/>
            <a:ext cx="1473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dron dec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32360" y="3068640"/>
            <a:ext cx="3816360" cy="647640"/>
          </a:xfrm>
          <a:prstGeom prst="rect">
            <a:avLst/>
          </a:prstGeom>
          <a:solidFill>
            <a:srgbClr val="ffff99"/>
          </a:solidFill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51640" y="321300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sive phot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3068640"/>
            <a:ext cx="3889440" cy="647640"/>
          </a:xfrm>
          <a:prstGeom prst="rect">
            <a:avLst/>
          </a:prstGeom>
          <a:solidFill>
            <a:srgbClr val="ffff99"/>
          </a:solidFill>
          <a:ln w="44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64680" y="3213000"/>
            <a:ext cx="18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 photon</a:t>
            </a:r>
            <a:r>
              <a:rPr b="1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47560" y="4005360"/>
            <a:ext cx="4411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Example of direct photon analysi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measurement of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27680" y="5805360"/>
            <a:ext cx="4870080" cy="6800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We estimate the elliptic flow 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)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direct photon to study initial state of collisions.</a:t>
            </a:r>
            <a:r>
              <a:rPr b="0" lang="en-US" sz="1800" spc="-1" strike="noStrike">
                <a:solidFill>
                  <a:srgbClr val="000000"/>
                </a:solidFill>
                <a:latin typeface="HGP明朝B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58040" y="4869000"/>
            <a:ext cx="7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50120" y="4653000"/>
            <a:ext cx="2131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(1/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ev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)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/d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28160" y="5068800"/>
            <a:ext cx="2814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(&lt;N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col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&gt;/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  <a:ea typeface="HGP明朝B"/>
              </a:rPr>
              <a:t>NN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ine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)d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  <a:ea typeface="HGP明朝B"/>
              </a:rPr>
              <a:t>N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/d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d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35640" y="508464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3789360"/>
            <a:ext cx="3600720" cy="273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1BC6-16F3-4A34-92C3-7FC2F1F3EB3E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/Mar/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75160" y="285840"/>
            <a:ext cx="736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2-1. Motivation </a:t>
            </a:r>
            <a:r>
              <a:rPr b="0" lang="en-US" sz="24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~ elliptic flow of direct photon ~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1844640"/>
            <a:ext cx="4321080" cy="4606920"/>
          </a:xfrm>
          <a:custGeom>
            <a:avLst/>
            <a:gdLst>
              <a:gd name="textAreaLeft" fmla="*/ 105840 w 4321080"/>
              <a:gd name="textAreaRight" fmla="*/ 4215240 w 4321080"/>
              <a:gd name="textAreaTop" fmla="*/ 105840 h 4606920"/>
              <a:gd name="textAreaBottom" fmla="*/ 4501080 h 4606920"/>
            </a:gdLst>
            <a:ahLst/>
            <a:rect l="textAreaLeft" t="textAreaTop" r="textAreaRight" b="textAreaBottom"/>
            <a:pathLst>
              <a:path w="21600" h="23029">
                <a:moveTo>
                  <a:pt x="1807" y="0"/>
                </a:moveTo>
                <a:arcTo wR="1807" hR="1807" stAng="16200000" swAng="-5400000"/>
                <a:lnTo>
                  <a:pt x="0" y="21222"/>
                </a:lnTo>
                <a:arcTo wR="1807" hR="1807" stAng="10800000" swAng="-5400000"/>
                <a:lnTo>
                  <a:pt x="19793" y="23029"/>
                </a:lnTo>
                <a:arcTo wR="1807" hR="1807" stAng="5400000" swAng="-5400000"/>
                <a:lnTo>
                  <a:pt x="21600" y="1807"/>
                </a:lnTo>
                <a:arcTo wR="1807" hR="1807" stAng="0" swAng="-5400000"/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2200" y="3211560"/>
            <a:ext cx="4176720" cy="3095640"/>
          </a:xfrm>
          <a:prstGeom prst="roundRect">
            <a:avLst>
              <a:gd name="adj" fmla="val 8366"/>
            </a:avLst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4795920"/>
            <a:ext cx="3808440" cy="503280"/>
          </a:xfrm>
          <a:prstGeom prst="roundRect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75280" y="486720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Thermal pho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7280" y="33559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rect pho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98756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clusive pho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1125360"/>
            <a:ext cx="6840360" cy="360720"/>
          </a:xfrm>
          <a:prstGeom prst="roundRect">
            <a:avLst>
              <a:gd name="adj" fmla="val 23648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7840" y="1125360"/>
            <a:ext cx="705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ation of photon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relativistic heavy ion colli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3932280"/>
            <a:ext cx="3808440" cy="503280"/>
          </a:xfrm>
          <a:prstGeom prst="roundRect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4920" y="400356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  <a:ea typeface="HGP明朝B"/>
              </a:rPr>
              <a:t>prompt pho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5659560"/>
            <a:ext cx="3808440" cy="503280"/>
          </a:xfrm>
          <a:prstGeom prst="roundRect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5640" y="5730840"/>
            <a:ext cx="34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photon from jet fra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2492280"/>
            <a:ext cx="3808440" cy="503280"/>
          </a:xfrm>
          <a:prstGeom prst="roundRect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30800" y="2563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  <a:ea typeface="HGP明朝B"/>
              </a:rPr>
              <a:t>hadron decay</a:t>
            </a:r>
            <a:r>
              <a:rPr b="0" lang="en-US" sz="1800" spc="-1" strike="noStrike">
                <a:solidFill>
                  <a:srgbClr val="000000"/>
                </a:solidFill>
                <a:latin typeface="HGP明朝B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30400" y="2637000"/>
            <a:ext cx="1989360" cy="370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mal photon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31120" y="3170160"/>
            <a:ext cx="1943640" cy="370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pt photon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88000" y="3430440"/>
            <a:ext cx="1297080" cy="2448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1585400">
            <a:off x="6012000" y="4006440"/>
            <a:ext cx="1008000" cy="432000"/>
          </a:xfrm>
          <a:custGeom>
            <a:avLst/>
            <a:gdLst>
              <a:gd name="textAreaLeft" fmla="*/ 126000 w 1008000"/>
              <a:gd name="textAreaRight" fmla="*/ 882000 w 100800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5558600">
            <a:off x="6769080" y="3826800"/>
            <a:ext cx="1008000" cy="360360"/>
          </a:xfrm>
          <a:custGeom>
            <a:avLst/>
            <a:gdLst>
              <a:gd name="textAreaLeft" fmla="*/ 126000 w 1008000"/>
              <a:gd name="textAreaRight" fmla="*/ 882000 w 1008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589200">
            <a:off x="7380360" y="4727160"/>
            <a:ext cx="1008000" cy="432000"/>
          </a:xfrm>
          <a:custGeom>
            <a:avLst/>
            <a:gdLst>
              <a:gd name="textAreaLeft" fmla="*/ 126000 w 1008000"/>
              <a:gd name="textAreaRight" fmla="*/ 882000 w 100800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4521600">
            <a:off x="6624000" y="5194080"/>
            <a:ext cx="1008000" cy="360360"/>
          </a:xfrm>
          <a:custGeom>
            <a:avLst/>
            <a:gdLst>
              <a:gd name="textAreaLeft" fmla="*/ 126000 w 1008000"/>
              <a:gd name="textAreaRight" fmla="*/ 882000 w 1008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 rot="9351000">
            <a:off x="5363640" y="4367160"/>
            <a:ext cx="1081080" cy="2156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53640 h 215640"/>
              <a:gd name="textAreaBottom" fmla="*/ 16164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 rot="5439600">
            <a:off x="6515280" y="5807160"/>
            <a:ext cx="1081080" cy="21600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 rot="20870400">
            <a:off x="7885080" y="4653720"/>
            <a:ext cx="1081080" cy="21600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 rot="16859400">
            <a:off x="6875640" y="3286800"/>
            <a:ext cx="1081080" cy="21600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40760" y="4643280"/>
            <a:ext cx="233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明朝B"/>
              </a:rPr>
              <a:t>annih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明朝B"/>
              </a:rPr>
              <a:t>compton scat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75280" y="5805360"/>
            <a:ext cx="196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明朝B"/>
              </a:rPr>
              <a:t>Bremsstrah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明朝B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明朝B"/>
              </a:rPr>
              <a:t>(energy lo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0" y="1700280"/>
            <a:ext cx="4394160" cy="761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3DE8-EFD6-482D-AAB0-8283CFFF581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/Mar/2006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372360" y="907920"/>
            <a:ext cx="2592360" cy="22338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68360" y="4797360"/>
            <a:ext cx="1728720" cy="13478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292720" y="4292640"/>
            <a:ext cx="1657440" cy="1314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30280" y="285840"/>
            <a:ext cx="31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2-2. RHIC-PHENIX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  <a:ea typeface="HG創英角ﾎﾟｯﾌﾟ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0080" y="3429000"/>
            <a:ext cx="282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lead scintillator (Pb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energy resoluti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.1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8.1 %/ E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[GeV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12600" y="3429000"/>
            <a:ext cx="294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lead glass (PbG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energy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.76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5.95 %/ E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[GeV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907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2520" y="907920"/>
            <a:ext cx="335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ff3300"/>
                </a:solidFill>
                <a:uFillTx/>
                <a:latin typeface="Arial"/>
                <a:ea typeface="HGP明朝B"/>
              </a:rPr>
              <a:t>RH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The Relativistic Heavy 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Collider (RHIC) at Brookhav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National Laboratory is a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class scientific research fac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that began operation in 200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following 10 year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development and constru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492360" y="907920"/>
            <a:ext cx="2808360" cy="2233800"/>
            <a:chOff x="3492360" y="907920"/>
            <a:chExt cx="2808360" cy="2233800"/>
          </a:xfrm>
        </p:grpSpPr>
        <p:grpSp>
          <p:nvGrpSpPr>
            <p:cNvPr id="176" name=""/>
            <p:cNvGrpSpPr/>
            <p:nvPr/>
          </p:nvGrpSpPr>
          <p:grpSpPr>
            <a:xfrm>
              <a:off x="3492360" y="907920"/>
              <a:ext cx="2808360" cy="2233800"/>
              <a:chOff x="3492360" y="907920"/>
              <a:chExt cx="2808360" cy="2233800"/>
            </a:xfrm>
          </p:grpSpPr>
          <p:pic>
            <p:nvPicPr>
              <p:cNvPr id="17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492360" y="907920"/>
                <a:ext cx="2808360" cy="223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543840" y="976320"/>
                <a:ext cx="935280" cy="40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>
                <a:off x="4272120" y="1382400"/>
                <a:ext cx="208800" cy="405360"/>
              </a:xfrm>
              <a:prstGeom prst="ellipse">
                <a:avLst/>
              </a:prstGeom>
              <a:noFill/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 flipH="1">
              <a:off x="5076360" y="2910960"/>
              <a:ext cx="323640" cy="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4680000" y="2549520"/>
              <a:ext cx="251640" cy="2635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16360" y="2316240"/>
              <a:ext cx="288000" cy="105480"/>
            </a:xfrm>
            <a:custGeom>
              <a:avLst/>
              <a:gdLst/>
              <a:ahLst/>
              <a:rect l="l" t="t" r="r" b="b"/>
              <a:pathLst>
                <a:path w="363" h="73">
                  <a:moveTo>
                    <a:pt x="0" y="73"/>
                  </a:moveTo>
                  <a:lnTo>
                    <a:pt x="102" y="0"/>
                  </a:lnTo>
                  <a:lnTo>
                    <a:pt x="233" y="0"/>
                  </a:lnTo>
                  <a:lnTo>
                    <a:pt x="363" y="72"/>
                  </a:lnTo>
                </a:path>
              </a:pathLst>
            </a:custGeom>
            <a:noFill/>
            <a:ln w="442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4860720" y="1893600"/>
              <a:ext cx="71280" cy="3283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08360" y="1052640"/>
              <a:ext cx="728640" cy="555840"/>
            </a:xfrm>
            <a:custGeom>
              <a:avLst/>
              <a:gdLst/>
              <a:ahLst/>
              <a:rect l="l" t="t" r="r" b="b"/>
              <a:pathLst>
                <a:path w="918" h="384">
                  <a:moveTo>
                    <a:pt x="0" y="82"/>
                  </a:moveTo>
                  <a:lnTo>
                    <a:pt x="264" y="9"/>
                  </a:lnTo>
                  <a:lnTo>
                    <a:pt x="491" y="0"/>
                  </a:lnTo>
                  <a:lnTo>
                    <a:pt x="622" y="26"/>
                  </a:lnTo>
                  <a:lnTo>
                    <a:pt x="726" y="70"/>
                  </a:lnTo>
                  <a:lnTo>
                    <a:pt x="831" y="113"/>
                  </a:lnTo>
                  <a:lnTo>
                    <a:pt x="918" y="218"/>
                  </a:lnTo>
                  <a:lnTo>
                    <a:pt x="901" y="297"/>
                  </a:lnTo>
                  <a:lnTo>
                    <a:pt x="779" y="384"/>
                  </a:lnTo>
                </a:path>
              </a:pathLst>
            </a:custGeom>
            <a:noFill/>
            <a:ln w="442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600120" y="4365720"/>
            <a:ext cx="25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|</a:t>
            </a:r>
            <a:r>
              <a:rPr b="0" lang="el-GR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| &lt; 0.375   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=90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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6877080" y="4653000"/>
            <a:ext cx="2016000" cy="1873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7"/>
          <a:stretch/>
        </p:blipFill>
        <p:spPr>
          <a:xfrm>
            <a:off x="2340000" y="5229360"/>
            <a:ext cx="2663640" cy="98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BDEE-01BE-48BE-9C74-C828EDFCF374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/Mar/2006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32160" y="285840"/>
            <a:ext cx="46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3-1. method of calcul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981000"/>
            <a:ext cx="2124000" cy="432000"/>
          </a:xfrm>
          <a:prstGeom prst="flowChartTerminator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明朝"/>
              </a:rPr>
              <a:t>inclusive phot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1341360"/>
            <a:ext cx="2124000" cy="432000"/>
          </a:xfrm>
          <a:prstGeom prst="flowChartTerminator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明朝"/>
              </a:rPr>
              <a:t>direct phot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32000" y="2133720"/>
            <a:ext cx="3241440" cy="574560"/>
          </a:xfrm>
          <a:prstGeom prst="flowChartTerminator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HGP明朝B"/>
              </a:rPr>
              <a:t>neutral hadron which ha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HGP明朝B"/>
              </a:rPr>
              <a:t>decay mode to photon (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  <a:ea typeface="ＭＳ Ｐ明朝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明朝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明朝"/>
              </a:rPr>
              <a:t>,…)</a:t>
            </a:r>
            <a:r>
              <a:rPr b="0" lang="en-US" sz="1800" spc="-1" strike="noStrike">
                <a:solidFill>
                  <a:srgbClr val="ffffff"/>
                </a:solidFill>
                <a:latin typeface="ＭＳ Ｐ明朝"/>
                <a:ea typeface="ＭＳ Ｐ明朝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300720" y="2637000"/>
            <a:ext cx="2268720" cy="431640"/>
          </a:xfrm>
          <a:prstGeom prst="flowChartTerminator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明朝"/>
              </a:rPr>
              <a:t>hadron decay phot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89" idx="3"/>
            <a:endCxn id="191" idx="0"/>
          </p:cNvCxnSpPr>
          <p:nvPr/>
        </p:nvCxnSpPr>
        <p:spPr>
          <a:xfrm>
            <a:off x="2592000" y="1197000"/>
            <a:ext cx="361080" cy="937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endCxn id="190" idx="0"/>
          </p:cNvCxnSpPr>
          <p:nvPr/>
        </p:nvCxnSpPr>
        <p:spPr>
          <a:xfrm>
            <a:off x="2627280" y="1196640"/>
            <a:ext cx="3007440" cy="144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1" idx="3"/>
            <a:endCxn id="192" idx="1"/>
          </p:cNvCxnSpPr>
          <p:nvPr/>
        </p:nvCxnSpPr>
        <p:spPr>
          <a:xfrm>
            <a:off x="4573440" y="2420640"/>
            <a:ext cx="1728000" cy="432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828720" y="5805360"/>
                <a:ext cx="36720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di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oton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n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photon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G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hoton</m:t>
                                    </m:r>
                                  </m:sub>
                                </m:sSub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716360" y="3645000"/>
            <a:ext cx="3816360" cy="23684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84360" y="3573360"/>
            <a:ext cx="3673440" cy="2187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797440" y="5805360"/>
                <a:ext cx="15591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n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oto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hoton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 flipV="1" rot="13243800">
            <a:off x="6586920" y="1987920"/>
            <a:ext cx="1008720" cy="312840"/>
          </a:xfrm>
          <a:prstGeom prst="rightArrow">
            <a:avLst>
              <a:gd name="adj1" fmla="val 59343"/>
              <a:gd name="adj2" fmla="val 133424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5680" y="3141720"/>
            <a:ext cx="3165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Ex.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HGP明朝B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and inclusive photon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17720" y="400536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HGP明朝B"/>
              </a:rPr>
              <a:t>work in progress</a:t>
            </a:r>
            <a:r>
              <a:rPr b="0" lang="en-US" sz="1800" spc="-1" strike="noStrike">
                <a:solidFill>
                  <a:srgbClr val="000000"/>
                </a:solidFill>
                <a:latin typeface="HGP明朝B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5BB6-2EC1-4182-BA17-687A4C6A8DF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/Mar/2006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219640" y="1341360"/>
            <a:ext cx="3672000" cy="5183280"/>
          </a:xfrm>
          <a:custGeom>
            <a:avLst/>
            <a:gdLst>
              <a:gd name="textAreaLeft" fmla="*/ 69480 w 3672000"/>
              <a:gd name="textAreaRight" fmla="*/ 3602520 w 3672000"/>
              <a:gd name="textAreaTop" fmla="*/ 69480 h 5183280"/>
              <a:gd name="textAreaBottom" fmla="*/ 5113800 h 5183280"/>
            </a:gdLst>
            <a:ahLst/>
            <a:rect l="textAreaLeft" t="textAreaTop" r="textAreaRight" b="textAreaBottom"/>
            <a:pathLst>
              <a:path w="21600" h="30489">
                <a:moveTo>
                  <a:pt x="1401" y="0"/>
                </a:moveTo>
                <a:arcTo wR="1401" hR="1401" stAng="16200000" swAng="-5400000"/>
                <a:lnTo>
                  <a:pt x="0" y="29088"/>
                </a:lnTo>
                <a:arcTo wR="1401" hR="1401" stAng="10800000" swAng="-5400000"/>
                <a:lnTo>
                  <a:pt x="20199" y="30489"/>
                </a:lnTo>
                <a:arcTo wR="1401" hR="1401" stAng="5400000" swAng="-5400000"/>
                <a:lnTo>
                  <a:pt x="21600" y="1401"/>
                </a:lnTo>
                <a:arcTo wR="1401" hR="1401" stAng="0" swAng="-5400000"/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6011280" y="3789360"/>
            <a:ext cx="4896000" cy="431640"/>
          </a:xfrm>
          <a:custGeom>
            <a:avLst/>
            <a:gdLst>
              <a:gd name="textAreaLeft" fmla="*/ 765000 w 4896000"/>
              <a:gd name="textAreaRight" fmla="*/ 4284000 w 48960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80000" y="981000"/>
            <a:ext cx="2879640" cy="503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3960" y="285840"/>
            <a:ext cx="400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3-2. calculation of </a:t>
            </a:r>
            <a:r>
              <a:rPr b="0" lang="en-US" sz="2800" spc="-1" strike="noStrike" u="sng">
                <a:solidFill>
                  <a:srgbClr val="ffccff"/>
                </a:solidFill>
                <a:uFillTx/>
                <a:latin typeface="Symbol"/>
                <a:ea typeface="Symbol"/>
              </a:rPr>
              <a:t></a:t>
            </a:r>
            <a:r>
              <a:rPr b="0" lang="en-US" sz="2800" spc="-1" strike="noStrike" u="sng" baseline="30000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0</a:t>
            </a: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 v</a:t>
            </a:r>
            <a:r>
              <a:rPr b="0" lang="en-US" sz="2800" spc="-1" strike="noStrike" u="sng" baseline="-25000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2</a:t>
            </a: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24560" y="2708280"/>
            <a:ext cx="29433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HGP明朝B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PI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明朝B"/>
              </a:rPr>
              <a:t>　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invariant mass</a:t>
            </a:r>
            <a:r>
              <a:rPr b="0" lang="en-US" sz="1800" spc="-1" strike="noStrike">
                <a:solidFill>
                  <a:srgbClr val="000000"/>
                </a:solidFill>
                <a:latin typeface="HGP明朝B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27240" y="1785960"/>
            <a:ext cx="22867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photon ID by EM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89000" y="3645000"/>
            <a:ext cx="29026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azimuthal distribution of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  <a:ea typeface="HGP明朝B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88120" y="4581360"/>
            <a:ext cx="3417840" cy="40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itting by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ＭＳ Ｐゴシック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[1+2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ＭＳ Ｐゴシック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os{2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)}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870520" y="5516640"/>
            <a:ext cx="242568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correction by rea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pla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63160" y="1052640"/>
            <a:ext cx="2778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alculation step of 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ff33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v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560" y="995400"/>
            <a:ext cx="2998440" cy="405720"/>
          </a:xfrm>
          <a:prstGeom prst="rect">
            <a:avLst/>
          </a:prstGeom>
          <a:solidFill>
            <a:srgbClr val="ffff99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Energy cut (E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cor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 &gt;0.2 Ge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3680" y="1414440"/>
            <a:ext cx="2771280" cy="368280"/>
          </a:xfrm>
          <a:prstGeom prst="rect">
            <a:avLst/>
          </a:prstGeom>
          <a:solidFill>
            <a:srgbClr val="ffff99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shower shape cut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&lt;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5040" y="1849320"/>
            <a:ext cx="3010680" cy="368280"/>
          </a:xfrm>
          <a:prstGeom prst="rect">
            <a:avLst/>
          </a:prstGeom>
          <a:solidFill>
            <a:srgbClr val="ffff99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B"/>
              </a:rPr>
              <a:t>EMCal TOF ( TOF &lt; 1.2 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7920" y="2292480"/>
            <a:ext cx="3335400" cy="368280"/>
          </a:xfrm>
          <a:prstGeom prst="rect">
            <a:avLst/>
          </a:prstGeom>
          <a:solidFill>
            <a:srgbClr val="ffff99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charged veto ( pc3hit &gt; 6.5 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37080" cy="16304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24000" y="2781360"/>
            <a:ext cx="4681440" cy="720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3348000" y="3500280"/>
            <a:ext cx="1306440" cy="1513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179280" y="5084640"/>
            <a:ext cx="4969080" cy="1513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50920" y="5157720"/>
            <a:ext cx="720720" cy="360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HGP明朝B"/>
              </a:rPr>
              <a:t>1.0~3.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908000" y="5157720"/>
            <a:ext cx="792360" cy="360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HGP明朝B"/>
              </a:rPr>
              <a:t>3.0~5.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92360" y="5157720"/>
            <a:ext cx="792360" cy="360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HGP明朝B"/>
              </a:rPr>
              <a:t>5.0~10.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87FF-3B20-4558-B396-E4009445160D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/Mar/2006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5761080" cy="43214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32800" y="285840"/>
            <a:ext cx="312516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4-1. result </a:t>
            </a:r>
            <a:r>
              <a:rPr b="0" lang="en-US" sz="24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~ </a:t>
            </a:r>
            <a:r>
              <a:rPr b="0" lang="en-US" sz="2400" spc="-1" strike="noStrike" u="sng">
                <a:solidFill>
                  <a:srgbClr val="ffccff"/>
                </a:solidFill>
                <a:uFillTx/>
                <a:latin typeface="Symbol"/>
                <a:ea typeface="Symbol"/>
              </a:rPr>
              <a:t></a:t>
            </a:r>
            <a:r>
              <a:rPr b="0" lang="en-US" sz="2400" spc="-1" strike="noStrike" u="sng" baseline="30000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0</a:t>
            </a:r>
            <a:r>
              <a:rPr b="0" lang="en-US" sz="24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 v</a:t>
            </a:r>
            <a:r>
              <a:rPr b="0" lang="en-US" sz="2400" spc="-1" strike="noStrike" u="sng" baseline="-25000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2</a:t>
            </a:r>
            <a:r>
              <a:rPr b="0" lang="en-US" sz="24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 ~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  <a:ea typeface="HG創英角ﾎﾟｯﾌﾟ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53080" y="1773360"/>
            <a:ext cx="3240000" cy="4316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8360" y="5300640"/>
            <a:ext cx="8207280" cy="1079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53080" y="2637000"/>
            <a:ext cx="324000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74080" y="1773360"/>
            <a:ext cx="21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estimate th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HGP明朝B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653080" y="3502080"/>
            <a:ext cx="324000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31560" y="3573360"/>
            <a:ext cx="3082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P明朝B"/>
              </a:rPr>
              <a:t>estimate the inclusive photon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950800" y="2637000"/>
            <a:ext cx="278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hadro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decay simulation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653080" y="4365720"/>
            <a:ext cx="324000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58040" y="4365720"/>
            <a:ext cx="1823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direct photon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21440" y="2278080"/>
            <a:ext cx="360360" cy="289080"/>
          </a:xfrm>
          <a:prstGeom prst="flowChartMerg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21440" y="3141720"/>
            <a:ext cx="360360" cy="288720"/>
          </a:xfrm>
          <a:prstGeom prst="flowChartMerg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21440" y="4005360"/>
            <a:ext cx="360360" cy="288720"/>
          </a:xfrm>
          <a:prstGeom prst="flowChartMerg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32520" y="5383080"/>
            <a:ext cx="70689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  <a:ea typeface="HGP明朝B"/>
              </a:rPr>
              <a:t>We estimate the </a:t>
            </a:r>
            <a:r>
              <a:rPr b="0" lang="ja-JP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 baseline="30000">
                <a:solidFill>
                  <a:srgbClr val="ffffff"/>
                </a:solidFill>
                <a:latin typeface="Arial"/>
                <a:ea typeface="HGP明朝B"/>
              </a:rPr>
              <a:t>0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  <a:ea typeface="HGP明朝B"/>
              </a:rPr>
              <a:t> v</a:t>
            </a:r>
            <a:r>
              <a:rPr b="0" lang="ja-JP" sz="1800" spc="-1" strike="noStrike" baseline="-25000">
                <a:solidFill>
                  <a:srgbClr val="ffffff"/>
                </a:solidFill>
                <a:latin typeface="Arial"/>
                <a:ea typeface="HGP明朝B"/>
              </a:rPr>
              <a:t>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  <a:ea typeface="HGP明朝B"/>
              </a:rPr>
              <a:t> more than 1 GeV p</a:t>
            </a:r>
            <a:r>
              <a:rPr b="0" lang="ja-JP" sz="1800" spc="-1" strike="noStrike" baseline="-25000">
                <a:solidFill>
                  <a:srgbClr val="ffffff"/>
                </a:solidFill>
                <a:latin typeface="Arial"/>
                <a:ea typeface="HGP明朝B"/>
              </a:rPr>
              <a:t>T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  <a:ea typeface="HGP明朝B"/>
              </a:rPr>
              <a:t> region (work in progre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  <a:ea typeface="HGP明朝B"/>
              </a:rPr>
              <a:t>This plot compared to charged hadron v</a:t>
            </a:r>
            <a:r>
              <a:rPr b="0" lang="ja-JP" sz="1800" spc="-1" strike="noStrike" baseline="-25000">
                <a:solidFill>
                  <a:srgbClr val="ffffff"/>
                </a:solidFill>
                <a:latin typeface="Arial"/>
                <a:ea typeface="HGP明朝B"/>
              </a:rPr>
              <a:t>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  <a:ea typeface="HGP明朝B"/>
              </a:rPr>
              <a:t> (PHENIX preliminary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  <a:ea typeface="HGP明朝B"/>
              </a:rPr>
              <a:t>and run 2 resu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628000" y="213372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HGP明朝B"/>
              </a:rPr>
              <a:t>work in prog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4EF3-AC6C-4845-9BEF-FFC6D75FA97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/Mar/2006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5761080" cy="43214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826200" y="285840"/>
            <a:ext cx="71406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4-2. result </a:t>
            </a:r>
            <a:r>
              <a:rPr b="0" lang="en-US" sz="24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~ hadron (</a:t>
            </a:r>
            <a:r>
              <a:rPr b="0" lang="en-US" sz="2400" spc="-1" strike="noStrike" u="sng">
                <a:solidFill>
                  <a:srgbClr val="ffccff"/>
                </a:solidFill>
                <a:uFillTx/>
                <a:latin typeface="Symbol"/>
                <a:ea typeface="Symbol"/>
              </a:rPr>
              <a:t></a:t>
            </a:r>
            <a:r>
              <a:rPr b="0" lang="en-US" sz="2400" spc="-1" strike="noStrike" u="sng" baseline="30000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0</a:t>
            </a:r>
            <a:r>
              <a:rPr b="0" lang="en-US" sz="24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 or </a:t>
            </a:r>
            <a:r>
              <a:rPr b="0" lang="en-US" sz="2400" spc="-1" strike="noStrike" u="sng">
                <a:solidFill>
                  <a:srgbClr val="ffccff"/>
                </a:solidFill>
                <a:uFillTx/>
                <a:latin typeface="Symbol"/>
                <a:ea typeface="Symbol"/>
              </a:rPr>
              <a:t></a:t>
            </a:r>
            <a:r>
              <a:rPr b="0" lang="en-US" sz="24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) decay photon v</a:t>
            </a:r>
            <a:r>
              <a:rPr b="0" lang="en-US" sz="2400" spc="-1" strike="noStrike" u="sng" baseline="-25000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2 </a:t>
            </a:r>
            <a:r>
              <a:rPr b="0" lang="en-US" sz="24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~</a:t>
            </a:r>
            <a:r>
              <a:rPr b="0" lang="en-US" sz="2000" spc="-1" strike="noStrike" u="sng">
                <a:solidFill>
                  <a:srgbClr val="ffccff"/>
                </a:solidFill>
                <a:uFillTx/>
                <a:latin typeface="Arial Black"/>
                <a:ea typeface="HG創英角ﾎﾟｯﾌﾟ体"/>
              </a:rPr>
              <a:t>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 Black"/>
                <a:ea typeface="HG創英角ﾎﾟｯﾌﾟ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653080" y="1773360"/>
            <a:ext cx="324000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5300640"/>
            <a:ext cx="8207280" cy="1079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653080" y="2637000"/>
            <a:ext cx="3240000" cy="4316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53080" y="3502080"/>
            <a:ext cx="324000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53080" y="4365720"/>
            <a:ext cx="324000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21440" y="2278080"/>
            <a:ext cx="360360" cy="289080"/>
          </a:xfrm>
          <a:prstGeom prst="flowChartMerg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021440" y="3141720"/>
            <a:ext cx="360360" cy="288720"/>
          </a:xfrm>
          <a:prstGeom prst="flowChartMerg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21440" y="4005360"/>
            <a:ext cx="360360" cy="288720"/>
          </a:xfrm>
          <a:prstGeom prst="flowChartMerg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2160" y="5383080"/>
            <a:ext cx="724752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  <a:ea typeface="HGP明朝B"/>
              </a:rPr>
              <a:t>This plot shows the hadron (</a:t>
            </a:r>
            <a:r>
              <a:rPr b="0" lang="ja-JP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 baseline="30000">
                <a:solidFill>
                  <a:srgbClr val="ffffff"/>
                </a:solidFill>
                <a:latin typeface="Arial"/>
                <a:ea typeface="HGP明朝B"/>
              </a:rPr>
              <a:t>0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  <a:ea typeface="HGP明朝B"/>
              </a:rPr>
              <a:t> or </a:t>
            </a:r>
            <a:r>
              <a:rPr b="0" lang="ja-JP" sz="18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  <a:ea typeface="HGP明朝B"/>
              </a:rPr>
              <a:t>) decay photon from </a:t>
            </a:r>
            <a:r>
              <a:rPr b="0" lang="ja-JP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 baseline="30000">
                <a:solidFill>
                  <a:srgbClr val="ffffff"/>
                </a:solidFill>
                <a:latin typeface="Arial"/>
                <a:ea typeface="HGP明朝B"/>
              </a:rPr>
              <a:t>0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  <a:ea typeface="HGP明朝B"/>
              </a:rPr>
              <a:t> or Kaon v</a:t>
            </a:r>
            <a:r>
              <a:rPr b="0" lang="ja-JP" sz="1800" spc="-1" strike="noStrike" baseline="-25000">
                <a:solidFill>
                  <a:srgbClr val="ffffff"/>
                </a:solidFill>
                <a:latin typeface="Arial"/>
                <a:ea typeface="HGP明朝B"/>
              </a:rPr>
              <a:t>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  <a:ea typeface="HGP明朝B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  <a:ea typeface="HGP明朝B"/>
              </a:rPr>
              <a:t>Input of </a:t>
            </a:r>
            <a:r>
              <a:rPr b="0" lang="ja-JP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 baseline="30000">
                <a:solidFill>
                  <a:srgbClr val="ffffff"/>
                </a:solidFill>
                <a:latin typeface="Arial"/>
                <a:ea typeface="HGP明朝B"/>
              </a:rPr>
              <a:t>0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  <a:ea typeface="HGP明朝B"/>
              </a:rPr>
              <a:t> decay photon is fitting function of </a:t>
            </a:r>
            <a:r>
              <a:rPr b="0" lang="ja-JP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 baseline="30000">
                <a:solidFill>
                  <a:srgbClr val="ffffff"/>
                </a:solidFill>
                <a:latin typeface="Arial"/>
                <a:ea typeface="HGP明朝B"/>
              </a:rPr>
              <a:t>0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  <a:ea typeface="HGP明朝B"/>
              </a:rPr>
              <a:t> v</a:t>
            </a:r>
            <a:r>
              <a:rPr b="0" lang="ja-JP" sz="1800" spc="-1" strike="noStrike" baseline="-25000">
                <a:solidFill>
                  <a:srgbClr val="ffffff"/>
                </a:solidFill>
                <a:latin typeface="Arial"/>
                <a:ea typeface="HGP明朝B"/>
              </a:rPr>
              <a:t>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  <a:ea typeface="HGP明朝B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  <a:ea typeface="HGP明朝B"/>
              </a:rPr>
              <a:t>Input of </a:t>
            </a:r>
            <a:r>
              <a:rPr b="0" lang="ja-JP" sz="18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  <a:ea typeface="HGP明朝B"/>
              </a:rPr>
              <a:t> decay photon is Kaon v</a:t>
            </a:r>
            <a:r>
              <a:rPr b="0" lang="ja-JP" sz="1800" spc="-1" strike="noStrike" baseline="-25000">
                <a:solidFill>
                  <a:srgbClr val="ffffff"/>
                </a:solidFill>
                <a:latin typeface="Arial"/>
                <a:ea typeface="HGP明朝B"/>
              </a:rPr>
              <a:t>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  <a:ea typeface="HGP明朝B"/>
              </a:rPr>
              <a:t> (PHENIX preliminar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28000" y="213372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HGP明朝B"/>
              </a:rPr>
              <a:t>work in prog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950800" y="2637000"/>
            <a:ext cx="278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hadro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decay simulation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74080" y="1773360"/>
            <a:ext cx="21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estimate th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HGP明朝B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31560" y="3573360"/>
            <a:ext cx="3082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P明朝B"/>
              </a:rPr>
              <a:t>estimate the inclusive photon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P明朝B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458040" y="4365720"/>
            <a:ext cx="1823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direct photon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HGP明朝B"/>
              </a:rPr>
              <a:t>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ntaro MI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BEB6-AB58-4064-B775-E81B3731004E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/Mar/20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19:29:14Z</dcterms:created>
  <dc:creator>M</dc:creator>
  <dc:description/>
  <dc:language>en-US</dc:language>
  <cp:lastModifiedBy>M</cp:lastModifiedBy>
  <dcterms:modified xsi:type="dcterms:W3CDTF">2006-03-26T12:31:58Z</dcterms:modified>
  <cp:revision>695</cp:revision>
  <dc:subject/>
  <dc:title>Weekly Report</dc:title>
</cp:coreProperties>
</file>