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6CB3-5AA4-4D52-AEE9-9AB25DD76A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8860-67D0-4181-8D79-27E40CD6D6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CD8-72EB-4BDA-BCC4-FE566303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C95-8FF3-493B-B950-9827DE5D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BBE-5A1A-4F4E-8DC1-93B0BB9F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F9A-C7DA-4416-A3F2-E2A770FD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520-ABC0-482B-A8B9-446B7E23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618-AF3D-44CA-A5BB-D0A03ED4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035-AFA0-42D3-92F8-40D70A2D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E2E-DDE5-485D-9B32-1E978803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BD2-BAF9-4660-8A35-0C3D4D75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F90-4B77-44EA-9FC2-A08E147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743-4387-4D4A-96D1-93C6BF5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E49-0F00-41EA-A482-1650EFA7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3B0A-B530-4612-8885-D12534BB0E1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800" y="6550200"/>
            <a:ext cx="36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PS 2006 Spring (Ehime University, 3/27/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41440" y="65502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Kon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85560" y="1768320"/>
            <a:ext cx="6750720" cy="217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 Charged Had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√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00 GeV Au+Au Colli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RHIC-PH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41400" y="4586400"/>
            <a:ext cx="55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ahiro Ko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. of Tsukuba, for the PHENIX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814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3160" y="95400"/>
            <a:ext cx="1863720" cy="59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644400" cy="64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52E-50B8-4706-85FB-C4484973CE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1346040"/>
            <a:ext cx="7137360" cy="3335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8080" y="106200"/>
            <a:ext cx="173844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3920" y="965160"/>
            <a:ext cx="2135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72080" y="46227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6160" y="5079960"/>
            <a:ext cx="65188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bar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atios seem to turn over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lose to the value of fragmentation at highe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ill large systematic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20760" y="104148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728960" y="1041480"/>
            <a:ext cx="603000" cy="459720"/>
            <a:chOff x="4728960" y="1041480"/>
            <a:chExt cx="603000" cy="459720"/>
          </a:xfrm>
        </p:grpSpPr>
        <p:sp>
          <p:nvSpPr>
            <p:cNvPr id="140" name=""/>
            <p:cNvSpPr/>
            <p:nvPr/>
          </p:nvSpPr>
          <p:spPr>
            <a:xfrm>
              <a:off x="4728960" y="104148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00600" y="11174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340-6EEC-4798-A147-F27630CAFA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1160640"/>
            <a:ext cx="8458200" cy="4146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9080" y="762120"/>
            <a:ext cx="2135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320" y="106200"/>
            <a:ext cx="406872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entrality de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5680" y="5791320"/>
            <a:ext cx="690156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s look to have a peak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-4 GeV/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ear peak in central events than that in periph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57880" y="7761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760" y="172548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0640" y="3782880"/>
            <a:ext cx="603000" cy="459720"/>
            <a:chOff x="80640" y="3782880"/>
            <a:chExt cx="603000" cy="459720"/>
          </a:xfrm>
        </p:grpSpPr>
        <p:sp>
          <p:nvSpPr>
            <p:cNvPr id="149" name=""/>
            <p:cNvSpPr/>
            <p:nvPr/>
          </p:nvSpPr>
          <p:spPr>
            <a:xfrm>
              <a:off x="80640" y="378288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80" y="38588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95280" y="530712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45080" y="53071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240" y="53182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FAD-8C17-4B0F-A8F5-C2FE712CA8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137360" cy="3335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1320" y="106200"/>
            <a:ext cx="406872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entrality de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7600" y="1066680"/>
            <a:ext cx="2135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4800" y="114300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52640" y="1143000"/>
            <a:ext cx="603000" cy="459720"/>
            <a:chOff x="4652640" y="1143000"/>
            <a:chExt cx="603000" cy="459720"/>
          </a:xfrm>
        </p:grpSpPr>
        <p:sp>
          <p:nvSpPr>
            <p:cNvPr id="159" name=""/>
            <p:cNvSpPr/>
            <p:nvPr/>
          </p:nvSpPr>
          <p:spPr>
            <a:xfrm>
              <a:off x="4652640" y="1143000"/>
              <a:ext cx="603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/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4280" y="12189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646640" y="5537160"/>
            <a:ext cx="6354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ty dependence seen in the magnitu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 in peripheral lies slightly above the p+p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59480" y="4708440"/>
            <a:ext cx="34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+p data (nucl-ex/0603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F59-265E-4459-A66A-4917BB2FEC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8320" y="152280"/>
            <a:ext cx="43243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ison wit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05600" y="304920"/>
            <a:ext cx="2657520" cy="3200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0" y="3494160"/>
            <a:ext cx="3276720" cy="2220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59800" y="448452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85800" y="990720"/>
            <a:ext cx="2971800" cy="2280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47880" y="1817640"/>
            <a:ext cx="603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65840" y="838080"/>
            <a:ext cx="20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 69, 034908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85400" y="228600"/>
            <a:ext cx="20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 68, 044902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733920" y="1076400"/>
            <a:ext cx="2286000" cy="22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32720" y="838080"/>
            <a:ext cx="20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 67, 034902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888840" y="3352680"/>
            <a:ext cx="3302280" cy="2371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69800" y="320040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L 90, 202302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6240" y="5765760"/>
            <a:ext cx="727020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look through several mode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ombination, hydro+jet, …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 mechanism of hadron production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295-0DA8-4525-9053-D4A2C98AC6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68280" y="304920"/>
            <a:ext cx="17658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82800" y="960480"/>
            <a:ext cx="77004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h of P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pecially for p, pba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nd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+Au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ew PID detector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ill work-in-prog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ar/p rat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 centrality o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t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trality dependence seen in the magnitu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dicating transition from soft to hard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465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7680" y="4952880"/>
            <a:ext cx="71542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mprove data analysis, reduce sys. errors for PID at hig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Run5 p+p (abundant) data to mak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highe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PC-T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00p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installed for PID up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080" y="4678200"/>
            <a:ext cx="9730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E02-0E6B-4BEB-9A08-F2AAC5CEC5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3320" y="2971800"/>
            <a:ext cx="330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5F2-185A-4D75-BC22-F9227FF774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13800" y="5079960"/>
            <a:ext cx="6381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ss square cut 2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lection on EMCal-T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ith (without) requir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erenkov light from Aero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Clear pion signal above the threshold (~1 GeV/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Proton separation up to ~7 GeV/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495680" cy="4114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1041480"/>
            <a:ext cx="99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1041480"/>
            <a:ext cx="1676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erogel V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2819520"/>
            <a:ext cx="1676520" cy="76176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952880" y="3580920"/>
            <a:ext cx="685800" cy="121932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800600"/>
            <a:ext cx="228600" cy="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06680" y="4572000"/>
            <a:ext cx="234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Clear Proton Lin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45200" y="3352680"/>
            <a:ext cx="4122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8640" y="46450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62760" y="2209680"/>
            <a:ext cx="4734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4640" y="1523880"/>
            <a:ext cx="32076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960" y="2286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D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829-D1A4-4553-89B3-4E6D033BFC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4724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7440" y="320760"/>
            <a:ext cx="30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d pion sp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with 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8AE-BF50-4FFD-883E-6E82642D93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0" r="5859" b="0"/>
          <a:stretch/>
        </p:blipFill>
        <p:spPr>
          <a:xfrm>
            <a:off x="4862520" y="1057320"/>
            <a:ext cx="3773520" cy="328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0" r="7211" b="0"/>
          <a:stretch/>
        </p:blipFill>
        <p:spPr>
          <a:xfrm>
            <a:off x="298440" y="927000"/>
            <a:ext cx="4273560" cy="323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2787120" y="2043000"/>
            <a:ext cx="690840" cy="34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60840" y="1649520"/>
            <a:ext cx="190476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ntral 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698920" y="2717640"/>
            <a:ext cx="434880" cy="149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60720" y="2627280"/>
            <a:ext cx="18748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 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28600"/>
            <a:ext cx="40384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atio in Cu+Cu / Au+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5800" y="4952880"/>
            <a:ext cx="6665400" cy="14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- Observed a large p,pbar contribution at intermediat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as seen in 200 GeV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p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dependences on particle ratios have similar tr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as in Au+Au 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p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scal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24600" y="44197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A73-D603-4890-A591-D2C41AC8C3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8431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2280" y="157320"/>
            <a:ext cx="228600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5486400"/>
            <a:ext cx="762012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imilarity o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n in Cu+Cu and Au+A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magnitude of enhancement/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rticle typ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8320" y="84312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419720" y="843120"/>
            <a:ext cx="2819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843120"/>
            <a:ext cx="2819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1440" y="750960"/>
            <a:ext cx="26863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Central (30-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520" y="741240"/>
            <a:ext cx="2056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+Cu 20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(0-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9680" y="233280"/>
            <a:ext cx="122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~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0880" y="233280"/>
            <a:ext cx="139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~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396720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290052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91080" y="50292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feed-down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55F-F2FE-45EA-9A23-B509B4BEF2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8240" y="736560"/>
            <a:ext cx="496188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Physics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HENIX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tra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rticle Identification (P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ackground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tra (proton, antipro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bar/p ratio vs.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 vs.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Comparison wit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Summ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7080" y="304920"/>
            <a:ext cx="15508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269-C0D3-4D9D-8F63-B843B291AD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9320" y="2286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mp in the h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4127400" cy="5486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50600" y="730080"/>
            <a:ext cx="23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C 69, 034910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30120" y="4495680"/>
            <a:ext cx="41522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 (pp,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~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5 GeV/c and in periph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: recover normal frag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710-7161-49C1-8A95-059B07EB0531}" type="slidenum">
              <a:t>20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6440" y="182520"/>
            <a:ext cx="33382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s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5200" y="4902120"/>
            <a:ext cx="3553200" cy="9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-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up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on energy loss in th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et quench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280" y="2050920"/>
            <a:ext cx="3962520" cy="2597400"/>
            <a:chOff x="152280" y="2050920"/>
            <a:chExt cx="3962520" cy="25974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2066400"/>
              <a:ext cx="3962520" cy="25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09480" y="2050920"/>
              <a:ext cx="3454200" cy="22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610920" y="174636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+Au 2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rcRect l="0" t="5441" r="4146" b="0"/>
          <a:stretch/>
        </p:blipFill>
        <p:spPr>
          <a:xfrm>
            <a:off x="4514760" y="1920960"/>
            <a:ext cx="4248360" cy="2803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1972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54280" y="172080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-ex/0603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3800" y="4865760"/>
            <a:ext cx="4227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suppression patterns de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particle typ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ns are enhanc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pions and kaons are suppr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760" y="838080"/>
            <a:ext cx="44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clear Modification Factor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410080" y="403200"/>
                <a:ext cx="3276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dh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d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F0F-12FA-43C1-B5A1-A807491FCA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1638360"/>
            <a:ext cx="4572000" cy="3009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84080" y="1339920"/>
            <a:ext cx="22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L 91, 172301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8240" y="5078520"/>
            <a:ext cx="6809760" cy="126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io ~1 for central Au+Au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-4 GeV/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than expected from fragmentation (measured in pp,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yon / Meson difference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uclear modification factor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lliptic flow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9640" y="1981080"/>
            <a:ext cx="3984480" cy="9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distinguish the differen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ons and p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intermediate and highe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808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46120" y="1023840"/>
            <a:ext cx="3531600" cy="67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origin of (anti-)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hanc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intermediat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5440" y="3200400"/>
            <a:ext cx="36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sources (medium effect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rong rad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aryon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7616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ryon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4724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6400" y="3049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28600"/>
            <a:ext cx="762120" cy="609480"/>
          </a:xfrm>
          <a:prstGeom prst="rightArrow">
            <a:avLst>
              <a:gd name="adj1" fmla="val 50000"/>
              <a:gd name="adj2" fmla="val 31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120" y="152280"/>
            <a:ext cx="33382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s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6F8-94EC-4A21-87AD-710348E0A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9160" y="200160"/>
            <a:ext cx="308844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IX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95680" y="930240"/>
            <a:ext cx="4267440" cy="2895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2560" y="2513160"/>
            <a:ext cx="36936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Hadron Identification at High p</a:t>
            </a:r>
            <a:r>
              <a:rPr b="0" lang="ja-JP" sz="20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n = 1.01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Full installation in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 Proton separation from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π/K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p to 8 GeV/c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3360" y="2009880"/>
            <a:ext cx="334764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erogel Cherenkov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073240"/>
            <a:ext cx="457200" cy="762120"/>
          </a:xfrm>
          <a:prstGeom prst="ellipse">
            <a:avLst/>
          </a:prstGeom>
          <a:noFill/>
          <a:ln w="442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225520"/>
            <a:ext cx="1600200" cy="1526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8720" y="457200"/>
            <a:ext cx="98676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6120" y="1036800"/>
            <a:ext cx="708120" cy="42912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57440" y="838080"/>
            <a:ext cx="152280" cy="6858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924320" y="1463760"/>
            <a:ext cx="304920" cy="106668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33000" y="3902040"/>
            <a:ext cx="241956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ft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omentum mea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095520" y="2758680"/>
            <a:ext cx="1219320" cy="114300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4880" y="4800600"/>
            <a:ext cx="2266920" cy="764280"/>
          </a:xfrm>
          <a:prstGeom prst="rect">
            <a:avLst/>
          </a:prstGeom>
          <a:solidFill>
            <a:srgbClr val="ffc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ing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C1,PC2,PC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715000" y="3521160"/>
            <a:ext cx="380880" cy="1279440"/>
          </a:xfrm>
          <a:prstGeom prst="line">
            <a:avLst/>
          </a:prstGeom>
          <a:ln w="2844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3341400">
            <a:off x="5599800" y="27972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6480" y="912960"/>
            <a:ext cx="3630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entral Arm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gnetic spectro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vent Characteriza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4038480"/>
            <a:ext cx="3657600" cy="245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00600" y="4267080"/>
            <a:ext cx="158580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D82-97B1-4A8C-AAC3-1A91EE692A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0480" y="200160"/>
            <a:ext cx="24789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4080" y="838080"/>
            <a:ext cx="6281280" cy="25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ta set: Au+Au 200 Ge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ken in Run4, 2003-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40M events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d Hadron P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erog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or PID extension toward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Run4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Sim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ceptance, efficiency (occupancy) corr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 feed-down cor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449604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5280" y="38098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G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8080" y="6292800"/>
            <a:ext cx="27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 matching residual (a.u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80" y="5181480"/>
            <a:ext cx="33631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dom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lectrons from photon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cay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5053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2920" y="430380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sidual b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1360" y="3886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N~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9280" y="38862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N~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6960" y="51814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N~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9280" y="51814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N~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1840" y="5105520"/>
            <a:ext cx="102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~7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47680" y="5105520"/>
            <a:ext cx="102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~6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71840" y="3733920"/>
            <a:ext cx="102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~5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7680" y="3733920"/>
            <a:ext cx="102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~4 GeV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8E4-26E8-4DCE-9DA3-E3E7AF860A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84160" y="2819520"/>
            <a:ext cx="197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5B8-F43B-4261-816F-BEE2316B0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6280" y="152280"/>
            <a:ext cx="2628360" cy="1136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(anti-)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2733840"/>
            <a:ext cx="5943600" cy="4124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6248160" cy="2595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21840" y="4746600"/>
            <a:ext cx="333072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reach 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(anti-)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fine centrality b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5775480"/>
            <a:ext cx="2135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6880" y="1812960"/>
            <a:ext cx="2135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2DB-0B95-49EA-99CD-388A27FB2A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62160" cy="2622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2508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9480" y="152280"/>
            <a:ext cx="2239560" cy="648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bar/p vs.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981080"/>
            <a:ext cx="80773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5035680"/>
            <a:ext cx="24382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07000" y="4594320"/>
            <a:ext cx="396504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ty 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p to 6 GeV/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2800" y="3809880"/>
            <a:ext cx="2135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0532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45080" y="35053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7240" y="35164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3920" y="517680"/>
            <a:ext cx="2135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0AC-827F-4F99-A664-F9245F66C0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4:40:05Z</dcterms:created>
  <dc:creator>M. Konno</dc:creator>
  <dc:description/>
  <dc:language>en-US</dc:language>
  <cp:lastModifiedBy>M. Konno</cp:lastModifiedBy>
  <cp:lastPrinted>2006-03-24T18:50:38Z</cp:lastPrinted>
  <dcterms:modified xsi:type="dcterms:W3CDTF">2006-03-25T18:33:08Z</dcterms:modified>
  <cp:revision>94</cp:revision>
  <dc:subject/>
  <dc:title>PowerPoint プレゼンテーション</dc:title>
</cp:coreProperties>
</file>