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48488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EE6-D1DC-40C0-8E21-681AA51B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0E5-3689-4979-88EF-C34E5B65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F87-F01C-40AF-B89D-848E5B41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C67-5E97-4B07-88CE-75056F58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19240" y="30240"/>
            <a:ext cx="870552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9C3-886A-4B3C-8EC4-89A3DA20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C7F-2AC4-438F-AE98-930549A2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C59-11B8-4902-8CAF-70026D01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0FF-758F-4A64-9ED9-4512DBB9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9240" y="30240"/>
            <a:ext cx="870552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6F6-22D2-4F27-8EAD-4FCE46DB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D38-CCEF-488A-8151-8B6B3A6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7AD-AC6C-4A71-AFB8-F7F75CF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205-4558-48AD-918A-AFFE9206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7560" y="6741360"/>
            <a:ext cx="9159840" cy="7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84320" y="65242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826320" y="65242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298A-1B91-4A51-B09A-81546654E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10040" y="228600"/>
            <a:ext cx="5135400" cy="268200"/>
          </a:xfrm>
          <a:prstGeom prst="rect">
            <a:avLst/>
          </a:prstGeom>
          <a:solidFill>
            <a:srgbClr val="514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95560" y="457200"/>
            <a:ext cx="2814480" cy="360360"/>
          </a:xfrm>
          <a:prstGeom prst="rect">
            <a:avLst/>
          </a:prstGeom>
          <a:solidFill>
            <a:srgbClr val="292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10040" y="457200"/>
            <a:ext cx="5133960" cy="380880"/>
          </a:xfrm>
          <a:prstGeom prst="rect">
            <a:avLst/>
          </a:prstGeom>
          <a:solidFill>
            <a:srgbClr val="777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8136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506400" y="508428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545256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0800000">
            <a:off x="688680" y="3502080"/>
            <a:ext cx="7769160" cy="71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10040" y="228600"/>
            <a:ext cx="5135400" cy="268200"/>
          </a:xfrm>
          <a:prstGeom prst="rect">
            <a:avLst/>
          </a:prstGeom>
          <a:solidFill>
            <a:srgbClr val="514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95560" y="457200"/>
            <a:ext cx="2814480" cy="360360"/>
          </a:xfrm>
          <a:prstGeom prst="rect">
            <a:avLst/>
          </a:prstGeom>
          <a:solidFill>
            <a:srgbClr val="292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10040" y="457200"/>
            <a:ext cx="5133960" cy="380880"/>
          </a:xfrm>
          <a:prstGeom prst="rect">
            <a:avLst/>
          </a:prstGeom>
          <a:solidFill>
            <a:srgbClr val="777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6308640"/>
            <a:ext cx="822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Sep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42120" y="508464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Bookman Old Style"/>
              </a:rPr>
              <a:t>Kentaro MIKI for the PHENIX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Bookman Old Style"/>
              </a:rPr>
              <a:t>University of Tsuk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1640" y="4292640"/>
            <a:ext cx="58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HGP明朝B"/>
              </a:rPr>
              <a:t>The Physical Society of Japan 62th Annual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5200" y="1197000"/>
            <a:ext cx="742284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6600"/>
                </a:solidFill>
                <a:latin typeface="ＭＳ Ｐゴシック"/>
              </a:rPr>
              <a:t>RHIC-PHENIX</a:t>
            </a:r>
            <a:r>
              <a:rPr b="1" lang="ja-JP" sz="3200" spc="-1" strike="noStrike">
                <a:solidFill>
                  <a:srgbClr val="ff6600"/>
                </a:solidFill>
                <a:latin typeface="ＭＳ Ｐゴシック"/>
              </a:rPr>
              <a:t>実験における高横運動量領域で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6600"/>
                </a:solidFill>
                <a:latin typeface="ＭＳ Ｐゴシック"/>
              </a:rPr>
              <a:t>直接光子の楕円的方位角異方性の測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HGP明朝B"/>
              </a:rPr>
              <a:t>Azimuthal anisotropy measurement of high p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  <a:ea typeface="HGP明朝B"/>
              </a:rPr>
              <a:t>T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HGP明朝B"/>
              </a:rPr>
              <a:t> direct ph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HGP明朝B"/>
              </a:rPr>
              <a:t>in sqrt{s_NN}=200GeV Au+Au collisions at RHIC-PHE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712080" y="285840"/>
            <a:ext cx="54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1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“subtracted” photon ~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50920" y="5292720"/>
            <a:ext cx="4968720" cy="1224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066360" y="56088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mme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785440" cy="4465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193840" y="148428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7840" y="148428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86200" y="371628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93840" y="371628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AE0-52DC-4507-ADA3-55751E19AF0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33880" y="285840"/>
            <a:ext cx="29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5-1. Next step …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319640" cy="3033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19880" y="922320"/>
            <a:ext cx="68709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For the improvemen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- Improvement of double ratio by more statistics or etc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It is possible to expect to improvement in middle ~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920" y="5681520"/>
            <a:ext cx="6188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To the improvement in low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region, try to othe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Ex. conversion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4248360" cy="28810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411640" y="263700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red : ru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HGP明朝B"/>
              </a:rPr>
              <a:t>blue : ru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2520" y="5013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ouble ratio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3000" y="4941720"/>
            <a:ext cx="175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A94-5D1E-406C-B62B-48EFB8D187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961080" cy="28828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33160" y="285840"/>
            <a:ext cx="29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5-2. Next step …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516120" cy="40338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15000" y="928800"/>
            <a:ext cx="616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rmal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will be measured by conversion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2361960" cy="2303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2771640" y="4076640"/>
            <a:ext cx="2372040" cy="240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514-DF69-46E4-B656-E22C1C16108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113440" cy="2808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8785440" cy="2852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6160" y="285840"/>
            <a:ext cx="4685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direct photon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2879640" cy="11048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186200" y="5877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39280" y="5877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14560" y="299736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8920" y="5877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CE2-76B1-4390-A49A-F629BD83646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907920"/>
            <a:ext cx="7848720" cy="64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400" y="28584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1. Direct ph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6048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771640" y="3284280"/>
            <a:ext cx="2062440" cy="1368360"/>
            <a:chOff x="2771640" y="3284280"/>
            <a:chExt cx="2062440" cy="1368360"/>
          </a:xfrm>
        </p:grpSpPr>
        <p:sp>
          <p:nvSpPr>
            <p:cNvPr id="101" name=""/>
            <p:cNvSpPr/>
            <p:nvPr/>
          </p:nvSpPr>
          <p:spPr>
            <a:xfrm>
              <a:off x="2771640" y="3968640"/>
              <a:ext cx="206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814920" y="328428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678120" y="3674880"/>
              <a:ext cx="273240" cy="566640"/>
              <a:chOff x="3678120" y="3674880"/>
              <a:chExt cx="273240" cy="566640"/>
            </a:xfrm>
          </p:grpSpPr>
          <p:sp>
            <p:nvSpPr>
              <p:cNvPr id="104" name=""/>
              <p:cNvSpPr/>
              <p:nvPr/>
            </p:nvSpPr>
            <p:spPr>
              <a:xfrm>
                <a:off x="3678120" y="3675240"/>
                <a:ext cx="272520" cy="564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78120" y="3945240"/>
                <a:ext cx="273240" cy="296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678120" y="3946320"/>
                <a:ext cx="272160" cy="6300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78120" y="3674880"/>
                <a:ext cx="272520" cy="564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 rot="16200000">
              <a:off x="3696480" y="3337560"/>
              <a:ext cx="249120" cy="33984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840"/>
                <a:gd name="textAreaBottom" fmla="*/ 25452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3696480" y="4266360"/>
              <a:ext cx="249120" cy="33984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840"/>
                <a:gd name="textAreaBottom" fmla="*/ 25452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8596800">
              <a:off x="3233520" y="4093560"/>
              <a:ext cx="357120" cy="330480"/>
            </a:xfrm>
            <a:custGeom>
              <a:avLst/>
              <a:gdLst>
                <a:gd name="textAreaLeft" fmla="*/ 55800 w 357120"/>
                <a:gd name="textAreaRight" fmla="*/ 299880 w 357120"/>
                <a:gd name="textAreaTop" fmla="*/ 83160 h 330480"/>
                <a:gd name="textAreaBottom" fmla="*/ 247320 h 3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2922120" y="3796920"/>
              <a:ext cx="560520" cy="330120"/>
            </a:xfrm>
            <a:custGeom>
              <a:avLst/>
              <a:gdLst>
                <a:gd name="textAreaLeft" fmla="*/ 87480 w 560520"/>
                <a:gd name="textAreaRight" fmla="*/ 470880 w 56052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3749600">
              <a:off x="3269880" y="3435120"/>
              <a:ext cx="349200" cy="339840"/>
            </a:xfrm>
            <a:custGeom>
              <a:avLst/>
              <a:gdLst>
                <a:gd name="textAreaLeft" fmla="*/ 54360 w 349200"/>
                <a:gd name="textAreaRight" fmla="*/ 293400 w 349200"/>
                <a:gd name="textAreaTop" fmla="*/ 85320 h 339840"/>
                <a:gd name="textAreaBottom" fmla="*/ 25452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495400">
              <a:off x="4028760" y="4114800"/>
              <a:ext cx="358920" cy="330120"/>
            </a:xfrm>
            <a:custGeom>
              <a:avLst/>
              <a:gdLst>
                <a:gd name="textAreaLeft" fmla="*/ 55800 w 358920"/>
                <a:gd name="textAreaRight" fmla="*/ 301680 w 35892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9687800">
              <a:off x="4028760" y="3480840"/>
              <a:ext cx="358920" cy="328680"/>
            </a:xfrm>
            <a:custGeom>
              <a:avLst/>
              <a:gdLst>
                <a:gd name="textAreaLeft" fmla="*/ 55800 w 358920"/>
                <a:gd name="textAreaRight" fmla="*/ 301680 w 358920"/>
                <a:gd name="textAreaTop" fmla="*/ 82440 h 328680"/>
                <a:gd name="textAreaBottom" fmla="*/ 24624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30640" y="3801960"/>
              <a:ext cx="558720" cy="330120"/>
            </a:xfrm>
            <a:custGeom>
              <a:avLst/>
              <a:gdLst>
                <a:gd name="textAreaLeft" fmla="*/ 87120 w 558720"/>
                <a:gd name="textAreaRight" fmla="*/ 469440 w 55872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5280" y="3246480"/>
            <a:ext cx="2087280" cy="2246760"/>
            <a:chOff x="395280" y="3246480"/>
            <a:chExt cx="2087280" cy="224676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 rot="19997400">
              <a:off x="1476360" y="3428640"/>
              <a:ext cx="936720" cy="5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 rot="1821000">
              <a:off x="539640" y="4662000"/>
              <a:ext cx="93672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4208400"/>
              <a:ext cx="144360" cy="19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79640" y="4208400"/>
              <a:ext cx="144360" cy="19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6000" y="4142880"/>
              <a:ext cx="358920" cy="32472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9640" y="4273200"/>
              <a:ext cx="574920" cy="64080"/>
            </a:xfrm>
            <a:prstGeom prst="rightArrow">
              <a:avLst>
                <a:gd name="adj1" fmla="val 50000"/>
                <a:gd name="adj2" fmla="val 2242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1476360" y="4273200"/>
              <a:ext cx="574560" cy="64080"/>
            </a:xfrm>
            <a:prstGeom prst="rightArrow">
              <a:avLst>
                <a:gd name="adj1" fmla="val 50000"/>
                <a:gd name="adj2" fmla="val 22415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920" y="3817800"/>
              <a:ext cx="288720" cy="27612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1116000" y="4467600"/>
              <a:ext cx="287280" cy="32328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219640" y="3573360"/>
            <a:ext cx="1728720" cy="1942920"/>
            <a:chOff x="5219640" y="3573360"/>
            <a:chExt cx="1728720" cy="1942920"/>
          </a:xfrm>
        </p:grpSpPr>
        <p:sp>
          <p:nvSpPr>
            <p:cNvPr id="127" name=""/>
            <p:cNvSpPr/>
            <p:nvPr/>
          </p:nvSpPr>
          <p:spPr>
            <a:xfrm>
              <a:off x="5219640" y="4481280"/>
              <a:ext cx="144720" cy="194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04000" y="4481280"/>
              <a:ext cx="144360" cy="194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0360" y="4415760"/>
              <a:ext cx="358920" cy="32400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64360" y="4545360"/>
              <a:ext cx="574560" cy="64080"/>
            </a:xfrm>
            <a:prstGeom prst="rightArrow">
              <a:avLst>
                <a:gd name="adj1" fmla="val 50000"/>
                <a:gd name="adj2" fmla="val 22415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6300360" y="4545360"/>
              <a:ext cx="574920" cy="64080"/>
            </a:xfrm>
            <a:prstGeom prst="rightArrow">
              <a:avLst>
                <a:gd name="adj1" fmla="val 50000"/>
                <a:gd name="adj2" fmla="val 2242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56360" y="3573360"/>
              <a:ext cx="216000" cy="712440"/>
            </a:xfrm>
            <a:prstGeom prst="cloudCallout">
              <a:avLst>
                <a:gd name="adj1" fmla="val -63972"/>
                <a:gd name="adj2" fmla="val 80861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867280" y="4868280"/>
              <a:ext cx="216000" cy="648000"/>
            </a:xfrm>
            <a:prstGeom prst="cloudCallout">
              <a:avLst>
                <a:gd name="adj1" fmla="val -49268"/>
                <a:gd name="adj2" fmla="val 7907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54080" y="907920"/>
            <a:ext cx="24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直接光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　　測定される全ての光子から、ハドロン崩壊を起源に持つ光子を除いた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213000"/>
            <a:ext cx="2305080" cy="2303640"/>
          </a:xfrm>
          <a:prstGeom prst="wedgeRectCallout">
            <a:avLst>
              <a:gd name="adj1" fmla="val 46763"/>
              <a:gd name="adj2" fmla="val -70328"/>
            </a:avLst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3213000"/>
            <a:ext cx="2376360" cy="1584360"/>
          </a:xfrm>
          <a:prstGeom prst="wedgeRectCallout">
            <a:avLst>
              <a:gd name="adj1" fmla="val -5912"/>
              <a:gd name="adj2" fmla="val -76351"/>
            </a:avLst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3500280"/>
            <a:ext cx="2016360" cy="2089440"/>
          </a:xfrm>
          <a:prstGeom prst="rect">
            <a:avLst/>
          </a:prstGeom>
          <a:noFill/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152600">
            <a:off x="5866920" y="1844640"/>
            <a:ext cx="792360" cy="450720"/>
          </a:xfrm>
          <a:custGeom>
            <a:avLst/>
            <a:gdLst/>
            <a:ahLst/>
            <a:rect l="l" t="t" r="r" b="b"/>
            <a:pathLst>
              <a:path w="652" h="599">
                <a:moveTo>
                  <a:pt x="0" y="599"/>
                </a:moveTo>
                <a:lnTo>
                  <a:pt x="9" y="426"/>
                </a:lnTo>
                <a:lnTo>
                  <a:pt x="19" y="334"/>
                </a:lnTo>
                <a:lnTo>
                  <a:pt x="64" y="234"/>
                </a:lnTo>
                <a:lnTo>
                  <a:pt x="165" y="115"/>
                </a:lnTo>
                <a:lnTo>
                  <a:pt x="137" y="252"/>
                </a:lnTo>
                <a:lnTo>
                  <a:pt x="156" y="343"/>
                </a:lnTo>
                <a:lnTo>
                  <a:pt x="229" y="407"/>
                </a:lnTo>
                <a:lnTo>
                  <a:pt x="302" y="444"/>
                </a:lnTo>
                <a:lnTo>
                  <a:pt x="403" y="426"/>
                </a:lnTo>
                <a:lnTo>
                  <a:pt x="485" y="371"/>
                </a:lnTo>
                <a:lnTo>
                  <a:pt x="531" y="298"/>
                </a:lnTo>
                <a:lnTo>
                  <a:pt x="549" y="215"/>
                </a:lnTo>
                <a:lnTo>
                  <a:pt x="494" y="124"/>
                </a:lnTo>
                <a:lnTo>
                  <a:pt x="412" y="87"/>
                </a:lnTo>
                <a:lnTo>
                  <a:pt x="329" y="78"/>
                </a:lnTo>
                <a:lnTo>
                  <a:pt x="229" y="97"/>
                </a:lnTo>
                <a:lnTo>
                  <a:pt x="137" y="151"/>
                </a:lnTo>
                <a:lnTo>
                  <a:pt x="247" y="60"/>
                </a:lnTo>
                <a:lnTo>
                  <a:pt x="384" y="5"/>
                </a:ln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 rot="20308200">
            <a:off x="6011640" y="2545560"/>
            <a:ext cx="504720" cy="432000"/>
          </a:xfrm>
          <a:custGeom>
            <a:avLst/>
            <a:gdLst/>
            <a:ahLst/>
            <a:rect l="l" t="t" r="r" b="b"/>
            <a:pathLst>
              <a:path w="652" h="599">
                <a:moveTo>
                  <a:pt x="0" y="599"/>
                </a:moveTo>
                <a:lnTo>
                  <a:pt x="9" y="426"/>
                </a:lnTo>
                <a:lnTo>
                  <a:pt x="19" y="334"/>
                </a:lnTo>
                <a:lnTo>
                  <a:pt x="64" y="234"/>
                </a:lnTo>
                <a:lnTo>
                  <a:pt x="165" y="115"/>
                </a:lnTo>
                <a:lnTo>
                  <a:pt x="137" y="252"/>
                </a:lnTo>
                <a:lnTo>
                  <a:pt x="156" y="343"/>
                </a:lnTo>
                <a:lnTo>
                  <a:pt x="229" y="407"/>
                </a:lnTo>
                <a:lnTo>
                  <a:pt x="302" y="444"/>
                </a:lnTo>
                <a:lnTo>
                  <a:pt x="403" y="426"/>
                </a:lnTo>
                <a:lnTo>
                  <a:pt x="485" y="371"/>
                </a:lnTo>
                <a:lnTo>
                  <a:pt x="531" y="298"/>
                </a:lnTo>
                <a:lnTo>
                  <a:pt x="549" y="215"/>
                </a:lnTo>
                <a:lnTo>
                  <a:pt x="494" y="124"/>
                </a:lnTo>
                <a:lnTo>
                  <a:pt x="412" y="87"/>
                </a:lnTo>
                <a:lnTo>
                  <a:pt x="329" y="78"/>
                </a:lnTo>
                <a:lnTo>
                  <a:pt x="229" y="97"/>
                </a:lnTo>
                <a:lnTo>
                  <a:pt x="137" y="151"/>
                </a:lnTo>
                <a:lnTo>
                  <a:pt x="247" y="60"/>
                </a:lnTo>
                <a:lnTo>
                  <a:pt x="384" y="5"/>
                </a:ln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19890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11560" y="162864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661600">
            <a:off x="7164360" y="1773360"/>
            <a:ext cx="934920" cy="187200"/>
          </a:xfrm>
          <a:custGeom>
            <a:avLst/>
            <a:gdLst/>
            <a:ahLst/>
            <a:rect l="l" t="t" r="r" b="b"/>
            <a:pathLst>
              <a:path w="1496" h="141">
                <a:moveTo>
                  <a:pt x="0" y="89"/>
                </a:moveTo>
                <a:lnTo>
                  <a:pt x="37" y="51"/>
                </a:lnTo>
                <a:lnTo>
                  <a:pt x="76" y="42"/>
                </a:lnTo>
                <a:lnTo>
                  <a:pt x="115" y="36"/>
                </a:lnTo>
                <a:lnTo>
                  <a:pt x="145" y="39"/>
                </a:lnTo>
                <a:lnTo>
                  <a:pt x="178" y="51"/>
                </a:lnTo>
                <a:lnTo>
                  <a:pt x="199" y="66"/>
                </a:lnTo>
                <a:lnTo>
                  <a:pt x="223" y="87"/>
                </a:lnTo>
                <a:lnTo>
                  <a:pt x="244" y="108"/>
                </a:lnTo>
                <a:lnTo>
                  <a:pt x="271" y="129"/>
                </a:lnTo>
                <a:lnTo>
                  <a:pt x="298" y="141"/>
                </a:lnTo>
                <a:lnTo>
                  <a:pt x="331" y="141"/>
                </a:lnTo>
                <a:lnTo>
                  <a:pt x="358" y="126"/>
                </a:lnTo>
                <a:lnTo>
                  <a:pt x="385" y="96"/>
                </a:lnTo>
                <a:lnTo>
                  <a:pt x="412" y="60"/>
                </a:lnTo>
                <a:lnTo>
                  <a:pt x="442" y="36"/>
                </a:lnTo>
                <a:lnTo>
                  <a:pt x="478" y="18"/>
                </a:lnTo>
                <a:lnTo>
                  <a:pt x="517" y="18"/>
                </a:lnTo>
                <a:lnTo>
                  <a:pt x="556" y="36"/>
                </a:lnTo>
                <a:lnTo>
                  <a:pt x="577" y="63"/>
                </a:lnTo>
                <a:lnTo>
                  <a:pt x="601" y="87"/>
                </a:lnTo>
                <a:lnTo>
                  <a:pt x="628" y="105"/>
                </a:lnTo>
                <a:lnTo>
                  <a:pt x="655" y="120"/>
                </a:lnTo>
                <a:lnTo>
                  <a:pt x="688" y="120"/>
                </a:lnTo>
                <a:lnTo>
                  <a:pt x="718" y="102"/>
                </a:lnTo>
                <a:lnTo>
                  <a:pt x="748" y="78"/>
                </a:lnTo>
                <a:lnTo>
                  <a:pt x="772" y="57"/>
                </a:lnTo>
                <a:lnTo>
                  <a:pt x="793" y="39"/>
                </a:lnTo>
                <a:lnTo>
                  <a:pt x="823" y="21"/>
                </a:lnTo>
                <a:lnTo>
                  <a:pt x="862" y="18"/>
                </a:lnTo>
                <a:lnTo>
                  <a:pt x="898" y="24"/>
                </a:lnTo>
                <a:lnTo>
                  <a:pt x="937" y="45"/>
                </a:lnTo>
                <a:lnTo>
                  <a:pt x="961" y="75"/>
                </a:lnTo>
                <a:lnTo>
                  <a:pt x="994" y="111"/>
                </a:lnTo>
                <a:lnTo>
                  <a:pt x="1024" y="117"/>
                </a:lnTo>
                <a:lnTo>
                  <a:pt x="1054" y="114"/>
                </a:lnTo>
                <a:lnTo>
                  <a:pt x="1069" y="105"/>
                </a:lnTo>
                <a:lnTo>
                  <a:pt x="1096" y="93"/>
                </a:lnTo>
                <a:lnTo>
                  <a:pt x="1114" y="63"/>
                </a:lnTo>
                <a:lnTo>
                  <a:pt x="1144" y="33"/>
                </a:lnTo>
                <a:lnTo>
                  <a:pt x="1171" y="12"/>
                </a:lnTo>
                <a:lnTo>
                  <a:pt x="1219" y="0"/>
                </a:lnTo>
                <a:lnTo>
                  <a:pt x="1264" y="9"/>
                </a:lnTo>
                <a:lnTo>
                  <a:pt x="1303" y="33"/>
                </a:lnTo>
                <a:lnTo>
                  <a:pt x="1333" y="54"/>
                </a:lnTo>
                <a:lnTo>
                  <a:pt x="1372" y="69"/>
                </a:lnTo>
                <a:lnTo>
                  <a:pt x="1496" y="6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6000" y="2060640"/>
            <a:ext cx="934920" cy="187200"/>
          </a:xfrm>
          <a:custGeom>
            <a:avLst/>
            <a:gdLst/>
            <a:ahLst/>
            <a:rect l="l" t="t" r="r" b="b"/>
            <a:pathLst>
              <a:path w="1496" h="141">
                <a:moveTo>
                  <a:pt x="0" y="89"/>
                </a:moveTo>
                <a:lnTo>
                  <a:pt x="37" y="51"/>
                </a:lnTo>
                <a:lnTo>
                  <a:pt x="76" y="42"/>
                </a:lnTo>
                <a:lnTo>
                  <a:pt x="115" y="36"/>
                </a:lnTo>
                <a:lnTo>
                  <a:pt x="145" y="39"/>
                </a:lnTo>
                <a:lnTo>
                  <a:pt x="178" y="51"/>
                </a:lnTo>
                <a:lnTo>
                  <a:pt x="199" y="66"/>
                </a:lnTo>
                <a:lnTo>
                  <a:pt x="223" y="87"/>
                </a:lnTo>
                <a:lnTo>
                  <a:pt x="244" y="108"/>
                </a:lnTo>
                <a:lnTo>
                  <a:pt x="271" y="129"/>
                </a:lnTo>
                <a:lnTo>
                  <a:pt x="298" y="141"/>
                </a:lnTo>
                <a:lnTo>
                  <a:pt x="331" y="141"/>
                </a:lnTo>
                <a:lnTo>
                  <a:pt x="358" y="126"/>
                </a:lnTo>
                <a:lnTo>
                  <a:pt x="385" y="96"/>
                </a:lnTo>
                <a:lnTo>
                  <a:pt x="412" y="60"/>
                </a:lnTo>
                <a:lnTo>
                  <a:pt x="442" y="36"/>
                </a:lnTo>
                <a:lnTo>
                  <a:pt x="478" y="18"/>
                </a:lnTo>
                <a:lnTo>
                  <a:pt x="517" y="18"/>
                </a:lnTo>
                <a:lnTo>
                  <a:pt x="556" y="36"/>
                </a:lnTo>
                <a:lnTo>
                  <a:pt x="577" y="63"/>
                </a:lnTo>
                <a:lnTo>
                  <a:pt x="601" y="87"/>
                </a:lnTo>
                <a:lnTo>
                  <a:pt x="628" y="105"/>
                </a:lnTo>
                <a:lnTo>
                  <a:pt x="655" y="120"/>
                </a:lnTo>
                <a:lnTo>
                  <a:pt x="688" y="120"/>
                </a:lnTo>
                <a:lnTo>
                  <a:pt x="718" y="102"/>
                </a:lnTo>
                <a:lnTo>
                  <a:pt x="748" y="78"/>
                </a:lnTo>
                <a:lnTo>
                  <a:pt x="772" y="57"/>
                </a:lnTo>
                <a:lnTo>
                  <a:pt x="793" y="39"/>
                </a:lnTo>
                <a:lnTo>
                  <a:pt x="823" y="21"/>
                </a:lnTo>
                <a:lnTo>
                  <a:pt x="862" y="18"/>
                </a:lnTo>
                <a:lnTo>
                  <a:pt x="898" y="24"/>
                </a:lnTo>
                <a:lnTo>
                  <a:pt x="937" y="45"/>
                </a:lnTo>
                <a:lnTo>
                  <a:pt x="961" y="75"/>
                </a:lnTo>
                <a:lnTo>
                  <a:pt x="994" y="111"/>
                </a:lnTo>
                <a:lnTo>
                  <a:pt x="1024" y="117"/>
                </a:lnTo>
                <a:lnTo>
                  <a:pt x="1054" y="114"/>
                </a:lnTo>
                <a:lnTo>
                  <a:pt x="1069" y="105"/>
                </a:lnTo>
                <a:lnTo>
                  <a:pt x="1096" y="93"/>
                </a:lnTo>
                <a:lnTo>
                  <a:pt x="1114" y="63"/>
                </a:lnTo>
                <a:lnTo>
                  <a:pt x="1144" y="33"/>
                </a:lnTo>
                <a:lnTo>
                  <a:pt x="1171" y="12"/>
                </a:lnTo>
                <a:lnTo>
                  <a:pt x="1219" y="0"/>
                </a:lnTo>
                <a:lnTo>
                  <a:pt x="1264" y="9"/>
                </a:lnTo>
                <a:lnTo>
                  <a:pt x="1303" y="33"/>
                </a:lnTo>
                <a:lnTo>
                  <a:pt x="1333" y="54"/>
                </a:lnTo>
                <a:lnTo>
                  <a:pt x="1372" y="69"/>
                </a:lnTo>
                <a:lnTo>
                  <a:pt x="1496" y="6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9000">
            <a:off x="7092720" y="2781360"/>
            <a:ext cx="934920" cy="69840"/>
          </a:xfrm>
          <a:custGeom>
            <a:avLst/>
            <a:gdLst/>
            <a:ahLst/>
            <a:rect l="l" t="t" r="r" b="b"/>
            <a:pathLst>
              <a:path w="1496" h="141">
                <a:moveTo>
                  <a:pt x="0" y="89"/>
                </a:moveTo>
                <a:lnTo>
                  <a:pt x="37" y="51"/>
                </a:lnTo>
                <a:lnTo>
                  <a:pt x="76" y="42"/>
                </a:lnTo>
                <a:lnTo>
                  <a:pt x="115" y="36"/>
                </a:lnTo>
                <a:lnTo>
                  <a:pt x="145" y="39"/>
                </a:lnTo>
                <a:lnTo>
                  <a:pt x="178" y="51"/>
                </a:lnTo>
                <a:lnTo>
                  <a:pt x="199" y="66"/>
                </a:lnTo>
                <a:lnTo>
                  <a:pt x="223" y="87"/>
                </a:lnTo>
                <a:lnTo>
                  <a:pt x="244" y="108"/>
                </a:lnTo>
                <a:lnTo>
                  <a:pt x="271" y="129"/>
                </a:lnTo>
                <a:lnTo>
                  <a:pt x="298" y="141"/>
                </a:lnTo>
                <a:lnTo>
                  <a:pt x="331" y="141"/>
                </a:lnTo>
                <a:lnTo>
                  <a:pt x="358" y="126"/>
                </a:lnTo>
                <a:lnTo>
                  <a:pt x="385" y="96"/>
                </a:lnTo>
                <a:lnTo>
                  <a:pt x="412" y="60"/>
                </a:lnTo>
                <a:lnTo>
                  <a:pt x="442" y="36"/>
                </a:lnTo>
                <a:lnTo>
                  <a:pt x="478" y="18"/>
                </a:lnTo>
                <a:lnTo>
                  <a:pt x="517" y="18"/>
                </a:lnTo>
                <a:lnTo>
                  <a:pt x="556" y="36"/>
                </a:lnTo>
                <a:lnTo>
                  <a:pt x="577" y="63"/>
                </a:lnTo>
                <a:lnTo>
                  <a:pt x="601" y="87"/>
                </a:lnTo>
                <a:lnTo>
                  <a:pt x="628" y="105"/>
                </a:lnTo>
                <a:lnTo>
                  <a:pt x="655" y="120"/>
                </a:lnTo>
                <a:lnTo>
                  <a:pt x="688" y="120"/>
                </a:lnTo>
                <a:lnTo>
                  <a:pt x="718" y="102"/>
                </a:lnTo>
                <a:lnTo>
                  <a:pt x="748" y="78"/>
                </a:lnTo>
                <a:lnTo>
                  <a:pt x="772" y="57"/>
                </a:lnTo>
                <a:lnTo>
                  <a:pt x="793" y="39"/>
                </a:lnTo>
                <a:lnTo>
                  <a:pt x="823" y="21"/>
                </a:lnTo>
                <a:lnTo>
                  <a:pt x="862" y="18"/>
                </a:lnTo>
                <a:lnTo>
                  <a:pt x="898" y="24"/>
                </a:lnTo>
                <a:lnTo>
                  <a:pt x="937" y="45"/>
                </a:lnTo>
                <a:lnTo>
                  <a:pt x="961" y="75"/>
                </a:lnTo>
                <a:lnTo>
                  <a:pt x="994" y="111"/>
                </a:lnTo>
                <a:lnTo>
                  <a:pt x="1024" y="117"/>
                </a:lnTo>
                <a:lnTo>
                  <a:pt x="1054" y="114"/>
                </a:lnTo>
                <a:lnTo>
                  <a:pt x="1069" y="105"/>
                </a:lnTo>
                <a:lnTo>
                  <a:pt x="1096" y="93"/>
                </a:lnTo>
                <a:lnTo>
                  <a:pt x="1114" y="63"/>
                </a:lnTo>
                <a:lnTo>
                  <a:pt x="1144" y="33"/>
                </a:lnTo>
                <a:lnTo>
                  <a:pt x="1171" y="12"/>
                </a:lnTo>
                <a:lnTo>
                  <a:pt x="1219" y="0"/>
                </a:lnTo>
                <a:lnTo>
                  <a:pt x="1264" y="9"/>
                </a:lnTo>
                <a:lnTo>
                  <a:pt x="1303" y="33"/>
                </a:lnTo>
                <a:lnTo>
                  <a:pt x="1333" y="54"/>
                </a:lnTo>
                <a:lnTo>
                  <a:pt x="1372" y="69"/>
                </a:lnTo>
                <a:lnTo>
                  <a:pt x="1496" y="6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126800">
            <a:off x="7092720" y="3068280"/>
            <a:ext cx="934920" cy="69840"/>
          </a:xfrm>
          <a:custGeom>
            <a:avLst/>
            <a:gdLst/>
            <a:ahLst/>
            <a:rect l="l" t="t" r="r" b="b"/>
            <a:pathLst>
              <a:path w="1496" h="141">
                <a:moveTo>
                  <a:pt x="0" y="89"/>
                </a:moveTo>
                <a:lnTo>
                  <a:pt x="37" y="51"/>
                </a:lnTo>
                <a:lnTo>
                  <a:pt x="76" y="42"/>
                </a:lnTo>
                <a:lnTo>
                  <a:pt x="115" y="36"/>
                </a:lnTo>
                <a:lnTo>
                  <a:pt x="145" y="39"/>
                </a:lnTo>
                <a:lnTo>
                  <a:pt x="178" y="51"/>
                </a:lnTo>
                <a:lnTo>
                  <a:pt x="199" y="66"/>
                </a:lnTo>
                <a:lnTo>
                  <a:pt x="223" y="87"/>
                </a:lnTo>
                <a:lnTo>
                  <a:pt x="244" y="108"/>
                </a:lnTo>
                <a:lnTo>
                  <a:pt x="271" y="129"/>
                </a:lnTo>
                <a:lnTo>
                  <a:pt x="298" y="141"/>
                </a:lnTo>
                <a:lnTo>
                  <a:pt x="331" y="141"/>
                </a:lnTo>
                <a:lnTo>
                  <a:pt x="358" y="126"/>
                </a:lnTo>
                <a:lnTo>
                  <a:pt x="385" y="96"/>
                </a:lnTo>
                <a:lnTo>
                  <a:pt x="412" y="60"/>
                </a:lnTo>
                <a:lnTo>
                  <a:pt x="442" y="36"/>
                </a:lnTo>
                <a:lnTo>
                  <a:pt x="478" y="18"/>
                </a:lnTo>
                <a:lnTo>
                  <a:pt x="517" y="18"/>
                </a:lnTo>
                <a:lnTo>
                  <a:pt x="556" y="36"/>
                </a:lnTo>
                <a:lnTo>
                  <a:pt x="577" y="63"/>
                </a:lnTo>
                <a:lnTo>
                  <a:pt x="601" y="87"/>
                </a:lnTo>
                <a:lnTo>
                  <a:pt x="628" y="105"/>
                </a:lnTo>
                <a:lnTo>
                  <a:pt x="655" y="120"/>
                </a:lnTo>
                <a:lnTo>
                  <a:pt x="688" y="120"/>
                </a:lnTo>
                <a:lnTo>
                  <a:pt x="718" y="102"/>
                </a:lnTo>
                <a:lnTo>
                  <a:pt x="748" y="78"/>
                </a:lnTo>
                <a:lnTo>
                  <a:pt x="772" y="57"/>
                </a:lnTo>
                <a:lnTo>
                  <a:pt x="793" y="39"/>
                </a:lnTo>
                <a:lnTo>
                  <a:pt x="823" y="21"/>
                </a:lnTo>
                <a:lnTo>
                  <a:pt x="862" y="18"/>
                </a:lnTo>
                <a:lnTo>
                  <a:pt x="898" y="24"/>
                </a:lnTo>
                <a:lnTo>
                  <a:pt x="937" y="45"/>
                </a:lnTo>
                <a:lnTo>
                  <a:pt x="961" y="75"/>
                </a:lnTo>
                <a:lnTo>
                  <a:pt x="994" y="111"/>
                </a:lnTo>
                <a:lnTo>
                  <a:pt x="1024" y="117"/>
                </a:lnTo>
                <a:lnTo>
                  <a:pt x="1054" y="114"/>
                </a:lnTo>
                <a:lnTo>
                  <a:pt x="1069" y="105"/>
                </a:lnTo>
                <a:lnTo>
                  <a:pt x="1096" y="93"/>
                </a:lnTo>
                <a:lnTo>
                  <a:pt x="1114" y="63"/>
                </a:lnTo>
                <a:lnTo>
                  <a:pt x="1144" y="33"/>
                </a:lnTo>
                <a:lnTo>
                  <a:pt x="1171" y="12"/>
                </a:lnTo>
                <a:lnTo>
                  <a:pt x="1219" y="0"/>
                </a:lnTo>
                <a:lnTo>
                  <a:pt x="1264" y="9"/>
                </a:lnTo>
                <a:lnTo>
                  <a:pt x="1303" y="33"/>
                </a:lnTo>
                <a:lnTo>
                  <a:pt x="1333" y="54"/>
                </a:lnTo>
                <a:lnTo>
                  <a:pt x="1372" y="69"/>
                </a:lnTo>
                <a:lnTo>
                  <a:pt x="1496" y="6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800" y="2349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79800" y="220500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16720" y="1628640"/>
            <a:ext cx="2232000" cy="1800360"/>
          </a:xfrm>
          <a:prstGeom prst="rect">
            <a:avLst/>
          </a:prstGeom>
          <a:noFill/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4160" y="54450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HGP明朝B"/>
              </a:rPr>
              <a:t>prompt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0880" y="4724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thermal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9240" y="5516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jet fragment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35640" y="3357720"/>
            <a:ext cx="16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  <a:ea typeface="HGP明朝B"/>
              </a:rPr>
              <a:t>hadron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  <a:ea typeface="HGP明朝B"/>
              </a:rPr>
              <a:t>           </a:t>
            </a:r>
            <a:r>
              <a:rPr b="0" lang="en-US" sz="1800" spc="-1" strike="noStrike">
                <a:solidFill>
                  <a:srgbClr val="00cc66"/>
                </a:solidFill>
                <a:latin typeface="Arial"/>
                <a:ea typeface="HGP明朝B"/>
              </a:rPr>
              <a:t>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5929920"/>
            <a:ext cx="4392720" cy="521640"/>
          </a:xfrm>
          <a:prstGeom prst="flowChartTermina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direct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5929920"/>
            <a:ext cx="5184720" cy="521640"/>
          </a:xfrm>
          <a:prstGeom prst="flowChartTerminator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hadron decay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8CF-3320-4487-9838-1964E54D57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81760" y="285840"/>
            <a:ext cx="42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. Azimuthal anisotropy</a:t>
            </a:r>
            <a:r>
              <a:rPr b="0" lang="ja-JP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0920" y="2278080"/>
            <a:ext cx="2160360" cy="1677240"/>
            <a:chOff x="250920" y="2278080"/>
            <a:chExt cx="2160360" cy="1677240"/>
          </a:xfrm>
        </p:grpSpPr>
        <p:sp>
          <p:nvSpPr>
            <p:cNvPr id="158" name=""/>
            <p:cNvSpPr/>
            <p:nvPr/>
          </p:nvSpPr>
          <p:spPr>
            <a:xfrm rot="10800000">
              <a:off x="1864800" y="2278080"/>
              <a:ext cx="237600" cy="1994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38280" y="2486880"/>
              <a:ext cx="412560" cy="591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837720" y="2486880"/>
              <a:ext cx="405720" cy="583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65160" y="2611800"/>
              <a:ext cx="13611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33120" y="3231360"/>
              <a:ext cx="9561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0920" y="2484720"/>
              <a:ext cx="2160360" cy="1150200"/>
            </a:xfrm>
            <a:prstGeom prst="parallelogram">
              <a:avLst>
                <a:gd name="adj" fmla="val 69686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50920" y="3386160"/>
              <a:ext cx="172800" cy="249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934200" y="2486880"/>
              <a:ext cx="501480" cy="721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0800000">
              <a:off x="913320" y="3138480"/>
              <a:ext cx="167760" cy="46008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22960" y="3102120"/>
              <a:ext cx="370440" cy="528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5400" y="36482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5680" y="2433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486080" y="2378160"/>
              <a:ext cx="685440" cy="645120"/>
              <a:chOff x="1486080" y="2378160"/>
              <a:chExt cx="685440" cy="645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486080" y="2378160"/>
                <a:ext cx="685440" cy="645120"/>
                <a:chOff x="1486080" y="2378160"/>
                <a:chExt cx="685440" cy="64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01200" y="2378880"/>
                  <a:ext cx="655200" cy="63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01200" y="2378160"/>
                  <a:ext cx="655200" cy="633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86080" y="2635920"/>
                  <a:ext cx="685440" cy="3873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501200" y="2651760"/>
                  <a:ext cx="654120" cy="1656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1497960" y="2466720"/>
                <a:ext cx="168120" cy="461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060200" y="2484720"/>
              <a:ext cx="5608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65400" y="2611800"/>
              <a:ext cx="4017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7680" y="2734560"/>
              <a:ext cx="79632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455840" y="2687400"/>
              <a:ext cx="216720" cy="311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0560" y="2859480"/>
              <a:ext cx="1362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26200" y="2484720"/>
              <a:ext cx="796320" cy="1144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520" y="2983680"/>
              <a:ext cx="13611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131840" y="2738520"/>
              <a:ext cx="326520" cy="635400"/>
              <a:chOff x="1131840" y="2738520"/>
              <a:chExt cx="326520" cy="635400"/>
            </a:xfrm>
          </p:grpSpPr>
          <p:sp>
            <p:nvSpPr>
              <p:cNvPr id="185" name=""/>
              <p:cNvSpPr/>
              <p:nvPr/>
            </p:nvSpPr>
            <p:spPr>
              <a:xfrm>
                <a:off x="1131840" y="2738880"/>
                <a:ext cx="325800" cy="632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31840" y="3041640"/>
                <a:ext cx="326520" cy="332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31840" y="3043080"/>
                <a:ext cx="325080" cy="7092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31840" y="2738520"/>
                <a:ext cx="325800" cy="632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 flipH="1">
              <a:off x="1410840" y="2772360"/>
              <a:ext cx="597600" cy="858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218960" y="2820600"/>
              <a:ext cx="563400" cy="808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2880" y="3107160"/>
              <a:ext cx="625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992880" y="2418120"/>
              <a:ext cx="104400" cy="14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014840" y="3091320"/>
              <a:ext cx="378360" cy="543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102680" y="3100680"/>
              <a:ext cx="92160" cy="132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92080" y="3107160"/>
              <a:ext cx="318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17240" y="3056040"/>
              <a:ext cx="678600" cy="645120"/>
              <a:chOff x="417240" y="3056040"/>
              <a:chExt cx="678600" cy="64512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600" y="3056760"/>
                <a:ext cx="654840" cy="63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5160" y="3056040"/>
                <a:ext cx="654840" cy="632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7240" y="3318480"/>
                <a:ext cx="678600" cy="38268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 rot="10800000">
                <a:off x="914040" y="3132360"/>
                <a:ext cx="168480" cy="461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8200" y="3130200"/>
                <a:ext cx="75960" cy="46944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6600" y="3380040"/>
                <a:ext cx="527400" cy="11484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flipH="1">
              <a:off x="939600" y="2984760"/>
              <a:ext cx="149400" cy="216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2040" y="3232440"/>
              <a:ext cx="8438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1200" y="3477960"/>
              <a:ext cx="846360" cy="10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22680" y="3354840"/>
              <a:ext cx="8928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23320" y="3225600"/>
              <a:ext cx="284400" cy="409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38280" y="3499920"/>
              <a:ext cx="92160" cy="135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47840" y="3470760"/>
              <a:ext cx="110880" cy="160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7200" y="3635280"/>
              <a:ext cx="133056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5560" y="3503160"/>
              <a:ext cx="239400" cy="1994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910440" y="2849040"/>
              <a:ext cx="783360" cy="219960"/>
              <a:chOff x="910440" y="2849040"/>
              <a:chExt cx="783360" cy="21996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1331640" y="2891880"/>
                <a:ext cx="47160" cy="655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1417320" y="2849040"/>
                <a:ext cx="12240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1471680" y="2957760"/>
                <a:ext cx="191880" cy="4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1471680" y="3034800"/>
                <a:ext cx="222120" cy="14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987480" y="2866680"/>
                <a:ext cx="199440" cy="79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925200" y="2966040"/>
                <a:ext cx="216000" cy="4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910440" y="3066120"/>
                <a:ext cx="191880" cy="2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1086840" y="3032280"/>
                <a:ext cx="137880" cy="14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1102680" y="2952000"/>
                <a:ext cx="122400" cy="345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1225440" y="2906280"/>
                <a:ext cx="45360" cy="50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1379160" y="2946600"/>
                <a:ext cx="83520" cy="280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371960" y="3014640"/>
                <a:ext cx="137520" cy="82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1203480" y="3000600"/>
                <a:ext cx="76680" cy="22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923760" y="3132360"/>
              <a:ext cx="752040" cy="219960"/>
              <a:chOff x="923760" y="3132360"/>
              <a:chExt cx="752040" cy="21996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1202040" y="3219120"/>
                <a:ext cx="50760" cy="86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047600" y="3252240"/>
                <a:ext cx="122400" cy="100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923760" y="3195360"/>
                <a:ext cx="191880" cy="48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969840" y="3152880"/>
                <a:ext cx="146520" cy="9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00040" y="3255480"/>
                <a:ext cx="199080" cy="799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45760" y="3187080"/>
                <a:ext cx="216000" cy="48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83920" y="3132360"/>
                <a:ext cx="191880" cy="28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62960" y="3154680"/>
                <a:ext cx="137520" cy="14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62240" y="3215520"/>
                <a:ext cx="122400" cy="34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17240" y="3243240"/>
                <a:ext cx="45360" cy="50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124640" y="3227040"/>
                <a:ext cx="83520" cy="28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078560" y="3177360"/>
                <a:ext cx="137520" cy="82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06080" y="3177360"/>
                <a:ext cx="76680" cy="22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60720" y="3479040"/>
              <a:ext cx="220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69640" y="2734560"/>
              <a:ext cx="166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140920" y="2484720"/>
              <a:ext cx="67320" cy="97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49360" y="3636360"/>
              <a:ext cx="27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4294080"/>
            <a:ext cx="4467240" cy="693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1240" y="5157720"/>
            <a:ext cx="38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azimuthal angle of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azimuthal angle of 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627280" y="2205000"/>
            <a:ext cx="2594160" cy="1876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651640" y="2492280"/>
            <a:ext cx="3111480" cy="3168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79280" y="907920"/>
            <a:ext cx="5616720" cy="64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71080" y="907920"/>
            <a:ext cx="171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lliptic flow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発生粒子の、方位角方向における分布の偏りの強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1CD-C8F4-4F6B-B80F-4C623B85561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1360" y="285840"/>
            <a:ext cx="331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3. direct photon v</a:t>
            </a:r>
            <a:r>
              <a:rPr b="0" lang="en-US" sz="28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</a:t>
            </a: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71640" y="4001400"/>
            <a:ext cx="3471840" cy="2262960"/>
            <a:chOff x="971640" y="4001400"/>
            <a:chExt cx="3471840" cy="2262960"/>
          </a:xfrm>
        </p:grpSpPr>
        <p:sp>
          <p:nvSpPr>
            <p:cNvPr id="252" name=""/>
            <p:cNvSpPr/>
            <p:nvPr/>
          </p:nvSpPr>
          <p:spPr>
            <a:xfrm>
              <a:off x="2247840" y="4329000"/>
              <a:ext cx="640800" cy="1572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1585400">
              <a:off x="1963440" y="4698000"/>
              <a:ext cx="497880" cy="277560"/>
            </a:xfrm>
            <a:custGeom>
              <a:avLst/>
              <a:gdLst>
                <a:gd name="textAreaLeft" fmla="*/ 62280 w 497880"/>
                <a:gd name="textAreaRight" fmla="*/ 435960 w 497880"/>
                <a:gd name="textAreaTop" fmla="*/ 69480 h 277560"/>
                <a:gd name="textAreaBottom" fmla="*/ 208440 h 27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5558600">
              <a:off x="2262600" y="4609080"/>
              <a:ext cx="647280" cy="178920"/>
            </a:xfrm>
            <a:custGeom>
              <a:avLst/>
              <a:gdLst>
                <a:gd name="textAreaLeft" fmla="*/ 80640 w 647280"/>
                <a:gd name="textAreaRight" fmla="*/ 566640 w 647280"/>
                <a:gd name="textAreaTop" fmla="*/ 44640 h 178920"/>
                <a:gd name="textAreaBottom" fmla="*/ 13428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89200">
              <a:off x="2639520" y="5160960"/>
              <a:ext cx="498240" cy="279000"/>
            </a:xfrm>
            <a:custGeom>
              <a:avLst/>
              <a:gdLst>
                <a:gd name="textAreaLeft" fmla="*/ 62280 w 498240"/>
                <a:gd name="textAreaRight" fmla="*/ 435960 w 498240"/>
                <a:gd name="textAreaTop" fmla="*/ 69840 h 279000"/>
                <a:gd name="textAreaBottom" fmla="*/ 20952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4521600">
              <a:off x="2227320" y="5488920"/>
              <a:ext cx="647280" cy="178920"/>
            </a:xfrm>
            <a:custGeom>
              <a:avLst/>
              <a:gdLst>
                <a:gd name="textAreaLeft" fmla="*/ 80640 w 647280"/>
                <a:gd name="textAreaRight" fmla="*/ 566640 w 647280"/>
                <a:gd name="textAreaTop" fmla="*/ 44640 h 178920"/>
                <a:gd name="textAreaBottom" fmla="*/ 13428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9351000">
              <a:off x="1642680" y="4929120"/>
              <a:ext cx="534600" cy="137880"/>
            </a:xfrm>
            <a:custGeom>
              <a:avLst/>
              <a:gdLst>
                <a:gd name="textAreaLeft" fmla="*/ 83520 w 534600"/>
                <a:gd name="textAreaRight" fmla="*/ 468000 w 534600"/>
                <a:gd name="textAreaTop" fmla="*/ 34200 h 137880"/>
                <a:gd name="textAreaBottom" fmla="*/ 10332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 rot="5439600">
              <a:off x="2169000" y="5824440"/>
              <a:ext cx="693360" cy="107640"/>
            </a:xfrm>
            <a:custGeom>
              <a:avLst/>
              <a:gdLst>
                <a:gd name="textAreaLeft" fmla="*/ 108360 w 693360"/>
                <a:gd name="textAreaRight" fmla="*/ 606960 w 693360"/>
                <a:gd name="textAreaTop" fmla="*/ 26640 h 107640"/>
                <a:gd name="textAreaBottom" fmla="*/ 8064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870400">
              <a:off x="2888640" y="5114160"/>
              <a:ext cx="534600" cy="139320"/>
            </a:xfrm>
            <a:custGeom>
              <a:avLst/>
              <a:gdLst>
                <a:gd name="textAreaLeft" fmla="*/ 83520 w 534600"/>
                <a:gd name="textAreaRight" fmla="*/ 468000 w 534600"/>
                <a:gd name="textAreaTop" fmla="*/ 34560 h 139320"/>
                <a:gd name="textAreaBottom" fmla="*/ 10440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16859400">
              <a:off x="2311200" y="4298400"/>
              <a:ext cx="693360" cy="105840"/>
            </a:xfrm>
            <a:custGeom>
              <a:avLst/>
              <a:gdLst>
                <a:gd name="textAreaLeft" fmla="*/ 108360 w 693360"/>
                <a:gd name="textAreaRight" fmla="*/ 606960 w 693360"/>
                <a:gd name="textAreaTop" fmla="*/ 26280 h 105840"/>
                <a:gd name="textAreaBottom" fmla="*/ 7956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46880" y="4527360"/>
              <a:ext cx="159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annihi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compton scatte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71640" y="5805360"/>
              <a:ext cx="135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Bremsstrahl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 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(energy los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79280" y="907920"/>
            <a:ext cx="5616720" cy="64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97760" y="1052640"/>
            <a:ext cx="393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か？有限の値を持つ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9640" y="1838880"/>
            <a:ext cx="1710720" cy="1820160"/>
            <a:chOff x="539640" y="1838880"/>
            <a:chExt cx="1710720" cy="182016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 rot="19997400">
              <a:off x="1426320" y="1988640"/>
              <a:ext cx="7686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 rot="1821000">
              <a:off x="658080" y="2984760"/>
              <a:ext cx="768600" cy="5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39640" y="2618640"/>
              <a:ext cx="118440" cy="156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39960" y="2618640"/>
              <a:ext cx="118440" cy="156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31120" y="2565360"/>
              <a:ext cx="294480" cy="26208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8080" y="2670480"/>
              <a:ext cx="471600" cy="51840"/>
            </a:xfrm>
            <a:prstGeom prst="rightArrow">
              <a:avLst>
                <a:gd name="adj1" fmla="val 50000"/>
                <a:gd name="adj2" fmla="val 22743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1426320" y="2670480"/>
              <a:ext cx="471240" cy="51840"/>
            </a:xfrm>
            <a:prstGeom prst="rightArrow">
              <a:avLst>
                <a:gd name="adj1" fmla="val 50000"/>
                <a:gd name="adj2" fmla="val 22725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48120" y="2302920"/>
              <a:ext cx="236880" cy="22320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1131120" y="2826720"/>
              <a:ext cx="235440" cy="26100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1800" y="16286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HGP明朝B"/>
              </a:rPr>
              <a:t>prompt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35280" y="1844640"/>
            <a:ext cx="79200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33760" y="1628640"/>
            <a:ext cx="7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HGP明朝B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706920" y="1988640"/>
            <a:ext cx="2062080" cy="1368360"/>
            <a:chOff x="3706920" y="1988640"/>
            <a:chExt cx="2062080" cy="1368360"/>
          </a:xfrm>
        </p:grpSpPr>
        <p:sp>
          <p:nvSpPr>
            <p:cNvPr id="279" name=""/>
            <p:cNvSpPr/>
            <p:nvPr/>
          </p:nvSpPr>
          <p:spPr>
            <a:xfrm>
              <a:off x="3706920" y="2673000"/>
              <a:ext cx="20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4749840" y="1988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613040" y="2379240"/>
              <a:ext cx="272880" cy="566640"/>
              <a:chOff x="4613040" y="2379240"/>
              <a:chExt cx="272880" cy="566640"/>
            </a:xfrm>
          </p:grpSpPr>
          <p:sp>
            <p:nvSpPr>
              <p:cNvPr id="282" name=""/>
              <p:cNvSpPr/>
              <p:nvPr/>
            </p:nvSpPr>
            <p:spPr>
              <a:xfrm>
                <a:off x="4613040" y="2379600"/>
                <a:ext cx="272160" cy="564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13040" y="2649600"/>
                <a:ext cx="272880" cy="296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13040" y="2650680"/>
                <a:ext cx="271800" cy="6300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13040" y="2379240"/>
                <a:ext cx="272160" cy="564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rot="16200000">
              <a:off x="4631040" y="2041920"/>
              <a:ext cx="249120" cy="33948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4630680" y="2970720"/>
              <a:ext cx="249120" cy="33948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8596800">
              <a:off x="4168080" y="2798280"/>
              <a:ext cx="356760" cy="330480"/>
            </a:xfrm>
            <a:custGeom>
              <a:avLst/>
              <a:gdLst>
                <a:gd name="textAreaLeft" fmla="*/ 55800 w 356760"/>
                <a:gd name="textAreaRight" fmla="*/ 299880 w 356760"/>
                <a:gd name="textAreaTop" fmla="*/ 83160 h 330480"/>
                <a:gd name="textAreaBottom" fmla="*/ 247320 h 3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3857400" y="2501280"/>
              <a:ext cx="560160" cy="330120"/>
            </a:xfrm>
            <a:custGeom>
              <a:avLst/>
              <a:gdLst>
                <a:gd name="textAreaLeft" fmla="*/ 87480 w 560160"/>
                <a:gd name="textAreaRight" fmla="*/ 470520 w 5601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3749600">
              <a:off x="4204800" y="2139480"/>
              <a:ext cx="349200" cy="339480"/>
            </a:xfrm>
            <a:custGeom>
              <a:avLst/>
              <a:gdLst>
                <a:gd name="textAreaLeft" fmla="*/ 54360 w 349200"/>
                <a:gd name="textAreaRight" fmla="*/ 293400 w 34920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495400">
              <a:off x="4964040" y="2818800"/>
              <a:ext cx="358560" cy="330120"/>
            </a:xfrm>
            <a:custGeom>
              <a:avLst/>
              <a:gdLst>
                <a:gd name="textAreaLeft" fmla="*/ 55800 w 358560"/>
                <a:gd name="textAreaRight" fmla="*/ 301320 w 3585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9687800">
              <a:off x="4963680" y="2185560"/>
              <a:ext cx="358560" cy="328680"/>
            </a:xfrm>
            <a:custGeom>
              <a:avLst/>
              <a:gdLst>
                <a:gd name="textAreaLeft" fmla="*/ 55800 w 358560"/>
                <a:gd name="textAreaRight" fmla="*/ 301320 w 358560"/>
                <a:gd name="textAreaTop" fmla="*/ 82440 h 328680"/>
                <a:gd name="textAreaBottom" fmla="*/ 24624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65560" y="2506320"/>
              <a:ext cx="558360" cy="330120"/>
            </a:xfrm>
            <a:custGeom>
              <a:avLst/>
              <a:gdLst>
                <a:gd name="textAreaLeft" fmla="*/ 87120 w 558360"/>
                <a:gd name="textAreaRight" fmla="*/ 469080 w 5583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38160" y="1628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thermal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91280" y="184464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89400" y="162864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 &g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1800" y="386064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  <a:ea typeface="HGP明朝B"/>
              </a:rPr>
              <a:t>jet fragment ph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3951360" cy="316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61E-8F9B-459E-AF82-514E7FCDE21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788000" y="836640"/>
            <a:ext cx="4174920" cy="2808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484360" y="3933720"/>
            <a:ext cx="2468520" cy="2592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50800" y="28584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. How to measur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79280" y="4221000"/>
                <a:ext cx="2305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i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oton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n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n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oton</m:t>
                                    </m:r>
                                  </m:sub>
                                </m:sSub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84360" y="5084640"/>
                <a:ext cx="1223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oto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n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10960" y="981000"/>
            <a:ext cx="884520" cy="405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7360" y="1628640"/>
            <a:ext cx="2320200" cy="405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2. inclusive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7720" y="2276640"/>
            <a:ext cx="2827800" cy="405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3. hadron decay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920" y="2924280"/>
            <a:ext cx="2068920" cy="405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4. 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4084560" cy="2898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730920" y="134136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7A9-9BA1-4455-B92A-C65FB8A05CB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472360" cy="2808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8785440" cy="2955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49080" y="285840"/>
            <a:ext cx="45025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5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direct photon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5580000" y="1844640"/>
            <a:ext cx="2879640" cy="11048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186200" y="5877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39280" y="5877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1840" y="299736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18920" y="5877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010-12D0-487F-B850-7E39A39E795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537080" cy="3311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9080" y="285840"/>
            <a:ext cx="45025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6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direct photon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38200" y="357336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248360" cy="3384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387440" y="4218120"/>
            <a:ext cx="48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1. 5GeV/c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以上の領域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0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は有限の値を持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prompt photo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が支配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36360" y="4633920"/>
            <a:ext cx="9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8880" y="4992840"/>
            <a:ext cx="34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2. 3 ~ 4 GeV/c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領域においても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proto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とは違う値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生成過程において、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proto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とは違う構造の存在を示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23840" y="5805360"/>
            <a:ext cx="5217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3. 3 ~ 4 GeV/c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領域において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は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0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では無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-&gt;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・・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rmal photon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3D8-DF58-45EC-8C9B-B3E21BE41F8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16000" y="4351320"/>
            <a:ext cx="7559640" cy="1657440"/>
          </a:xfrm>
          <a:prstGeom prst="rect">
            <a:avLst/>
          </a:prstGeom>
          <a:solidFill>
            <a:srgbClr val="99ccff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16000" y="1542960"/>
            <a:ext cx="7559640" cy="2246400"/>
          </a:xfrm>
          <a:prstGeom prst="rect">
            <a:avLst/>
          </a:prstGeom>
          <a:solidFill>
            <a:srgbClr val="ccffcc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2640" y="285840"/>
            <a:ext cx="44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7. summary and to do list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6480" y="1341360"/>
            <a:ext cx="1450440" cy="368280"/>
          </a:xfrm>
          <a:prstGeom prst="rect">
            <a:avLst/>
          </a:prstGeom>
          <a:solidFill>
            <a:srgbClr val="ccffcc"/>
          </a:solidFill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umma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4320" y="4149720"/>
            <a:ext cx="997560" cy="368280"/>
          </a:xfrm>
          <a:prstGeom prst="rect">
            <a:avLst/>
          </a:prstGeom>
          <a:solidFill>
            <a:srgbClr val="99ccff"/>
          </a:solidFill>
          <a:ln w="47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o 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79720" y="1828800"/>
            <a:ext cx="50828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, inclusive photo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から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を計算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5 GeV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以上の領域で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で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3 GeV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付近の領域で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が有限の値を持つ兆候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見え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27840" y="4640400"/>
            <a:ext cx="51181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についてより深く考察するために、計算法の工夫等により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結果の精度を向上させる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x. conversion method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活用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yield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等の解析と組み合わせた考察を行な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1A6-8E92-4F90-96C1-24D4FF5431A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72320" y="28584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Back up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61080" y="2997360"/>
            <a:ext cx="293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HGP明朝B"/>
              </a:rPr>
              <a:t>Back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FDC-B96E-4736-98C6-9C502E89863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Sep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9:29:14Z</dcterms:created>
  <dc:creator>M</dc:creator>
  <dc:description/>
  <dc:language>en-US</dc:language>
  <cp:lastModifiedBy>M</cp:lastModifiedBy>
  <dcterms:modified xsi:type="dcterms:W3CDTF">2006-09-20T11:38:48Z</dcterms:modified>
  <cp:revision>821</cp:revision>
  <dc:subject/>
  <dc:title>Weekly Report</dc:title>
</cp:coreProperties>
</file>