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wmf" ContentType="image/x-wmf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E6-3C7D-4043-9EAA-07376BF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9F0-E743-42EF-94E2-E6A9BC0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20C-F3F1-41C4-9E62-A335EAF9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5DE-6BA9-4691-B6E1-5277524C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F2E3-EEF0-499B-87FB-47084F8A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ADC6-B2F2-4E3A-8075-5DB2349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6867-996B-45BF-810D-9C3B7A2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A674-D883-4505-83CB-2B9235B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A2F8-EDA9-471E-8FE6-1EB0252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6663-2776-40F5-AD92-49CE8D92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F2C6-502C-49B0-996F-D684587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203-7F7B-42F1-844A-8A2D032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B6F-5175-4085-8751-7E4C7DF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DF71-FBC0-4559-BFB3-BFFF61C9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20EF-5EF7-4CA9-B1FA-D3E3469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58E5-9406-43AF-89D1-98F5990F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93B-B54B-44B6-9212-CF6F7CEE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0C7-53D7-4F87-81CC-ED314D6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FDA-9C1F-48AB-9622-641C48B7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D49-1628-4400-9E46-98DB5E7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672-6D40-4CD6-8942-035DBD3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95C-56F2-46A3-9C7E-1813848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F2F-FB35-44F5-BE0A-28506B6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69E-65CA-4D6E-B9F6-3C6AC66E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A2E-658A-45BE-BF97-6DE70F0CD20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29B-AB11-400C-BB77-95A2B8B9305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arxiv.org/abs/nucl-th/0412015" TargetMode="External"/><Relationship Id="rId4" Type="http://schemas.openxmlformats.org/officeDocument/2006/relationships/hyperlink" Target="http://arxiv.org/abs/hep-ph/0412346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iptic flow of electron from heavy flavor decay by the PHENI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79280" y="357336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ingo Saka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PHENIX collabo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Univ. of Tsukuba &amp; JPSP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15824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5360" y="5213520"/>
            <a:ext cx="66135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trong elliptic flow for non-photonic electr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Main source is D meson -&gt; indicate non-zero D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harm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lso non-zero 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62800" cy="3735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1557360" cy="59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zero charm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1557360"/>
            <a:ext cx="513252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pply recombination model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ssume universal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p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for quark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imultaneous fit t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200" spc="-1" strike="noStrike" baseline="30000">
                <a:solidFill>
                  <a:srgbClr val="292929"/>
                </a:solidFill>
                <a:latin typeface="Arial"/>
              </a:rPr>
              <a:t>π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v</a:t>
            </a:r>
            <a:r>
              <a:rPr b="1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200" spc="-1" strike="noStrike" baseline="30000">
                <a:solidFill>
                  <a:srgbClr val="29292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200" spc="-1" strike="noStrike" baseline="30000">
                <a:solidFill>
                  <a:srgbClr val="292929"/>
                </a:solidFill>
                <a:latin typeface="Arial"/>
              </a:rPr>
              <a:t>non-γe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4854600"/>
                <a:ext cx="5832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6514560" y="43657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C 68 044901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i-wei &amp; Denes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753080" cy="201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63640" y="2565360"/>
            <a:ext cx="5032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4653000"/>
            <a:ext cx="1657440" cy="1152360"/>
          </a:xfrm>
          <a:prstGeom prst="rect">
            <a:avLst/>
          </a:prstGeom>
          <a:solidFill>
            <a:srgbClr val="ff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1800" y="451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60680" y="2852640"/>
            <a:ext cx="2638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hape is determi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ith measured identifi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ticle v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9640" y="2852640"/>
            <a:ext cx="244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niversal v</a:t>
            </a:r>
            <a:r>
              <a:rPr b="0" lang="en-US" sz="16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(p</a:t>
            </a:r>
            <a:r>
              <a:rPr b="0" lang="en-US" sz="1600" spc="-1" strike="noStrike" baseline="-25000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for quar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54450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6160" y="580536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a,b ; fitting paramet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zero charm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000" y="5375160"/>
            <a:ext cx="7139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χ</a:t>
            </a:r>
            <a:r>
              <a:rPr b="0" lang="en-US" sz="2200" spc="-1" strike="noStrike" baseline="30000">
                <a:solidFill>
                  <a:srgbClr val="292929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minimum ; a = 1, b = 0.96 (χ</a:t>
            </a:r>
            <a:r>
              <a:rPr b="0" lang="en-US" sz="2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/ndf = 21.85/27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ased on this recombination model, the data sugge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on-zero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of charm quark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292929"/>
                </a:solidFill>
                <a:uFillTx/>
                <a:latin typeface="Arial"/>
              </a:rPr>
              <a:t>　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827600" cy="381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20000" y="5877000"/>
            <a:ext cx="1224000" cy="0"/>
          </a:xfrm>
          <a:prstGeom prst="line">
            <a:avLst/>
          </a:prstGeom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244000" y="4941720"/>
            <a:ext cx="0" cy="936720"/>
          </a:xfrm>
          <a:prstGeom prst="line">
            <a:avLst/>
          </a:prstGeom>
          <a:ln w="1908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34936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843280" y="2492280"/>
            <a:ext cx="433440" cy="6494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987280" y="4076280"/>
            <a:ext cx="57636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64000" y="429264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4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-79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321300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1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43280" y="3357720"/>
            <a:ext cx="720720" cy="712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96480" y="2266560"/>
            <a:ext cx="12096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b ; char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3995280" y="5083560"/>
            <a:ext cx="7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 ; 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09888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66120" y="2297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χ</a:t>
            </a:r>
            <a:r>
              <a:rPr b="0" lang="en-U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minimum resul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2708280"/>
            <a:ext cx="144360" cy="122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3800" y="256536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-&gt;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4320" y="6237360"/>
            <a:ext cx="595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=&gt; Charm quark strongly coupled to the matte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832360" cy="3384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1557360" cy="593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72720" y="585324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RB637,362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2349360"/>
            <a:ext cx="28728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6360" y="4940280"/>
            <a:ext cx="6335640" cy="863640"/>
          </a:xfrm>
          <a:prstGeom prst="rect">
            <a:avLst/>
          </a:prstGeom>
          <a:solidFill>
            <a:srgbClr val="ff00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0600" y="4869000"/>
            <a:ext cx="480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92929"/>
                </a:solidFill>
                <a:latin typeface="Arial"/>
              </a:rPr>
              <a:t>(1) Charm quark thermal + flow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92929"/>
                </a:solidFill>
                <a:latin typeface="Arial"/>
              </a:rPr>
              <a:t>(2) large cross section ; ~10 mb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92929"/>
                </a:solidFill>
                <a:latin typeface="Arial"/>
              </a:rPr>
              <a:t>(3) Resonance state of D &amp; B in sQGP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92929"/>
                </a:solidFill>
                <a:latin typeface="Arial"/>
              </a:rPr>
              <a:t>(4) pQCD                    --- fai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7080" y="5203800"/>
            <a:ext cx="151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RC72,024906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7800" y="5492880"/>
            <a:ext cx="151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RC73,034913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4941720"/>
            <a:ext cx="236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Phys.Lett. B595 202-208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760" y="-79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66000" y="5176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models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0360" y="1455840"/>
            <a:ext cx="17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ucl-ex/06110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8760" y="-79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643280" cy="475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1773360"/>
            <a:ext cx="5364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wo models describes strong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uppression and large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app and Van He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lastic scatterin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-&gt; small τ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  <a:ea typeface="ＭＳ Ｐゴシック"/>
              </a:rPr>
              <a:t>HQ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× 2πT ~ 4 - 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Moore and Teane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  <a:ea typeface="ＭＳ Ｐゴシック"/>
              </a:rPr>
              <a:t>HQ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× 2πT = 3~12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se calculations suggest tha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mall τ and/or </a:t>
            </a:r>
            <a:r>
              <a:rPr b="0" i="1" lang="en-US" sz="22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i="1" lang="en-US" sz="22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re required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o reproduce the data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13499" t="39745" r="36000" b="10342"/>
          <a:stretch/>
        </p:blipFill>
        <p:spPr>
          <a:xfrm>
            <a:off x="4932360" y="1773360"/>
            <a:ext cx="3875040" cy="2376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s with PHENIX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30001" t="19230" r="20001" b="10342"/>
          <a:stretch/>
        </p:blipFill>
        <p:spPr>
          <a:xfrm>
            <a:off x="5435640" y="4292640"/>
            <a:ext cx="3106800" cy="2565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284720" y="3860640"/>
            <a:ext cx="2879640" cy="18734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88000" y="2276640"/>
            <a:ext cx="685800" cy="3808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700280"/>
            <a:ext cx="5105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app and van Hees </a:t>
            </a:r>
            <a:r>
              <a:rPr b="0" lang="en-US" sz="1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Phys.Rev.C71:034907,2005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multaneously describe PHENIX R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E) and v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e) with diffusion coefficient in range D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×2</a:t>
            </a: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 ~4-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ore and Teaney </a:t>
            </a:r>
            <a:r>
              <a:rPr b="0" lang="en-US" sz="1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hys.Rev.C71:064904,2005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nd D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p)) ~ 6 for N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=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lculate perturbatively,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rgue result also plausible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on-perturbative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bin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call   </a:t>
            </a: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+p = T s    at </a:t>
            </a: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s then gives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s ~(1.5-3)/4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at is, within factor of 2 of conjectured boun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" y="-79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1628640"/>
            <a:ext cx="33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92929"/>
                </a:solidFill>
                <a:latin typeface="Arial"/>
              </a:rPr>
              <a:t>Rapp &amp; Hees private communic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28440" y="4076640"/>
            <a:ext cx="35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92929"/>
                </a:solidFill>
                <a:latin typeface="Arial"/>
              </a:rPr>
              <a:t>Moore &amp; Teaney private communic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n-photonic electron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mainly from charm decay was measured @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 = 200 GeV in Au+Au collisions at RHIC-PHENIX &amp; non-zero 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is observe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data suggest non-zero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charm quar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rm quark strongly coupled to the mat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del comparison sugges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mallτ and/or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re requir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η/s is very small, near quantum boun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8760" y="-79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Gothic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700280"/>
            <a:ext cx="6705360" cy="4376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55736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960480"/>
            <a:ext cx="8610840" cy="58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92929"/>
                </a:solidFill>
                <a:latin typeface="Arial"/>
              </a:rPr>
              <a:t>What does </a:t>
            </a: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ja-JP" sz="20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20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20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+p)) ~ 6 mean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Denominator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ja-JP" sz="16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 is diffusion length ~ heavy quark diffusion length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ja-JP" sz="16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Numerato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Note that viscosity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~ n &lt;p&gt;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n    = number dens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&lt;p&gt; = mean (thermal) momentu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= mean free pat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Enthalpy”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+ P ~ n &lt;p&gt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92929"/>
                </a:solidFill>
                <a:latin typeface="Arial"/>
              </a:rPr>
              <a:t>Here P is press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So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+P) = (n &lt;p&gt;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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/ (n &lt;p&gt; ) ~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Note this 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is for the </a:t>
            </a:r>
            <a:r>
              <a:rPr b="1" i="1" lang="ja-JP" sz="1800" spc="-1" strike="noStrike">
                <a:solidFill>
                  <a:srgbClr val="292929"/>
                </a:solidFill>
                <a:latin typeface="Arial"/>
              </a:rPr>
              <a:t>medium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, i.e., light quar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Combining gives 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ja-JP" sz="18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+p)) ~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ja-JP" sz="1800" spc="-1" strike="noStrike" baseline="-25000">
                <a:solidFill>
                  <a:srgbClr val="292929"/>
                </a:solidFill>
                <a:latin typeface="Arial"/>
              </a:rPr>
              <a:t>HQ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/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Not implausible this should be of order 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92929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Above simple estimates in Boltzmann limit of well-defined </a:t>
            </a:r>
            <a:br>
              <a:rPr sz="2000"/>
            </a:b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(quasi)-particles, densities and mfp’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292929"/>
                </a:solidFill>
                <a:latin typeface="Arial"/>
              </a:rPr>
              <a:t>The “transport coefficient” 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/(</a:t>
            </a:r>
            <a:r>
              <a:rPr b="0" lang="ja-JP" sz="1800" spc="-1" strike="noStrike">
                <a:solidFill>
                  <a:srgbClr val="292929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+p) is preferred by theorists because it remains well-defined in cases where Boltzmann limit does not apply (sQGP?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hysics motiv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re with mode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tlook for heavy flavor 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study @ PHEN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9760" y="1844640"/>
            <a:ext cx="6005520" cy="1702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ew reaction plane detec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good resolution =&gt; reduce error from R.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J/ψ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&amp;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igh pT non-photonic electron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ilicon vertex detec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irect measuremen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 meson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3330720" cy="2500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99560" y="638172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[Reaction plane detector]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10120" y="6381720"/>
            <a:ext cx="24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[Silicon vertex detector]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788000" y="3860640"/>
            <a:ext cx="3168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49440" cy="4752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2060640"/>
            <a:ext cx="4681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ine on the figure ; D-&gt;e v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2,u (pT) = v2,c (pT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2,D (pT)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= v2,u(1/6pT) + v2,c(5/6 pT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f charm &amp; u has same v2, the maximum v2 = 0.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=&gt; Non-photonic electron v2 is smaller than pi (pi0) v2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2303280" cy="2266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11840" y="1773360"/>
            <a:ext cx="488988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stall “photon converter ”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brass ;X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0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= 1.7 %) around beam pipe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crease photonic electron yiel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mpare electron yield with &amp;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ithout converte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xperimentally separate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on-converter ;  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nc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= 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γ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+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non-γ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verter  ; 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= R</a:t>
            </a:r>
            <a:r>
              <a:rPr b="0" lang="en-US" sz="22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*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γ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+N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non-γ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38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1916280"/>
            <a:ext cx="50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stimate background electr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ith simulati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um up all background electro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pu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π</a:t>
            </a:r>
            <a:r>
              <a:rPr b="0" lang="en-US" sz="2200" spc="-1" strike="noStrike" baseline="30000">
                <a:solidFill>
                  <a:srgbClr val="292929"/>
                </a:solidFill>
                <a:latin typeface="Arial"/>
                <a:ea typeface="ＭＳ Ｐゴシック"/>
              </a:rPr>
              <a:t>0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dominant source)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　　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use measured pT @ PHENIX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other sour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ssume mt scale of p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lear enhancement of inclusive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lectron w.r.t photonic electr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5951520" cy="27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71640" y="1484280"/>
            <a:ext cx="4321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1700280"/>
            <a:ext cx="266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1844640"/>
            <a:ext cx="3708360" cy="1368360"/>
          </a:xfrm>
          <a:prstGeom prst="wedgeRectCallout">
            <a:avLst>
              <a:gd name="adj1" fmla="val -62245"/>
              <a:gd name="adj2" fmla="val -10208"/>
            </a:avLst>
          </a:prstGeom>
          <a:solidFill>
            <a:srgbClr val="00ffff">
              <a:alpha val="4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low &amp; energy loss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nsight into the property of the medi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357720"/>
            <a:ext cx="943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Charm is produced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in initial collisions via gluon fus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and propagates through medium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=&gt; 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good probe for studying property of the medium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ja-JP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and R</a:t>
            </a:r>
            <a:r>
              <a:rPr b="0" lang="ja-JP" sz="2200" spc="-1" strike="noStrike" baseline="-25000">
                <a:solidFill>
                  <a:srgbClr val="292929"/>
                </a:solidFill>
                <a:latin typeface="Arial"/>
              </a:rPr>
              <a:t>AA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measurement are useful analysis method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Large energy loss has been observed. =&gt; talked by F. kajihar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How about charm flow 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=&gt;  indicate strongly coupling &amp; quark level thermalizat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ja-JP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&amp; R</a:t>
            </a:r>
            <a:r>
              <a:rPr b="0" lang="ja-JP" sz="2200" spc="-1" strike="noStrike" baseline="-25000">
                <a:solidFill>
                  <a:srgbClr val="292929"/>
                </a:solidFill>
                <a:latin typeface="Arial"/>
              </a:rPr>
              <a:t>AA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 are related to the diffusion coefficient  D and η/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292929"/>
                </a:solidFill>
                <a:latin typeface="Arial"/>
              </a:rPr>
              <a:t>D ∝ η/(sT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1578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m via electron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48360" y="2492280"/>
            <a:ext cx="3744720" cy="2730600"/>
            <a:chOff x="5148360" y="2492280"/>
            <a:chExt cx="3744720" cy="2730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148360" y="2492280"/>
              <a:ext cx="374472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423200">
              <a:off x="6924240" y="3880800"/>
              <a:ext cx="465120" cy="30780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42920" y="4508640"/>
            <a:ext cx="4032360" cy="792000"/>
          </a:xfrm>
          <a:prstGeom prst="rect">
            <a:avLst/>
          </a:prstGeom>
          <a:solidFill>
            <a:srgbClr val="ff99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73360"/>
            <a:ext cx="849636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lectron is one of the good probe of char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lectron sourc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photonic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- photon conversi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- Dalitz decay (π</a:t>
            </a:r>
            <a:r>
              <a:rPr b="0" lang="en-US" sz="2200" spc="-1" strike="noStrike" baseline="30000">
                <a:solidFill>
                  <a:srgbClr val="292929"/>
                </a:solidFill>
                <a:latin typeface="Arial"/>
                <a:ea typeface="ＭＳ Ｐゴシック"/>
              </a:rPr>
              <a:t>0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,η,ω ---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non-photoni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　　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- Ke3 deca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- primarily semi-leptonic deca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of mesons containing c &amp; b</a:t>
            </a:r>
            <a:r>
              <a:rPr b="0" lang="en-US" sz="2200" spc="-1" strike="noStrike">
                <a:solidFill>
                  <a:srgbClr val="cccc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e have two independent method for photonic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lectron subtraction.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ic electron subtr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341360"/>
            <a:ext cx="5038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cktail subtractio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hotonic electrons are calcul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s cocktail of each sourc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PRL 88, 192303 (2002) ]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verter subtractio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hotonic electrons are extract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perimentally by special run wi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itional converter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X = 0.4 +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.7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PRL 94, 082301 (2005) 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240" y="5805360"/>
            <a:ext cx="65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0 % of e come from non-γ @ high pT (&gt;1.5 GeV/c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240" y="6381720"/>
            <a:ext cx="50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etails about spectra analysis ; F. Kajihara’s tal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476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743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628640"/>
            <a:ext cx="74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n photonic electron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is given as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92929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445000"/>
            <a:ext cx="6624720" cy="1241640"/>
          </a:xfrm>
          <a:prstGeom prst="rect">
            <a:avLst/>
          </a:prstGeom>
          <a:solidFill>
            <a:srgbClr val="ff99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  <a:ea typeface="ＭＳ Ｐゴシック"/>
              </a:rPr>
              <a:t>γ.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; Photonic electron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ＭＳ Ｐゴシック"/>
              </a:rPr>
              <a:t>Cocktail method (simulation)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stat. advanta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onverter method (experimentall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437000"/>
            <a:ext cx="3528720" cy="875880"/>
          </a:xfrm>
          <a:prstGeom prst="rect">
            <a:avLst/>
          </a:prstGeom>
          <a:solidFill>
            <a:srgbClr val="00cc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; Inclusive electron v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&g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asur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10320" y="4437000"/>
            <a:ext cx="3133080" cy="875880"/>
          </a:xfrm>
          <a:prstGeom prst="rect">
            <a:avLst/>
          </a:prstGeom>
          <a:solidFill>
            <a:srgbClr val="00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= (Non-γ e) / (γ 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&gt; Measu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692440" y="2133720"/>
                <a:ext cx="39164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o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n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364000" y="3213000"/>
            <a:ext cx="505080" cy="576360"/>
          </a:xfrm>
          <a:prstGeom prst="rect">
            <a:avLst/>
          </a:prstGeom>
          <a:solidFill>
            <a:srgbClr val="00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3213000"/>
            <a:ext cx="647640" cy="503280"/>
          </a:xfrm>
          <a:prstGeom prst="rect">
            <a:avLst/>
          </a:prstGeom>
          <a:solidFill>
            <a:srgbClr val="ff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860640"/>
            <a:ext cx="720720" cy="432000"/>
          </a:xfrm>
          <a:prstGeom prst="rect">
            <a:avLst/>
          </a:prstGeom>
          <a:solidFill>
            <a:srgbClr val="00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2276640"/>
            <a:ext cx="358560" cy="1800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74000" y="236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4880" y="3500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 @ PHEN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925720"/>
            <a:ext cx="39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43280" y="1844640"/>
            <a:ext cx="4103640" cy="3666960"/>
            <a:chOff x="4643280" y="1844640"/>
            <a:chExt cx="4103640" cy="366696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643280" y="1844640"/>
              <a:ext cx="410364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5090760" y="3849840"/>
              <a:ext cx="1524960" cy="5248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cubicBezTo>
                    <a:pt x="24" y="440"/>
                    <a:pt x="48" y="352"/>
                    <a:pt x="144" y="288"/>
                  </a:cubicBezTo>
                  <a:cubicBezTo>
                    <a:pt x="240" y="224"/>
                    <a:pt x="352" y="192"/>
                    <a:pt x="576" y="144"/>
                  </a:cubicBezTo>
                  <a:cubicBezTo>
                    <a:pt x="800" y="96"/>
                    <a:pt x="1144" y="48"/>
                    <a:pt x="1488" y="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46080" y="41036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 Narrow"/>
                </a:rPr>
                <a:t>e</a:t>
              </a:r>
              <a:r>
                <a:rPr b="1" lang="en-US" sz="2000" spc="-1" strike="noStrike" baseline="30000">
                  <a:solidFill>
                    <a:srgbClr val="006600"/>
                  </a:solidFill>
                  <a:latin typeface="Arial Narrow"/>
                </a:rPr>
                <a:t>-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672000" cy="3313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421000" y="3814920"/>
            <a:ext cx="380880" cy="37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3320" y="3714840"/>
            <a:ext cx="1460880" cy="36828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ＭＳ Ｐ明朝"/>
              </a:rPr>
              <a:t>eID @ RI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720" y="5108400"/>
            <a:ext cx="685080" cy="36828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ＭＳ Ｐ明朝"/>
              </a:rPr>
              <a:t>B.G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4869000"/>
            <a:ext cx="533520" cy="3808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4000" y="4508640"/>
            <a:ext cx="1630080" cy="7282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ＭＳ Ｐ明朝"/>
              </a:rPr>
              <a:t>After subtract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imes New Roman"/>
                <a:ea typeface="ＭＳ Ｐ明朝"/>
              </a:rPr>
              <a:t>B.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141720"/>
            <a:ext cx="1296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084640"/>
            <a:ext cx="0" cy="1224000"/>
          </a:xfrm>
          <a:prstGeom prst="line">
            <a:avLst/>
          </a:prstGeom>
          <a:ln w="64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5518080"/>
            <a:ext cx="289080" cy="3589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41300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Electron 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RICH ; electron 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EMC ; measure 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ＭＳ Ｐ明朝"/>
              </a:rPr>
              <a:t>request E/p matc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773360"/>
            <a:ext cx="4176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5734080"/>
            <a:ext cx="395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adiation length &lt; 0.4 %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3357720"/>
            <a:ext cx="143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24200" y="64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((e/p)-1)/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01520" y="3998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6840" y="5445000"/>
            <a:ext cx="6686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clusive electron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measured w.r.t reaction plan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verter --- increase photonic electron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photonic &amp; non-photonic e v</a:t>
            </a:r>
            <a:r>
              <a:rPr b="0" lang="en-US" sz="22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is differe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62800" cy="3887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600720" cy="23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96000" y="4941720"/>
                <a:ext cx="2374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</m:e>
                    </m:nary>
                    <m:r>
                      <m:t xml:space="preserve">×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ecay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71640" y="4005360"/>
            <a:ext cx="4608360" cy="2519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08720" y="558972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od agreement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verter method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experimentally determined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4221000"/>
            <a:ext cx="3510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nic electron v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=&gt; cocktail of photonic e v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941720"/>
            <a:ext cx="2665440" cy="50328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560" y="-7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ge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45320" y="1792440"/>
            <a:ext cx="155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R = N </a:t>
            </a:r>
            <a:r>
              <a:rPr b="0" lang="ja-JP" sz="1800" spc="-1" strike="noStrike" baseline="-25000">
                <a:solidFill>
                  <a:srgbClr val="292929"/>
                </a:solidFill>
                <a:latin typeface="Arial"/>
              </a:rPr>
              <a:t>X-&gt;e</a:t>
            </a:r>
            <a:r>
              <a:rPr b="0" lang="ja-JP" sz="1800" spc="-1" strike="noStrike">
                <a:solidFill>
                  <a:srgbClr val="292929"/>
                </a:solidFill>
                <a:latin typeface="Arial"/>
              </a:rPr>
              <a:t>/ N</a:t>
            </a:r>
            <a:r>
              <a:rPr b="0" lang="ja-JP" sz="1800" spc="-1" strike="noStrike" baseline="-25000">
                <a:solidFill>
                  <a:srgbClr val="292929"/>
                </a:solidFill>
                <a:latin typeface="Arial"/>
              </a:rPr>
              <a:t>γ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0480" y="4313160"/>
            <a:ext cx="257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nic e v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(Cocktai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4643280" cy="2492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9230000">
            <a:off x="4716360" y="4005360"/>
            <a:ext cx="719280" cy="215640"/>
          </a:xfrm>
          <a:prstGeom prst="leftArrow">
            <a:avLst>
              <a:gd name="adj1" fmla="val 50000"/>
              <a:gd name="adj2" fmla="val 83389"/>
            </a:avLst>
          </a:prstGeom>
          <a:solidFill>
            <a:srgbClr val="00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1440" y="378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eca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3640" y="1773360"/>
            <a:ext cx="82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π</a:t>
            </a:r>
            <a:r>
              <a:rPr b="0" lang="en-US" sz="1800" spc="-1" strike="noStrike" baseline="30000">
                <a:solidFill>
                  <a:srgbClr val="292929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299592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92929"/>
                </a:solidFill>
                <a:latin typeface="Arial"/>
              </a:rPr>
              <a:t>pT&lt;3 ; π (nucl-ex/0608033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92929"/>
                </a:solidFill>
                <a:latin typeface="Arial"/>
              </a:rPr>
              <a:t>pT&gt;3 ; π</a:t>
            </a:r>
            <a:r>
              <a:rPr b="1" lang="ja-JP" sz="1400" spc="-1" strike="noStrike" baseline="30000">
                <a:solidFill>
                  <a:srgbClr val="292929"/>
                </a:solidFill>
                <a:latin typeface="Arial"/>
              </a:rPr>
              <a:t>0</a:t>
            </a:r>
            <a:r>
              <a:rPr b="1" lang="ja-JP" sz="1400" spc="-1" strike="noStrike">
                <a:solidFill>
                  <a:srgbClr val="292929"/>
                </a:solidFill>
                <a:latin typeface="Arial"/>
              </a:rPr>
              <a:t> (PHENIX run4 prelim.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863640" cy="328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00360" y="3429000"/>
            <a:ext cx="142920" cy="863640"/>
          </a:xfrm>
          <a:prstGeom prst="downArrow">
            <a:avLst>
              <a:gd name="adj1" fmla="val 50000"/>
              <a:gd name="adj2" fmla="val 151071"/>
            </a:avLst>
          </a:prstGeom>
          <a:solidFill>
            <a:srgbClr val="00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7:04:08Z</dcterms:created>
  <dc:creator>shingo</dc:creator>
  <dc:description/>
  <dc:language>en-US</dc:language>
  <cp:lastModifiedBy>shingo</cp:lastModifiedBy>
  <dcterms:modified xsi:type="dcterms:W3CDTF">2006-11-29T10:06:03Z</dcterms:modified>
  <cp:revision>405</cp:revision>
  <dc:subject/>
  <dc:title>Charm quark v2 from non-γ electron v2 (for QM2006)</dc:title>
</cp:coreProperties>
</file>