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E52-A5D8-4ECE-A839-5B776A9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74C-EB47-4809-8EA3-A5982717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B8D-4B63-4A14-AEE2-C34B7F2F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897-1768-4292-A96C-78CD2232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7C72-F2E2-4B8A-8213-88A72DCA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0C8-0BD7-4E75-9B22-2231D7DA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B6AB-4BFD-45BF-B030-0548DF06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0BD5-ECA4-4E97-9DFF-4EE419E3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B4FE-486E-4952-B10F-69B7E27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8293-DA81-42A7-8830-EFFA802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233-761E-4776-9ABC-80107E1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ED5-39A7-4822-948F-9563B30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9E24-2A56-4118-850C-FB9DA23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4B56-5BC5-467B-921D-994E053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6BF-CC1B-493B-AD41-41C8BBA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15C6-4BFD-47F8-ACB1-AB3020AC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C36-B3C7-487D-9B2B-D478EED7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A10-17F6-4122-A664-504EF29A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088-9CCE-47FD-9BDA-E05C2305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12F-78FB-4942-98F7-E9C5B5C4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907-BBFC-4EBA-A85B-E2C8DBE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69D-9DD1-4495-B5FD-1251258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8BC-6665-48B6-9BBB-6762FFF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CDB-2B93-4F6B-A00C-982AC83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F5A-604F-45AA-AFFF-883B546F6C37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85560" y="66135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atsuya Chuj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088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Quark Matter 2006 (2006.11.1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53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98CC-A7C9-4E22-BA07-1A90A8A81ABC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088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Quark Matter 2006 (2006.11.1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837720"/>
            <a:ext cx="8458200" cy="20574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5ffff"/>
                </a:solidFill>
                <a:latin typeface="Arial"/>
              </a:rPr>
              <a:t>Excitation functions of baryon anomaly and freeze-out properties at RHIC-PHENIX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atsuya Chu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University of Tsukub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6019920"/>
            <a:ext cx="1981080" cy="457200"/>
            <a:chOff x="6934320" y="6019920"/>
            <a:chExt cx="1981080" cy="457200"/>
          </a:xfrm>
        </p:grpSpPr>
        <p:sp>
          <p:nvSpPr>
            <p:cNvPr id="89" name=""/>
            <p:cNvSpPr/>
            <p:nvPr/>
          </p:nvSpPr>
          <p:spPr>
            <a:xfrm>
              <a:off x="6934320" y="601992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7010640" y="6045120"/>
              <a:ext cx="3902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7531200" y="6045120"/>
              <a:ext cx="135900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933640" y="5029200"/>
            <a:ext cx="327672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rcRect l="0" t="0" r="79769" b="0"/>
          <a:stretch/>
        </p:blipFill>
        <p:spPr>
          <a:xfrm>
            <a:off x="304920" y="5486400"/>
            <a:ext cx="1143000" cy="106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ja-JP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ratios (cent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920" y="5562720"/>
            <a:ext cx="78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Cu+Cu 22.5 GeV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ratio in central agree with p+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Many protons, mostly from participant nucle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789-72AB-4107-8C9F-6B698170E041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ja-JP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ratios (cent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43040" y="56386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Cu+Cu 62.4 GeV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ratio larger th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those in p+p and Cu+Cu 22.5 Ge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EBC-3BE5-4B1E-BCCD-F783A582FCFB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ja-JP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ratios (cent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1880" y="571500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Cu+Cu 200 GeV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 similar to those in Cu+Cu 62.4 GeV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178-06F2-44AC-B0FC-02AA1FF4DBC0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5ffff"/>
                </a:solidFill>
                <a:latin typeface="Arial"/>
              </a:rPr>
              <a:t>Cu+Cu vs. Au+Au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873-62DB-4C43-AE44-92B390547E74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ja-JP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ratios (cent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6360" y="57150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Au+Au 62 GeV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is unchanged, 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getting lar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038-2611-4BDE-B55E-2C9C6B45AC6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ja-JP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ratios (cent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4440" y="5715000"/>
            <a:ext cx="83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Au+Au 200 GeV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is enhanced, 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is similar to 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CC7-C5D0-4A6C-91F8-A6CAEECA5A50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en-US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ratios (periphe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67240" y="5702400"/>
            <a:ext cx="75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Peripheral collisions for all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Conversing to the same line for both 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and p/</a:t>
            </a:r>
            <a:r>
              <a:rPr b="1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DC9-2D5D-4E37-894E-BE21DAD7AC29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2880" y="152280"/>
            <a:ext cx="8229600" cy="53352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Centrality dep. of p/</a:t>
            </a:r>
            <a:r>
              <a:rPr b="0" lang="en-US" sz="32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 in Cu+Cu 22.5 GeV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160" y="5486400"/>
            <a:ext cx="8905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ns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ransported to mid rap. instead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production for Cu+Cu 22GeV.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Almost </a:t>
            </a:r>
            <a:r>
              <a:rPr b="1" lang="ja-JP" sz="1800" spc="-1" strike="noStrike">
                <a:solidFill>
                  <a:srgbClr val="ffff00"/>
                </a:solidFill>
                <a:latin typeface="Arial"/>
              </a:rPr>
              <a:t>no centrality dependence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ratios are ~0.3-0.4 at p</a:t>
            </a:r>
            <a:r>
              <a:rPr b="1" lang="ja-JP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= 2 GeV/c,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which is close to the value in p+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2920" y="990720"/>
            <a:ext cx="8856720" cy="4197240"/>
            <a:chOff x="142920" y="990720"/>
            <a:chExt cx="8856720" cy="41972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42920" y="990720"/>
              <a:ext cx="8856720" cy="41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5486400" y="1905120"/>
              <a:ext cx="86832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5558040" y="76212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7C3-AC2A-4B61-BF9C-00F62DAC1CEF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5486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ratios are reduced, compared to those in Cu+Cu 22 Ge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Symbol"/>
                <a:ea typeface="Symbol"/>
              </a:rPr>
              <a:t>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ratio in central collisions reaches R=~0.6 at p</a:t>
            </a:r>
            <a:r>
              <a:rPr b="1" lang="ja-JP" sz="20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= 2 GeV/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Centrality dependence is also se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2880" y="152280"/>
            <a:ext cx="8229600" cy="53352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Centrality dep. of p/</a:t>
            </a:r>
            <a:r>
              <a:rPr b="0" lang="en-US" sz="32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 in Cu+Cu 62.4 GeV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360" y="990720"/>
            <a:ext cx="8853480" cy="4195800"/>
            <a:chOff x="144360" y="990720"/>
            <a:chExt cx="8853480" cy="419580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144360" y="990720"/>
              <a:ext cx="8853480" cy="41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486400" y="1905120"/>
              <a:ext cx="86832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5558040" y="76212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A85-E863-426A-9CA6-9611A9C6F10B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1030320"/>
            <a:ext cx="5854680" cy="4797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4720" y="20304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e5ffff"/>
                </a:solidFill>
                <a:latin typeface="Arial"/>
              </a:rPr>
              <a:t>NN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dep. of </a:t>
            </a: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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/</a:t>
            </a: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e5ff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ratio (central)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3123720"/>
            <a:ext cx="2743200" cy="16765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3623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Increa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as a function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BCB-245C-4C70-9BEA-11EAB2C3AD8C}" type="slidenum">
              <a:t>19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5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. Introduction (baryon anomaly at RH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. Data set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3. Results (from lower energy RHIC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spectra (Cu+Cu/p+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 dependence of p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rat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entrality dependence of p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rat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uclear modification factor (R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for charged pions, protons, antiprot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4.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80-D633-4EFB-A604-BA8C27D6950C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4720" y="20304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e5ffff"/>
                </a:solidFill>
                <a:latin typeface="Arial"/>
              </a:rPr>
              <a:t>NN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dep. of p/</a:t>
            </a: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e5ffff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ratio (central)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2280" y="1030320"/>
            <a:ext cx="5854680" cy="4797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2666880"/>
            <a:ext cx="2819520" cy="1638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3623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decreasing 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 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as a function of </a:t>
            </a:r>
            <a:r>
              <a:rPr b="1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76D-6CF4-4836-902A-26A231CB2AB3}" type="slidenum">
              <a:t>20</a:t>
            </a:fld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973080"/>
            <a:ext cx="6201000" cy="4911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R</a:t>
            </a:r>
            <a:r>
              <a:rPr b="0" lang="ja-JP" sz="3600" spc="-1" strike="noStrike" baseline="-25000">
                <a:solidFill>
                  <a:srgbClr val="e5ffff"/>
                </a:solidFill>
                <a:latin typeface="Arial"/>
              </a:rPr>
              <a:t>AA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for charged pions (by ISR fit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95560" y="2971800"/>
            <a:ext cx="2819160" cy="102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Error notations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Error bars: statistical error for HI spect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Boxes: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) sys. error for p+p refere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) sys. error for HI spectra.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ines: N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error (1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51560" y="1549440"/>
            <a:ext cx="2578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Used ISR fit (nucl-ex/0411049, D. d’Enteria) for p+p parameteriz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Using ISR fit: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Moderate suppression for Au+Au 62.4 GeV, larger than one for Cu+Cu 62/22 GeV (p</a:t>
            </a:r>
            <a:r>
              <a:rPr b="1" lang="ja-JP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&gt; 2.0 GeV/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1DD-F3C4-4664-AA38-55169417928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R</a:t>
            </a:r>
            <a:r>
              <a:rPr b="0" lang="ja-JP" sz="3600" spc="-1" strike="noStrike" baseline="-25000">
                <a:solidFill>
                  <a:srgbClr val="e5ffff"/>
                </a:solidFill>
                <a:latin typeface="Arial"/>
              </a:rPr>
              <a:t>AA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for antiprotons (by ISR fit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52280" y="971640"/>
            <a:ext cx="6204240" cy="4913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26360" y="1778040"/>
            <a:ext cx="25779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Used ISR data at 63 GeV (Alper. NPB 100, 237) for p+p refer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Similar R</a:t>
            </a:r>
            <a:r>
              <a:rPr b="1" lang="ja-JP" sz="2000" spc="-1" strike="noStrike" baseline="-25000">
                <a:solidFill>
                  <a:srgbClr val="ffff00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for all three syste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6EB-F97E-439C-8680-77AD355D9749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R</a:t>
            </a:r>
            <a:r>
              <a:rPr b="0" lang="ja-JP" sz="3600" spc="-1" strike="noStrike" baseline="-25000">
                <a:solidFill>
                  <a:srgbClr val="e5ffff"/>
                </a:solidFill>
                <a:latin typeface="Arial"/>
              </a:rPr>
              <a:t>AA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for protons (by ISR fit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971640"/>
            <a:ext cx="6204240" cy="4914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26360" y="1778040"/>
            <a:ext cx="25779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Used ISR data at 63 GeV (Alper. NPB 100, 237) for p+p refer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Largest R</a:t>
            </a:r>
            <a:r>
              <a:rPr b="1" lang="ja-JP" sz="2000" spc="-1" strike="noStrike" baseline="-25000">
                <a:solidFill>
                  <a:srgbClr val="ffff00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for Cu+Cu 22.5 Ge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20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for Au+Au 62.4 GeV is smaller than that in Cu+Cu 62.4 Ge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838-B03D-4A6A-9135-48C2076EF39F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799920"/>
            <a:ext cx="8991360" cy="5257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Antiproton is a good probe to study the excitation function of baryon anoma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Only antiprotons in Cu+Cu 22.5 GeV system is different from oth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No centrality dependence in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ratio at the intermediate p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Central 0-10%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ratio agrees with the value in p+p coll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From 62 GeV Cu+Cu/Au+Au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rati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Baryon anomaly still exists in central Au+Au “AND” Cu+Cu 62 Ge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(by ISR fit, limited 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&lt; 2.5 ~ 3.0 GeV/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: moderate suppression in Au+Au 62 GeV, unity for Cu+Cu 62 Ge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: larger in Cu+Cu than that in Au+Au (baryon transport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: small differences between Cu+Cu and Au+Au, close to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To conclude on R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, it is important to measure the absolute normalized p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spectra in p+p 62.4 Ge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Summary: Data indicates that an onset of baryon anomaly at RHIC is in between 22 GeV and 62 GeV.</a:t>
            </a:r>
            <a:r>
              <a:rPr b="1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044-E850-4F18-9FE8-71F1CB35E5A6}" type="slidenum">
              <a:t>24</a:t>
            </a:fld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93A-3F9F-4365-A8F5-55B005240B58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84E-C234-4A40-B0EF-B7EF07CCC194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/</a:t>
            </a: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e5ffff"/>
                </a:solidFill>
                <a:latin typeface="Symbol"/>
                <a:ea typeface="Symbol"/>
              </a:rPr>
              <a:t>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atios in p+p 62.4 GeV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95360" y="1496880"/>
            <a:ext cx="8153280" cy="38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443-70BD-40B0-8B09-50CBA763214C}" type="slidenum">
              <a:t>27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5ffff"/>
                </a:solidFill>
                <a:latin typeface="Arial"/>
              </a:rPr>
              <a:t>Introduction </a:t>
            </a:r>
            <a:br>
              <a:rPr sz="4400"/>
            </a:br>
            <a:r>
              <a:rPr b="0" lang="ja-JP" sz="2800" spc="-1" strike="noStrike">
                <a:solidFill>
                  <a:srgbClr val="e5ffff"/>
                </a:solidFill>
                <a:latin typeface="Arial"/>
              </a:rPr>
              <a:t>~ Baryon Anomaly at RHIC ~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048120" cy="2357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1143000"/>
            <a:ext cx="42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PHENIX: PRL 91, 172301 (2003), PRC 69, 034909 (2004), PRC 74, 024904 (200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1295280"/>
            <a:ext cx="4191120" cy="50504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In Au+Au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s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Osaka"/>
              </a:rPr>
              <a:t>N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= 200 GeV central collis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R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Osaka"/>
              </a:rPr>
              <a:t>CP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(or R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Osaka"/>
              </a:rPr>
              <a:t>AA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Pions: Strong suppression of yields above p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Osaka"/>
              </a:rPr>
              <a:t>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~ 2 GeV/c, due to jet quenching eff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Protons: No suppression for at intermediate p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Osaka"/>
              </a:rPr>
              <a:t>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(2-5 GeV/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p/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and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p/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rat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Arial"/>
              </a:rPr>
              <a:t>More (anti) baryons than pions at intermediate p</a:t>
            </a:r>
            <a:r>
              <a:rPr b="1" lang="ja-JP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Arial"/>
              </a:rPr>
              <a:t>(2-5 GeV/c)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Arial"/>
              </a:rPr>
              <a:t>Strong centrality dependen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  <a:ea typeface="Osaka"/>
              </a:rPr>
              <a:t> </a:t>
            </a:r>
            <a:r>
              <a:rPr b="1" lang="ja-JP" sz="2000" spc="-1" strike="noStrike">
                <a:solidFill>
                  <a:srgbClr val="ffff00"/>
                </a:solidFill>
                <a:latin typeface="Arial"/>
                <a:ea typeface="Osaka"/>
              </a:rPr>
              <a:t>Called “Baryon anomaly at RHIC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Quark recombination model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Osaka"/>
              </a:rPr>
              <a:t> reproduce the data qualitative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4013280"/>
            <a:ext cx="3911760" cy="28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F1D-21D8-4950-A882-EB7D85BE3564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5ffff"/>
                </a:solidFill>
                <a:latin typeface="Arial"/>
              </a:rPr>
              <a:t>What is the definition of baryon anomaly at RHIC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region of interest is the intermediate p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(2.0 - 5.0 GeV/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(p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ratios are much larger than the fragmentation expectations (p+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trong centrality dependence in heavy ion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ifferent nuclear modification factor (R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CP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or R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between pions and (anti)prot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ions: sup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anti)protons: no sup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A17-A04F-4436-BAB2-FD2A0BA8F13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maining question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0666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 is the onset of baryon anomaly at RH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How p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ratios and R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evolve as a function of 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 and colliding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following low energy data sets have been taken by the PHENIX experiment recently, and they may give us an answer to questions abo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Lower beam energy data in PHEN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+Au 62.4 GeV (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u+Cu 62.4 GeV (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u+Cu 22.5 GeV (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+p 62.4 GeV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98C-311F-4B0B-967A-D2BF6751DEB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317160"/>
            <a:ext cx="86868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e5ffff"/>
                </a:solidFill>
                <a:latin typeface="Arial"/>
              </a:rPr>
              <a:t>PID charged p</a:t>
            </a:r>
            <a:r>
              <a:rPr b="0" lang="ja-JP" sz="3200" spc="-1" strike="noStrike" baseline="-25000">
                <a:solidFill>
                  <a:srgbClr val="e5ffff"/>
                </a:solidFill>
                <a:latin typeface="Arial"/>
              </a:rPr>
              <a:t>T</a:t>
            </a:r>
            <a:r>
              <a:rPr b="0" lang="ja-JP" sz="3200" spc="-1" strike="noStrike">
                <a:solidFill>
                  <a:srgbClr val="e5ffff"/>
                </a:solidFill>
                <a:latin typeface="Arial"/>
              </a:rPr>
              <a:t> spectra analysis in PHENIX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57200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tectors: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ift Chamber, PC1, BBC and TOF for PID charged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entrality: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divided minimum bias triggered events, based on BBC charge (62 GeV), or the number of PC1 hit (22 GeV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rrections: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ometrical acceptance, in flight deca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TE: No weak decay feed-down correction applied for all plots in this present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46249"/>
          <a:stretch/>
        </p:blipFill>
        <p:spPr>
          <a:xfrm>
            <a:off x="4952880" y="838080"/>
            <a:ext cx="4191120" cy="2826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875480" y="3835440"/>
            <a:ext cx="4115880" cy="2549520"/>
            <a:chOff x="4875480" y="3835440"/>
            <a:chExt cx="4115880" cy="254952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925880" y="3835440"/>
              <a:ext cx="406548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484960" y="3898800"/>
              <a:ext cx="29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d particle identification by TO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38600" y="610848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 x Momentum (GeV/c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5480" y="4013280"/>
              <a:ext cx="4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6520" y="412740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+Cu @ 22.5 GeV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A9D-FBB2-495E-A7D4-338E8EECDDA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p</a:t>
            </a:r>
            <a:r>
              <a:rPr b="0" lang="ja-JP" sz="3600" spc="-1" strike="noStrike" baseline="-25000">
                <a:solidFill>
                  <a:srgbClr val="e5ffff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spectra at low energy Cu+Cu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3720" y="5942160"/>
            <a:ext cx="59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ntiproton spectra in Cu+Cu 22.5/62.4 GeV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also measured pions, protons for both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16080" y="1066680"/>
            <a:ext cx="8515080" cy="4724640"/>
            <a:chOff x="316080" y="1066680"/>
            <a:chExt cx="8515080" cy="47246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572000" y="1066680"/>
              <a:ext cx="425916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316080" y="1066680"/>
              <a:ext cx="4255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7540560" y="2708280"/>
              <a:ext cx="86832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200400" y="2743200"/>
              <a:ext cx="86832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5481720" y="83808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DBC-12EB-45E0-9BD1-BA459001FD3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e5ff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spectra in p+p 62.4 GeV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57800" y="990720"/>
            <a:ext cx="3657600" cy="4572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ata from Run-6 (2006) at RH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rovides an important baseline for p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spectra  in Au+Au and Cu+Cu at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= 62.4 Ge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resented the invariant yields 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Working on the determination of  inelastic cross section and trigger bias in PHENIX experiment for the absolute normalization in p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spect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5023080" cy="556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51600" y="648972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878-6163-43AC-A07D-A19ECEBC7DB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0033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Compilation of p/</a:t>
            </a:r>
            <a:r>
              <a:rPr b="0" lang="ja-JP" sz="3600" spc="-1" strike="noStrike">
                <a:solidFill>
                  <a:srgbClr val="e5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e5ffff"/>
                </a:solidFill>
                <a:latin typeface="Arial"/>
              </a:rPr>
              <a:t> ratios (central)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5120" y="5562720"/>
            <a:ext cx="62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p+p 62.4 GeV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 set the baseline for HI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New PHENIX data agrees with IS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0400" y="1450800"/>
            <a:ext cx="7963200" cy="395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58040" y="11430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9C9-2726-4608-A1D6-53581BB23F50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54:41Z</dcterms:created>
  <dc:creator>Tatsuya Chujo</dc:creator>
  <dc:description/>
  <cp:keywords/>
  <dc:language>en-US</dc:language>
  <cp:lastModifiedBy>Tatsuya Chujo</cp:lastModifiedBy>
  <cp:lastPrinted>2006-11-05T11:23:56Z</cp:lastPrinted>
  <dcterms:modified xsi:type="dcterms:W3CDTF">2006-11-18T03:32:16Z</dcterms:modified>
  <cp:revision>2299</cp:revision>
  <dc:subject/>
  <dc:title>PowerPoint Presentation  -  Hot Quarks 2004 (chujo)</dc:title>
</cp:coreProperties>
</file>