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ct" ContentType="image/x-pict"/>
  <Override PartName="/ppt/media/image28.png" ContentType="image/png"/>
  <Override PartName="/ppt/media/image7.jpeg" ContentType="image/jpeg"/>
  <Override PartName="/ppt/media/image24.pct" ContentType="image/x-pict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A88-0AD4-4EF4-B0DF-AC238F3D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D49-45AD-49AD-BEDC-03048659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B6B-DF9D-4FCD-ADEB-28F6C075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287-7672-4214-8A3A-97C06CFE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DF1-D034-44F3-B36C-D598AC5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154-357E-4413-8F95-958859CB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898-1900-47AD-A6DF-7C22D9B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715-4ECC-4A73-9077-922F94A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BA2-E60A-4E19-B64E-38CE9F4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0A9-F053-4DA3-9FA6-018DD50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40D-4182-404D-97CF-2FDAF18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9CA-1963-4396-9EB8-2C9562E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E41-071A-407A-B6A5-9ABC9C95065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440" y="6553080"/>
            <a:ext cx="28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11/19/2006, Shanghai,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15200" y="87480"/>
            <a:ext cx="1746360" cy="572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332160" y="6553080"/>
            <a:ext cx="261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ahiro Konno (Univ. of Tsuku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9880" y="1600200"/>
            <a:ext cx="8429040" cy="2006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-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dentified Hadron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+Au and Cu+Cu Coll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RHIC-PHE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18240" y="4065480"/>
            <a:ext cx="480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hiro Kon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iv. of Tsuku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D5F-E204-44CC-92A7-8735FEC676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4240" y="152280"/>
            <a:ext cx="370116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ow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060880"/>
            <a:ext cx="75438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o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weak and decreasing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becau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erse sl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expon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tting) also show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2200" y="58482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6360" y="83808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Radial flow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0360" y="1133640"/>
            <a:ext cx="4273920" cy="3773160"/>
            <a:chOff x="180360" y="1133640"/>
            <a:chExt cx="4273920" cy="377316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320760" y="1797120"/>
              <a:ext cx="40384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80360" y="1523880"/>
              <a:ext cx="2027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nti-)prot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080" y="113364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89040" y="156852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952880" y="1600200"/>
            <a:ext cx="4130640" cy="3308400"/>
            <a:chOff x="4952880" y="1600200"/>
            <a:chExt cx="4130640" cy="3308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952880" y="1600200"/>
              <a:ext cx="4130640" cy="33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935760" y="162396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4197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D16-E6FA-4F15-9776-E3A6BC5F48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320" y="3730680"/>
            <a:ext cx="9067680" cy="282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4880" y="914400"/>
            <a:ext cx="52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Radial flo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ex. blast-wave fit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40" y="152280"/>
            <a:ext cx="52588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termediate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4120" y="990720"/>
            <a:ext cx="3504600" cy="2743200"/>
            <a:chOff x="5334120" y="990720"/>
            <a:chExt cx="3504600" cy="2743200"/>
          </a:xfrm>
        </p:grpSpPr>
        <p:grpSp>
          <p:nvGrpSpPr>
            <p:cNvPr id="193" name=""/>
            <p:cNvGrpSpPr/>
            <p:nvPr/>
          </p:nvGrpSpPr>
          <p:grpSpPr>
            <a:xfrm>
              <a:off x="5334120" y="990720"/>
              <a:ext cx="3504600" cy="2743200"/>
              <a:chOff x="5334120" y="990720"/>
              <a:chExt cx="3504600" cy="27432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4120" y="990720"/>
                <a:ext cx="350460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6053040" y="2810880"/>
                <a:ext cx="1940760" cy="33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039000" y="2743200"/>
              <a:ext cx="202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+Au 200 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19920" y="1600200"/>
            <a:ext cx="443700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a for heavier particles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vex shape due to radia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ast-wave fi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function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4320" y="3352680"/>
            <a:ext cx="244224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hydr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447560" y="3581280"/>
            <a:ext cx="2361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160" y="3382920"/>
            <a:ext cx="218772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rea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1600" y="29718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82160" y="762120"/>
            <a:ext cx="160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,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6477120"/>
            <a:ext cx="9144000" cy="382320"/>
            <a:chOff x="0" y="6477120"/>
            <a:chExt cx="9144000" cy="382320"/>
          </a:xfrm>
        </p:grpSpPr>
        <p:sp>
          <p:nvSpPr>
            <p:cNvPr id="206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133720" y="670572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0960" y="64911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1080" y="649116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84360" y="4470480"/>
            <a:ext cx="80186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dynamic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tons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lanations (baryon enhanc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needed: Recombination, Jet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21C-E07F-4E8F-950C-3714502A62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51920" y="4813200"/>
            <a:ext cx="3858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mber of models predicted a turn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/M ratio at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ust above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ailable data finish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7280" y="5257800"/>
            <a:ext cx="300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s, R et al PRC 68 (2003) 0449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co, V et al PRL 90 (2003) 2023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a, R et al PRC 70(2004) 024905   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00" y="1576440"/>
            <a:ext cx="381492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2590920" y="1554120"/>
          <a:ext cx="129528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54120"/>
                    <a:ext cx="12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585880" y="2003400"/>
          <a:ext cx="130032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5880" y="2003400"/>
                    <a:ext cx="13003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8840" y="8380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- Quark Recombina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000" y="4214880"/>
            <a:ext cx="41202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combin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ons may be a more efficient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adron production than fragmen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370160"/>
            <a:ext cx="0" cy="48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7840" y="152280"/>
            <a:ext cx="52588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termediate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1840" y="563868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08200" y="76212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95680" y="914400"/>
            <a:ext cx="4267440" cy="3962520"/>
            <a:chOff x="4495680" y="914400"/>
            <a:chExt cx="4267440" cy="396252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4495680" y="1243080"/>
              <a:ext cx="426744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878360" y="10666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/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0200" y="91440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876920" y="3733920"/>
            <a:ext cx="3589560" cy="2819160"/>
            <a:chOff x="4876920" y="3733920"/>
            <a:chExt cx="3589560" cy="2819160"/>
          </a:xfrm>
        </p:grpSpPr>
        <p:grpSp>
          <p:nvGrpSpPr>
            <p:cNvPr id="229" name=""/>
            <p:cNvGrpSpPr/>
            <p:nvPr/>
          </p:nvGrpSpPr>
          <p:grpSpPr>
            <a:xfrm>
              <a:off x="4876920" y="6095880"/>
              <a:ext cx="3589560" cy="457200"/>
              <a:chOff x="4876920" y="6095880"/>
              <a:chExt cx="3589560" cy="457200"/>
            </a:xfrm>
          </p:grpSpPr>
          <p:sp>
            <p:nvSpPr>
              <p:cNvPr id="230" name=""/>
              <p:cNvSpPr/>
              <p:nvPr/>
            </p:nvSpPr>
            <p:spPr>
              <a:xfrm>
                <a:off x="5419080" y="6100560"/>
                <a:ext cx="3047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w, we find a similar tre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76920" y="6095880"/>
                <a:ext cx="457200" cy="45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8000"/>
              </a:solidFill>
              <a:ln w="936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334120" y="3733920"/>
              <a:ext cx="2971800" cy="459720"/>
              <a:chOff x="5334120" y="3733920"/>
              <a:chExt cx="2971800" cy="459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4120" y="3733920"/>
                <a:ext cx="1447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2040" y="3733920"/>
                <a:ext cx="1523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089120" y="373392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Arial"/>
                  </a:rPr>
                  <a:t>A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7400" y="37339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Arial"/>
                  </a:rPr>
                  <a:t>TO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202-1A0E-4549-B64C-BD1C14811C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63360" y="5994360"/>
            <a:ext cx="5907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gain, look at centrality dependence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ilar tendencies as at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040" y="228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7960" y="16812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62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0880" y="828720"/>
            <a:ext cx="8229600" cy="5122800"/>
            <a:chOff x="380880" y="828720"/>
            <a:chExt cx="8229600" cy="5122800"/>
          </a:xfrm>
        </p:grpSpPr>
        <p:sp>
          <p:nvSpPr>
            <p:cNvPr id="241" name=""/>
            <p:cNvSpPr/>
            <p:nvPr/>
          </p:nvSpPr>
          <p:spPr>
            <a:xfrm>
              <a:off x="7778880" y="82872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380880" y="1401840"/>
              <a:ext cx="822960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96960" y="112716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290-54BC-4D78-BD93-5D4076105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44760" y="131436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03040" y="168120"/>
            <a:ext cx="279900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3760" y="24444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62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562720"/>
            <a:ext cx="640080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so at 62 G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u+Au/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107120" y="4267080"/>
            <a:ext cx="1295640" cy="52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107120" y="333684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46080" y="612144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9400" y="91440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03A-42EF-4492-9A24-564511548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5520" y="166680"/>
            <a:ext cx="460764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 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d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6600" y="304920"/>
            <a:ext cx="2782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2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62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5029200"/>
            <a:ext cx="8534160" cy="13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Au+Au between 62 GeV and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dy scaling of pbar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n.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on 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i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62 GeV is partly from baryon transport, not only pair produ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stopping is still large at 62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720" y="64008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18720" y="53352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320" y="1317600"/>
            <a:ext cx="4343400" cy="3632400"/>
            <a:chOff x="76320" y="1317600"/>
            <a:chExt cx="4343400" cy="363240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76320" y="1317600"/>
              <a:ext cx="434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839960" y="388620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267080" y="1295280"/>
            <a:ext cx="4724280" cy="3711600"/>
            <a:chOff x="4267080" y="1295280"/>
            <a:chExt cx="4724280" cy="3711600"/>
          </a:xfrm>
        </p:grpSpPr>
        <p:grpSp>
          <p:nvGrpSpPr>
            <p:cNvPr id="261" name=""/>
            <p:cNvGrpSpPr/>
            <p:nvPr/>
          </p:nvGrpSpPr>
          <p:grpSpPr>
            <a:xfrm>
              <a:off x="4267080" y="1295280"/>
              <a:ext cx="4724280" cy="3711600"/>
              <a:chOff x="4267080" y="1295280"/>
              <a:chExt cx="4724280" cy="3711600"/>
            </a:xfrm>
          </p:grpSpPr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1295280"/>
                <a:ext cx="43434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267080" y="2819520"/>
                <a:ext cx="533520" cy="53316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411960" y="39625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67280" y="1981080"/>
            <a:ext cx="2819160" cy="1904760"/>
            <a:chOff x="5867280" y="1981080"/>
            <a:chExt cx="2819160" cy="1904760"/>
          </a:xfrm>
        </p:grpSpPr>
        <p:sp>
          <p:nvSpPr>
            <p:cNvPr id="266" name=""/>
            <p:cNvSpPr/>
            <p:nvPr/>
          </p:nvSpPr>
          <p:spPr>
            <a:xfrm flipV="1">
              <a:off x="5867280" y="3123720"/>
              <a:ext cx="27432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943240" y="266688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867280" y="1981080"/>
              <a:ext cx="2361960" cy="1524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33F-57AA-41B9-82CF-4902B4C626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7920" y="152280"/>
            <a:ext cx="189396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1295280" cy="5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514600" y="152280"/>
                <a:ext cx="2819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28600" y="1676520"/>
            <a:ext cx="8077320" cy="3666960"/>
            <a:chOff x="228600" y="1676520"/>
            <a:chExt cx="8077320" cy="366696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4343400" y="1676520"/>
              <a:ext cx="396252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282" name="" descr=""/>
            <p:cNvPicPr/>
            <p:nvPr/>
          </p:nvPicPr>
          <p:blipFill>
            <a:blip r:embed="rId8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9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1600200" y="5384880"/>
            <a:ext cx="583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on, antiproton are enhanced at 1.5 -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centralities. (enhancement &gt; 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ression is seen for pions, ka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15960" y="647712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8000" y="828720"/>
            <a:ext cx="79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0880" y="10508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1484280"/>
            <a:ext cx="9212400" cy="3849840"/>
            <a:chOff x="0" y="1484280"/>
            <a:chExt cx="9212400" cy="3849840"/>
          </a:xfrm>
        </p:grpSpPr>
        <p:grpSp>
          <p:nvGrpSpPr>
            <p:cNvPr id="289" name=""/>
            <p:cNvGrpSpPr/>
            <p:nvPr/>
          </p:nvGrpSpPr>
          <p:grpSpPr>
            <a:xfrm>
              <a:off x="0" y="1484280"/>
              <a:ext cx="9143640" cy="3849840"/>
              <a:chOff x="0" y="1484280"/>
              <a:chExt cx="9143640" cy="384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1636920"/>
                <a:ext cx="9143640" cy="358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90560" y="1484280"/>
                <a:ext cx="4114440" cy="384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"/>
            <p:cNvSpPr/>
            <p:nvPr/>
          </p:nvSpPr>
          <p:spPr>
            <a:xfrm>
              <a:off x="6626880" y="3998880"/>
              <a:ext cx="2585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TE: Systematic errors (~1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 overall normalization not show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8320" y="2475000"/>
            <a:ext cx="6010200" cy="2662920"/>
            <a:chOff x="238320" y="2475000"/>
            <a:chExt cx="6010200" cy="2662920"/>
          </a:xfrm>
        </p:grpSpPr>
        <p:sp>
          <p:nvSpPr>
            <p:cNvPr id="294" name=""/>
            <p:cNvSpPr/>
            <p:nvPr/>
          </p:nvSpPr>
          <p:spPr>
            <a:xfrm>
              <a:off x="3048120" y="2475000"/>
              <a:ext cx="3200400" cy="499680"/>
            </a:xfrm>
            <a:custGeom>
              <a:avLst/>
              <a:gdLst/>
              <a:ahLst/>
              <a:rect l="l" t="t" r="r" b="b"/>
              <a:pathLst>
                <a:path w="2016" h="315">
                  <a:moveTo>
                    <a:pt x="0" y="315"/>
                  </a:moveTo>
                  <a:cubicBezTo>
                    <a:pt x="16" y="274"/>
                    <a:pt x="49" y="119"/>
                    <a:pt x="96" y="67"/>
                  </a:cubicBezTo>
                  <a:cubicBezTo>
                    <a:pt x="143" y="15"/>
                    <a:pt x="204" y="6"/>
                    <a:pt x="280" y="3"/>
                  </a:cubicBezTo>
                  <a:cubicBezTo>
                    <a:pt x="356" y="0"/>
                    <a:pt x="399" y="23"/>
                    <a:pt x="552" y="51"/>
                  </a:cubicBezTo>
                  <a:cubicBezTo>
                    <a:pt x="705" y="79"/>
                    <a:pt x="956" y="135"/>
                    <a:pt x="1200" y="171"/>
                  </a:cubicBezTo>
                  <a:cubicBezTo>
                    <a:pt x="1444" y="207"/>
                    <a:pt x="1740" y="239"/>
                    <a:pt x="2016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8120" y="3236760"/>
              <a:ext cx="3124080" cy="609120"/>
            </a:xfrm>
            <a:custGeom>
              <a:avLst/>
              <a:gdLst/>
              <a:ahLst/>
              <a:rect l="l" t="t" r="r" b="b"/>
              <a:pathLst>
                <a:path w="1968" h="384">
                  <a:moveTo>
                    <a:pt x="0" y="0"/>
                  </a:moveTo>
                  <a:cubicBezTo>
                    <a:pt x="29" y="21"/>
                    <a:pt x="92" y="92"/>
                    <a:pt x="176" y="128"/>
                  </a:cubicBezTo>
                  <a:cubicBezTo>
                    <a:pt x="260" y="164"/>
                    <a:pt x="328" y="183"/>
                    <a:pt x="504" y="216"/>
                  </a:cubicBezTo>
                  <a:cubicBezTo>
                    <a:pt x="680" y="249"/>
                    <a:pt x="988" y="300"/>
                    <a:pt x="1232" y="328"/>
                  </a:cubicBezTo>
                  <a:cubicBezTo>
                    <a:pt x="1476" y="356"/>
                    <a:pt x="1815" y="372"/>
                    <a:pt x="1968" y="3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8320" y="3846240"/>
              <a:ext cx="2931480" cy="129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ilar 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pa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epen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u+Au / Cu+C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part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scaling of 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A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Cronin effect in periph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6DF-C7EC-447C-866C-483A432B7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55520" y="152280"/>
            <a:ext cx="2350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3840" y="914400"/>
            <a:ext cx="857052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 of P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pecially for p, pba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+Au/Cu+Cu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ew PID detector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Anti-)Proton enhan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b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u+Au/Cu+Cu collisions at 200/62 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Indicat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transition from soft to h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ion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dy 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ver different collis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mbination + radial 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explain th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atic study of PID spec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jet correl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fferent collision systems can provid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hadron production mech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C89-06DF-4519-952F-0D38D5E7B2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2280" y="228600"/>
            <a:ext cx="19530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26240" y="1523880"/>
            <a:ext cx="70434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ll statistics now availab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+Cu 200GeV / p+p 200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nd Compari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u+Au,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+Au,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E83-C9D5-46DA-AF85-FA6019F35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760" y="196920"/>
            <a:ext cx="39679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c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3600" y="5156280"/>
            <a:ext cx="738828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-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up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parton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dium (jet quench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pression patterns depend on particle typ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are enhanced, while pions and kaons are sup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9200" y="2039760"/>
            <a:ext cx="4114800" cy="2895480"/>
            <a:chOff x="79200" y="2039760"/>
            <a:chExt cx="4114800" cy="2895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9200" y="2057040"/>
              <a:ext cx="411480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553680" y="2039760"/>
              <a:ext cx="3587040" cy="254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383760" y="17193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5825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52480" y="3048120"/>
                <a:ext cx="19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2720" y="3487680"/>
            <a:ext cx="1143000" cy="99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6680" y="85248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Baryon Enhancem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414680" y="1633680"/>
            <a:ext cx="4609080" cy="3319200"/>
            <a:chOff x="4414680" y="1633680"/>
            <a:chExt cx="4609080" cy="331920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414680" y="2039760"/>
              <a:ext cx="442440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735240" y="1657440"/>
              <a:ext cx="22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L 91, 172301 (200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000" y="1633680"/>
              <a:ext cx="128124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1600200"/>
            <a:ext cx="4343400" cy="3360240"/>
            <a:chOff x="0" y="1600200"/>
            <a:chExt cx="4343400" cy="3360240"/>
          </a:xfrm>
        </p:grpSpPr>
        <p:pic>
          <p:nvPicPr>
            <p:cNvPr id="63" name="" descr=""/>
            <p:cNvPicPr/>
            <p:nvPr/>
          </p:nvPicPr>
          <p:blipFill>
            <a:blip r:embed="rId4"/>
            <a:srcRect l="0" t="5441" r="4146" b="0"/>
            <a:stretch/>
          </p:blipFill>
          <p:spPr>
            <a:xfrm>
              <a:off x="0" y="1773000"/>
              <a:ext cx="4343400" cy="31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985400" y="1600200"/>
              <a:ext cx="232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PRC 74, 024904 (200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5105520"/>
            <a:ext cx="9144000" cy="1752120"/>
            <a:chOff x="0" y="5105520"/>
            <a:chExt cx="9144000" cy="1752120"/>
          </a:xfrm>
        </p:grpSpPr>
        <p:sp>
          <p:nvSpPr>
            <p:cNvPr id="66" name=""/>
            <p:cNvSpPr/>
            <p:nvPr/>
          </p:nvSpPr>
          <p:spPr>
            <a:xfrm>
              <a:off x="0" y="5105520"/>
              <a:ext cx="9144000" cy="175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3840" y="5188680"/>
              <a:ext cx="5999400" cy="1395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the origin of (anti-)prot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enhan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t intermediate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~5 GeV/c)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ystematic stud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t intermediate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cessary over different collisions system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50760" y="5772960"/>
              <a:ext cx="1097280" cy="584280"/>
            </a:xfrm>
            <a:prstGeom prst="rightArrow">
              <a:avLst>
                <a:gd name="adj1" fmla="val 50000"/>
                <a:gd name="adj2" fmla="val 46950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72080" y="1295280"/>
            <a:ext cx="635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B0F-5FA5-43D3-9ABC-A5A70CA908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3048120" cy="236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136440"/>
            <a:ext cx="4114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IX det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21120" y="3154320"/>
            <a:ext cx="30823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267080" y="2590560"/>
            <a:ext cx="83844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9440" y="457200"/>
            <a:ext cx="27075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 Calorimeter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03160" y="762120"/>
            <a:ext cx="8863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360" y="50292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714640" y="3520800"/>
            <a:ext cx="762120" cy="15080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960" y="1041480"/>
            <a:ext cx="40316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gnetic spectro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Characterization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(particle identification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ful tool to study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3047760" cy="23446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38720" y="3778200"/>
            <a:ext cx="2152800" cy="565920"/>
            <a:chOff x="738720" y="3778200"/>
            <a:chExt cx="2152800" cy="565920"/>
          </a:xfrm>
        </p:grpSpPr>
        <p:sp>
          <p:nvSpPr>
            <p:cNvPr id="88" name=""/>
            <p:cNvSpPr/>
            <p:nvPr/>
          </p:nvSpPr>
          <p:spPr>
            <a:xfrm>
              <a:off x="73872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7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6444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56640" y="3778200"/>
            <a:ext cx="2152800" cy="565920"/>
            <a:chOff x="3356640" y="3778200"/>
            <a:chExt cx="2152800" cy="565920"/>
          </a:xfrm>
        </p:grpSpPr>
        <p:sp>
          <p:nvSpPr>
            <p:cNvPr id="91" name=""/>
            <p:cNvSpPr/>
            <p:nvPr/>
          </p:nvSpPr>
          <p:spPr>
            <a:xfrm>
              <a:off x="335664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4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272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93480" y="36720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ime of Flight (T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12040"/>
            <a:ext cx="17524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to for prot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49560" y="5821200"/>
            <a:ext cx="4122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0840" y="4587840"/>
            <a:ext cx="4734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5000" y="4359240"/>
            <a:ext cx="32076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6576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erogel Cherenkov (A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9FA-10E5-45FF-BF2F-84914D345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1040" y="120600"/>
            <a:ext cx="636012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pect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u+Cu √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200 Ge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8280" y="624852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71600" y="838080"/>
            <a:ext cx="6400800" cy="4755960"/>
            <a:chOff x="1371600" y="838080"/>
            <a:chExt cx="6400800" cy="47559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371600" y="1022040"/>
              <a:ext cx="64008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2209680" y="1616040"/>
              <a:ext cx="990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868720" y="83808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914400" y="5537160"/>
            <a:ext cx="76960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h extended for (anti-)protons with fine centrality b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 (1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 Cherenk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2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ough stat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u+Au/Cu+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00" y="914400"/>
            <a:ext cx="211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ti-)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8200" y="914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279-1372-4345-AA56-66EE82B94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2480" y="196920"/>
            <a:ext cx="545364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pectr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+p √s = 200 G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6120" y="4819680"/>
            <a:ext cx="8261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 statistics 200 GeV p+p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10 times statistics used compared to previous Run3 p+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+p data provid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seline spectra to heavy ion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quantify in-medium nuclear effects in heavy ion collisions at RH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000" y="617220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00040" y="762120"/>
            <a:ext cx="8069040" cy="3868560"/>
            <a:chOff x="500040" y="762120"/>
            <a:chExt cx="8069040" cy="3868560"/>
          </a:xfrm>
        </p:grpSpPr>
        <p:grpSp>
          <p:nvGrpSpPr>
            <p:cNvPr id="112" name=""/>
            <p:cNvGrpSpPr/>
            <p:nvPr/>
          </p:nvGrpSpPr>
          <p:grpSpPr>
            <a:xfrm>
              <a:off x="500040" y="1295280"/>
              <a:ext cx="8034480" cy="3335400"/>
              <a:chOff x="500040" y="1295280"/>
              <a:chExt cx="8034480" cy="33354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1295280"/>
                <a:ext cx="8034480" cy="333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3487680"/>
                <a:ext cx="990720" cy="39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411520" y="356364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henix prelimin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778880" y="76212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F13-D3A1-4973-833F-17B302E32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1840" y="120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98600" y="91440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906800" y="914400"/>
            <a:ext cx="603000" cy="459720"/>
            <a:chOff x="4906800" y="914400"/>
            <a:chExt cx="603000" cy="459720"/>
          </a:xfrm>
        </p:grpSpPr>
        <p:sp>
          <p:nvSpPr>
            <p:cNvPr id="121" name=""/>
            <p:cNvSpPr/>
            <p:nvPr/>
          </p:nvSpPr>
          <p:spPr>
            <a:xfrm>
              <a:off x="4906800" y="91440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8440" y="990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379160" y="4664160"/>
            <a:ext cx="678744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atios seem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urn over at intermediate 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close to the value of fragmentation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ear peak in central events than that in periph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dicat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transition from soft to h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1240" y="6035760"/>
            <a:ext cx="4498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OTE: -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 p+p data 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C 74, 024904 (2006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9400" y="304920"/>
            <a:ext cx="239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08200" y="752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F3E-890F-4A50-91D3-CA6053690D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4897440"/>
            <a:ext cx="79246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ed in Cu+Cu at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u+Cu is similar to that in Au+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How about the magnitude as a function of centrality? se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1600" y="601992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990720"/>
            <a:ext cx="7238880" cy="3809520"/>
            <a:chOff x="838080" y="990720"/>
            <a:chExt cx="7238880" cy="3809520"/>
          </a:xfrm>
        </p:grpSpPr>
        <p:sp>
          <p:nvSpPr>
            <p:cNvPr id="130" name=""/>
            <p:cNvSpPr/>
            <p:nvPr/>
          </p:nvSpPr>
          <p:spPr>
            <a:xfrm>
              <a:off x="5901840" y="990720"/>
              <a:ext cx="20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1311480"/>
              <a:ext cx="7238880" cy="348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8008200" y="752400"/>
            <a:ext cx="82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" y="120600"/>
            <a:ext cx="20660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9400" y="304920"/>
            <a:ext cx="24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7080" y="99072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805280" y="990720"/>
            <a:ext cx="603000" cy="459720"/>
            <a:chOff x="4805280" y="990720"/>
            <a:chExt cx="603000" cy="459720"/>
          </a:xfrm>
        </p:grpSpPr>
        <p:sp>
          <p:nvSpPr>
            <p:cNvPr id="137" name=""/>
            <p:cNvSpPr/>
            <p:nvPr/>
          </p:nvSpPr>
          <p:spPr>
            <a:xfrm>
              <a:off x="4805280" y="99072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920" y="10666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7B4-853A-4563-97CD-5A06688D7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3040" y="152280"/>
            <a:ext cx="2799000" cy="69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780960" y="1784520"/>
            <a:ext cx="1427400" cy="1450800"/>
            <a:chOff x="6780960" y="1784520"/>
            <a:chExt cx="1427400" cy="1450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781680" y="2714760"/>
              <a:ext cx="1295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780960" y="178452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354120" y="76320"/>
            <a:ext cx="29512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+Cu 2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Au+Au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3560" y="4299120"/>
            <a:ext cx="2046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-down corr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09320" y="3537000"/>
            <a:ext cx="2027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F (&l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 (&g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1066680"/>
            <a:ext cx="8880840" cy="4903560"/>
            <a:chOff x="76320" y="1066680"/>
            <a:chExt cx="8880840" cy="49035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76320" y="1066680"/>
              <a:ext cx="5715000" cy="49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02244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6 - 1.5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6320" y="1066680"/>
            <a:ext cx="8912520" cy="4902120"/>
            <a:chOff x="76320" y="1066680"/>
            <a:chExt cx="8912520" cy="490212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76320" y="1066680"/>
              <a:ext cx="5713200" cy="49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0 - 2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320" y="1066680"/>
            <a:ext cx="8912520" cy="4800600"/>
            <a:chOff x="76320" y="1066680"/>
            <a:chExt cx="8912520" cy="4800600"/>
          </a:xfrm>
        </p:grpSpPr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76320" y="1069920"/>
              <a:ext cx="57150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0 - 3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6320" y="1066680"/>
            <a:ext cx="8880480" cy="4854600"/>
            <a:chOff x="76320" y="1066680"/>
            <a:chExt cx="8880480" cy="4854600"/>
          </a:xfrm>
        </p:grpSpPr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76320" y="1066680"/>
              <a:ext cx="5714640" cy="48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02208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0 - 4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6320" y="1066680"/>
            <a:ext cx="8880840" cy="4876920"/>
            <a:chOff x="76320" y="1066680"/>
            <a:chExt cx="8880840" cy="4876920"/>
          </a:xfrm>
        </p:grpSpPr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76320" y="1066680"/>
              <a:ext cx="57150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02244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.0 - 5.0 GeV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0" y="990720"/>
            <a:ext cx="9144000" cy="5867280"/>
            <a:chOff x="0" y="990720"/>
            <a:chExt cx="9144000" cy="5867280"/>
          </a:xfrm>
        </p:grpSpPr>
        <p:grpSp>
          <p:nvGrpSpPr>
            <p:cNvPr id="162" name=""/>
            <p:cNvGrpSpPr/>
            <p:nvPr/>
          </p:nvGrpSpPr>
          <p:grpSpPr>
            <a:xfrm>
              <a:off x="0" y="990720"/>
              <a:ext cx="9144000" cy="5867280"/>
              <a:chOff x="0" y="990720"/>
              <a:chExt cx="9144000" cy="586728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990720"/>
                <a:ext cx="9144000" cy="586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943600" y="10666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71800" y="38098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809880"/>
                <a:ext cx="320040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1066680"/>
                <a:ext cx="319752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40" y="1066680"/>
                <a:ext cx="3197160" cy="27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981440" y="1827000"/>
                <a:ext cx="761760" cy="30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609840" y="3200400"/>
                <a:ext cx="784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90200" y="2666880"/>
                <a:ext cx="458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9840" y="5943600"/>
                <a:ext cx="51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20160" y="5486400"/>
                <a:ext cx="458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68720" y="21337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914400" y="3479760"/>
            <a:ext cx="7391520" cy="13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dependence in Cu+Cu looks simila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 Au+Au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 at same sqrt(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ven though overlap region has a different geometrica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light difference in the magnitud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21E-CAF8-4835-8FEB-BE94C1616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20:02Z</dcterms:created>
  <dc:creator>M. Konno</dc:creator>
  <dc:description/>
  <dc:language>en-US</dc:language>
  <cp:lastModifiedBy>M. Konno</cp:lastModifiedBy>
  <dcterms:modified xsi:type="dcterms:W3CDTF">2006-11-28T10:04:56Z</dcterms:modified>
  <cp:revision>213</cp:revision>
  <dc:subject/>
  <dc:title>PowerPoint プレゼンテーション</dc:title>
</cp:coreProperties>
</file>