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196338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A01-05BE-4436-9EFA-0FC97513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3077856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09640" y="7928280"/>
            <a:ext cx="3077856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689-E63B-4835-9F34-8E84567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48088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09640" y="792828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480880" y="792828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90-93A3-4979-BAAA-02249060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16160" y="320040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522320" y="320040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09640" y="792828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116160" y="792828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522320" y="7928280"/>
            <a:ext cx="991044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C6E-9C82-4477-B0C5-5ED8F6B0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09640" y="3200400"/>
            <a:ext cx="3077856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D00-044D-42F0-8363-44BFC971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3077856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BD0-249A-4089-B997-016E11C2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1501992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480880" y="3200400"/>
            <a:ext cx="1501992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625-4D8D-45D7-AE72-74DAC86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1FC-A207-41CF-B879-4C0D24FC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09640" y="549360"/>
            <a:ext cx="3077856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4B0-A459-4510-A6C8-53028AB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480880" y="3200400"/>
            <a:ext cx="1501992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09640" y="792828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E62-E462-4DC3-BE14-8582B35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1501992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48088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480880" y="792828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51B-9DAB-4F7D-9693-0F0A314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0964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480880" y="3200400"/>
            <a:ext cx="1501992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09640" y="7928280"/>
            <a:ext cx="30778560" cy="431748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24D-0C11-494F-A96F-3E64F36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09640" y="549360"/>
            <a:ext cx="30778560" cy="228600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ctr">
            <a:noAutofit/>
          </a:bodyPr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09640" y="3200400"/>
            <a:ext cx="30778560" cy="905184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rmAutofit fontScale="72000"/>
          </a:bodyPr>
          <a:p>
            <a:pPr marL="739440" indent="-7394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1" marL="1601280" indent="-61596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2" marL="2464200" indent="-492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3" marL="3449520" indent="-49248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4" marL="4434840" indent="-49248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5" marL="4434840" indent="-49248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6" marL="4434840" indent="-49248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09640" y="12490560"/>
            <a:ext cx="7980480" cy="95256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Autofit/>
          </a:bodyPr>
          <a:lstStyle>
            <a:lvl1pPr indent="0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  <a:defRPr b="0" lang="en-US" sz="4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83800" y="12490560"/>
            <a:ext cx="10829880" cy="95256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Autofit/>
          </a:bodyPr>
          <a:lstStyle>
            <a:lvl1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  <a:defRPr b="0" lang="en-US" sz="4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07720" y="12490560"/>
            <a:ext cx="7980480" cy="952560"/>
          </a:xfrm>
          <a:prstGeom prst="rect">
            <a:avLst/>
          </a:prstGeom>
          <a:noFill/>
          <a:ln w="0">
            <a:noFill/>
          </a:ln>
        </p:spPr>
        <p:txBody>
          <a:bodyPr lIns="273960" rIns="273960" tIns="136800" bIns="136800" anchor="t">
            <a:noAutofit/>
          </a:bodyPr>
          <a:lstStyle>
            <a:lvl1pPr indent="0" algn="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  <a:defRPr b="0" lang="en-US" sz="4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fld id="{3153775E-42DB-4FB9-8173-DCF09AFE304A}" type="slidenum">
              <a:rPr b="0" lang="en-US" sz="4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12320" y="12268080"/>
            <a:ext cx="1386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2006 November  Quark Matter Confer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06400" y="685800"/>
            <a:ext cx="693432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PHENIX Det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593600" y="685800"/>
            <a:ext cx="115063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Analysi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2920" y="1981080"/>
            <a:ext cx="5562720" cy="483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25520" y="2362320"/>
            <a:ext cx="213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EM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nergy 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0640" y="2666880"/>
            <a:ext cx="7617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71629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BBC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                  to determine reaction plane and 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30640" y="4572000"/>
            <a:ext cx="2743200" cy="281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0840" y="7238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DC + PC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    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good track  selection and to determin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278400" y="5181480"/>
            <a:ext cx="60984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44640" y="4724280"/>
            <a:ext cx="236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PC2+PC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track con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78000" y="5181480"/>
            <a:ext cx="1371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8000" y="5029200"/>
            <a:ext cx="914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2440" y="2362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Background rejection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862040" y="9067680"/>
            <a:ext cx="7848360" cy="28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Reaction Plane determination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ction Plane is determined by measuring the azimuthal distribution of produced particles by north and south Beam-Beam Counter placed at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| ~ 3 –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316240" y="9348840"/>
            <a:ext cx="6400800" cy="3605040"/>
            <a:chOff x="2316240" y="9348840"/>
            <a:chExt cx="6400800" cy="360504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316240" y="9348840"/>
              <a:ext cx="640080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73600" y="1105380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73680" y="1102500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763800" y="9067680"/>
            <a:ext cx="1981440" cy="19814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06600" y="9067680"/>
            <a:ext cx="1447920" cy="19814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12320" y="231624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&lt;The data for this analysis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+Au and Cu+Cu coll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n in 2003-2005 at RHIC-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 Collision Energy: 62.4 and 200GeV/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38400" y="6229440"/>
            <a:ext cx="2730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. Reconstruct the track assuming the  particles detected  on DC always come from the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vertex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662080" y="8305920"/>
            <a:ext cx="50796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95600" y="8016840"/>
            <a:ext cx="2133720" cy="642600"/>
          </a:xfrm>
          <a:prstGeom prst="rect">
            <a:avLst/>
          </a:prstGeom>
          <a:noFill/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HGS創英角ﾎﾟｯﾌﾟ体"/>
              </a:rPr>
              <a:t>Be able to calculate the momen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043320" y="9905760"/>
            <a:ext cx="2349000" cy="1752480"/>
            <a:chOff x="15043320" y="9905760"/>
            <a:chExt cx="2349000" cy="1752480"/>
          </a:xfrm>
        </p:grpSpPr>
        <p:grpSp>
          <p:nvGrpSpPr>
            <p:cNvPr id="67" name=""/>
            <p:cNvGrpSpPr/>
            <p:nvPr/>
          </p:nvGrpSpPr>
          <p:grpSpPr>
            <a:xfrm>
              <a:off x="15043320" y="10134720"/>
              <a:ext cx="2349000" cy="1384200"/>
              <a:chOff x="15043320" y="10134720"/>
              <a:chExt cx="2349000" cy="1384200"/>
            </a:xfrm>
          </p:grpSpPr>
          <p:sp>
            <p:nvSpPr>
              <p:cNvPr id="68" name=""/>
              <p:cNvSpPr/>
              <p:nvPr/>
            </p:nvSpPr>
            <p:spPr>
              <a:xfrm>
                <a:off x="15055560" y="10134720"/>
                <a:ext cx="2336760" cy="1384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71560" y="11328480"/>
                <a:ext cx="1714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347880" y="10515600"/>
                <a:ext cx="0" cy="978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960680" y="11125440"/>
                <a:ext cx="27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HGS創英角ﾎﾟｯﾌﾟ体"/>
                  </a:rPr>
                  <a:t>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043320" y="10159920"/>
                <a:ext cx="58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HGS創英角ﾎﾟｯﾌﾟ体"/>
                  </a:rPr>
                  <a:t>ph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655760" y="11125440"/>
                <a:ext cx="88560" cy="885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135200" y="1036332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cc"/>
                    </a:solidFill>
                    <a:latin typeface="Tahoma"/>
                    <a:ea typeface="HGS創英角ﾎﾟｯﾌﾟ体"/>
                  </a:rPr>
                  <a:t>d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868440" y="10744200"/>
                <a:ext cx="66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cc"/>
                    </a:solidFill>
                    <a:latin typeface="Tahoma"/>
                    <a:ea typeface="HGS創英角ﾎﾟｯﾌﾟ体"/>
                  </a:rPr>
                  <a:t>dph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V="1">
              <a:off x="15487560" y="10667880"/>
              <a:ext cx="456840" cy="99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5944760" y="9905760"/>
              <a:ext cx="367920" cy="7491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944760" y="10655280"/>
              <a:ext cx="774360" cy="507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5944760" y="10642320"/>
              <a:ext cx="736200" cy="12600"/>
            </a:xfrm>
            <a:prstGeom prst="line">
              <a:avLst/>
            </a:prstGeom>
            <a:ln w="28440">
              <a:solidFill>
                <a:srgbClr val="0000cc"/>
              </a:solidFill>
              <a:prstDash val="sysDot"/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944760" y="10655280"/>
              <a:ext cx="0" cy="495360"/>
            </a:xfrm>
            <a:prstGeom prst="line">
              <a:avLst/>
            </a:prstGeom>
            <a:ln cap="rnd" w="28440">
              <a:solidFill>
                <a:srgbClr val="0000cc"/>
              </a:solidFill>
              <a:custDash>
                <a:ds d="100000" sp="1000"/>
              </a:custDash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158040" y="4397400"/>
            <a:ext cx="9574560" cy="9477360"/>
            <a:chOff x="9158040" y="4397400"/>
            <a:chExt cx="9574560" cy="9477360"/>
          </a:xfrm>
        </p:grpSpPr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10469520" y="7552080"/>
              <a:ext cx="3276360" cy="25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7"/>
            <a:stretch/>
          </p:blipFill>
          <p:spPr>
            <a:xfrm>
              <a:off x="10051920" y="6490080"/>
              <a:ext cx="4378320" cy="521784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10050480" y="6477120"/>
              <a:ext cx="4381200" cy="522288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>
              <a:off x="10051920" y="6477120"/>
              <a:ext cx="4381560" cy="522288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11040840" y="9075960"/>
              <a:ext cx="761760" cy="1281960"/>
              <a:chOff x="11040840" y="9075960"/>
              <a:chExt cx="761760" cy="128196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11307240" y="10205640"/>
                <a:ext cx="495360" cy="15228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11040840" y="9075960"/>
                <a:ext cx="507960" cy="1267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158040" y="4773600"/>
              <a:ext cx="5802480" cy="6404040"/>
              <a:chOff x="9158040" y="4773600"/>
              <a:chExt cx="5802480" cy="6404040"/>
            </a:xfrm>
          </p:grpSpPr>
          <p:sp>
            <p:nvSpPr>
              <p:cNvPr id="90" name=""/>
              <p:cNvSpPr/>
              <p:nvPr/>
            </p:nvSpPr>
            <p:spPr>
              <a:xfrm flipH="1" rot="3089400">
                <a:off x="12056760" y="8828280"/>
                <a:ext cx="210060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43" y="4192"/>
                    </a:moveTo>
                    <a:arcTo wR="10800" hR="10800" stAng="-2263383" swAng="1066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43" y="4192"/>
                    </a:moveTo>
                    <a:arcTo wR="10800" hR="10800" stAng="-2263383" swAng="1066701"/>
                  </a:path>
                </a:pathLst>
              </a:custGeom>
              <a:noFill/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 rot="14847000">
                <a:off x="9766800" y="5540400"/>
                <a:ext cx="4584600" cy="437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4" y="9705"/>
                    </a:moveTo>
                    <a:arcTo wR="10800" hR="10800" stAng="-349301" swAng="349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4" y="9705"/>
                    </a:moveTo>
                    <a:arcTo wR="10800" hR="10800" stAng="-349301" swAng="349301"/>
                  </a:path>
                </a:pathLst>
              </a:custGeom>
              <a:noFill/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9256680" y="4397400"/>
              <a:ext cx="9475920" cy="9477360"/>
              <a:chOff x="9256680" y="4397400"/>
              <a:chExt cx="9475920" cy="9477360"/>
            </a:xfrm>
          </p:grpSpPr>
          <p:sp>
            <p:nvSpPr>
              <p:cNvPr id="93" name=""/>
              <p:cNvSpPr/>
              <p:nvPr/>
            </p:nvSpPr>
            <p:spPr>
              <a:xfrm>
                <a:off x="10247040" y="7897680"/>
                <a:ext cx="285480" cy="273240"/>
              </a:xfrm>
              <a:prstGeom prst="flowChartSummingJunction">
                <a:avLst/>
              </a:prstGeom>
              <a:noFill/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8883200">
                <a:off x="10587960" y="5841360"/>
                <a:ext cx="6813000" cy="658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746" y="747"/>
                    </a:moveTo>
                    <a:arcTo wR="10800" hR="10800" stAng="-4114318" swAng="23383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746" y="747"/>
                    </a:moveTo>
                    <a:arcTo wR="10800" hR="10800" stAng="-4114318" swAng="2338315"/>
                  </a:path>
                </a:pathLst>
              </a:custGeom>
              <a:noFill/>
              <a:ln w="38160">
                <a:solidFill>
                  <a:srgbClr val="00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177200" y="7564320"/>
                <a:ext cx="4953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00"/>
                    </a:solidFill>
                    <a:latin typeface="Tahoma"/>
                    <a:ea typeface="HGS創英角ﾎﾟｯﾌﾟ体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10360" y="7539120"/>
                <a:ext cx="4953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00"/>
                    </a:solidFill>
                    <a:latin typeface="Tahoma"/>
                    <a:ea typeface="HGS創英角ﾎﾟｯﾌﾟ体"/>
                  </a:rPr>
                  <a:t>ph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0012320" y="8796600"/>
              <a:ext cx="2945880" cy="1917720"/>
              <a:chOff x="10012320" y="8796600"/>
              <a:chExt cx="2945880" cy="191772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0012320" y="8796600"/>
                <a:ext cx="2730240" cy="647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10291320" y="9825480"/>
                <a:ext cx="2666880" cy="8888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9358920" y="4741560"/>
              <a:ext cx="5706360" cy="6434640"/>
              <a:chOff x="9358920" y="4741560"/>
              <a:chExt cx="5706360" cy="6434640"/>
            </a:xfrm>
          </p:grpSpPr>
          <p:sp>
            <p:nvSpPr>
              <p:cNvPr id="101" name=""/>
              <p:cNvSpPr/>
              <p:nvPr/>
            </p:nvSpPr>
            <p:spPr>
              <a:xfrm flipH="1" rot="3089400">
                <a:off x="12093480" y="8829000"/>
                <a:ext cx="2100960" cy="18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1069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106983"/>
                  </a:path>
                </a:pathLst>
              </a:custGeom>
              <a:noFill/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 rot="14988600">
                <a:off x="9919080" y="5453640"/>
                <a:ext cx="4584960" cy="439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400" y="5852"/>
                    </a:moveTo>
                    <a:arcTo wR="10800" hR="10800" stAng="-1635980" swAng="13458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400" y="5852"/>
                    </a:moveTo>
                    <a:arcTo wR="10800" hR="10800" stAng="-1635980" swAng="1345876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1561760" y="8745840"/>
              <a:ext cx="1409040" cy="1498680"/>
              <a:chOff x="11561760" y="8745840"/>
              <a:chExt cx="1409040" cy="1498680"/>
            </a:xfrm>
          </p:grpSpPr>
          <p:sp>
            <p:nvSpPr>
              <p:cNvPr id="104" name=""/>
              <p:cNvSpPr/>
              <p:nvPr/>
            </p:nvSpPr>
            <p:spPr>
              <a:xfrm>
                <a:off x="11802600" y="1015560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882240" y="979992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132720" y="1004112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917080" y="894888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561760" y="902520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755160" y="8745840"/>
                <a:ext cx="8856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14814720" y="875988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．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ssociate the track to the nearest hit point on each det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48080" y="10515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t point on the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795440" y="10820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032840" y="5226120"/>
            <a:ext cx="60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&lt;The track reconstruction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2280400" y="3429000"/>
            <a:ext cx="3027600" cy="419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18851400" y="3429000"/>
            <a:ext cx="307368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7556120" y="822924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899520" y="7543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832840" y="7620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/p&gt;0.2 c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347440" y="7696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C3 [dphi/σ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19461240" y="8991720"/>
            <a:ext cx="2011320" cy="309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22737600" y="8991720"/>
            <a:ext cx="200844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29595600" y="5029200"/>
            <a:ext cx="3475080" cy="328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26236440" y="6234120"/>
            <a:ext cx="2521080" cy="1843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160480" y="684360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E/p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312840" y="7346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817920" y="65563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62040" y="259092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2738520"/>
                <a:tab algn="l" pos="5477040"/>
                <a:tab algn="l" pos="821520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high momentum, decayed soft particles are miss-reconstructed as high momentum particles and are the main BG. Energy/momentum &gt; 0.2 Cut rejects that kind of B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994400" y="8283600"/>
            <a:ext cx="4105080" cy="936720"/>
            <a:chOff x="19994400" y="8283600"/>
            <a:chExt cx="4105080" cy="936720"/>
          </a:xfrm>
        </p:grpSpPr>
        <p:sp>
          <p:nvSpPr>
            <p:cNvPr id="129" name=""/>
            <p:cNvSpPr/>
            <p:nvPr/>
          </p:nvSpPr>
          <p:spPr>
            <a:xfrm>
              <a:off x="19994400" y="8283600"/>
              <a:ext cx="4105080" cy="936720"/>
            </a:xfrm>
            <a:prstGeom prst="downArrow">
              <a:avLst>
                <a:gd name="adj1" fmla="val 58315"/>
                <a:gd name="adj2" fmla="val 562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932560" y="828360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.5</a:t>
              </a: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integr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4:15:11Z</dcterms:created>
  <dc:creator>Preferred Customer</dc:creator>
  <dc:description/>
  <dc:language>en-US</dc:language>
  <cp:lastModifiedBy>Preferred Customer</cp:lastModifiedBy>
  <dcterms:modified xsi:type="dcterms:W3CDTF">2006-11-07T19:33:36Z</dcterms:modified>
  <cp:revision>8</cp:revision>
  <dc:subject/>
  <dc:title>Slide 1</dc:title>
</cp:coreProperties>
</file>