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29883100" cy="42127488"/>
  <p:notesSz cx="6948488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B875-EAC6-406F-A9D1-5CBCF6C8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560" y="633240"/>
            <a:ext cx="26941320" cy="80740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93640" y="9829800"/>
            <a:ext cx="2689524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93640" y="24126480"/>
            <a:ext cx="2689524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E20D-2ED0-408F-8958-392A451F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560" y="633240"/>
            <a:ext cx="26941320" cy="80740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93640" y="9829800"/>
            <a:ext cx="1312452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274800" y="9829800"/>
            <a:ext cx="1312452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93640" y="24126480"/>
            <a:ext cx="1312452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274800" y="24126480"/>
            <a:ext cx="1312452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B9A1-088B-4A37-B752-A6C24957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7560" y="633240"/>
            <a:ext cx="26941320" cy="80740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93640" y="9829800"/>
            <a:ext cx="866016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0587240" y="9829800"/>
            <a:ext cx="866016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680840" y="9829800"/>
            <a:ext cx="866016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93640" y="24126480"/>
            <a:ext cx="866016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0587240" y="24126480"/>
            <a:ext cx="866016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19680840" y="24126480"/>
            <a:ext cx="866016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B4D5-23BD-437A-86D2-A6919A9C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9A4B-C970-45C5-A072-7AA1EC00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560" y="633240"/>
            <a:ext cx="26941320" cy="80740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93640" y="9829800"/>
            <a:ext cx="26895240" cy="27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2EE1-ABF7-4405-90D7-C5176A05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560" y="633240"/>
            <a:ext cx="26941320" cy="80740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93640" y="9829800"/>
            <a:ext cx="26895240" cy="273715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3BCB-7F4A-4B31-9C88-927FB07A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560" y="633240"/>
            <a:ext cx="26941320" cy="80740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93640" y="9829800"/>
            <a:ext cx="13124520" cy="273715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5274800" y="9829800"/>
            <a:ext cx="13124520" cy="273715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A2E2-BA59-410F-8D07-0B99EEAB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633240"/>
            <a:ext cx="26941320" cy="80740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6B33-D327-4ECB-A9A2-75AC82C8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447560" y="633240"/>
            <a:ext cx="26941320" cy="374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4114800"/>
                <a:tab algn="l" pos="8229600"/>
              </a:tabLst>
            </a:pPr>
            <a:endParaRPr b="1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DAE6-A63E-44FF-8CA2-91AD6A95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560" y="633240"/>
            <a:ext cx="26941320" cy="80740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93640" y="9829800"/>
            <a:ext cx="1312452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5274800" y="9829800"/>
            <a:ext cx="13124520" cy="273715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93640" y="24126480"/>
            <a:ext cx="1312452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7C84-EF81-4CC8-931C-6FE414FE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33240"/>
            <a:ext cx="26941320" cy="80740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93640" y="9829800"/>
            <a:ext cx="26895240" cy="27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71AD-B79D-4FFC-817C-F673F56B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560" y="633240"/>
            <a:ext cx="26941320" cy="80740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93640" y="9829800"/>
            <a:ext cx="13124520" cy="273715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5274800" y="9829800"/>
            <a:ext cx="1312452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274800" y="24126480"/>
            <a:ext cx="1312452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094D-1A9C-40DC-BECC-4982747B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560" y="633240"/>
            <a:ext cx="26941320" cy="80740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93640" y="9829800"/>
            <a:ext cx="1312452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274800" y="9829800"/>
            <a:ext cx="1312452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493640" y="24126480"/>
            <a:ext cx="2689524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9645-EC30-47C0-9891-BE43B758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560" y="633240"/>
            <a:ext cx="26941320" cy="80740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93640" y="9829800"/>
            <a:ext cx="2689524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493640" y="24126480"/>
            <a:ext cx="2689524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1515-9C8A-4F75-853A-EB578EDD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633240"/>
            <a:ext cx="26941320" cy="80740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93640" y="9829800"/>
            <a:ext cx="1312452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5274800" y="9829800"/>
            <a:ext cx="1312452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93640" y="24126480"/>
            <a:ext cx="1312452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5274800" y="24126480"/>
            <a:ext cx="1312452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501C-B56B-4759-A410-27B1C26E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560" y="633240"/>
            <a:ext cx="26941320" cy="80740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93640" y="9829800"/>
            <a:ext cx="866016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0587240" y="9829800"/>
            <a:ext cx="866016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9680840" y="9829800"/>
            <a:ext cx="866016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493640" y="24126480"/>
            <a:ext cx="866016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10587240" y="24126480"/>
            <a:ext cx="866016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19680840" y="24126480"/>
            <a:ext cx="866016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CA48-645F-490D-B2D9-042D60F7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633240"/>
            <a:ext cx="26941320" cy="80740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93640" y="9829800"/>
            <a:ext cx="26895240" cy="273715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5B9-E32D-4039-B180-74F34E5D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633240"/>
            <a:ext cx="26941320" cy="80740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93640" y="9829800"/>
            <a:ext cx="13124520" cy="273715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5274800" y="9829800"/>
            <a:ext cx="13124520" cy="273715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D5D1-9B4D-4CD8-A3D0-6F50D385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633240"/>
            <a:ext cx="26941320" cy="80740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EC4-28F7-4CAE-9864-49F2CB77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47560" y="633240"/>
            <a:ext cx="26941320" cy="374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4114800"/>
                <a:tab algn="l" pos="8229600"/>
              </a:tabLst>
            </a:pPr>
            <a:endParaRPr b="1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EFD6-D8FB-40BE-AF42-0FF3BCB6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633240"/>
            <a:ext cx="26941320" cy="80740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93640" y="9829800"/>
            <a:ext cx="1312452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274800" y="9829800"/>
            <a:ext cx="13124520" cy="273715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93640" y="24126480"/>
            <a:ext cx="1312452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B37F-12BE-41BE-B296-4BBF39E1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633240"/>
            <a:ext cx="26941320" cy="80740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93640" y="9829800"/>
            <a:ext cx="13124520" cy="273715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274800" y="9829800"/>
            <a:ext cx="1312452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274800" y="24126480"/>
            <a:ext cx="1312452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134-F697-4536-8785-E47EF0AB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560" y="633240"/>
            <a:ext cx="26941320" cy="80740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93640" y="9829800"/>
            <a:ext cx="1312452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5274800" y="9829800"/>
            <a:ext cx="1312452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93640" y="24126480"/>
            <a:ext cx="26895240" cy="130561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1CEB-0325-4E47-B1EC-F59B0305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78840" y="0"/>
            <a:ext cx="9410760" cy="42114240"/>
            <a:chOff x="-978840" y="0"/>
            <a:chExt cx="9410760" cy="42114240"/>
          </a:xfrm>
        </p:grpSpPr>
        <p:sp>
          <p:nvSpPr>
            <p:cNvPr id="1" name=""/>
            <p:cNvSpPr/>
            <p:nvPr/>
          </p:nvSpPr>
          <p:spPr>
            <a:xfrm>
              <a:off x="-25560" y="31807800"/>
              <a:ext cx="2447640" cy="781848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-141120" y="24003360"/>
              <a:ext cx="3569760" cy="4280040"/>
              <a:chOff x="-141120" y="24003360"/>
              <a:chExt cx="3569760" cy="42800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-189000" y="24375600"/>
                <a:ext cx="1394640" cy="864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511200" y="26681040"/>
                <a:ext cx="2386440" cy="717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1570680" y="25983720"/>
                <a:ext cx="2495160" cy="3657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467280" y="16926480"/>
              <a:ext cx="3683160" cy="748908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0800" y="16522920"/>
              <a:ext cx="8532720" cy="18009000"/>
              <a:chOff x="-100800" y="16522920"/>
              <a:chExt cx="8532720" cy="1800900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1568520" y="16804440"/>
                <a:ext cx="3186720" cy="617364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577800" y="17802360"/>
                <a:ext cx="2667240" cy="627516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1423800" y="19102320"/>
                <a:ext cx="946440" cy="31788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2941920" y="23443920"/>
                <a:ext cx="865800" cy="189432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2686680" y="23882400"/>
                <a:ext cx="214560" cy="112284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2352600" y="25723080"/>
                <a:ext cx="6079320" cy="8808840"/>
                <a:chOff x="2352600" y="25723080"/>
                <a:chExt cx="6079320" cy="880884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3335400" y="25961040"/>
                  <a:ext cx="2909520" cy="397044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7118280" y="30838680"/>
                  <a:ext cx="673920" cy="16300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7408440" y="33790680"/>
                  <a:ext cx="1223640" cy="2746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1346040" y="37861200"/>
              <a:ext cx="2983320" cy="3804480"/>
              <a:chOff x="1346040" y="37861200"/>
              <a:chExt cx="2983320" cy="38044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3177360" y="38135160"/>
                <a:ext cx="1208520" cy="8251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1905120" y="40236120"/>
                <a:ext cx="2068200" cy="685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698400" y="39731400"/>
                <a:ext cx="2162160" cy="349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1005480" y="11039040"/>
              <a:ext cx="2557800" cy="4128120"/>
              <a:chOff x="1005480" y="11039040"/>
              <a:chExt cx="2557800" cy="412812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2371320" y="11239200"/>
                <a:ext cx="1270080" cy="973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1807920" y="13636440"/>
                <a:ext cx="2173680" cy="808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04480" y="13624560"/>
                <a:ext cx="2272320" cy="4114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4227840" y="0"/>
              <a:ext cx="1785960" cy="3572640"/>
              <a:chOff x="4227840" y="0"/>
              <a:chExt cx="1785960" cy="3572640"/>
            </a:xfrm>
          </p:grpSpPr>
          <p:sp>
            <p:nvSpPr>
              <p:cNvPr id="26" name=""/>
              <p:cNvSpPr/>
              <p:nvPr/>
            </p:nvSpPr>
            <p:spPr>
              <a:xfrm>
                <a:off x="4227840" y="0"/>
                <a:ext cx="565920" cy="1342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045400" y="635040"/>
                <a:ext cx="968400" cy="11149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4850280" y="3004920"/>
                <a:ext cx="1012680" cy="567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451800" y="917640"/>
              <a:ext cx="3625200" cy="736992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1255320" y="33192000"/>
              <a:ext cx="684360" cy="16272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1379520" y="35024760"/>
              <a:ext cx="342000" cy="4176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7960" y="40075560"/>
              <a:ext cx="611640" cy="2038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38691360"/>
              <a:ext cx="673920" cy="1247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38505600"/>
              <a:ext cx="243360" cy="83772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31582440"/>
              <a:ext cx="2578320" cy="721512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103320" y="3997800"/>
              <a:ext cx="1784520" cy="238788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1255320" y="7371720"/>
              <a:ext cx="866880" cy="11210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2977200" y="2788200"/>
              <a:ext cx="762120" cy="1560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1224720" y="7029360"/>
              <a:ext cx="321120" cy="946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3035160" y="4543920"/>
              <a:ext cx="372600" cy="3999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8638920"/>
              <a:ext cx="1868040" cy="633708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290520" y="817920"/>
              <a:ext cx="4169880" cy="66888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633240"/>
            <a:ext cx="26941320" cy="80740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0" lang="en-US" sz="198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19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93640" y="9829800"/>
            <a:ext cx="26895240" cy="2737152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marL="1542960" indent="-1542960">
              <a:spcBef>
                <a:spcPts val="3600"/>
              </a:spcBef>
              <a:buClr>
                <a:srgbClr val="006699"/>
              </a:buClr>
              <a:buFont typeface="Verdana"/>
              <a:buChar char="•"/>
              <a:tabLst>
                <a:tab algn="l" pos="4114800"/>
                <a:tab algn="l" pos="8229600"/>
              </a:tabLst>
            </a:pPr>
            <a:r>
              <a:rPr b="0" lang="en-US" sz="144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  <a:p>
            <a:pPr lvl="1" marL="3343320" indent="-1285920">
              <a:spcBef>
                <a:spcPts val="3600"/>
              </a:spcBef>
              <a:buClr>
                <a:srgbClr val="006699"/>
              </a:buClr>
              <a:buFont typeface="Verdana"/>
              <a:buChar char="–"/>
              <a:tabLst>
                <a:tab algn="l" pos="4114800"/>
                <a:tab algn="l" pos="8229600"/>
              </a:tabLst>
            </a:pPr>
            <a:r>
              <a:rPr b="0" lang="en-US" sz="144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  <a:p>
            <a:pPr lvl="2" marL="5143680" indent="-1028880">
              <a:spcBef>
                <a:spcPts val="3600"/>
              </a:spcBef>
              <a:buClr>
                <a:srgbClr val="006699"/>
              </a:buClr>
              <a:buFont typeface="Verdana"/>
              <a:buChar char="•"/>
              <a:tabLst>
                <a:tab algn="l" pos="4114800"/>
                <a:tab algn="l" pos="8229600"/>
              </a:tabLst>
            </a:pPr>
            <a:r>
              <a:rPr b="0" lang="en-US" sz="14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  <a:p>
            <a:pPr lvl="3" marL="7201080" indent="-1028880">
              <a:spcBef>
                <a:spcPts val="3600"/>
              </a:spcBef>
              <a:buClr>
                <a:srgbClr val="006699"/>
              </a:buClr>
              <a:buFont typeface="Verdana"/>
              <a:buChar char="–"/>
              <a:tabLst>
                <a:tab algn="l" pos="4114800"/>
                <a:tab algn="l" pos="8229600"/>
              </a:tabLst>
            </a:pPr>
            <a:r>
              <a:rPr b="0" lang="en-US" sz="144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  <a:p>
            <a:pPr lvl="4" marL="9258480" indent="-1028880">
              <a:spcBef>
                <a:spcPts val="3600"/>
              </a:spcBef>
              <a:buClr>
                <a:srgbClr val="006699"/>
              </a:buClr>
              <a:buFont typeface="Verdana"/>
              <a:buChar char="»"/>
              <a:tabLst>
                <a:tab algn="l" pos="4114800"/>
                <a:tab algn="l" pos="8229600"/>
              </a:tabLst>
            </a:pPr>
            <a:r>
              <a:rPr b="0" lang="en-US" sz="144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  <a:p>
            <a:pPr lvl="5" marL="9258480" indent="-1028880">
              <a:spcBef>
                <a:spcPts val="3600"/>
              </a:spcBef>
              <a:buClr>
                <a:srgbClr val="006699"/>
              </a:buClr>
              <a:buFont typeface="Verdana"/>
              <a:buChar char="»"/>
              <a:tabLst>
                <a:tab algn="l" pos="4114800"/>
                <a:tab algn="l" pos="8229600"/>
              </a:tabLst>
            </a:pPr>
            <a:r>
              <a:rPr b="0" lang="en-US" sz="144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  <a:p>
            <a:pPr lvl="6" marL="9258480" indent="-1028880">
              <a:spcBef>
                <a:spcPts val="3600"/>
              </a:spcBef>
              <a:buClr>
                <a:srgbClr val="006699"/>
              </a:buClr>
              <a:buFont typeface="Verdana"/>
              <a:buChar char="»"/>
              <a:tabLst>
                <a:tab algn="l" pos="4114800"/>
                <a:tab algn="l" pos="8229600"/>
              </a:tabLst>
            </a:pPr>
            <a:r>
              <a:rPr b="0" lang="en-US" sz="144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1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1493640" y="38351880"/>
            <a:ext cx="6972120" cy="28083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114800"/>
                <a:tab algn="l" pos="8229600"/>
              </a:tabLst>
              <a:defRPr b="0" lang="en-US" sz="63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0" lang="en-US" sz="63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10210680" y="38380680"/>
            <a:ext cx="9461520" cy="28083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114800"/>
                <a:tab algn="l" pos="8229600"/>
              </a:tabLst>
              <a:defRPr b="0" lang="en-US" sz="63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0" lang="en-US" sz="63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21416760" y="38351880"/>
            <a:ext cx="6972120" cy="28083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114800"/>
                <a:tab algn="l" pos="8229600"/>
              </a:tabLst>
              <a:defRPr b="0" lang="en-US" sz="63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fld id="{59967B92-022A-44A5-8021-4C306C662103}" type="slidenum">
              <a:rPr b="0" lang="en-US" sz="63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25360" y="0"/>
            <a:ext cx="30562920" cy="42123600"/>
            <a:chOff x="-225360" y="0"/>
            <a:chExt cx="30562920" cy="42123600"/>
          </a:xfrm>
        </p:grpSpPr>
        <p:grpSp>
          <p:nvGrpSpPr>
            <p:cNvPr id="85" name=""/>
            <p:cNvGrpSpPr/>
            <p:nvPr/>
          </p:nvGrpSpPr>
          <p:grpSpPr>
            <a:xfrm>
              <a:off x="16327080" y="1478160"/>
              <a:ext cx="14010480" cy="36090720"/>
              <a:chOff x="16327080" y="1478160"/>
              <a:chExt cx="14010480" cy="36090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21204720" y="2216880"/>
                <a:ext cx="6914520" cy="144784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24105600" y="12152160"/>
                <a:ext cx="2961720" cy="51778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22224600" y="15881400"/>
                <a:ext cx="1435680" cy="24271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23287680" y="4194360"/>
                <a:ext cx="1271520" cy="338292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23304240" y="16232040"/>
                <a:ext cx="534960" cy="20383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22988520" y="7632000"/>
                <a:ext cx="622440" cy="87768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19628640" y="17782200"/>
                <a:ext cx="1711440" cy="2007648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113040" y="19082520"/>
              <a:ext cx="1675080" cy="632844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71560" y="12285360"/>
              <a:ext cx="6531480" cy="1493892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25448760"/>
              <a:ext cx="4155120" cy="447552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4657320" y="27839160"/>
              <a:ext cx="1836360" cy="45241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4143960" y="29048760"/>
              <a:ext cx="451440" cy="267084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74000" y="31914360"/>
              <a:ext cx="5748120" cy="1020924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3297680" y="7244280"/>
              <a:ext cx="4323240" cy="6039360"/>
              <a:chOff x="13297680" y="7244280"/>
              <a:chExt cx="4323240" cy="603936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13954680" y="7698240"/>
                <a:ext cx="1755000" cy="1239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14814720" y="10633320"/>
                <a:ext cx="3003120" cy="1029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12869280" y="11601360"/>
                <a:ext cx="3139560" cy="524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18209520" y="2338920"/>
              <a:ext cx="3233160" cy="4104720"/>
              <a:chOff x="18209520" y="2338920"/>
              <a:chExt cx="3233160" cy="410472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18759960" y="5125680"/>
                <a:ext cx="1098000" cy="1180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18070920" y="3218400"/>
                <a:ext cx="1879200" cy="981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19867320" y="3094560"/>
                <a:ext cx="1964520" cy="4996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417400" y="32662800"/>
              <a:ext cx="4876200" cy="4207680"/>
              <a:chOff x="2417400" y="32662800"/>
              <a:chExt cx="4876200" cy="420768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5994360" y="34571880"/>
                <a:ext cx="821880" cy="1835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4096440" y="35074080"/>
                <a:ext cx="1406520" cy="1524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2500560" y="33032520"/>
                <a:ext cx="1470600" cy="776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84000" y="3147480"/>
              <a:ext cx="6617160" cy="6753960"/>
              <a:chOff x="684000" y="3147480"/>
              <a:chExt cx="6617160" cy="675396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4998600" y="7697160"/>
                <a:ext cx="2186640" cy="17359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2148480" y="4431240"/>
                <a:ext cx="3741480" cy="1442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-211680" y="6401880"/>
                <a:ext cx="3911760" cy="7344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4286320" y="23006880"/>
              <a:ext cx="3965040" cy="9218880"/>
              <a:chOff x="24286320" y="23006880"/>
              <a:chExt cx="3965040" cy="921888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24640200" y="28873440"/>
                <a:ext cx="1163160" cy="3262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25980120" y="27441720"/>
                <a:ext cx="1990440" cy="2710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24436080" y="23223960"/>
                <a:ext cx="2081160" cy="13802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6313680" y="19800"/>
              <a:ext cx="4471560" cy="86389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11194200" y="994320"/>
              <a:ext cx="3532680" cy="578196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10359360" y="8366760"/>
              <a:ext cx="1711440" cy="27086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11537640" y="7877880"/>
              <a:ext cx="638640" cy="22726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16000" y="0"/>
              <a:ext cx="643320" cy="11804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11272320" y="12069720"/>
              <a:ext cx="2038680" cy="2242872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18019080"/>
              <a:ext cx="186840" cy="128664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1493640" y="38380680"/>
            <a:ext cx="6972120" cy="28083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114800"/>
                <a:tab algn="l" pos="8229600"/>
              </a:tabLst>
              <a:defRPr b="0" lang="en-US" sz="63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0" lang="en-US" sz="63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10210680" y="38380680"/>
            <a:ext cx="9461520" cy="28083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114800"/>
                <a:tab algn="l" pos="8229600"/>
              </a:tabLst>
              <a:defRPr b="0" lang="en-US" sz="63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0" lang="en-US" sz="63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21416760" y="38351880"/>
            <a:ext cx="6972120" cy="28083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114800"/>
                <a:tab algn="l" pos="8229600"/>
              </a:tabLst>
              <a:defRPr b="0" lang="en-US" sz="63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fld id="{DFF8DC4C-E940-4CE4-B055-98C191BC2BEF}" type="slidenum">
              <a:rPr b="0" lang="en-US" sz="63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8026200" y="3666960"/>
            <a:ext cx="20237400" cy="219981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US" sz="23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23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93440" y="6300720"/>
            <a:ext cx="7562880" cy="1440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254520" y="34961400"/>
            <a:ext cx="10657080" cy="4608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110160" y="34817040"/>
            <a:ext cx="10657080" cy="4608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47640" y="14870160"/>
            <a:ext cx="4897440" cy="216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14725800"/>
            <a:ext cx="4897440" cy="21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rcRect l="28488" t="0" r="30637" b="64580"/>
          <a:stretch/>
        </p:blipFill>
        <p:spPr>
          <a:xfrm>
            <a:off x="10549080" y="23726880"/>
            <a:ext cx="7632720" cy="1522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4150880" y="13719240"/>
            <a:ext cx="4969080" cy="2448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334160" y="3851280"/>
            <a:ext cx="10080720" cy="1855800"/>
          </a:xfrm>
          <a:prstGeom prst="flowChartAlternateProcess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1044720"/>
            <a:ext cx="23907600" cy="2305080"/>
          </a:xfrm>
          <a:custGeom>
            <a:avLst/>
            <a:gdLst>
              <a:gd name="textAreaLeft" fmla="*/ 271440 w 23907600"/>
              <a:gd name="textAreaRight" fmla="*/ 23636160 w 23907600"/>
              <a:gd name="textAreaTop" fmla="*/ 271440 h 2305080"/>
              <a:gd name="textAreaBottom" fmla="*/ 2033640 h 2305080"/>
            </a:gdLst>
            <a:ahLst/>
            <a:rect l="textAreaLeft" t="textAreaTop" r="textAreaRight" b="textAreaBottom"/>
            <a:pathLst>
              <a:path w="2239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0397" y="21600"/>
                </a:lnTo>
                <a:arcTo wR="3600" hR="3600" stAng="10800000" swAng="5400000"/>
                <a:lnTo>
                  <a:pt x="223997" y="3600"/>
                </a:lnTo>
                <a:arcTo wR="3600" hR="3600" stAng="5400000" swAng="5400000"/>
                <a:close/>
              </a:path>
            </a:pathLst>
          </a:custGeom>
          <a:solidFill>
            <a:srgbClr val="808080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541440"/>
            <a:ext cx="24104880" cy="2592360"/>
          </a:xfrm>
          <a:custGeom>
            <a:avLst/>
            <a:gdLst>
              <a:gd name="textAreaLeft" fmla="*/ 305280 w 24104880"/>
              <a:gd name="textAreaRight" fmla="*/ 23799600 w 24104880"/>
              <a:gd name="textAreaTop" fmla="*/ 305280 h 2592360"/>
              <a:gd name="textAreaBottom" fmla="*/ 2287080 h 2592360"/>
            </a:gdLst>
            <a:ahLst/>
            <a:rect l="textAreaLeft" t="textAreaTop" r="textAreaRight" b="textAreaBottom"/>
            <a:pathLst>
              <a:path w="20082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97221" y="21600"/>
                </a:lnTo>
                <a:arcTo wR="3600" hR="3600" stAng="10800000" swAng="5400000"/>
                <a:lnTo>
                  <a:pt x="20082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171775"/>
              </a:gs>
              <a:gs pos="50000">
                <a:srgbClr val="3333ff">
                  <a:alpha val="90196"/>
                </a:srgbClr>
              </a:gs>
              <a:gs pos="100000">
                <a:srgbClr val="171775"/>
              </a:gs>
            </a:gsLst>
            <a:lin ang="5400000"/>
          </a:gra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12720"/>
            <a:ext cx="2498724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4114800"/>
                <a:tab algn="l" pos="8229600"/>
              </a:tabLst>
            </a:pPr>
            <a:r>
              <a:rPr b="1" lang="ja-JP" sz="7200" spc="-1" strike="noStrike">
                <a:solidFill>
                  <a:srgbClr val="ffffff"/>
                </a:solidFill>
                <a:latin typeface="Arial"/>
              </a:rPr>
              <a:t>Measurement of Direct photon v</a:t>
            </a:r>
            <a:r>
              <a:rPr b="1" lang="ja-JP" sz="7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4114800"/>
                <a:tab algn="l" pos="8229600"/>
              </a:tabLst>
            </a:pPr>
            <a:r>
              <a:rPr b="1" lang="ja-JP" sz="7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ja-JP" sz="7200" spc="-1" strike="noStrike">
                <a:solidFill>
                  <a:srgbClr val="ffffff"/>
                </a:solidFill>
                <a:latin typeface="Arial"/>
                <a:ea typeface="Arial"/>
              </a:rPr>
              <a:t>√</a:t>
            </a:r>
            <a:r>
              <a:rPr b="1" lang="ja-JP" sz="7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ja-JP" sz="7200" spc="-1" strike="noStrike" baseline="-25000">
                <a:solidFill>
                  <a:srgbClr val="ffffff"/>
                </a:solidFill>
                <a:latin typeface="Arial"/>
              </a:rPr>
              <a:t>NN</a:t>
            </a:r>
            <a:r>
              <a:rPr b="1" lang="ja-JP" sz="7200" spc="-1" strike="noStrike">
                <a:solidFill>
                  <a:srgbClr val="ffffff"/>
                </a:solidFill>
                <a:latin typeface="Arial"/>
              </a:rPr>
              <a:t>=200GeV Au+Au collisions at RHIC-PHENIX</a:t>
            </a:r>
            <a:endParaRPr b="0" lang="en-US" sz="7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7360" y="3726000"/>
            <a:ext cx="1538280" cy="16351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ffff"/>
                </a:solidFill>
                <a:latin typeface="Gungsuh"/>
              </a:rPr>
              <a:t>1</a:t>
            </a:r>
            <a:endParaRPr b="0" lang="en-US" sz="9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 rot="10800000">
            <a:off x="2817360" y="5076360"/>
            <a:ext cx="6845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do we measure Direct photon ?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15720" y="3492360"/>
            <a:ext cx="26906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6699"/>
                </a:solidFill>
                <a:latin typeface="Gungsuh"/>
              </a:rPr>
              <a:t>Why</a:t>
            </a:r>
            <a:endParaRPr b="0" lang="en-US" sz="9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11414160"/>
            <a:ext cx="3684600" cy="2268360"/>
          </a:xfrm>
          <a:prstGeom prst="irregularSeal1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8747280"/>
            <a:ext cx="10296360" cy="1834920"/>
          </a:xfrm>
          <a:prstGeom prst="rect">
            <a:avLst/>
          </a:prstGeom>
          <a:solidFill>
            <a:srgbClr val="008000"/>
          </a:solidFill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8977320"/>
            <a:ext cx="7488000" cy="1376280"/>
          </a:xfrm>
          <a:prstGeom prst="rect">
            <a:avLst/>
          </a:prstGeom>
          <a:solidFill>
            <a:srgbClr val="ff9900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8720" y="9110520"/>
            <a:ext cx="2158920" cy="1079640"/>
          </a:xfrm>
          <a:prstGeom prst="flowChartPunchedCard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9255240"/>
            <a:ext cx="20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pt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oton</a:t>
            </a:r>
            <a:r>
              <a:rPr b="1" lang="en-US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3640" y="9110520"/>
            <a:ext cx="2233440" cy="1079640"/>
          </a:xfrm>
          <a:prstGeom prst="flowChartPunchedCard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21080" y="9255240"/>
            <a:ext cx="180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mal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oton</a:t>
            </a:r>
            <a:r>
              <a:rPr b="1" lang="en-US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53080" y="9110520"/>
            <a:ext cx="2305080" cy="1063800"/>
          </a:xfrm>
          <a:prstGeom prst="flowChartPunchedCard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6000" y="9255240"/>
            <a:ext cx="1727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ton for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t fragmentation</a:t>
            </a:r>
            <a:r>
              <a:rPr b="1" lang="en-US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461440" y="9110520"/>
            <a:ext cx="2158920" cy="1079640"/>
          </a:xfrm>
          <a:prstGeom prst="flowChartPunchedCard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93080" y="9398160"/>
            <a:ext cx="13590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dron deca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03640" y="6662880"/>
            <a:ext cx="4392720" cy="687240"/>
          </a:xfrm>
          <a:prstGeom prst="rect">
            <a:avLst/>
          </a:prstGeom>
          <a:solidFill>
            <a:srgbClr val="ffff99"/>
          </a:solid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53000" y="6662880"/>
            <a:ext cx="3475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clusive photon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68520" y="7523280"/>
            <a:ext cx="3587760" cy="687240"/>
          </a:xfrm>
          <a:prstGeom prst="rect">
            <a:avLst/>
          </a:prstGeom>
          <a:solidFill>
            <a:srgbClr val="ffff99"/>
          </a:solidFill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81800" y="7526160"/>
            <a:ext cx="2840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rect photon</a:t>
            </a:r>
            <a:r>
              <a:rPr b="1" lang="en-US" sz="18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18440" y="7369200"/>
            <a:ext cx="531720" cy="1378080"/>
          </a:xfrm>
          <a:prstGeom prst="downArrow">
            <a:avLst>
              <a:gd name="adj1" fmla="val 50000"/>
              <a:gd name="adj2" fmla="val 64794"/>
            </a:avLst>
          </a:prstGeom>
          <a:solidFill>
            <a:srgbClr val="0080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63880" y="8210520"/>
            <a:ext cx="531720" cy="766800"/>
          </a:xfrm>
          <a:prstGeom prst="downArrow">
            <a:avLst>
              <a:gd name="adj1" fmla="val 49861"/>
              <a:gd name="adj2" fmla="val 64801"/>
            </a:avLst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908000" y="11414160"/>
            <a:ext cx="8353440" cy="19461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rot="18803400">
            <a:off x="3540240" y="10063080"/>
            <a:ext cx="196560" cy="2013120"/>
          </a:xfrm>
          <a:prstGeom prst="upArrow">
            <a:avLst>
              <a:gd name="adj1" fmla="val 50000"/>
              <a:gd name="adj2" fmla="val 25604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rot="21154800">
            <a:off x="4500000" y="10263240"/>
            <a:ext cx="139680" cy="1373040"/>
          </a:xfrm>
          <a:prstGeom prst="upArrow">
            <a:avLst>
              <a:gd name="adj1" fmla="val 50000"/>
              <a:gd name="adj2" fmla="val 24574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rot="1708800">
            <a:off x="5723640" y="10118520"/>
            <a:ext cx="154080" cy="1811160"/>
          </a:xfrm>
          <a:prstGeom prst="upArrow">
            <a:avLst>
              <a:gd name="adj1" fmla="val 50000"/>
              <a:gd name="adj2" fmla="val 2938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rot="597600">
            <a:off x="6444720" y="10190160"/>
            <a:ext cx="146160" cy="1671480"/>
          </a:xfrm>
          <a:prstGeom prst="upArrow">
            <a:avLst>
              <a:gd name="adj1" fmla="val 50000"/>
              <a:gd name="adj2" fmla="val 28589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rot="432600">
            <a:off x="9180000" y="10262880"/>
            <a:ext cx="1230480" cy="1441440"/>
          </a:xfrm>
          <a:prstGeom prst="upArrow">
            <a:avLst>
              <a:gd name="adj1" fmla="val 50000"/>
              <a:gd name="adj2" fmla="val 2928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8360" y="16239960"/>
            <a:ext cx="1393920" cy="16066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ffff"/>
                </a:solidFill>
                <a:latin typeface="Gungsuh"/>
              </a:rPr>
              <a:t>2</a:t>
            </a:r>
            <a:endParaRPr b="0" lang="en-US" sz="9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 rot="10800000">
            <a:off x="10980360" y="17247240"/>
            <a:ext cx="6566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the result of v2 analysis ?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05240" y="15806880"/>
            <a:ext cx="32270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6699"/>
                </a:solidFill>
                <a:latin typeface="Gungsuh"/>
              </a:rPr>
              <a:t>What</a:t>
            </a:r>
            <a:endParaRPr b="0" lang="en-US" sz="9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973800" y="3564000"/>
            <a:ext cx="10296360" cy="1927080"/>
          </a:xfrm>
          <a:prstGeom prst="flowChartAlternateProcess">
            <a:avLst/>
          </a:prstGeom>
          <a:solidFill>
            <a:srgbClr val="0000ff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512000" y="3922560"/>
            <a:ext cx="93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Verdana"/>
                <a:ea typeface="바탕"/>
              </a:rPr>
              <a:t>Kentaro Miki  for the PHENIX Collaboration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8480" y="4699080"/>
            <a:ext cx="37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Gungsuh"/>
              </a:rPr>
              <a:t>Univ. of Tsukuba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885080" y="15374880"/>
            <a:ext cx="5904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550160" y="5940360"/>
            <a:ext cx="0" cy="127461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72720" y="35033040"/>
            <a:ext cx="72007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40720" y="15517800"/>
            <a:ext cx="0" cy="9433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204720" y="4141800"/>
            <a:ext cx="6337440" cy="648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Gungsuh"/>
              </a:rPr>
              <a:t>thermal photon v</a:t>
            </a:r>
            <a:r>
              <a:rPr b="1" lang="en-US" sz="3200" spc="-1" strike="noStrike" baseline="-25000">
                <a:solidFill>
                  <a:srgbClr val="006699"/>
                </a:solidFill>
                <a:latin typeface="Gungsuh"/>
              </a:rPr>
              <a:t>2</a:t>
            </a:r>
            <a:r>
              <a:rPr b="1" lang="en-US" sz="3200" spc="-1" strike="noStrike">
                <a:solidFill>
                  <a:srgbClr val="006699"/>
                </a:solidFill>
                <a:latin typeface="Gungsuh"/>
              </a:rPr>
              <a:t>&gt;0</a:t>
            </a:r>
            <a:r>
              <a:rPr b="1" lang="en-US" sz="1600" spc="-1" strike="noStrike">
                <a:solidFill>
                  <a:srgbClr val="006699"/>
                </a:solidFill>
                <a:latin typeface="Gungsuh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04720" y="4933800"/>
            <a:ext cx="6337440" cy="648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Gungsuh"/>
                <a:ea typeface="Gungsuh"/>
              </a:rPr>
              <a:t>prompt photon v</a:t>
            </a:r>
            <a:r>
              <a:rPr b="1" lang="en-US" sz="3200" spc="-1" strike="noStrike" baseline="-25000">
                <a:solidFill>
                  <a:srgbClr val="006699"/>
                </a:solidFill>
                <a:latin typeface="Gungsuh"/>
                <a:ea typeface="Gungsuh"/>
              </a:rPr>
              <a:t>2</a:t>
            </a:r>
            <a:r>
              <a:rPr b="1" lang="en-US" sz="3200" spc="-1" strike="noStrike">
                <a:solidFill>
                  <a:srgbClr val="006699"/>
                </a:solidFill>
                <a:latin typeface="Gungsuh"/>
                <a:ea typeface="Gungsuh"/>
              </a:rPr>
              <a:t>=0</a:t>
            </a:r>
            <a:r>
              <a:rPr b="1" lang="en-US" sz="3200" spc="-1" strike="noStrike">
                <a:solidFill>
                  <a:srgbClr val="006699"/>
                </a:solidFill>
                <a:latin typeface="Gungsuh"/>
                <a:ea typeface="Gungsuh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204720" y="5797440"/>
            <a:ext cx="6337440" cy="6487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Gungsuh"/>
                <a:ea typeface="Gungsuh"/>
              </a:rPr>
              <a:t>hadron decay photon v</a:t>
            </a:r>
            <a:r>
              <a:rPr b="1" lang="en-US" sz="3200" spc="-1" strike="noStrike" baseline="-25000">
                <a:solidFill>
                  <a:srgbClr val="006699"/>
                </a:solidFill>
                <a:latin typeface="Gungsuh"/>
                <a:ea typeface="Gungsuh"/>
              </a:rPr>
              <a:t>2</a:t>
            </a:r>
            <a:r>
              <a:rPr b="1" lang="en-US" sz="3200" spc="-1" strike="noStrike">
                <a:solidFill>
                  <a:srgbClr val="006699"/>
                </a:solidFill>
                <a:latin typeface="Gungsuh"/>
                <a:ea typeface="Gungsuh"/>
              </a:rPr>
              <a:t>&gt;0</a:t>
            </a:r>
            <a:r>
              <a:rPr b="1" lang="en-US" sz="1600" spc="-1" strike="noStrike">
                <a:solidFill>
                  <a:srgbClr val="006699"/>
                </a:solidFill>
                <a:latin typeface="Gungsuh"/>
                <a:ea typeface="Gungsuh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8101080" y="18038880"/>
            <a:ext cx="8424720" cy="611964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324000" y="17749800"/>
            <a:ext cx="7339320" cy="6103800"/>
            <a:chOff x="324000" y="17749800"/>
            <a:chExt cx="7339320" cy="6103800"/>
          </a:xfrm>
        </p:grpSpPr>
        <p:sp>
          <p:nvSpPr>
            <p:cNvPr id="218" name=""/>
            <p:cNvSpPr/>
            <p:nvPr/>
          </p:nvSpPr>
          <p:spPr>
            <a:xfrm>
              <a:off x="324000" y="17749800"/>
              <a:ext cx="7056360" cy="6103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aphicFrame>
          <p:nvGraphicFramePr>
            <p:cNvPr id="219" name=""/>
            <p:cNvGraphicFramePr/>
            <p:nvPr/>
          </p:nvGraphicFramePr>
          <p:xfrm>
            <a:off x="1349280" y="18835560"/>
            <a:ext cx="5308560" cy="4983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49280" y="18835560"/>
                      <a:ext cx="5308560" cy="498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 flipH="1" flipV="1">
              <a:off x="2278080" y="18649440"/>
              <a:ext cx="1628640" cy="3335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4043160" y="18514800"/>
              <a:ext cx="68040" cy="640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86240" y="18592560"/>
              <a:ext cx="103320" cy="5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937040" y="18592560"/>
              <a:ext cx="139680" cy="5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68720" y="18381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02520" y="183816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68800" y="18356040"/>
              <a:ext cx="30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44360" y="1840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27280" y="18021240"/>
              <a:ext cx="569880" cy="459720"/>
            </a:xfrm>
            <a:prstGeom prst="rect">
              <a:avLst/>
            </a:prstGeom>
            <a:solidFill>
              <a:srgbClr val="000080"/>
            </a:solidFill>
            <a:ln w="54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26160" y="18308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35280" y="22361400"/>
              <a:ext cx="4208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1973160" y="18435240"/>
              <a:ext cx="0" cy="4807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74200" y="2236140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pace (z)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6200000">
              <a:off x="1474200" y="1831104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00520" y="23112360"/>
              <a:ext cx="38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59640" y="230788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52960" y="18162360"/>
              <a:ext cx="179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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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</a:t>
              </a:r>
              <a:r>
                <a:rPr b="1" lang="zh-CN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　　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079960" y="18675360"/>
              <a:ext cx="730440" cy="148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3489480" y="18675000"/>
              <a:ext cx="527040" cy="2965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74560" y="18308520"/>
              <a:ext cx="60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Jet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560400" y="18675000"/>
              <a:ext cx="136440" cy="1120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3420720" y="18754200"/>
              <a:ext cx="276120" cy="10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3328560" y="18914760"/>
              <a:ext cx="414360" cy="112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743280" y="18914760"/>
              <a:ext cx="0" cy="112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90800" y="19076760"/>
              <a:ext cx="4241880" cy="2667240"/>
            </a:xfrm>
            <a:custGeom>
              <a:avLst/>
              <a:gdLst/>
              <a:ahLst/>
              <a:rect l="l" t="t" r="r" b="b"/>
              <a:pathLst>
                <a:path w="2952" h="1598">
                  <a:moveTo>
                    <a:pt x="0" y="66"/>
                  </a:moveTo>
                  <a:lnTo>
                    <a:pt x="450" y="624"/>
                  </a:lnTo>
                  <a:lnTo>
                    <a:pt x="594" y="798"/>
                  </a:lnTo>
                  <a:lnTo>
                    <a:pt x="773" y="1017"/>
                  </a:lnTo>
                  <a:lnTo>
                    <a:pt x="939" y="1212"/>
                  </a:lnTo>
                  <a:lnTo>
                    <a:pt x="1157" y="1454"/>
                  </a:lnTo>
                  <a:lnTo>
                    <a:pt x="1254" y="1544"/>
                  </a:lnTo>
                  <a:lnTo>
                    <a:pt x="1357" y="1587"/>
                  </a:lnTo>
                  <a:lnTo>
                    <a:pt x="1405" y="1598"/>
                  </a:lnTo>
                  <a:lnTo>
                    <a:pt x="1460" y="1598"/>
                  </a:lnTo>
                  <a:lnTo>
                    <a:pt x="1554" y="1576"/>
                  </a:lnTo>
                  <a:lnTo>
                    <a:pt x="1642" y="1517"/>
                  </a:lnTo>
                  <a:lnTo>
                    <a:pt x="1745" y="1420"/>
                  </a:lnTo>
                  <a:lnTo>
                    <a:pt x="1896" y="1255"/>
                  </a:lnTo>
                  <a:lnTo>
                    <a:pt x="2050" y="1077"/>
                  </a:lnTo>
                  <a:lnTo>
                    <a:pt x="2199" y="893"/>
                  </a:lnTo>
                  <a:lnTo>
                    <a:pt x="2952" y="0"/>
                  </a:lnTo>
                </a:path>
              </a:pathLst>
            </a:custGeom>
            <a:noFill/>
            <a:ln w="22320">
              <a:solidFill>
                <a:srgbClr val="edfa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81160" y="19046880"/>
              <a:ext cx="4014720" cy="2016000"/>
            </a:xfrm>
            <a:custGeom>
              <a:avLst/>
              <a:gdLst/>
              <a:ahLst/>
              <a:rect l="l" t="t" r="r" b="b"/>
              <a:pathLst>
                <a:path w="2794" h="1208">
                  <a:moveTo>
                    <a:pt x="0" y="81"/>
                  </a:moveTo>
                  <a:lnTo>
                    <a:pt x="371" y="474"/>
                  </a:lnTo>
                  <a:lnTo>
                    <a:pt x="522" y="638"/>
                  </a:lnTo>
                  <a:lnTo>
                    <a:pt x="700" y="803"/>
                  </a:lnTo>
                  <a:lnTo>
                    <a:pt x="878" y="967"/>
                  </a:lnTo>
                  <a:lnTo>
                    <a:pt x="1066" y="1116"/>
                  </a:lnTo>
                  <a:lnTo>
                    <a:pt x="1170" y="1168"/>
                  </a:lnTo>
                  <a:lnTo>
                    <a:pt x="1275" y="1200"/>
                  </a:lnTo>
                  <a:lnTo>
                    <a:pt x="1322" y="1208"/>
                  </a:lnTo>
                  <a:lnTo>
                    <a:pt x="1379" y="1208"/>
                  </a:lnTo>
                  <a:lnTo>
                    <a:pt x="1473" y="1192"/>
                  </a:lnTo>
                  <a:lnTo>
                    <a:pt x="1562" y="1148"/>
                  </a:lnTo>
                  <a:lnTo>
                    <a:pt x="1667" y="1076"/>
                  </a:lnTo>
                  <a:lnTo>
                    <a:pt x="1792" y="975"/>
                  </a:lnTo>
                  <a:lnTo>
                    <a:pt x="1938" y="851"/>
                  </a:lnTo>
                  <a:lnTo>
                    <a:pt x="2090" y="711"/>
                  </a:lnTo>
                  <a:lnTo>
                    <a:pt x="2428" y="390"/>
                  </a:lnTo>
                  <a:lnTo>
                    <a:pt x="2632" y="186"/>
                  </a:lnTo>
                  <a:lnTo>
                    <a:pt x="2794" y="0"/>
                  </a:lnTo>
                </a:path>
              </a:pathLst>
            </a:custGeom>
            <a:noFill/>
            <a:ln w="22320">
              <a:solidFill>
                <a:srgbClr val="edfa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12920" y="18896040"/>
              <a:ext cx="3795840" cy="1407960"/>
            </a:xfrm>
            <a:custGeom>
              <a:avLst/>
              <a:gdLst/>
              <a:ahLst/>
              <a:rect l="l" t="t" r="r" b="b"/>
              <a:pathLst>
                <a:path w="2643" h="844">
                  <a:moveTo>
                    <a:pt x="0" y="82"/>
                  </a:moveTo>
                  <a:lnTo>
                    <a:pt x="315" y="385"/>
                  </a:lnTo>
                  <a:lnTo>
                    <a:pt x="475" y="505"/>
                  </a:lnTo>
                  <a:lnTo>
                    <a:pt x="637" y="607"/>
                  </a:lnTo>
                  <a:lnTo>
                    <a:pt x="807" y="702"/>
                  </a:lnTo>
                  <a:lnTo>
                    <a:pt x="987" y="791"/>
                  </a:lnTo>
                  <a:lnTo>
                    <a:pt x="1086" y="821"/>
                  </a:lnTo>
                  <a:lnTo>
                    <a:pt x="1187" y="841"/>
                  </a:lnTo>
                  <a:lnTo>
                    <a:pt x="1232" y="844"/>
                  </a:lnTo>
                  <a:lnTo>
                    <a:pt x="1286" y="844"/>
                  </a:lnTo>
                  <a:lnTo>
                    <a:pt x="1377" y="835"/>
                  </a:lnTo>
                  <a:lnTo>
                    <a:pt x="1462" y="810"/>
                  </a:lnTo>
                  <a:lnTo>
                    <a:pt x="1561" y="766"/>
                  </a:lnTo>
                  <a:lnTo>
                    <a:pt x="1681" y="709"/>
                  </a:lnTo>
                  <a:lnTo>
                    <a:pt x="1820" y="637"/>
                  </a:lnTo>
                  <a:lnTo>
                    <a:pt x="1966" y="554"/>
                  </a:lnTo>
                  <a:lnTo>
                    <a:pt x="2283" y="318"/>
                  </a:lnTo>
                  <a:lnTo>
                    <a:pt x="2493" y="140"/>
                  </a:lnTo>
                  <a:lnTo>
                    <a:pt x="2643" y="0"/>
                  </a:lnTo>
                </a:path>
              </a:pathLst>
            </a:custGeom>
            <a:noFill/>
            <a:ln w="22320">
              <a:solidFill>
                <a:srgbClr val="edfa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08400" y="18803880"/>
              <a:ext cx="3452760" cy="466560"/>
            </a:xfrm>
            <a:custGeom>
              <a:avLst/>
              <a:gdLst/>
              <a:ahLst/>
              <a:rect l="l" t="t" r="r" b="b"/>
              <a:pathLst>
                <a:path w="2438" h="415">
                  <a:moveTo>
                    <a:pt x="0" y="60"/>
                  </a:moveTo>
                  <a:lnTo>
                    <a:pt x="286" y="201"/>
                  </a:lnTo>
                  <a:lnTo>
                    <a:pt x="417" y="254"/>
                  </a:lnTo>
                  <a:lnTo>
                    <a:pt x="579" y="305"/>
                  </a:lnTo>
                  <a:lnTo>
                    <a:pt x="736" y="349"/>
                  </a:lnTo>
                  <a:lnTo>
                    <a:pt x="900" y="391"/>
                  </a:lnTo>
                  <a:lnTo>
                    <a:pt x="989" y="404"/>
                  </a:lnTo>
                  <a:lnTo>
                    <a:pt x="1080" y="414"/>
                  </a:lnTo>
                  <a:lnTo>
                    <a:pt x="1122" y="415"/>
                  </a:lnTo>
                  <a:lnTo>
                    <a:pt x="1171" y="415"/>
                  </a:lnTo>
                  <a:lnTo>
                    <a:pt x="1253" y="411"/>
                  </a:lnTo>
                  <a:lnTo>
                    <a:pt x="1331" y="399"/>
                  </a:lnTo>
                  <a:lnTo>
                    <a:pt x="1421" y="379"/>
                  </a:lnTo>
                  <a:lnTo>
                    <a:pt x="1532" y="352"/>
                  </a:lnTo>
                  <a:lnTo>
                    <a:pt x="1657" y="318"/>
                  </a:lnTo>
                  <a:lnTo>
                    <a:pt x="1790" y="281"/>
                  </a:lnTo>
                  <a:lnTo>
                    <a:pt x="2085" y="177"/>
                  </a:lnTo>
                  <a:lnTo>
                    <a:pt x="2300" y="96"/>
                  </a:lnTo>
                  <a:lnTo>
                    <a:pt x="2438" y="0"/>
                  </a:lnTo>
                </a:path>
              </a:pathLst>
            </a:custGeom>
            <a:noFill/>
            <a:ln w="22320">
              <a:solidFill>
                <a:srgbClr val="edfa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45080" y="216216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0.6fm/c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38760" y="2086920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4fm/c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18160" y="1910088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16fm/c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38760" y="2003436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8fm/c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95640" y="19389600"/>
              <a:ext cx="186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hadron gas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　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01480" y="2090088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equilibrated QGP</a:t>
              </a:r>
              <a:r>
                <a:rPr b="1" lang="zh-CN" sz="2000" spc="-1" strike="noStrike">
                  <a:solidFill>
                    <a:srgbClr val="777777"/>
                  </a:solidFill>
                  <a:latin typeface="Arial"/>
                  <a:ea typeface="HGP明朝B"/>
                </a:rPr>
                <a:t>　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2916000" y="18668880"/>
              <a:ext cx="990360" cy="31622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75280" y="21766320"/>
              <a:ext cx="22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Arial"/>
                  <a:ea typeface="HGP明朝B"/>
                </a:rPr>
                <a:t>thermalization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4230360" y="21758400"/>
              <a:ext cx="772920" cy="7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15301800" y="19262880"/>
            <a:ext cx="5184720" cy="3501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6957800" y="19623240"/>
            <a:ext cx="3384360" cy="93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6699"/>
                </a:solidFill>
                <a:latin typeface="Arial"/>
                <a:ea typeface="HGP明朝B"/>
              </a:rPr>
              <a:t>R=N</a:t>
            </a:r>
            <a:r>
              <a:rPr b="1" lang="ja-JP" sz="2400" spc="-1" strike="noStrike" baseline="-25000">
                <a:solidFill>
                  <a:srgbClr val="006699"/>
                </a:solidFill>
                <a:latin typeface="Arial"/>
                <a:ea typeface="HGP明朝B"/>
              </a:rPr>
              <a:t>inc</a:t>
            </a:r>
            <a:r>
              <a:rPr b="1" lang="ja-JP" sz="2400" spc="-1" strike="noStrike">
                <a:solidFill>
                  <a:srgbClr val="006699"/>
                </a:solidFill>
                <a:latin typeface="Arial"/>
                <a:ea typeface="HGP明朝B"/>
              </a:rPr>
              <a:t> / N </a:t>
            </a:r>
            <a:r>
              <a:rPr b="1" lang="ja-JP" sz="2400" spc="-1" strike="noStrike" baseline="-25000">
                <a:solidFill>
                  <a:srgbClr val="006699"/>
                </a:solidFill>
                <a:latin typeface="Arial"/>
                <a:ea typeface="HGP明朝B"/>
              </a:rPr>
              <a:t>BG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6699"/>
                </a:solidFill>
                <a:latin typeface="Arial"/>
                <a:ea typeface="HGP明朝B"/>
              </a:rPr>
              <a:t>00 to 92 %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8"/>
          <a:stretch/>
        </p:blipFill>
        <p:spPr>
          <a:xfrm>
            <a:off x="10909440" y="25311240"/>
            <a:ext cx="17857800" cy="5619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9"/>
          <a:srcRect l="66407" t="0" r="0" b="0"/>
          <a:stretch/>
        </p:blipFill>
        <p:spPr>
          <a:xfrm>
            <a:off x="22996440" y="30753000"/>
            <a:ext cx="5599080" cy="36594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0"/>
          <a:srcRect l="66914" t="0" r="0" b="0"/>
          <a:stretch/>
        </p:blipFill>
        <p:spPr>
          <a:xfrm>
            <a:off x="16900560" y="30932280"/>
            <a:ext cx="56023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1"/>
          <a:srcRect l="66971" t="0" r="0" b="0"/>
          <a:stretch/>
        </p:blipFill>
        <p:spPr>
          <a:xfrm>
            <a:off x="11112480" y="30932280"/>
            <a:ext cx="5399280" cy="36594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2565080" y="31200840"/>
            <a:ext cx="3672000" cy="95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99"/>
                </a:solidFill>
                <a:latin typeface="Verdana"/>
              </a:rPr>
              <a:t>R=N</a:t>
            </a:r>
            <a:r>
              <a:rPr b="1" lang="ja-JP" sz="2000" spc="-1" strike="noStrike" baseline="-25000">
                <a:solidFill>
                  <a:srgbClr val="006699"/>
                </a:solidFill>
                <a:latin typeface="Verdana"/>
              </a:rPr>
              <a:t>inc</a:t>
            </a:r>
            <a:r>
              <a:rPr b="1" lang="ja-JP" sz="2000" spc="-1" strike="noStrike">
                <a:solidFill>
                  <a:srgbClr val="006699"/>
                </a:solidFill>
                <a:latin typeface="Verdana"/>
              </a:rPr>
              <a:t> / N </a:t>
            </a:r>
            <a:r>
              <a:rPr b="1" lang="ja-JP" sz="2000" spc="-1" strike="noStrike" baseline="-25000">
                <a:solidFill>
                  <a:srgbClr val="006699"/>
                </a:solidFill>
                <a:latin typeface="Verdana"/>
              </a:rPr>
              <a:t>BG</a:t>
            </a:r>
            <a:r>
              <a:rPr b="1" lang="ja-JP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6699"/>
                </a:solidFill>
                <a:latin typeface="Arial"/>
                <a:ea typeface="HGP明朝B"/>
              </a:rPr>
              <a:t>00 to 20 %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24447600"/>
            <a:ext cx="72007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2"/>
          <a:stretch/>
        </p:blipFill>
        <p:spPr>
          <a:xfrm>
            <a:off x="20197800" y="5940360"/>
            <a:ext cx="6048360" cy="5210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3"/>
          <a:stretch/>
        </p:blipFill>
        <p:spPr>
          <a:xfrm>
            <a:off x="24879240" y="11485440"/>
            <a:ext cx="3456000" cy="2694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4"/>
          <a:stretch/>
        </p:blipFill>
        <p:spPr>
          <a:xfrm>
            <a:off x="25887240" y="16022520"/>
            <a:ext cx="3241800" cy="2571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0071440" y="12349080"/>
            <a:ext cx="482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006699"/>
                </a:solidFill>
                <a:uFillTx/>
                <a:latin typeface="Arial"/>
              </a:rPr>
              <a:t>lead scintillator (PbSc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6699"/>
                </a:solidFill>
                <a:latin typeface="Arial"/>
              </a:rPr>
              <a:t>・</a:t>
            </a:r>
            <a:r>
              <a:rPr b="0" lang="ja-JP" sz="3200" spc="-1" strike="noStrike">
                <a:solidFill>
                  <a:srgbClr val="006699"/>
                </a:solidFill>
                <a:latin typeface="Arial"/>
                <a:ea typeface="HGP明朝B"/>
              </a:rPr>
              <a:t>energy resolution</a:t>
            </a:r>
            <a:r>
              <a:rPr b="0" lang="ja-JP" sz="3200" spc="-1" strike="noStrike">
                <a:solidFill>
                  <a:srgbClr val="006699"/>
                </a:solidFill>
                <a:latin typeface="Arial"/>
                <a:ea typeface="HGP明朝B"/>
              </a:rPr>
              <a:t>　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6699"/>
                </a:solidFill>
                <a:latin typeface="Arial"/>
              </a:rPr>
              <a:t>     </a:t>
            </a:r>
            <a:r>
              <a:rPr b="0" lang="ja-JP" sz="3200" spc="-1" strike="noStrike">
                <a:solidFill>
                  <a:srgbClr val="006699"/>
                </a:solidFill>
                <a:latin typeface="Arial"/>
              </a:rPr>
              <a:t>2.1 </a:t>
            </a:r>
            <a:r>
              <a:rPr b="0" lang="ja-JP" sz="3200" spc="-1" strike="noStrike">
                <a:solidFill>
                  <a:srgbClr val="006699"/>
                </a:solidFill>
                <a:latin typeface="Symbol"/>
                <a:ea typeface="Symbol"/>
              </a:rPr>
              <a:t></a:t>
            </a:r>
            <a:r>
              <a:rPr b="0" lang="ja-JP" sz="3200" spc="-1" strike="noStrike">
                <a:solidFill>
                  <a:srgbClr val="006699"/>
                </a:solidFill>
                <a:latin typeface="Arial"/>
              </a:rPr>
              <a:t> 8.1 %/ E</a:t>
            </a:r>
            <a:r>
              <a:rPr b="0" lang="ja-JP" sz="3200" spc="-1" strike="noStrike" baseline="30000">
                <a:solidFill>
                  <a:srgbClr val="006699"/>
                </a:solidFill>
                <a:latin typeface="Arial"/>
              </a:rPr>
              <a:t>1/2</a:t>
            </a:r>
            <a:r>
              <a:rPr b="0" lang="ja-JP" sz="3200" spc="-1" strike="noStrike">
                <a:solidFill>
                  <a:srgbClr val="006699"/>
                </a:solidFill>
                <a:latin typeface="Arial"/>
              </a:rPr>
              <a:t> [GeV</a:t>
            </a:r>
            <a:r>
              <a:rPr b="0" lang="ja-JP" sz="1800" spc="-1" strike="noStrike">
                <a:solidFill>
                  <a:srgbClr val="006699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071800" y="14870160"/>
            <a:ext cx="509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006699"/>
                </a:solidFill>
                <a:uFillTx/>
                <a:latin typeface="Arial"/>
              </a:rPr>
              <a:t>lead glass (PbGl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6699"/>
                </a:solidFill>
                <a:latin typeface="Arial"/>
              </a:rPr>
              <a:t>・</a:t>
            </a:r>
            <a:r>
              <a:rPr b="0" lang="ja-JP" sz="3200" spc="-1" strike="noStrike">
                <a:solidFill>
                  <a:srgbClr val="006699"/>
                </a:solidFill>
                <a:latin typeface="Arial"/>
                <a:ea typeface="HGP明朝B"/>
              </a:rPr>
              <a:t>energy resoluti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ja-JP" sz="3200" spc="-1" strike="noStrike">
                <a:solidFill>
                  <a:srgbClr val="006699"/>
                </a:solidFill>
                <a:latin typeface="Arial"/>
              </a:rPr>
              <a:t>0.76 </a:t>
            </a:r>
            <a:r>
              <a:rPr b="0" lang="ja-JP" sz="3200" spc="-1" strike="noStrike">
                <a:solidFill>
                  <a:srgbClr val="006699"/>
                </a:solidFill>
                <a:latin typeface="Symbol"/>
                <a:ea typeface="Symbol"/>
              </a:rPr>
              <a:t></a:t>
            </a:r>
            <a:r>
              <a:rPr b="0" lang="ja-JP" sz="3200" spc="-1" strike="noStrike">
                <a:solidFill>
                  <a:srgbClr val="006699"/>
                </a:solidFill>
                <a:latin typeface="Arial"/>
              </a:rPr>
              <a:t> 5.95 %/ E</a:t>
            </a:r>
            <a:r>
              <a:rPr b="0" lang="ja-JP" sz="3200" spc="-1" strike="noStrike" baseline="30000">
                <a:solidFill>
                  <a:srgbClr val="006699"/>
                </a:solidFill>
                <a:latin typeface="Arial"/>
              </a:rPr>
              <a:t>1/2</a:t>
            </a:r>
            <a:r>
              <a:rPr b="0" lang="ja-JP" sz="3200" spc="-1" strike="noStrike">
                <a:solidFill>
                  <a:srgbClr val="006699"/>
                </a:solidFill>
                <a:latin typeface="Arial"/>
              </a:rPr>
              <a:t> [GeV]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035800" y="13862160"/>
            <a:ext cx="43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6699"/>
                </a:solidFill>
                <a:latin typeface="Arial"/>
                <a:ea typeface="HGP明朝B"/>
              </a:rPr>
              <a:t>|</a:t>
            </a:r>
            <a:r>
              <a:rPr b="0" lang="el-GR" sz="32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ja-JP" sz="3200" spc="-1" strike="noStrike">
                <a:solidFill>
                  <a:srgbClr val="006699"/>
                </a:solidFill>
                <a:latin typeface="Arial"/>
                <a:ea typeface="HGP明朝B"/>
              </a:rPr>
              <a:t>| &lt; 0.375    </a:t>
            </a:r>
            <a:r>
              <a:rPr b="0" lang="ja-JP" sz="3200" spc="-1" strike="noStrike">
                <a:solidFill>
                  <a:srgbClr val="006699"/>
                </a:solidFill>
                <a:latin typeface="Symbol"/>
                <a:ea typeface="Symbol"/>
              </a:rPr>
              <a:t></a:t>
            </a:r>
            <a:r>
              <a:rPr b="0" lang="ja-JP" sz="3200" spc="-1" strike="noStrike">
                <a:solidFill>
                  <a:srgbClr val="006699"/>
                </a:solidFill>
                <a:latin typeface="Arial"/>
                <a:ea typeface="HGP明朝B"/>
              </a:rPr>
              <a:t>=90</a:t>
            </a:r>
            <a:r>
              <a:rPr b="0" lang="ja-JP" sz="3200" spc="-1" strike="noStrike">
                <a:solidFill>
                  <a:srgbClr val="006699"/>
                </a:solidFill>
                <a:latin typeface="Symbol"/>
                <a:ea typeface="Symbol"/>
              </a:rPr>
              <a:t></a:t>
            </a:r>
            <a:r>
              <a:rPr b="0" lang="ja-JP" sz="3200" spc="-1" strike="noStrike">
                <a:solidFill>
                  <a:srgbClr val="006699"/>
                </a:solidFill>
                <a:latin typeface="Arial"/>
                <a:ea typeface="HGP明朝B"/>
              </a:rPr>
              <a:t>2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5"/>
          <a:stretch/>
        </p:blipFill>
        <p:spPr>
          <a:xfrm>
            <a:off x="21998160" y="16525800"/>
            <a:ext cx="3024000" cy="1944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6"/>
          <a:stretch/>
        </p:blipFill>
        <p:spPr>
          <a:xfrm>
            <a:off x="26679600" y="14438160"/>
            <a:ext cx="2663640" cy="982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0126160" y="19046880"/>
            <a:ext cx="4104000" cy="936720"/>
          </a:xfrm>
          <a:prstGeom prst="flowChartTerminator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明朝"/>
              </a:rPr>
              <a:t>inclusive phot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明朝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382520" y="20486520"/>
            <a:ext cx="3132000" cy="936720"/>
          </a:xfrm>
          <a:prstGeom prst="flowChartTerminator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明朝"/>
              </a:rPr>
              <a:t>direct phot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明朝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757800" y="22863240"/>
            <a:ext cx="6480360" cy="1441440"/>
          </a:xfrm>
          <a:prstGeom prst="flowChartTerminator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HGP明朝B"/>
              </a:rPr>
              <a:t>neutral hadron which have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HGP明朝B"/>
              </a:rPr>
              <a:t>decay mode to photon (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  <a:ea typeface="ＭＳ Ｐ明朝"/>
              </a:rPr>
              <a:t>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明朝"/>
              </a:rPr>
              <a:t>,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明朝"/>
              </a:rPr>
              <a:t>,…)</a:t>
            </a:r>
            <a:r>
              <a:rPr b="1" lang="en-US" sz="3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742880" y="22791600"/>
            <a:ext cx="3781440" cy="1081080"/>
          </a:xfrm>
          <a:prstGeom prst="flowChartTerminator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明朝"/>
              </a:rPr>
              <a:t>hadron decay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明朝"/>
              </a:rPr>
              <a:t>photo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明朝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78" name=""/>
          <p:cNvCxnSpPr>
            <a:stCxn id="274" idx="3"/>
            <a:endCxn id="276" idx="0"/>
          </p:cNvCxnSpPr>
          <p:nvPr/>
        </p:nvCxnSpPr>
        <p:spPr>
          <a:xfrm flipH="1">
            <a:off x="21998160" y="19515240"/>
            <a:ext cx="2232360" cy="3348360"/>
          </a:xfrm>
          <a:prstGeom prst="curvedConnector4">
            <a:avLst>
              <a:gd name="adj1" fmla="val 0"/>
              <a:gd name="adj2" fmla="val 37376"/>
            </a:avLst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4" idx="3"/>
            <a:endCxn id="275" idx="0"/>
          </p:cNvCxnSpPr>
          <p:nvPr/>
        </p:nvCxnSpPr>
        <p:spPr>
          <a:xfrm>
            <a:off x="24230160" y="19515240"/>
            <a:ext cx="2718720" cy="971640"/>
          </a:xfrm>
          <a:prstGeom prst="curvedConnector2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6" idx="3"/>
            <a:endCxn id="277" idx="1"/>
          </p:cNvCxnSpPr>
          <p:nvPr/>
        </p:nvCxnSpPr>
        <p:spPr>
          <a:xfrm flipV="1">
            <a:off x="25238160" y="23332320"/>
            <a:ext cx="505080" cy="252000"/>
          </a:xfrm>
          <a:prstGeom prst="curvedConnector3">
            <a:avLst>
              <a:gd name="adj1" fmla="val 25035"/>
            </a:avLst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 flipV="1" rot="15261600">
            <a:off x="26943480" y="21735000"/>
            <a:ext cx="1284480" cy="660240"/>
          </a:xfrm>
          <a:prstGeom prst="rightArrow">
            <a:avLst>
              <a:gd name="adj1" fmla="val 59343"/>
              <a:gd name="adj2" fmla="val 80503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7"/>
          <a:stretch/>
        </p:blipFill>
        <p:spPr>
          <a:xfrm>
            <a:off x="4572000" y="35609040"/>
            <a:ext cx="4751280" cy="33847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8"/>
          <a:stretch/>
        </p:blipFill>
        <p:spPr>
          <a:xfrm>
            <a:off x="1979640" y="39065040"/>
            <a:ext cx="4681440" cy="720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9"/>
          <a:stretch/>
        </p:blipFill>
        <p:spPr>
          <a:xfrm>
            <a:off x="10404360" y="35393400"/>
            <a:ext cx="5042160" cy="29527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0"/>
          <a:stretch/>
        </p:blipFill>
        <p:spPr>
          <a:xfrm>
            <a:off x="7669080" y="39136680"/>
            <a:ext cx="8210520" cy="2232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7740720" y="39209760"/>
            <a:ext cx="1239840" cy="511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HGP明朝B"/>
              </a:rPr>
              <a:t>1.0~3.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404360" y="39209760"/>
            <a:ext cx="1241640" cy="511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HGP明朝B"/>
              </a:rPr>
              <a:t>3.0~5.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141440" y="39209760"/>
            <a:ext cx="1239840" cy="511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HGP明朝B"/>
              </a:rPr>
              <a:t>5.0~10.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1"/>
          <a:srcRect l="0" t="0" r="2020" b="0"/>
          <a:stretch/>
        </p:blipFill>
        <p:spPr>
          <a:xfrm>
            <a:off x="25238160" y="468360"/>
            <a:ext cx="4014720" cy="244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7956720" y="15157440"/>
            <a:ext cx="0" cy="9361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96360" y="15590880"/>
            <a:ext cx="5832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55640" y="24663240"/>
            <a:ext cx="7056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9640" y="25311240"/>
            <a:ext cx="1393920" cy="16063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ffff"/>
                </a:solidFill>
                <a:latin typeface="Gungsuh"/>
              </a:rPr>
              <a:t>3</a:t>
            </a:r>
            <a:endParaRPr b="0" lang="en-US" sz="9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 rot="10800000">
            <a:off x="2484360" y="26534160"/>
            <a:ext cx="7058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do we measure Direct photon ?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11880" y="24807960"/>
            <a:ext cx="27439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6699"/>
                </a:solidFill>
                <a:latin typeface="Gungsuh"/>
              </a:rPr>
              <a:t>How</a:t>
            </a:r>
            <a:endParaRPr b="0" lang="en-US" sz="9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8720" y="27777960"/>
            <a:ext cx="8342280" cy="1089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6920" y="34025040"/>
            <a:ext cx="8353440" cy="109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29108520"/>
            <a:ext cx="1008000" cy="519120"/>
          </a:xfrm>
          <a:prstGeom prst="flowChartMerg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74000" y="28009800"/>
            <a:ext cx="4810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  <a:ea typeface="HGP明朝B"/>
              </a:rPr>
              <a:t>estimate the </a:t>
            </a:r>
            <a:r>
              <a:rPr b="1" lang="en-US" sz="4000" spc="-1" strike="noStrike">
                <a:solidFill>
                  <a:srgbClr val="006699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 baseline="30000">
                <a:solidFill>
                  <a:srgbClr val="006699"/>
                </a:solidFill>
                <a:latin typeface="Arial"/>
                <a:ea typeface="HGP明朝B"/>
              </a:rPr>
              <a:t>0 </a:t>
            </a:r>
            <a:r>
              <a:rPr b="1" lang="en-US" sz="4000" spc="-1" strike="noStrike">
                <a:solidFill>
                  <a:srgbClr val="006699"/>
                </a:solidFill>
                <a:latin typeface="Arial"/>
                <a:ea typeface="HGP明朝B"/>
              </a:rPr>
              <a:t> v</a:t>
            </a:r>
            <a:r>
              <a:rPr b="1" lang="en-US" sz="4000" spc="-1" strike="noStrike" baseline="-25000">
                <a:solidFill>
                  <a:srgbClr val="006699"/>
                </a:solidFill>
                <a:latin typeface="Arial"/>
                <a:ea typeface="HGP明朝B"/>
              </a:rPr>
              <a:t>2</a:t>
            </a:r>
            <a:r>
              <a:rPr b="1" lang="zh-CN" sz="4000" spc="-1" strike="noStrike" baseline="-25000">
                <a:solidFill>
                  <a:srgbClr val="006699"/>
                </a:solidFill>
                <a:latin typeface="Arial"/>
                <a:ea typeface="HGP明朝B"/>
              </a:rPr>
              <a:t>　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39760" y="34256520"/>
            <a:ext cx="4080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  <a:ea typeface="HGP明朝B"/>
              </a:rPr>
              <a:t>direct photon v</a:t>
            </a:r>
            <a:r>
              <a:rPr b="1" lang="en-US" sz="4000" spc="-1" strike="noStrike" baseline="-25000">
                <a:solidFill>
                  <a:srgbClr val="006699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Arial"/>
                <a:ea typeface="HGP明朝B"/>
              </a:rPr>
              <a:t> 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333080" y="26895600"/>
            <a:ext cx="0" cy="8640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044000" y="26463600"/>
            <a:ext cx="73080" cy="8596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8720" y="29859120"/>
            <a:ext cx="8342280" cy="1089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52560" y="30090960"/>
            <a:ext cx="646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  <a:ea typeface="HGP明朝B"/>
              </a:rPr>
              <a:t>hadron</a:t>
            </a:r>
            <a:r>
              <a:rPr b="1" lang="en-US" sz="4000" spc="-1" strike="noStrike" baseline="30000">
                <a:solidFill>
                  <a:srgbClr val="006699"/>
                </a:solidFill>
                <a:latin typeface="Arial"/>
                <a:ea typeface="HGP明朝B"/>
              </a:rPr>
              <a:t> </a:t>
            </a:r>
            <a:r>
              <a:rPr b="1" lang="en-US" sz="4000" spc="-1" strike="noStrike">
                <a:solidFill>
                  <a:srgbClr val="006699"/>
                </a:solidFill>
                <a:latin typeface="Arial"/>
                <a:ea typeface="HGP明朝B"/>
              </a:rPr>
              <a:t> decay simulation</a:t>
            </a:r>
            <a:r>
              <a:rPr b="0" lang="en-US" sz="4000" spc="-1" strike="noStrike">
                <a:solidFill>
                  <a:srgbClr val="006699"/>
                </a:solidFill>
                <a:latin typeface="Arial"/>
                <a:ea typeface="HGP明朝B"/>
              </a:rPr>
              <a:t> </a:t>
            </a:r>
            <a:r>
              <a:rPr b="0" lang="en-US" sz="4000" spc="-1" strike="noStrike" baseline="-25000">
                <a:solidFill>
                  <a:srgbClr val="006699"/>
                </a:solidFill>
                <a:latin typeface="Arial"/>
                <a:ea typeface="HGP明朝B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356000" y="31191120"/>
            <a:ext cx="1008000" cy="519120"/>
          </a:xfrm>
          <a:prstGeom prst="flowChartMerg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26920" y="31942080"/>
            <a:ext cx="8342640" cy="109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62720" y="32173920"/>
            <a:ext cx="7956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  <a:ea typeface="HGP明朝B"/>
              </a:rPr>
              <a:t>estimate the inclusive photon v</a:t>
            </a:r>
            <a:r>
              <a:rPr b="1" lang="en-US" sz="4000" spc="-1" strike="noStrike" baseline="-25000">
                <a:solidFill>
                  <a:srgbClr val="006699"/>
                </a:solidFill>
                <a:latin typeface="Arial"/>
                <a:ea typeface="HGP明朝B"/>
              </a:rPr>
              <a:t>2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  <a:ea typeface="HGP明朝B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56000" y="33331320"/>
            <a:ext cx="1008000" cy="519120"/>
          </a:xfrm>
          <a:prstGeom prst="flowChartMerg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188720" y="35248680"/>
            <a:ext cx="73450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765800" y="6229440"/>
            <a:ext cx="0" cy="12817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125080" y="11917440"/>
            <a:ext cx="3384720" cy="1297080"/>
          </a:xfrm>
          <a:prstGeom prst="wedgeRectCallout">
            <a:avLst>
              <a:gd name="adj1" fmla="val 63462"/>
              <a:gd name="adj2" fmla="val 3078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557080" y="8029440"/>
            <a:ext cx="2592360" cy="1729080"/>
          </a:xfrm>
          <a:prstGeom prst="wedgeRectCallout">
            <a:avLst>
              <a:gd name="adj1" fmla="val 30708"/>
              <a:gd name="adj2" fmla="val 7837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006520" y="8894880"/>
            <a:ext cx="1873080" cy="3600360"/>
          </a:xfrm>
          <a:prstGeom prst="ellipse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630160" y="8029440"/>
            <a:ext cx="31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6699"/>
                </a:solidFill>
                <a:latin typeface="Arial"/>
                <a:ea typeface="HGP明朝B"/>
              </a:rPr>
              <a:t>annihilation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6699"/>
                </a:solidFill>
                <a:latin typeface="Arial"/>
                <a:ea typeface="HGP明朝B"/>
              </a:rPr>
              <a:t>compton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6699"/>
                </a:solidFill>
                <a:latin typeface="Arial"/>
                <a:ea typeface="HGP明朝B"/>
              </a:rPr>
              <a:t>scattering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125440" y="11990520"/>
            <a:ext cx="33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6699"/>
                </a:solidFill>
                <a:latin typeface="Arial"/>
                <a:ea typeface="HGP明朝B"/>
              </a:rPr>
              <a:t>Bremsstrahlung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6699"/>
                </a:solidFill>
                <a:latin typeface="Arial"/>
                <a:ea typeface="HGP明朝B"/>
              </a:rPr>
              <a:t>  </a:t>
            </a:r>
            <a:r>
              <a:rPr b="0" lang="ja-JP" sz="3600" spc="-1" strike="noStrike">
                <a:solidFill>
                  <a:srgbClr val="006699"/>
                </a:solidFill>
                <a:latin typeface="Arial"/>
                <a:ea typeface="HGP明朝B"/>
              </a:rPr>
              <a:t>(energy loss)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725800" y="8461440"/>
            <a:ext cx="649080" cy="1512720"/>
          </a:xfrm>
          <a:prstGeom prst="cloudCallout">
            <a:avLst>
              <a:gd name="adj1" fmla="val -15527"/>
              <a:gd name="adj2" fmla="val 78856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 rot="15451200">
            <a:off x="14365800" y="8246160"/>
            <a:ext cx="1081080" cy="21600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725800" y="11774520"/>
            <a:ext cx="649080" cy="1295280"/>
          </a:xfrm>
          <a:prstGeom prst="cloudCallout">
            <a:avLst>
              <a:gd name="adj1" fmla="val -19439"/>
              <a:gd name="adj2" fmla="val -105759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 rot="4730400">
            <a:off x="14724720" y="12925800"/>
            <a:ext cx="1081080" cy="21600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21352200">
            <a:off x="15662160" y="10264320"/>
            <a:ext cx="1295640" cy="719280"/>
          </a:xfrm>
          <a:prstGeom prst="cloudCallout">
            <a:avLst>
              <a:gd name="adj1" fmla="val -93856"/>
              <a:gd name="adj2" fmla="val 15009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 rot="20870400">
            <a:off x="16525800" y="10333800"/>
            <a:ext cx="1081080" cy="21600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226800">
            <a:off x="12998520" y="10175760"/>
            <a:ext cx="1282680" cy="719280"/>
          </a:xfrm>
          <a:prstGeom prst="cloudCallout">
            <a:avLst>
              <a:gd name="adj1" fmla="val 97763"/>
              <a:gd name="adj2" fmla="val 21074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 rot="9351000">
            <a:off x="12277440" y="10693440"/>
            <a:ext cx="1081080" cy="2156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53640 h 215640"/>
              <a:gd name="textAreaBottom" fmla="*/ 16164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6598880" y="10693440"/>
            <a:ext cx="1873440" cy="1079640"/>
          </a:xfrm>
          <a:custGeom>
            <a:avLst/>
            <a:gdLst>
              <a:gd name="textAreaLeft" fmla="*/ 292680 w 1873440"/>
              <a:gd name="textAreaRight" fmla="*/ 1453680 w 187344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1917" y="5400"/>
                </a:lnTo>
                <a:lnTo>
                  <a:pt x="11917" y="0"/>
                </a:lnTo>
                <a:lnTo>
                  <a:pt x="21600" y="10800"/>
                </a:lnTo>
                <a:lnTo>
                  <a:pt x="11917" y="21600"/>
                </a:lnTo>
                <a:lnTo>
                  <a:pt x="11917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729920" y="8893080"/>
            <a:ext cx="2276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99"/>
                </a:solidFill>
                <a:uFillTx/>
                <a:latin typeface="Gungsuh"/>
                <a:ea typeface="Gungsuh"/>
              </a:rPr>
              <a:t>negative v</a:t>
            </a:r>
            <a:r>
              <a:rPr b="0" lang="en-US" sz="3200" spc="-1" strike="noStrike" u="sng" baseline="-25000">
                <a:solidFill>
                  <a:srgbClr val="006699"/>
                </a:solidFill>
                <a:uFillTx/>
                <a:latin typeface="Gungsuh"/>
                <a:ea typeface="Gungsuh"/>
              </a:rPr>
              <a:t>2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998120" y="11774520"/>
            <a:ext cx="211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99"/>
                </a:solidFill>
                <a:uFillTx/>
                <a:latin typeface="Gungsuh"/>
                <a:ea typeface="Gungsuh"/>
              </a:rPr>
              <a:t>positive v</a:t>
            </a:r>
            <a:r>
              <a:rPr b="0" lang="en-US" sz="3200" spc="-1" strike="noStrike" u="sng" baseline="-25000">
                <a:solidFill>
                  <a:srgbClr val="006699"/>
                </a:solidFill>
                <a:uFillTx/>
                <a:latin typeface="Gungsuh"/>
                <a:ea typeface="Gungsuh"/>
              </a:rPr>
              <a:t>2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5446520" y="8245440"/>
            <a:ext cx="1511280" cy="863640"/>
          </a:xfrm>
          <a:custGeom>
            <a:avLst/>
            <a:gdLst>
              <a:gd name="textAreaLeft" fmla="*/ 236160 w 1511280"/>
              <a:gd name="textAreaRight" fmla="*/ 1179720 w 151128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2116" y="5400"/>
                </a:lnTo>
                <a:lnTo>
                  <a:pt x="12116" y="0"/>
                </a:lnTo>
                <a:lnTo>
                  <a:pt x="21600" y="10800"/>
                </a:lnTo>
                <a:lnTo>
                  <a:pt x="12116" y="21600"/>
                </a:lnTo>
                <a:lnTo>
                  <a:pt x="12116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006520" y="13574880"/>
            <a:ext cx="4968720" cy="2447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364000" y="13790520"/>
            <a:ext cx="416916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</a:t>
            </a:r>
            <a:r>
              <a:rPr b="1" lang="en-US" sz="32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of direct phot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ositive ? negative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or 0 ?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9596000">
            <a:off x="24590160" y="5724000"/>
            <a:ext cx="1223640" cy="27352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081800">
            <a:off x="25021800" y="8100720"/>
            <a:ext cx="1224000" cy="2735280"/>
          </a:xfrm>
          <a:prstGeom prst="ellipse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803000">
            <a:off x="20413800" y="5652720"/>
            <a:ext cx="1224000" cy="27352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20836200">
            <a:off x="19981800" y="7885080"/>
            <a:ext cx="1224000" cy="27352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31" idx="6"/>
            <a:endCxn id="268" idx="3"/>
          </p:cNvCxnSpPr>
          <p:nvPr/>
        </p:nvCxnSpPr>
        <p:spPr>
          <a:xfrm>
            <a:off x="26215560" y="9657720"/>
            <a:ext cx="2913840" cy="7651080"/>
          </a:xfrm>
          <a:prstGeom prst="curvedConnector3">
            <a:avLst>
              <a:gd name="adj1" fmla="val 107994"/>
            </a:avLst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335" name=""/>
          <p:cNvCxnSpPr>
            <a:stCxn id="330" idx="6"/>
            <a:endCxn id="267" idx="3"/>
          </p:cNvCxnSpPr>
          <p:nvPr/>
        </p:nvCxnSpPr>
        <p:spPr>
          <a:xfrm>
            <a:off x="25713360" y="6754680"/>
            <a:ext cx="2622240" cy="6078240"/>
          </a:xfrm>
          <a:prstGeom prst="curvedConnector3">
            <a:avLst>
              <a:gd name="adj1" fmla="val 107991"/>
            </a:avLst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 rot="16200000">
            <a:off x="9512280" y="36861840"/>
            <a:ext cx="1008000" cy="519120"/>
          </a:xfrm>
          <a:prstGeom prst="flowChartMerg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773080" y="38417400"/>
            <a:ext cx="1008000" cy="519120"/>
          </a:xfrm>
          <a:prstGeom prst="flowChartMerg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4000" y="35969400"/>
            <a:ext cx="4103640" cy="40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6699"/>
                </a:solidFill>
                <a:latin typeface="Arial"/>
                <a:ea typeface="HGP明朝B"/>
              </a:rPr>
              <a:t>Energy cut (E</a:t>
            </a:r>
            <a:r>
              <a:rPr b="0" lang="ja-JP" sz="1800" spc="-1" strike="noStrike" baseline="-25000">
                <a:solidFill>
                  <a:srgbClr val="006699"/>
                </a:solidFill>
                <a:latin typeface="Arial"/>
                <a:ea typeface="HGP明朝B"/>
              </a:rPr>
              <a:t>core</a:t>
            </a:r>
            <a:r>
              <a:rPr b="0" lang="ja-JP" sz="1800" spc="-1" strike="noStrike">
                <a:solidFill>
                  <a:srgbClr val="006699"/>
                </a:solidFill>
                <a:latin typeface="Arial"/>
                <a:ea typeface="HGP明朝B"/>
              </a:rPr>
              <a:t> &gt;0.2 GeV)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4000" y="36545760"/>
            <a:ext cx="4103640" cy="368280"/>
          </a:xfrm>
          <a:prstGeom prst="rect">
            <a:avLst/>
          </a:prstGeom>
          <a:solidFill>
            <a:srgbClr val="ffff99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HGP明朝B"/>
              </a:rPr>
              <a:t>shower shape cut (</a:t>
            </a:r>
            <a:r>
              <a:rPr b="0" lang="en-US" sz="1800" spc="-1" strike="noStrike">
                <a:solidFill>
                  <a:srgbClr val="006699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6699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HGP明朝B"/>
              </a:rPr>
              <a:t> &lt; 3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7122120"/>
            <a:ext cx="4103640" cy="368280"/>
          </a:xfrm>
          <a:prstGeom prst="rect">
            <a:avLst/>
          </a:prstGeom>
          <a:solidFill>
            <a:srgbClr val="ffff99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6699"/>
                </a:solidFill>
                <a:latin typeface="Arial"/>
                <a:ea typeface="HGP明朝B"/>
              </a:rPr>
              <a:t>EMCal TOF ( TOF &lt; 1.2 ns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4000" y="37698480"/>
            <a:ext cx="4103640" cy="368280"/>
          </a:xfrm>
          <a:prstGeom prst="rect">
            <a:avLst/>
          </a:prstGeom>
          <a:solidFill>
            <a:srgbClr val="ffff99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HGP明朝B"/>
              </a:rPr>
              <a:t>charged veto ( pc3hit &gt; 6.5 cm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65440" y="14941440"/>
            <a:ext cx="432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probe of initial state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of collision</a:t>
            </a:r>
            <a:r>
              <a:rPr b="1" lang="en-US" sz="36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ＭＳ Ｐゴシック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photon</a:t>
            </a:r>
            <a:r>
              <a:rPr b="1" lang="en-US" sz="1800" spc="-1" strike="noStrike">
                <a:solidFill>
                  <a:srgbClr val="006699"/>
                </a:solidFill>
                <a:latin typeface="ＭＳ Ｐゴシック"/>
              </a:rPr>
              <a:t> 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773440" y="16165440"/>
            <a:ext cx="288720" cy="360360"/>
          </a:xfrm>
          <a:custGeom>
            <a:avLst/>
            <a:gdLst>
              <a:gd name="textAreaLeft" fmla="*/ 0 w 288720"/>
              <a:gd name="textAreaRight" fmla="*/ 289080 w 2887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64000" y="20631240"/>
            <a:ext cx="22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GP明朝B"/>
              </a:rPr>
              <a:t>mixed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HGP明朝B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GP明朝B"/>
              </a:rPr>
              <a:t>phase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HGP明朝B"/>
              </a:rPr>
              <a:t>　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542160" y="31143600"/>
            <a:ext cx="3671640" cy="95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99"/>
                </a:solidFill>
                <a:latin typeface="Verdana"/>
              </a:rPr>
              <a:t>R=N</a:t>
            </a:r>
            <a:r>
              <a:rPr b="1" lang="ja-JP" sz="2000" spc="-1" strike="noStrike" baseline="-25000">
                <a:solidFill>
                  <a:srgbClr val="006699"/>
                </a:solidFill>
                <a:latin typeface="Verdana"/>
              </a:rPr>
              <a:t>inc</a:t>
            </a:r>
            <a:r>
              <a:rPr b="1" lang="ja-JP" sz="2000" spc="-1" strike="noStrike">
                <a:solidFill>
                  <a:srgbClr val="006699"/>
                </a:solidFill>
                <a:latin typeface="Verdana"/>
              </a:rPr>
              <a:t> / N </a:t>
            </a:r>
            <a:r>
              <a:rPr b="1" lang="ja-JP" sz="2000" spc="-1" strike="noStrike" baseline="-25000">
                <a:solidFill>
                  <a:srgbClr val="006699"/>
                </a:solidFill>
                <a:latin typeface="Verdana"/>
              </a:rPr>
              <a:t>BG</a:t>
            </a:r>
            <a:r>
              <a:rPr b="1" lang="ja-JP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6699"/>
                </a:solidFill>
                <a:latin typeface="Arial"/>
                <a:ea typeface="HGP明朝B"/>
              </a:rPr>
              <a:t>20 to 40 %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518880" y="31000680"/>
            <a:ext cx="3672000" cy="95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99"/>
                </a:solidFill>
                <a:latin typeface="Verdana"/>
              </a:rPr>
              <a:t>R=N</a:t>
            </a:r>
            <a:r>
              <a:rPr b="1" lang="ja-JP" sz="2000" spc="-1" strike="noStrike" baseline="-25000">
                <a:solidFill>
                  <a:srgbClr val="006699"/>
                </a:solidFill>
                <a:latin typeface="Verdana"/>
              </a:rPr>
              <a:t>inc</a:t>
            </a:r>
            <a:r>
              <a:rPr b="1" lang="ja-JP" sz="2000" spc="-1" strike="noStrike">
                <a:solidFill>
                  <a:srgbClr val="006699"/>
                </a:solidFill>
                <a:latin typeface="Verdana"/>
              </a:rPr>
              <a:t> / N </a:t>
            </a:r>
            <a:r>
              <a:rPr b="1" lang="ja-JP" sz="2000" spc="-1" strike="noStrike" baseline="-25000">
                <a:solidFill>
                  <a:srgbClr val="006699"/>
                </a:solidFill>
                <a:latin typeface="Verdana"/>
              </a:rPr>
              <a:t>BG</a:t>
            </a:r>
            <a:r>
              <a:rPr b="1" lang="ja-JP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6699"/>
                </a:solidFill>
                <a:latin typeface="Arial"/>
                <a:ea typeface="HGP明朝B"/>
              </a:rPr>
              <a:t>40 to 60 %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096720" y="19838880"/>
            <a:ext cx="28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work in progress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3104720" y="26895600"/>
            <a:ext cx="28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work in progress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081800" y="26895600"/>
            <a:ext cx="28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work in progress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130160" y="26895600"/>
            <a:ext cx="28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work in progress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8814320" y="35033040"/>
            <a:ext cx="76467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irect photon v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is …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lmost zero within the range of error ba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&gt; prompt photon is most effectiv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889560" y="36617400"/>
            <a:ext cx="7189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irect photon v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has …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entrality depende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&gt; but still need to reduce errors more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934920" y="38201760"/>
            <a:ext cx="91393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6699"/>
                </a:solidFill>
                <a:latin typeface="Verdana"/>
              </a:rPr>
              <a:t>If we can reduce these errors especially low p</a:t>
            </a:r>
            <a:r>
              <a:rPr b="0" lang="ja-JP" sz="2800" spc="-1" strike="noStrike" baseline="-25000">
                <a:solidFill>
                  <a:srgbClr val="006699"/>
                </a:solidFill>
                <a:latin typeface="Verdana"/>
              </a:rPr>
              <a:t>T</a:t>
            </a:r>
            <a:r>
              <a:rPr b="0" lang="ja-JP" sz="2800" spc="-1" strike="noStrike">
                <a:solidFill>
                  <a:srgbClr val="006699"/>
                </a:solidFill>
                <a:latin typeface="Verdana"/>
              </a:rPr>
              <a:t> region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6699"/>
                </a:solidFill>
                <a:latin typeface="Verdana"/>
              </a:rPr>
              <a:t>estimation of 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thermal photon</a:t>
            </a:r>
            <a:r>
              <a:rPr b="0" lang="ja-JP" sz="2800" spc="-1" strike="noStrike">
                <a:solidFill>
                  <a:srgbClr val="006699"/>
                </a:solidFill>
                <a:latin typeface="Verdana"/>
              </a:rPr>
              <a:t> v</a:t>
            </a:r>
            <a:r>
              <a:rPr b="0" lang="ja-JP" sz="2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ja-JP" sz="2800" spc="-1" strike="noStrike">
                <a:solidFill>
                  <a:srgbClr val="006699"/>
                </a:solidFill>
                <a:latin typeface="Verdana"/>
              </a:rPr>
              <a:t> becomes possible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2"/>
          <a:stretch/>
        </p:blipFill>
        <p:spPr>
          <a:xfrm>
            <a:off x="23871240" y="39713040"/>
            <a:ext cx="5551560" cy="1811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198880" y="33735960"/>
            <a:ext cx="0" cy="58341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9343240" y="33377040"/>
            <a:ext cx="0" cy="58341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381440" y="41513040"/>
            <a:ext cx="75610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021080" y="41370120"/>
            <a:ext cx="75610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5519600" y="7524720"/>
            <a:ext cx="354420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Gungsuh"/>
                <a:ea typeface="Gungsuh"/>
              </a:rPr>
              <a:t>photon from jet is …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9:29:14Z</dcterms:created>
  <dc:creator>M</dc:creator>
  <dc:description/>
  <dc:language>en-US</dc:language>
  <cp:lastModifiedBy>M</cp:lastModifiedBy>
  <dcterms:modified xsi:type="dcterms:W3CDTF">2006-06-06T16:10:27Z</dcterms:modified>
  <cp:revision>767</cp:revision>
  <dc:subject/>
  <dc:title>Weekly Report</dc:title>
</cp:coreProperties>
</file>