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11.pct" ContentType="image/x-pict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D28-C935-4D1D-AE6E-FDD22A6B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498-F575-4DF3-80C8-32BF96C8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D3C-88AF-481B-85B4-B328731F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345-B299-42A6-BB48-BD73C8AA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DD8-3CAA-4FFE-B41B-AC700933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B1-55D0-400E-B6A2-E48EF0D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1DB-F8D4-4068-8FCF-05D4E056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EA9-C3AF-4670-A451-71F598A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F53-6A73-48E2-889F-E940490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002-161E-4F32-ADDF-263A7ED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321-C3C6-43A9-AE8F-A66998F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C41-0036-41A2-AC3C-19D0BCC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6443-AE68-448F-BF52-33EE56EE181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30440"/>
            <a:ext cx="91440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5400" spc="-1" strike="noStrike">
                <a:solidFill>
                  <a:srgbClr val="ffffff"/>
                </a:solidFill>
                <a:latin typeface="Arial"/>
              </a:rPr>
              <a:t>Identified Charged Hadr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Masahiro Konno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(Univ. of Tsukuba)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5394240"/>
            <a:ext cx="3657600" cy="115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440" y="5105520"/>
            <a:ext cx="15940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3724200"/>
            <a:ext cx="3276360" cy="237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22264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81952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276720" y="50760"/>
            <a:ext cx="3504960" cy="235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324480" y="2286000"/>
            <a:ext cx="2590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400800" y="4502160"/>
            <a:ext cx="25146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29400" y="2286000"/>
            <a:ext cx="99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572000"/>
            <a:ext cx="1676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erogel V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5640" y="5562720"/>
            <a:ext cx="1319040" cy="68580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8560" y="6202440"/>
            <a:ext cx="22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Clear Proton Li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82080" y="3886200"/>
            <a:ext cx="4122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63360" y="2743200"/>
            <a:ext cx="4734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7520" y="2514600"/>
            <a:ext cx="32076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9320" y="22860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D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767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2767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0" y="0"/>
            <a:ext cx="182952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5638680" cy="4341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21840" y="4648320"/>
            <a:ext cx="33307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ach 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(anti-)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fine centrality 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21160" y="2378160"/>
            <a:ext cx="1533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1560" y="152280"/>
            <a:ext cx="5218920" cy="207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ata set: Au+Au 200 GeV (taken in Run4, 2003-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440M events u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 Hadron P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erog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or PID extension toward hig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Run4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 Simul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ptance, efficiency (occupancy) cor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feed-down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76320"/>
            <a:ext cx="12002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05480" y="2147760"/>
            <a:ext cx="397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ja-JP" sz="28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pectra of (anti-)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500720" cy="277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094680" cy="216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9480" y="152280"/>
            <a:ext cx="2239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bar/p vs.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209680"/>
            <a:ext cx="8076960" cy="0"/>
          </a:xfrm>
          <a:prstGeom prst="line">
            <a:avLst/>
          </a:prstGeom>
          <a:ln w="255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255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07000" y="4594320"/>
            <a:ext cx="396504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6 GeV/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2767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45080" y="3276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7240" y="32878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080" y="106200"/>
            <a:ext cx="17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388800"/>
            <a:ext cx="6781680" cy="312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7080" y="762120"/>
            <a:ext cx="82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30320" y="3429000"/>
            <a:ext cx="6756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40" y="618156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+p data (nucl-ex/0603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3760" y="7632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871960" y="76320"/>
            <a:ext cx="603000" cy="459720"/>
            <a:chOff x="5871960" y="76320"/>
            <a:chExt cx="603000" cy="459720"/>
          </a:xfrm>
        </p:grpSpPr>
        <p:sp>
          <p:nvSpPr>
            <p:cNvPr id="139" name=""/>
            <p:cNvSpPr/>
            <p:nvPr/>
          </p:nvSpPr>
          <p:spPr>
            <a:xfrm>
              <a:off x="5871960" y="7632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600" y="152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520" y="685800"/>
            <a:ext cx="9047160" cy="4286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320" y="106200"/>
            <a:ext cx="40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centrality de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760" y="12016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640" y="3259080"/>
            <a:ext cx="603000" cy="459720"/>
            <a:chOff x="80640" y="3259080"/>
            <a:chExt cx="603000" cy="459720"/>
          </a:xfrm>
        </p:grpSpPr>
        <p:sp>
          <p:nvSpPr>
            <p:cNvPr id="145" name=""/>
            <p:cNvSpPr/>
            <p:nvPr/>
          </p:nvSpPr>
          <p:spPr>
            <a:xfrm>
              <a:off x="80640" y="32590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280" y="33350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95280" y="51055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45080" y="51055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7240" y="51166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31760" y="76320"/>
            <a:ext cx="82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00" y="5508720"/>
            <a:ext cx="785124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ba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atios seem to turn over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ose to the value of fragmentation at high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cating transition from soft to hard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2600" y="90360"/>
            <a:ext cx="186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n 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2520" y="210960"/>
            <a:ext cx="79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128600"/>
            <a:ext cx="7315200" cy="336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38520" y="5508720"/>
            <a:ext cx="769536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ms to show decreasing above 3 GeV/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to merge to p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igh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statistics to look at high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210960"/>
                <a:ext cx="34495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ntral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ntr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ipheral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ipher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938520" y="4502160"/>
            <a:ext cx="56793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unity above 2 GeV/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structure at 2~3 GeV/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741240"/>
            <a:ext cx="7086600" cy="3915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4492800"/>
            <a:ext cx="8001000" cy="200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Rapidly increasing wit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62 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aker centrality dependences than those of 200 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gnificant difference for p and pbar at 62 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Indicating more baryon transport and less p-pbar pair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62 GeV  than 200 GeV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800" y="147600"/>
            <a:ext cx="43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atio in 62 GeV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3680" y="177840"/>
            <a:ext cx="2561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 GeV Au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44197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rati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reasing as a function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 increasing as a func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+Cu 22.5 GeV central data reaches the p+p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+Cu 62.4 GeV central data is higher than that in 22.5 Ge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9760" y="492120"/>
            <a:ext cx="7872120" cy="3927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3520" y="5791320"/>
            <a:ext cx="8236440" cy="82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Suggests a significant contribution of incoming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(not by the produced protons) in lower energies Cu+C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9800" y="147600"/>
            <a:ext cx="30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atio in Cu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4520" y="1630440"/>
            <a:ext cx="9248400" cy="1587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ff"/>
                </a:solidFill>
                <a:latin typeface="Arial"/>
              </a:rPr>
              <a:t>Production at RHIC-PHENI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for the PHENIX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HENIX big logo"/>
          <p:cNvPicPr/>
          <p:nvPr/>
        </p:nvPicPr>
        <p:blipFill>
          <a:blip r:embed="rId1"/>
          <a:stretch/>
        </p:blipFill>
        <p:spPr>
          <a:xfrm>
            <a:off x="4495680" y="5340240"/>
            <a:ext cx="464832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50120" y="327672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konno@rcf.rhic.bn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20" y="0"/>
            <a:ext cx="235548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5680" y="822240"/>
            <a:ext cx="847728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 of PID (especially for p, pbar) extend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GeV Au+Au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w PID detector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bar/p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centrality 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ati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ing transition from soft to hard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ti-)prot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decreasing above 3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 system depend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ila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urnover curve on p/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62 GeV Au+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article ratios (Cu+Cu / Au+A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with mod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mbination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m to be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experiment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0292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2400" y="5470560"/>
            <a:ext cx="70840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mprove data analysis, reduce sys. errors for PID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Run5 p+p (abundant) data to mak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PC-T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p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installed for PID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0" y="5257800"/>
            <a:ext cx="12690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160" y="0"/>
            <a:ext cx="467496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105520"/>
            <a:ext cx="8458200" cy="160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- High-p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suppress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due to parton energy los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dium (jet quench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The suppression patterns depend on particle typ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e enhanced, while pions and kaons are sup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320" y="1905120"/>
            <a:ext cx="4114800" cy="2895120"/>
            <a:chOff x="76320" y="1905120"/>
            <a:chExt cx="4114800" cy="2895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6320" y="1922400"/>
              <a:ext cx="4114800" cy="28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550800" y="1905120"/>
              <a:ext cx="3587040" cy="254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0520" y="15843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5441" r="4146" b="0"/>
          <a:stretch/>
        </p:blipFill>
        <p:spPr>
          <a:xfrm>
            <a:off x="4419720" y="1770120"/>
            <a:ext cx="4343400" cy="30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19720" y="14479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56800" y="15238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3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040" y="838080"/>
            <a:ext cx="514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clear Modification Factor 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15000" y="152280"/>
                <a:ext cx="32767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b>
                          <m:e>
                            <m:r>
                              <m:t xml:space="preserve">á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nary</m:t>
                            </m:r>
                          </m:sub>
                        </m:sSub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3352680"/>
            <a:ext cx="1143000" cy="99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23880" y="2133720"/>
            <a:ext cx="3048120" cy="1218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4114440"/>
            <a:ext cx="33526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958680"/>
            <a:ext cx="5257800" cy="3461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07080" y="7272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L 91, 172301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720" y="4648320"/>
            <a:ext cx="8697960" cy="16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io ~1 for central Au+Au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-4 GeV/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than expected from jet fragment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asured in pp,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yon / Meson difference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clear modification facto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liptic flow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7632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10080" y="1622520"/>
            <a:ext cx="3733920" cy="244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95040" y="2465280"/>
            <a:ext cx="43200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440" y="789120"/>
            <a:ext cx="89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2880" y="495360"/>
            <a:ext cx="4191120" cy="284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08440" y="5410080"/>
            <a:ext cx="583200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 number of models predicted a 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 the B/M ratio at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just above wher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vailable data finish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8650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2240" y="3422520"/>
            <a:ext cx="312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es, R et al PRC 68 (2003) 044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co, V et al PRL 90 (2003) 2023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a, R et al PRC 70(2004) 0249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723960"/>
            <a:ext cx="4191120" cy="268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619440"/>
            <a:ext cx="4952880" cy="160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combination of partons may be a more efficient mechanism of hadron production than fra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614680" y="701640"/>
          <a:ext cx="165240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701640"/>
                    <a:ext cx="1652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90920" y="1333440"/>
          <a:ext cx="163512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333440"/>
                    <a:ext cx="16351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44000" y="10152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Quark Re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4349880"/>
            <a:ext cx="8686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T spect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article ratio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(Baryon/Meson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provide the most basic tool to investigate the hadronization mech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492880"/>
            <a:ext cx="85341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distinguish the different production mecha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protons and pions at intermediate and high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200" y="914400"/>
            <a:ext cx="4857840" cy="314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origin of (anti-)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sources (medium effect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ong radia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combination of qu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ryon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1920" y="16668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we should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720" y="0"/>
            <a:ext cx="417348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ENIX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2560" y="2513160"/>
            <a:ext cx="36936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dron Identification at High 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 = 1.01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ll installation in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ton separation from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π/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 GeV/c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3360" y="2009880"/>
            <a:ext cx="334764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25520"/>
            <a:ext cx="1600200" cy="1526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8720" y="457200"/>
            <a:ext cx="9867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6120" y="1036800"/>
            <a:ext cx="7081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4880" y="48006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715000" y="3521160"/>
            <a:ext cx="380880" cy="12794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6480" y="912960"/>
            <a:ext cx="3630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gnetic spectro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vent Characteriza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097160"/>
            <a:ext cx="39625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1:59:07Z</dcterms:created>
  <dc:creator>M. Konno</dc:creator>
  <dc:description/>
  <dc:language>en-US</dc:language>
  <cp:lastModifiedBy>M. Konno</cp:lastModifiedBy>
  <dcterms:modified xsi:type="dcterms:W3CDTF">2006-06-14T20:21:39Z</dcterms:modified>
  <cp:revision>133</cp:revision>
  <dc:subject/>
  <dc:title>PowerPoint プレゼンテーション</dc:title>
</cp:coreProperties>
</file>