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6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176-1EFF-43C8-99FB-73C3C764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E7B-7702-47C6-A7BE-D87372B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D2F-B032-4AA1-8FA1-FB05D106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1B4-E61E-44B4-9275-FFC8F6A9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4957-E033-4FFB-8F61-939F8302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052-F9F1-4AAE-86DC-842835C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63F-2580-492C-B99F-67E0426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9D0-BDBE-474D-9510-D9CC2321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265C-D5A1-4C38-8963-FD08CD2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871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F9A-8DE6-478C-AD06-972AF31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5404-B32D-4AF7-AB35-D79E245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99D-E426-40C1-9B06-93590C8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5569-FCEB-47CC-88FC-03FCEBE4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8FC-9E56-4D7D-A8E6-5F85F8E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1953-4D1E-4AE7-89F2-DAFA9A8B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EFB8-F124-4C4D-A24F-80489C29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C4D-A16F-4B6A-8266-AE30F614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14-1FE7-496E-AC27-7B69B80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339-1D9A-48B0-9331-002D8427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BFE-B251-4856-8D3C-647506A3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871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B2-3261-4434-AC0E-987E2E71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049-66FD-40E7-A6F1-2A26153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C35-3BAE-4553-988F-CC1CFA83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B74-5A5A-45B9-A352-E1BC5E4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5440" y="907920"/>
            <a:ext cx="8493120" cy="54738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2581920" y="3475080"/>
            <a:ext cx="5473800" cy="3384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6253920" y="3475440"/>
            <a:ext cx="5473800" cy="33804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5840" y="-6480"/>
            <a:ext cx="9159840" cy="9144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"/>
          <p:cNvSpPr/>
          <p:nvPr/>
        </p:nvSpPr>
        <p:spPr>
          <a:xfrm>
            <a:off x="-15840" y="6381720"/>
            <a:ext cx="9159840" cy="48276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700360" y="6473880"/>
            <a:ext cx="3527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roshi Masui / University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96000" y="6400440"/>
            <a:ext cx="10904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30F-4F7F-4CE3-953B-5832990D048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505640" y="-6480"/>
            <a:ext cx="16416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5440" y="907920"/>
            <a:ext cx="8493120" cy="54738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5840" y="-6480"/>
            <a:ext cx="9159840" cy="9144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6381720"/>
            <a:ext cx="9159840" cy="48276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700360" y="6473880"/>
            <a:ext cx="3527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roshi Masui / University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596000" y="6400440"/>
            <a:ext cx="10904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3DDB-ECCC-4B0C-9D13-A52D8C618A9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2581920" y="3475080"/>
            <a:ext cx="5473800" cy="33840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253920" y="3475440"/>
            <a:ext cx="5473800" cy="338040"/>
          </a:xfrm>
          <a:prstGeom prst="rect">
            <a:avLst/>
          </a:pr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at have we learned from Anisotropic Flow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 RHIC ?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oshi Mas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PHENIX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2006 RHIC &amp; AGS Annual User’s 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June 5 – 9, 2006 at Brookhaven National Labora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Workshop 8 : How perfect is this matter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31960" y="5661000"/>
            <a:ext cx="2192400" cy="71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21440" y="5661000"/>
            <a:ext cx="2663640" cy="70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FC98-3A3C-4E3D-AE15-64DD5AA7EF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an we test eccentricity scaling of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?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oes v</a:t>
            </a:r>
            <a:r>
              <a:rPr b="0" lang="ja-JP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scale eccentrici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entrality dependence of v</a:t>
            </a:r>
            <a:r>
              <a:rPr b="0" lang="ja-JP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Is v</a:t>
            </a:r>
            <a:r>
              <a:rPr b="0" lang="ja-JP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independent of system siz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+Au vs Cu+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stimate of speed of sound can be made from the measurement of v</a:t>
            </a:r>
            <a:r>
              <a:rPr b="0" lang="ja-JP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A5A-562F-48EC-92DE-2C453D3774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ccentricity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ntegrated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ccentricity is usually estimated by Glaub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Integrated v</a:t>
            </a:r>
            <a:r>
              <a:rPr b="0" lang="ja-JP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is proportional to eccen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dvantage of integrated v</a:t>
            </a:r>
            <a:r>
              <a:rPr b="0" lang="ja-JP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Reduce large systematic error from Glauber MC, typically 20 –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ancel systematic error from event plan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A2C-B8BE-405B-9B49-4FF709279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ccentricity scaling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5314" t="0" r="11218" b="2589"/>
          <a:stretch/>
        </p:blipFill>
        <p:spPr>
          <a:xfrm>
            <a:off x="611280" y="836640"/>
            <a:ext cx="3700440" cy="4464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248000" cy="3110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530028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ing holds for a broad range of cent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ty 30 -40 %, b ~ 8.7 f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of system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76720" y="4255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~ 3.1 obtained fro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32360" y="80820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EAE-2E1F-43C1-A37C-0ED2290E04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4920" y="3378240"/>
            <a:ext cx="90327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 Black"/>
              </a:rPr>
              <a:t>Estimate of c</a:t>
            </a:r>
            <a:r>
              <a:rPr b="1" lang="ja-JP" sz="4400" spc="-1" strike="noStrike" baseline="-25000">
                <a:solidFill>
                  <a:srgbClr val="ffffff"/>
                </a:solidFill>
                <a:latin typeface="Arial Black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131640" y="4438440"/>
            <a:ext cx="5761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= 0.35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Indicate softer EOS compared to c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=1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~ 0.1 (peripheral) – 0.2 (central) at STAR and PHOB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Integrated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does not develop so much in the late hadronic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1680" y="907920"/>
            <a:ext cx="4537080" cy="3079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9200" y="979560"/>
            <a:ext cx="244800" cy="433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132000" y="3889440"/>
            <a:ext cx="1292400" cy="2588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2368440" y="2781360"/>
            <a:ext cx="1467000" cy="68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1476360" y="5006880"/>
            <a:ext cx="1297080" cy="495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66920" y="2658960"/>
            <a:ext cx="18003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40240" y="234936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54880" y="2421000"/>
            <a:ext cx="431640" cy="11080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371680"/>
            <a:ext cx="0" cy="11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9040" y="4408560"/>
            <a:ext cx="2723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lue is typically facto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ger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042920" y="3429000"/>
            <a:ext cx="136836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04480" y="836640"/>
            <a:ext cx="27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@ &lt;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~ 0.45 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4000" y="1197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0F2-E9ED-4643-8FB8-C8C6D40775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Kinetic energy scaling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515772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 energy scaling works up to K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~ 1 G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e hydrodynamic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hint of quark degrees of freedom at higher K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7205" r="6712" b="8832"/>
          <a:stretch/>
        </p:blipFill>
        <p:spPr>
          <a:xfrm>
            <a:off x="34920" y="907920"/>
            <a:ext cx="5473800" cy="4105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59200" y="1123920"/>
            <a:ext cx="101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60640" y="1436760"/>
            <a:ext cx="104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y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32640" y="2708280"/>
            <a:ext cx="3085560" cy="95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* Kinetic energy of a parti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in a relativistic fu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KE</a:t>
            </a:r>
            <a:r>
              <a:rPr b="0" i="1" lang="ja-JP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 ~ m</a:t>
            </a:r>
            <a:r>
              <a:rPr b="0" i="1" lang="ja-JP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0" i="1" lang="ja-JP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  at y ~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24360" y="907920"/>
            <a:ext cx="3144960" cy="119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TAR) : PRL 92, 052302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R) : PRL 95, 122301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K, p (PHENIX) :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35280" y="2089080"/>
            <a:ext cx="1376280" cy="908280"/>
          </a:xfrm>
          <a:custGeom>
            <a:avLst/>
            <a:gdLst/>
            <a:ahLst/>
            <a:rect l="l" t="t" r="r" b="b"/>
            <a:pathLst>
              <a:path w="867" h="572">
                <a:moveTo>
                  <a:pt x="0" y="572"/>
                </a:moveTo>
                <a:cubicBezTo>
                  <a:pt x="46" y="520"/>
                  <a:pt x="182" y="348"/>
                  <a:pt x="276" y="260"/>
                </a:cubicBezTo>
                <a:cubicBezTo>
                  <a:pt x="370" y="172"/>
                  <a:pt x="466" y="84"/>
                  <a:pt x="564" y="42"/>
                </a:cubicBezTo>
                <a:cubicBezTo>
                  <a:pt x="662" y="0"/>
                  <a:pt x="804" y="18"/>
                  <a:pt x="867" y="11"/>
                </a:cubicBezTo>
              </a:path>
            </a:pathLst>
          </a:custGeom>
          <a:noFill/>
          <a:ln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22320" y="861840"/>
            <a:ext cx="34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. Issah, A. Taranenko, nucl-ex/0604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59280" y="128412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1628640"/>
            <a:ext cx="792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27360" y="2779560"/>
            <a:ext cx="1735200" cy="451080"/>
          </a:xfrm>
          <a:custGeom>
            <a:avLst/>
            <a:gdLst/>
            <a:ahLst/>
            <a:rect l="l" t="t" r="r" b="b"/>
            <a:pathLst>
              <a:path w="1093" h="284">
                <a:moveTo>
                  <a:pt x="0" y="284"/>
                </a:moveTo>
                <a:cubicBezTo>
                  <a:pt x="48" y="250"/>
                  <a:pt x="193" y="119"/>
                  <a:pt x="288" y="74"/>
                </a:cubicBezTo>
                <a:cubicBezTo>
                  <a:pt x="383" y="29"/>
                  <a:pt x="435" y="24"/>
                  <a:pt x="569" y="12"/>
                </a:cubicBezTo>
                <a:cubicBezTo>
                  <a:pt x="703" y="0"/>
                  <a:pt x="984" y="3"/>
                  <a:pt x="1093" y="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08720" y="3284640"/>
            <a:ext cx="360360" cy="360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94920" y="3844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Hadron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669080" y="3645000"/>
            <a:ext cx="21600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AAF-11F0-4699-9142-FAB085B50B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can we lear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om identified hadrons ?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21200" y="1339560"/>
            <a:ext cx="3898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NCQ (</a:t>
            </a: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umber of </a:t>
            </a: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onstituent </a:t>
            </a: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Q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uark) scaling of 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indicate partonic collectivity at R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eson is a good probe to test NCQ sca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No re-scattering in hadronic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Longer life time ~ 40 fm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hermal s-quark coalesce/recombine to form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me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39680" y="1319040"/>
            <a:ext cx="4576680" cy="4341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95280" y="5799240"/>
            <a:ext cx="33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M2005, M. Oldenburg,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482-6509-4A53-9FB5-1AFDB3184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ear </a:t>
            </a: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signal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788000" y="907560"/>
            <a:ext cx="417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S/N ~ 0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ty 20 – 6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N is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plane resolution is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meson and baryon is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vary very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1655" t="53070" r="8307" b="1464"/>
          <a:stretch/>
        </p:blipFill>
        <p:spPr>
          <a:xfrm>
            <a:off x="324000" y="3500280"/>
            <a:ext cx="4248000" cy="2911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rcRect l="1693" t="4083" r="7902" b="51464"/>
          <a:stretch/>
        </p:blipFill>
        <p:spPr>
          <a:xfrm>
            <a:off x="324000" y="804960"/>
            <a:ext cx="4248000" cy="2835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986480" y="269388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+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80720" y="29638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89280" y="2803680"/>
            <a:ext cx="90360" cy="90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89280" y="3090960"/>
            <a:ext cx="90360" cy="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18880" y="23115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97800" y="4254480"/>
            <a:ext cx="1843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58F-BA0B-479E-B657-CA33927374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Meson 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2205" t="1946" r="4382" b="3563"/>
          <a:stretch/>
        </p:blipFill>
        <p:spPr>
          <a:xfrm>
            <a:off x="108000" y="907920"/>
            <a:ext cx="4895640" cy="3359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from invariant mass fit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ent with standard subtraction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r systematic 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2 GeV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ent with mass ordering from hydrodynam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rcRect l="2541" t="3860" r="6332" b="3860"/>
          <a:stretch/>
        </p:blipFill>
        <p:spPr>
          <a:xfrm>
            <a:off x="5148360" y="90792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3168360" cy="647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219640" y="436572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N. Borghini, J.-Y. Ollitrault, PRC 70, 064905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011-6FBD-4F4F-A2F3-8E27DE24F3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Arial Black"/>
              </a:rPr>
              <a:t>Partonic Collectivity (i)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3355" r="0" b="0"/>
          <a:stretch/>
        </p:blipFill>
        <p:spPr>
          <a:xfrm>
            <a:off x="1187280" y="838080"/>
            <a:ext cx="6769440" cy="3103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881440" cy="27860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03280" y="4043520"/>
            <a:ext cx="576108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+ NCQ scaling works f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result favors NCQ=2 f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other multi-strange hadron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ve flow of s-qu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0200" y="387504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QM2006, S. Blyth,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194920" y="3052800"/>
            <a:ext cx="17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. (K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sc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38240" y="3048120"/>
            <a:ext cx="190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ydro. + N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88F-469E-4F20-88EB-FC2E4400E3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148360" y="3833640"/>
            <a:ext cx="3816360" cy="24037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Arial Black"/>
              </a:rPr>
              <a:t>Partonic Collectivity (ii)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4035" t="3700" r="5892" b="5437"/>
          <a:stretch/>
        </p:blipFill>
        <p:spPr>
          <a:xfrm>
            <a:off x="106200" y="836640"/>
            <a:ext cx="4897440" cy="33559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8000" y="4331880"/>
            <a:ext cx="496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+ NCQ scaling describes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 variety of particles measured at R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ing breaks for highe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0360" y="81432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47880" y="8143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WWND 2006, M. Iss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148360" y="1312920"/>
            <a:ext cx="3816360" cy="2557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556000" y="2997360"/>
            <a:ext cx="2232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STAR) : PR 92, 052302 (200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TAR) : PRL 95, 122301 (20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TAR) : 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988680" y="2130480"/>
            <a:ext cx="15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:QM2005, PHEN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91040" y="4192560"/>
            <a:ext cx="141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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Symbol"/>
                <a:ea typeface="Symbol"/>
              </a:rPr>
              <a:t>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96360" y="393372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STAR prelim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0-80% Au+Au 200G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000000"/>
                </a:solidFill>
                <a:latin typeface="Arial"/>
              </a:rPr>
              <a:t>Yan Lu SQM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000000"/>
                </a:solidFill>
                <a:latin typeface="Arial"/>
              </a:rPr>
              <a:t>P. Sorensen SQM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800" spc="-1" strike="noStrike">
                <a:solidFill>
                  <a:srgbClr val="000000"/>
                </a:solidFill>
                <a:latin typeface="Arial"/>
              </a:rPr>
              <a:t>M. Oldenburg QM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86520" y="90792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QM2006, S. Es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964-29BD-4842-B0B4-5BC3239F27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erfect liquid” at RHIC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0655" t="31711" r="3818" b="5886"/>
          <a:stretch/>
        </p:blipFill>
        <p:spPr>
          <a:xfrm>
            <a:off x="34920" y="898560"/>
            <a:ext cx="5977080" cy="3682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1195560"/>
            <a:ext cx="4160880" cy="489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4724280"/>
            <a:ext cx="43304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collective flow, nearly perfec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D41-00C3-4BBD-A905-025349546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What have we learned from anisotropic flow + hydrodynamics at RHIC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trongly interacting partonic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Large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Early thermalization,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&lt; 1 fm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scales eccentricity, independent of system size (Au, C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Estimated speed of sound = 0.35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artonic Collectiv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Kinetic energy + NCQ scaling works for a broad set of 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What more can be learned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Centrality, energy dependence of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/(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as a probe for degree of the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HENIX talks in this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2:25 PM : S. Sakai,  heavy flavor electron 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4:20 PM : J. Newby, H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46B-ABE6-4206-AC1A-BDBA5C7A3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042920" y="803160"/>
            <a:ext cx="7129440" cy="565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9C9-454F-4526-9EE5-9F2F1A8294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2296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 Black"/>
              </a:rPr>
              <a:t>Back up</a:t>
            </a:r>
            <a:endParaRPr b="1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59D-8EF7-4D67-87C0-070CDE2420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, STAR, PHOBOS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8600" y="836640"/>
            <a:ext cx="3689280" cy="29224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3689280" cy="2922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212120" y="765000"/>
            <a:ext cx="75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83920" y="765000"/>
            <a:ext cx="53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28600" y="3716280"/>
            <a:ext cx="3479760" cy="2610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13200" y="4869000"/>
            <a:ext cx="4906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~ 0.1 – 0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86440" y="3963960"/>
            <a:ext cx="323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CIPANP 2006, S. Voloshin,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QM2005, S. Manly, PHO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17D-999E-4791-942C-F842DF646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nisotropic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zimuthal correlation to reaction 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lliptic flow (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00160" y="1173240"/>
            <a:ext cx="2108880" cy="2270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91040" y="1391040"/>
            <a:ext cx="2113200" cy="2266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8960" y="1135080"/>
            <a:ext cx="3900960" cy="2548080"/>
            <a:chOff x="138960" y="1135080"/>
            <a:chExt cx="3900960" cy="2548080"/>
          </a:xfrm>
        </p:grpSpPr>
        <p:sp>
          <p:nvSpPr>
            <p:cNvPr id="106" name=""/>
            <p:cNvSpPr/>
            <p:nvPr/>
          </p:nvSpPr>
          <p:spPr>
            <a:xfrm rot="11343000">
              <a:off x="3158640" y="1235160"/>
              <a:ext cx="401400" cy="3477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934560" y="1351440"/>
              <a:ext cx="848520" cy="908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269360" y="140220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6680" y="1542240"/>
              <a:ext cx="2257560" cy="359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3840" y="2599920"/>
              <a:ext cx="158652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3000">
              <a:off x="274320" y="1407960"/>
              <a:ext cx="3630600" cy="2001960"/>
            </a:xfrm>
            <a:prstGeom prst="parallelogram">
              <a:avLst>
                <a:gd name="adj" fmla="val 67285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38960" y="2731320"/>
              <a:ext cx="35532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89960" y="1453320"/>
              <a:ext cx="1031400" cy="1107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1343000">
              <a:off x="1310760" y="2450160"/>
              <a:ext cx="282600" cy="80352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092600" y="2445840"/>
              <a:ext cx="75924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358360" y="1282680"/>
              <a:ext cx="1289520" cy="1285200"/>
              <a:chOff x="2358360" y="1282680"/>
              <a:chExt cx="1289520" cy="12852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358360" y="1282680"/>
                <a:ext cx="1289520" cy="1285200"/>
                <a:chOff x="2358360" y="1282680"/>
                <a:chExt cx="1289520" cy="1285200"/>
              </a:xfrm>
            </p:grpSpPr>
            <p:sp>
              <p:nvSpPr>
                <p:cNvPr id="118" name=""/>
                <p:cNvSpPr/>
                <p:nvPr/>
              </p:nvSpPr>
              <p:spPr>
                <a:xfrm rot="543000">
                  <a:off x="2466720" y="1363320"/>
                  <a:ext cx="1100880" cy="11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543000">
                  <a:off x="2467080" y="1362240"/>
                  <a:ext cx="1100880" cy="110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543000">
                  <a:off x="2403720" y="1807920"/>
                  <a:ext cx="1152360" cy="6735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3000">
                  <a:off x="2456280" y="1837800"/>
                  <a:ext cx="1099080" cy="288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rot="543000">
                <a:off x="2465280" y="1451160"/>
                <a:ext cx="282240" cy="803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799640" y="1349280"/>
              <a:ext cx="92988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3840" y="1621440"/>
              <a:ext cx="667800" cy="106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25600" y="1730160"/>
              <a:ext cx="132336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314440" y="1859400"/>
              <a:ext cx="446040" cy="478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48840" y="1922040"/>
              <a:ext cx="2260800" cy="360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095840" y="1497960"/>
              <a:ext cx="163548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0640" y="2112480"/>
              <a:ext cx="226044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674000" y="1803960"/>
              <a:ext cx="714960" cy="1180440"/>
              <a:chOff x="1674000" y="1803960"/>
              <a:chExt cx="714960" cy="1180440"/>
            </a:xfrm>
          </p:grpSpPr>
          <p:sp>
            <p:nvSpPr>
              <p:cNvPr id="131" name=""/>
              <p:cNvSpPr/>
              <p:nvPr/>
            </p:nvSpPr>
            <p:spPr>
              <a:xfrm rot="543000">
                <a:off x="1757520" y="1841040"/>
                <a:ext cx="547920" cy="1103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3000">
                <a:off x="1715760" y="2364840"/>
                <a:ext cx="549360" cy="57960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3000">
                <a:off x="1751040" y="2370600"/>
                <a:ext cx="546120" cy="12348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543000">
                <a:off x="1757520" y="1839960"/>
                <a:ext cx="547920" cy="1103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2065320" y="2093760"/>
              <a:ext cx="122796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748160" y="2117160"/>
              <a:ext cx="1157400" cy="1243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2480" y="249552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409760" y="2479680"/>
              <a:ext cx="77616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662120" y="2444400"/>
              <a:ext cx="19008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8560" y="2375640"/>
              <a:ext cx="52848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97800" y="2162520"/>
              <a:ext cx="1280160" cy="1287360"/>
              <a:chOff x="397800" y="2162520"/>
              <a:chExt cx="1280160" cy="1287360"/>
            </a:xfrm>
          </p:grpSpPr>
          <p:sp>
            <p:nvSpPr>
              <p:cNvPr id="142" name=""/>
              <p:cNvSpPr/>
              <p:nvPr/>
            </p:nvSpPr>
            <p:spPr>
              <a:xfrm rot="543000">
                <a:off x="496440" y="2243520"/>
                <a:ext cx="110160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3000">
                <a:off x="493920" y="2242080"/>
                <a:ext cx="1101600" cy="1101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3000">
                <a:off x="442800" y="2697120"/>
                <a:ext cx="1141560" cy="66672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 rot="11343000">
                <a:off x="1313280" y="2441880"/>
                <a:ext cx="28368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3000">
                <a:off x="1287720" y="2419920"/>
                <a:ext cx="127800" cy="81828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43000">
                <a:off x="479520" y="2788920"/>
                <a:ext cx="887040" cy="20016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H="1">
              <a:off x="1401120" y="2217600"/>
              <a:ext cx="308880" cy="331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82040" y="2601000"/>
              <a:ext cx="140004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3000">
              <a:off x="1203480" y="3117960"/>
              <a:ext cx="1422360" cy="324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30920" y="2809800"/>
              <a:ext cx="148140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89360" y="2634840"/>
              <a:ext cx="583920" cy="62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82640" y="3008520"/>
              <a:ext cx="191880" cy="206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8000" y="2911320"/>
              <a:ext cx="22788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600" y="3119040"/>
              <a:ext cx="2210760" cy="3524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3000">
              <a:off x="518760" y="2976480"/>
              <a:ext cx="401760" cy="34596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391040" y="1987560"/>
              <a:ext cx="1308240" cy="475920"/>
              <a:chOff x="1391040" y="1987560"/>
              <a:chExt cx="1308240" cy="47592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2119680" y="2132640"/>
                <a:ext cx="96120" cy="101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264040" y="2103120"/>
                <a:ext cx="230400" cy="13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338560" y="2321640"/>
                <a:ext cx="332640" cy="33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6680" y="2427480"/>
                <a:ext cx="372600" cy="36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73920" y="1987560"/>
                <a:ext cx="308880" cy="189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1442880" y="2140920"/>
                <a:ext cx="345240" cy="141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1391040" y="2308680"/>
                <a:ext cx="318600" cy="561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693440" y="2298960"/>
                <a:ext cx="225720" cy="59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1742040" y="2162880"/>
                <a:ext cx="19332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1957320" y="2118960"/>
                <a:ext cx="61560" cy="986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193480" y="2249640"/>
                <a:ext cx="14688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67920" y="2357640"/>
                <a:ext cx="23184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1895760" y="2274120"/>
                <a:ext cx="121320" cy="59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364760" y="2489760"/>
              <a:ext cx="1278000" cy="465120"/>
              <a:chOff x="1364760" y="2489760"/>
              <a:chExt cx="1278000" cy="46512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1809000" y="2662560"/>
                <a:ext cx="108360" cy="136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539360" y="2697480"/>
                <a:ext cx="230760" cy="140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364760" y="2584800"/>
                <a:ext cx="331200" cy="33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1463400" y="2489760"/>
                <a:ext cx="245520" cy="212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52080" y="2764080"/>
                <a:ext cx="30924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45320" y="2657520"/>
                <a:ext cx="345240" cy="141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25240" y="2573640"/>
                <a:ext cx="317520" cy="56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16080" y="2581920"/>
                <a:ext cx="22536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99520" y="2685240"/>
                <a:ext cx="193680" cy="91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16720" y="2721240"/>
                <a:ext cx="61560" cy="1004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693800" y="2665440"/>
                <a:ext cx="147240" cy="25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1636920" y="2559600"/>
                <a:ext cx="230040" cy="21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016720" y="2605680"/>
                <a:ext cx="121320" cy="59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63960" y="287460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05960" y="2045520"/>
              <a:ext cx="27576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64720" y="1651320"/>
              <a:ext cx="139680" cy="152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 rot="18639000">
            <a:off x="2610360" y="23673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2040" y="1209240"/>
            <a:ext cx="490320" cy="52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8440" y="3458520"/>
            <a:ext cx="642960" cy="9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81560" y="34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06520" y="1111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379960" y="2930400"/>
            <a:ext cx="8640" cy="555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4880" y="2921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329000" y="2045520"/>
            <a:ext cx="485640" cy="648000"/>
          </a:xfrm>
          <a:prstGeom prst="downArrow">
            <a:avLst>
              <a:gd name="adj1" fmla="val 39213"/>
              <a:gd name="adj2" fmla="val 408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97920" y="21207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973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2000" y="96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58480" y="927000"/>
            <a:ext cx="3900600" cy="2748240"/>
            <a:chOff x="4758480" y="927000"/>
            <a:chExt cx="3900600" cy="2748240"/>
          </a:xfrm>
        </p:grpSpPr>
        <p:sp>
          <p:nvSpPr>
            <p:cNvPr id="200" name=""/>
            <p:cNvSpPr/>
            <p:nvPr/>
          </p:nvSpPr>
          <p:spPr>
            <a:xfrm>
              <a:off x="5689440" y="2104560"/>
              <a:ext cx="226008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057440" y="168228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74840" y="1595160"/>
              <a:ext cx="1227600" cy="1319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8240" y="154260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7800" y="1867680"/>
              <a:ext cx="132300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1240" y="248544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366960" y="2109240"/>
              <a:ext cx="1157760" cy="124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554080" y="1342440"/>
              <a:ext cx="848160" cy="907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888160" y="1393200"/>
              <a:ext cx="831960" cy="894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6200" y="1533240"/>
              <a:ext cx="2256840" cy="359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3000">
              <a:off x="4893840" y="1400040"/>
              <a:ext cx="3630240" cy="2001960"/>
            </a:xfrm>
            <a:prstGeom prst="parallelogram">
              <a:avLst>
                <a:gd name="adj" fmla="val 67278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58480" y="2722680"/>
              <a:ext cx="354960" cy="383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08040" y="1444320"/>
              <a:ext cx="1031400" cy="1107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711040" y="2437560"/>
              <a:ext cx="759600" cy="8128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9160" y="1340280"/>
              <a:ext cx="929520" cy="1483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2280" y="1612080"/>
              <a:ext cx="667440" cy="106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3680" y="1721880"/>
              <a:ext cx="1323000" cy="210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933240" y="1849680"/>
              <a:ext cx="445680" cy="478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7280" y="1913760"/>
              <a:ext cx="2260080" cy="36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713920" y="1489320"/>
              <a:ext cx="1635120" cy="1758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684480" y="2085480"/>
              <a:ext cx="1227600" cy="13201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279840" y="2436120"/>
              <a:ext cx="189720" cy="20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7360" y="2366280"/>
              <a:ext cx="528120" cy="8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020280" y="2208240"/>
              <a:ext cx="308160" cy="331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99760" y="2592000"/>
              <a:ext cx="1399680" cy="223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3000">
              <a:off x="5329080" y="3066840"/>
              <a:ext cx="1922040" cy="28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9720" y="2801160"/>
              <a:ext cx="148104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400360" y="2999880"/>
              <a:ext cx="191160" cy="205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084280" y="2899440"/>
              <a:ext cx="228960" cy="248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2040" y="3110040"/>
              <a:ext cx="2210040" cy="3520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82040" y="2864880"/>
              <a:ext cx="36684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24760" y="2036880"/>
              <a:ext cx="275400" cy="43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183160" y="1641960"/>
              <a:ext cx="139680" cy="153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71800">
              <a:off x="5787360" y="1766520"/>
              <a:ext cx="1944360" cy="961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028200" y="2470320"/>
              <a:ext cx="77580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080" y="2675880"/>
              <a:ext cx="1481040" cy="2361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1371800">
              <a:off x="5438520" y="1151640"/>
              <a:ext cx="2816640" cy="12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57" y="2880"/>
                  </a:moveTo>
                  <a:arcTo wR="10800" hR="10800" stAng="-7970201" swAng="5200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7" y="2880"/>
                  </a:moveTo>
                  <a:arcTo wR="10800" hR="10800" stAng="-7970201" swAng="5200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2054160"/>
              <a:ext cx="1923840" cy="695520"/>
            </a:xfrm>
            <a:custGeom>
              <a:avLst/>
              <a:gdLst/>
              <a:ahLst/>
              <a:rect l="l" t="t" r="r" b="b"/>
              <a:pathLst>
                <a:path w="1212" h="438">
                  <a:moveTo>
                    <a:pt x="58" y="184"/>
                  </a:moveTo>
                  <a:cubicBezTo>
                    <a:pt x="69" y="195"/>
                    <a:pt x="60" y="192"/>
                    <a:pt x="108" y="234"/>
                  </a:cubicBezTo>
                  <a:cubicBezTo>
                    <a:pt x="157" y="271"/>
                    <a:pt x="130" y="252"/>
                    <a:pt x="163" y="276"/>
                  </a:cubicBezTo>
                  <a:cubicBezTo>
                    <a:pt x="200" y="299"/>
                    <a:pt x="211" y="307"/>
                    <a:pt x="244" y="322"/>
                  </a:cubicBezTo>
                  <a:cubicBezTo>
                    <a:pt x="276" y="337"/>
                    <a:pt x="318" y="355"/>
                    <a:pt x="334" y="361"/>
                  </a:cubicBezTo>
                  <a:cubicBezTo>
                    <a:pt x="354" y="369"/>
                    <a:pt x="374" y="375"/>
                    <a:pt x="394" y="382"/>
                  </a:cubicBezTo>
                  <a:cubicBezTo>
                    <a:pt x="415" y="390"/>
                    <a:pt x="445" y="396"/>
                    <a:pt x="471" y="405"/>
                  </a:cubicBezTo>
                  <a:cubicBezTo>
                    <a:pt x="516" y="411"/>
                    <a:pt x="505" y="411"/>
                    <a:pt x="526" y="414"/>
                  </a:cubicBezTo>
                  <a:cubicBezTo>
                    <a:pt x="555" y="420"/>
                    <a:pt x="559" y="421"/>
                    <a:pt x="579" y="424"/>
                  </a:cubicBezTo>
                  <a:cubicBezTo>
                    <a:pt x="615" y="429"/>
                    <a:pt x="637" y="433"/>
                    <a:pt x="658" y="433"/>
                  </a:cubicBezTo>
                  <a:cubicBezTo>
                    <a:pt x="697" y="438"/>
                    <a:pt x="717" y="435"/>
                    <a:pt x="730" y="436"/>
                  </a:cubicBezTo>
                  <a:cubicBezTo>
                    <a:pt x="774" y="436"/>
                    <a:pt x="763" y="438"/>
                    <a:pt x="792" y="436"/>
                  </a:cubicBezTo>
                  <a:cubicBezTo>
                    <a:pt x="828" y="435"/>
                    <a:pt x="849" y="433"/>
                    <a:pt x="871" y="430"/>
                  </a:cubicBezTo>
                  <a:cubicBezTo>
                    <a:pt x="934" y="420"/>
                    <a:pt x="915" y="424"/>
                    <a:pt x="940" y="418"/>
                  </a:cubicBezTo>
                  <a:cubicBezTo>
                    <a:pt x="987" y="406"/>
                    <a:pt x="985" y="408"/>
                    <a:pt x="1008" y="400"/>
                  </a:cubicBezTo>
                  <a:cubicBezTo>
                    <a:pt x="1054" y="385"/>
                    <a:pt x="1068" y="381"/>
                    <a:pt x="1090" y="367"/>
                  </a:cubicBezTo>
                  <a:cubicBezTo>
                    <a:pt x="1137" y="334"/>
                    <a:pt x="1142" y="336"/>
                    <a:pt x="1167" y="312"/>
                  </a:cubicBezTo>
                  <a:cubicBezTo>
                    <a:pt x="1191" y="281"/>
                    <a:pt x="1183" y="292"/>
                    <a:pt x="1195" y="271"/>
                  </a:cubicBezTo>
                  <a:cubicBezTo>
                    <a:pt x="1210" y="237"/>
                    <a:pt x="1201" y="259"/>
                    <a:pt x="1205" y="251"/>
                  </a:cubicBezTo>
                  <a:cubicBezTo>
                    <a:pt x="1206" y="236"/>
                    <a:pt x="1209" y="237"/>
                    <a:pt x="1212" y="207"/>
                  </a:cubicBezTo>
                  <a:cubicBezTo>
                    <a:pt x="1176" y="213"/>
                    <a:pt x="1163" y="217"/>
                    <a:pt x="1143" y="219"/>
                  </a:cubicBezTo>
                  <a:cubicBezTo>
                    <a:pt x="1134" y="222"/>
                    <a:pt x="1107" y="225"/>
                    <a:pt x="1107" y="225"/>
                  </a:cubicBezTo>
                  <a:cubicBezTo>
                    <a:pt x="1068" y="232"/>
                    <a:pt x="1054" y="231"/>
                    <a:pt x="1027" y="232"/>
                  </a:cubicBezTo>
                  <a:cubicBezTo>
                    <a:pt x="994" y="235"/>
                    <a:pt x="962" y="238"/>
                    <a:pt x="940" y="238"/>
                  </a:cubicBezTo>
                  <a:cubicBezTo>
                    <a:pt x="907" y="237"/>
                    <a:pt x="891" y="235"/>
                    <a:pt x="861" y="237"/>
                  </a:cubicBezTo>
                  <a:cubicBezTo>
                    <a:pt x="818" y="236"/>
                    <a:pt x="814" y="234"/>
                    <a:pt x="777" y="234"/>
                  </a:cubicBezTo>
                  <a:cubicBezTo>
                    <a:pt x="738" y="229"/>
                    <a:pt x="723" y="230"/>
                    <a:pt x="675" y="222"/>
                  </a:cubicBezTo>
                  <a:cubicBezTo>
                    <a:pt x="654" y="219"/>
                    <a:pt x="634" y="217"/>
                    <a:pt x="615" y="214"/>
                  </a:cubicBezTo>
                  <a:cubicBezTo>
                    <a:pt x="593" y="210"/>
                    <a:pt x="567" y="204"/>
                    <a:pt x="541" y="199"/>
                  </a:cubicBezTo>
                  <a:cubicBezTo>
                    <a:pt x="511" y="194"/>
                    <a:pt x="494" y="191"/>
                    <a:pt x="460" y="183"/>
                  </a:cubicBezTo>
                  <a:cubicBezTo>
                    <a:pt x="424" y="176"/>
                    <a:pt x="424" y="172"/>
                    <a:pt x="387" y="165"/>
                  </a:cubicBezTo>
                  <a:cubicBezTo>
                    <a:pt x="358" y="157"/>
                    <a:pt x="338" y="149"/>
                    <a:pt x="316" y="142"/>
                  </a:cubicBezTo>
                  <a:cubicBezTo>
                    <a:pt x="306" y="138"/>
                    <a:pt x="262" y="122"/>
                    <a:pt x="252" y="121"/>
                  </a:cubicBezTo>
                  <a:cubicBezTo>
                    <a:pt x="233" y="114"/>
                    <a:pt x="219" y="107"/>
                    <a:pt x="203" y="101"/>
                  </a:cubicBezTo>
                  <a:cubicBezTo>
                    <a:pt x="187" y="95"/>
                    <a:pt x="185" y="92"/>
                    <a:pt x="169" y="87"/>
                  </a:cubicBezTo>
                  <a:cubicBezTo>
                    <a:pt x="154" y="81"/>
                    <a:pt x="138" y="73"/>
                    <a:pt x="123" y="64"/>
                  </a:cubicBezTo>
                  <a:cubicBezTo>
                    <a:pt x="106" y="55"/>
                    <a:pt x="86" y="46"/>
                    <a:pt x="70" y="36"/>
                  </a:cubicBezTo>
                  <a:cubicBezTo>
                    <a:pt x="59" y="29"/>
                    <a:pt x="40" y="21"/>
                    <a:pt x="29" y="15"/>
                  </a:cubicBezTo>
                  <a:cubicBezTo>
                    <a:pt x="27" y="14"/>
                    <a:pt x="6" y="0"/>
                    <a:pt x="7" y="1"/>
                  </a:cubicBezTo>
                  <a:cubicBezTo>
                    <a:pt x="5" y="12"/>
                    <a:pt x="1" y="15"/>
                    <a:pt x="0" y="45"/>
                  </a:cubicBezTo>
                  <a:cubicBezTo>
                    <a:pt x="0" y="73"/>
                    <a:pt x="1" y="77"/>
                    <a:pt x="10" y="106"/>
                  </a:cubicBezTo>
                  <a:cubicBezTo>
                    <a:pt x="27" y="139"/>
                    <a:pt x="40" y="163"/>
                    <a:pt x="57" y="183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900760" y="2352600"/>
              <a:ext cx="641880" cy="6922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437080" y="2272680"/>
              <a:ext cx="830520" cy="894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130360" y="2161440"/>
              <a:ext cx="87084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6880" y="2406960"/>
              <a:ext cx="775800" cy="834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47240" y="2432160"/>
              <a:ext cx="775800" cy="834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30920" y="2487240"/>
              <a:ext cx="1039320" cy="165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0520" y="2292840"/>
              <a:ext cx="158616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73960" y="2103120"/>
              <a:ext cx="319320" cy="529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9960" y="2408400"/>
              <a:ext cx="354960" cy="58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16160" y="2405880"/>
              <a:ext cx="895680" cy="963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02640" y="2591280"/>
              <a:ext cx="1586160" cy="252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220520" y="1855440"/>
              <a:ext cx="820800" cy="491040"/>
              <a:chOff x="7220520" y="1855440"/>
              <a:chExt cx="820800" cy="4910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7220520" y="1944720"/>
                <a:ext cx="96480" cy="102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440480" y="1855440"/>
                <a:ext cx="231120" cy="138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556040" y="2098800"/>
                <a:ext cx="333360" cy="32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69080" y="2311560"/>
                <a:ext cx="372240" cy="34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310160" y="2086920"/>
                <a:ext cx="145440" cy="270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92880" y="2251440"/>
                <a:ext cx="231120" cy="223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67760" y="1668240"/>
              <a:ext cx="932040" cy="403920"/>
              <a:chOff x="5567760" y="1668240"/>
              <a:chExt cx="932040" cy="403920"/>
            </a:xfrm>
          </p:grpSpPr>
          <p:sp>
            <p:nvSpPr>
              <p:cNvPr id="257" name=""/>
              <p:cNvSpPr/>
              <p:nvPr/>
            </p:nvSpPr>
            <p:spPr>
              <a:xfrm flipH="1" flipV="1">
                <a:off x="5866920" y="1668240"/>
                <a:ext cx="308880" cy="190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646960" y="1796040"/>
                <a:ext cx="345240" cy="141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5567760" y="1955520"/>
                <a:ext cx="318600" cy="57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5983920" y="2012400"/>
                <a:ext cx="225000" cy="59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6219000" y="1749240"/>
                <a:ext cx="192240" cy="918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6437520" y="1670760"/>
                <a:ext cx="6228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6216480" y="1931040"/>
                <a:ext cx="122040" cy="601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644440" y="2190240"/>
              <a:ext cx="484560" cy="432000"/>
              <a:chOff x="5644440" y="2190240"/>
              <a:chExt cx="484560" cy="43200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6022080" y="2486520"/>
                <a:ext cx="106920" cy="1357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816520" y="2424600"/>
                <a:ext cx="229680" cy="140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670000" y="2349360"/>
                <a:ext cx="331560" cy="32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5644440" y="2190240"/>
                <a:ext cx="245880" cy="216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962680" y="2372040"/>
                <a:ext cx="146880" cy="24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5817960" y="2259720"/>
                <a:ext cx="230760" cy="223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7089120" y="2520000"/>
              <a:ext cx="784440" cy="351720"/>
              <a:chOff x="7089120" y="2520000"/>
              <a:chExt cx="784440" cy="351720"/>
            </a:xfrm>
          </p:grpSpPr>
          <p:sp>
            <p:nvSpPr>
              <p:cNvPr id="272" name=""/>
              <p:cNvSpPr/>
              <p:nvPr/>
            </p:nvSpPr>
            <p:spPr>
              <a:xfrm>
                <a:off x="7194600" y="2680920"/>
                <a:ext cx="308880" cy="1908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77840" y="2605320"/>
                <a:ext cx="345600" cy="1418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56400" y="2536200"/>
                <a:ext cx="317160" cy="56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86400" y="2520000"/>
                <a:ext cx="226800" cy="60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2640" y="2617560"/>
                <a:ext cx="194040" cy="92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89120" y="2700360"/>
                <a:ext cx="61200" cy="1011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61120" y="2552040"/>
                <a:ext cx="122040" cy="59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7622640" y="2423160"/>
            <a:ext cx="898200" cy="122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773760" y="1186560"/>
            <a:ext cx="3600" cy="70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344720" y="1037880"/>
            <a:ext cx="490320" cy="52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149480" y="3803760"/>
            <a:ext cx="1406520" cy="5428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16200000">
            <a:off x="4293360" y="3221640"/>
            <a:ext cx="485640" cy="1655640"/>
          </a:xfrm>
          <a:prstGeom prst="downArrow">
            <a:avLst>
              <a:gd name="adj1" fmla="val 39213"/>
              <a:gd name="adj2" fmla="val 1044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226200" y="3784680"/>
            <a:ext cx="1527120" cy="582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211640" y="5373720"/>
            <a:ext cx="4626000" cy="99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30D-8C0E-48BC-84B0-843FF9C5F7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lliptic Flow and Hydrodyna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article identification, event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ccentricity scaling and speed of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Kinetic energy (Hydro) scaling and Partonic coll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6A9-CB34-41A8-9414-83CC22E24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and hydrodynamics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123920"/>
            <a:ext cx="4248000" cy="2881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2680" y="83664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ENIX : PRL 91, 182301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5920" y="450864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Large elliptic flow at R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Elliptic flow is well described by hydrodynam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agnitude, particle type up to p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~ 1.5 GeV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dicate early thermalization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&lt; 1 fm/c, extremely low viscosity &lt; 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0" t="2886" r="0" b="2093"/>
          <a:stretch/>
        </p:blipFill>
        <p:spPr>
          <a:xfrm>
            <a:off x="4572000" y="1123920"/>
            <a:ext cx="4033800" cy="3240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008680" y="836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D. Teaney : PRC 68, 034913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46F-DCD7-4B0D-8E24-339425F1F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PHENIX experimen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219640" y="1020600"/>
            <a:ext cx="3743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adron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ime-of-F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 &lt; 0.35, |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 &lt;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EM Calori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 &lt; 0.35, |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| &lt; 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vent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Beam Beam Counter, 3 &lt; |</a:t>
            </a: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| &lt; 3.9, full azim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118120" cy="4178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 flipV="1">
            <a:off x="2195640" y="3213000"/>
            <a:ext cx="3240000" cy="19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916360" y="3284280"/>
            <a:ext cx="2519280" cy="18730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419280" y="2276640"/>
            <a:ext cx="2160360" cy="360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050560" y="3429000"/>
            <a:ext cx="352908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3B4-A82D-4F06-8156-AA292118F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 Black"/>
              </a:rPr>
              <a:t>Hadron identification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4500720" y="1052640"/>
            <a:ext cx="446400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0" y="1335240"/>
            <a:ext cx="4338720" cy="2957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24000" y="1046160"/>
            <a:ext cx="3384360" cy="3246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211640" y="907920"/>
            <a:ext cx="0" cy="5257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4437000"/>
            <a:ext cx="3889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ime-of-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 &lt;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/4, |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Timing resolution ~ 12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/K separation ~ 2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K/p separation ~ 4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Good timing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4437000"/>
            <a:ext cx="388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EM Calo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 &lt;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/2, |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Timing resolution ~ 40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/K separation ~ 1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K/p separation ~ 2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Large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D6E-31BE-456C-9581-1364D55D3D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vent plane @ 3&lt;|</a:t>
            </a: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|&lt;4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41875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rapidity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arm |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 &lt; 0.35              BBC 3 &lt; |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 &lt;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non-flow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4869000"/>
            <a:ext cx="1152720" cy="341280"/>
          </a:xfrm>
          <a:prstGeom prst="leftRightArrow">
            <a:avLst>
              <a:gd name="adj1" fmla="val 50000"/>
              <a:gd name="adj2" fmla="val 6724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4537080" cy="3044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49892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063-AF96-4394-B300-A00337667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4920" y="3809880"/>
            <a:ext cx="9072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from ideal flui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ynamic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49795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scales initial eccentricity (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is independent on system size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grows with c</a:t>
            </a:r>
            <a:r>
              <a:rPr b="0" lang="ja-JP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an we test these relations from the dat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4920" y="1360440"/>
            <a:ext cx="4681440" cy="3098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0" y="1360440"/>
            <a:ext cx="4537080" cy="307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111240" y="1411200"/>
            <a:ext cx="284040" cy="505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503600" y="1411200"/>
            <a:ext cx="284400" cy="505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941560" y="4363920"/>
            <a:ext cx="1486080" cy="297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478640" y="4363920"/>
            <a:ext cx="1486080" cy="297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1835280" y="3489480"/>
            <a:ext cx="2232000" cy="299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148360" y="4724280"/>
            <a:ext cx="38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R. S. Bhalerao, J.P. Blaizot, N. Borghini, J.-Y. Ollitrault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PLB 627, 49,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34840" y="3787920"/>
            <a:ext cx="220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verse size of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94800" y="1554120"/>
            <a:ext cx="1130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= 0.6 fm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00840" y="15606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8 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444-7275-4FEF-AB16-C4DE09239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05:50:17Z</dcterms:created>
  <dc:creator>Hiroshi Masui</dc:creator>
  <dc:description/>
  <dc:language>en-US</dc:language>
  <cp:lastModifiedBy>Hiroshi Masui</cp:lastModifiedBy>
  <dcterms:modified xsi:type="dcterms:W3CDTF">2006-06-07T03:12:50Z</dcterms:modified>
  <cp:revision>162</cp:revision>
  <dc:subject/>
  <dc:title>What have we learned from Anisotropic Flow of identified hadrons ?</dc:title>
</cp:coreProperties>
</file>