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088400" cy="10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marL="216000" indent="0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4014360" y="0"/>
            <a:ext cx="307044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lstStyle>
            <a:lvl1pPr marL="216000" indent="0" algn="r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987120" y="766440"/>
            <a:ext cx="5111640" cy="383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971064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b">
            <a:noAutofit/>
          </a:bodyPr>
          <a:lstStyle>
            <a:lvl1pPr marL="216000" indent="0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4014360" y="9710640"/>
            <a:ext cx="307044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b">
            <a:noAutofit/>
          </a:bodyPr>
          <a:lstStyle>
            <a:lvl1pPr marL="216000" indent="0" algn="r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C2F19DE4-8C54-4597-9FEA-F89EACB2BE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Elliptic flow of electrons from heavy flavor decays in sqrt {s_{NN}} = 200 GeV Au+Au collisions at PHENI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- photonic electron v2 (converter meth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hotonic electron v2 (simul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ENIX 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Π, deuteron v2 --- PHENIX 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V/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4014360" y="9710640"/>
            <a:ext cx="307044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9FC3D80C-9797-4806-8A3D-DA0CB606A0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0" y="971064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0" y="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014360" y="0"/>
            <a:ext cx="307044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44280" y="4856040"/>
            <a:ext cx="5197320" cy="46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tial anisotr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al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zimuthal anisotropy of particle emission is sensitive to the early stages of system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e of jet quench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 mod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ment of identified particle v2 give up much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of the collision dyna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88920" y="766800"/>
            <a:ext cx="5112000" cy="38336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09200" y="4856040"/>
            <a:ext cx="5667480" cy="46008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F. Kajih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mum ; 7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(EMcal) &amp; momentum mat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6BE5C-F1D2-42F6-A9B0-66151CF74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C8E90-6637-4FD7-BFD8-390F75FB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2AF21-118E-4FC5-B85B-0FD0B9096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41A49-DF35-4BFB-BD38-74352B70D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0AEF-F724-48F2-A102-201B33AEF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F1F3-FEDE-47EE-9DB9-C2D69111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59AD-3B4D-4ABD-ABF5-5D9E99BD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04F1-D205-4FF5-AFD2-7B53251D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ABF5-84BF-446A-B0BC-1AD05ECB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7E0A-3AD7-4CB4-8DEB-4D875A62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8A77-8E1D-423C-9D48-6BD3C361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8BE87-3D03-4986-9A3F-C8A83536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3B35-5321-4097-A155-0CEF8E86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B85B6-A092-4534-BEA7-8F7DFC47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BA71D-7201-4C06-BBC6-2DFCC4F5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1713C-3F3A-4D8C-881B-E952359A9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A612-0BE7-461A-9840-18F8CE99E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69A00-B966-4FA1-8726-BB9D4389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824A2-8F82-48DF-9DBC-C73202CE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9A1A8-8297-4987-8F9F-648B62E9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B5541-0CF1-48C0-B2CD-857FBF4EE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7D884-06C8-4C1E-90EC-E3D3AF0C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36111-0396-4270-89F9-AC38DEB4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8494C-91CE-4B55-8FAF-7AB3A063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5AC1-DEBB-4E81-BAF0-171AB111FE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F2EA-B2CE-4045-BD44-D6669CA684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987640" y="479700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ngo Sakai for PHENIX Collabo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Univ. of Tsuku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liptic flow of electrons from heavy flavor decay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clusive electron &amp; photonic electron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6769080" cy="38894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116000" y="4869000"/>
            <a:ext cx="7416720" cy="11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with inclusive &amp; photonic electron 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tonic e v2 ; pT &lt; 1.0 (conv.) &amp; pT &gt; 1.0 (cock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ve electron v2 is smaller than photonic electron 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765440" y="981000"/>
            <a:ext cx="1152360" cy="2890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84360" y="1557360"/>
            <a:ext cx="51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nic electron v2 (converter meth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nic electron v2 (simulation ; pi0 -&gt; 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sive electron v2 (converter o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57440" y="20620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29080" y="2205000"/>
            <a:ext cx="142560" cy="142920"/>
          </a:xfrm>
          <a:prstGeom prst="ellipse">
            <a:avLst/>
          </a:prstGeom>
          <a:solidFill>
            <a:srgbClr val="ff33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9AF52-B12A-4D47-A4BA-513FECC85C40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06/6/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on-photonic electron v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476360" y="981000"/>
            <a:ext cx="6629400" cy="41036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476360" y="907920"/>
            <a:ext cx="1079640" cy="2890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55640" y="5300640"/>
            <a:ext cx="75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photonic electron v2 : pT &lt; 1.0 (conv.) &amp; pT&gt;1.0 (cock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photonic electron v2 has non-zero v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24000" y="3860640"/>
            <a:ext cx="532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16249-EF14-4D5E-A5B4-AA3531C7D9B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06/6/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675640" cy="41482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on-photonic electron v2 (centrality dep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0920" y="907920"/>
            <a:ext cx="6769080" cy="1447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16080" y="5589720"/>
            <a:ext cx="8329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photonic electron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ems like getting larger with centra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476360" y="4797360"/>
            <a:ext cx="576360" cy="554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47640" y="4797360"/>
            <a:ext cx="576360" cy="554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38560" y="4797360"/>
            <a:ext cx="576360" cy="554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82920" y="4797360"/>
            <a:ext cx="576360" cy="554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948360" y="4797360"/>
            <a:ext cx="576360" cy="554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236000" y="4797360"/>
            <a:ext cx="576000" cy="554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58920" y="508644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24360" y="5086440"/>
            <a:ext cx="115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659640" y="5086440"/>
            <a:ext cx="1512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F0548-57F1-40BC-8D61-E5DDDFADC720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06/6/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ompare with R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47516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257400" y="5805360"/>
            <a:ext cx="84193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~ 1.0 @ peripheral collision but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ill non-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arm quark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ract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t only central but also periphe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95BD1-09DA-4A1C-AAC0-24BF943AD70D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06/6/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 meson flow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5686560" cy="37450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194920" y="170028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827000" y="4219920"/>
            <a:ext cx="266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hys.Lett.B597:328-332,200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889520" y="1125360"/>
            <a:ext cx="4254480" cy="388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901960" y="1052640"/>
            <a:ext cx="692280" cy="2887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292720" y="3860640"/>
            <a:ext cx="34196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113840" y="5157720"/>
            <a:ext cx="63972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D meson decay well reflect parent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n-zer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n-photonic electron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ggest D me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flow @ RH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859280" y="1052640"/>
            <a:ext cx="720720" cy="288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788000" y="1125360"/>
            <a:ext cx="863640" cy="216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6EAA2-670E-41E5-9CA8-3D04D6DBFBB2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06/6/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xpected D v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from non-photonic e v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22280" y="5157720"/>
            <a:ext cx="7268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cted D meson v2 from non-photonic electron v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maller than pi 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rger than Deuteron v2 “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if D v2 shape same as pi, k, p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ss D meson~ Mass Deutero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995640" y="981000"/>
            <a:ext cx="4980240" cy="40323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608000" y="4076640"/>
            <a:ext cx="362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π, deuteron v2 --- PHENIX prelimin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60" y="1341360"/>
            <a:ext cx="4288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cted D v2 from non-γ 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1) D v2 = a*f(p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; free parame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(pT) ; pi,K,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2) D -&gt; e 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3) Calculate χ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4) Find χ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inimum for “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395280" y="3645000"/>
            <a:ext cx="3767040" cy="148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DF27A-DC82-4AB8-B686-91A28E9188E5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06/6/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harm quark flow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356000" y="476280"/>
            <a:ext cx="4537080" cy="40338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924360" y="4508640"/>
            <a:ext cx="4895640" cy="1652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547236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9308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1380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75344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59816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173800" y="4292640"/>
            <a:ext cx="7797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T[GeV/c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102520" y="6165720"/>
            <a:ext cx="7797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T[GeV/c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4000" y="907920"/>
            <a:ext cx="4968720" cy="48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ompared with qua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oalescence model predi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with/without charm quark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(Greco, Ko, Rapp: PLB 595 (2004) 2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- No Bottom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- c v2 small u v2 @ low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- quark v2 flat @ high p</a:t>
            </a:r>
            <a:r>
              <a:rPr b="0" lang="nb-NO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elow 2.0 GeV/c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consistent with </a:t>
            </a:r>
            <a:r>
              <a:rPr b="0" lang="ja-JP" sz="2000" spc="-1" strike="noStrike" u="sng">
                <a:solidFill>
                  <a:srgbClr val="ff0000"/>
                </a:solidFill>
                <a:uFillTx/>
                <a:latin typeface="Arial"/>
              </a:rPr>
              <a:t>charm qua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 u="sng">
                <a:solidFill>
                  <a:srgbClr val="ff0000"/>
                </a:solidFill>
                <a:uFillTx/>
                <a:latin typeface="Arial"/>
              </a:rPr>
              <a:t>flow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favor charm quark flow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sume c v2 &lt; u v2 @ low 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mass effect in partonic level ?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93D8C-8EC4-409F-B728-815A736670A3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06/6/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 meson contributio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4103640" cy="38163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822600" y="2131920"/>
            <a:ext cx="190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ndrik, Greco, Ra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cl-th/05080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4572000" y="907920"/>
            <a:ext cx="4392720" cy="40370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290920" y="1411200"/>
            <a:ext cx="2257920" cy="58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 &amp; B v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assume D &amp; B v2 s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05440" y="2276640"/>
            <a:ext cx="216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24360" y="2708280"/>
            <a:ext cx="216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508720" y="2419200"/>
            <a:ext cx="67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D -&gt;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7093080" y="364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724000" y="4076640"/>
            <a:ext cx="7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99"/>
                </a:solidFill>
                <a:latin typeface="Arial"/>
              </a:rPr>
              <a:t>B -&gt; 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965000" y="479736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rot="16200000">
            <a:off x="4519440" y="132804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700360" y="2276640"/>
            <a:ext cx="20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99"/>
                </a:solidFill>
                <a:latin typeface="Arial"/>
              </a:rPr>
              <a:t>w.o. B meson (c flo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700360" y="2708280"/>
            <a:ext cx="217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w. B meson (c,b flo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24520" y="5157720"/>
            <a:ext cx="8013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meson contribution is model dependent no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 contribution is getting larger at high 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 v2 from B meson is smeared due to large mass differ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high pT single electron v2 is getting smaller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588000" y="2852640"/>
            <a:ext cx="19447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39080" y="4076640"/>
            <a:ext cx="406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ed on quark coalescence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, b reso ; c,b get v2 by elastic scat. in QG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76C00-5DAD-4150-AA7C-8A2B35369006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06/6/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ear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38840" y="1052640"/>
            <a:ext cx="6005520" cy="196524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ingle μ v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reaction plane det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od resolution =&gt; reduce error from R.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J/ψ v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  <a:ea typeface="ＭＳ Ｐゴシック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&amp;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high pT non-photonic electron v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  <a:ea typeface="ＭＳ Ｐゴシック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licon vertex det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rect measurement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D meson 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88840" y="3429000"/>
            <a:ext cx="3330720" cy="25002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5064120" y="3429000"/>
            <a:ext cx="3097080" cy="26640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6962760" y="3149640"/>
            <a:ext cx="2181240" cy="17272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5424480" y="4797360"/>
            <a:ext cx="685800" cy="762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5525640" y="3365640"/>
            <a:ext cx="1970280" cy="19810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85280" y="3699000"/>
            <a:ext cx="115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HEN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muon a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364720" y="6021360"/>
            <a:ext cx="26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[Reaction plane detector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389600" y="5950080"/>
            <a:ext cx="248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[Silicon vertex detector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4705200" y="4365720"/>
            <a:ext cx="2232000" cy="1439640"/>
          </a:xfrm>
          <a:prstGeom prst="line">
            <a:avLst/>
          </a:prstGeom>
          <a:ln w="381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9853400">
            <a:off x="4418640" y="522936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0FC50-B4C6-40A2-8EEF-E0B30F284AB8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06/6/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893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Non-photonic electron v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from heavy flavor dec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as been measured with RHIC-PHE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Non-photonic electron v2 has non-zero v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=&gt; indicate non-zero D meson 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Clear centrality dependence of non-photonic e 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Compare with model calculation with charm flow (c v2 &lt; u v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consistent with charm flow model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below 2.0 GeV/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=&gt; mass effect in partonic level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Estimate D meson v2 from non-photonic electron 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assuming D meson v2 shape same as pion, Kaon, prot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0D2C3-0592-4E45-8553-F155EF4809E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06/6/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lliptic flow (v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889600" y="439560"/>
            <a:ext cx="2437920" cy="1905120"/>
            <a:chOff x="5889600" y="439560"/>
            <a:chExt cx="2437920" cy="1905120"/>
          </a:xfrm>
        </p:grpSpPr>
        <p:sp>
          <p:nvSpPr>
            <p:cNvPr id="117" name=""/>
            <p:cNvSpPr/>
            <p:nvPr/>
          </p:nvSpPr>
          <p:spPr>
            <a:xfrm>
              <a:off x="6543720" y="1280160"/>
              <a:ext cx="1130040" cy="1064520"/>
            </a:xfrm>
            <a:prstGeom prst="ellipse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889600" y="1280160"/>
              <a:ext cx="1129680" cy="1064520"/>
            </a:xfrm>
            <a:prstGeom prst="ellipse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5e75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543720" y="1335960"/>
              <a:ext cx="475560" cy="952560"/>
            </a:xfrm>
            <a:prstGeom prst="ellipse">
              <a:avLst/>
            </a:prstGeom>
            <a:gradFill rotWithShape="0">
              <a:gsLst>
                <a:gs pos="0">
                  <a:srgbClr val="75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81680" y="1840320"/>
              <a:ext cx="118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6781680" y="831600"/>
              <a:ext cx="0" cy="100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969680" y="1616400"/>
              <a:ext cx="35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03120" y="439560"/>
              <a:ext cx="35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736960" y="3335400"/>
            <a:ext cx="2895120" cy="2282760"/>
            <a:chOff x="5736960" y="3335400"/>
            <a:chExt cx="2895120" cy="2282760"/>
          </a:xfrm>
        </p:grpSpPr>
        <p:grpSp>
          <p:nvGrpSpPr>
            <p:cNvPr id="125" name=""/>
            <p:cNvGrpSpPr/>
            <p:nvPr/>
          </p:nvGrpSpPr>
          <p:grpSpPr>
            <a:xfrm>
              <a:off x="6177600" y="3335400"/>
              <a:ext cx="2454480" cy="2270160"/>
              <a:chOff x="6177600" y="3335400"/>
              <a:chExt cx="2454480" cy="2270160"/>
            </a:xfrm>
          </p:grpSpPr>
          <p:sp>
            <p:nvSpPr>
              <p:cNvPr id="126" name=""/>
              <p:cNvSpPr/>
              <p:nvPr/>
            </p:nvSpPr>
            <p:spPr>
              <a:xfrm>
                <a:off x="6177600" y="4416480"/>
                <a:ext cx="1384560" cy="840960"/>
              </a:xfrm>
              <a:prstGeom prst="ellipse">
                <a:avLst/>
              </a:pr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869880" y="4836960"/>
                <a:ext cx="1258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6869880" y="3755520"/>
                <a:ext cx="0" cy="10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128440" y="4599360"/>
                <a:ext cx="503640" cy="10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1" lang="zh-CN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ｘ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684840" y="3335400"/>
                <a:ext cx="690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1" lang="zh-CN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ｙ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 flipV="1">
              <a:off x="7184880" y="4056120"/>
              <a:ext cx="188640" cy="3002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7499520" y="4296600"/>
              <a:ext cx="314640" cy="2397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25520" y="4837320"/>
              <a:ext cx="314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499520" y="5077440"/>
              <a:ext cx="314640" cy="180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247880" y="5257440"/>
              <a:ext cx="188640" cy="3002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70240" y="5317920"/>
              <a:ext cx="0" cy="3002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6870240" y="3995640"/>
              <a:ext cx="0" cy="360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6366600" y="4056120"/>
              <a:ext cx="188640" cy="3002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5988240" y="4296600"/>
              <a:ext cx="251640" cy="2397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5736960" y="4837320"/>
              <a:ext cx="377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5862960" y="5137560"/>
              <a:ext cx="314640" cy="180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6240600" y="5317920"/>
              <a:ext cx="188640" cy="240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5502960" y="2421000"/>
            <a:ext cx="275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Initial spatial anisotr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15000" y="5516640"/>
            <a:ext cx="3429000" cy="7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Momentum space anisotr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of particle e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727680" y="284004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1389240"/>
            <a:ext cx="51501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liptic fl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owerful probe of the initial state of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high energy heavy ion collis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fer initial spatial anisotrop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momentum space anisotrop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croscopic ; hydro mod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&gt; pressure gradi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croscopic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&gt; scattering in the me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1916280"/>
            <a:ext cx="4033800" cy="61164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dN/dφ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∝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(1+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 Unicode MS"/>
              </a:rPr>
              <a:t>v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  <a:ea typeface="Arial Unicode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cos(2φ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762ED-EC20-494A-A25B-89B3F6721F2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06/6/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up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09007-A1CD-42F4-A21E-3B9DA94FEF3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06/6/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ter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79280" y="1125360"/>
            <a:ext cx="8785440" cy="55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 non-photonic &amp; photonic e v2 by 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converter run &amp; converter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converter ; 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on-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er  ;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R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on-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+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v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v2</a:t>
            </a:r>
            <a:r>
              <a:rPr b="1" lang="en-US" sz="2000" spc="-1" strike="noStrike" baseline="-25000">
                <a:solidFill>
                  <a:srgbClr val="6600ff"/>
                </a:solidFill>
                <a:latin typeface="Arial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2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non-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v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v2</a:t>
            </a:r>
            <a:r>
              <a:rPr b="1" lang="en-US" sz="2000" spc="-1" strike="noStrike" baseline="-25000">
                <a:solidFill>
                  <a:srgbClr val="6600ff"/>
                </a:solidFill>
                <a:latin typeface="Arial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2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non-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v2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non-γ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non-photonic) &amp; 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v2</a:t>
            </a:r>
            <a:r>
              <a:rPr b="1" lang="en-US" sz="2800" spc="-1" strike="noStrike" baseline="-25000">
                <a:solidFill>
                  <a:srgbClr val="6600ff"/>
                </a:solidFill>
                <a:latin typeface="Arial"/>
              </a:rPr>
              <a:t>γ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(photonic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perimentall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”   determined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55640" y="4076640"/>
            <a:ext cx="748836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-- ratio of electrons with &amp; without converter (measu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 non-photonic/photonic ratio (measu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2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 inclusive e v2 measured with non-converter run (measu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2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-- inclusive e v2 measured with converter run (measu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4360" y="2276640"/>
            <a:ext cx="142560" cy="647640"/>
          </a:xfrm>
          <a:custGeom>
            <a:avLst/>
            <a:gdLst>
              <a:gd name="textAreaLeft" fmla="*/ 91080 w 142560"/>
              <a:gd name="textAreaRight" fmla="*/ 142920 w 14256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4360" y="3213000"/>
            <a:ext cx="142560" cy="647640"/>
          </a:xfrm>
          <a:custGeom>
            <a:avLst/>
            <a:gdLst>
              <a:gd name="textAreaLeft" fmla="*/ 91080 w 142560"/>
              <a:gd name="textAreaRight" fmla="*/ 142920 w 14256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79280" y="1125360"/>
            <a:ext cx="7272360" cy="8636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79280" y="3357720"/>
            <a:ext cx="360360" cy="269640"/>
          </a:xfrm>
          <a:prstGeom prst="rightArrow">
            <a:avLst>
              <a:gd name="adj1" fmla="val 50000"/>
              <a:gd name="adj2" fmla="val 33411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C05FC-29DD-4CDB-8B6D-D1012CDCF140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06/6/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24000" y="1197000"/>
            <a:ext cx="8569080" cy="29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d photonic electron v2 with simu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subtract it from electron v2 meas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non-converter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dN</a:t>
            </a:r>
            <a:r>
              <a:rPr b="0" lang="en-US" sz="2000" spc="-1" strike="noStrike" baseline="-25000">
                <a:solidFill>
                  <a:srgbClr val="6600ff"/>
                </a:solidFill>
                <a:latin typeface="Arial"/>
              </a:rPr>
              <a:t>pho.e 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/d</a:t>
            </a:r>
            <a:r>
              <a:rPr b="0" lang="en-US" sz="2000" spc="-1" strike="noStrike">
                <a:solidFill>
                  <a:srgbClr val="6600ff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N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non-pho.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/d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2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non-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 {(1+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v2 - 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v2</a:t>
            </a:r>
            <a:r>
              <a:rPr b="0" lang="en-US" sz="2000" spc="-1" strike="noStrike" baseline="-25000">
                <a:solidFill>
                  <a:srgbClr val="6600ff"/>
                </a:solidFill>
                <a:latin typeface="Arial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} /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cktail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487240" y="393372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04680" y="4508640"/>
            <a:ext cx="478476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-- non-photonic/photonic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mentally determ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2 --- inclusive electron v2 (without conve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2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γ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 photonic electron 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from pi0 (pion) 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070160" y="393372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calc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84360" y="3284640"/>
            <a:ext cx="360360" cy="269640"/>
          </a:xfrm>
          <a:prstGeom prst="rightArrow">
            <a:avLst>
              <a:gd name="adj1" fmla="val 50000"/>
              <a:gd name="adj2" fmla="val 33411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9280" y="1197000"/>
            <a:ext cx="6985080" cy="115236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3995640" y="3644640"/>
            <a:ext cx="2174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3348000" y="3644640"/>
            <a:ext cx="730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219640" y="3357720"/>
            <a:ext cx="287280" cy="14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582880" y="314172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FB51F-E86B-4467-9FC0-4C13BB3D88BA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06/6/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-&gt; e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706920" y="979560"/>
            <a:ext cx="647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4032000" cy="39592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902520" y="285264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meson 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4500720" y="1628640"/>
            <a:ext cx="4103640" cy="39610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150880" y="292428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 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997800" y="407664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c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995640" y="3284640"/>
            <a:ext cx="720720" cy="215640"/>
          </a:xfrm>
          <a:prstGeom prst="rightArrow">
            <a:avLst>
              <a:gd name="adj1" fmla="val 50000"/>
              <a:gd name="adj2" fmla="val 83556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BEF53-A6DF-4882-A6AA-A49816A8CAC5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06/6/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 v2 estimate from non-γ e v2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7056360" cy="42480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1772640" y="5445000"/>
            <a:ext cx="5665320" cy="6426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1" lang="zh-CN" sz="1800" spc="-1" strike="noStrike" baseline="30000">
                <a:solidFill>
                  <a:srgbClr val="000000"/>
                </a:solidFill>
                <a:latin typeface="Arial"/>
              </a:rPr>
              <a:t>２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ndf v.s. scale factor 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 result can’t decide what shape is bett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148360" y="3573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053440" y="2924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; 7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222160" y="2924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; 7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981800" y="501336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; 6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06D79-9551-45FF-81CE-C108720F9CBE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06/6/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reaction plane det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684360" y="2205000"/>
            <a:ext cx="2960640" cy="34290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2654280" y="1925640"/>
            <a:ext cx="2181240" cy="17272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1065240" y="4033800"/>
            <a:ext cx="685800" cy="762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217160" y="2357280"/>
            <a:ext cx="1970280" cy="1981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859280" y="1773360"/>
            <a:ext cx="3816360" cy="192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A new reaction plane det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position ;  1~|</a:t>
            </a: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|~2.5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resolution ; </a:t>
            </a: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cos2</a:t>
            </a: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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~ 0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(BBC ; &lt;cos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2ΔΦ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&gt; ~ 0.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materials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Pb converter + scintil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76800" y="2690640"/>
            <a:ext cx="115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HEN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muon a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97514-1F4A-42F8-BDF1-D9426F9B2A14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06/6/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lready developed in partonic phas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3344" r="0" b="0"/>
          <a:stretch/>
        </p:blipFill>
        <p:spPr>
          <a:xfrm>
            <a:off x="3924360" y="1341360"/>
            <a:ext cx="4753080" cy="48243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43720" y="1292400"/>
            <a:ext cx="4156560" cy="47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dentified hadrons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caling pT and v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umber of qu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v2 after scaling 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fall 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same cur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v2 already formed in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artonic phase for hadr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ade of 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light quarks (u,d,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artonic level 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charm quark also flow @ RHIC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43F50-37E1-4D56-AC27-FCCEF58AE615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06/6/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harm qua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148360" y="2349360"/>
            <a:ext cx="3816360" cy="28814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45160" y="1341360"/>
            <a:ext cx="6073920" cy="47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m is believed to be produced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collisions via gluon f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tal cross-section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; bin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calin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(N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col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harm propagates throug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dium created in the coll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=&gt; good probe of med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itial charm v2 might be 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=&gt; charm quark v2 due to scatte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 med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=&gt; non-zero charm v2 indic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very high dense medium cr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in the collision and quark level thermalizatio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17880" y="4040640"/>
            <a:ext cx="270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.Rev.Lett.94:082301,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PHENIX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38F92-A5D0-49CB-A987-06ADF52CBF5B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06/6/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harm quark study @ PHEN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859280" y="1052640"/>
            <a:ext cx="3745080" cy="2730240"/>
            <a:chOff x="4859280" y="1052640"/>
            <a:chExt cx="3745080" cy="2730240"/>
          </a:xfrm>
        </p:grpSpPr>
        <p:pic>
          <p:nvPicPr>
            <p:cNvPr id="157" name="" descr=""/>
            <p:cNvPicPr/>
            <p:nvPr/>
          </p:nvPicPr>
          <p:blipFill>
            <a:blip r:embed="rId1"/>
            <a:stretch/>
          </p:blipFill>
          <p:spPr>
            <a:xfrm>
              <a:off x="4859280" y="1052640"/>
              <a:ext cx="3745080" cy="273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423200">
              <a:off x="6635160" y="2441160"/>
              <a:ext cx="465480" cy="307800"/>
            </a:xfrm>
            <a:prstGeom prst="ellipse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79280" y="1341360"/>
            <a:ext cx="8496360" cy="51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ectron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cc"/>
                </a:solidFill>
                <a:latin typeface="Arial"/>
                <a:ea typeface="ＭＳ Ｐゴシック"/>
              </a:rPr>
              <a:t>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harm decay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eauty decay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litz dec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-electron dec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ton conver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on dec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mal dilept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btract photonic electrons following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cktail subtra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 – calculation of “photonic” electron background from all known sour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nverter subtra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– extraction of “photonic” electron background by special run with additional conver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brass, X = 1.7%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37800" y="306864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n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91240" y="1844640"/>
            <a:ext cx="15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n-photon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3280" y="1844640"/>
            <a:ext cx="73080" cy="576360"/>
          </a:xfrm>
          <a:custGeom>
            <a:avLst/>
            <a:gdLst>
              <a:gd name="textAreaLeft" fmla="*/ 0 w 73080"/>
              <a:gd name="textAreaRight" fmla="*/ 26280 w 7308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2637000"/>
            <a:ext cx="71280" cy="1439640"/>
          </a:xfrm>
          <a:custGeom>
            <a:avLst/>
            <a:gdLst>
              <a:gd name="textAreaLeft" fmla="*/ 0 w 71280"/>
              <a:gd name="textAreaRight" fmla="*/ 25560 w 7128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859280" y="3573360"/>
            <a:ext cx="432000" cy="338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CD2AC-6E29-4A23-B01C-92E83616CA4D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06/6/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m quarks interact with medium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708360" y="1052640"/>
            <a:ext cx="5268960" cy="54007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85760" y="1144440"/>
            <a:ext cx="3594240" cy="48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non-photonic electron R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ear suppression @ high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n more central colliso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&lt; 1.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=&gt; one of the evidence charm quarks interact with the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low pT and peripheral collision (centrality &gt; 40 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s consistent with binary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v2 measurement (pT,c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gives us additional info. of the interaction between charm and the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98031-0199-4F88-9225-9CB0F5C6E692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06/6/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lectron v2 measurement @ PHENI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5219640" y="1052640"/>
            <a:ext cx="3677760" cy="3708000"/>
            <a:chOff x="5219640" y="1052640"/>
            <a:chExt cx="3677760" cy="3708000"/>
          </a:xfrm>
        </p:grpSpPr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5219640" y="1052640"/>
              <a:ext cx="3677760" cy="37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 rot="10800000">
              <a:off x="5620680" y="3080160"/>
              <a:ext cx="1366560" cy="530640"/>
            </a:xfrm>
            <a:custGeom>
              <a:avLst/>
              <a:gdLst/>
              <a:ahLst/>
              <a:rect l="l" t="t" r="r" b="b"/>
              <a:pathLst>
                <a:path w="1488" h="528">
                  <a:moveTo>
                    <a:pt x="0" y="528"/>
                  </a:moveTo>
                  <a:cubicBezTo>
                    <a:pt x="24" y="440"/>
                    <a:pt x="48" y="352"/>
                    <a:pt x="144" y="288"/>
                  </a:cubicBezTo>
                  <a:cubicBezTo>
                    <a:pt x="240" y="224"/>
                    <a:pt x="352" y="192"/>
                    <a:pt x="576" y="144"/>
                  </a:cubicBezTo>
                  <a:cubicBezTo>
                    <a:pt x="800" y="96"/>
                    <a:pt x="1144" y="48"/>
                    <a:pt x="1488" y="0"/>
                  </a:cubicBezTo>
                </a:path>
              </a:pathLst>
            </a:custGeom>
            <a:noFill/>
            <a:ln w="25560">
              <a:solidFill>
                <a:srgbClr val="008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745680" y="33368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Arial Narrow"/>
                </a:rPr>
                <a:t>e</a:t>
              </a:r>
              <a:r>
                <a:rPr b="1" lang="en-US" sz="2000" spc="-1" strike="noStrike" baseline="30000">
                  <a:solidFill>
                    <a:srgbClr val="006600"/>
                  </a:solidFill>
                  <a:latin typeface="Arial Narrow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395280" y="1341360"/>
            <a:ext cx="426708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Electron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ＭＳ Ｐ明朝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 is measured by R.P.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R.P. --- determined with B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Tracking (pT,φ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--- DC + 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electron ID --- RICH &amp; EM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26040" y="2060640"/>
            <a:ext cx="440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dN/d(</a:t>
            </a:r>
            <a:r>
              <a:rPr b="1" lang="en-US" sz="2000" spc="-1" strike="noStrike">
                <a:solidFill>
                  <a:srgbClr val="0066ff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66ff"/>
                </a:solidFill>
                <a:latin typeface="Symbol"/>
                <a:ea typeface="Symbol"/>
              </a:rPr>
              <a:t>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) = N</a:t>
            </a:r>
            <a:r>
              <a:rPr b="1" lang="en-US" sz="2000" spc="-1" strike="noStrike" baseline="-25000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(1 + 2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ff3300"/>
                </a:solidFill>
                <a:latin typeface="Arial"/>
              </a:rPr>
              <a:t>obs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cos(2(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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403280" y="3573360"/>
            <a:ext cx="2895840" cy="27831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695240" y="6213600"/>
            <a:ext cx="26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  <a:ea typeface="ＭＳ Ｐ明朝"/>
              </a:rPr>
              <a:t>(E-p/p/sigma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distribu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851200" y="4030560"/>
            <a:ext cx="38088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35320" y="3954600"/>
            <a:ext cx="125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eID @ R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68960" y="5249880"/>
            <a:ext cx="5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B.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2469960" y="5402160"/>
            <a:ext cx="9903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2851200" y="494496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008880" y="4564080"/>
            <a:ext cx="17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After subtract B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76360" y="3573360"/>
            <a:ext cx="914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41720" y="3573360"/>
            <a:ext cx="228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412160" y="5373720"/>
            <a:ext cx="373644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g : Energy (EMcal) &amp; momentum matc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electrons identified by R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ear electron signals around  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E/p-1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003640" y="981000"/>
            <a:ext cx="3961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627280" y="4869000"/>
            <a:ext cx="0" cy="122400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03640" y="4869000"/>
            <a:ext cx="0" cy="122400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48D43-4756-444A-96F4-43B4AE7CAA9D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06/6/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on-photonic electron v2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79280" y="1125360"/>
            <a:ext cx="8569440" cy="57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 photonic electron v2 is given 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dN</a:t>
            </a:r>
            <a:r>
              <a:rPr b="0" lang="en-US" sz="2000" spc="-1" strike="noStrike" baseline="-25000">
                <a:solidFill>
                  <a:srgbClr val="6600ff"/>
                </a:solidFill>
                <a:latin typeface="Arial"/>
              </a:rPr>
              <a:t>pho.e 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/d</a:t>
            </a:r>
            <a:r>
              <a:rPr b="0" lang="en-US" sz="2000" spc="-1" strike="noStrike">
                <a:solidFill>
                  <a:srgbClr val="6600ff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N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non-pho.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/d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non-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 {(1+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v2 - 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v2</a:t>
            </a:r>
            <a:r>
              <a:rPr b="0" lang="en-US" sz="2000" spc="-1" strike="noStrike" baseline="30000">
                <a:solidFill>
                  <a:srgbClr val="6600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6600ff"/>
                </a:solidFill>
                <a:latin typeface="Arial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} /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2 --- inclusive electron 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N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--- e (non-γ)/ 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--- photonic electron v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tonic electron v2 deter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onverter method (experi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Measure inclusive electron v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with/without converter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n separate non-photonic &amp; photonic e 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ocktail method (simulat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ermine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photonic electron v2 with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00000" y="2205000"/>
            <a:ext cx="4248360" cy="432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219640" y="2060640"/>
            <a:ext cx="3924360" cy="28810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795280" y="291924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04: X=0.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79600" y="414972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Run02: X=1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96000" y="256536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(non-γ) / e (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87240" y="494172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QM05 F. Kajiha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65D93-FF27-4991-B74B-297EFF4AEAC9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06/6/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clusive electron v2 (in/out conver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476360" y="1052640"/>
            <a:ext cx="5977080" cy="3887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547640" y="5084640"/>
            <a:ext cx="612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ve electron v2 in / out conver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 between converter in /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photonic &amp; non-photonic e v2 is dif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F2308-EEE2-4948-A793-BEE59B05C03C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06/6/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14:26:35Z</dcterms:created>
  <dc:creator>shingo</dc:creator>
  <dc:description/>
  <dc:language>en-US</dc:language>
  <cp:lastModifiedBy>shingo</cp:lastModifiedBy>
  <dcterms:modified xsi:type="dcterms:W3CDTF">2006-06-05T18:21:40Z</dcterms:modified>
  <cp:revision>339</cp:revision>
  <dc:subject/>
  <dc:title>スライド 1</dc:title>
</cp:coreProperties>
</file>