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40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48.jpeg" ContentType="image/jpeg"/>
  <Override PartName="/ppt/media/image53.png" ContentType="image/png"/>
  <Override PartName="/ppt/media/image30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43.jpeg" ContentType="image/jpe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48488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445-4C5D-4CDA-85A2-0DE90544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556-8B5A-4D33-9B63-123E2091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CD8-5B94-41F8-95E3-36BD9A87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0B9-88E1-4FE6-A361-AF440355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19240" y="30240"/>
            <a:ext cx="870552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73C5-446D-4E5E-9E5B-0EB49FA1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281-3C07-4E18-AA72-4A02D9D9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702-D160-4BCC-AB2A-B7A74534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EEF-E303-40A0-9DBA-FB584765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9240" y="30240"/>
            <a:ext cx="870552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E90-F4D1-4EB1-AEB6-2A5301BF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D01-5CE8-4963-9A2A-254CB67E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D15-DED5-4A67-B08A-6CE5B252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E4E-C9AD-461D-96B5-4FB1C00D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-7560" y="6741360"/>
            <a:ext cx="9159840" cy="71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84320" y="6524280"/>
            <a:ext cx="2133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826320" y="6524280"/>
            <a:ext cx="2133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8FDF-0E63-4C35-AAE3-AADCB9BF4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10040" y="228600"/>
            <a:ext cx="5135400" cy="268200"/>
          </a:xfrm>
          <a:prstGeom prst="rect">
            <a:avLst/>
          </a:prstGeom>
          <a:solidFill>
            <a:srgbClr val="514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95560" y="457200"/>
            <a:ext cx="2814480" cy="360360"/>
          </a:xfrm>
          <a:prstGeom prst="rect">
            <a:avLst/>
          </a:prstGeom>
          <a:solidFill>
            <a:srgbClr val="2924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010040" y="457200"/>
            <a:ext cx="5133960" cy="380880"/>
          </a:xfrm>
          <a:prstGeom prst="rect">
            <a:avLst/>
          </a:prstGeom>
          <a:solidFill>
            <a:srgbClr val="777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8136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506400" y="508428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545256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 rot="10800000">
            <a:off x="688680" y="3502080"/>
            <a:ext cx="7769160" cy="71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10040" y="228600"/>
            <a:ext cx="5135400" cy="268200"/>
          </a:xfrm>
          <a:prstGeom prst="rect">
            <a:avLst/>
          </a:prstGeom>
          <a:solidFill>
            <a:srgbClr val="514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95560" y="457200"/>
            <a:ext cx="2814480" cy="360360"/>
          </a:xfrm>
          <a:prstGeom prst="rect">
            <a:avLst/>
          </a:prstGeom>
          <a:solidFill>
            <a:srgbClr val="2924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10040" y="457200"/>
            <a:ext cx="5133960" cy="380880"/>
          </a:xfrm>
          <a:prstGeom prst="rect">
            <a:avLst/>
          </a:prstGeom>
          <a:solidFill>
            <a:srgbClr val="777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6308640"/>
            <a:ext cx="8229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Nov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14440" y="5373720"/>
            <a:ext cx="27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Bookman Old Style"/>
              </a:rPr>
              <a:t>Kentaro M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Bookman Old Style"/>
              </a:rPr>
              <a:t>University of Tsuk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341360"/>
            <a:ext cx="8070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  <a:ea typeface="HGP明朝B"/>
              </a:rPr>
              <a:t>“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  <a:ea typeface="HGP明朝B"/>
              </a:rPr>
              <a:t>electron / photon flo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  <a:ea typeface="HGP明朝B"/>
              </a:rPr>
              <a:t>Elliptic flow measurement of direct pho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  <a:ea typeface="HGP明朝B"/>
              </a:rPr>
              <a:t>in √s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Arial"/>
                <a:ea typeface="HGP明朝B"/>
              </a:rPr>
              <a:t>NN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  <a:ea typeface="HGP明朝B"/>
              </a:rPr>
              <a:t>=200GeV Au+Au collisions at RHIC-PHE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6200" y="4221000"/>
            <a:ext cx="6924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ff0000"/>
                </a:solidFill>
                <a:latin typeface="Arial"/>
                <a:ea typeface="HGP明朝B"/>
              </a:rPr>
              <a:t>International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ff0000"/>
                </a:solidFill>
                <a:latin typeface="Arial"/>
                <a:ea typeface="HGP明朝B"/>
              </a:rPr>
              <a:t>On Hadron Physics and Property of High Baryon Density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3339"/>
          <a:stretch/>
        </p:blipFill>
        <p:spPr>
          <a:xfrm>
            <a:off x="7524720" y="5157720"/>
            <a:ext cx="1405080" cy="1152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6093000"/>
            <a:ext cx="863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5661000"/>
            <a:ext cx="2050920" cy="793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0" t="84947" r="0" b="0"/>
          <a:stretch/>
        </p:blipFill>
        <p:spPr>
          <a:xfrm>
            <a:off x="7451640" y="6308640"/>
            <a:ext cx="14050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708120" y="28584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-4. Nuclear modification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4465800" cy="28814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50920" y="3716280"/>
            <a:ext cx="518472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Neutral mesons receive strong suppres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is not suppressed in mid to hig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&gt; Direct photon have original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fferent from hadron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Strong suppression of neutral mesons mak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possible the clear extraction of direct pho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076720" y="3141720"/>
            <a:ext cx="3740400" cy="3368520"/>
            <a:chOff x="5076720" y="3141720"/>
            <a:chExt cx="3740400" cy="3368520"/>
          </a:xfrm>
        </p:grpSpPr>
        <p:pic>
          <p:nvPicPr>
            <p:cNvPr id="381" name="" descr=""/>
            <p:cNvPicPr/>
            <p:nvPr/>
          </p:nvPicPr>
          <p:blipFill>
            <a:blip r:embed="rId2"/>
            <a:stretch/>
          </p:blipFill>
          <p:spPr>
            <a:xfrm>
              <a:off x="5724360" y="3573360"/>
              <a:ext cx="2995920" cy="29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567040" y="3141720"/>
              <a:ext cx="32500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Double ratio :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HGP明朝B"/>
                </a:rPr>
                <a:t>inclusiv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/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HGP明朝B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076720" y="5229360"/>
              <a:ext cx="5749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148360" y="1628640"/>
                <a:ext cx="31604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l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381-E112-4A73-9BBD-4743010B656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24000" y="1484280"/>
            <a:ext cx="8424720" cy="50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9720" y="285840"/>
            <a:ext cx="367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3-1. Direct photon v</a:t>
            </a:r>
            <a:r>
              <a:rPr b="0" lang="en-US" sz="2800" spc="-1" strike="noStrike" u="sng" baseline="-25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</a:t>
            </a: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5840" y="1557360"/>
            <a:ext cx="73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We attempt to measure the azimuthal anisotropy of direct pho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4320" y="285444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two initial probes com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047600" y="3213000"/>
            <a:ext cx="4197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+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              --- reflect the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+  direct photon --- reflect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221440" y="3286080"/>
            <a:ext cx="72720" cy="503280"/>
          </a:xfrm>
          <a:custGeom>
            <a:avLst/>
            <a:gdLst>
              <a:gd name="textAreaLeft" fmla="*/ 0 w 72720"/>
              <a:gd name="textAreaRight" fmla="*/ 26280 w 7272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367960" y="33577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of particle emission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1280" y="1052640"/>
            <a:ext cx="15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motivation 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B613-0491-4EDC-A8C9-AB2E8F77FE7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79280" y="981000"/>
            <a:ext cx="4608720" cy="50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49720" y="285840"/>
            <a:ext cx="367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3-2. Direct photon v</a:t>
            </a:r>
            <a:r>
              <a:rPr b="0" lang="en-US" sz="2800" spc="-1" strike="noStrike" u="sng" baseline="-25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</a:t>
            </a: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971640" y="4001400"/>
            <a:ext cx="3471840" cy="2262960"/>
            <a:chOff x="971640" y="4001400"/>
            <a:chExt cx="3471840" cy="2262960"/>
          </a:xfrm>
        </p:grpSpPr>
        <p:sp>
          <p:nvSpPr>
            <p:cNvPr id="396" name=""/>
            <p:cNvSpPr/>
            <p:nvPr/>
          </p:nvSpPr>
          <p:spPr>
            <a:xfrm>
              <a:off x="2247840" y="4329000"/>
              <a:ext cx="640800" cy="1572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1585400">
              <a:off x="1963440" y="4698000"/>
              <a:ext cx="497880" cy="277560"/>
            </a:xfrm>
            <a:custGeom>
              <a:avLst/>
              <a:gdLst>
                <a:gd name="textAreaLeft" fmla="*/ 62280 w 497880"/>
                <a:gd name="textAreaRight" fmla="*/ 435960 w 497880"/>
                <a:gd name="textAreaTop" fmla="*/ 69480 h 277560"/>
                <a:gd name="textAreaBottom" fmla="*/ 208440 h 27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5558600">
              <a:off x="2262600" y="4609080"/>
              <a:ext cx="647280" cy="178920"/>
            </a:xfrm>
            <a:custGeom>
              <a:avLst/>
              <a:gdLst>
                <a:gd name="textAreaLeft" fmla="*/ 80640 w 647280"/>
                <a:gd name="textAreaRight" fmla="*/ 566640 w 647280"/>
                <a:gd name="textAreaTop" fmla="*/ 44640 h 178920"/>
                <a:gd name="textAreaBottom" fmla="*/ 134280 h 17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589200">
              <a:off x="2639520" y="5160960"/>
              <a:ext cx="498240" cy="279000"/>
            </a:xfrm>
            <a:custGeom>
              <a:avLst/>
              <a:gdLst>
                <a:gd name="textAreaLeft" fmla="*/ 62280 w 498240"/>
                <a:gd name="textAreaRight" fmla="*/ 435960 w 498240"/>
                <a:gd name="textAreaTop" fmla="*/ 69840 h 279000"/>
                <a:gd name="textAreaBottom" fmla="*/ 209520 h 27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4521600">
              <a:off x="2227320" y="5488920"/>
              <a:ext cx="647280" cy="178920"/>
            </a:xfrm>
            <a:custGeom>
              <a:avLst/>
              <a:gdLst>
                <a:gd name="textAreaLeft" fmla="*/ 80640 w 647280"/>
                <a:gd name="textAreaRight" fmla="*/ 566640 w 647280"/>
                <a:gd name="textAreaTop" fmla="*/ 44640 h 178920"/>
                <a:gd name="textAreaBottom" fmla="*/ 134280 h 17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 rot="9351000">
              <a:off x="1642680" y="4929120"/>
              <a:ext cx="534600" cy="137880"/>
            </a:xfrm>
            <a:custGeom>
              <a:avLst/>
              <a:gdLst>
                <a:gd name="textAreaLeft" fmla="*/ 83520 w 534600"/>
                <a:gd name="textAreaRight" fmla="*/ 468000 w 534600"/>
                <a:gd name="textAreaTop" fmla="*/ 34200 h 137880"/>
                <a:gd name="textAreaBottom" fmla="*/ 10332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 rot="5439600">
              <a:off x="2169000" y="5824440"/>
              <a:ext cx="693360" cy="107640"/>
            </a:xfrm>
            <a:custGeom>
              <a:avLst/>
              <a:gdLst>
                <a:gd name="textAreaLeft" fmla="*/ 108360 w 693360"/>
                <a:gd name="textAreaRight" fmla="*/ 606960 w 693360"/>
                <a:gd name="textAreaTop" fmla="*/ 26640 h 107640"/>
                <a:gd name="textAreaBottom" fmla="*/ 80640 h 1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 rot="20870400">
              <a:off x="2888640" y="5114160"/>
              <a:ext cx="534600" cy="139320"/>
            </a:xfrm>
            <a:custGeom>
              <a:avLst/>
              <a:gdLst>
                <a:gd name="textAreaLeft" fmla="*/ 83520 w 534600"/>
                <a:gd name="textAreaRight" fmla="*/ 468000 w 534600"/>
                <a:gd name="textAreaTop" fmla="*/ 34560 h 139320"/>
                <a:gd name="textAreaBottom" fmla="*/ 104400 h 13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 rot="16859400">
              <a:off x="2311200" y="4298400"/>
              <a:ext cx="693360" cy="105840"/>
            </a:xfrm>
            <a:custGeom>
              <a:avLst/>
              <a:gdLst>
                <a:gd name="textAreaLeft" fmla="*/ 108360 w 693360"/>
                <a:gd name="textAreaRight" fmla="*/ 606960 w 693360"/>
                <a:gd name="textAreaTop" fmla="*/ 26280 h 105840"/>
                <a:gd name="textAreaBottom" fmla="*/ 79560 h 10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46880" y="4527360"/>
              <a:ext cx="159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annihi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compton scatter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71640" y="5805360"/>
              <a:ext cx="135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Bremsstrahl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(energy los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53800" y="1052640"/>
            <a:ext cx="450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is equal to 0 ? or no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39640" y="1838880"/>
            <a:ext cx="1710720" cy="1820160"/>
            <a:chOff x="539640" y="1838880"/>
            <a:chExt cx="1710720" cy="1820160"/>
          </a:xfrm>
        </p:grpSpPr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 rot="19997400">
              <a:off x="1426320" y="1988640"/>
              <a:ext cx="7686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 rot="1821000">
              <a:off x="658080" y="2984760"/>
              <a:ext cx="768600" cy="51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539640" y="2618640"/>
              <a:ext cx="118440" cy="156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39960" y="2618640"/>
              <a:ext cx="118440" cy="156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31120" y="2565360"/>
              <a:ext cx="294480" cy="262080"/>
            </a:xfrm>
            <a:prstGeom prst="irregularSeal1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8080" y="2670480"/>
              <a:ext cx="471600" cy="51840"/>
            </a:xfrm>
            <a:prstGeom prst="rightArrow">
              <a:avLst>
                <a:gd name="adj1" fmla="val 50000"/>
                <a:gd name="adj2" fmla="val 22743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0800000">
              <a:off x="1426320" y="2670480"/>
              <a:ext cx="471240" cy="51840"/>
            </a:xfrm>
            <a:prstGeom prst="rightArrow">
              <a:avLst>
                <a:gd name="adj1" fmla="val 50000"/>
                <a:gd name="adj2" fmla="val 22725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48120" y="2302920"/>
              <a:ext cx="236880" cy="223200"/>
            </a:xfrm>
            <a:custGeom>
              <a:avLst/>
              <a:gdLst/>
              <a:ahLst/>
              <a:rect l="l" t="t" r="r" b="b"/>
              <a:pathLst>
                <a:path w="652" h="599">
                  <a:moveTo>
                    <a:pt x="0" y="599"/>
                  </a:moveTo>
                  <a:lnTo>
                    <a:pt x="9" y="426"/>
                  </a:lnTo>
                  <a:lnTo>
                    <a:pt x="19" y="334"/>
                  </a:lnTo>
                  <a:lnTo>
                    <a:pt x="64" y="234"/>
                  </a:lnTo>
                  <a:lnTo>
                    <a:pt x="165" y="115"/>
                  </a:lnTo>
                  <a:lnTo>
                    <a:pt x="137" y="252"/>
                  </a:lnTo>
                  <a:lnTo>
                    <a:pt x="156" y="343"/>
                  </a:lnTo>
                  <a:lnTo>
                    <a:pt x="229" y="407"/>
                  </a:lnTo>
                  <a:lnTo>
                    <a:pt x="302" y="444"/>
                  </a:lnTo>
                  <a:lnTo>
                    <a:pt x="403" y="426"/>
                  </a:lnTo>
                  <a:lnTo>
                    <a:pt x="485" y="371"/>
                  </a:lnTo>
                  <a:lnTo>
                    <a:pt x="531" y="298"/>
                  </a:lnTo>
                  <a:lnTo>
                    <a:pt x="549" y="215"/>
                  </a:lnTo>
                  <a:lnTo>
                    <a:pt x="494" y="124"/>
                  </a:lnTo>
                  <a:lnTo>
                    <a:pt x="412" y="87"/>
                  </a:lnTo>
                  <a:lnTo>
                    <a:pt x="329" y="78"/>
                  </a:lnTo>
                  <a:lnTo>
                    <a:pt x="229" y="97"/>
                  </a:lnTo>
                  <a:lnTo>
                    <a:pt x="137" y="151"/>
                  </a:lnTo>
                  <a:lnTo>
                    <a:pt x="247" y="60"/>
                  </a:lnTo>
                  <a:lnTo>
                    <a:pt x="384" y="5"/>
                  </a:ln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1131120" y="2826720"/>
              <a:ext cx="235440" cy="261000"/>
            </a:xfrm>
            <a:custGeom>
              <a:avLst/>
              <a:gdLst/>
              <a:ahLst/>
              <a:rect l="l" t="t" r="r" b="b"/>
              <a:pathLst>
                <a:path w="652" h="599">
                  <a:moveTo>
                    <a:pt x="0" y="599"/>
                  </a:moveTo>
                  <a:lnTo>
                    <a:pt x="9" y="426"/>
                  </a:lnTo>
                  <a:lnTo>
                    <a:pt x="19" y="334"/>
                  </a:lnTo>
                  <a:lnTo>
                    <a:pt x="64" y="234"/>
                  </a:lnTo>
                  <a:lnTo>
                    <a:pt x="165" y="115"/>
                  </a:lnTo>
                  <a:lnTo>
                    <a:pt x="137" y="252"/>
                  </a:lnTo>
                  <a:lnTo>
                    <a:pt x="156" y="343"/>
                  </a:lnTo>
                  <a:lnTo>
                    <a:pt x="229" y="407"/>
                  </a:lnTo>
                  <a:lnTo>
                    <a:pt x="302" y="444"/>
                  </a:lnTo>
                  <a:lnTo>
                    <a:pt x="403" y="426"/>
                  </a:lnTo>
                  <a:lnTo>
                    <a:pt x="485" y="371"/>
                  </a:lnTo>
                  <a:lnTo>
                    <a:pt x="531" y="298"/>
                  </a:lnTo>
                  <a:lnTo>
                    <a:pt x="549" y="215"/>
                  </a:lnTo>
                  <a:lnTo>
                    <a:pt x="494" y="124"/>
                  </a:lnTo>
                  <a:lnTo>
                    <a:pt x="412" y="87"/>
                  </a:lnTo>
                  <a:lnTo>
                    <a:pt x="329" y="78"/>
                  </a:lnTo>
                  <a:lnTo>
                    <a:pt x="229" y="97"/>
                  </a:lnTo>
                  <a:lnTo>
                    <a:pt x="137" y="151"/>
                  </a:lnTo>
                  <a:lnTo>
                    <a:pt x="247" y="60"/>
                  </a:lnTo>
                  <a:lnTo>
                    <a:pt x="384" y="5"/>
                  </a:ln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81800" y="155736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HGP明朝B"/>
              </a:rPr>
              <a:t>prompt pho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1773360"/>
            <a:ext cx="79200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633760" y="1557360"/>
            <a:ext cx="75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HGP明朝B"/>
              </a:rPr>
              <a:t>v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HGP明朝B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706920" y="1988640"/>
            <a:ext cx="2062080" cy="1368360"/>
            <a:chOff x="3706920" y="1988640"/>
            <a:chExt cx="2062080" cy="1368360"/>
          </a:xfrm>
        </p:grpSpPr>
        <p:sp>
          <p:nvSpPr>
            <p:cNvPr id="422" name=""/>
            <p:cNvSpPr/>
            <p:nvPr/>
          </p:nvSpPr>
          <p:spPr>
            <a:xfrm>
              <a:off x="3706920" y="2673000"/>
              <a:ext cx="20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4749840" y="19886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4613040" y="2379240"/>
              <a:ext cx="272880" cy="566640"/>
              <a:chOff x="4613040" y="2379240"/>
              <a:chExt cx="272880" cy="566640"/>
            </a:xfrm>
          </p:grpSpPr>
          <p:sp>
            <p:nvSpPr>
              <p:cNvPr id="425" name=""/>
              <p:cNvSpPr/>
              <p:nvPr/>
            </p:nvSpPr>
            <p:spPr>
              <a:xfrm>
                <a:off x="4613040" y="2379600"/>
                <a:ext cx="272160" cy="5648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613040" y="2649600"/>
                <a:ext cx="272880" cy="29628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613040" y="2650680"/>
                <a:ext cx="271800" cy="6300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613040" y="2379240"/>
                <a:ext cx="272160" cy="564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 rot="16200000">
              <a:off x="4631040" y="2041920"/>
              <a:ext cx="249120" cy="339480"/>
            </a:xfrm>
            <a:custGeom>
              <a:avLst/>
              <a:gdLst>
                <a:gd name="textAreaLeft" fmla="*/ 38880 w 249120"/>
                <a:gd name="textAreaRight" fmla="*/ 209160 w 249120"/>
                <a:gd name="textAreaTop" fmla="*/ 85320 h 339480"/>
                <a:gd name="textAreaBottom" fmla="*/ 254160 h 3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5400000">
              <a:off x="4630680" y="2970720"/>
              <a:ext cx="249120" cy="339480"/>
            </a:xfrm>
            <a:custGeom>
              <a:avLst/>
              <a:gdLst>
                <a:gd name="textAreaLeft" fmla="*/ 38880 w 249120"/>
                <a:gd name="textAreaRight" fmla="*/ 209160 w 249120"/>
                <a:gd name="textAreaTop" fmla="*/ 85320 h 339480"/>
                <a:gd name="textAreaBottom" fmla="*/ 254160 h 3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8596800">
              <a:off x="4168080" y="2798280"/>
              <a:ext cx="356760" cy="330480"/>
            </a:xfrm>
            <a:custGeom>
              <a:avLst/>
              <a:gdLst>
                <a:gd name="textAreaLeft" fmla="*/ 55800 w 356760"/>
                <a:gd name="textAreaRight" fmla="*/ 299880 w 356760"/>
                <a:gd name="textAreaTop" fmla="*/ 83160 h 330480"/>
                <a:gd name="textAreaBottom" fmla="*/ 247320 h 33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0800000">
              <a:off x="3857400" y="2501280"/>
              <a:ext cx="560160" cy="330120"/>
            </a:xfrm>
            <a:custGeom>
              <a:avLst/>
              <a:gdLst>
                <a:gd name="textAreaLeft" fmla="*/ 87480 w 560160"/>
                <a:gd name="textAreaRight" fmla="*/ 470520 w 560160"/>
                <a:gd name="textAreaTop" fmla="*/ 82800 h 330120"/>
                <a:gd name="textAreaBottom" fmla="*/ 24732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3749600">
              <a:off x="4204800" y="2139480"/>
              <a:ext cx="349200" cy="339480"/>
            </a:xfrm>
            <a:custGeom>
              <a:avLst/>
              <a:gdLst>
                <a:gd name="textAreaLeft" fmla="*/ 54360 w 349200"/>
                <a:gd name="textAreaRight" fmla="*/ 293400 w 349200"/>
                <a:gd name="textAreaTop" fmla="*/ 85320 h 339480"/>
                <a:gd name="textAreaBottom" fmla="*/ 254160 h 3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2495400">
              <a:off x="4964040" y="2818800"/>
              <a:ext cx="358560" cy="330120"/>
            </a:xfrm>
            <a:custGeom>
              <a:avLst/>
              <a:gdLst>
                <a:gd name="textAreaLeft" fmla="*/ 55800 w 358560"/>
                <a:gd name="textAreaRight" fmla="*/ 301320 w 358560"/>
                <a:gd name="textAreaTop" fmla="*/ 82800 h 330120"/>
                <a:gd name="textAreaBottom" fmla="*/ 24732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9687800">
              <a:off x="4963680" y="2185560"/>
              <a:ext cx="358560" cy="328680"/>
            </a:xfrm>
            <a:custGeom>
              <a:avLst/>
              <a:gdLst>
                <a:gd name="textAreaLeft" fmla="*/ 55800 w 358560"/>
                <a:gd name="textAreaRight" fmla="*/ 301320 w 358560"/>
                <a:gd name="textAreaTop" fmla="*/ 82440 h 328680"/>
                <a:gd name="textAreaBottom" fmla="*/ 24624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65560" y="2506320"/>
              <a:ext cx="558360" cy="330120"/>
            </a:xfrm>
            <a:custGeom>
              <a:avLst/>
              <a:gdLst>
                <a:gd name="textAreaLeft" fmla="*/ 87120 w 558360"/>
                <a:gd name="textAreaRight" fmla="*/ 469080 w 558360"/>
                <a:gd name="textAreaTop" fmla="*/ 82800 h 330120"/>
                <a:gd name="textAreaBottom" fmla="*/ 24732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38160" y="15573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thermal pho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291280" y="1773360"/>
            <a:ext cx="7920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89400" y="1557360"/>
            <a:ext cx="82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v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 &gt;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1800" y="386064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  <a:ea typeface="HGP明朝B"/>
              </a:rPr>
              <a:t>jet fragment pho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276720" y="4292640"/>
            <a:ext cx="431640" cy="21600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714480" y="4005360"/>
            <a:ext cx="82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  <a:ea typeface="HGP明朝B"/>
              </a:rPr>
              <a:t>v</a:t>
            </a:r>
            <a:r>
              <a:rPr b="0" lang="en-US" sz="1800" spc="-1" strike="noStrike" baseline="-25000">
                <a:solidFill>
                  <a:srgbClr val="ff33cc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  <a:ea typeface="HGP明朝B"/>
              </a:rPr>
              <a:t> &gt;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138120" y="6021360"/>
            <a:ext cx="82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  <a:ea typeface="HGP明朝B"/>
              </a:rPr>
              <a:t>v</a:t>
            </a:r>
            <a:r>
              <a:rPr b="0" lang="en-US" sz="1800" spc="-1" strike="noStrike" baseline="-25000">
                <a:solidFill>
                  <a:srgbClr val="ff33cc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  <a:ea typeface="HGP明朝B"/>
              </a:rPr>
              <a:t> &lt;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27280" y="5950080"/>
            <a:ext cx="504720" cy="14436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5148360" y="3284640"/>
            <a:ext cx="3598920" cy="27194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5157000" y="5932440"/>
            <a:ext cx="35244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mal photon (HG+QGP): 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. Chatterje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cl-th/05110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702-F229-4A82-9EC5-A4877BB7E9A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830160" y="285840"/>
            <a:ext cx="75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4-1. How to measure hadron decay phot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7840" y="907920"/>
            <a:ext cx="3384360" cy="1800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4880" y="90792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inclusive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0920" y="1268280"/>
            <a:ext cx="1655640" cy="136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2720" y="1339920"/>
            <a:ext cx="156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hadron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back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HGP明朝B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78200" y="1268280"/>
            <a:ext cx="1512720" cy="1368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981080" y="162864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direct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3672000" cy="29527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643280" y="981000"/>
            <a:ext cx="4321440" cy="2735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5134320" y="364500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invariant mass distribution of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924360" y="4078440"/>
            <a:ext cx="4968720" cy="1843920"/>
            <a:chOff x="3924360" y="4078440"/>
            <a:chExt cx="4968720" cy="1843920"/>
          </a:xfrm>
        </p:grpSpPr>
        <p:pic>
          <p:nvPicPr>
            <p:cNvPr id="458" name="" descr=""/>
            <p:cNvPicPr/>
            <p:nvPr/>
          </p:nvPicPr>
          <p:blipFill>
            <a:blip r:embed="rId3"/>
            <a:stretch/>
          </p:blipFill>
          <p:spPr>
            <a:xfrm>
              <a:off x="3924360" y="4078440"/>
              <a:ext cx="49687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3995640" y="4151160"/>
              <a:ext cx="720720" cy="36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1.0~3.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653080" y="4151160"/>
              <a:ext cx="792000" cy="36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3.0~5.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37440" y="4151160"/>
              <a:ext cx="792000" cy="36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5.0~10.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87520" y="5516640"/>
              <a:ext cx="3042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distribution at each 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HGP明朝B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b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689040" y="602136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hadron decay conta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56320" y="2708280"/>
            <a:ext cx="43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hadron decay back ground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435640" y="1268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651640" y="1268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995640" y="5661000"/>
                <a:ext cx="4896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335-0901-4A7A-9A5C-49492C1AC10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806760" y="285840"/>
            <a:ext cx="6633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4-2. How to measure direct photon v</a:t>
            </a:r>
            <a:r>
              <a:rPr b="0" lang="en-US" sz="2800" spc="-1" strike="noStrike" u="sng" baseline="-25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</a:t>
            </a: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09840" y="981000"/>
            <a:ext cx="2306520" cy="360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482920" y="981000"/>
            <a:ext cx="22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inclusive photon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75280" y="981000"/>
            <a:ext cx="331308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148360" y="981000"/>
            <a:ext cx="33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hadron decay back ground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9280" y="981000"/>
            <a:ext cx="1800360" cy="360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7560" y="981000"/>
            <a:ext cx="175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direct photon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HGP明朝B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0920" y="98100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17800" y="981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951600" y="134136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(with their we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88640" y="4149720"/>
            <a:ext cx="4478400" cy="2242440"/>
            <a:chOff x="188640" y="4149720"/>
            <a:chExt cx="4478400" cy="2242440"/>
          </a:xfrm>
        </p:grpSpPr>
        <p:sp>
          <p:nvSpPr>
            <p:cNvPr id="479" name=""/>
            <p:cNvSpPr/>
            <p:nvPr/>
          </p:nvSpPr>
          <p:spPr>
            <a:xfrm>
              <a:off x="1127520" y="6021360"/>
              <a:ext cx="202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inclusive photon 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  <a:ea typeface="HGP明朝B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0" name="" descr=""/>
            <p:cNvPicPr/>
            <p:nvPr/>
          </p:nvPicPr>
          <p:blipFill>
            <a:blip r:embed="rId1"/>
            <a:srcRect l="7999" t="0" r="45327" b="68004"/>
            <a:stretch/>
          </p:blipFill>
          <p:spPr>
            <a:xfrm>
              <a:off x="396720" y="4149720"/>
              <a:ext cx="3888000" cy="19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3638880" y="5950080"/>
              <a:ext cx="102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  <a:ea typeface="HGP明朝B"/>
                </a:rPr>
                <a:t>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[GeV/c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88640" y="41497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HGP明朝B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186840" y="1989000"/>
            <a:ext cx="4478400" cy="2063160"/>
            <a:chOff x="186840" y="1989000"/>
            <a:chExt cx="4478400" cy="2063160"/>
          </a:xfrm>
        </p:grpSpPr>
        <p:pic>
          <p:nvPicPr>
            <p:cNvPr id="484" name="" descr=""/>
            <p:cNvPicPr/>
            <p:nvPr/>
          </p:nvPicPr>
          <p:blipFill>
            <a:blip r:embed="rId2"/>
            <a:srcRect l="7999" t="0" r="46680" b="69773"/>
            <a:stretch/>
          </p:blipFill>
          <p:spPr>
            <a:xfrm>
              <a:off x="395280" y="1989000"/>
              <a:ext cx="37450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1489320" y="3644640"/>
              <a:ext cx="642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  <a:ea typeface="HGP明朝B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HGP明朝B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37080" y="3715920"/>
              <a:ext cx="102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  <a:ea typeface="HGP明朝B"/>
                </a:rPr>
                <a:t>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[GeV/c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6840" y="198900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HGP明朝B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4859280" y="4192560"/>
            <a:ext cx="3529080" cy="2665080"/>
            <a:chOff x="4859280" y="4192560"/>
            <a:chExt cx="3529080" cy="266508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rcRect l="6672" t="0" r="59999" b="69542"/>
            <a:stretch/>
          </p:blipFill>
          <p:spPr>
            <a:xfrm>
              <a:off x="4859280" y="4192560"/>
              <a:ext cx="3529080" cy="186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4"/>
            <a:srcRect l="7999" t="89434" r="61318" b="-3617"/>
            <a:stretch/>
          </p:blipFill>
          <p:spPr>
            <a:xfrm>
              <a:off x="4995720" y="5989320"/>
              <a:ext cx="3374280" cy="86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1" name=""/>
          <p:cNvSpPr/>
          <p:nvPr/>
        </p:nvSpPr>
        <p:spPr>
          <a:xfrm>
            <a:off x="7751520" y="6165720"/>
            <a:ext cx="11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[GeV/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717440" y="371628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ouble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332000" y="1413000"/>
                <a:ext cx="4680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di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di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G</m:t>
                        </m:r>
                      </m:sup>
                    </m:sSup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G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588000" y="3213000"/>
                <a:ext cx="2016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oto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hoton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4643280" y="2060640"/>
                <a:ext cx="4105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di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oton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n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hoton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oton</m:t>
                                    </m:r>
                                  </m:sub>
                                </m:sSub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D98-C3E6-4107-83AC-AC26738894E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rcRect l="50003" t="49324" r="0" b="0"/>
          <a:stretch/>
        </p:blipFill>
        <p:spPr>
          <a:xfrm>
            <a:off x="0" y="1700280"/>
            <a:ext cx="6769080" cy="46292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2627280" y="1773360"/>
            <a:ext cx="417672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52360" y="1052640"/>
            <a:ext cx="6337440" cy="57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53480" y="285840"/>
            <a:ext cx="65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4-3. back ground and inclusive ph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627280" y="1989000"/>
            <a:ext cx="3816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768400" y="2028960"/>
            <a:ext cx="3518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centrality 00 to 9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= 200 GeV Au+Au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708000" y="3357720"/>
            <a:ext cx="71640" cy="57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55880" y="2924280"/>
            <a:ext cx="261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hadron decay photon v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36600" y="3429000"/>
            <a:ext cx="210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HGP明朝B"/>
              </a:rPr>
              <a:t>inclusive photon v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  <a:ea typeface="HGP明朝B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851280" y="3860640"/>
            <a:ext cx="433440" cy="4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5076360" y="4468680"/>
            <a:ext cx="1295640" cy="544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373800" y="3749760"/>
            <a:ext cx="25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subtracted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(PHENIX preliminar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17400" y="5157720"/>
            <a:ext cx="2687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HGP明朝B"/>
              </a:rPr>
              <a:t>subtracted pho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HGP明朝B"/>
              </a:rPr>
              <a:t>(previous analysis resul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41640" y="1125360"/>
            <a:ext cx="6171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compared  hadron decay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and inclusive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659640" y="4468680"/>
                <a:ext cx="2016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134-6AFA-4C21-BA30-C6F33FF9257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79280" y="907920"/>
            <a:ext cx="35290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8160" y="285840"/>
            <a:ext cx="48196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5-1. result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direct photon v</a:t>
            </a:r>
            <a:r>
              <a:rPr b="0" lang="en-US" sz="2400" spc="-1" strike="noStrike" u="sng" baseline="-25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</a:t>
            </a:r>
            <a:r>
              <a:rPr b="0" lang="en-US" sz="20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095640" cy="11509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3924360" y="836640"/>
            <a:ext cx="46800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108000" y="3213000"/>
            <a:ext cx="8821800" cy="2808360"/>
            <a:chOff x="108000" y="3213000"/>
            <a:chExt cx="8821800" cy="2808360"/>
          </a:xfrm>
        </p:grpSpPr>
        <p:pic>
          <p:nvPicPr>
            <p:cNvPr id="516" name="" descr=""/>
            <p:cNvPicPr/>
            <p:nvPr/>
          </p:nvPicPr>
          <p:blipFill>
            <a:blip r:embed="rId3"/>
            <a:stretch/>
          </p:blipFill>
          <p:spPr>
            <a:xfrm>
              <a:off x="108000" y="3213000"/>
              <a:ext cx="2952720" cy="27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4"/>
            <a:stretch/>
          </p:blipFill>
          <p:spPr>
            <a:xfrm>
              <a:off x="3060720" y="3213000"/>
              <a:ext cx="2952720" cy="28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5"/>
            <a:stretch/>
          </p:blipFill>
          <p:spPr>
            <a:xfrm>
              <a:off x="6013440" y="3213000"/>
              <a:ext cx="2916360" cy="28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260280" y="981000"/>
            <a:ext cx="34164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estim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by back ground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subtr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from inclusive photon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45640" y="6093000"/>
            <a:ext cx="7508160" cy="4057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They are the result of direct photon 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HGP明朝B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 analysis in Au+Au coll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BEE-B2A7-4324-94F9-33CB42CA043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79280" y="907920"/>
            <a:ext cx="6840720" cy="50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537080" cy="3240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68160" y="285840"/>
            <a:ext cx="48196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5-2. result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direct photon v</a:t>
            </a:r>
            <a:r>
              <a:rPr b="0" lang="en-US" sz="2400" spc="-1" strike="noStrike" u="sng" baseline="-25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</a:t>
            </a:r>
            <a:r>
              <a:rPr b="0" lang="en-US" sz="20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482560" y="393372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248360" cy="33112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255960" y="981000"/>
            <a:ext cx="674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We compared to another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analysis and modifica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4440" y="4581360"/>
            <a:ext cx="773352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seems to zero within error bar in hig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&gt; It is consistent to the result of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 Direct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may be non zero in 3 to 4 GeV/c 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&gt; Thermal photon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have smaller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tha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in hig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have another value to pr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in hig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&gt; This analysis suggest the another information from hadr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1692360" y="3284280"/>
            <a:ext cx="503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70880" y="335772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HGP明朝B"/>
              </a:rPr>
              <a:t>line : total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50920" y="4653000"/>
            <a:ext cx="7921440" cy="19429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470-5426-480D-A3BB-DFE7C63C570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79280" y="907920"/>
            <a:ext cx="6337440" cy="50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69760" y="285840"/>
            <a:ext cx="71046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5-3. result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non-photonic electron v</a:t>
            </a:r>
            <a:r>
              <a:rPr b="0" lang="en-US" sz="2400" spc="-1" strike="noStrike" u="sng" baseline="-25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and R</a:t>
            </a:r>
            <a:r>
              <a:rPr b="0" lang="en-US" sz="2400" spc="-1" strike="noStrike" u="sng" baseline="-25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AA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</a:t>
            </a:r>
            <a:r>
              <a:rPr b="0" lang="en-US" sz="20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55240" y="981000"/>
            <a:ext cx="6063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We compared to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and RAA at non-photonic elect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716360" cy="48974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494280" y="2492280"/>
            <a:ext cx="3208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-&gt; suppress in the hig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-&gt; decrease in the hig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54880" y="3500280"/>
            <a:ext cx="41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These figures indicate the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structure to hadron or photon analys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6F2-FC67-421F-A20E-AFDC746ED9D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50920" y="981000"/>
            <a:ext cx="5759280" cy="79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27760" y="285840"/>
            <a:ext cx="29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6-1. Next step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219640" y="2637000"/>
            <a:ext cx="3598920" cy="27190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320040" y="1052640"/>
            <a:ext cx="5551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need more accur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to do discussion as the initial probe of coll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0880" y="19162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 more statistic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 another metho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29840" y="6021360"/>
            <a:ext cx="8312760" cy="4057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Now, we are interested in internal conversion method to see th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in middl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158880" y="213372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theoretical curv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thermal pho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583960" y="5229360"/>
            <a:ext cx="33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rmal photon (HG+QGP): 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. Chatterjee 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ucl-th/05110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8C9-5D2E-47DC-9F1D-BCF416AF10B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6360" y="285840"/>
            <a:ext cx="18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0. out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0680" y="1628640"/>
            <a:ext cx="662436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HGP明朝B"/>
              </a:rPr>
              <a:t>1. intro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 elliptic flow (hadron, elect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HGP明朝B"/>
              </a:rPr>
              <a:t>2. direct photon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 direct photon analysis as the initial probe of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HGP明朝B"/>
              </a:rPr>
              <a:t>3. direct photon v</a:t>
            </a:r>
            <a:r>
              <a:rPr b="1" lang="en-US" sz="1800" spc="-1" strike="noStrike" u="sng" baseline="-25000">
                <a:solidFill>
                  <a:srgbClr val="000000"/>
                </a:solidFill>
                <a:uFillTx/>
                <a:latin typeface="Arial"/>
                <a:ea typeface="HGP明朝B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 Why do we analyze the direct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HGP明朝B"/>
              </a:rPr>
              <a:t>4.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 How to measu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HGP明朝B"/>
              </a:rPr>
              <a:t>5.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 The result of direct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at PHE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HGP明朝B"/>
              </a:rPr>
              <a:t>6.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 internal conversio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HGP明朝B"/>
              </a:rPr>
              <a:t>7.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DDB-DD8A-4CC9-A621-622A519CC9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693000" y="285840"/>
            <a:ext cx="56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6-2. internal conversion metho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5435640" y="1341360"/>
            <a:ext cx="3390840" cy="49719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539640" y="5186520"/>
            <a:ext cx="4454640" cy="12668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684360" y="5256360"/>
                <a:ext cx="42480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rec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c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sSub>
                          <m:e>
                            <m:r>
                              <m:t xml:space="preserve">∗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rect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  <m:sSub>
                          <m:e>
                            <m:r>
                              <m:t xml:space="preserve">∗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c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η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re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η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50" name=""/>
          <p:cNvGrpSpPr/>
          <p:nvPr/>
        </p:nvGrpSpPr>
        <p:grpSpPr>
          <a:xfrm>
            <a:off x="254160" y="981000"/>
            <a:ext cx="2319120" cy="1584720"/>
            <a:chOff x="254160" y="981000"/>
            <a:chExt cx="2319120" cy="1584720"/>
          </a:xfrm>
        </p:grpSpPr>
        <p:sp>
          <p:nvSpPr>
            <p:cNvPr id="551" name=""/>
            <p:cNvSpPr/>
            <p:nvPr/>
          </p:nvSpPr>
          <p:spPr>
            <a:xfrm>
              <a:off x="282240" y="1012680"/>
              <a:ext cx="2241360" cy="147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2" name="" descr=""/>
            <p:cNvPicPr/>
            <p:nvPr/>
          </p:nvPicPr>
          <p:blipFill>
            <a:blip r:embed="rId2"/>
            <a:stretch/>
          </p:blipFill>
          <p:spPr>
            <a:xfrm>
              <a:off x="914040" y="1598400"/>
              <a:ext cx="8172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254160" y="110772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Compt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8480" y="14238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215720" y="1296720"/>
              <a:ext cx="44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</a:t>
              </a:r>
              <a:r>
                <a:rPr b="1" lang="en-US" sz="2400" spc="-1" strike="noStrike" baseline="30000">
                  <a:solidFill>
                    <a:srgbClr val="cc3300"/>
                  </a:solidFill>
                  <a:latin typeface="Symbol"/>
                  <a:ea typeface="Symbol"/>
                </a:rPr>
                <a:t>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26400" y="213516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Comic Sans M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93080" y="21668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1725480" y="1265040"/>
              <a:ext cx="33624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1725480" y="1455120"/>
              <a:ext cx="489960" cy="15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22120" y="981000"/>
              <a:ext cx="4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194560" y="1233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179280" y="2637000"/>
            <a:ext cx="3672000" cy="25272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1506600" y="2879640"/>
            <a:ext cx="496800" cy="2016360"/>
          </a:xfrm>
          <a:prstGeom prst="rect">
            <a:avLst/>
          </a:prstGeom>
          <a:solidFill>
            <a:srgbClr val="ffff66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52600" y="2879640"/>
            <a:ext cx="147600" cy="2033640"/>
          </a:xfrm>
          <a:prstGeom prst="rect">
            <a:avLst/>
          </a:prstGeom>
          <a:solidFill>
            <a:srgbClr val="99ff66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006560" y="2879640"/>
            <a:ext cx="239760" cy="2021040"/>
          </a:xfrm>
          <a:prstGeom prst="rect">
            <a:avLst/>
          </a:prstGeom>
          <a:solidFill>
            <a:srgbClr val="99663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0360" y="4151160"/>
            <a:ext cx="473040" cy="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582480" y="4800600"/>
            <a:ext cx="1113120" cy="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246320" y="2879640"/>
            <a:ext cx="284040" cy="2019240"/>
          </a:xfrm>
          <a:prstGeom prst="rect">
            <a:avLst/>
          </a:prstGeom>
          <a:solidFill>
            <a:srgbClr val="ff00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06240" y="4464000"/>
            <a:ext cx="7808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rot="5400000">
            <a:off x="267480" y="2977920"/>
            <a:ext cx="720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0-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 rot="5400000">
            <a:off x="765720" y="3049560"/>
            <a:ext cx="720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90-1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 rot="5400000">
            <a:off x="1402560" y="3141360"/>
            <a:ext cx="720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mic Sans MS"/>
              </a:rPr>
              <a:t>140-200 M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 rot="5400000">
            <a:off x="1025640" y="3074040"/>
            <a:ext cx="722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00-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95640" y="5157720"/>
            <a:ext cx="936720" cy="64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"/>
          <p:cNvCxnSpPr>
            <a:stCxn id="562" idx="3"/>
            <a:endCxn id="574" idx="0"/>
          </p:cNvCxnSpPr>
          <p:nvPr/>
        </p:nvCxnSpPr>
        <p:spPr>
          <a:xfrm>
            <a:off x="3851280" y="3900600"/>
            <a:ext cx="613440" cy="1257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6" name=""/>
          <p:cNvSpPr/>
          <p:nvPr/>
        </p:nvSpPr>
        <p:spPr>
          <a:xfrm>
            <a:off x="1763640" y="5084640"/>
            <a:ext cx="1081080" cy="151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"/>
          <p:cNvCxnSpPr>
            <a:stCxn id="576" idx="0"/>
            <a:endCxn id="547" idx="1"/>
          </p:cNvCxnSpPr>
          <p:nvPr/>
        </p:nvCxnSpPr>
        <p:spPr>
          <a:xfrm flipH="1" flipV="1" rot="5400000">
            <a:off x="3241440" y="2890440"/>
            <a:ext cx="1257840" cy="3131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2612880" y="981000"/>
            <a:ext cx="32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Any source of rea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produ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virtua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with very low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C97-BEE4-4409-94C8-B6CCDA2FE73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427640" y="4005360"/>
            <a:ext cx="453708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08720" y="2997360"/>
            <a:ext cx="3456000" cy="79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08720" y="1916280"/>
            <a:ext cx="3456000" cy="86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28584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6-3. invariant yield of direct phot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235400" cy="564372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4500720" y="907920"/>
            <a:ext cx="4149720" cy="79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646160" y="981000"/>
            <a:ext cx="38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invariant yiel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compared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HGP明朝B"/>
              </a:rPr>
              <a:t>the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+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HGP明朝B"/>
              </a:rPr>
              <a:t>pQ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cur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583600" y="198900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L.E.Gordon and W.Vogel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54880" y="234936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Phys. Rev. D48, 3136 (19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"/>
          <p:cNvCxnSpPr>
            <a:stCxn id="580" idx="1"/>
            <a:endCxn id="585" idx="2"/>
          </p:cNvCxnSpPr>
          <p:nvPr/>
        </p:nvCxnSpPr>
        <p:spPr>
          <a:xfrm flipH="1" rot="10800000">
            <a:off x="5507640" y="1621800"/>
            <a:ext cx="1065960" cy="1772280"/>
          </a:xfrm>
          <a:prstGeom prst="curvedConnector5">
            <a:avLst>
              <a:gd name="adj1" fmla="val -21452"/>
              <a:gd name="adj2" fmla="val 45022"/>
              <a:gd name="adj3" fmla="val -214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9" name=""/>
          <p:cNvSpPr/>
          <p:nvPr/>
        </p:nvSpPr>
        <p:spPr>
          <a:xfrm>
            <a:off x="5654880" y="3068640"/>
            <a:ext cx="31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D. d’Enterria, D. Perresoun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nucl-th / 05030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7093080" y="1628280"/>
            <a:ext cx="215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2987280" y="1268280"/>
            <a:ext cx="1513080" cy="27370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0" y="4076640"/>
            <a:ext cx="42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ata consistent with thermal + pQ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448880" y="5084640"/>
            <a:ext cx="4448160" cy="680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If we estimate the direct photon 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HGP明朝B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this method, is the result improved 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96000" y="623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374880" y="60213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it continu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D2A-41B7-410E-A472-3F7A3F4EFFC4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416160" y="28584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7. summary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95480" y="1125360"/>
            <a:ext cx="739080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Azimuthal Anisotropy of direct photon are estimated in PHEN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is equal to zero within error bar in hig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maybe have centrality depen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In the future, this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are measured at more accuracy in inter-mediat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It is possibility to see the thermal photon effect to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We are determining the in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conversion method as a next st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460692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E86-BD3E-4F82-B81E-19B893F435B7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472320" y="28584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Ex. Back up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6F1-F4FD-47C6-BD8A-9F9BF9CA88FE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372360" y="907920"/>
            <a:ext cx="2592360" cy="223380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1728720" cy="13478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5292720" y="4292640"/>
            <a:ext cx="1657440" cy="131436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530280" y="285840"/>
            <a:ext cx="31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4-1. RHIC-PHENIX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0080" y="3429000"/>
            <a:ext cx="282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lead scintillator (Pb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energy resolu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8.1 %/ E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[GeV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512600" y="3429000"/>
            <a:ext cx="294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lead glass (PbG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energy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76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5.95 %/ E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[GeV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5280" y="90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520" y="907920"/>
            <a:ext cx="335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3300"/>
                </a:solidFill>
                <a:uFillTx/>
                <a:latin typeface="Arial"/>
                <a:ea typeface="HGP明朝B"/>
              </a:rPr>
              <a:t>R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The Relativistic Heavy 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Collider (RHIC) at Brookha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National Laboratory is a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class scientific research fac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that began operation in 200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following 10 year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development and constru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492360" y="907920"/>
            <a:ext cx="2808360" cy="2233800"/>
            <a:chOff x="3492360" y="907920"/>
            <a:chExt cx="2808360" cy="2233800"/>
          </a:xfrm>
        </p:grpSpPr>
        <p:grpSp>
          <p:nvGrpSpPr>
            <p:cNvPr id="609" name=""/>
            <p:cNvGrpSpPr/>
            <p:nvPr/>
          </p:nvGrpSpPr>
          <p:grpSpPr>
            <a:xfrm>
              <a:off x="3492360" y="907920"/>
              <a:ext cx="2808360" cy="2233800"/>
              <a:chOff x="3492360" y="907920"/>
              <a:chExt cx="2808360" cy="2233800"/>
            </a:xfrm>
          </p:grpSpPr>
          <p:pic>
            <p:nvPicPr>
              <p:cNvPr id="6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360" y="907920"/>
                <a:ext cx="2808360" cy="223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543840" y="976320"/>
                <a:ext cx="935280" cy="40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4272120" y="1382400"/>
                <a:ext cx="208800" cy="405360"/>
              </a:xfrm>
              <a:prstGeom prst="ellipse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 flipH="1">
              <a:off x="5076360" y="2910960"/>
              <a:ext cx="323640" cy="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4680000" y="2549520"/>
              <a:ext cx="251640" cy="2635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16360" y="2316240"/>
              <a:ext cx="288000" cy="105480"/>
            </a:xfrm>
            <a:custGeom>
              <a:avLst/>
              <a:gdLst/>
              <a:ahLst/>
              <a:rect l="l" t="t" r="r" b="b"/>
              <a:pathLst>
                <a:path w="363" h="73">
                  <a:moveTo>
                    <a:pt x="0" y="73"/>
                  </a:moveTo>
                  <a:lnTo>
                    <a:pt x="102" y="0"/>
                  </a:lnTo>
                  <a:lnTo>
                    <a:pt x="233" y="0"/>
                  </a:lnTo>
                  <a:lnTo>
                    <a:pt x="363" y="72"/>
                  </a:lnTo>
                </a:path>
              </a:pathLst>
            </a:custGeom>
            <a:noFill/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 flipV="1">
              <a:off x="4860720" y="1893600"/>
              <a:ext cx="71280" cy="3283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08360" y="1052640"/>
              <a:ext cx="728640" cy="555840"/>
            </a:xfrm>
            <a:custGeom>
              <a:avLst/>
              <a:gdLst/>
              <a:ahLst/>
              <a:rect l="l" t="t" r="r" b="b"/>
              <a:pathLst>
                <a:path w="918" h="384">
                  <a:moveTo>
                    <a:pt x="0" y="82"/>
                  </a:moveTo>
                  <a:lnTo>
                    <a:pt x="264" y="9"/>
                  </a:lnTo>
                  <a:lnTo>
                    <a:pt x="491" y="0"/>
                  </a:lnTo>
                  <a:lnTo>
                    <a:pt x="622" y="26"/>
                  </a:lnTo>
                  <a:lnTo>
                    <a:pt x="726" y="70"/>
                  </a:lnTo>
                  <a:lnTo>
                    <a:pt x="831" y="113"/>
                  </a:lnTo>
                  <a:lnTo>
                    <a:pt x="918" y="218"/>
                  </a:lnTo>
                  <a:lnTo>
                    <a:pt x="901" y="297"/>
                  </a:lnTo>
                  <a:lnTo>
                    <a:pt x="779" y="384"/>
                  </a:lnTo>
                </a:path>
              </a:pathLst>
            </a:custGeom>
            <a:noFill/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600120" y="436572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|</a:t>
            </a:r>
            <a:r>
              <a:rPr b="0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| &lt; 0.375   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=90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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6"/>
          <a:stretch/>
        </p:blipFill>
        <p:spPr>
          <a:xfrm>
            <a:off x="6877080" y="4653000"/>
            <a:ext cx="2016000" cy="187308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7"/>
          <a:stretch/>
        </p:blipFill>
        <p:spPr>
          <a:xfrm>
            <a:off x="2340000" y="5229360"/>
            <a:ext cx="2663640" cy="98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D2F-1BA1-4CE8-BBA1-39ADDB4A8F99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730080" y="28584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Ex. result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“subtracted” photon ~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250920" y="5292720"/>
            <a:ext cx="4968720" cy="122400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785440" cy="44658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2193840" y="148428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657840" y="148428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586200" y="371628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193840" y="371628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FEE-F077-4441-9062-FA671BF02C9F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113440" cy="28083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8785440" cy="285264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686160" y="285840"/>
            <a:ext cx="46854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Ex. result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direct photon v</a:t>
            </a:r>
            <a:r>
              <a:rPr b="0" lang="en-US" sz="2400" spc="-1" strike="noStrike" u="sng" baseline="-25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</a:t>
            </a:r>
            <a:r>
              <a:rPr b="0" lang="en-US" sz="20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2879640" cy="11048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1186200" y="587700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39280" y="587700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914560" y="299736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018920" y="587700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ACB-478F-4E6E-AB46-98454910407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981000"/>
            <a:ext cx="4753080" cy="4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0560" y="28584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1-1. initial probe of colli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99640" y="1557000"/>
            <a:ext cx="3311640" cy="2310120"/>
            <a:chOff x="899640" y="1557000"/>
            <a:chExt cx="3311640" cy="2310120"/>
          </a:xfrm>
        </p:grpSpPr>
        <p:sp>
          <p:nvSpPr>
            <p:cNvPr id="106" name=""/>
            <p:cNvSpPr/>
            <p:nvPr/>
          </p:nvSpPr>
          <p:spPr>
            <a:xfrm rot="10800000">
              <a:off x="3373920" y="1557000"/>
              <a:ext cx="364320" cy="29124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493640" y="1862640"/>
              <a:ext cx="632520" cy="8650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800360" y="1862640"/>
              <a:ext cx="622080" cy="852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94760" y="2044800"/>
              <a:ext cx="20865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46160" y="2950920"/>
              <a:ext cx="146592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0000" y="1859400"/>
              <a:ext cx="3311280" cy="1680840"/>
            </a:xfrm>
            <a:prstGeom prst="parallelogram">
              <a:avLst>
                <a:gd name="adj" fmla="val 73091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899640" y="3176640"/>
              <a:ext cx="265320" cy="3654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947600" y="1862640"/>
              <a:ext cx="768600" cy="10540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 rot="10800000">
              <a:off x="1915200" y="2814480"/>
              <a:ext cx="257400" cy="672480"/>
            </a:xfrm>
            <a:custGeom>
              <a:avLst/>
              <a:gdLst/>
              <a:ahLst/>
              <a:rect l="l" t="t" r="r" b="b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777320" y="2761920"/>
              <a:ext cx="567720" cy="773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02240" y="3560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1960" y="1784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793600" y="1703880"/>
              <a:ext cx="1050480" cy="942840"/>
              <a:chOff x="2793600" y="1703880"/>
              <a:chExt cx="1050480" cy="94284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2793600" y="1703880"/>
                <a:ext cx="1050480" cy="942840"/>
                <a:chOff x="2793600" y="1703880"/>
                <a:chExt cx="1050480" cy="9428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817000" y="1704600"/>
                  <a:ext cx="1004400" cy="92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817000" y="1703880"/>
                  <a:ext cx="1004400" cy="9255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793600" y="2080440"/>
                  <a:ext cx="1050480" cy="566280"/>
                </a:xfrm>
                <a:custGeom>
                  <a:avLst/>
                  <a:gdLst/>
                  <a:ahLst/>
                  <a:rect l="l" t="t" r="r" b="b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817000" y="2103840"/>
                  <a:ext cx="1002240" cy="24228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2811960" y="1833120"/>
                <a:ext cx="257760" cy="67428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140560" y="1859400"/>
              <a:ext cx="8596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55200" y="2044800"/>
              <a:ext cx="6159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0840" y="2224800"/>
              <a:ext cx="12207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746800" y="2156040"/>
              <a:ext cx="332280" cy="4554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406960"/>
              <a:ext cx="208872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781640" y="1859400"/>
              <a:ext cx="1220760" cy="1672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95160" y="2588760"/>
              <a:ext cx="20865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250360" y="2230200"/>
              <a:ext cx="500760" cy="928080"/>
              <a:chOff x="2250360" y="2230200"/>
              <a:chExt cx="500760" cy="928080"/>
            </a:xfrm>
          </p:grpSpPr>
          <p:sp>
            <p:nvSpPr>
              <p:cNvPr id="133" name=""/>
              <p:cNvSpPr/>
              <p:nvPr/>
            </p:nvSpPr>
            <p:spPr>
              <a:xfrm>
                <a:off x="2250360" y="2230920"/>
                <a:ext cx="499680" cy="9248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250360" y="2673000"/>
                <a:ext cx="500760" cy="48528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50360" y="2674800"/>
                <a:ext cx="498600" cy="10368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50360" y="2230200"/>
                <a:ext cx="499680" cy="924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flipH="1">
              <a:off x="2677680" y="2279520"/>
              <a:ext cx="916200" cy="1255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383920" y="2350080"/>
              <a:ext cx="863640" cy="11815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88760" y="2769120"/>
              <a:ext cx="95904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37600" y="1762200"/>
              <a:ext cx="159840" cy="21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071440" y="2745720"/>
              <a:ext cx="580320" cy="7948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05360" y="2759760"/>
              <a:ext cx="141480" cy="1944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83160" y="2769120"/>
              <a:ext cx="48852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154880" y="2694600"/>
              <a:ext cx="1040040" cy="942480"/>
              <a:chOff x="1154880" y="2694600"/>
              <a:chExt cx="1040040" cy="942480"/>
            </a:xfrm>
          </p:grpSpPr>
          <p:sp>
            <p:nvSpPr>
              <p:cNvPr id="145" name=""/>
              <p:cNvSpPr/>
              <p:nvPr/>
            </p:nvSpPr>
            <p:spPr>
              <a:xfrm>
                <a:off x="1169280" y="2695680"/>
                <a:ext cx="1003680" cy="924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66760" y="2694600"/>
                <a:ext cx="1003320" cy="924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154880" y="3078000"/>
                <a:ext cx="1040040" cy="559080"/>
              </a:xfrm>
              <a:custGeom>
                <a:avLst/>
                <a:gdLst/>
                <a:ahLst/>
                <a:rect l="l" t="t" r="r" b="b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 rot="10800000">
                <a:off x="1915920" y="2807640"/>
                <a:ext cx="258480" cy="67392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91800" y="2802960"/>
                <a:ext cx="116640" cy="68616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69280" y="3168360"/>
                <a:ext cx="807840" cy="167760"/>
              </a:xfrm>
              <a:custGeom>
                <a:avLst/>
                <a:gdLst/>
                <a:ahLst/>
                <a:rect l="l" t="t" r="r" b="b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H="1">
              <a:off x="1956240" y="2590200"/>
              <a:ext cx="228960" cy="315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4360" y="2952360"/>
              <a:ext cx="12934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50760" y="3310920"/>
              <a:ext cx="1297440" cy="180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29960" y="3130920"/>
              <a:ext cx="13683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777680" y="2941920"/>
              <a:ext cx="435600" cy="5986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493640" y="3342960"/>
              <a:ext cx="141480" cy="197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202040" y="3300480"/>
              <a:ext cx="169920" cy="234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40320" y="3540600"/>
              <a:ext cx="203976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44160" y="3348000"/>
              <a:ext cx="366840" cy="29124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911600" y="2392200"/>
              <a:ext cx="1200600" cy="321480"/>
              <a:chOff x="1911600" y="2392200"/>
              <a:chExt cx="1200600" cy="321480"/>
            </a:xfrm>
          </p:grpSpPr>
          <p:sp>
            <p:nvSpPr>
              <p:cNvPr id="161" name=""/>
              <p:cNvSpPr/>
              <p:nvPr/>
            </p:nvSpPr>
            <p:spPr>
              <a:xfrm flipV="1">
                <a:off x="2557080" y="2454120"/>
                <a:ext cx="72720" cy="961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2688120" y="2392200"/>
                <a:ext cx="187560" cy="145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2771640" y="2550960"/>
                <a:ext cx="294120" cy="712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771640" y="2663640"/>
                <a:ext cx="340560" cy="205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2028960" y="2417760"/>
                <a:ext cx="305640" cy="1166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1933560" y="2563200"/>
                <a:ext cx="331560" cy="712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1911600" y="2709000"/>
                <a:ext cx="294480" cy="46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2181960" y="2659680"/>
                <a:ext cx="211320" cy="205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>
                <a:off x="2205720" y="2541960"/>
                <a:ext cx="187560" cy="507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2393280" y="2475720"/>
                <a:ext cx="69480" cy="745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629800" y="2534400"/>
                <a:ext cx="128160" cy="41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618640" y="2634840"/>
                <a:ext cx="210960" cy="12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2360520" y="2613960"/>
                <a:ext cx="117720" cy="331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931400" y="2805120"/>
              <a:ext cx="1153440" cy="322200"/>
              <a:chOff x="1931400" y="2805120"/>
              <a:chExt cx="1153440" cy="32220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2358360" y="2932200"/>
                <a:ext cx="77760" cy="1263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121120" y="2981160"/>
                <a:ext cx="187560" cy="146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1931400" y="2898000"/>
                <a:ext cx="294120" cy="712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002320" y="2835000"/>
                <a:ext cx="224640" cy="14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62920" y="2985840"/>
                <a:ext cx="305280" cy="116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731680" y="2885760"/>
                <a:ext cx="331200" cy="712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90720" y="2805120"/>
                <a:ext cx="294120" cy="46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604600" y="2838960"/>
                <a:ext cx="210960" cy="205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02800" y="2926440"/>
                <a:ext cx="187560" cy="50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34040" y="2968920"/>
                <a:ext cx="69480" cy="74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239200" y="2943360"/>
                <a:ext cx="128160" cy="41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2168640" y="2872440"/>
                <a:ext cx="210960" cy="12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517840" y="2872440"/>
                <a:ext cx="117720" cy="331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068120" y="3312720"/>
              <a:ext cx="3384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88200" y="2224800"/>
              <a:ext cx="2556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797280" y="1859400"/>
              <a:ext cx="103320" cy="142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37080" y="3542400"/>
              <a:ext cx="42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4797360"/>
            <a:ext cx="4825800" cy="792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8680" y="5661000"/>
            <a:ext cx="38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zimuthal angle of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zimuthal angle of reaction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03640" y="5084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200" y="98100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P明朝B"/>
              </a:rPr>
              <a:t>Elliptic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36000" y="98100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 the probe of early st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9600" y="4149720"/>
            <a:ext cx="4239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Elliptic flow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) is defi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the 2nd coefficient of Fourier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219640" y="3860640"/>
            <a:ext cx="3730680" cy="2768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648120" y="6237360"/>
            <a:ext cx="8013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7640" y="4724280"/>
            <a:ext cx="1890720" cy="12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rmon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 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85080" y="4221000"/>
            <a:ext cx="0" cy="304920"/>
          </a:xfrm>
          <a:prstGeom prst="line">
            <a:avLst/>
          </a:prstGeom>
          <a:ln w="12600">
            <a:solidFill>
              <a:srgbClr val="ff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4360" y="4221000"/>
            <a:ext cx="2880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4437000"/>
            <a:ext cx="2880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93040" y="1341360"/>
            <a:ext cx="400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The collision participation part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early stage has spatial anisotro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Pressure gradient is largest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shortest direction of the ellipso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Emission particles reflect initial spa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anisotropy transf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3FE-8C88-4E46-9619-7E5B11D07E7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50920" y="981000"/>
            <a:ext cx="5545080" cy="50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4520" y="28584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1-2. particles from colli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79280" y="1846440"/>
            <a:ext cx="4246560" cy="3600360"/>
            <a:chOff x="179280" y="1846440"/>
            <a:chExt cx="4246560" cy="3600360"/>
          </a:xfrm>
        </p:grpSpPr>
        <p:sp>
          <p:nvSpPr>
            <p:cNvPr id="208" name=""/>
            <p:cNvSpPr/>
            <p:nvPr/>
          </p:nvSpPr>
          <p:spPr>
            <a:xfrm>
              <a:off x="179280" y="1895760"/>
              <a:ext cx="4246560" cy="3551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797040" y="2527560"/>
            <a:ext cx="3193920" cy="289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7040" y="2527560"/>
                      <a:ext cx="3193920" cy="28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>
              <a:off x="257040" y="1846440"/>
              <a:ext cx="41166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pace-time Evolution of A+A colli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3"/>
            <a:srcRect l="0" t="0" r="51528" b="0"/>
            <a:stretch/>
          </p:blipFill>
          <p:spPr>
            <a:xfrm>
              <a:off x="579600" y="4803840"/>
              <a:ext cx="15372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4"/>
            <a:srcRect l="15153" t="0" r="0" b="0"/>
            <a:stretch/>
          </p:blipFill>
          <p:spPr>
            <a:xfrm>
              <a:off x="552600" y="4322880"/>
              <a:ext cx="23148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5"/>
            <a:srcRect l="0" t="14816" r="54053" b="18517"/>
            <a:stretch/>
          </p:blipFill>
          <p:spPr>
            <a:xfrm>
              <a:off x="552600" y="3902400"/>
              <a:ext cx="2127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6"/>
            <a:srcRect l="16831" t="0" r="0" b="0"/>
            <a:stretch/>
          </p:blipFill>
          <p:spPr>
            <a:xfrm>
              <a:off x="471600" y="3238560"/>
              <a:ext cx="376200" cy="6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 flipH="1" flipV="1">
              <a:off x="1355400" y="2419200"/>
              <a:ext cx="979560" cy="1940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2417400" y="2339640"/>
              <a:ext cx="41400" cy="3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624040" y="2385720"/>
              <a:ext cx="61920" cy="32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955960" y="2385720"/>
              <a:ext cx="84240" cy="32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52680" y="21384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40320" y="2211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35160" y="2248200"/>
              <a:ext cx="18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55600" y="2278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14520" y="2135160"/>
              <a:ext cx="342720" cy="337320"/>
            </a:xfrm>
            <a:prstGeom prst="rect">
              <a:avLst/>
            </a:prstGeom>
            <a:solidFill>
              <a:srgbClr val="0000ff"/>
            </a:solidFill>
            <a:ln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7600" y="20624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89000" y="4578480"/>
              <a:ext cx="2532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71440" y="2293920"/>
              <a:ext cx="0" cy="279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37680" y="457848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ace (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721800" y="220788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30520" y="5015160"/>
              <a:ext cx="23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10240" y="49960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25800" y="2135160"/>
              <a:ext cx="10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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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</a:t>
              </a:r>
              <a:r>
                <a:rPr b="1" lang="zh-CN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　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041640" y="2433600"/>
              <a:ext cx="439920" cy="86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2084400" y="2433600"/>
              <a:ext cx="317520" cy="1725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01800" y="2062440"/>
              <a:ext cx="60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Jet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2126880" y="2433960"/>
              <a:ext cx="82440" cy="65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042640" y="2479320"/>
              <a:ext cx="166680" cy="60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7"/>
            <a:srcRect l="0" t="0" r="19449" b="0"/>
            <a:stretch/>
          </p:blipFill>
          <p:spPr>
            <a:xfrm>
              <a:off x="217440" y="2433960"/>
              <a:ext cx="7048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flipH="1" flipV="1">
              <a:off x="1987560" y="2573640"/>
              <a:ext cx="249120" cy="65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36680" y="2573640"/>
              <a:ext cx="0" cy="65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82600" y="2667240"/>
              <a:ext cx="2552760" cy="1552320"/>
            </a:xfrm>
            <a:custGeom>
              <a:avLst/>
              <a:gdLst/>
              <a:ahLst/>
              <a:rect l="l" t="t" r="r" b="b"/>
              <a:pathLst>
                <a:path w="2952" h="1598">
                  <a:moveTo>
                    <a:pt x="0" y="66"/>
                  </a:moveTo>
                  <a:lnTo>
                    <a:pt x="450" y="624"/>
                  </a:lnTo>
                  <a:lnTo>
                    <a:pt x="594" y="798"/>
                  </a:lnTo>
                  <a:lnTo>
                    <a:pt x="773" y="1017"/>
                  </a:lnTo>
                  <a:lnTo>
                    <a:pt x="939" y="1212"/>
                  </a:lnTo>
                  <a:lnTo>
                    <a:pt x="1157" y="1454"/>
                  </a:lnTo>
                  <a:lnTo>
                    <a:pt x="1254" y="1544"/>
                  </a:lnTo>
                  <a:lnTo>
                    <a:pt x="1357" y="1587"/>
                  </a:lnTo>
                  <a:lnTo>
                    <a:pt x="1405" y="1598"/>
                  </a:lnTo>
                  <a:lnTo>
                    <a:pt x="1460" y="1598"/>
                  </a:lnTo>
                  <a:lnTo>
                    <a:pt x="1554" y="1576"/>
                  </a:lnTo>
                  <a:lnTo>
                    <a:pt x="1642" y="1517"/>
                  </a:lnTo>
                  <a:lnTo>
                    <a:pt x="1745" y="1420"/>
                  </a:lnTo>
                  <a:lnTo>
                    <a:pt x="1896" y="1255"/>
                  </a:lnTo>
                  <a:lnTo>
                    <a:pt x="2050" y="1077"/>
                  </a:lnTo>
                  <a:lnTo>
                    <a:pt x="2199" y="893"/>
                  </a:lnTo>
                  <a:lnTo>
                    <a:pt x="2952" y="0"/>
                  </a:lnTo>
                </a:path>
              </a:pathLst>
            </a:custGeom>
            <a:noFill/>
            <a:ln w="2232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36600" y="2649600"/>
              <a:ext cx="2416320" cy="1173240"/>
            </a:xfrm>
            <a:custGeom>
              <a:avLst/>
              <a:gdLst/>
              <a:ahLst/>
              <a:rect l="l" t="t" r="r" b="b"/>
              <a:pathLst>
                <a:path w="2794" h="1208">
                  <a:moveTo>
                    <a:pt x="0" y="81"/>
                  </a:moveTo>
                  <a:lnTo>
                    <a:pt x="371" y="474"/>
                  </a:lnTo>
                  <a:lnTo>
                    <a:pt x="522" y="638"/>
                  </a:lnTo>
                  <a:lnTo>
                    <a:pt x="700" y="803"/>
                  </a:lnTo>
                  <a:lnTo>
                    <a:pt x="878" y="967"/>
                  </a:lnTo>
                  <a:lnTo>
                    <a:pt x="1066" y="1116"/>
                  </a:lnTo>
                  <a:lnTo>
                    <a:pt x="1170" y="1168"/>
                  </a:lnTo>
                  <a:lnTo>
                    <a:pt x="1275" y="1200"/>
                  </a:lnTo>
                  <a:lnTo>
                    <a:pt x="1322" y="1208"/>
                  </a:lnTo>
                  <a:lnTo>
                    <a:pt x="1379" y="1208"/>
                  </a:lnTo>
                  <a:lnTo>
                    <a:pt x="1473" y="1192"/>
                  </a:lnTo>
                  <a:lnTo>
                    <a:pt x="1562" y="1148"/>
                  </a:lnTo>
                  <a:lnTo>
                    <a:pt x="1667" y="1076"/>
                  </a:lnTo>
                  <a:lnTo>
                    <a:pt x="1792" y="975"/>
                  </a:lnTo>
                  <a:lnTo>
                    <a:pt x="1938" y="851"/>
                  </a:lnTo>
                  <a:lnTo>
                    <a:pt x="2090" y="711"/>
                  </a:lnTo>
                  <a:lnTo>
                    <a:pt x="2428" y="390"/>
                  </a:lnTo>
                  <a:lnTo>
                    <a:pt x="2632" y="186"/>
                  </a:lnTo>
                  <a:lnTo>
                    <a:pt x="2794" y="0"/>
                  </a:lnTo>
                </a:path>
              </a:pathLst>
            </a:custGeom>
            <a:noFill/>
            <a:ln w="2232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16160" y="2562480"/>
              <a:ext cx="2284200" cy="819000"/>
            </a:xfrm>
            <a:custGeom>
              <a:avLst/>
              <a:gdLst/>
              <a:ahLst/>
              <a:rect l="l" t="t" r="r" b="b"/>
              <a:pathLst>
                <a:path w="2643" h="844">
                  <a:moveTo>
                    <a:pt x="0" y="82"/>
                  </a:moveTo>
                  <a:lnTo>
                    <a:pt x="315" y="385"/>
                  </a:lnTo>
                  <a:lnTo>
                    <a:pt x="475" y="505"/>
                  </a:lnTo>
                  <a:lnTo>
                    <a:pt x="637" y="607"/>
                  </a:lnTo>
                  <a:lnTo>
                    <a:pt x="807" y="702"/>
                  </a:lnTo>
                  <a:lnTo>
                    <a:pt x="987" y="791"/>
                  </a:lnTo>
                  <a:lnTo>
                    <a:pt x="1086" y="821"/>
                  </a:lnTo>
                  <a:lnTo>
                    <a:pt x="1187" y="841"/>
                  </a:lnTo>
                  <a:lnTo>
                    <a:pt x="1232" y="844"/>
                  </a:lnTo>
                  <a:lnTo>
                    <a:pt x="1286" y="844"/>
                  </a:lnTo>
                  <a:lnTo>
                    <a:pt x="1377" y="835"/>
                  </a:lnTo>
                  <a:lnTo>
                    <a:pt x="1462" y="810"/>
                  </a:lnTo>
                  <a:lnTo>
                    <a:pt x="1561" y="766"/>
                  </a:lnTo>
                  <a:lnTo>
                    <a:pt x="1681" y="709"/>
                  </a:lnTo>
                  <a:lnTo>
                    <a:pt x="1820" y="637"/>
                  </a:lnTo>
                  <a:lnTo>
                    <a:pt x="1966" y="554"/>
                  </a:lnTo>
                  <a:lnTo>
                    <a:pt x="2283" y="318"/>
                  </a:lnTo>
                  <a:lnTo>
                    <a:pt x="2493" y="140"/>
                  </a:lnTo>
                  <a:lnTo>
                    <a:pt x="2643" y="0"/>
                  </a:lnTo>
                </a:path>
              </a:pathLst>
            </a:custGeom>
            <a:noFill/>
            <a:ln w="2232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33520" y="2508480"/>
              <a:ext cx="2077920" cy="271440"/>
            </a:xfrm>
            <a:custGeom>
              <a:avLst/>
              <a:gdLst/>
              <a:ahLst/>
              <a:rect l="l" t="t" r="r" b="b"/>
              <a:pathLst>
                <a:path w="2438" h="415">
                  <a:moveTo>
                    <a:pt x="0" y="60"/>
                  </a:moveTo>
                  <a:lnTo>
                    <a:pt x="286" y="201"/>
                  </a:lnTo>
                  <a:lnTo>
                    <a:pt x="417" y="254"/>
                  </a:lnTo>
                  <a:lnTo>
                    <a:pt x="579" y="305"/>
                  </a:lnTo>
                  <a:lnTo>
                    <a:pt x="736" y="349"/>
                  </a:lnTo>
                  <a:lnTo>
                    <a:pt x="900" y="391"/>
                  </a:lnTo>
                  <a:lnTo>
                    <a:pt x="989" y="404"/>
                  </a:lnTo>
                  <a:lnTo>
                    <a:pt x="1080" y="414"/>
                  </a:lnTo>
                  <a:lnTo>
                    <a:pt x="1122" y="415"/>
                  </a:lnTo>
                  <a:lnTo>
                    <a:pt x="1171" y="415"/>
                  </a:lnTo>
                  <a:lnTo>
                    <a:pt x="1253" y="411"/>
                  </a:lnTo>
                  <a:lnTo>
                    <a:pt x="1331" y="399"/>
                  </a:lnTo>
                  <a:lnTo>
                    <a:pt x="1421" y="379"/>
                  </a:lnTo>
                  <a:lnTo>
                    <a:pt x="1532" y="352"/>
                  </a:lnTo>
                  <a:lnTo>
                    <a:pt x="1657" y="318"/>
                  </a:lnTo>
                  <a:lnTo>
                    <a:pt x="1790" y="281"/>
                  </a:lnTo>
                  <a:lnTo>
                    <a:pt x="2085" y="177"/>
                  </a:lnTo>
                  <a:lnTo>
                    <a:pt x="2300" y="96"/>
                  </a:lnTo>
                  <a:lnTo>
                    <a:pt x="2438" y="0"/>
                  </a:lnTo>
                </a:path>
              </a:pathLst>
            </a:custGeom>
            <a:noFill/>
            <a:ln w="2232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1960" y="4151520"/>
              <a:ext cx="61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0.6fm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0080" y="3767400"/>
              <a:ext cx="51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4fm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2320" y="266400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16fm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0080" y="3281400"/>
              <a:ext cx="51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8fm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10560" y="2847960"/>
              <a:ext cx="119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hadron gas</a:t>
              </a: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52680" y="3345120"/>
              <a:ext cx="136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mixed</a:t>
              </a: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　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phase</a:t>
              </a: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51960" y="249408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freeze-o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09120" y="3791160"/>
              <a:ext cx="161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equilibrated QGP</a:t>
              </a:r>
              <a:r>
                <a:rPr b="1" lang="zh-CN" sz="1200" spc="-1" strike="noStrike">
                  <a:solidFill>
                    <a:srgbClr val="777777"/>
                  </a:solidFill>
                  <a:latin typeface="Arial"/>
                  <a:ea typeface="HGP明朝B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1658520" y="2567160"/>
              <a:ext cx="676440" cy="170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4572000" y="1989000"/>
            <a:ext cx="4392720" cy="1008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H="1">
            <a:off x="7667280" y="3500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66880" y="3860640"/>
            <a:ext cx="124596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hadron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443280" y="3716280"/>
            <a:ext cx="289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86880" y="4437000"/>
            <a:ext cx="13482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electron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08360" y="393372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87080" y="5033880"/>
            <a:ext cx="1233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phot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5440" y="1052640"/>
            <a:ext cx="54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several particles emitted from nuclear colli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92520" y="5950080"/>
            <a:ext cx="5952240" cy="368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Elliptic flow were measured at each particles in PHEN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8064360" y="2313000"/>
            <a:ext cx="215640" cy="1584360"/>
          </a:xfrm>
          <a:custGeom>
            <a:avLst/>
            <a:gdLst>
              <a:gd name="textAreaLeft" fmla="*/ 0 w 215640"/>
              <a:gd name="textAreaRight" fmla="*/ 77760 w 215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7812000" y="3141720"/>
            <a:ext cx="144720" cy="358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7200360" y="2528640"/>
            <a:ext cx="216000" cy="1584360"/>
          </a:xfrm>
          <a:custGeom>
            <a:avLst/>
            <a:gdLst>
              <a:gd name="textAreaLeft" fmla="*/ 0 w 216000"/>
              <a:gd name="textAreaRight" fmla="*/ 7812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73236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6588000" y="2852640"/>
            <a:ext cx="144720" cy="1440000"/>
          </a:xfrm>
          <a:custGeom>
            <a:avLst/>
            <a:gdLst>
              <a:gd name="textAreaLeft" fmla="*/ 0 w 144720"/>
              <a:gd name="textAreaRight" fmla="*/ 52200 w 1447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940000" y="3573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EB5-47ED-4519-A1F5-AD2CFC99BA6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9280" y="907920"/>
            <a:ext cx="6337440" cy="50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8960" y="285840"/>
            <a:ext cx="45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1-3. Elliptic Flow (hadron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5589720"/>
            <a:ext cx="352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scales approximately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the number of valence quark of had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76720" y="5661000"/>
            <a:ext cx="3456000" cy="642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indicate partonic leve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of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, K, and pr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537080" cy="4091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500720" y="1341360"/>
            <a:ext cx="4464000" cy="40910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22560" y="981000"/>
            <a:ext cx="60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What have we learned from anisotropic flow of had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4426560" y="5805720"/>
            <a:ext cx="360360" cy="358560"/>
          </a:xfrm>
          <a:prstGeom prst="flowChartMerg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3E5-9159-4275-B000-632E7671FBE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79280" y="907920"/>
            <a:ext cx="6624720" cy="50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0880" y="285840"/>
            <a:ext cx="46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1-4. Elliptic Flow (electron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98100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What have we learned from Anisotropic Flow of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4149720"/>
            <a:ext cx="604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Compared with qua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coalescence model predi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consistent with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HGP明朝B"/>
              </a:rPr>
              <a:t>charm quark flow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 model below 2 GeV/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" y="1413000"/>
            <a:ext cx="21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Electron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charm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beauty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alitz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-electron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photon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Kaon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Thermal dilep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40000" y="1844640"/>
            <a:ext cx="144360" cy="503280"/>
          </a:xfrm>
          <a:custGeom>
            <a:avLst/>
            <a:gdLst>
              <a:gd name="textAreaLeft" fmla="*/ 0 w 144360"/>
              <a:gd name="textAreaRight" fmla="*/ 52200 w 144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340000" y="256536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59240" y="177336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non phot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30160" y="2924280"/>
            <a:ext cx="10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phot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0920" y="6093000"/>
            <a:ext cx="3065760" cy="368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indicate charm quark flow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4965840" cy="27939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7093080" y="1628640"/>
            <a:ext cx="1652400" cy="4906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851280" y="4149720"/>
            <a:ext cx="475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 Consistent with c therm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 large cross section ; ~10 m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08720" y="5084640"/>
            <a:ext cx="16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PRC72,024906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43640" y="4437000"/>
            <a:ext cx="25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Phys.Lett. B595 202-208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5076000" y="6093360"/>
            <a:ext cx="360360" cy="358920"/>
          </a:xfrm>
          <a:prstGeom prst="flowChartMerg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454-639E-4EBA-A5E1-D61622CEE7C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907920"/>
            <a:ext cx="6769080" cy="50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6440" y="28584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-1. Direct pho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5832360" cy="1368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11280" y="3284640"/>
            <a:ext cx="3024000" cy="2633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50200" y="981000"/>
            <a:ext cx="67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(non hadronic photon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 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probe of initial coll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6320" y="3645000"/>
            <a:ext cx="469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Photon hav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much weaker inter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other particles and thus preserv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about their cre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55960" y="5084640"/>
            <a:ext cx="501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s are one of the most 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probes to study properties of hot dens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at initial state of heavy ion coll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993-3DFC-4E7E-A79A-A3C1FBD0F92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79280" y="907920"/>
            <a:ext cx="7272360" cy="72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4280" y="285840"/>
            <a:ext cx="549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-2. definition of Direct phot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6048360" cy="1224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0920" y="981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all remaining photons after subtraction of all hadron decay ph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50920" y="3213000"/>
            <a:ext cx="2438640" cy="2600280"/>
            <a:chOff x="250920" y="3213000"/>
            <a:chExt cx="2438640" cy="2600280"/>
          </a:xfrm>
        </p:grpSpPr>
        <p:grpSp>
          <p:nvGrpSpPr>
            <p:cNvPr id="305" name=""/>
            <p:cNvGrpSpPr/>
            <p:nvPr/>
          </p:nvGrpSpPr>
          <p:grpSpPr>
            <a:xfrm>
              <a:off x="395280" y="3246480"/>
              <a:ext cx="2087280" cy="2246760"/>
              <a:chOff x="395280" y="3246480"/>
              <a:chExt cx="2087280" cy="2246760"/>
            </a:xfrm>
          </p:grpSpPr>
          <p:pic>
            <p:nvPicPr>
              <p:cNvPr id="306" name="" descr=""/>
              <p:cNvPicPr/>
              <p:nvPr/>
            </p:nvPicPr>
            <p:blipFill>
              <a:blip r:embed="rId2"/>
              <a:stretch/>
            </p:blipFill>
            <p:spPr>
              <a:xfrm rot="19997400">
                <a:off x="1476360" y="3428640"/>
                <a:ext cx="936720" cy="530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" descr=""/>
              <p:cNvPicPr/>
              <p:nvPr/>
            </p:nvPicPr>
            <p:blipFill>
              <a:blip r:embed="rId3"/>
              <a:stretch/>
            </p:blipFill>
            <p:spPr>
              <a:xfrm rot="1821000">
                <a:off x="539640" y="4662000"/>
                <a:ext cx="9367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395280" y="4208400"/>
                <a:ext cx="1443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79640" y="4208400"/>
                <a:ext cx="1443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16000" y="4142880"/>
                <a:ext cx="358920" cy="324720"/>
              </a:xfrm>
              <a:prstGeom prst="irregularSeal1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9640" y="4273200"/>
                <a:ext cx="574920" cy="64080"/>
              </a:xfrm>
              <a:prstGeom prst="rightArrow">
                <a:avLst>
                  <a:gd name="adj1" fmla="val 50000"/>
                  <a:gd name="adj2" fmla="val 22429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0800000">
                <a:off x="1476360" y="4273200"/>
                <a:ext cx="574560" cy="64080"/>
              </a:xfrm>
              <a:prstGeom prst="rightArrow">
                <a:avLst>
                  <a:gd name="adj1" fmla="val 50000"/>
                  <a:gd name="adj2" fmla="val 22415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58920" y="3817800"/>
                <a:ext cx="288720" cy="276120"/>
              </a:xfrm>
              <a:custGeom>
                <a:avLst/>
                <a:gdLst/>
                <a:ahLst/>
                <a:rect l="l" t="t" r="r" b="b"/>
                <a:pathLst>
                  <a:path w="652" h="599">
                    <a:moveTo>
                      <a:pt x="0" y="599"/>
                    </a:moveTo>
                    <a:lnTo>
                      <a:pt x="9" y="426"/>
                    </a:lnTo>
                    <a:lnTo>
                      <a:pt x="19" y="334"/>
                    </a:lnTo>
                    <a:lnTo>
                      <a:pt x="64" y="234"/>
                    </a:lnTo>
                    <a:lnTo>
                      <a:pt x="165" y="115"/>
                    </a:lnTo>
                    <a:lnTo>
                      <a:pt x="137" y="252"/>
                    </a:lnTo>
                    <a:lnTo>
                      <a:pt x="156" y="343"/>
                    </a:lnTo>
                    <a:lnTo>
                      <a:pt x="229" y="407"/>
                    </a:lnTo>
                    <a:lnTo>
                      <a:pt x="302" y="444"/>
                    </a:lnTo>
                    <a:lnTo>
                      <a:pt x="403" y="426"/>
                    </a:lnTo>
                    <a:lnTo>
                      <a:pt x="485" y="371"/>
                    </a:lnTo>
                    <a:lnTo>
                      <a:pt x="531" y="298"/>
                    </a:lnTo>
                    <a:lnTo>
                      <a:pt x="549" y="215"/>
                    </a:lnTo>
                    <a:lnTo>
                      <a:pt x="494" y="124"/>
                    </a:lnTo>
                    <a:lnTo>
                      <a:pt x="412" y="87"/>
                    </a:lnTo>
                    <a:lnTo>
                      <a:pt x="329" y="78"/>
                    </a:lnTo>
                    <a:lnTo>
                      <a:pt x="229" y="97"/>
                    </a:lnTo>
                    <a:lnTo>
                      <a:pt x="137" y="151"/>
                    </a:lnTo>
                    <a:lnTo>
                      <a:pt x="247" y="60"/>
                    </a:lnTo>
                    <a:lnTo>
                      <a:pt x="384" y="5"/>
                    </a:lnTo>
                    <a:lnTo>
                      <a:pt x="65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1116000" y="4467600"/>
                <a:ext cx="287280" cy="323280"/>
              </a:xfrm>
              <a:custGeom>
                <a:avLst/>
                <a:gdLst/>
                <a:ahLst/>
                <a:rect l="l" t="t" r="r" b="b"/>
                <a:pathLst>
                  <a:path w="652" h="599">
                    <a:moveTo>
                      <a:pt x="0" y="599"/>
                    </a:moveTo>
                    <a:lnTo>
                      <a:pt x="9" y="426"/>
                    </a:lnTo>
                    <a:lnTo>
                      <a:pt x="19" y="334"/>
                    </a:lnTo>
                    <a:lnTo>
                      <a:pt x="64" y="234"/>
                    </a:lnTo>
                    <a:lnTo>
                      <a:pt x="165" y="115"/>
                    </a:lnTo>
                    <a:lnTo>
                      <a:pt x="137" y="252"/>
                    </a:lnTo>
                    <a:lnTo>
                      <a:pt x="156" y="343"/>
                    </a:lnTo>
                    <a:lnTo>
                      <a:pt x="229" y="407"/>
                    </a:lnTo>
                    <a:lnTo>
                      <a:pt x="302" y="444"/>
                    </a:lnTo>
                    <a:lnTo>
                      <a:pt x="403" y="426"/>
                    </a:lnTo>
                    <a:lnTo>
                      <a:pt x="485" y="371"/>
                    </a:lnTo>
                    <a:lnTo>
                      <a:pt x="531" y="298"/>
                    </a:lnTo>
                    <a:lnTo>
                      <a:pt x="549" y="215"/>
                    </a:lnTo>
                    <a:lnTo>
                      <a:pt x="494" y="124"/>
                    </a:lnTo>
                    <a:lnTo>
                      <a:pt x="412" y="87"/>
                    </a:lnTo>
                    <a:lnTo>
                      <a:pt x="329" y="78"/>
                    </a:lnTo>
                    <a:lnTo>
                      <a:pt x="229" y="97"/>
                    </a:lnTo>
                    <a:lnTo>
                      <a:pt x="137" y="151"/>
                    </a:lnTo>
                    <a:lnTo>
                      <a:pt x="247" y="60"/>
                    </a:lnTo>
                    <a:lnTo>
                      <a:pt x="384" y="5"/>
                    </a:lnTo>
                    <a:lnTo>
                      <a:pt x="65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50920" y="3213000"/>
              <a:ext cx="2305080" cy="2303640"/>
            </a:xfrm>
            <a:prstGeom prst="wedgeRectCallout">
              <a:avLst>
                <a:gd name="adj1" fmla="val 46763"/>
                <a:gd name="adj2" fmla="val -70328"/>
              </a:avLst>
            </a:prstGeom>
            <a:noFill/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74160" y="5445000"/>
              <a:ext cx="17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  <a:ea typeface="HGP明朝B"/>
                </a:rPr>
                <a:t>prompt phot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627280" y="3213000"/>
            <a:ext cx="2489400" cy="1879560"/>
            <a:chOff x="2627280" y="3213000"/>
            <a:chExt cx="2489400" cy="1879560"/>
          </a:xfrm>
        </p:grpSpPr>
        <p:grpSp>
          <p:nvGrpSpPr>
            <p:cNvPr id="318" name=""/>
            <p:cNvGrpSpPr/>
            <p:nvPr/>
          </p:nvGrpSpPr>
          <p:grpSpPr>
            <a:xfrm>
              <a:off x="2771640" y="3284280"/>
              <a:ext cx="2062440" cy="1368360"/>
              <a:chOff x="2771640" y="3284280"/>
              <a:chExt cx="2062440" cy="1368360"/>
            </a:xfrm>
          </p:grpSpPr>
          <p:sp>
            <p:nvSpPr>
              <p:cNvPr id="319" name=""/>
              <p:cNvSpPr/>
              <p:nvPr/>
            </p:nvSpPr>
            <p:spPr>
              <a:xfrm>
                <a:off x="2771640" y="3968640"/>
                <a:ext cx="206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3814920" y="3284280"/>
                <a:ext cx="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3678120" y="3674880"/>
                <a:ext cx="273240" cy="566640"/>
                <a:chOff x="3678120" y="3674880"/>
                <a:chExt cx="273240" cy="56664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78120" y="3675240"/>
                  <a:ext cx="272520" cy="56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678120" y="3945240"/>
                  <a:ext cx="273240" cy="296280"/>
                </a:xfrm>
                <a:custGeom>
                  <a:avLst/>
                  <a:gdLst/>
                  <a:ahLst/>
                  <a:rect l="l" t="t" r="r" b="b"/>
                  <a:pathLst>
                    <a:path w="489" h="515">
                      <a:moveTo>
                        <a:pt x="13" y="46"/>
                      </a:moveTo>
                      <a:cubicBezTo>
                        <a:pt x="24" y="55"/>
                        <a:pt x="47" y="72"/>
                        <a:pt x="65" y="81"/>
                      </a:cubicBezTo>
                      <a:cubicBezTo>
                        <a:pt x="83" y="90"/>
                        <a:pt x="103" y="92"/>
                        <a:pt x="121" y="97"/>
                      </a:cubicBezTo>
                      <a:cubicBezTo>
                        <a:pt x="139" y="102"/>
                        <a:pt x="156" y="109"/>
                        <a:pt x="176" y="112"/>
                      </a:cubicBezTo>
                      <a:cubicBezTo>
                        <a:pt x="196" y="115"/>
                        <a:pt x="218" y="115"/>
                        <a:pt x="241" y="114"/>
                      </a:cubicBezTo>
                      <a:cubicBezTo>
                        <a:pt x="264" y="113"/>
                        <a:pt x="289" y="109"/>
                        <a:pt x="313" y="103"/>
                      </a:cubicBezTo>
                      <a:cubicBezTo>
                        <a:pt x="337" y="97"/>
                        <a:pt x="362" y="90"/>
                        <a:pt x="385" y="78"/>
                      </a:cubicBezTo>
                      <a:cubicBezTo>
                        <a:pt x="408" y="66"/>
                        <a:pt x="435" y="41"/>
                        <a:pt x="452" y="29"/>
                      </a:cubicBezTo>
                      <a:cubicBezTo>
                        <a:pt x="469" y="17"/>
                        <a:pt x="479" y="0"/>
                        <a:pt x="485" y="7"/>
                      </a:cubicBezTo>
                      <a:cubicBezTo>
                        <a:pt x="483" y="11"/>
                        <a:pt x="489" y="40"/>
                        <a:pt x="487" y="70"/>
                      </a:cubicBezTo>
                      <a:cubicBezTo>
                        <a:pt x="485" y="100"/>
                        <a:pt x="481" y="151"/>
                        <a:pt x="474" y="190"/>
                      </a:cubicBezTo>
                      <a:cubicBezTo>
                        <a:pt x="467" y="229"/>
                        <a:pt x="455" y="272"/>
                        <a:pt x="444" y="304"/>
                      </a:cubicBezTo>
                      <a:cubicBezTo>
                        <a:pt x="433" y="336"/>
                        <a:pt x="423" y="359"/>
                        <a:pt x="408" y="385"/>
                      </a:cubicBezTo>
                      <a:cubicBezTo>
                        <a:pt x="394" y="411"/>
                        <a:pt x="376" y="438"/>
                        <a:pt x="356" y="458"/>
                      </a:cubicBezTo>
                      <a:cubicBezTo>
                        <a:pt x="336" y="478"/>
                        <a:pt x="313" y="495"/>
                        <a:pt x="289" y="503"/>
                      </a:cubicBezTo>
                      <a:cubicBezTo>
                        <a:pt x="265" y="511"/>
                        <a:pt x="238" y="515"/>
                        <a:pt x="214" y="509"/>
                      </a:cubicBezTo>
                      <a:cubicBezTo>
                        <a:pt x="189" y="503"/>
                        <a:pt x="164" y="488"/>
                        <a:pt x="143" y="469"/>
                      </a:cubicBezTo>
                      <a:cubicBezTo>
                        <a:pt x="122" y="450"/>
                        <a:pt x="104" y="427"/>
                        <a:pt x="87" y="397"/>
                      </a:cubicBezTo>
                      <a:cubicBezTo>
                        <a:pt x="69" y="367"/>
                        <a:pt x="52" y="328"/>
                        <a:pt x="39" y="289"/>
                      </a:cubicBezTo>
                      <a:cubicBezTo>
                        <a:pt x="27" y="250"/>
                        <a:pt x="17" y="204"/>
                        <a:pt x="10" y="161"/>
                      </a:cubicBezTo>
                      <a:cubicBezTo>
                        <a:pt x="4" y="118"/>
                        <a:pt x="0" y="47"/>
                        <a:pt x="0" y="28"/>
                      </a:cubicBezTo>
                      <a:lnTo>
                        <a:pt x="13" y="46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678120" y="3946320"/>
                  <a:ext cx="272160" cy="630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678120" y="3674880"/>
                  <a:ext cx="272520" cy="56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 rot="16200000">
                <a:off x="3696480" y="3337560"/>
                <a:ext cx="249120" cy="339840"/>
              </a:xfrm>
              <a:custGeom>
                <a:avLst/>
                <a:gdLst>
                  <a:gd name="textAreaLeft" fmla="*/ 38880 w 249120"/>
                  <a:gd name="textAreaRight" fmla="*/ 209160 w 249120"/>
                  <a:gd name="textAreaTop" fmla="*/ 85320 h 339840"/>
                  <a:gd name="textAreaBottom" fmla="*/ 254520 h 33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400000">
                <a:off x="3696480" y="4266360"/>
                <a:ext cx="249120" cy="339840"/>
              </a:xfrm>
              <a:custGeom>
                <a:avLst/>
                <a:gdLst>
                  <a:gd name="textAreaLeft" fmla="*/ 38880 w 249120"/>
                  <a:gd name="textAreaRight" fmla="*/ 209160 w 249120"/>
                  <a:gd name="textAreaTop" fmla="*/ 85320 h 339840"/>
                  <a:gd name="textAreaBottom" fmla="*/ 254520 h 33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8596800">
                <a:off x="3233520" y="4093560"/>
                <a:ext cx="357120" cy="330480"/>
              </a:xfrm>
              <a:custGeom>
                <a:avLst/>
                <a:gdLst>
                  <a:gd name="textAreaLeft" fmla="*/ 55800 w 357120"/>
                  <a:gd name="textAreaRight" fmla="*/ 299880 w 357120"/>
                  <a:gd name="textAreaTop" fmla="*/ 83160 h 330480"/>
                  <a:gd name="textAreaBottom" fmla="*/ 247320 h 33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0800000">
                <a:off x="2922120" y="3796920"/>
                <a:ext cx="560520" cy="330120"/>
              </a:xfrm>
              <a:custGeom>
                <a:avLst/>
                <a:gdLst>
                  <a:gd name="textAreaLeft" fmla="*/ 87480 w 560520"/>
                  <a:gd name="textAreaRight" fmla="*/ 470880 w 560520"/>
                  <a:gd name="textAreaTop" fmla="*/ 82800 h 330120"/>
                  <a:gd name="textAreaBottom" fmla="*/ 247320 h 33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3749600">
                <a:off x="3269880" y="3435120"/>
                <a:ext cx="349200" cy="339840"/>
              </a:xfrm>
              <a:custGeom>
                <a:avLst/>
                <a:gdLst>
                  <a:gd name="textAreaLeft" fmla="*/ 54360 w 349200"/>
                  <a:gd name="textAreaRight" fmla="*/ 293400 w 349200"/>
                  <a:gd name="textAreaTop" fmla="*/ 85320 h 339840"/>
                  <a:gd name="textAreaBottom" fmla="*/ 254520 h 33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495400">
                <a:off x="4028760" y="4114800"/>
                <a:ext cx="358920" cy="330120"/>
              </a:xfrm>
              <a:custGeom>
                <a:avLst/>
                <a:gdLst>
                  <a:gd name="textAreaLeft" fmla="*/ 55800 w 358920"/>
                  <a:gd name="textAreaRight" fmla="*/ 301680 w 358920"/>
                  <a:gd name="textAreaTop" fmla="*/ 82800 h 330120"/>
                  <a:gd name="textAreaBottom" fmla="*/ 247320 h 33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9687800">
                <a:off x="4028760" y="3480840"/>
                <a:ext cx="358920" cy="328680"/>
              </a:xfrm>
              <a:custGeom>
                <a:avLst/>
                <a:gdLst>
                  <a:gd name="textAreaLeft" fmla="*/ 55800 w 358920"/>
                  <a:gd name="textAreaRight" fmla="*/ 301680 w 358920"/>
                  <a:gd name="textAreaTop" fmla="*/ 82440 h 328680"/>
                  <a:gd name="textAreaBottom" fmla="*/ 246240 h 32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130640" y="3801960"/>
                <a:ext cx="558720" cy="330120"/>
              </a:xfrm>
              <a:custGeom>
                <a:avLst/>
                <a:gdLst>
                  <a:gd name="textAreaLeft" fmla="*/ 87120 w 558720"/>
                  <a:gd name="textAreaRight" fmla="*/ 469440 w 558720"/>
                  <a:gd name="textAreaTop" fmla="*/ 82800 h 330120"/>
                  <a:gd name="textAreaBottom" fmla="*/ 247320 h 33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2627280" y="3213000"/>
              <a:ext cx="2376360" cy="1584360"/>
            </a:xfrm>
            <a:prstGeom prst="wedgeRectCallout">
              <a:avLst>
                <a:gd name="adj1" fmla="val -5912"/>
                <a:gd name="adj2" fmla="val -76351"/>
              </a:avLst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0880" y="4724280"/>
              <a:ext cx="17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HGP明朝B"/>
                </a:rPr>
                <a:t>thermal phot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076720" y="3500280"/>
            <a:ext cx="2277360" cy="2384640"/>
            <a:chOff x="5076720" y="3500280"/>
            <a:chExt cx="2277360" cy="2384640"/>
          </a:xfrm>
        </p:grpSpPr>
        <p:grpSp>
          <p:nvGrpSpPr>
            <p:cNvPr id="337" name=""/>
            <p:cNvGrpSpPr/>
            <p:nvPr/>
          </p:nvGrpSpPr>
          <p:grpSpPr>
            <a:xfrm>
              <a:off x="5219640" y="3573360"/>
              <a:ext cx="1728720" cy="1942920"/>
              <a:chOff x="5219640" y="3573360"/>
              <a:chExt cx="1728720" cy="1942920"/>
            </a:xfrm>
          </p:grpSpPr>
          <p:sp>
            <p:nvSpPr>
              <p:cNvPr id="338" name=""/>
              <p:cNvSpPr/>
              <p:nvPr/>
            </p:nvSpPr>
            <p:spPr>
              <a:xfrm>
                <a:off x="5219640" y="4481280"/>
                <a:ext cx="144720" cy="194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804000" y="4481280"/>
                <a:ext cx="144360" cy="194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940360" y="4415760"/>
                <a:ext cx="358920" cy="3240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64360" y="4545360"/>
                <a:ext cx="574560" cy="64080"/>
              </a:xfrm>
              <a:prstGeom prst="rightArrow">
                <a:avLst>
                  <a:gd name="adj1" fmla="val 50000"/>
                  <a:gd name="adj2" fmla="val 22415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0800000">
                <a:off x="6300360" y="4545360"/>
                <a:ext cx="574920" cy="64080"/>
              </a:xfrm>
              <a:prstGeom prst="rightArrow">
                <a:avLst>
                  <a:gd name="adj1" fmla="val 50000"/>
                  <a:gd name="adj2" fmla="val 22429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156360" y="3573360"/>
                <a:ext cx="216000" cy="712440"/>
              </a:xfrm>
              <a:prstGeom prst="cloudCallout">
                <a:avLst>
                  <a:gd name="adj1" fmla="val -63972"/>
                  <a:gd name="adj2" fmla="val 80861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5867280" y="4868280"/>
                <a:ext cx="216000" cy="648000"/>
              </a:xfrm>
              <a:prstGeom prst="cloudCallout">
                <a:avLst>
                  <a:gd name="adj1" fmla="val -49268"/>
                  <a:gd name="adj2" fmla="val 79074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5076720" y="3500280"/>
              <a:ext cx="2016360" cy="2089440"/>
            </a:xfrm>
            <a:prstGeom prst="rect">
              <a:avLst/>
            </a:prstGeom>
            <a:noFill/>
            <a:ln w="1908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79240" y="5516640"/>
              <a:ext cx="227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cc"/>
                  </a:solidFill>
                  <a:latin typeface="Arial"/>
                  <a:ea typeface="HGP明朝B"/>
                </a:rPr>
                <a:t>jet fragment phot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815080" y="1628640"/>
            <a:ext cx="3066120" cy="2371680"/>
            <a:chOff x="5815080" y="1628640"/>
            <a:chExt cx="3066120" cy="2371680"/>
          </a:xfrm>
        </p:grpSpPr>
        <p:sp>
          <p:nvSpPr>
            <p:cNvPr id="348" name=""/>
            <p:cNvSpPr/>
            <p:nvPr/>
          </p:nvSpPr>
          <p:spPr>
            <a:xfrm rot="1152600">
              <a:off x="5866920" y="1844640"/>
              <a:ext cx="792360" cy="450720"/>
            </a:xfrm>
            <a:custGeom>
              <a:avLst/>
              <a:gdLst/>
              <a:ahLst/>
              <a:rect l="l" t="t" r="r" b="b"/>
              <a:pathLst>
                <a:path w="652" h="599">
                  <a:moveTo>
                    <a:pt x="0" y="599"/>
                  </a:moveTo>
                  <a:lnTo>
                    <a:pt x="9" y="426"/>
                  </a:lnTo>
                  <a:lnTo>
                    <a:pt x="19" y="334"/>
                  </a:lnTo>
                  <a:lnTo>
                    <a:pt x="64" y="234"/>
                  </a:lnTo>
                  <a:lnTo>
                    <a:pt x="165" y="115"/>
                  </a:lnTo>
                  <a:lnTo>
                    <a:pt x="137" y="252"/>
                  </a:lnTo>
                  <a:lnTo>
                    <a:pt x="156" y="343"/>
                  </a:lnTo>
                  <a:lnTo>
                    <a:pt x="229" y="407"/>
                  </a:lnTo>
                  <a:lnTo>
                    <a:pt x="302" y="444"/>
                  </a:lnTo>
                  <a:lnTo>
                    <a:pt x="403" y="426"/>
                  </a:lnTo>
                  <a:lnTo>
                    <a:pt x="485" y="371"/>
                  </a:lnTo>
                  <a:lnTo>
                    <a:pt x="531" y="298"/>
                  </a:lnTo>
                  <a:lnTo>
                    <a:pt x="549" y="215"/>
                  </a:lnTo>
                  <a:lnTo>
                    <a:pt x="494" y="124"/>
                  </a:lnTo>
                  <a:lnTo>
                    <a:pt x="412" y="87"/>
                  </a:lnTo>
                  <a:lnTo>
                    <a:pt x="329" y="78"/>
                  </a:lnTo>
                  <a:lnTo>
                    <a:pt x="229" y="97"/>
                  </a:lnTo>
                  <a:lnTo>
                    <a:pt x="137" y="151"/>
                  </a:lnTo>
                  <a:lnTo>
                    <a:pt x="247" y="60"/>
                  </a:lnTo>
                  <a:lnTo>
                    <a:pt x="384" y="5"/>
                  </a:ln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 rot="20308200">
              <a:off x="6011640" y="2545560"/>
              <a:ext cx="504720" cy="432000"/>
            </a:xfrm>
            <a:custGeom>
              <a:avLst/>
              <a:gdLst/>
              <a:ahLst/>
              <a:rect l="l" t="t" r="r" b="b"/>
              <a:pathLst>
                <a:path w="652" h="599">
                  <a:moveTo>
                    <a:pt x="0" y="599"/>
                  </a:moveTo>
                  <a:lnTo>
                    <a:pt x="9" y="426"/>
                  </a:lnTo>
                  <a:lnTo>
                    <a:pt x="19" y="334"/>
                  </a:lnTo>
                  <a:lnTo>
                    <a:pt x="64" y="234"/>
                  </a:lnTo>
                  <a:lnTo>
                    <a:pt x="165" y="115"/>
                  </a:lnTo>
                  <a:lnTo>
                    <a:pt x="137" y="252"/>
                  </a:lnTo>
                  <a:lnTo>
                    <a:pt x="156" y="343"/>
                  </a:lnTo>
                  <a:lnTo>
                    <a:pt x="229" y="407"/>
                  </a:lnTo>
                  <a:lnTo>
                    <a:pt x="302" y="444"/>
                  </a:lnTo>
                  <a:lnTo>
                    <a:pt x="403" y="426"/>
                  </a:lnTo>
                  <a:lnTo>
                    <a:pt x="485" y="371"/>
                  </a:lnTo>
                  <a:lnTo>
                    <a:pt x="531" y="298"/>
                  </a:lnTo>
                  <a:lnTo>
                    <a:pt x="549" y="215"/>
                  </a:lnTo>
                  <a:lnTo>
                    <a:pt x="494" y="124"/>
                  </a:lnTo>
                  <a:lnTo>
                    <a:pt x="412" y="87"/>
                  </a:lnTo>
                  <a:lnTo>
                    <a:pt x="329" y="78"/>
                  </a:lnTo>
                  <a:lnTo>
                    <a:pt x="229" y="97"/>
                  </a:lnTo>
                  <a:lnTo>
                    <a:pt x="137" y="151"/>
                  </a:lnTo>
                  <a:lnTo>
                    <a:pt x="247" y="60"/>
                  </a:lnTo>
                  <a:lnTo>
                    <a:pt x="384" y="5"/>
                  </a:ln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0400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9640" y="27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11560" y="162864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HGP明朝B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661600">
              <a:off x="7164360" y="1773360"/>
              <a:ext cx="934920" cy="187200"/>
            </a:xfrm>
            <a:custGeom>
              <a:avLst/>
              <a:gdLst/>
              <a:ahLst/>
              <a:rect l="l" t="t" r="r" b="b"/>
              <a:pathLst>
                <a:path w="1496" h="141">
                  <a:moveTo>
                    <a:pt x="0" y="89"/>
                  </a:moveTo>
                  <a:lnTo>
                    <a:pt x="37" y="51"/>
                  </a:lnTo>
                  <a:lnTo>
                    <a:pt x="76" y="42"/>
                  </a:lnTo>
                  <a:lnTo>
                    <a:pt x="115" y="36"/>
                  </a:lnTo>
                  <a:lnTo>
                    <a:pt x="145" y="39"/>
                  </a:lnTo>
                  <a:lnTo>
                    <a:pt x="178" y="51"/>
                  </a:lnTo>
                  <a:lnTo>
                    <a:pt x="199" y="66"/>
                  </a:lnTo>
                  <a:lnTo>
                    <a:pt x="223" y="87"/>
                  </a:lnTo>
                  <a:lnTo>
                    <a:pt x="244" y="108"/>
                  </a:lnTo>
                  <a:lnTo>
                    <a:pt x="271" y="129"/>
                  </a:lnTo>
                  <a:lnTo>
                    <a:pt x="298" y="141"/>
                  </a:lnTo>
                  <a:lnTo>
                    <a:pt x="331" y="141"/>
                  </a:lnTo>
                  <a:lnTo>
                    <a:pt x="358" y="126"/>
                  </a:lnTo>
                  <a:lnTo>
                    <a:pt x="385" y="96"/>
                  </a:lnTo>
                  <a:lnTo>
                    <a:pt x="412" y="60"/>
                  </a:lnTo>
                  <a:lnTo>
                    <a:pt x="442" y="36"/>
                  </a:lnTo>
                  <a:lnTo>
                    <a:pt x="478" y="18"/>
                  </a:lnTo>
                  <a:lnTo>
                    <a:pt x="517" y="18"/>
                  </a:lnTo>
                  <a:lnTo>
                    <a:pt x="556" y="36"/>
                  </a:lnTo>
                  <a:lnTo>
                    <a:pt x="577" y="63"/>
                  </a:lnTo>
                  <a:lnTo>
                    <a:pt x="601" y="87"/>
                  </a:lnTo>
                  <a:lnTo>
                    <a:pt x="628" y="105"/>
                  </a:lnTo>
                  <a:lnTo>
                    <a:pt x="655" y="120"/>
                  </a:lnTo>
                  <a:lnTo>
                    <a:pt x="688" y="120"/>
                  </a:lnTo>
                  <a:lnTo>
                    <a:pt x="718" y="102"/>
                  </a:lnTo>
                  <a:lnTo>
                    <a:pt x="748" y="78"/>
                  </a:lnTo>
                  <a:lnTo>
                    <a:pt x="772" y="57"/>
                  </a:lnTo>
                  <a:lnTo>
                    <a:pt x="793" y="39"/>
                  </a:lnTo>
                  <a:lnTo>
                    <a:pt x="823" y="21"/>
                  </a:lnTo>
                  <a:lnTo>
                    <a:pt x="862" y="18"/>
                  </a:lnTo>
                  <a:lnTo>
                    <a:pt x="898" y="24"/>
                  </a:lnTo>
                  <a:lnTo>
                    <a:pt x="937" y="45"/>
                  </a:lnTo>
                  <a:lnTo>
                    <a:pt x="961" y="75"/>
                  </a:lnTo>
                  <a:lnTo>
                    <a:pt x="994" y="111"/>
                  </a:lnTo>
                  <a:lnTo>
                    <a:pt x="1024" y="117"/>
                  </a:lnTo>
                  <a:lnTo>
                    <a:pt x="1054" y="114"/>
                  </a:lnTo>
                  <a:lnTo>
                    <a:pt x="1069" y="105"/>
                  </a:lnTo>
                  <a:lnTo>
                    <a:pt x="1096" y="93"/>
                  </a:lnTo>
                  <a:lnTo>
                    <a:pt x="1114" y="63"/>
                  </a:lnTo>
                  <a:lnTo>
                    <a:pt x="1144" y="33"/>
                  </a:lnTo>
                  <a:lnTo>
                    <a:pt x="1171" y="12"/>
                  </a:lnTo>
                  <a:lnTo>
                    <a:pt x="1219" y="0"/>
                  </a:lnTo>
                  <a:lnTo>
                    <a:pt x="1264" y="9"/>
                  </a:lnTo>
                  <a:lnTo>
                    <a:pt x="1303" y="33"/>
                  </a:lnTo>
                  <a:lnTo>
                    <a:pt x="1333" y="54"/>
                  </a:lnTo>
                  <a:lnTo>
                    <a:pt x="1372" y="69"/>
                  </a:lnTo>
                  <a:lnTo>
                    <a:pt x="1496" y="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36000" y="2060640"/>
              <a:ext cx="934920" cy="187200"/>
            </a:xfrm>
            <a:custGeom>
              <a:avLst/>
              <a:gdLst/>
              <a:ahLst/>
              <a:rect l="l" t="t" r="r" b="b"/>
              <a:pathLst>
                <a:path w="1496" h="141">
                  <a:moveTo>
                    <a:pt x="0" y="89"/>
                  </a:moveTo>
                  <a:lnTo>
                    <a:pt x="37" y="51"/>
                  </a:lnTo>
                  <a:lnTo>
                    <a:pt x="76" y="42"/>
                  </a:lnTo>
                  <a:lnTo>
                    <a:pt x="115" y="36"/>
                  </a:lnTo>
                  <a:lnTo>
                    <a:pt x="145" y="39"/>
                  </a:lnTo>
                  <a:lnTo>
                    <a:pt x="178" y="51"/>
                  </a:lnTo>
                  <a:lnTo>
                    <a:pt x="199" y="66"/>
                  </a:lnTo>
                  <a:lnTo>
                    <a:pt x="223" y="87"/>
                  </a:lnTo>
                  <a:lnTo>
                    <a:pt x="244" y="108"/>
                  </a:lnTo>
                  <a:lnTo>
                    <a:pt x="271" y="129"/>
                  </a:lnTo>
                  <a:lnTo>
                    <a:pt x="298" y="141"/>
                  </a:lnTo>
                  <a:lnTo>
                    <a:pt x="331" y="141"/>
                  </a:lnTo>
                  <a:lnTo>
                    <a:pt x="358" y="126"/>
                  </a:lnTo>
                  <a:lnTo>
                    <a:pt x="385" y="96"/>
                  </a:lnTo>
                  <a:lnTo>
                    <a:pt x="412" y="60"/>
                  </a:lnTo>
                  <a:lnTo>
                    <a:pt x="442" y="36"/>
                  </a:lnTo>
                  <a:lnTo>
                    <a:pt x="478" y="18"/>
                  </a:lnTo>
                  <a:lnTo>
                    <a:pt x="517" y="18"/>
                  </a:lnTo>
                  <a:lnTo>
                    <a:pt x="556" y="36"/>
                  </a:lnTo>
                  <a:lnTo>
                    <a:pt x="577" y="63"/>
                  </a:lnTo>
                  <a:lnTo>
                    <a:pt x="601" y="87"/>
                  </a:lnTo>
                  <a:lnTo>
                    <a:pt x="628" y="105"/>
                  </a:lnTo>
                  <a:lnTo>
                    <a:pt x="655" y="120"/>
                  </a:lnTo>
                  <a:lnTo>
                    <a:pt x="688" y="120"/>
                  </a:lnTo>
                  <a:lnTo>
                    <a:pt x="718" y="102"/>
                  </a:lnTo>
                  <a:lnTo>
                    <a:pt x="748" y="78"/>
                  </a:lnTo>
                  <a:lnTo>
                    <a:pt x="772" y="57"/>
                  </a:lnTo>
                  <a:lnTo>
                    <a:pt x="793" y="39"/>
                  </a:lnTo>
                  <a:lnTo>
                    <a:pt x="823" y="21"/>
                  </a:lnTo>
                  <a:lnTo>
                    <a:pt x="862" y="18"/>
                  </a:lnTo>
                  <a:lnTo>
                    <a:pt x="898" y="24"/>
                  </a:lnTo>
                  <a:lnTo>
                    <a:pt x="937" y="45"/>
                  </a:lnTo>
                  <a:lnTo>
                    <a:pt x="961" y="75"/>
                  </a:lnTo>
                  <a:lnTo>
                    <a:pt x="994" y="111"/>
                  </a:lnTo>
                  <a:lnTo>
                    <a:pt x="1024" y="117"/>
                  </a:lnTo>
                  <a:lnTo>
                    <a:pt x="1054" y="114"/>
                  </a:lnTo>
                  <a:lnTo>
                    <a:pt x="1069" y="105"/>
                  </a:lnTo>
                  <a:lnTo>
                    <a:pt x="1096" y="93"/>
                  </a:lnTo>
                  <a:lnTo>
                    <a:pt x="1114" y="63"/>
                  </a:lnTo>
                  <a:lnTo>
                    <a:pt x="1144" y="33"/>
                  </a:lnTo>
                  <a:lnTo>
                    <a:pt x="1171" y="12"/>
                  </a:lnTo>
                  <a:lnTo>
                    <a:pt x="1219" y="0"/>
                  </a:lnTo>
                  <a:lnTo>
                    <a:pt x="1264" y="9"/>
                  </a:lnTo>
                  <a:lnTo>
                    <a:pt x="1303" y="33"/>
                  </a:lnTo>
                  <a:lnTo>
                    <a:pt x="1333" y="54"/>
                  </a:lnTo>
                  <a:lnTo>
                    <a:pt x="1372" y="69"/>
                  </a:lnTo>
                  <a:lnTo>
                    <a:pt x="1496" y="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89000">
              <a:off x="7092720" y="2781360"/>
              <a:ext cx="934920" cy="69840"/>
            </a:xfrm>
            <a:custGeom>
              <a:avLst/>
              <a:gdLst/>
              <a:ahLst/>
              <a:rect l="l" t="t" r="r" b="b"/>
              <a:pathLst>
                <a:path w="1496" h="141">
                  <a:moveTo>
                    <a:pt x="0" y="89"/>
                  </a:moveTo>
                  <a:lnTo>
                    <a:pt x="37" y="51"/>
                  </a:lnTo>
                  <a:lnTo>
                    <a:pt x="76" y="42"/>
                  </a:lnTo>
                  <a:lnTo>
                    <a:pt x="115" y="36"/>
                  </a:lnTo>
                  <a:lnTo>
                    <a:pt x="145" y="39"/>
                  </a:lnTo>
                  <a:lnTo>
                    <a:pt x="178" y="51"/>
                  </a:lnTo>
                  <a:lnTo>
                    <a:pt x="199" y="66"/>
                  </a:lnTo>
                  <a:lnTo>
                    <a:pt x="223" y="87"/>
                  </a:lnTo>
                  <a:lnTo>
                    <a:pt x="244" y="108"/>
                  </a:lnTo>
                  <a:lnTo>
                    <a:pt x="271" y="129"/>
                  </a:lnTo>
                  <a:lnTo>
                    <a:pt x="298" y="141"/>
                  </a:lnTo>
                  <a:lnTo>
                    <a:pt x="331" y="141"/>
                  </a:lnTo>
                  <a:lnTo>
                    <a:pt x="358" y="126"/>
                  </a:lnTo>
                  <a:lnTo>
                    <a:pt x="385" y="96"/>
                  </a:lnTo>
                  <a:lnTo>
                    <a:pt x="412" y="60"/>
                  </a:lnTo>
                  <a:lnTo>
                    <a:pt x="442" y="36"/>
                  </a:lnTo>
                  <a:lnTo>
                    <a:pt x="478" y="18"/>
                  </a:lnTo>
                  <a:lnTo>
                    <a:pt x="517" y="18"/>
                  </a:lnTo>
                  <a:lnTo>
                    <a:pt x="556" y="36"/>
                  </a:lnTo>
                  <a:lnTo>
                    <a:pt x="577" y="63"/>
                  </a:lnTo>
                  <a:lnTo>
                    <a:pt x="601" y="87"/>
                  </a:lnTo>
                  <a:lnTo>
                    <a:pt x="628" y="105"/>
                  </a:lnTo>
                  <a:lnTo>
                    <a:pt x="655" y="120"/>
                  </a:lnTo>
                  <a:lnTo>
                    <a:pt x="688" y="120"/>
                  </a:lnTo>
                  <a:lnTo>
                    <a:pt x="718" y="102"/>
                  </a:lnTo>
                  <a:lnTo>
                    <a:pt x="748" y="78"/>
                  </a:lnTo>
                  <a:lnTo>
                    <a:pt x="772" y="57"/>
                  </a:lnTo>
                  <a:lnTo>
                    <a:pt x="793" y="39"/>
                  </a:lnTo>
                  <a:lnTo>
                    <a:pt x="823" y="21"/>
                  </a:lnTo>
                  <a:lnTo>
                    <a:pt x="862" y="18"/>
                  </a:lnTo>
                  <a:lnTo>
                    <a:pt x="898" y="24"/>
                  </a:lnTo>
                  <a:lnTo>
                    <a:pt x="937" y="45"/>
                  </a:lnTo>
                  <a:lnTo>
                    <a:pt x="961" y="75"/>
                  </a:lnTo>
                  <a:lnTo>
                    <a:pt x="994" y="111"/>
                  </a:lnTo>
                  <a:lnTo>
                    <a:pt x="1024" y="117"/>
                  </a:lnTo>
                  <a:lnTo>
                    <a:pt x="1054" y="114"/>
                  </a:lnTo>
                  <a:lnTo>
                    <a:pt x="1069" y="105"/>
                  </a:lnTo>
                  <a:lnTo>
                    <a:pt x="1096" y="93"/>
                  </a:lnTo>
                  <a:lnTo>
                    <a:pt x="1114" y="63"/>
                  </a:lnTo>
                  <a:lnTo>
                    <a:pt x="1144" y="33"/>
                  </a:lnTo>
                  <a:lnTo>
                    <a:pt x="1171" y="12"/>
                  </a:lnTo>
                  <a:lnTo>
                    <a:pt x="1219" y="0"/>
                  </a:lnTo>
                  <a:lnTo>
                    <a:pt x="1264" y="9"/>
                  </a:lnTo>
                  <a:lnTo>
                    <a:pt x="1303" y="33"/>
                  </a:lnTo>
                  <a:lnTo>
                    <a:pt x="1333" y="54"/>
                  </a:lnTo>
                  <a:lnTo>
                    <a:pt x="1372" y="69"/>
                  </a:lnTo>
                  <a:lnTo>
                    <a:pt x="1496" y="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126800">
              <a:off x="7092720" y="3068280"/>
              <a:ext cx="934920" cy="69840"/>
            </a:xfrm>
            <a:custGeom>
              <a:avLst/>
              <a:gdLst/>
              <a:ahLst/>
              <a:rect l="l" t="t" r="r" b="b"/>
              <a:pathLst>
                <a:path w="1496" h="141">
                  <a:moveTo>
                    <a:pt x="0" y="89"/>
                  </a:moveTo>
                  <a:lnTo>
                    <a:pt x="37" y="51"/>
                  </a:lnTo>
                  <a:lnTo>
                    <a:pt x="76" y="42"/>
                  </a:lnTo>
                  <a:lnTo>
                    <a:pt x="115" y="36"/>
                  </a:lnTo>
                  <a:lnTo>
                    <a:pt x="145" y="39"/>
                  </a:lnTo>
                  <a:lnTo>
                    <a:pt x="178" y="51"/>
                  </a:lnTo>
                  <a:lnTo>
                    <a:pt x="199" y="66"/>
                  </a:lnTo>
                  <a:lnTo>
                    <a:pt x="223" y="87"/>
                  </a:lnTo>
                  <a:lnTo>
                    <a:pt x="244" y="108"/>
                  </a:lnTo>
                  <a:lnTo>
                    <a:pt x="271" y="129"/>
                  </a:lnTo>
                  <a:lnTo>
                    <a:pt x="298" y="141"/>
                  </a:lnTo>
                  <a:lnTo>
                    <a:pt x="331" y="141"/>
                  </a:lnTo>
                  <a:lnTo>
                    <a:pt x="358" y="126"/>
                  </a:lnTo>
                  <a:lnTo>
                    <a:pt x="385" y="96"/>
                  </a:lnTo>
                  <a:lnTo>
                    <a:pt x="412" y="60"/>
                  </a:lnTo>
                  <a:lnTo>
                    <a:pt x="442" y="36"/>
                  </a:lnTo>
                  <a:lnTo>
                    <a:pt x="478" y="18"/>
                  </a:lnTo>
                  <a:lnTo>
                    <a:pt x="517" y="18"/>
                  </a:lnTo>
                  <a:lnTo>
                    <a:pt x="556" y="36"/>
                  </a:lnTo>
                  <a:lnTo>
                    <a:pt x="577" y="63"/>
                  </a:lnTo>
                  <a:lnTo>
                    <a:pt x="601" y="87"/>
                  </a:lnTo>
                  <a:lnTo>
                    <a:pt x="628" y="105"/>
                  </a:lnTo>
                  <a:lnTo>
                    <a:pt x="655" y="120"/>
                  </a:lnTo>
                  <a:lnTo>
                    <a:pt x="688" y="120"/>
                  </a:lnTo>
                  <a:lnTo>
                    <a:pt x="718" y="102"/>
                  </a:lnTo>
                  <a:lnTo>
                    <a:pt x="748" y="78"/>
                  </a:lnTo>
                  <a:lnTo>
                    <a:pt x="772" y="57"/>
                  </a:lnTo>
                  <a:lnTo>
                    <a:pt x="793" y="39"/>
                  </a:lnTo>
                  <a:lnTo>
                    <a:pt x="823" y="21"/>
                  </a:lnTo>
                  <a:lnTo>
                    <a:pt x="862" y="18"/>
                  </a:lnTo>
                  <a:lnTo>
                    <a:pt x="898" y="24"/>
                  </a:lnTo>
                  <a:lnTo>
                    <a:pt x="937" y="45"/>
                  </a:lnTo>
                  <a:lnTo>
                    <a:pt x="961" y="75"/>
                  </a:lnTo>
                  <a:lnTo>
                    <a:pt x="994" y="111"/>
                  </a:lnTo>
                  <a:lnTo>
                    <a:pt x="1024" y="117"/>
                  </a:lnTo>
                  <a:lnTo>
                    <a:pt x="1054" y="114"/>
                  </a:lnTo>
                  <a:lnTo>
                    <a:pt x="1069" y="105"/>
                  </a:lnTo>
                  <a:lnTo>
                    <a:pt x="1096" y="93"/>
                  </a:lnTo>
                  <a:lnTo>
                    <a:pt x="1114" y="63"/>
                  </a:lnTo>
                  <a:lnTo>
                    <a:pt x="1144" y="33"/>
                  </a:lnTo>
                  <a:lnTo>
                    <a:pt x="1171" y="12"/>
                  </a:lnTo>
                  <a:lnTo>
                    <a:pt x="1219" y="0"/>
                  </a:lnTo>
                  <a:lnTo>
                    <a:pt x="1264" y="9"/>
                  </a:lnTo>
                  <a:lnTo>
                    <a:pt x="1303" y="33"/>
                  </a:lnTo>
                  <a:lnTo>
                    <a:pt x="1333" y="54"/>
                  </a:lnTo>
                  <a:lnTo>
                    <a:pt x="1372" y="69"/>
                  </a:lnTo>
                  <a:lnTo>
                    <a:pt x="1496" y="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61800" y="23493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79800" y="2205000"/>
              <a:ext cx="37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16720" y="1628640"/>
              <a:ext cx="2232000" cy="1800360"/>
            </a:xfrm>
            <a:prstGeom prst="rect">
              <a:avLst/>
            </a:prstGeom>
            <a:noFill/>
            <a:ln w="158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35640" y="3357720"/>
              <a:ext cx="164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66"/>
                  </a:solidFill>
                  <a:latin typeface="Arial"/>
                  <a:ea typeface="HGP明朝B"/>
                </a:rPr>
                <a:t>hadron dec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66"/>
                  </a:solidFill>
                  <a:latin typeface="Arial"/>
                  <a:ea typeface="HGP明朝B"/>
                </a:rPr>
                <a:t>           </a:t>
              </a:r>
              <a:r>
                <a:rPr b="0" lang="en-US" sz="1800" spc="-1" strike="noStrike">
                  <a:solidFill>
                    <a:srgbClr val="00cc66"/>
                  </a:solidFill>
                  <a:latin typeface="Arial"/>
                  <a:ea typeface="HGP明朝B"/>
                </a:rPr>
                <a:t>phot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24000" y="4005360"/>
            <a:ext cx="8280360" cy="2446200"/>
            <a:chOff x="324000" y="4005360"/>
            <a:chExt cx="8280360" cy="2446200"/>
          </a:xfrm>
        </p:grpSpPr>
        <p:sp>
          <p:nvSpPr>
            <p:cNvPr id="362" name=""/>
            <p:cNvSpPr/>
            <p:nvPr/>
          </p:nvSpPr>
          <p:spPr>
            <a:xfrm>
              <a:off x="324000" y="5929920"/>
              <a:ext cx="5832360" cy="521640"/>
            </a:xfrm>
            <a:prstGeom prst="flowChartTermina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direct pho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12000" y="5929920"/>
              <a:ext cx="2592360" cy="521640"/>
            </a:xfrm>
            <a:prstGeom prst="flowChartTerminator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hadron decay phot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03280" y="5805360"/>
              <a:ext cx="216000" cy="360360"/>
            </a:xfrm>
            <a:prstGeom prst="downArrow">
              <a:avLst>
                <a:gd name="adj1" fmla="val 50000"/>
                <a:gd name="adj2" fmla="val 417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51280" y="5084640"/>
              <a:ext cx="217440" cy="1081080"/>
            </a:xfrm>
            <a:prstGeom prst="downArrow">
              <a:avLst>
                <a:gd name="adj1" fmla="val 50000"/>
                <a:gd name="adj2" fmla="val 1242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64000" y="5877000"/>
              <a:ext cx="216000" cy="288720"/>
            </a:xfrm>
            <a:prstGeom prst="downArrow">
              <a:avLst>
                <a:gd name="adj1" fmla="val 50000"/>
                <a:gd name="adj2" fmla="val 334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85080" y="4005360"/>
              <a:ext cx="216000" cy="2087640"/>
            </a:xfrm>
            <a:prstGeom prst="downArrow">
              <a:avLst>
                <a:gd name="adj1" fmla="val 50000"/>
                <a:gd name="adj2" fmla="val 2416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756-E62E-4F97-BDF5-BDD39E52A71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960720" cy="44640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356000" y="1197000"/>
            <a:ext cx="4608720" cy="46814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79280" y="981000"/>
            <a:ext cx="4464000" cy="50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16400" y="285840"/>
            <a:ext cx="57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-3. Direct photon invariant y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4880" y="1052640"/>
            <a:ext cx="43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Invariant yield of direct photon in PHE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56560" y="5805360"/>
            <a:ext cx="2520000" cy="642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Good agreemen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Ncoll scaled pQC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179280" y="1916280"/>
            <a:ext cx="4105440" cy="32400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538200" y="530064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thermal window         -&gt; 1~3 GeV/c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prompt photon           -&gt; 6~   GeV/c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6680" y="98100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invariant y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5A1-277E-44CC-91FB-402DA7642A9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Nov/2006</a:t>
            </a: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9:29:14Z</dcterms:created>
  <dc:creator>M</dc:creator>
  <dc:description/>
  <dc:language>en-US</dc:language>
  <cp:lastModifiedBy>M</cp:lastModifiedBy>
  <dcterms:modified xsi:type="dcterms:W3CDTF">2006-11-24T00:28:03Z</dcterms:modified>
  <cp:revision>1026</cp:revision>
  <dc:subject/>
  <dc:title>Weekly Report</dc:title>
</cp:coreProperties>
</file>