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ct" ContentType="image/x-pict"/>
  <Override PartName="/ppt/media/image28.png" ContentType="image/png"/>
  <Override PartName="/ppt/media/image7.jpeg" ContentType="image/jpeg"/>
  <Override PartName="/ppt/media/image24.pct" ContentType="image/x-pict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6722-6025-4A29-8658-5E57C520B5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A30-E51C-4829-85A0-0D6BD4A3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3AF-B241-4C80-9061-5F70CFD9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326-38D2-41AF-A52B-D60DF95E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FF3-9CB5-46D4-AA73-CE9F7EE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0CD-F4CB-4B04-BCFB-62C1FDE9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6B8-265B-4423-A5CB-D5BFF5AF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7E4-9C3B-49F8-A926-51DBC956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BF4-33E2-4D5A-84AB-3B30B6D7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97C-14A8-4376-A8A9-9B67447C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B30-1105-4C9B-A40C-F312CFB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B47-02B1-4901-9F20-280FA4B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C1F-01FA-4466-B568-52B6E1B2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2132-8D78-4815-8549-0DC45C01DEDE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440" y="6553080"/>
            <a:ext cx="299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’an workshop, 11/23/2006, Xi’an,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65530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ahiro Konno (Univ. of Tsuku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ct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ct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2920" y="2374920"/>
            <a:ext cx="776736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 Measurement in PHEN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2120" y="4065480"/>
            <a:ext cx="480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hiro Kon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iv. of Tsuku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87480"/>
            <a:ext cx="1746360" cy="57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B52-53CA-4AC2-9A95-D9E5726100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3040" y="152280"/>
            <a:ext cx="279900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80960" y="1784520"/>
            <a:ext cx="1427400" cy="1450800"/>
            <a:chOff x="6780960" y="1784520"/>
            <a:chExt cx="1427400" cy="145080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6781680" y="2714760"/>
              <a:ext cx="1295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780960" y="178452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354120" y="76320"/>
            <a:ext cx="29512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20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3560" y="4299120"/>
            <a:ext cx="20462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-down corr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9320" y="3537000"/>
            <a:ext cx="2027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F (&lt;3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 (&gt;3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6320" y="1066680"/>
            <a:ext cx="8880840" cy="4903560"/>
            <a:chOff x="76320" y="1066680"/>
            <a:chExt cx="8880840" cy="490356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76320" y="1066680"/>
              <a:ext cx="5715000" cy="49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02244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.6 - 1.5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6320" y="1066680"/>
            <a:ext cx="8912520" cy="4902120"/>
            <a:chOff x="76320" y="1066680"/>
            <a:chExt cx="8912520" cy="490212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76320" y="1066680"/>
              <a:ext cx="5713200" cy="49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05412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0 - 2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6320" y="1066680"/>
            <a:ext cx="8912520" cy="4800600"/>
            <a:chOff x="76320" y="1066680"/>
            <a:chExt cx="8912520" cy="4800600"/>
          </a:xfrm>
        </p:grpSpPr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76320" y="1069920"/>
              <a:ext cx="57150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05412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.0 - 3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6320" y="1066680"/>
            <a:ext cx="8880480" cy="4854600"/>
            <a:chOff x="76320" y="1066680"/>
            <a:chExt cx="8880480" cy="4854600"/>
          </a:xfrm>
        </p:grpSpPr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76320" y="1066680"/>
              <a:ext cx="5714640" cy="48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02208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.0 - 4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320" y="1066680"/>
            <a:ext cx="8880840" cy="4876920"/>
            <a:chOff x="76320" y="1066680"/>
            <a:chExt cx="8880840" cy="4876920"/>
          </a:xfrm>
        </p:grpSpPr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76320" y="1066680"/>
              <a:ext cx="57150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02244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.0 - 5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0" y="990720"/>
            <a:ext cx="9144000" cy="5867280"/>
            <a:chOff x="0" y="990720"/>
            <a:chExt cx="9144000" cy="5867280"/>
          </a:xfrm>
        </p:grpSpPr>
        <p:grpSp>
          <p:nvGrpSpPr>
            <p:cNvPr id="173" name=""/>
            <p:cNvGrpSpPr/>
            <p:nvPr/>
          </p:nvGrpSpPr>
          <p:grpSpPr>
            <a:xfrm>
              <a:off x="0" y="990720"/>
              <a:ext cx="9144000" cy="5867280"/>
              <a:chOff x="0" y="990720"/>
              <a:chExt cx="9144000" cy="586728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990720"/>
                <a:ext cx="9144000" cy="586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943600" y="1066680"/>
                <a:ext cx="320040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971800" y="3809880"/>
                <a:ext cx="320040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809880"/>
                <a:ext cx="320040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1066680"/>
                <a:ext cx="319752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40" y="1066680"/>
                <a:ext cx="319716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981440" y="1827000"/>
                <a:ext cx="761760" cy="30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09840" y="3200400"/>
                <a:ext cx="784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90200" y="2666880"/>
                <a:ext cx="458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9840" y="5943600"/>
                <a:ext cx="510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20160" y="5486400"/>
                <a:ext cx="458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68720" y="21337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990720" y="3479760"/>
            <a:ext cx="7391160" cy="13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trality dependence in Cu+Cu looks simila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n Au+Au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 at same sqrt(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ven though overlap region has a different geometrica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light difference in the magnitude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2A7-5807-48DE-934D-247D49485F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4240" y="152280"/>
            <a:ext cx="370116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ow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5029200"/>
            <a:ext cx="754380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adial flow: transverse expansion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t lo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weak and decreasing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 becau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erse sl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expon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tting) also show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52200" y="61722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6360" y="83808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- Radial flow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0360" y="1133640"/>
            <a:ext cx="4273920" cy="3773160"/>
            <a:chOff x="180360" y="1133640"/>
            <a:chExt cx="4273920" cy="377316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320760" y="1797120"/>
              <a:ext cx="40384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80360" y="1523880"/>
              <a:ext cx="2027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nti-)prot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64080" y="113364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9040" y="156852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952880" y="1600200"/>
            <a:ext cx="4130640" cy="3308400"/>
            <a:chOff x="4952880" y="1600200"/>
            <a:chExt cx="4130640" cy="330840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4952880" y="1600200"/>
              <a:ext cx="4130640" cy="33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935760" y="162396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4197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592-EEA9-4F5C-ADAF-3B9B384E05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320" y="3730680"/>
            <a:ext cx="9067680" cy="2822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4880" y="914400"/>
            <a:ext cx="52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- Radial flow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ex. blast-wave fit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7840" y="152280"/>
            <a:ext cx="525888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termediate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4120" y="990720"/>
            <a:ext cx="3504600" cy="2743200"/>
            <a:chOff x="5334120" y="990720"/>
            <a:chExt cx="3504600" cy="2743200"/>
          </a:xfrm>
        </p:grpSpPr>
        <p:grpSp>
          <p:nvGrpSpPr>
            <p:cNvPr id="204" name=""/>
            <p:cNvGrpSpPr/>
            <p:nvPr/>
          </p:nvGrpSpPr>
          <p:grpSpPr>
            <a:xfrm>
              <a:off x="5334120" y="990720"/>
              <a:ext cx="3504600" cy="2743200"/>
              <a:chOff x="5334120" y="990720"/>
              <a:chExt cx="3504600" cy="2743200"/>
            </a:xfrm>
          </p:grpSpPr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4120" y="990720"/>
                <a:ext cx="350460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6053040" y="2810880"/>
                <a:ext cx="1940760" cy="33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039000" y="2743200"/>
              <a:ext cx="202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+Au 200 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19920" y="1600200"/>
            <a:ext cx="4437000" cy="135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a for heavier particles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vex shape due to radial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last-wave fi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function of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5812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4320" y="3352680"/>
            <a:ext cx="2442240" cy="3988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ydro p)/(hydr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560" y="3581280"/>
            <a:ext cx="2361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160" y="3382920"/>
            <a:ext cx="2187720" cy="3988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ydro p)/(rea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600" y="29718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82160" y="762120"/>
            <a:ext cx="160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, 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6477120"/>
            <a:ext cx="9144000" cy="382320"/>
            <a:chOff x="0" y="6477120"/>
            <a:chExt cx="9144000" cy="382320"/>
          </a:xfrm>
        </p:grpSpPr>
        <p:sp>
          <p:nvSpPr>
            <p:cNvPr id="21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133720" y="670572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0960" y="64911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1080" y="649116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84360" y="4470480"/>
            <a:ext cx="80186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dynamic con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rotons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lanations (baryon enhanc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 con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needed: Recombination, Jet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642-490D-4660-B556-17F62C4DFE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51920" y="4813200"/>
            <a:ext cx="3858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mber of models predicted a turn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B/M ratio at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ust above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vailable data finishe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7280" y="5257800"/>
            <a:ext cx="300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s, R et al PRC 68 (2003) 0449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co, V et al PRL 90 (2003) 2023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a, R et al PRC 70(2004) 024905   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7600" y="1576440"/>
            <a:ext cx="381492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590920" y="1554120"/>
          <a:ext cx="1295280" cy="3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54120"/>
                    <a:ext cx="1295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585880" y="2003400"/>
          <a:ext cx="130032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5880" y="2003400"/>
                    <a:ext cx="13003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840" y="8380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- Quark Recombina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000" y="4214880"/>
            <a:ext cx="41202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intermediat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combin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ons may be a more efficient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hadron production than fragmen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1370160"/>
            <a:ext cx="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7840" y="152280"/>
            <a:ext cx="525888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termediate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1840" y="563868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08200" y="76212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495680" y="914400"/>
            <a:ext cx="4267440" cy="3962520"/>
            <a:chOff x="4495680" y="914400"/>
            <a:chExt cx="4267440" cy="3962520"/>
          </a:xfrm>
        </p:grpSpPr>
        <p:pic>
          <p:nvPicPr>
            <p:cNvPr id="236" name="" descr=""/>
            <p:cNvPicPr/>
            <p:nvPr/>
          </p:nvPicPr>
          <p:blipFill>
            <a:blip r:embed="rId6"/>
            <a:stretch/>
          </p:blipFill>
          <p:spPr>
            <a:xfrm>
              <a:off x="4495680" y="1243080"/>
              <a:ext cx="426744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878360" y="106668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/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50200" y="91440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76920" y="3733920"/>
            <a:ext cx="3589560" cy="2819160"/>
            <a:chOff x="4876920" y="3733920"/>
            <a:chExt cx="3589560" cy="2819160"/>
          </a:xfrm>
        </p:grpSpPr>
        <p:grpSp>
          <p:nvGrpSpPr>
            <p:cNvPr id="240" name=""/>
            <p:cNvGrpSpPr/>
            <p:nvPr/>
          </p:nvGrpSpPr>
          <p:grpSpPr>
            <a:xfrm>
              <a:off x="4876920" y="6095880"/>
              <a:ext cx="3589560" cy="457200"/>
              <a:chOff x="4876920" y="6095880"/>
              <a:chExt cx="3589560" cy="457200"/>
            </a:xfrm>
          </p:grpSpPr>
          <p:sp>
            <p:nvSpPr>
              <p:cNvPr id="241" name=""/>
              <p:cNvSpPr/>
              <p:nvPr/>
            </p:nvSpPr>
            <p:spPr>
              <a:xfrm>
                <a:off x="5419080" y="6100560"/>
                <a:ext cx="3047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w, we find a similar tre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6920" y="6095880"/>
                <a:ext cx="457200" cy="45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8000"/>
              </a:solidFill>
              <a:ln w="936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334120" y="3733920"/>
              <a:ext cx="2971800" cy="459720"/>
              <a:chOff x="5334120" y="3733920"/>
              <a:chExt cx="2971800" cy="459720"/>
            </a:xfrm>
          </p:grpSpPr>
          <p:sp>
            <p:nvSpPr>
              <p:cNvPr id="244" name=""/>
              <p:cNvSpPr/>
              <p:nvPr/>
            </p:nvSpPr>
            <p:spPr>
              <a:xfrm>
                <a:off x="5334120" y="3733920"/>
                <a:ext cx="1447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82040" y="3733920"/>
                <a:ext cx="1523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89120" y="3733920"/>
                <a:ext cx="8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Arial"/>
                  </a:rPr>
                  <a:t>A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37400" y="37339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Arial"/>
                  </a:rPr>
                  <a:t>TO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92B-772C-4C86-B0BB-726801D37C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040" y="228600"/>
            <a:ext cx="20660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7960" y="168120"/>
            <a:ext cx="2782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62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6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0880" y="685800"/>
            <a:ext cx="8229600" cy="5122800"/>
            <a:chOff x="380880" y="685800"/>
            <a:chExt cx="8229600" cy="5122800"/>
          </a:xfrm>
        </p:grpSpPr>
        <p:sp>
          <p:nvSpPr>
            <p:cNvPr id="251" name=""/>
            <p:cNvSpPr/>
            <p:nvPr/>
          </p:nvSpPr>
          <p:spPr>
            <a:xfrm>
              <a:off x="7778880" y="68580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380880" y="1258920"/>
              <a:ext cx="8229600" cy="45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96960" y="98424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634760" y="5810400"/>
            <a:ext cx="5907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gain, look at centrality dependence of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imilar tendencies as at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9DF-19BF-4C2C-92C1-081E4F5858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4760" y="1314360"/>
            <a:ext cx="5562360" cy="4172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03040" y="168120"/>
            <a:ext cx="279900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53760" y="244440"/>
            <a:ext cx="2782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62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6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5562720"/>
            <a:ext cx="640080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so at 62 G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u+Au/Cu+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107120" y="4267080"/>
            <a:ext cx="1295640" cy="52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107120" y="333684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46080" y="612144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799400" y="914400"/>
            <a:ext cx="79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402-E1EA-40C2-8CC1-170F82330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5520" y="166680"/>
            <a:ext cx="460764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 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d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06600" y="304920"/>
            <a:ext cx="2782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+Au 20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6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029200"/>
            <a:ext cx="8534160" cy="13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 Au+Au between 62 GeV and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dy scaling of pbar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n.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ton p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t thi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62 GeV is partly from baryon transport, not only pair produ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stopping is still large at 62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720" y="64008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118720" y="533520"/>
            <a:ext cx="79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1317600"/>
            <a:ext cx="4343400" cy="3632400"/>
            <a:chOff x="76320" y="1317600"/>
            <a:chExt cx="4343400" cy="363240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76320" y="1317600"/>
              <a:ext cx="434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839960" y="388620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267080" y="1295280"/>
            <a:ext cx="4724280" cy="3711600"/>
            <a:chOff x="4267080" y="1295280"/>
            <a:chExt cx="4724280" cy="3711600"/>
          </a:xfrm>
        </p:grpSpPr>
        <p:grpSp>
          <p:nvGrpSpPr>
            <p:cNvPr id="272" name=""/>
            <p:cNvGrpSpPr/>
            <p:nvPr/>
          </p:nvGrpSpPr>
          <p:grpSpPr>
            <a:xfrm>
              <a:off x="4267080" y="1295280"/>
              <a:ext cx="4724280" cy="3711600"/>
              <a:chOff x="4267080" y="1295280"/>
              <a:chExt cx="4724280" cy="3711600"/>
            </a:xfrm>
          </p:grpSpPr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7960" y="1295280"/>
                <a:ext cx="43434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4267080" y="2819520"/>
                <a:ext cx="533520" cy="533160"/>
              </a:xfrm>
              <a:prstGeom prst="rightArrow">
                <a:avLst>
                  <a:gd name="adj1" fmla="val 50000"/>
                  <a:gd name="adj2" fmla="val 25017"/>
                </a:avLst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411960" y="39625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867280" y="1981080"/>
            <a:ext cx="2819160" cy="1904760"/>
            <a:chOff x="5867280" y="1981080"/>
            <a:chExt cx="2819160" cy="1904760"/>
          </a:xfrm>
        </p:grpSpPr>
        <p:sp>
          <p:nvSpPr>
            <p:cNvPr id="277" name=""/>
            <p:cNvSpPr/>
            <p:nvPr/>
          </p:nvSpPr>
          <p:spPr>
            <a:xfrm flipV="1">
              <a:off x="5867280" y="3123720"/>
              <a:ext cx="274320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943240" y="2666880"/>
              <a:ext cx="27432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867280" y="1981080"/>
              <a:ext cx="2361960" cy="1524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A00-D6BF-4093-B43A-C9A61989D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827360" y="746280"/>
            <a:ext cx="4773240" cy="4968360"/>
            <a:chOff x="1827360" y="746280"/>
            <a:chExt cx="4773240" cy="496836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1904760" y="1104840"/>
              <a:ext cx="4695840" cy="46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827360" y="7462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707520" y="4114800"/>
            <a:ext cx="212832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 Armenda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6360" y="138240"/>
            <a:ext cx="400572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dy)/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9120" y="5907240"/>
            <a:ext cx="680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nsverse energy 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nection k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D0F-6FE9-4FDB-9601-5E3C611478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63600" y="914400"/>
            <a:ext cx="7962840" cy="3954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76520" y="4952880"/>
            <a:ext cx="5715000" cy="124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-    p/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rati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reasing as a function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 rati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 increasing as a func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Suggesting a significant contribution of bary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transport at lower ener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63960" y="2201760"/>
            <a:ext cx="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50160" y="3115800"/>
            <a:ext cx="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52480" y="6248520"/>
            <a:ext cx="39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44880" y="990720"/>
            <a:ext cx="136800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 Ch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M ‘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3000" y="184320"/>
            <a:ext cx="68133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m energy dependence of 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DE6-B48C-4FC9-83A6-B5CC7B035F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2280" y="1106640"/>
            <a:ext cx="4343400" cy="3922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98080" y="5867280"/>
            <a:ext cx="39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375080" cy="3809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3000" y="184320"/>
            <a:ext cx="68133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m energy dependence of 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4480" y="5334120"/>
            <a:ext cx="672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tipro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ood probe to study the excitation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EBF-8068-4F72-AF65-1F3A191B3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2280" y="228600"/>
            <a:ext cx="195300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960" y="1523880"/>
            <a:ext cx="70434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, PHENIX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article Spect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u+Au, Cu+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u+Au, Cu+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tic F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caling properti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C8B-9FA2-4296-B20A-7D9DB5973A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7920" y="152280"/>
            <a:ext cx="189396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1295280" cy="5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14600" y="152280"/>
                <a:ext cx="2819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1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228600" y="1676520"/>
            <a:ext cx="8077320" cy="3666960"/>
            <a:chOff x="228600" y="1676520"/>
            <a:chExt cx="8077320" cy="3666960"/>
          </a:xfrm>
        </p:grpSpPr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4343400" y="1676520"/>
              <a:ext cx="396252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308" name="" descr=""/>
            <p:cNvPicPr/>
            <p:nvPr/>
          </p:nvPicPr>
          <p:blipFill>
            <a:blip r:embed="rId6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311" name="" descr=""/>
            <p:cNvPicPr/>
            <p:nvPr/>
          </p:nvPicPr>
          <p:blipFill>
            <a:blip r:embed="rId8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>
            <a:off x="1600200" y="5384880"/>
            <a:ext cx="5837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ton, antiproton are enhanced at 1.5 - 4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centralities. (enhancement &gt; 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ppression is seen for pions, ka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15960" y="647712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8000" y="828720"/>
            <a:ext cx="79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0880" y="10508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0" y="1484280"/>
            <a:ext cx="9212400" cy="3849840"/>
            <a:chOff x="0" y="1484280"/>
            <a:chExt cx="9212400" cy="3849840"/>
          </a:xfrm>
        </p:grpSpPr>
        <p:grpSp>
          <p:nvGrpSpPr>
            <p:cNvPr id="318" name=""/>
            <p:cNvGrpSpPr/>
            <p:nvPr/>
          </p:nvGrpSpPr>
          <p:grpSpPr>
            <a:xfrm>
              <a:off x="0" y="1484280"/>
              <a:ext cx="9143640" cy="3849840"/>
              <a:chOff x="0" y="1484280"/>
              <a:chExt cx="9143640" cy="384984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1636920"/>
                <a:ext cx="9143640" cy="358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90560" y="1484280"/>
                <a:ext cx="4114440" cy="384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1" name=""/>
            <p:cNvSpPr/>
            <p:nvPr/>
          </p:nvSpPr>
          <p:spPr>
            <a:xfrm>
              <a:off x="6626880" y="3998880"/>
              <a:ext cx="2585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TE: Systematic errors (~1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 overall normalization not show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38320" y="2475000"/>
            <a:ext cx="6010200" cy="2662920"/>
            <a:chOff x="238320" y="2475000"/>
            <a:chExt cx="6010200" cy="2662920"/>
          </a:xfrm>
        </p:grpSpPr>
        <p:sp>
          <p:nvSpPr>
            <p:cNvPr id="323" name=""/>
            <p:cNvSpPr/>
            <p:nvPr/>
          </p:nvSpPr>
          <p:spPr>
            <a:xfrm>
              <a:off x="3048120" y="2475000"/>
              <a:ext cx="3200400" cy="499680"/>
            </a:xfrm>
            <a:custGeom>
              <a:avLst/>
              <a:gdLst/>
              <a:ahLst/>
              <a:rect l="l" t="t" r="r" b="b"/>
              <a:pathLst>
                <a:path w="2016" h="315">
                  <a:moveTo>
                    <a:pt x="0" y="315"/>
                  </a:moveTo>
                  <a:cubicBezTo>
                    <a:pt x="16" y="274"/>
                    <a:pt x="49" y="119"/>
                    <a:pt x="96" y="67"/>
                  </a:cubicBezTo>
                  <a:cubicBezTo>
                    <a:pt x="143" y="15"/>
                    <a:pt x="204" y="6"/>
                    <a:pt x="280" y="3"/>
                  </a:cubicBezTo>
                  <a:cubicBezTo>
                    <a:pt x="356" y="0"/>
                    <a:pt x="399" y="23"/>
                    <a:pt x="552" y="51"/>
                  </a:cubicBezTo>
                  <a:cubicBezTo>
                    <a:pt x="705" y="79"/>
                    <a:pt x="956" y="135"/>
                    <a:pt x="1200" y="171"/>
                  </a:cubicBezTo>
                  <a:cubicBezTo>
                    <a:pt x="1444" y="207"/>
                    <a:pt x="1740" y="239"/>
                    <a:pt x="2016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8120" y="3236760"/>
              <a:ext cx="3124080" cy="609120"/>
            </a:xfrm>
            <a:custGeom>
              <a:avLst/>
              <a:gdLst/>
              <a:ahLst/>
              <a:rect l="l" t="t" r="r" b="b"/>
              <a:pathLst>
                <a:path w="1968" h="384">
                  <a:moveTo>
                    <a:pt x="0" y="0"/>
                  </a:moveTo>
                  <a:cubicBezTo>
                    <a:pt x="29" y="21"/>
                    <a:pt x="92" y="92"/>
                    <a:pt x="176" y="128"/>
                  </a:cubicBezTo>
                  <a:cubicBezTo>
                    <a:pt x="260" y="164"/>
                    <a:pt x="328" y="183"/>
                    <a:pt x="504" y="216"/>
                  </a:cubicBezTo>
                  <a:cubicBezTo>
                    <a:pt x="680" y="249"/>
                    <a:pt x="988" y="300"/>
                    <a:pt x="1232" y="328"/>
                  </a:cubicBezTo>
                  <a:cubicBezTo>
                    <a:pt x="1476" y="356"/>
                    <a:pt x="1815" y="372"/>
                    <a:pt x="1968" y="3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320" y="3846240"/>
              <a:ext cx="2931480" cy="129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ilar 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pa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epend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u+Au / Cu+C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part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scaling of 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A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Cronin effect in periph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850-7A02-4E48-A54F-2B7C8549FC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77600" y="2666880"/>
            <a:ext cx="420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iptic F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708-90ED-4901-9E14-163E94D307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 flipH="1">
            <a:off x="961200" y="3983400"/>
            <a:ext cx="2113200" cy="226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35680" y="1178280"/>
            <a:ext cx="2113200" cy="226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3240" y="922320"/>
            <a:ext cx="3900960" cy="2548080"/>
            <a:chOff x="183240" y="922320"/>
            <a:chExt cx="3900960" cy="2548080"/>
          </a:xfrm>
        </p:grpSpPr>
        <p:sp>
          <p:nvSpPr>
            <p:cNvPr id="330" name=""/>
            <p:cNvSpPr/>
            <p:nvPr/>
          </p:nvSpPr>
          <p:spPr>
            <a:xfrm rot="11343000">
              <a:off x="3202920" y="102240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978840" y="1138680"/>
              <a:ext cx="848520" cy="908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313640" y="118944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50960" y="1329480"/>
              <a:ext cx="2257560" cy="359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8120" y="238716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3000">
              <a:off x="318600" y="119520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3240" y="251856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434240" y="1240560"/>
              <a:ext cx="1031400" cy="1107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 rot="11343000">
              <a:off x="1355040" y="223740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136880" y="2233080"/>
              <a:ext cx="75924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2402640" y="1069920"/>
              <a:ext cx="1289520" cy="1285200"/>
              <a:chOff x="2402640" y="1069920"/>
              <a:chExt cx="1289520" cy="12852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2402640" y="1069920"/>
                <a:ext cx="1289520" cy="1285200"/>
                <a:chOff x="2402640" y="1069920"/>
                <a:chExt cx="1289520" cy="1285200"/>
              </a:xfrm>
            </p:grpSpPr>
            <p:sp>
              <p:nvSpPr>
                <p:cNvPr id="342" name=""/>
                <p:cNvSpPr/>
                <p:nvPr/>
              </p:nvSpPr>
              <p:spPr>
                <a:xfrm rot="543000">
                  <a:off x="2511000" y="115056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543000">
                  <a:off x="2511360" y="114948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543000">
                  <a:off x="2448000" y="159516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3000">
                  <a:off x="2500560" y="162504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 rot="543000">
                <a:off x="2509560" y="123840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843920" y="113652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48120" y="1408680"/>
              <a:ext cx="667800" cy="10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9880" y="151740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58720" y="1646640"/>
              <a:ext cx="446040" cy="478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3120" y="1709280"/>
              <a:ext cx="2260800" cy="360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140120" y="128520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14920" y="189972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718280" y="1591200"/>
              <a:ext cx="714960" cy="1180440"/>
              <a:chOff x="1718280" y="1591200"/>
              <a:chExt cx="714960" cy="1180440"/>
            </a:xfrm>
          </p:grpSpPr>
          <p:sp>
            <p:nvSpPr>
              <p:cNvPr id="355" name=""/>
              <p:cNvSpPr/>
              <p:nvPr/>
            </p:nvSpPr>
            <p:spPr>
              <a:xfrm rot="543000">
                <a:off x="1801800" y="162828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43000">
                <a:off x="1760040" y="215208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543000">
                <a:off x="1795320" y="215784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543000">
                <a:off x="1801800" y="162720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H="1">
              <a:off x="2109600" y="188100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792440" y="1904400"/>
              <a:ext cx="1157400" cy="1243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56760" y="228276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454040" y="226692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706400" y="223164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92840" y="216288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42080" y="1949760"/>
              <a:ext cx="1280160" cy="1287360"/>
              <a:chOff x="442080" y="1949760"/>
              <a:chExt cx="1280160" cy="1287360"/>
            </a:xfrm>
          </p:grpSpPr>
          <p:sp>
            <p:nvSpPr>
              <p:cNvPr id="366" name=""/>
              <p:cNvSpPr/>
              <p:nvPr/>
            </p:nvSpPr>
            <p:spPr>
              <a:xfrm rot="543000">
                <a:off x="540720" y="203076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43000">
                <a:off x="538200" y="202932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43000">
                <a:off x="487080" y="248436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 rot="11343000">
                <a:off x="1357560" y="222912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543000">
                <a:off x="1332000" y="220716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543000">
                <a:off x="523800" y="257616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>
              <a:off x="1445400" y="2004840"/>
              <a:ext cx="308880" cy="33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26320" y="2388240"/>
              <a:ext cx="140004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3000">
              <a:off x="1247760" y="290520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5200" y="259704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133640" y="2422080"/>
              <a:ext cx="583920" cy="62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26920" y="2795760"/>
              <a:ext cx="191880" cy="206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2280" y="2698560"/>
              <a:ext cx="22788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7880" y="2906280"/>
              <a:ext cx="2210760" cy="352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3000">
              <a:off x="563040" y="276372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435320" y="1774800"/>
              <a:ext cx="1308240" cy="475920"/>
              <a:chOff x="1435320" y="1774800"/>
              <a:chExt cx="1308240" cy="47592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2163960" y="191988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08320" y="189036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382840" y="210888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370960" y="221472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1618200" y="177480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1487160" y="192816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1435320" y="209592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1737720" y="208620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1786320" y="195012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2001600" y="190620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237760" y="203688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212200" y="214488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flipV="1">
                <a:off x="1940040" y="206136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409040" y="2277000"/>
              <a:ext cx="1278000" cy="465120"/>
              <a:chOff x="1409040" y="2277000"/>
              <a:chExt cx="1278000" cy="46512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1853280" y="244980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1583640" y="248472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409040" y="237204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1507680" y="227700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96360" y="255132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9600" y="244476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369520" y="236088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60360" y="236916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43800" y="247248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61000" y="250848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738080" y="245268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681200" y="234684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61000" y="239292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08240" y="266184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50240" y="183276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609000" y="1438560"/>
              <a:ext cx="139680" cy="152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 rot="18639000">
            <a:off x="2656080" y="215244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326680" y="996480"/>
            <a:ext cx="490320" cy="52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3080" y="3245760"/>
            <a:ext cx="642960" cy="9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5840" y="3278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50800" y="898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431800" y="2731320"/>
            <a:ext cx="252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5916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352680"/>
            <a:ext cx="485640" cy="648000"/>
          </a:xfrm>
          <a:prstGeom prst="downArrow">
            <a:avLst>
              <a:gd name="adj1" fmla="val 39213"/>
              <a:gd name="adj2" fmla="val 408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62200" y="49309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68640" y="37828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76640" y="378000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760" y="3736800"/>
            <a:ext cx="3901320" cy="2748240"/>
            <a:chOff x="122760" y="3736800"/>
            <a:chExt cx="3901320" cy="2748240"/>
          </a:xfrm>
        </p:grpSpPr>
        <p:sp>
          <p:nvSpPr>
            <p:cNvPr id="424" name=""/>
            <p:cNvSpPr/>
            <p:nvPr/>
          </p:nvSpPr>
          <p:spPr>
            <a:xfrm>
              <a:off x="1054080" y="491436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421720" y="449208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139120" y="4404960"/>
              <a:ext cx="1227960" cy="1319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802520" y="435240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32440" y="467748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6240" y="529524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731240" y="4919040"/>
              <a:ext cx="1158120" cy="124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918360" y="4152240"/>
              <a:ext cx="848520" cy="90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253160" y="4203360"/>
              <a:ext cx="832320" cy="89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90840" y="4343040"/>
              <a:ext cx="2257200" cy="35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43000">
              <a:off x="258480" y="420984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122760" y="553248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373040" y="4254120"/>
              <a:ext cx="1031760" cy="1107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75320" y="5247360"/>
              <a:ext cx="75996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83800" y="415008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86920" y="4421880"/>
              <a:ext cx="667800" cy="106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08320" y="453168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97520" y="4659480"/>
              <a:ext cx="446040" cy="478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31920" y="472356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078200" y="429912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048760" y="489528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1644840" y="524592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32000" y="517608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384560" y="5018040"/>
              <a:ext cx="308520" cy="331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64760" y="540180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3000">
              <a:off x="693720" y="5876640"/>
              <a:ext cx="192240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14360" y="561096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65360" y="5809680"/>
              <a:ext cx="191520" cy="20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48560" y="5709240"/>
              <a:ext cx="22932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320" y="5919840"/>
              <a:ext cx="2210400" cy="3520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6680" y="5674680"/>
              <a:ext cx="36720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89400" y="484668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547440" y="4451760"/>
              <a:ext cx="140040" cy="153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71800">
              <a:off x="1152000" y="4576320"/>
              <a:ext cx="194472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393200" y="528012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1720" y="548568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1371800">
              <a:off x="802800" y="3961440"/>
              <a:ext cx="281700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63520" y="4863960"/>
              <a:ext cx="192420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265760" y="5162400"/>
              <a:ext cx="642240" cy="69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02080" y="5082480"/>
              <a:ext cx="830880" cy="894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95360" y="4971240"/>
              <a:ext cx="87120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451880" y="521676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2240" y="524196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95560" y="5297040"/>
              <a:ext cx="103968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5160" y="510264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38600" y="4912920"/>
              <a:ext cx="319680" cy="5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64600" y="5218200"/>
              <a:ext cx="35532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080440" y="5215680"/>
              <a:ext cx="896040" cy="963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67280" y="540108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585160" y="4665240"/>
              <a:ext cx="820800" cy="491040"/>
              <a:chOff x="2585160" y="4665240"/>
              <a:chExt cx="820800" cy="491040"/>
            </a:xfrm>
          </p:grpSpPr>
          <p:sp>
            <p:nvSpPr>
              <p:cNvPr id="474" name=""/>
              <p:cNvSpPr/>
              <p:nvPr/>
            </p:nvSpPr>
            <p:spPr>
              <a:xfrm flipV="1">
                <a:off x="2585160" y="475452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2805120" y="466524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2920680" y="490860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033720" y="512136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2674800" y="489672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57520" y="506124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932760" y="4478040"/>
              <a:ext cx="932760" cy="403920"/>
              <a:chOff x="932760" y="4478040"/>
              <a:chExt cx="932760" cy="403920"/>
            </a:xfrm>
          </p:grpSpPr>
          <p:sp>
            <p:nvSpPr>
              <p:cNvPr id="481" name=""/>
              <p:cNvSpPr/>
              <p:nvPr/>
            </p:nvSpPr>
            <p:spPr>
              <a:xfrm flipH="1" flipV="1">
                <a:off x="1231560" y="4478040"/>
                <a:ext cx="30924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1012320" y="4605840"/>
                <a:ext cx="34560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>
                <a:off x="932760" y="4765320"/>
                <a:ext cx="31896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1349280" y="4822200"/>
                <a:ext cx="22536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1583640" y="4559040"/>
                <a:ext cx="19260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1802880" y="4480560"/>
                <a:ext cx="6264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1581840" y="4740840"/>
                <a:ext cx="12240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009080" y="5000040"/>
              <a:ext cx="484560" cy="432000"/>
              <a:chOff x="1009080" y="5000040"/>
              <a:chExt cx="484560" cy="43200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1386720" y="529632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1181160" y="523440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1034640" y="515916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1009080" y="500004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327320" y="518184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1182600" y="506952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453760" y="5329800"/>
              <a:ext cx="784440" cy="351720"/>
              <a:chOff x="2453760" y="5329800"/>
              <a:chExt cx="784440" cy="351720"/>
            </a:xfrm>
          </p:grpSpPr>
          <p:sp>
            <p:nvSpPr>
              <p:cNvPr id="496" name=""/>
              <p:cNvSpPr/>
              <p:nvPr/>
            </p:nvSpPr>
            <p:spPr>
              <a:xfrm>
                <a:off x="2559240" y="549072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42480" y="541512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921040" y="534600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651040" y="532980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37280" y="542736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453760" y="551016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25760" y="536184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"/>
          <p:cNvSpPr/>
          <p:nvPr/>
        </p:nvSpPr>
        <p:spPr>
          <a:xfrm>
            <a:off x="2987280" y="5232960"/>
            <a:ext cx="898200" cy="12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138040" y="3997080"/>
            <a:ext cx="3600" cy="70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709000" y="3847680"/>
            <a:ext cx="490320" cy="52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4038480" y="5257800"/>
            <a:ext cx="5029200" cy="9144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343400" y="380880"/>
            <a:ext cx="4343400" cy="344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 region is like ellips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beginning of coll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anisotropy of th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multiple scatter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(pressure gradient)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ing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atial anisotropy =&gt; momentum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4079880"/>
            <a:ext cx="487656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rmon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urier coef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zimuthal distribution of particles with respect to the 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5257800"/>
            <a:ext cx="68580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2640" y="120600"/>
            <a:ext cx="25963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liptic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E02-219C-48DF-A53C-36D488DD5E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rcRect l="0" t="7205" r="0" b="0"/>
          <a:stretch/>
        </p:blipFill>
        <p:spPr>
          <a:xfrm>
            <a:off x="1676520" y="1101600"/>
            <a:ext cx="5867280" cy="43084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7160040" y="3581280"/>
            <a:ext cx="189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~ 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y ~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10560" y="9288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608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2440" y="169920"/>
            <a:ext cx="321048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aling of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12360" y="5079960"/>
            <a:ext cx="6560280" cy="14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elliptic flow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ss ordering seen at lo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&lt;1.5 GeV/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(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dronic 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anish this m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e but give clear splitting of meson/bary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81480" y="365760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HENIX prelimin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55640" y="76320"/>
            <a:ext cx="200952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aranen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M ‘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809-7132-4096-98B0-A5893F3197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639040" cy="41673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089680" y="3300480"/>
            <a:ext cx="176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HENIX prelimin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24480" y="6075360"/>
            <a:ext cx="4431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n)/n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n)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74640" y="4703760"/>
            <a:ext cx="5880240" cy="14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es dependence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ll account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scal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K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# of qu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onic flow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veloped bef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rons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0440" y="76212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608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2720" y="169920"/>
            <a:ext cx="726876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.-of-Constituent-Quarks Scaling of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372-1918-42CB-A0FE-B65190D509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373040" y="4952880"/>
            <a:ext cx="677232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 mid rapidity, 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(pt,M,b,A)/n~ F(KE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/n)*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ε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(b,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ε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(b,A):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integral elliptic flow of charged had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KE</a:t>
            </a:r>
            <a:r>
              <a:rPr b="1" i="1" lang="ja-JP" sz="2000" spc="-1" strike="noStrike" baseline="-25000">
                <a:solidFill>
                  <a:srgbClr val="ff0000"/>
                </a:solidFill>
                <a:latin typeface="Arial"/>
              </a:rPr>
              <a:t>T 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transverse 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  <a:ea typeface="Arial"/>
              </a:rPr>
              <a:t>n: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number of qu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86600" y="233280"/>
          <a:ext cx="152388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33280"/>
                    <a:ext cx="15238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162000" y="169920"/>
            <a:ext cx="460476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centricity Scaling of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457200" y="1255680"/>
            <a:ext cx="3962520" cy="35449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4572000" y="1173240"/>
            <a:ext cx="4114800" cy="36273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6032520" y="76320"/>
            <a:ext cx="90180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B7C-88A0-4920-8733-4E17FB7D76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621320" y="1114560"/>
            <a:ext cx="4143240" cy="3228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7132680" y="5562720"/>
            <a:ext cx="148572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: 200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d:    62.4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132680" y="4419720"/>
            <a:ext cx="1706400" cy="955800"/>
            <a:chOff x="7132680" y="4419720"/>
            <a:chExt cx="1706400" cy="955800"/>
          </a:xfrm>
        </p:grpSpPr>
        <p:sp>
          <p:nvSpPr>
            <p:cNvPr id="534" name=""/>
            <p:cNvSpPr/>
            <p:nvPr/>
          </p:nvSpPr>
          <p:spPr>
            <a:xfrm>
              <a:off x="7132680" y="4419720"/>
              <a:ext cx="170640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0-4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84960" y="5105520"/>
              <a:ext cx="160560" cy="184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84960" y="4496040"/>
              <a:ext cx="160560" cy="160200"/>
            </a:xfrm>
            <a:prstGeom prst="triangle">
              <a:avLst>
                <a:gd name="adj" fmla="val 50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4960" y="4800600"/>
              <a:ext cx="160560" cy="182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8600" y="1114560"/>
            <a:ext cx="4172040" cy="3228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858720" y="152280"/>
            <a:ext cx="216360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Shimo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PS ‘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2000" y="169920"/>
            <a:ext cx="460476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centricity Scaling of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15440" y="4876920"/>
            <a:ext cx="514620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ε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b,A)/v2(b,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~ 3.1+/-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eccentricity vs.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has different slo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r different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831240" y="514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036-8B88-4A66-AF77-C36B465023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392880" y="2590920"/>
            <a:ext cx="2522520" cy="144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 Au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d    Au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Green Cu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lue    CuC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533520" y="1144440"/>
            <a:ext cx="5562360" cy="41896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64520" y="169920"/>
            <a:ext cx="787680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and System Size dependence of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400800" y="4191120"/>
            <a:ext cx="1706400" cy="631440"/>
            <a:chOff x="6400800" y="4191120"/>
            <a:chExt cx="1706400" cy="631440"/>
          </a:xfrm>
        </p:grpSpPr>
        <p:sp>
          <p:nvSpPr>
            <p:cNvPr id="547" name=""/>
            <p:cNvSpPr/>
            <p:nvPr/>
          </p:nvSpPr>
          <p:spPr>
            <a:xfrm>
              <a:off x="6400800" y="4191120"/>
              <a:ext cx="1706400" cy="63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3080" y="4267080"/>
              <a:ext cx="159840" cy="160560"/>
            </a:xfrm>
            <a:prstGeom prst="triangle">
              <a:avLst>
                <a:gd name="adj" fmla="val 50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53080" y="4572000"/>
              <a:ext cx="159840" cy="182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2823480" y="5567400"/>
            <a:ext cx="383832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scaled by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B9A-4FE6-4E3F-8040-DB6B30BF84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685800" y="1081080"/>
            <a:ext cx="4952880" cy="39481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64520" y="169920"/>
            <a:ext cx="787680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and System Size dependence of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92880" y="1752480"/>
            <a:ext cx="2522520" cy="144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 Au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d    Au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Green Cu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lue    CuC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6469200" y="3429000"/>
            <a:ext cx="1706400" cy="955800"/>
            <a:chOff x="6469200" y="3429000"/>
            <a:chExt cx="1706400" cy="955800"/>
          </a:xfrm>
        </p:grpSpPr>
        <p:sp>
          <p:nvSpPr>
            <p:cNvPr id="555" name=""/>
            <p:cNvSpPr/>
            <p:nvPr/>
          </p:nvSpPr>
          <p:spPr>
            <a:xfrm>
              <a:off x="6469200" y="3429000"/>
              <a:ext cx="170640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0-4.0 GeV/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1480" y="4114800"/>
              <a:ext cx="160560" cy="184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21480" y="3505320"/>
              <a:ext cx="160560" cy="160200"/>
            </a:xfrm>
            <a:prstGeom prst="triangle">
              <a:avLst>
                <a:gd name="adj" fmla="val 50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21480" y="3809880"/>
              <a:ext cx="160560" cy="182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685520" y="5410080"/>
            <a:ext cx="602064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rather scaled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ccentr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BC4-9464-4598-B484-4B75A5F27E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5520" y="152280"/>
            <a:ext cx="2350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78480" y="914400"/>
            <a:ext cx="7776360" cy="59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reach of PID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especially for p, pbar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extend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u+Au/Cu+Cu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2) New PID detector (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Aerog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(Anti-)Proton enhanceme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s obser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Au+Au/Cu+Cu collisions at 200/62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rat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1) Indicating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a transition from soft to har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production at intermediat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scal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/dy scal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over different collision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Recombination + radial flo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ould explain th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ependencies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PI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KE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caling,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NC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Eccentricit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Systematic study of PID spectra, elliptic 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and jet correla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r different collision systems can provid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 understand the hadron production mech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D6C-5FE4-4391-B4A7-2EFA758081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000" y="2666880"/>
            <a:ext cx="788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gle Particle Spect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58F-BCFC-42AC-901C-311E5C059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201480" y="2876400"/>
            <a:ext cx="30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B3E-826B-4C6B-8657-70A5589C10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4190760" cy="30448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419720" y="1519200"/>
            <a:ext cx="4724280" cy="2747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93400" y="120600"/>
            <a:ext cx="84682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m energy dependence of net pro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38760" y="121932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313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21880" y="123336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410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9907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20680" y="4784760"/>
            <a:ext cx="88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shape of net proton distribution change dramatically with beam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02400" y="34894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88400" y="348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4280" y="5184720"/>
            <a:ext cx="65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 could be a good indicator of therm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16E-45AD-4490-9530-191CF143E2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038960" y="5181480"/>
            <a:ext cx="7088400" cy="111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vs KE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– is a good way to see if  v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 for the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foll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that for mesons or bar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/n vs KE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/n  scaling clearly works for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meson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3434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120" y="169920"/>
            <a:ext cx="295272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hi me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70E-63FD-450F-990C-8DCF273F657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7242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3640" y="259092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186920" y="5241960"/>
            <a:ext cx="704484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 scaling works for the full measured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eviation less than 10% from the universal scaling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2720" y="169920"/>
            <a:ext cx="726876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.-of-Constituent-Quarks Scaling of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435-C517-40CA-9FD1-DF92FBB7B8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760" y="196920"/>
            <a:ext cx="39679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ysics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3600" y="5156280"/>
            <a:ext cx="7388280" cy="135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-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up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e to parton energy l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edium (jet quench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pression patterns depend on particle typ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s are enhanced, while pions and kaons are sup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9200" y="2039760"/>
            <a:ext cx="4114800" cy="2895480"/>
            <a:chOff x="79200" y="2039760"/>
            <a:chExt cx="4114800" cy="289548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79200" y="2057040"/>
              <a:ext cx="411480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553680" y="2039760"/>
              <a:ext cx="3587040" cy="254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83760" y="17193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5825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3048120"/>
                <a:ext cx="1978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12720" y="3487680"/>
            <a:ext cx="1143000" cy="99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6680" y="85248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Baryon Enhancemen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414680" y="1633680"/>
            <a:ext cx="4609080" cy="3319200"/>
            <a:chOff x="4414680" y="1633680"/>
            <a:chExt cx="4609080" cy="331920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4414680" y="2039760"/>
              <a:ext cx="442440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735240" y="1657440"/>
              <a:ext cx="228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L 91, 172301 (200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4000" y="1633680"/>
              <a:ext cx="128124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1600200"/>
            <a:ext cx="4343400" cy="3360240"/>
            <a:chOff x="0" y="1600200"/>
            <a:chExt cx="4343400" cy="3360240"/>
          </a:xfrm>
        </p:grpSpPr>
        <p:pic>
          <p:nvPicPr>
            <p:cNvPr id="71" name="" descr=""/>
            <p:cNvPicPr/>
            <p:nvPr/>
          </p:nvPicPr>
          <p:blipFill>
            <a:blip r:embed="rId4"/>
            <a:srcRect l="0" t="5441" r="4146" b="0"/>
            <a:stretch/>
          </p:blipFill>
          <p:spPr>
            <a:xfrm>
              <a:off x="0" y="1773000"/>
              <a:ext cx="4343400" cy="31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985400" y="1600200"/>
              <a:ext cx="232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PRC 74, 024904 (200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5029200"/>
            <a:ext cx="9144000" cy="1752480"/>
            <a:chOff x="0" y="5029200"/>
            <a:chExt cx="9144000" cy="1752480"/>
          </a:xfrm>
        </p:grpSpPr>
        <p:sp>
          <p:nvSpPr>
            <p:cNvPr id="74" name=""/>
            <p:cNvSpPr/>
            <p:nvPr/>
          </p:nvSpPr>
          <p:spPr>
            <a:xfrm>
              <a:off x="0" y="5029200"/>
              <a:ext cx="9144000" cy="175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90720" y="5232240"/>
              <a:ext cx="7467480" cy="13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- p/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ratio ~1 for central Au+Au at intermediate p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(2-4 GeV/c)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- Larger than expected from jet fragmentation 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(measured in pp, e</a:t>
              </a:r>
              <a:r>
                <a:rPr b="0" lang="ja-JP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- Baryon / Meson difference at intermediate p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Osaka"/>
                </a:rPr>
                <a:t>- Several models try to reproduce the da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72080" y="1295280"/>
            <a:ext cx="635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5105520"/>
            <a:ext cx="9144000" cy="1752120"/>
            <a:chOff x="0" y="5105520"/>
            <a:chExt cx="9144000" cy="1752120"/>
          </a:xfrm>
        </p:grpSpPr>
        <p:sp>
          <p:nvSpPr>
            <p:cNvPr id="78" name=""/>
            <p:cNvSpPr/>
            <p:nvPr/>
          </p:nvSpPr>
          <p:spPr>
            <a:xfrm>
              <a:off x="0" y="5105520"/>
              <a:ext cx="9144000" cy="175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93840" y="5188680"/>
              <a:ext cx="5999400" cy="1395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the origin of (anti-)prot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enhan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t intermediate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~5 GeV/c)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systematic stud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t intermediate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cessary over different collisions system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50760" y="5772960"/>
              <a:ext cx="1097280" cy="584280"/>
            </a:xfrm>
            <a:prstGeom prst="rightArrow">
              <a:avLst>
                <a:gd name="adj1" fmla="val 50000"/>
                <a:gd name="adj2" fmla="val 46950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FC0-F54C-49A6-8A10-BF9DD35CD8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3048120" cy="236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136440"/>
            <a:ext cx="4114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ENIX det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95680" y="93024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21120" y="3154320"/>
            <a:ext cx="308232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erogel Cherenkov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073240"/>
            <a:ext cx="457200" cy="762120"/>
          </a:xfrm>
          <a:prstGeom prst="ellipse">
            <a:avLst/>
          </a:prstGeom>
          <a:noFill/>
          <a:ln w="442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67080" y="2590560"/>
            <a:ext cx="83844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9440" y="457200"/>
            <a:ext cx="270756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 Calorimeter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03160" y="762120"/>
            <a:ext cx="8863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57440" y="838080"/>
            <a:ext cx="15228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924320" y="1463760"/>
            <a:ext cx="304920" cy="10666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33000" y="3902040"/>
            <a:ext cx="24195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omentum mea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095520" y="2758680"/>
            <a:ext cx="1219320" cy="11430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360" y="5029200"/>
            <a:ext cx="22669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ing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1,PC2,PC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714640" y="3520800"/>
            <a:ext cx="762120" cy="15080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3341400">
            <a:off x="5599800" y="2797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680" y="1041480"/>
            <a:ext cx="38318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tral Arm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 and Reaction 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on an E-by-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(particle identification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ful tool to study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3047760" cy="23446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38720" y="3778200"/>
            <a:ext cx="2152800" cy="565920"/>
            <a:chOff x="738720" y="3778200"/>
            <a:chExt cx="2152800" cy="565920"/>
          </a:xfrm>
        </p:grpSpPr>
        <p:sp>
          <p:nvSpPr>
            <p:cNvPr id="99" name=""/>
            <p:cNvSpPr/>
            <p:nvPr/>
          </p:nvSpPr>
          <p:spPr>
            <a:xfrm>
              <a:off x="738720" y="4006800"/>
              <a:ext cx="2152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 (p) ID up to 7 GeV/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4440" y="377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356640" y="3778200"/>
            <a:ext cx="2152800" cy="565920"/>
            <a:chOff x="3356640" y="3778200"/>
            <a:chExt cx="2152800" cy="565920"/>
          </a:xfrm>
        </p:grpSpPr>
        <p:sp>
          <p:nvSpPr>
            <p:cNvPr id="102" name=""/>
            <p:cNvSpPr/>
            <p:nvPr/>
          </p:nvSpPr>
          <p:spPr>
            <a:xfrm>
              <a:off x="3356640" y="4006800"/>
              <a:ext cx="2152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 (p) ID up to 4 GeV/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2720" y="377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093480" y="367200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ime of Flight (T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512040"/>
            <a:ext cx="17524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eto for proton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49560" y="5821200"/>
            <a:ext cx="4122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0840" y="4587840"/>
            <a:ext cx="4734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65000" y="4359240"/>
            <a:ext cx="32076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36576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erogel Cherenkov (A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944-9B7D-4684-8162-428E5BA128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1040" y="120600"/>
            <a:ext cx="636012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pectr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u+Cu √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200 Ge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8280" y="632448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71600" y="838080"/>
            <a:ext cx="6400800" cy="4571640"/>
            <a:chOff x="1371600" y="838080"/>
            <a:chExt cx="6400800" cy="457164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71600" y="1014840"/>
              <a:ext cx="6400800" cy="439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209680" y="1585800"/>
              <a:ext cx="99072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868720" y="83808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838080" y="5308560"/>
            <a:ext cx="769644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u+Cu is a smaller system compared to Au+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ch extended for (anti-)protons with fine centrality b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 (1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 Cherenk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2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ough stat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u+Au/Cu+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00" y="914400"/>
            <a:ext cx="211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ti-)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08200" y="91440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BC8-A85E-4E3F-B8D2-B8FFD2981D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2480" y="196920"/>
            <a:ext cx="545364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pectr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+p √s = 200 G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6120" y="4819680"/>
            <a:ext cx="8261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 statistics 200 GeV p+p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10 times statistics used compared to previous Run3 p+p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+p data provid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seline spectra to heavy ion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quantify in-medium nuclear effects in heavy ion collisions at RH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3000" y="61722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00040" y="762120"/>
            <a:ext cx="8069040" cy="3868560"/>
            <a:chOff x="500040" y="762120"/>
            <a:chExt cx="8069040" cy="3868560"/>
          </a:xfrm>
        </p:grpSpPr>
        <p:grpSp>
          <p:nvGrpSpPr>
            <p:cNvPr id="123" name=""/>
            <p:cNvGrpSpPr/>
            <p:nvPr/>
          </p:nvGrpSpPr>
          <p:grpSpPr>
            <a:xfrm>
              <a:off x="500040" y="1295280"/>
              <a:ext cx="8034480" cy="3335400"/>
              <a:chOff x="500040" y="1295280"/>
              <a:chExt cx="8034480" cy="33354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40" y="1295280"/>
                <a:ext cx="8034480" cy="333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3487680"/>
                <a:ext cx="990720" cy="39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5411520" y="356364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henix prelimin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778880" y="76212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64B-BB0A-4F1B-94E0-AC73215FBF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1840" y="120600"/>
            <a:ext cx="20660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98600" y="91440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906800" y="914400"/>
            <a:ext cx="603000" cy="459720"/>
            <a:chOff x="4906800" y="914400"/>
            <a:chExt cx="603000" cy="459720"/>
          </a:xfrm>
        </p:grpSpPr>
        <p:sp>
          <p:nvSpPr>
            <p:cNvPr id="132" name=""/>
            <p:cNvSpPr/>
            <p:nvPr/>
          </p:nvSpPr>
          <p:spPr>
            <a:xfrm>
              <a:off x="4906800" y="91440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8440" y="990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379160" y="4664160"/>
            <a:ext cx="6787440" cy="14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atios seem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urn over at intermediate 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close to the value of fragmentation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ear peak in central events than that in periph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dicat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transition from soft to h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1240" y="6035760"/>
            <a:ext cx="4498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OTE: -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 p+p data 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RC 74, 024904 (2006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9400" y="304920"/>
            <a:ext cx="239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8200" y="75240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D50-8BA4-4C37-85CD-2AA0F0D986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4897440"/>
            <a:ext cx="79246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ryon enhanc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served in Cu+Cu at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u+Cu is similar to that in Au+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How about the magnitude as a function of centrality? se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1600" y="601992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990720"/>
            <a:ext cx="7238880" cy="3809520"/>
            <a:chOff x="838080" y="990720"/>
            <a:chExt cx="7238880" cy="3809520"/>
          </a:xfrm>
        </p:grpSpPr>
        <p:sp>
          <p:nvSpPr>
            <p:cNvPr id="141" name=""/>
            <p:cNvSpPr/>
            <p:nvPr/>
          </p:nvSpPr>
          <p:spPr>
            <a:xfrm>
              <a:off x="5901840" y="990720"/>
              <a:ext cx="20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8080" y="1311480"/>
              <a:ext cx="7238880" cy="348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8008200" y="75240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1840" y="120600"/>
            <a:ext cx="20660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9400" y="304920"/>
            <a:ext cx="24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7080" y="99072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05280" y="990720"/>
            <a:ext cx="603000" cy="459720"/>
            <a:chOff x="4805280" y="990720"/>
            <a:chExt cx="603000" cy="459720"/>
          </a:xfrm>
        </p:grpSpPr>
        <p:sp>
          <p:nvSpPr>
            <p:cNvPr id="148" name=""/>
            <p:cNvSpPr/>
            <p:nvPr/>
          </p:nvSpPr>
          <p:spPr>
            <a:xfrm>
              <a:off x="4805280" y="99072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920" y="10666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444-CC88-4244-A4EC-F26982F36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7:20:02Z</dcterms:created>
  <dc:creator>M. Konno</dc:creator>
  <dc:description/>
  <dc:language>en-US</dc:language>
  <cp:lastModifiedBy>M. Konno</cp:lastModifiedBy>
  <dcterms:modified xsi:type="dcterms:W3CDTF">2006-11-28T10:35:29Z</dcterms:modified>
  <cp:revision>278</cp:revision>
  <dc:subject/>
  <dc:title>PowerPoint プレゼンテーション</dc:title>
</cp:coreProperties>
</file>