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79.wmf" ContentType="image/x-wmf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32.wmf" ContentType="image/x-wmf"/>
  <Override PartName="/ppt/media/image75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91.png" ContentType="image/png"/>
  <Override PartName="/ppt/media/image2.png" ContentType="image/png"/>
  <Override PartName="/ppt/media/image14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107.jpeg" ContentType="image/jpe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3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97.png" ContentType="image/png"/>
  <Override PartName="/ppt/media/image104.png" ContentType="image/png"/>
  <Override PartName="/ppt/media/image110.jpeg" ContentType="image/jpeg"/>
  <Override PartName="/ppt/media/image60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109.jpeg" ContentType="image/jpeg"/>
  <Override PartName="/ppt/media/image101.png" ContentType="image/png"/>
  <Override PartName="/ppt/media/image112.png" ContentType="image/png"/>
  <Override PartName="/ppt/media/image108.jpeg" ContentType="image/jpeg"/>
  <Override PartName="/ppt/media/image106.png" ContentType="image/png"/>
  <Override PartName="/ppt/media/image99.png" ContentType="image/png"/>
  <Override PartName="/ppt/media/image68.png" ContentType="image/png"/>
  <Override PartName="/ppt/media/image67.png" ContentType="image/png"/>
  <Override PartName="/ppt/media/image28.wmf" ContentType="image/x-wmf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62.wmf" ContentType="image/x-wmf"/>
  <Override PartName="/ppt/media/image22.png" ContentType="image/png"/>
  <Override PartName="/ppt/media/image59.png" ContentType="image/png"/>
  <Override PartName="/ppt/media/image24.png" ContentType="image/png"/>
  <Override PartName="/ppt/media/image23.png" ContentType="image/png"/>
  <Override PartName="/ppt/media/image80.wmf" ContentType="image/x-wmf"/>
  <Override PartName="/ppt/media/image58.png" ContentType="image/png"/>
  <Override PartName="/ppt/media/image20.png" ContentType="image/png"/>
  <Override PartName="/ppt/media/image57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9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F154-B33B-4365-81C5-37AA07B6500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4ED6-7F3D-45C8-9A0A-86FDDBAB93A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7809-4414-481F-A2A4-D1EF4C156E0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CC19-D2F2-428F-9DC5-9948D149951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7B3-C711-4C60-BB95-1E6450F7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718-2CEA-4E6B-8584-3927234F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A6A-7690-474F-89D3-5D341FFC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8F0-5065-4F16-A623-0E91C7CF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F08-31DA-45A2-815A-A1AEDC99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92E7-2189-430C-A43E-0ED93640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7D8-FE04-4B75-92B3-8A514610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BBA-4747-46E9-B689-899899ED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2EBD-A88F-4B42-81A6-9D849967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C7FB-F0C2-4857-A1A8-D7C5B253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444-8C60-4073-9A75-B808B4BB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372F-E237-49D2-AB94-D3A4672F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552720"/>
            <a:ext cx="3276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552720"/>
            <a:ext cx="4267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400" y="655272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6A74-528B-478D-BCD9-E97343EC1F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69.png"/><Relationship Id="rId3" Type="http://schemas.openxmlformats.org/officeDocument/2006/relationships/image" Target="../media/image69.png"/><Relationship Id="rId4" Type="http://schemas.openxmlformats.org/officeDocument/2006/relationships/image" Target="../media/image72.png"/><Relationship Id="rId5" Type="http://schemas.openxmlformats.org/officeDocument/2006/relationships/image" Target="../media/image69.png"/><Relationship Id="rId6" Type="http://schemas.openxmlformats.org/officeDocument/2006/relationships/image" Target="../media/image69.png"/><Relationship Id="rId7" Type="http://schemas.openxmlformats.org/officeDocument/2006/relationships/image" Target="../media/image73.png"/><Relationship Id="rId8" Type="http://schemas.openxmlformats.org/officeDocument/2006/relationships/image" Target="../media/image69.png"/><Relationship Id="rId9" Type="http://schemas.openxmlformats.org/officeDocument/2006/relationships/image" Target="../media/image69.png"/><Relationship Id="rId10" Type="http://schemas.openxmlformats.org/officeDocument/2006/relationships/image" Target="../media/image69.png"/><Relationship Id="rId11" Type="http://schemas.openxmlformats.org/officeDocument/2006/relationships/image" Target="../media/image74.png"/><Relationship Id="rId12" Type="http://schemas.openxmlformats.org/officeDocument/2006/relationships/image" Target="../media/image7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69.png"/><Relationship Id="rId5" Type="http://schemas.openxmlformats.org/officeDocument/2006/relationships/image" Target="../media/image69.png"/><Relationship Id="rId6" Type="http://schemas.openxmlformats.org/officeDocument/2006/relationships/image" Target="../media/image76.png"/><Relationship Id="rId7" Type="http://schemas.openxmlformats.org/officeDocument/2006/relationships/image" Target="../media/image69.png"/><Relationship Id="rId8" Type="http://schemas.openxmlformats.org/officeDocument/2006/relationships/image" Target="../media/image69.png"/><Relationship Id="rId9" Type="http://schemas.openxmlformats.org/officeDocument/2006/relationships/image" Target="../media/image77.png"/><Relationship Id="rId10" Type="http://schemas.openxmlformats.org/officeDocument/2006/relationships/image" Target="../media/image69.png"/><Relationship Id="rId11" Type="http://schemas.openxmlformats.org/officeDocument/2006/relationships/image" Target="../media/image69.png"/><Relationship Id="rId12" Type="http://schemas.openxmlformats.org/officeDocument/2006/relationships/image" Target="../media/image6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0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7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0.wmf"/><Relationship Id="rId8" Type="http://schemas.openxmlformats.org/officeDocument/2006/relationships/image" Target="../media/image83.png"/><Relationship Id="rId9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6.png"/><Relationship Id="rId3" Type="http://schemas.openxmlformats.org/officeDocument/2006/relationships/image" Target="../media/image85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6.png"/><Relationship Id="rId7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83.png"/><Relationship Id="rId5" Type="http://schemas.openxmlformats.org/officeDocument/2006/relationships/image" Target="../media/image95.png"/><Relationship Id="rId6" Type="http://schemas.openxmlformats.org/officeDocument/2006/relationships/image" Target="../media/image91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image" Target="../media/image99.png"/><Relationship Id="rId6" Type="http://schemas.openxmlformats.org/officeDocument/2006/relationships/slideLayout" Target="../slideLayouts/slideLayout7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0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8.jpeg"/><Relationship Id="rId3" Type="http://schemas.openxmlformats.org/officeDocument/2006/relationships/image" Target="../media/image109.jpeg"/><Relationship Id="rId4" Type="http://schemas.openxmlformats.org/officeDocument/2006/relationships/image" Target="../media/image110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png"/><Relationship Id="rId3" Type="http://schemas.openxmlformats.org/officeDocument/2006/relationships/image" Target="../media/image11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41040" y="1143000"/>
            <a:ext cx="517644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Jet correlation and modification at RH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-- 2 and 3 particle correlation 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hinIchi Esu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Inst. of Physics, Univ. of Tsuku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CD3-C82A-4BDB-8EF7-2AB03279FE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76320" y="1062000"/>
            <a:ext cx="5105160" cy="45766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181480" y="479592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it away-side peak with double Gaussi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ach centered at </a:t>
            </a:r>
            <a:r>
              <a:rPr b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68526" r="0" b="0"/>
          <a:stretch/>
        </p:blipFill>
        <p:spPr>
          <a:xfrm>
            <a:off x="5181480" y="1671480"/>
            <a:ext cx="3962520" cy="28242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57800" y="1230480"/>
            <a:ext cx="253008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PHENIX nucl-ex/06110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43D1-7D14-4E9B-9060-481EF8280DB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221480" y="83808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+Au / p+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200 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7440" y="1371600"/>
            <a:ext cx="251964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Arial"/>
                <a:ea typeface="Arial"/>
              </a:rPr>
              <a:t>arXiv:0705.3238 [nucl-ex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47242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er-trigger yield vs. </a:t>
            </a:r>
            <a:r>
              <a:rPr b="0" i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or various trigger and partner 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ja-JP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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ja-JP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52880" y="2133720"/>
            <a:ext cx="411480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Establish the punch-through jet component (“Head Region”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SimSun"/>
              </a:rPr>
              <a:t>and the medium-induced component (“Shoulder Region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R+SR (|</a:t>
            </a:r>
            <a:r>
              <a:rPr b="0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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|&lt;=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 HR (|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0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6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419360" cy="26971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733920" y="2514600"/>
            <a:ext cx="1371600" cy="380880"/>
          </a:xfrm>
          <a:custGeom>
            <a:avLst/>
            <a:gdLst/>
            <a:ahLst/>
            <a:rect l="l" t="t" r="r" b="b"/>
            <a:pathLst>
              <a:path w="1782" h="624">
                <a:moveTo>
                  <a:pt x="1782" y="0"/>
                </a:moveTo>
                <a:cubicBezTo>
                  <a:pt x="1556" y="15"/>
                  <a:pt x="703" y="55"/>
                  <a:pt x="426" y="92"/>
                </a:cubicBezTo>
                <a:cubicBezTo>
                  <a:pt x="149" y="129"/>
                  <a:pt x="187" y="168"/>
                  <a:pt x="119" y="223"/>
                </a:cubicBezTo>
                <a:cubicBezTo>
                  <a:pt x="51" y="278"/>
                  <a:pt x="38" y="355"/>
                  <a:pt x="19" y="422"/>
                </a:cubicBezTo>
                <a:cubicBezTo>
                  <a:pt x="0" y="489"/>
                  <a:pt x="9" y="582"/>
                  <a:pt x="6" y="62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48120" y="3124080"/>
            <a:ext cx="2133360" cy="685800"/>
          </a:xfrm>
          <a:custGeom>
            <a:avLst/>
            <a:gdLst/>
            <a:ahLst/>
            <a:rect l="l" t="t" r="r" b="b"/>
            <a:pathLst>
              <a:path w="1596" h="519">
                <a:moveTo>
                  <a:pt x="1596" y="0"/>
                </a:moveTo>
                <a:cubicBezTo>
                  <a:pt x="1554" y="20"/>
                  <a:pt x="1475" y="45"/>
                  <a:pt x="1342" y="123"/>
                </a:cubicBezTo>
                <a:cubicBezTo>
                  <a:pt x="1209" y="201"/>
                  <a:pt x="965" y="417"/>
                  <a:pt x="797" y="468"/>
                </a:cubicBezTo>
                <a:cubicBezTo>
                  <a:pt x="629" y="519"/>
                  <a:pt x="469" y="465"/>
                  <a:pt x="336" y="430"/>
                </a:cubicBezTo>
                <a:cubicBezTo>
                  <a:pt x="203" y="395"/>
                  <a:pt x="70" y="291"/>
                  <a:pt x="0" y="255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67080" y="3124080"/>
            <a:ext cx="914400" cy="533520"/>
          </a:xfrm>
          <a:custGeom>
            <a:avLst/>
            <a:gdLst/>
            <a:ahLst/>
            <a:rect l="l" t="t" r="r" b="b"/>
            <a:pathLst>
              <a:path w="1596" h="519">
                <a:moveTo>
                  <a:pt x="1596" y="0"/>
                </a:moveTo>
                <a:cubicBezTo>
                  <a:pt x="1554" y="20"/>
                  <a:pt x="1475" y="45"/>
                  <a:pt x="1342" y="123"/>
                </a:cubicBezTo>
                <a:cubicBezTo>
                  <a:pt x="1209" y="201"/>
                  <a:pt x="965" y="417"/>
                  <a:pt x="797" y="468"/>
                </a:cubicBezTo>
                <a:cubicBezTo>
                  <a:pt x="629" y="519"/>
                  <a:pt x="469" y="465"/>
                  <a:pt x="336" y="430"/>
                </a:cubicBezTo>
                <a:cubicBezTo>
                  <a:pt x="203" y="395"/>
                  <a:pt x="70" y="291"/>
                  <a:pt x="0" y="255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178-08FF-4278-A169-5B30FC860B6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60080" y="304920"/>
            <a:ext cx="15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+Au / p+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200 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6858000" cy="59259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402240" y="152280"/>
            <a:ext cx="251964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Arial"/>
                <a:ea typeface="Arial"/>
              </a:rPr>
              <a:t>arXiv:0705.3238 [nucl-ex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3BF-D635-4807-858F-8196FCDAAC6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rcRect l="8000" t="0" r="1334" b="0"/>
          <a:stretch/>
        </p:blipFill>
        <p:spPr>
          <a:xfrm>
            <a:off x="2743200" y="152280"/>
            <a:ext cx="4419720" cy="7876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1752480" y="979560"/>
            <a:ext cx="7083720" cy="508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1E8-2204-45F9-9DEB-0421700ED66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4468680" cy="49291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635360" y="1143000"/>
            <a:ext cx="4356360" cy="490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28600" y="457200"/>
                <a:ext cx="40384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Hea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dΔφ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e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Δφ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/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Shoulder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dΔφ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e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Δφ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D12-1772-404A-ADF9-2A79CCBBE1B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152280" y="304920"/>
            <a:ext cx="3733920" cy="2819160"/>
            <a:chOff x="152280" y="304920"/>
            <a:chExt cx="3733920" cy="2819160"/>
          </a:xfrm>
        </p:grpSpPr>
        <p:pic>
          <p:nvPicPr>
            <p:cNvPr id="325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373392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735120" y="91728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PHENIX Prelimin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5486400" cy="34257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4572000" y="76320"/>
            <a:ext cx="3962520" cy="2847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334120" y="590400"/>
            <a:ext cx="2514600" cy="2048400"/>
            <a:chOff x="5334120" y="590400"/>
            <a:chExt cx="2514600" cy="2048400"/>
          </a:xfrm>
        </p:grpSpPr>
        <p:sp>
          <p:nvSpPr>
            <p:cNvPr id="330" name=""/>
            <p:cNvSpPr/>
            <p:nvPr/>
          </p:nvSpPr>
          <p:spPr>
            <a:xfrm>
              <a:off x="6934320" y="1981080"/>
              <a:ext cx="838080" cy="22860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34320" y="1600200"/>
              <a:ext cx="91440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37200" y="866880"/>
              <a:ext cx="843120" cy="284040"/>
            </a:xfrm>
            <a:custGeom>
              <a:avLst/>
              <a:gdLst/>
              <a:ahLst/>
              <a:rect l="l" t="t" r="r" b="b"/>
              <a:pathLst>
                <a:path w="531" h="179">
                  <a:moveTo>
                    <a:pt x="0" y="0"/>
                  </a:moveTo>
                  <a:lnTo>
                    <a:pt x="531" y="179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45480" y="590400"/>
              <a:ext cx="842760" cy="127080"/>
            </a:xfrm>
            <a:custGeom>
              <a:avLst/>
              <a:gdLst/>
              <a:ahLst/>
              <a:rect l="l" t="t" r="r" b="b"/>
              <a:pathLst>
                <a:path w="531" h="80">
                  <a:moveTo>
                    <a:pt x="0" y="0"/>
                  </a:moveTo>
                  <a:lnTo>
                    <a:pt x="531" y="8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45280" y="1954080"/>
              <a:ext cx="866520" cy="284400"/>
            </a:xfrm>
            <a:custGeom>
              <a:avLst/>
              <a:gdLst/>
              <a:ahLst/>
              <a:rect l="l" t="t" r="r" b="b"/>
              <a:pathLst>
                <a:path w="546" h="179">
                  <a:moveTo>
                    <a:pt x="0" y="0"/>
                  </a:moveTo>
                  <a:lnTo>
                    <a:pt x="546" y="179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34120" y="1676520"/>
              <a:ext cx="877680" cy="380880"/>
            </a:xfrm>
            <a:custGeom>
              <a:avLst/>
              <a:gdLst/>
              <a:ahLst/>
              <a:rect l="l" t="t" r="r" b="b"/>
              <a:pathLst>
                <a:path w="553" h="240">
                  <a:moveTo>
                    <a:pt x="0" y="0"/>
                  </a:moveTo>
                  <a:lnTo>
                    <a:pt x="553" y="24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75160" y="1190520"/>
              <a:ext cx="852480" cy="39960"/>
            </a:xfrm>
            <a:custGeom>
              <a:avLst/>
              <a:gdLst/>
              <a:ahLst/>
              <a:rect l="l" t="t" r="r" b="b"/>
              <a:pathLst>
                <a:path w="537" h="25">
                  <a:moveTo>
                    <a:pt x="0" y="25"/>
                  </a:moveTo>
                  <a:lnTo>
                    <a:pt x="537" y="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69040" y="789120"/>
              <a:ext cx="858600" cy="258480"/>
            </a:xfrm>
            <a:custGeom>
              <a:avLst/>
              <a:gdLst/>
              <a:ahLst/>
              <a:rect l="l" t="t" r="r" b="b"/>
              <a:pathLst>
                <a:path w="541" h="163">
                  <a:moveTo>
                    <a:pt x="0" y="163"/>
                  </a:moveTo>
                  <a:lnTo>
                    <a:pt x="541" y="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00800" y="25146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00800" y="236232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51800" y="220968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ent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51080" y="2362320"/>
              <a:ext cx="86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eriphe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718-86F8-4337-889C-7B74CDFE28F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2971800" cy="23526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3048120" y="0"/>
            <a:ext cx="2971800" cy="23544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2971800" cy="23544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76320" y="2133720"/>
            <a:ext cx="2971800" cy="23540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3048120" y="2141640"/>
            <a:ext cx="2971800" cy="23540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6"/>
          <a:stretch/>
        </p:blipFill>
        <p:spPr>
          <a:xfrm>
            <a:off x="76320" y="4267080"/>
            <a:ext cx="2971800" cy="23544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7"/>
          <a:stretch/>
        </p:blipFill>
        <p:spPr>
          <a:xfrm>
            <a:off x="3048120" y="4267080"/>
            <a:ext cx="2971800" cy="23544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019920" y="3505320"/>
            <a:ext cx="28688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Bookman Old Style"/>
              </a:rPr>
              <a:t>|</a:t>
            </a:r>
            <a:r>
              <a:rPr b="0" lang="el-GR" sz="1800" spc="-1" strike="noStrike">
                <a:solidFill>
                  <a:srgbClr val="ff0000"/>
                </a:solidFill>
                <a:latin typeface="Bookman Old Style"/>
              </a:rPr>
              <a:t>η</a:t>
            </a:r>
            <a:r>
              <a:rPr b="0" lang="ja-JP" sz="1800" spc="-1" strike="noStrike" baseline="30000">
                <a:solidFill>
                  <a:srgbClr val="ff0000"/>
                </a:solidFill>
                <a:latin typeface="Bookman Old Style"/>
              </a:rPr>
              <a:t>trig</a:t>
            </a:r>
            <a:r>
              <a:rPr b="0" lang="ja-JP" sz="1800" spc="-1" strike="noStrike">
                <a:solidFill>
                  <a:srgbClr val="ff0000"/>
                </a:solidFill>
                <a:latin typeface="Bookman Old Style"/>
              </a:rPr>
              <a:t>|&lt;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Bookman Old Style"/>
              </a:rPr>
              <a:t>3&lt;p</a:t>
            </a:r>
            <a:r>
              <a:rPr b="0" lang="ja-JP" sz="1800" spc="-1" strike="noStrike" baseline="-25000">
                <a:solidFill>
                  <a:srgbClr val="ff0000"/>
                </a:solidFill>
                <a:latin typeface="Bookman Old Style"/>
              </a:rPr>
              <a:t>T</a:t>
            </a:r>
            <a:r>
              <a:rPr b="0" lang="ja-JP" sz="1800" spc="-1" strike="noStrike" baseline="30000">
                <a:solidFill>
                  <a:srgbClr val="ff0000"/>
                </a:solidFill>
                <a:latin typeface="Bookman Old Style"/>
              </a:rPr>
              <a:t>trig</a:t>
            </a:r>
            <a:r>
              <a:rPr b="0" lang="ja-JP" sz="1800" spc="-1" strike="noStrike">
                <a:solidFill>
                  <a:srgbClr val="ff0000"/>
                </a:solidFill>
                <a:latin typeface="Bookman Old Style"/>
              </a:rPr>
              <a:t>&lt;10 GeV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03400" y="4338720"/>
            <a:ext cx="22042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9900"/>
                </a:solidFill>
                <a:latin typeface="Bookman Old Style"/>
              </a:rPr>
              <a:t>2.7&lt;|</a:t>
            </a:r>
            <a:r>
              <a:rPr b="0" lang="el-GR" sz="1800" spc="-1" strike="noStrike">
                <a:solidFill>
                  <a:srgbClr val="009900"/>
                </a:solidFill>
                <a:latin typeface="Bookman Old Style"/>
              </a:rPr>
              <a:t>η</a:t>
            </a:r>
            <a:r>
              <a:rPr b="0" lang="ja-JP" sz="1800" spc="-1" strike="noStrike" baseline="30000">
                <a:solidFill>
                  <a:srgbClr val="009900"/>
                </a:solidFill>
                <a:latin typeface="Bookman Old Style"/>
              </a:rPr>
              <a:t>assoc</a:t>
            </a:r>
            <a:r>
              <a:rPr b="0" lang="ja-JP" sz="1800" spc="-1" strike="noStrike">
                <a:solidFill>
                  <a:srgbClr val="009900"/>
                </a:solidFill>
                <a:latin typeface="Bookman Old Style"/>
              </a:rPr>
              <a:t>|&lt;3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9900"/>
                </a:solidFill>
                <a:latin typeface="Bookman Old Style"/>
              </a:rPr>
              <a:t>0.2&lt;p</a:t>
            </a:r>
            <a:r>
              <a:rPr b="0" lang="ja-JP" sz="1800" spc="-1" strike="noStrike" baseline="-25000">
                <a:solidFill>
                  <a:srgbClr val="009900"/>
                </a:solidFill>
                <a:latin typeface="Bookman Old Style"/>
              </a:rPr>
              <a:t>T</a:t>
            </a:r>
            <a:r>
              <a:rPr b="0" lang="ja-JP" sz="1800" spc="-1" strike="noStrike" baseline="30000">
                <a:solidFill>
                  <a:srgbClr val="009900"/>
                </a:solidFill>
                <a:latin typeface="Bookman Old Style"/>
              </a:rPr>
              <a:t>assoc</a:t>
            </a:r>
            <a:r>
              <a:rPr b="0" lang="ja-JP" sz="1800" spc="-1" strike="noStrike">
                <a:solidFill>
                  <a:srgbClr val="009900"/>
                </a:solidFill>
                <a:latin typeface="Bookman Old Style"/>
              </a:rPr>
              <a:t>&lt; 2 GeV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914400" y="6095880"/>
            <a:ext cx="457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914400" y="3962520"/>
            <a:ext cx="457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914040" y="1828800"/>
            <a:ext cx="7543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6600" y="3962520"/>
            <a:ext cx="5403600" cy="2133360"/>
          </a:xfrm>
          <a:custGeom>
            <a:avLst/>
            <a:gdLst/>
            <a:ahLst/>
            <a:rect l="l" t="t" r="r" b="b"/>
            <a:pathLst>
              <a:path w="3404" h="1344">
                <a:moveTo>
                  <a:pt x="194" y="1344"/>
                </a:moveTo>
                <a:cubicBezTo>
                  <a:pt x="165" y="1304"/>
                  <a:pt x="8" y="1198"/>
                  <a:pt x="20" y="1104"/>
                </a:cubicBezTo>
                <a:cubicBezTo>
                  <a:pt x="32" y="1010"/>
                  <a:pt x="0" y="861"/>
                  <a:pt x="268" y="781"/>
                </a:cubicBezTo>
                <a:cubicBezTo>
                  <a:pt x="536" y="701"/>
                  <a:pt x="1153" y="673"/>
                  <a:pt x="1629" y="622"/>
                </a:cubicBezTo>
                <a:cubicBezTo>
                  <a:pt x="2105" y="571"/>
                  <a:pt x="2844" y="551"/>
                  <a:pt x="3124" y="473"/>
                </a:cubicBezTo>
                <a:cubicBezTo>
                  <a:pt x="3404" y="395"/>
                  <a:pt x="3315" y="235"/>
                  <a:pt x="3307" y="156"/>
                </a:cubicBezTo>
                <a:cubicBezTo>
                  <a:pt x="3299" y="77"/>
                  <a:pt x="3123" y="32"/>
                  <a:pt x="3074" y="0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5440" y="1828800"/>
            <a:ext cx="8286480" cy="2133720"/>
          </a:xfrm>
          <a:custGeom>
            <a:avLst/>
            <a:gdLst/>
            <a:ahLst/>
            <a:rect l="l" t="t" r="r" b="b"/>
            <a:pathLst>
              <a:path w="5220" h="1344">
                <a:moveTo>
                  <a:pt x="230" y="1344"/>
                </a:moveTo>
                <a:cubicBezTo>
                  <a:pt x="203" y="1307"/>
                  <a:pt x="36" y="1204"/>
                  <a:pt x="67" y="1122"/>
                </a:cubicBezTo>
                <a:cubicBezTo>
                  <a:pt x="98" y="1040"/>
                  <a:pt x="0" y="932"/>
                  <a:pt x="419" y="849"/>
                </a:cubicBezTo>
                <a:cubicBezTo>
                  <a:pt x="838" y="766"/>
                  <a:pt x="1849" y="688"/>
                  <a:pt x="2578" y="622"/>
                </a:cubicBezTo>
                <a:cubicBezTo>
                  <a:pt x="3307" y="556"/>
                  <a:pt x="4368" y="518"/>
                  <a:pt x="4794" y="452"/>
                </a:cubicBezTo>
                <a:cubicBezTo>
                  <a:pt x="5220" y="386"/>
                  <a:pt x="5113" y="303"/>
                  <a:pt x="5137" y="228"/>
                </a:cubicBezTo>
                <a:cubicBezTo>
                  <a:pt x="5161" y="153"/>
                  <a:pt x="4982" y="47"/>
                  <a:pt x="4941" y="0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3EC-EF12-44D6-B3B2-84F3EA90A08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762120" y="0"/>
            <a:ext cx="76960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Bookman Old Style"/>
              </a:rPr>
              <a:t>Trigger: MTPC: 3&lt;p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ja-JP" sz="1600" spc="-1" strike="noStrike" baseline="30000">
                <a:solidFill>
                  <a:srgbClr val="000000"/>
                </a:solidFill>
                <a:latin typeface="Bookman Old Style"/>
              </a:rPr>
              <a:t>trig</a:t>
            </a:r>
            <a:r>
              <a:rPr b="1" lang="ja-JP" sz="1600" spc="-1" strike="noStrike">
                <a:solidFill>
                  <a:srgbClr val="000000"/>
                </a:solidFill>
                <a:latin typeface="Bookman Old Style"/>
              </a:rPr>
              <a:t>&lt;4 GeV/c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3300"/>
                </a:solidFill>
                <a:latin typeface="Bookman Old Style"/>
              </a:rPr>
              <a:t>Associated: FTPC: 0.2&lt;p</a:t>
            </a:r>
            <a:r>
              <a:rPr b="1" lang="ja-JP" sz="1600" spc="-1" strike="noStrike" baseline="-25000">
                <a:solidFill>
                  <a:srgbClr val="ff3300"/>
                </a:solidFill>
                <a:latin typeface="Bookman Old Style"/>
              </a:rPr>
              <a:t>T</a:t>
            </a:r>
            <a:r>
              <a:rPr b="1" lang="ja-JP" sz="1600" spc="-1" strike="noStrike" baseline="30000">
                <a:solidFill>
                  <a:srgbClr val="ff3300"/>
                </a:solidFill>
                <a:latin typeface="Bookman Old Style"/>
              </a:rPr>
              <a:t>assoc</a:t>
            </a:r>
            <a:r>
              <a:rPr b="1" lang="ja-JP" sz="1600" spc="-1" strike="noStrike">
                <a:solidFill>
                  <a:srgbClr val="ff3300"/>
                </a:solidFill>
                <a:latin typeface="Bookman Old Style"/>
              </a:rPr>
              <a:t>&lt; 2 GeV/c,  </a:t>
            </a:r>
            <a:r>
              <a:rPr b="1" lang="ja-JP" sz="1600" spc="-1" strike="noStrike">
                <a:solidFill>
                  <a:srgbClr val="0000ff"/>
                </a:solidFill>
                <a:latin typeface="Bookman Old Style"/>
              </a:rPr>
              <a:t>MTPC: 0.2&lt;p</a:t>
            </a:r>
            <a:r>
              <a:rPr b="1" lang="ja-JP" sz="1600" spc="-1" strike="noStrike" baseline="-25000">
                <a:solidFill>
                  <a:srgbClr val="0000ff"/>
                </a:solidFill>
                <a:latin typeface="Bookman Old Style"/>
              </a:rPr>
              <a:t>T</a:t>
            </a:r>
            <a:r>
              <a:rPr b="1" lang="ja-JP" sz="1600" spc="-1" strike="noStrike" baseline="30000">
                <a:solidFill>
                  <a:srgbClr val="0000ff"/>
                </a:solidFill>
                <a:latin typeface="Bookman Old Style"/>
              </a:rPr>
              <a:t>assoc</a:t>
            </a:r>
            <a:r>
              <a:rPr b="1" lang="ja-JP" sz="1600" spc="-1" strike="noStrike">
                <a:solidFill>
                  <a:srgbClr val="0000ff"/>
                </a:solidFill>
                <a:latin typeface="Bookman Old Style"/>
              </a:rPr>
              <a:t>&lt; 3 GeV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648320" y="3581280"/>
            <a:ext cx="3276360" cy="26560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6570360" y="510552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ookman Old Style"/>
              </a:rPr>
              <a:t>pp 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1219320" y="3581280"/>
            <a:ext cx="3352680" cy="26560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3068280" y="518148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Bookman Old Style"/>
              </a:rPr>
              <a:t>dAu 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4648320" y="838080"/>
            <a:ext cx="3276360" cy="25941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6235920" y="266688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Bookman Old Style"/>
              </a:rPr>
              <a:t>AuAu 60-8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1219320" y="838080"/>
            <a:ext cx="3352680" cy="25909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873880" y="2438280"/>
            <a:ext cx="13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Bookman Old Style"/>
              </a:rPr>
              <a:t>AuAu 0-1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Bookman Old Style"/>
              </a:rPr>
              <a:t>AuAu 0-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636-8D22-4285-91DC-D054C85AC54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2666880" y="239760"/>
            <a:ext cx="2557440" cy="2347920"/>
            <a:chOff x="2666880" y="239760"/>
            <a:chExt cx="2557440" cy="2347920"/>
          </a:xfrm>
        </p:grpSpPr>
        <p:pic>
          <p:nvPicPr>
            <p:cNvPr id="366" name="" descr=""/>
            <p:cNvPicPr/>
            <p:nvPr/>
          </p:nvPicPr>
          <p:blipFill>
            <a:blip r:embed="rId1"/>
            <a:stretch/>
          </p:blipFill>
          <p:spPr>
            <a:xfrm>
              <a:off x="2666880" y="303120"/>
              <a:ext cx="2557440" cy="22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3385440" y="239760"/>
              <a:ext cx="149580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Arial"/>
                </a:rPr>
                <a:t>d+Au, 40-10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214960" y="228600"/>
            <a:ext cx="2557440" cy="2362320"/>
            <a:chOff x="5214960" y="228600"/>
            <a:chExt cx="2557440" cy="2362320"/>
          </a:xfrm>
        </p:grpSpPr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5214960" y="306360"/>
              <a:ext cx="2557440" cy="22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6033240" y="228600"/>
              <a:ext cx="129312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Arial"/>
                </a:rPr>
                <a:t>Au+Au, 0-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087560" y="1828800"/>
            <a:ext cx="2504520" cy="67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27360" bIns="27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cc"/>
                </a:solidFill>
                <a:latin typeface="Arial"/>
              </a:rPr>
              <a:t>3 &lt; p</a:t>
            </a:r>
            <a:r>
              <a:rPr b="1" lang="ja-JP" sz="1800" spc="-1" strike="noStrike" baseline="-25000">
                <a:solidFill>
                  <a:srgbClr val="3333cc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3333cc"/>
                </a:solidFill>
                <a:latin typeface="Arial"/>
              </a:rPr>
              <a:t>(trig) &lt; 6 GeV</a:t>
            </a:r>
            <a:br>
              <a:rPr sz="1800"/>
            </a:br>
            <a:r>
              <a:rPr b="1" lang="ja-JP" sz="1800" spc="-1" strike="noStrike">
                <a:solidFill>
                  <a:srgbClr val="3333cc"/>
                </a:solidFill>
                <a:latin typeface="Arial"/>
              </a:rPr>
              <a:t>2 &lt; p</a:t>
            </a:r>
            <a:r>
              <a:rPr b="1" lang="ja-JP" sz="1800" spc="-1" strike="noStrike" baseline="-25000">
                <a:solidFill>
                  <a:srgbClr val="3333cc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3333cc"/>
                </a:solidFill>
                <a:latin typeface="Arial"/>
              </a:rPr>
              <a:t>(assoc) &lt; p</a:t>
            </a:r>
            <a:r>
              <a:rPr b="1" lang="ja-JP" sz="1800" spc="-1" strike="noStrike" baseline="-25000">
                <a:solidFill>
                  <a:srgbClr val="3333cc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3333cc"/>
                </a:solidFill>
                <a:latin typeface="Arial"/>
              </a:rPr>
              <a:t>(tri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4524480" y="577800"/>
            <a:ext cx="430200" cy="3240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rcRect l="0" t="8607" r="0" b="0"/>
          <a:stretch/>
        </p:blipFill>
        <p:spPr>
          <a:xfrm>
            <a:off x="4572000" y="2935440"/>
            <a:ext cx="4343400" cy="32367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533520" y="3011400"/>
            <a:ext cx="392112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2040" indent="-29376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fornian FB"/>
              </a:rPr>
              <a:t>Study near-side y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97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fornian FB"/>
              </a:rPr>
              <a:t>Study away-side correlated yields and sha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97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fornian FB"/>
              </a:rPr>
              <a:t>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7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Californian FB"/>
              </a:rPr>
              <a:t>near-side jet 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7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alifornian FB"/>
              </a:rPr>
              <a:t>near-side 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7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000080"/>
                </a:solidFill>
                <a:latin typeface="Californian FB"/>
              </a:rPr>
              <a:t>v2 modulated 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343400" y="5449680"/>
            <a:ext cx="1905120" cy="759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71800" y="3925440"/>
            <a:ext cx="3579840" cy="838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895480" y="4992480"/>
            <a:ext cx="2895840" cy="22860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10720" y="3164040"/>
            <a:ext cx="13345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fornian FB"/>
              </a:rPr>
              <a:t>Au+Au 0-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alifornian FB"/>
              </a:rPr>
              <a:t>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74B-3823-4F5D-98E3-B8B121F0683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80880" y="3894120"/>
            <a:ext cx="3814920" cy="2583000"/>
          </a:xfrm>
          <a:prstGeom prst="rect">
            <a:avLst/>
          </a:prstGeom>
          <a:ln w="0">
            <a:noFill/>
          </a:ln>
        </p:spPr>
      </p:pic>
      <p:grpSp>
        <p:nvGrpSpPr>
          <p:cNvPr id="380" name=""/>
          <p:cNvGrpSpPr/>
          <p:nvPr/>
        </p:nvGrpSpPr>
        <p:grpSpPr>
          <a:xfrm>
            <a:off x="152280" y="152280"/>
            <a:ext cx="4343040" cy="3885480"/>
            <a:chOff x="152280" y="152280"/>
            <a:chExt cx="4343040" cy="3885480"/>
          </a:xfrm>
        </p:grpSpPr>
        <p:pic>
          <p:nvPicPr>
            <p:cNvPr id="381" name="" descr=""/>
            <p:cNvPicPr/>
            <p:nvPr/>
          </p:nvPicPr>
          <p:blipFill>
            <a:blip r:embed="rId2"/>
            <a:srcRect l="5081" t="0" r="1831" b="-76"/>
            <a:stretch/>
          </p:blipFill>
          <p:spPr>
            <a:xfrm>
              <a:off x="152280" y="234360"/>
              <a:ext cx="4343040" cy="38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1415520" y="152280"/>
              <a:ext cx="22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Californian FB"/>
                </a:rPr>
                <a:t>Jet + Rid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4572000" y="152280"/>
            <a:ext cx="4419360" cy="3809880"/>
            <a:chOff x="4572000" y="152280"/>
            <a:chExt cx="4419360" cy="3809880"/>
          </a:xfrm>
        </p:grpSpPr>
        <p:pic>
          <p:nvPicPr>
            <p:cNvPr id="384" name="" descr=""/>
            <p:cNvPicPr/>
            <p:nvPr/>
          </p:nvPicPr>
          <p:blipFill>
            <a:blip r:embed="rId3"/>
            <a:srcRect l="5216" t="0" r="0" b="2084"/>
            <a:stretch/>
          </p:blipFill>
          <p:spPr>
            <a:xfrm>
              <a:off x="4572000" y="234720"/>
              <a:ext cx="4419360" cy="37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6451200" y="152280"/>
              <a:ext cx="151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Californian FB"/>
                </a:rPr>
                <a:t>J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295280" y="480060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nucl-ex/06110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(PHENIX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3733920"/>
            <a:ext cx="17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Jet + 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814320" y="1752480"/>
            <a:ext cx="7925040" cy="1295640"/>
            <a:chOff x="814320" y="1752480"/>
            <a:chExt cx="7925040" cy="1295640"/>
          </a:xfrm>
        </p:grpSpPr>
        <p:sp>
          <p:nvSpPr>
            <p:cNvPr id="389" name=""/>
            <p:cNvSpPr/>
            <p:nvPr/>
          </p:nvSpPr>
          <p:spPr>
            <a:xfrm>
              <a:off x="814320" y="3048120"/>
              <a:ext cx="7925040" cy="0"/>
            </a:xfrm>
            <a:prstGeom prst="line">
              <a:avLst/>
            </a:prstGeom>
            <a:ln w="38160">
              <a:solidFill>
                <a:srgbClr val="66ff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66680" y="1752480"/>
              <a:ext cx="2819520" cy="1295640"/>
            </a:xfrm>
            <a:custGeom>
              <a:avLst/>
              <a:gdLst/>
              <a:ahLst/>
              <a:rect l="l" t="t" r="r" b="b"/>
              <a:pathLst>
                <a:path w="1776" h="816">
                  <a:moveTo>
                    <a:pt x="0" y="816"/>
                  </a:moveTo>
                  <a:lnTo>
                    <a:pt x="445" y="485"/>
                  </a:lnTo>
                  <a:lnTo>
                    <a:pt x="1245" y="113"/>
                  </a:lnTo>
                  <a:lnTo>
                    <a:pt x="1776" y="0"/>
                  </a:lnTo>
                  <a:lnTo>
                    <a:pt x="1776" y="816"/>
                  </a:lnTo>
                  <a:lnTo>
                    <a:pt x="0" y="816"/>
                  </a:lnTo>
                  <a:close/>
                </a:path>
              </a:pathLst>
            </a:custGeom>
            <a:noFill/>
            <a:ln w="38160">
              <a:solidFill>
                <a:srgbClr val="66ff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6B7-F2CA-43F5-9164-1BE7D80F6F77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5126760" y="1809720"/>
            <a:ext cx="3499920" cy="3480480"/>
            <a:chOff x="5126760" y="1809720"/>
            <a:chExt cx="3499920" cy="3480480"/>
          </a:xfrm>
        </p:grpSpPr>
        <p:sp>
          <p:nvSpPr>
            <p:cNvPr id="50" name=""/>
            <p:cNvSpPr/>
            <p:nvPr/>
          </p:nvSpPr>
          <p:spPr>
            <a:xfrm>
              <a:off x="5149800" y="2457360"/>
              <a:ext cx="3460680" cy="2025000"/>
            </a:xfrm>
            <a:custGeom>
              <a:avLst/>
              <a:gdLst/>
              <a:ahLst/>
              <a:rect l="l" t="t" r="r" b="b"/>
              <a:pathLst>
                <a:path w="2180" h="1276">
                  <a:moveTo>
                    <a:pt x="909" y="0"/>
                  </a:moveTo>
                  <a:lnTo>
                    <a:pt x="2180" y="179"/>
                  </a:lnTo>
                  <a:lnTo>
                    <a:pt x="1267" y="1276"/>
                  </a:lnTo>
                  <a:lnTo>
                    <a:pt x="0" y="1097"/>
                  </a:lnTo>
                  <a:lnTo>
                    <a:pt x="9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5126760" y="1809720"/>
              <a:ext cx="3499920" cy="3238920"/>
              <a:chOff x="5126760" y="1809720"/>
              <a:chExt cx="3499920" cy="3238920"/>
            </a:xfrm>
          </p:grpSpPr>
          <p:sp>
            <p:nvSpPr>
              <p:cNvPr id="52" name=""/>
              <p:cNvSpPr/>
              <p:nvPr/>
            </p:nvSpPr>
            <p:spPr>
              <a:xfrm>
                <a:off x="7365960" y="3625920"/>
                <a:ext cx="912600" cy="10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>
                <a:off x="7242480" y="2032560"/>
                <a:ext cx="503640" cy="68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1267400">
                <a:off x="7833600" y="2291760"/>
                <a:ext cx="360360" cy="336240"/>
              </a:xfrm>
              <a:custGeom>
                <a:avLst/>
                <a:gdLst/>
                <a:ahLst/>
                <a:rect l="l" t="t" r="r" b="b"/>
                <a:pathLst>
                  <a:path w="720" h="622">
                    <a:moveTo>
                      <a:pt x="430" y="0"/>
                    </a:moveTo>
                    <a:lnTo>
                      <a:pt x="177" y="379"/>
                    </a:lnTo>
                    <a:lnTo>
                      <a:pt x="0" y="379"/>
                    </a:lnTo>
                    <a:lnTo>
                      <a:pt x="168" y="622"/>
                    </a:lnTo>
                    <a:lnTo>
                      <a:pt x="631" y="379"/>
                    </a:lnTo>
                    <a:lnTo>
                      <a:pt x="465" y="382"/>
                    </a:lnTo>
                    <a:lnTo>
                      <a:pt x="720" y="0"/>
                    </a:lnTo>
                    <a:lnTo>
                      <a:pt x="430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5838840" y="2456280"/>
                <a:ext cx="753480" cy="905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6138360" y="2496960"/>
                <a:ext cx="741960" cy="891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35360" y="2644920"/>
                <a:ext cx="2037240" cy="2786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242400" y="3676680"/>
                <a:ext cx="1432440" cy="1958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467400">
                <a:off x="5244840" y="2499480"/>
                <a:ext cx="3265200" cy="1941120"/>
              </a:xfrm>
              <a:prstGeom prst="parallelogram">
                <a:avLst>
                  <a:gd name="adj" fmla="val 62410"/>
                </a:avLst>
              </a:prstGeom>
              <a:noFill/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26760" y="3832560"/>
                <a:ext cx="317160" cy="3841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6249960" y="2535120"/>
                <a:ext cx="917280" cy="1102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 rot="11268000">
                <a:off x="6180120" y="3529800"/>
                <a:ext cx="255600" cy="77760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5985720" y="3513600"/>
                <a:ext cx="676080" cy="810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467400">
                <a:off x="7918200" y="3733560"/>
                <a:ext cx="51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467400">
                <a:off x="7362000" y="18288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7120440" y="2363040"/>
                <a:ext cx="1152720" cy="1216440"/>
                <a:chOff x="7120440" y="2363040"/>
                <a:chExt cx="1152720" cy="1216440"/>
              </a:xfrm>
            </p:grpSpPr>
            <p:grpSp>
              <p:nvGrpSpPr>
                <p:cNvPr id="67" name=""/>
                <p:cNvGrpSpPr/>
                <p:nvPr/>
              </p:nvGrpSpPr>
              <p:grpSpPr>
                <a:xfrm>
                  <a:off x="7120440" y="2363040"/>
                  <a:ext cx="1152720" cy="1216440"/>
                  <a:chOff x="7120440" y="2363040"/>
                  <a:chExt cx="1152720" cy="121644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 rot="467400">
                    <a:off x="7213680" y="2426040"/>
                    <a:ext cx="991080" cy="1068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333c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 rot="467400">
                    <a:off x="7214040" y="2424960"/>
                    <a:ext cx="991080" cy="10688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7400">
                    <a:off x="7159680" y="2858040"/>
                    <a:ext cx="1036800" cy="65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6" h="600">
                        <a:moveTo>
                          <a:pt x="43" y="123"/>
                        </a:moveTo>
                        <a:cubicBezTo>
                          <a:pt x="61" y="136"/>
                          <a:pt x="84" y="160"/>
                          <a:pt x="120" y="181"/>
                        </a:cubicBezTo>
                        <a:cubicBezTo>
                          <a:pt x="156" y="202"/>
                          <a:pt x="210" y="233"/>
                          <a:pt x="262" y="250"/>
                        </a:cubicBezTo>
                        <a:cubicBezTo>
                          <a:pt x="314" y="267"/>
                          <a:pt x="370" y="279"/>
                          <a:pt x="432" y="280"/>
                        </a:cubicBezTo>
                        <a:cubicBezTo>
                          <a:pt x="494" y="281"/>
                          <a:pt x="573" y="272"/>
                          <a:pt x="634" y="259"/>
                        </a:cubicBezTo>
                        <a:cubicBezTo>
                          <a:pt x="695" y="246"/>
                          <a:pt x="749" y="229"/>
                          <a:pt x="799" y="201"/>
                        </a:cubicBezTo>
                        <a:cubicBezTo>
                          <a:pt x="849" y="173"/>
                          <a:pt x="899" y="122"/>
                          <a:pt x="937" y="90"/>
                        </a:cubicBezTo>
                        <a:cubicBezTo>
                          <a:pt x="975" y="58"/>
                          <a:pt x="1012" y="0"/>
                          <a:pt x="1026" y="9"/>
                        </a:cubicBezTo>
                        <a:cubicBezTo>
                          <a:pt x="1021" y="13"/>
                          <a:pt x="1025" y="101"/>
                          <a:pt x="1019" y="144"/>
                        </a:cubicBezTo>
                        <a:cubicBezTo>
                          <a:pt x="1013" y="187"/>
                          <a:pt x="1007" y="227"/>
                          <a:pt x="992" y="267"/>
                        </a:cubicBezTo>
                        <a:cubicBezTo>
                          <a:pt x="978" y="307"/>
                          <a:pt x="952" y="351"/>
                          <a:pt x="929" y="384"/>
                        </a:cubicBezTo>
                        <a:cubicBezTo>
                          <a:pt x="907" y="417"/>
                          <a:pt x="886" y="440"/>
                          <a:pt x="857" y="467"/>
                        </a:cubicBezTo>
                        <a:cubicBezTo>
                          <a:pt x="827" y="493"/>
                          <a:pt x="790" y="521"/>
                          <a:pt x="749" y="542"/>
                        </a:cubicBezTo>
                        <a:cubicBezTo>
                          <a:pt x="708" y="562"/>
                          <a:pt x="659" y="580"/>
                          <a:pt x="610" y="588"/>
                        </a:cubicBezTo>
                        <a:cubicBezTo>
                          <a:pt x="561" y="596"/>
                          <a:pt x="505" y="600"/>
                          <a:pt x="455" y="594"/>
                        </a:cubicBezTo>
                        <a:cubicBezTo>
                          <a:pt x="404" y="588"/>
                          <a:pt x="353" y="572"/>
                          <a:pt x="310" y="553"/>
                        </a:cubicBezTo>
                        <a:cubicBezTo>
                          <a:pt x="267" y="533"/>
                          <a:pt x="229" y="510"/>
                          <a:pt x="193" y="479"/>
                        </a:cubicBezTo>
                        <a:cubicBezTo>
                          <a:pt x="157" y="448"/>
                          <a:pt x="121" y="408"/>
                          <a:pt x="95" y="368"/>
                        </a:cubicBezTo>
                        <a:cubicBezTo>
                          <a:pt x="69" y="328"/>
                          <a:pt x="52" y="286"/>
                          <a:pt x="36" y="237"/>
                        </a:cubicBezTo>
                        <a:cubicBezTo>
                          <a:pt x="20" y="188"/>
                          <a:pt x="0" y="92"/>
                          <a:pt x="1" y="73"/>
                        </a:cubicBezTo>
                        <a:lnTo>
                          <a:pt x="43" y="123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rot="467400">
                    <a:off x="7204680" y="2886480"/>
                    <a:ext cx="98892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79" h="257">
                        <a:moveTo>
                          <a:pt x="0" y="78"/>
                        </a:moveTo>
                        <a:cubicBezTo>
                          <a:pt x="17" y="92"/>
                          <a:pt x="57" y="134"/>
                          <a:pt x="101" y="160"/>
                        </a:cubicBezTo>
                        <a:cubicBezTo>
                          <a:pt x="145" y="186"/>
                          <a:pt x="213" y="216"/>
                          <a:pt x="263" y="232"/>
                        </a:cubicBezTo>
                        <a:cubicBezTo>
                          <a:pt x="313" y="248"/>
                          <a:pt x="347" y="255"/>
                          <a:pt x="404" y="256"/>
                        </a:cubicBezTo>
                        <a:cubicBezTo>
                          <a:pt x="461" y="257"/>
                          <a:pt x="542" y="254"/>
                          <a:pt x="608" y="238"/>
                        </a:cubicBezTo>
                        <a:cubicBezTo>
                          <a:pt x="674" y="222"/>
                          <a:pt x="738" y="200"/>
                          <a:pt x="800" y="160"/>
                        </a:cubicBezTo>
                        <a:cubicBezTo>
                          <a:pt x="862" y="120"/>
                          <a:pt x="942" y="33"/>
                          <a:pt x="979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" name=""/>
                <p:cNvSpPr/>
                <p:nvPr/>
              </p:nvSpPr>
              <p:spPr>
                <a:xfrm rot="467400">
                  <a:off x="7211880" y="2523960"/>
                  <a:ext cx="254520" cy="778680"/>
                </a:xfrm>
                <a:custGeom>
                  <a:avLst/>
                  <a:gdLst/>
                  <a:ahLst/>
                  <a:rect l="l" t="t" r="r" b="b"/>
                  <a:pathLst>
                    <a:path w="252" h="715">
                      <a:moveTo>
                        <a:pt x="84" y="643"/>
                      </a:moveTo>
                      <a:cubicBezTo>
                        <a:pt x="64" y="611"/>
                        <a:pt x="38" y="568"/>
                        <a:pt x="24" y="519"/>
                      </a:cubicBezTo>
                      <a:cubicBezTo>
                        <a:pt x="10" y="470"/>
                        <a:pt x="0" y="403"/>
                        <a:pt x="1" y="351"/>
                      </a:cubicBezTo>
                      <a:cubicBezTo>
                        <a:pt x="2" y="299"/>
                        <a:pt x="14" y="251"/>
                        <a:pt x="30" y="205"/>
                      </a:cubicBezTo>
                      <a:cubicBezTo>
                        <a:pt x="46" y="159"/>
                        <a:pt x="77" y="106"/>
                        <a:pt x="100" y="73"/>
                      </a:cubicBezTo>
                      <a:cubicBezTo>
                        <a:pt x="123" y="40"/>
                        <a:pt x="163" y="0"/>
                        <a:pt x="166" y="4"/>
                      </a:cubicBezTo>
                      <a:cubicBezTo>
                        <a:pt x="198" y="57"/>
                        <a:pt x="212" y="120"/>
                        <a:pt x="225" y="171"/>
                      </a:cubicBezTo>
                      <a:cubicBezTo>
                        <a:pt x="239" y="226"/>
                        <a:pt x="246" y="280"/>
                        <a:pt x="249" y="337"/>
                      </a:cubicBezTo>
                      <a:cubicBezTo>
                        <a:pt x="252" y="394"/>
                        <a:pt x="249" y="464"/>
                        <a:pt x="241" y="514"/>
                      </a:cubicBezTo>
                      <a:cubicBezTo>
                        <a:pt x="233" y="564"/>
                        <a:pt x="216" y="603"/>
                        <a:pt x="199" y="636"/>
                      </a:cubicBezTo>
                      <a:cubicBezTo>
                        <a:pt x="182" y="669"/>
                        <a:pt x="142" y="715"/>
                        <a:pt x="142" y="712"/>
                      </a:cubicBezTo>
                      <a:cubicBezTo>
                        <a:pt x="142" y="711"/>
                        <a:pt x="104" y="675"/>
                        <a:pt x="84" y="6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6607800" y="2453400"/>
                <a:ext cx="839880" cy="11520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884640" y="2706480"/>
                <a:ext cx="602280" cy="824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272640" y="2834280"/>
                <a:ext cx="1195920" cy="1634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7080480" y="2916720"/>
                <a:ext cx="395640" cy="475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116400" y="3024000"/>
                <a:ext cx="2040120" cy="2793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5990400" y="2568600"/>
                <a:ext cx="1456200" cy="175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957640" y="3214440"/>
                <a:ext cx="2040120" cy="2793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6562800" y="2912040"/>
                <a:ext cx="525600" cy="1089720"/>
                <a:chOff x="6562800" y="2912040"/>
                <a:chExt cx="525600" cy="1089720"/>
              </a:xfrm>
            </p:grpSpPr>
            <p:sp>
              <p:nvSpPr>
                <p:cNvPr id="81" name=""/>
                <p:cNvSpPr/>
                <p:nvPr/>
              </p:nvSpPr>
              <p:spPr>
                <a:xfrm rot="100200">
                  <a:off x="6578640" y="2919600"/>
                  <a:ext cx="494280" cy="107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rot="100200">
                  <a:off x="6570720" y="3431880"/>
                  <a:ext cx="495360" cy="562680"/>
                </a:xfrm>
                <a:custGeom>
                  <a:avLst/>
                  <a:gdLst/>
                  <a:ahLst/>
                  <a:rect l="l" t="t" r="r" b="b"/>
                  <a:pathLst>
                    <a:path w="489" h="515">
                      <a:moveTo>
                        <a:pt x="13" y="46"/>
                      </a:moveTo>
                      <a:cubicBezTo>
                        <a:pt x="24" y="55"/>
                        <a:pt x="47" y="72"/>
                        <a:pt x="65" y="81"/>
                      </a:cubicBezTo>
                      <a:cubicBezTo>
                        <a:pt x="83" y="90"/>
                        <a:pt x="103" y="92"/>
                        <a:pt x="121" y="97"/>
                      </a:cubicBezTo>
                      <a:cubicBezTo>
                        <a:pt x="139" y="102"/>
                        <a:pt x="156" y="109"/>
                        <a:pt x="176" y="112"/>
                      </a:cubicBezTo>
                      <a:cubicBezTo>
                        <a:pt x="196" y="115"/>
                        <a:pt x="218" y="115"/>
                        <a:pt x="241" y="114"/>
                      </a:cubicBezTo>
                      <a:cubicBezTo>
                        <a:pt x="264" y="113"/>
                        <a:pt x="289" y="109"/>
                        <a:pt x="313" y="103"/>
                      </a:cubicBezTo>
                      <a:cubicBezTo>
                        <a:pt x="337" y="97"/>
                        <a:pt x="362" y="90"/>
                        <a:pt x="385" y="78"/>
                      </a:cubicBezTo>
                      <a:cubicBezTo>
                        <a:pt x="408" y="66"/>
                        <a:pt x="435" y="41"/>
                        <a:pt x="452" y="29"/>
                      </a:cubicBezTo>
                      <a:cubicBezTo>
                        <a:pt x="469" y="17"/>
                        <a:pt x="479" y="0"/>
                        <a:pt x="485" y="7"/>
                      </a:cubicBezTo>
                      <a:cubicBezTo>
                        <a:pt x="483" y="11"/>
                        <a:pt x="489" y="40"/>
                        <a:pt x="487" y="70"/>
                      </a:cubicBezTo>
                      <a:cubicBezTo>
                        <a:pt x="485" y="100"/>
                        <a:pt x="481" y="151"/>
                        <a:pt x="474" y="190"/>
                      </a:cubicBezTo>
                      <a:cubicBezTo>
                        <a:pt x="467" y="229"/>
                        <a:pt x="455" y="272"/>
                        <a:pt x="444" y="304"/>
                      </a:cubicBezTo>
                      <a:cubicBezTo>
                        <a:pt x="433" y="336"/>
                        <a:pt x="423" y="359"/>
                        <a:pt x="408" y="385"/>
                      </a:cubicBezTo>
                      <a:cubicBezTo>
                        <a:pt x="394" y="411"/>
                        <a:pt x="376" y="438"/>
                        <a:pt x="356" y="458"/>
                      </a:cubicBezTo>
                      <a:cubicBezTo>
                        <a:pt x="336" y="478"/>
                        <a:pt x="313" y="495"/>
                        <a:pt x="289" y="503"/>
                      </a:cubicBezTo>
                      <a:cubicBezTo>
                        <a:pt x="265" y="511"/>
                        <a:pt x="238" y="515"/>
                        <a:pt x="214" y="509"/>
                      </a:cubicBezTo>
                      <a:cubicBezTo>
                        <a:pt x="189" y="503"/>
                        <a:pt x="164" y="488"/>
                        <a:pt x="143" y="469"/>
                      </a:cubicBezTo>
                      <a:cubicBezTo>
                        <a:pt x="122" y="450"/>
                        <a:pt x="104" y="427"/>
                        <a:pt x="87" y="397"/>
                      </a:cubicBezTo>
                      <a:cubicBezTo>
                        <a:pt x="69" y="367"/>
                        <a:pt x="52" y="328"/>
                        <a:pt x="39" y="289"/>
                      </a:cubicBezTo>
                      <a:cubicBezTo>
                        <a:pt x="27" y="250"/>
                        <a:pt x="17" y="204"/>
                        <a:pt x="10" y="161"/>
                      </a:cubicBezTo>
                      <a:cubicBezTo>
                        <a:pt x="4" y="118"/>
                        <a:pt x="0" y="47"/>
                        <a:pt x="0" y="28"/>
                      </a:cubicBezTo>
                      <a:lnTo>
                        <a:pt x="13" y="46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rot="100200">
                  <a:off x="6577200" y="3434040"/>
                  <a:ext cx="493200" cy="11988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00200">
                  <a:off x="6578640" y="2918880"/>
                  <a:ext cx="494280" cy="10717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 flipH="1">
                <a:off x="6866640" y="3126960"/>
                <a:ext cx="1092240" cy="1315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6578640" y="3160800"/>
                <a:ext cx="1030320" cy="12384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898680" y="3551760"/>
                <a:ext cx="937440" cy="1281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6272640" y="3537000"/>
                <a:ext cx="691200" cy="8308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6495480" y="3512160"/>
                <a:ext cx="169200" cy="2041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10720" y="3461400"/>
                <a:ext cx="475200" cy="64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5363280" y="3280320"/>
                <a:ext cx="1140480" cy="1215360"/>
                <a:chOff x="5363280" y="3280320"/>
                <a:chExt cx="1140480" cy="1215360"/>
              </a:xfrm>
            </p:grpSpPr>
            <p:sp>
              <p:nvSpPr>
                <p:cNvPr id="92" name=""/>
                <p:cNvSpPr/>
                <p:nvPr/>
              </p:nvSpPr>
              <p:spPr>
                <a:xfrm rot="467400">
                  <a:off x="5447520" y="3343320"/>
                  <a:ext cx="98820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rot="467400">
                  <a:off x="5445720" y="3342240"/>
                  <a:ext cx="987840" cy="1067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rot="467400">
                  <a:off x="5402160" y="3783600"/>
                  <a:ext cx="1023840" cy="645480"/>
                </a:xfrm>
                <a:custGeom>
                  <a:avLst/>
                  <a:gdLst/>
                  <a:ahLst/>
                  <a:rect l="l" t="t" r="r" b="b"/>
                  <a:pathLst>
                    <a:path w="982" h="568">
                      <a:moveTo>
                        <a:pt x="22" y="106"/>
                      </a:moveTo>
                      <a:cubicBezTo>
                        <a:pt x="39" y="120"/>
                        <a:pt x="60" y="144"/>
                        <a:pt x="100" y="166"/>
                      </a:cubicBezTo>
                      <a:cubicBezTo>
                        <a:pt x="140" y="188"/>
                        <a:pt x="212" y="222"/>
                        <a:pt x="262" y="238"/>
                      </a:cubicBezTo>
                      <a:cubicBezTo>
                        <a:pt x="312" y="254"/>
                        <a:pt x="346" y="261"/>
                        <a:pt x="403" y="262"/>
                      </a:cubicBezTo>
                      <a:cubicBezTo>
                        <a:pt x="460" y="263"/>
                        <a:pt x="546" y="257"/>
                        <a:pt x="607" y="244"/>
                      </a:cubicBezTo>
                      <a:cubicBezTo>
                        <a:pt x="668" y="231"/>
                        <a:pt x="719" y="210"/>
                        <a:pt x="769" y="183"/>
                      </a:cubicBezTo>
                      <a:cubicBezTo>
                        <a:pt x="819" y="156"/>
                        <a:pt x="872" y="111"/>
                        <a:pt x="907" y="82"/>
                      </a:cubicBezTo>
                      <a:cubicBezTo>
                        <a:pt x="942" y="53"/>
                        <a:pt x="966" y="0"/>
                        <a:pt x="978" y="7"/>
                      </a:cubicBezTo>
                      <a:cubicBezTo>
                        <a:pt x="973" y="11"/>
                        <a:pt x="982" y="84"/>
                        <a:pt x="978" y="123"/>
                      </a:cubicBezTo>
                      <a:cubicBezTo>
                        <a:pt x="974" y="162"/>
                        <a:pt x="966" y="204"/>
                        <a:pt x="952" y="243"/>
                      </a:cubicBezTo>
                      <a:cubicBezTo>
                        <a:pt x="938" y="282"/>
                        <a:pt x="913" y="325"/>
                        <a:pt x="891" y="357"/>
                      </a:cubicBezTo>
                      <a:cubicBezTo>
                        <a:pt x="869" y="389"/>
                        <a:pt x="849" y="412"/>
                        <a:pt x="820" y="438"/>
                      </a:cubicBezTo>
                      <a:cubicBezTo>
                        <a:pt x="791" y="464"/>
                        <a:pt x="755" y="491"/>
                        <a:pt x="715" y="511"/>
                      </a:cubicBezTo>
                      <a:cubicBezTo>
                        <a:pt x="675" y="531"/>
                        <a:pt x="628" y="548"/>
                        <a:pt x="580" y="556"/>
                      </a:cubicBezTo>
                      <a:cubicBezTo>
                        <a:pt x="532" y="564"/>
                        <a:pt x="478" y="568"/>
                        <a:pt x="429" y="562"/>
                      </a:cubicBezTo>
                      <a:cubicBezTo>
                        <a:pt x="380" y="556"/>
                        <a:pt x="330" y="541"/>
                        <a:pt x="288" y="522"/>
                      </a:cubicBezTo>
                      <a:cubicBezTo>
                        <a:pt x="246" y="503"/>
                        <a:pt x="209" y="480"/>
                        <a:pt x="174" y="450"/>
                      </a:cubicBezTo>
                      <a:cubicBezTo>
                        <a:pt x="139" y="420"/>
                        <a:pt x="104" y="381"/>
                        <a:pt x="79" y="342"/>
                      </a:cubicBezTo>
                      <a:cubicBezTo>
                        <a:pt x="54" y="303"/>
                        <a:pt x="34" y="257"/>
                        <a:pt x="21" y="214"/>
                      </a:cubicBezTo>
                      <a:cubicBezTo>
                        <a:pt x="8" y="171"/>
                        <a:pt x="0" y="99"/>
                        <a:pt x="0" y="81"/>
                      </a:cubicBezTo>
                      <a:lnTo>
                        <a:pt x="22" y="106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 rot="11267400">
                  <a:off x="6181200" y="3521880"/>
                  <a:ext cx="254520" cy="777960"/>
                </a:xfrm>
                <a:custGeom>
                  <a:avLst/>
                  <a:gdLst/>
                  <a:ahLst/>
                  <a:rect l="l" t="t" r="r" b="b"/>
                  <a:pathLst>
                    <a:path w="252" h="715">
                      <a:moveTo>
                        <a:pt x="84" y="643"/>
                      </a:moveTo>
                      <a:cubicBezTo>
                        <a:pt x="64" y="611"/>
                        <a:pt x="38" y="568"/>
                        <a:pt x="24" y="519"/>
                      </a:cubicBezTo>
                      <a:cubicBezTo>
                        <a:pt x="10" y="470"/>
                        <a:pt x="0" y="403"/>
                        <a:pt x="1" y="351"/>
                      </a:cubicBezTo>
                      <a:cubicBezTo>
                        <a:pt x="2" y="299"/>
                        <a:pt x="14" y="251"/>
                        <a:pt x="30" y="205"/>
                      </a:cubicBezTo>
                      <a:cubicBezTo>
                        <a:pt x="46" y="159"/>
                        <a:pt x="77" y="106"/>
                        <a:pt x="100" y="73"/>
                      </a:cubicBezTo>
                      <a:cubicBezTo>
                        <a:pt x="123" y="40"/>
                        <a:pt x="163" y="0"/>
                        <a:pt x="166" y="4"/>
                      </a:cubicBezTo>
                      <a:cubicBezTo>
                        <a:pt x="198" y="57"/>
                        <a:pt x="212" y="120"/>
                        <a:pt x="225" y="171"/>
                      </a:cubicBezTo>
                      <a:cubicBezTo>
                        <a:pt x="239" y="226"/>
                        <a:pt x="246" y="280"/>
                        <a:pt x="249" y="337"/>
                      </a:cubicBezTo>
                      <a:cubicBezTo>
                        <a:pt x="252" y="394"/>
                        <a:pt x="249" y="464"/>
                        <a:pt x="241" y="514"/>
                      </a:cubicBezTo>
                      <a:cubicBezTo>
                        <a:pt x="233" y="564"/>
                        <a:pt x="216" y="603"/>
                        <a:pt x="199" y="636"/>
                      </a:cubicBezTo>
                      <a:cubicBezTo>
                        <a:pt x="182" y="669"/>
                        <a:pt x="142" y="715"/>
                        <a:pt x="142" y="712"/>
                      </a:cubicBezTo>
                      <a:cubicBezTo>
                        <a:pt x="142" y="711"/>
                        <a:pt x="104" y="675"/>
                        <a:pt x="84" y="6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rot="467400">
                  <a:off x="6158160" y="3504960"/>
                  <a:ext cx="114840" cy="792000"/>
                </a:xfrm>
                <a:custGeom>
                  <a:avLst/>
                  <a:gdLst/>
                  <a:ahLst/>
                  <a:rect l="l" t="t" r="r" b="b"/>
                  <a:pathLst>
                    <a:path w="114" h="728">
                      <a:moveTo>
                        <a:pt x="90" y="621"/>
                      </a:moveTo>
                      <a:cubicBezTo>
                        <a:pt x="86" y="592"/>
                        <a:pt x="86" y="572"/>
                        <a:pt x="84" y="540"/>
                      </a:cubicBezTo>
                      <a:cubicBezTo>
                        <a:pt x="82" y="508"/>
                        <a:pt x="78" y="467"/>
                        <a:pt x="78" y="426"/>
                      </a:cubicBezTo>
                      <a:cubicBezTo>
                        <a:pt x="78" y="385"/>
                        <a:pt x="80" y="339"/>
                        <a:pt x="81" y="291"/>
                      </a:cubicBezTo>
                      <a:cubicBezTo>
                        <a:pt x="82" y="243"/>
                        <a:pt x="83" y="185"/>
                        <a:pt x="84" y="138"/>
                      </a:cubicBezTo>
                      <a:cubicBezTo>
                        <a:pt x="85" y="91"/>
                        <a:pt x="95" y="0"/>
                        <a:pt x="86" y="6"/>
                      </a:cubicBezTo>
                      <a:cubicBezTo>
                        <a:pt x="54" y="59"/>
                        <a:pt x="40" y="122"/>
                        <a:pt x="27" y="173"/>
                      </a:cubicBezTo>
                      <a:cubicBezTo>
                        <a:pt x="13" y="228"/>
                        <a:pt x="6" y="282"/>
                        <a:pt x="3" y="339"/>
                      </a:cubicBezTo>
                      <a:cubicBezTo>
                        <a:pt x="0" y="396"/>
                        <a:pt x="3" y="465"/>
                        <a:pt x="11" y="516"/>
                      </a:cubicBezTo>
                      <a:cubicBezTo>
                        <a:pt x="19" y="567"/>
                        <a:pt x="35" y="608"/>
                        <a:pt x="52" y="643"/>
                      </a:cubicBezTo>
                      <a:cubicBezTo>
                        <a:pt x="69" y="678"/>
                        <a:pt x="108" y="728"/>
                        <a:pt x="114" y="724"/>
                      </a:cubicBezTo>
                      <a:cubicBezTo>
                        <a:pt x="114" y="723"/>
                        <a:pt x="95" y="642"/>
                        <a:pt x="90" y="621"/>
                      </a:cubicBez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rot="467400">
                  <a:off x="5433840" y="3875040"/>
                  <a:ext cx="795600" cy="193680"/>
                </a:xfrm>
                <a:custGeom>
                  <a:avLst/>
                  <a:gdLst/>
                  <a:ahLst/>
                  <a:rect l="l" t="t" r="r" b="b"/>
                  <a:pathLst>
                    <a:path w="790" h="179">
                      <a:moveTo>
                        <a:pt x="0" y="0"/>
                      </a:moveTo>
                      <a:cubicBezTo>
                        <a:pt x="17" y="14"/>
                        <a:pt x="57" y="56"/>
                        <a:pt x="101" y="82"/>
                      </a:cubicBezTo>
                      <a:cubicBezTo>
                        <a:pt x="145" y="108"/>
                        <a:pt x="213" y="138"/>
                        <a:pt x="263" y="154"/>
                      </a:cubicBezTo>
                      <a:cubicBezTo>
                        <a:pt x="313" y="170"/>
                        <a:pt x="347" y="177"/>
                        <a:pt x="404" y="178"/>
                      </a:cubicBezTo>
                      <a:cubicBezTo>
                        <a:pt x="461" y="179"/>
                        <a:pt x="556" y="169"/>
                        <a:pt x="608" y="160"/>
                      </a:cubicBezTo>
                      <a:cubicBezTo>
                        <a:pt x="660" y="151"/>
                        <a:pt x="687" y="140"/>
                        <a:pt x="714" y="123"/>
                      </a:cubicBezTo>
                      <a:cubicBezTo>
                        <a:pt x="741" y="106"/>
                        <a:pt x="755" y="73"/>
                        <a:pt x="768" y="60"/>
                      </a:cubicBezTo>
                      <a:cubicBezTo>
                        <a:pt x="781" y="47"/>
                        <a:pt x="785" y="46"/>
                        <a:pt x="790" y="4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 flipH="1">
                <a:off x="6259680" y="3298320"/>
                <a:ext cx="275760" cy="328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239880" y="3677040"/>
                <a:ext cx="1264680" cy="172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467400">
                <a:off x="6086520" y="4161600"/>
                <a:ext cx="1279440" cy="2880"/>
              </a:xfrm>
              <a:custGeom>
                <a:avLst/>
                <a:gdLst/>
                <a:ahLst/>
                <a:rect l="l" t="t" r="r" b="b"/>
                <a:pathLst>
                  <a:path w="1266" h="3">
                    <a:moveTo>
                      <a:pt x="0" y="3"/>
                    </a:moveTo>
                    <a:lnTo>
                      <a:pt x="1266" y="0"/>
                    </a:lnTo>
                  </a:path>
                </a:pathLst>
              </a:custGeom>
              <a:noFill/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98840" y="3880080"/>
                <a:ext cx="1335600" cy="1828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5983920" y="3702240"/>
                <a:ext cx="520200" cy="6271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5706000" y="4085640"/>
                <a:ext cx="171000" cy="2066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5423760" y="4003200"/>
                <a:ext cx="201960" cy="2444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165640" y="4217760"/>
                <a:ext cx="1994040" cy="27288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467400">
                <a:off x="5470560" y="4061880"/>
                <a:ext cx="360360" cy="336240"/>
              </a:xfrm>
              <a:custGeom>
                <a:avLst/>
                <a:gdLst/>
                <a:ahLst/>
                <a:rect l="l" t="t" r="r" b="b"/>
                <a:pathLst>
                  <a:path w="720" h="622">
                    <a:moveTo>
                      <a:pt x="430" y="0"/>
                    </a:moveTo>
                    <a:lnTo>
                      <a:pt x="177" y="379"/>
                    </a:lnTo>
                    <a:lnTo>
                      <a:pt x="0" y="379"/>
                    </a:lnTo>
                    <a:lnTo>
                      <a:pt x="168" y="622"/>
                    </a:lnTo>
                    <a:lnTo>
                      <a:pt x="631" y="379"/>
                    </a:lnTo>
                    <a:lnTo>
                      <a:pt x="465" y="382"/>
                    </a:lnTo>
                    <a:lnTo>
                      <a:pt x="720" y="0"/>
                    </a:lnTo>
                    <a:lnTo>
                      <a:pt x="430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6247800" y="3076920"/>
                <a:ext cx="1180800" cy="426600"/>
                <a:chOff x="6247800" y="3076920"/>
                <a:chExt cx="1180800" cy="426600"/>
              </a:xfrm>
            </p:grpSpPr>
            <p:sp>
              <p:nvSpPr>
                <p:cNvPr id="108" name=""/>
                <p:cNvSpPr/>
                <p:nvPr/>
              </p:nvSpPr>
              <p:spPr>
                <a:xfrm flipV="1">
                  <a:off x="6903720" y="3199680"/>
                  <a:ext cx="86040" cy="1000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V="1">
                  <a:off x="7034040" y="3161520"/>
                  <a:ext cx="206280" cy="1418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7102080" y="3367800"/>
                  <a:ext cx="298800" cy="421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92360" y="3481200"/>
                  <a:ext cx="336240" cy="223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 flipV="1">
                  <a:off x="6408720" y="3076920"/>
                  <a:ext cx="280440" cy="1746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 flipV="1">
                  <a:off x="6292800" y="3230280"/>
                  <a:ext cx="312840" cy="1260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 flipV="1">
                  <a:off x="6247800" y="3394440"/>
                  <a:ext cx="287280" cy="450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 flipV="1">
                  <a:off x="6520320" y="3374640"/>
                  <a:ext cx="203400" cy="518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 flipV="1">
                  <a:off x="6562440" y="3242880"/>
                  <a:ext cx="175320" cy="831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 flipV="1">
                  <a:off x="6755760" y="3192120"/>
                  <a:ext cx="56160" cy="946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V="1">
                  <a:off x="6971040" y="3308040"/>
                  <a:ext cx="131760" cy="302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949080" y="3417480"/>
                  <a:ext cx="208440" cy="144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flipV="1">
                  <a:off x="6701760" y="3345840"/>
                  <a:ext cx="110160" cy="536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226200" y="3566520"/>
                <a:ext cx="1152720" cy="419760"/>
                <a:chOff x="6226200" y="3566520"/>
                <a:chExt cx="1152720" cy="419760"/>
              </a:xfrm>
            </p:grpSpPr>
            <p:sp>
              <p:nvSpPr>
                <p:cNvPr id="122" name=""/>
                <p:cNvSpPr/>
                <p:nvPr/>
              </p:nvSpPr>
              <p:spPr>
                <a:xfrm flipH="1">
                  <a:off x="6628680" y="3720600"/>
                  <a:ext cx="95760" cy="1342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>
                  <a:off x="6386760" y="3758760"/>
                  <a:ext cx="206280" cy="14256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6226200" y="3652560"/>
                  <a:ext cx="298800" cy="42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 flipV="1">
                  <a:off x="6313680" y="3566520"/>
                  <a:ext cx="221400" cy="140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937560" y="3811320"/>
                  <a:ext cx="280080" cy="17496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020360" y="3706200"/>
                  <a:ext cx="312480" cy="12636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092000" y="3621600"/>
                  <a:ext cx="286920" cy="446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904080" y="3636000"/>
                  <a:ext cx="203040" cy="51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889320" y="3735720"/>
                  <a:ext cx="175320" cy="8352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815160" y="3774240"/>
                  <a:ext cx="56160" cy="946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6524280" y="3723840"/>
                  <a:ext cx="131400" cy="302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 flipV="1">
                  <a:off x="6471360" y="3628800"/>
                  <a:ext cx="207720" cy="144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814080" y="3662280"/>
                  <a:ext cx="109800" cy="536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" name=""/>
              <p:cNvSpPr/>
              <p:nvPr/>
            </p:nvSpPr>
            <p:spPr>
              <a:xfrm>
                <a:off x="5327280" y="3974400"/>
                <a:ext cx="332280" cy="453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060760" y="3075120"/>
                <a:ext cx="248760" cy="338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8202960" y="2683800"/>
                <a:ext cx="123120" cy="1512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544720" y="4711320"/>
                <a:ext cx="232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on-central Collisio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5540400" y="2000160"/>
              <a:ext cx="1317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Elliptic 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Dir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16200" y="4952880"/>
              <a:ext cx="264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jet suppression/geo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40000" y="533520"/>
            <a:ext cx="3497760" cy="2590200"/>
            <a:chOff x="540000" y="533520"/>
            <a:chExt cx="3497760" cy="2590200"/>
          </a:xfrm>
        </p:grpSpPr>
        <p:grpSp>
          <p:nvGrpSpPr>
            <p:cNvPr id="142" name=""/>
            <p:cNvGrpSpPr/>
            <p:nvPr/>
          </p:nvGrpSpPr>
          <p:grpSpPr>
            <a:xfrm>
              <a:off x="876240" y="533520"/>
              <a:ext cx="3161520" cy="2590200"/>
              <a:chOff x="876240" y="533520"/>
              <a:chExt cx="3161520" cy="2590200"/>
            </a:xfrm>
          </p:grpSpPr>
          <p:sp>
            <p:nvSpPr>
              <p:cNvPr id="143" name=""/>
              <p:cNvSpPr/>
              <p:nvPr/>
            </p:nvSpPr>
            <p:spPr>
              <a:xfrm>
                <a:off x="1104480" y="1676160"/>
                <a:ext cx="2685600" cy="143316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485520" y="1676160"/>
                <a:ext cx="552240" cy="143172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240" y="1676160"/>
                <a:ext cx="553680" cy="1447560"/>
              </a:xfrm>
              <a:prstGeom prst="ellipse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00cc99"/>
                  </a:gs>
                </a:gsLst>
                <a:lin ang="10800000"/>
              </a:gradFill>
              <a:ln w="936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342520" y="8380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j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2799720" y="914040"/>
                <a:ext cx="685440" cy="38052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799720" y="533520"/>
                <a:ext cx="609480" cy="76176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2799720" y="533520"/>
                <a:ext cx="152280" cy="76176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64760" y="2385720"/>
                <a:ext cx="77400" cy="35712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809360" y="2333520"/>
                <a:ext cx="437760" cy="71388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1656720" y="2333520"/>
                <a:ext cx="590400" cy="40932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123560" y="1869840"/>
                <a:ext cx="108072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707920" y="1869840"/>
                <a:ext cx="115848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2190240" y="1822320"/>
                <a:ext cx="304560" cy="663120"/>
              </a:xfrm>
              <a:prstGeom prst="line">
                <a:avLst/>
              </a:prstGeom>
              <a:ln w="38160">
                <a:solidFill>
                  <a:srgbClr val="3366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728520" y="1712880"/>
                <a:ext cx="151920" cy="304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90080" y="1731960"/>
                <a:ext cx="151920" cy="304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2418840" y="1142640"/>
                <a:ext cx="456840" cy="76140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90240" y="1565280"/>
                <a:ext cx="541080" cy="62640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275840" y="156816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333240" y="156816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4960" y="228600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61840" y="228600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540000" y="838080"/>
              <a:ext cx="1855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jet suppr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and modific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14600" y="2133360"/>
              <a:ext cx="151920" cy="5331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675800" y="2133360"/>
              <a:ext cx="53316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451160" y="3688560"/>
            <a:ext cx="3116520" cy="1873800"/>
            <a:chOff x="1451160" y="3688560"/>
            <a:chExt cx="3116520" cy="1873800"/>
          </a:xfrm>
        </p:grpSpPr>
        <p:sp>
          <p:nvSpPr>
            <p:cNvPr id="168" name=""/>
            <p:cNvSpPr/>
            <p:nvPr/>
          </p:nvSpPr>
          <p:spPr>
            <a:xfrm>
              <a:off x="1674720" y="4101840"/>
              <a:ext cx="1109160" cy="1460520"/>
            </a:xfrm>
            <a:prstGeom prst="ellipse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2072880" y="3688560"/>
              <a:ext cx="31320" cy="772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086920" y="4490640"/>
              <a:ext cx="3960" cy="94968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25720" y="4403520"/>
              <a:ext cx="171000" cy="152280"/>
            </a:xfrm>
            <a:prstGeom prst="sun">
              <a:avLst>
                <a:gd name="adj" fmla="val 25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1451160" y="4943520"/>
              <a:ext cx="901440" cy="1011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19560" y="5026680"/>
              <a:ext cx="1164240" cy="633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76280" y="4959000"/>
              <a:ext cx="183960" cy="152640"/>
            </a:xfrm>
            <a:prstGeom prst="sun">
              <a:avLst>
                <a:gd name="adj" fmla="val 25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28120" y="3831840"/>
              <a:ext cx="2239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Angular dependen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of jet suppress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and mod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40C7-A98F-4E8D-ACCE-2D98681F5B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503600" y="1295280"/>
            <a:ext cx="4564080" cy="33148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5031720" y="20574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et spec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65240" y="1295280"/>
            <a:ext cx="4559040" cy="33130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rot="16200000">
            <a:off x="3529800" y="2305800"/>
            <a:ext cx="213192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ield (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assoc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gt;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assoc,cu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2080" y="225432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idge spec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200000">
            <a:off x="-808560" y="2266200"/>
            <a:ext cx="213192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ield (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assoc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gt;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assoc,cu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54280" y="4422600"/>
            <a:ext cx="8348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assoc,c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32880" y="4419720"/>
            <a:ext cx="8348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assoc,c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91000" y="3535200"/>
            <a:ext cx="8085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Arial"/>
              </a:rPr>
              <a:t>inclus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28520" y="2925720"/>
            <a:ext cx="8085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Arial"/>
              </a:rPr>
              <a:t>inclus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140240" y="1830240"/>
            <a:ext cx="1375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STAR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85760" y="1790640"/>
            <a:ext cx="1375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STAR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FFA-10B7-4286-B7FC-739764080693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876920" y="527040"/>
            <a:ext cx="3962160" cy="24987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rcRect l="0" t="0" r="3923" b="0"/>
          <a:stretch/>
        </p:blipFill>
        <p:spPr>
          <a:xfrm>
            <a:off x="228600" y="527040"/>
            <a:ext cx="4373640" cy="25970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rcRect l="4256" t="0" r="0" b="0"/>
          <a:stretch/>
        </p:blipFill>
        <p:spPr>
          <a:xfrm>
            <a:off x="4876920" y="3581280"/>
            <a:ext cx="3962160" cy="24210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rcRect l="0" t="0" r="3923" b="0"/>
          <a:stretch/>
        </p:blipFill>
        <p:spPr>
          <a:xfrm>
            <a:off x="228600" y="3581280"/>
            <a:ext cx="4419720" cy="2625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928960" y="6095880"/>
            <a:ext cx="1368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asso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tr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62880" y="5943600"/>
            <a:ext cx="1368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asso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tr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7760" y="2127240"/>
            <a:ext cx="1375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STAR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60720" y="654120"/>
            <a:ext cx="1375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STAR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74760" y="12384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Jet+Ridge in Au+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92960" y="1332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Jet in d+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6360" y="3214800"/>
            <a:ext cx="18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Jet” in Au+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44520" y="19692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TAR, M. Horner, QM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925000" y="32148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Jet in d+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05360" y="99072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Jet+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9440" y="4052880"/>
            <a:ext cx="7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Je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F17D-8BA7-453B-986B-B3842DABAA6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304560" y="838080"/>
            <a:ext cx="8505720" cy="3818520"/>
            <a:chOff x="304560" y="838080"/>
            <a:chExt cx="8505720" cy="3818520"/>
          </a:xfrm>
        </p:grpSpPr>
        <p:sp>
          <p:nvSpPr>
            <p:cNvPr id="419" name=""/>
            <p:cNvSpPr/>
            <p:nvPr/>
          </p:nvSpPr>
          <p:spPr>
            <a:xfrm rot="2524800">
              <a:off x="5700240" y="2020680"/>
              <a:ext cx="534960" cy="531720"/>
            </a:xfrm>
            <a:prstGeom prst="ellipse">
              <a:avLst/>
            </a:prstGeom>
            <a:solidFill>
              <a:srgbClr val="000cff"/>
            </a:solidFill>
            <a:ln w="9360">
              <a:solidFill>
                <a:srgbClr val="000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5400000">
              <a:off x="5686560" y="1277640"/>
              <a:ext cx="537840" cy="54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114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11421"/>
                </a:path>
              </a:pathLst>
            </a:custGeom>
            <a:solidFill>
              <a:srgbClr val="065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 rot="16200000">
              <a:off x="5684400" y="3699000"/>
              <a:ext cx="540720" cy="54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114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11421"/>
                </a:path>
              </a:pathLst>
            </a:custGeom>
            <a:solidFill>
              <a:srgbClr val="065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13640" y="2021040"/>
              <a:ext cx="540720" cy="53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114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11421"/>
                </a:path>
              </a:pathLst>
            </a:custGeom>
            <a:solidFill>
              <a:srgbClr val="065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7327800" y="2035080"/>
              <a:ext cx="537840" cy="53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114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11421"/>
                </a:path>
              </a:pathLst>
            </a:custGeom>
            <a:solidFill>
              <a:srgbClr val="065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13640" y="2965320"/>
              <a:ext cx="540720" cy="53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114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11421"/>
                </a:path>
              </a:pathLst>
            </a:custGeom>
            <a:solidFill>
              <a:srgbClr val="065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5400000">
              <a:off x="6539760" y="1285200"/>
              <a:ext cx="540720" cy="53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114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11421"/>
                </a:path>
              </a:pathLst>
            </a:custGeom>
            <a:solidFill>
              <a:srgbClr val="065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327800" y="2987640"/>
              <a:ext cx="537840" cy="53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114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11421"/>
                </a:path>
              </a:pathLst>
            </a:custGeom>
            <a:solidFill>
              <a:srgbClr val="065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 rot="16200000">
              <a:off x="6524280" y="3699000"/>
              <a:ext cx="540720" cy="54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114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11421"/>
                </a:path>
              </a:pathLst>
            </a:custGeom>
            <a:solidFill>
              <a:srgbClr val="065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2524800">
              <a:off x="6487920" y="2020680"/>
              <a:ext cx="534960" cy="531720"/>
            </a:xfrm>
            <a:prstGeom prst="ellipse">
              <a:avLst/>
            </a:prstGeom>
            <a:solidFill>
              <a:srgbClr val="000cff"/>
            </a:solidFill>
            <a:ln w="9360">
              <a:solidFill>
                <a:srgbClr val="000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2524800">
              <a:off x="5708160" y="2936880"/>
              <a:ext cx="534960" cy="530280"/>
            </a:xfrm>
            <a:prstGeom prst="ellipse">
              <a:avLst/>
            </a:prstGeom>
            <a:solidFill>
              <a:srgbClr val="000cff"/>
            </a:solidFill>
            <a:ln w="9360">
              <a:solidFill>
                <a:srgbClr val="000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2524800">
              <a:off x="6495840" y="2936880"/>
              <a:ext cx="534960" cy="530280"/>
            </a:xfrm>
            <a:prstGeom prst="ellipse">
              <a:avLst/>
            </a:prstGeom>
            <a:solidFill>
              <a:srgbClr val="000cff"/>
            </a:solidFill>
            <a:ln w="9360">
              <a:solidFill>
                <a:srgbClr val="000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04000" y="2320920"/>
              <a:ext cx="900000" cy="928800"/>
            </a:xfrm>
            <a:prstGeom prst="rect">
              <a:avLst/>
            </a:prstGeom>
            <a:solidFill>
              <a:srgbClr val="000c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78600" y="1539720"/>
              <a:ext cx="2428560" cy="2430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6200000">
              <a:off x="4313160" y="1569960"/>
              <a:ext cx="72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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957360" y="4114800"/>
              <a:ext cx="72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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17240" y="3692520"/>
              <a:ext cx="538560" cy="53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d15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5400000">
              <a:off x="4923000" y="1277640"/>
              <a:ext cx="539280" cy="53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d15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0800000">
              <a:off x="7331400" y="1278000"/>
              <a:ext cx="539280" cy="53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d15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6200000">
              <a:off x="7323120" y="3686040"/>
              <a:ext cx="539280" cy="53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d15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70320" y="2792520"/>
              <a:ext cx="2436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6378480" y="1533240"/>
              <a:ext cx="0" cy="2436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038920" y="3898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55000" y="390060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50480" y="390060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05720" y="26416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24720" y="142560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5400000">
              <a:off x="2941560" y="1150920"/>
              <a:ext cx="543960" cy="81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114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11421"/>
                </a:path>
              </a:pathLst>
            </a:custGeom>
            <a:solidFill>
              <a:srgbClr val="065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16200000">
              <a:off x="2933640" y="3590280"/>
              <a:ext cx="543960" cy="81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114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11421"/>
                </a:path>
              </a:pathLst>
            </a:custGeom>
            <a:solidFill>
              <a:srgbClr val="065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731240" y="2408400"/>
              <a:ext cx="543240" cy="81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114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11421"/>
                </a:path>
              </a:pathLst>
            </a:custGeom>
            <a:solidFill>
              <a:srgbClr val="065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4166640" y="2408400"/>
              <a:ext cx="546120" cy="81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114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11421"/>
                </a:path>
              </a:pathLst>
            </a:custGeom>
            <a:solidFill>
              <a:srgbClr val="065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2524800">
              <a:off x="2933280" y="2297160"/>
              <a:ext cx="539640" cy="1030320"/>
            </a:xfrm>
            <a:prstGeom prst="ellipse">
              <a:avLst/>
            </a:prstGeom>
            <a:solidFill>
              <a:srgbClr val="000cff"/>
            </a:solidFill>
            <a:ln w="9360">
              <a:solidFill>
                <a:srgbClr val="000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96920" y="1544760"/>
              <a:ext cx="2454480" cy="2454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6200000">
              <a:off x="1112760" y="1569960"/>
              <a:ext cx="72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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01680" y="4146480"/>
              <a:ext cx="72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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30520" y="3719520"/>
              <a:ext cx="545760" cy="54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d15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5400000">
              <a:off x="1740240" y="1279800"/>
              <a:ext cx="5421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d15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0800000">
              <a:off x="4170240" y="1281600"/>
              <a:ext cx="545760" cy="54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d15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4162680" y="3711600"/>
              <a:ext cx="5450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d15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89000" y="2809800"/>
              <a:ext cx="24624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3208320" y="1536480"/>
              <a:ext cx="0" cy="24620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18000" y="3946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044880" y="394812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52960" y="394812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683000" y="267660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02000" y="144792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91320" y="838080"/>
              <a:ext cx="199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Event by ev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deflection of j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91200" y="838080"/>
              <a:ext cx="231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Cone like structu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in each ev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304560" y="1143000"/>
              <a:ext cx="550800" cy="1600200"/>
              <a:chOff x="304560" y="1143000"/>
              <a:chExt cx="550800" cy="1600200"/>
            </a:xfrm>
          </p:grpSpPr>
          <p:sp>
            <p:nvSpPr>
              <p:cNvPr id="468" name=""/>
              <p:cNvSpPr/>
              <p:nvPr/>
            </p:nvSpPr>
            <p:spPr>
              <a:xfrm flipV="1">
                <a:off x="755280" y="1143000"/>
                <a:ext cx="0" cy="10000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304560" y="2143080"/>
                <a:ext cx="450360" cy="6001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554760" y="2143080"/>
                <a:ext cx="199800" cy="34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504720" y="2143080"/>
                <a:ext cx="250200" cy="25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755280" y="1492560"/>
                <a:ext cx="100080" cy="64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flipV="1">
                <a:off x="705600" y="1692720"/>
                <a:ext cx="49680" cy="45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990360" y="1143000"/>
              <a:ext cx="450720" cy="1599840"/>
              <a:chOff x="990360" y="1143000"/>
              <a:chExt cx="450720" cy="1599840"/>
            </a:xfrm>
          </p:grpSpPr>
          <p:sp>
            <p:nvSpPr>
              <p:cNvPr id="475" name=""/>
              <p:cNvSpPr/>
              <p:nvPr/>
            </p:nvSpPr>
            <p:spPr>
              <a:xfrm flipV="1">
                <a:off x="1040760" y="1143000"/>
                <a:ext cx="0" cy="10000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040760" y="2143080"/>
                <a:ext cx="400320" cy="59976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040760" y="2143080"/>
                <a:ext cx="25020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040760" y="2143080"/>
                <a:ext cx="150120" cy="34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1040760" y="1492560"/>
                <a:ext cx="100080" cy="64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990360" y="1693080"/>
                <a:ext cx="50040" cy="45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8001000" y="1295280"/>
              <a:ext cx="809280" cy="1523880"/>
              <a:chOff x="8001000" y="1295280"/>
              <a:chExt cx="809280" cy="1523880"/>
            </a:xfrm>
          </p:grpSpPr>
          <p:sp>
            <p:nvSpPr>
              <p:cNvPr id="482" name=""/>
              <p:cNvSpPr/>
              <p:nvPr/>
            </p:nvSpPr>
            <p:spPr>
              <a:xfrm flipV="1">
                <a:off x="8429400" y="1295280"/>
                <a:ext cx="0" cy="95256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8001000" y="2247840"/>
                <a:ext cx="428400" cy="5713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429400" y="2247840"/>
                <a:ext cx="380880" cy="5713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8238600" y="2247840"/>
                <a:ext cx="19044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8191080" y="2247840"/>
                <a:ext cx="23796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429400" y="2247840"/>
                <a:ext cx="23796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429400" y="2247840"/>
                <a:ext cx="14256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8429400" y="1628280"/>
                <a:ext cx="95040" cy="61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flipV="1">
                <a:off x="8381880" y="1819080"/>
                <a:ext cx="47520" cy="42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27C2-B630-49DC-8C47-8B093295F5B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452520" y="784080"/>
            <a:ext cx="2671560" cy="23767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2300400" y="2971800"/>
            <a:ext cx="71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rot="16200000">
            <a:off x="-24480" y="648720"/>
            <a:ext cx="71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647640" y="457200"/>
          <a:ext cx="217188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640" y="457200"/>
                    <a:ext cx="217188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6019920" y="608040"/>
            <a:ext cx="2666880" cy="2593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6248520" y="86832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514"/>
                </a:solidFill>
                <a:latin typeface="Arial"/>
              </a:rPr>
              <a:t>2-Part 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84200" y="262080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cff"/>
                </a:solidFill>
                <a:latin typeface="Arial"/>
              </a:rPr>
              <a:t>Flow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96080" y="4111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514"/>
                </a:solidFill>
                <a:latin typeface="Arial"/>
              </a:rPr>
              <a:t>Jetty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5"/>
          <a:stretch/>
        </p:blipFill>
        <p:spPr>
          <a:xfrm>
            <a:off x="3287880" y="776160"/>
            <a:ext cx="2732040" cy="239580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3733920" y="2286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Jet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Background</a:t>
            </a:r>
            <a:r>
              <a:rPr b="0" lang="ja-JP" sz="1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3300"/>
                </a:solidFill>
                <a:latin typeface="Arial"/>
              </a:rPr>
              <a:t>Hard-Soft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6"/>
          <a:stretch/>
        </p:blipFill>
        <p:spPr>
          <a:xfrm>
            <a:off x="457200" y="4114800"/>
            <a:ext cx="2606760" cy="225252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533520" y="3581280"/>
            <a:ext cx="220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rigger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2-Background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ft-Soft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7"/>
          <a:stretch/>
        </p:blipFill>
        <p:spPr>
          <a:xfrm>
            <a:off x="3352680" y="4138560"/>
            <a:ext cx="2743200" cy="22510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8"/>
          <a:stretch/>
        </p:blipFill>
        <p:spPr>
          <a:xfrm>
            <a:off x="5943600" y="4130640"/>
            <a:ext cx="2895480" cy="221148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5181480" y="35812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rigger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Background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Flow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191120" y="5791320"/>
            <a:ext cx="137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1) v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248520" y="5562720"/>
            <a:ext cx="2057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+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74160" y="5897520"/>
            <a:ext cx="866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.15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81C0-042B-4751-9531-E1F20B121A97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rcRect l="0" t="34482" r="0" b="0"/>
          <a:stretch/>
        </p:blipFill>
        <p:spPr>
          <a:xfrm>
            <a:off x="5181480" y="3581280"/>
            <a:ext cx="3276720" cy="266724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6019920" y="5029200"/>
            <a:ext cx="1266840" cy="3348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6197760" y="6172200"/>
            <a:ext cx="1117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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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</a:rPr>
              <a:t>13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)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5880" y="475452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ff"/>
                </a:solidFill>
                <a:latin typeface="Symbol"/>
                <a:ea typeface="Symbol"/>
              </a:rPr>
              <a:t></a:t>
            </a:r>
            <a:r>
              <a:rPr b="0" lang="en-US" sz="12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ff"/>
                </a:solidFill>
                <a:latin typeface="Symbol"/>
                <a:ea typeface="Symbol"/>
              </a:rPr>
              <a:t></a:t>
            </a:r>
            <a:r>
              <a:rPr b="0" lang="en-US" sz="1200" spc="-1" strike="noStrike" baseline="-25000">
                <a:solidFill>
                  <a:srgbClr val="0000ff"/>
                </a:solidFill>
                <a:latin typeface="Arial"/>
              </a:rPr>
              <a:t>13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)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380880" y="152280"/>
            <a:ext cx="4516560" cy="40276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3490560" y="3976560"/>
            <a:ext cx="65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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16200000">
            <a:off x="58320" y="425520"/>
            <a:ext cx="65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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905120" y="457200"/>
            <a:ext cx="5915880" cy="2097000"/>
            <a:chOff x="1905120" y="457200"/>
            <a:chExt cx="5915880" cy="2097000"/>
          </a:xfrm>
        </p:grpSpPr>
        <p:sp>
          <p:nvSpPr>
            <p:cNvPr id="518" name=""/>
            <p:cNvSpPr/>
            <p:nvPr/>
          </p:nvSpPr>
          <p:spPr>
            <a:xfrm>
              <a:off x="1905120" y="1949400"/>
              <a:ext cx="601560" cy="604800"/>
            </a:xfrm>
            <a:prstGeom prst="ellipse">
              <a:avLst/>
            </a:prstGeom>
            <a:noFill/>
            <a:ln w="9360">
              <a:solidFill>
                <a:srgbClr val="e304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363840" y="485640"/>
              <a:ext cx="603360" cy="606600"/>
            </a:xfrm>
            <a:prstGeom prst="ellipse">
              <a:avLst/>
            </a:prstGeom>
            <a:noFill/>
            <a:ln w="9360">
              <a:solidFill>
                <a:srgbClr val="e304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37040" y="793800"/>
              <a:ext cx="3594240" cy="0"/>
            </a:xfrm>
            <a:prstGeom prst="line">
              <a:avLst/>
            </a:prstGeom>
            <a:ln w="19080">
              <a:solidFill>
                <a:srgbClr val="ff0514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55280" y="457200"/>
              <a:ext cx="256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514"/>
                  </a:solidFill>
                  <a:latin typeface="Arial"/>
                </a:rPr>
                <a:t>Deflected Jet + C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843200" y="442800"/>
            <a:ext cx="5928120" cy="2197080"/>
            <a:chOff x="1843200" y="442800"/>
            <a:chExt cx="5928120" cy="2197080"/>
          </a:xfrm>
        </p:grpSpPr>
        <p:sp>
          <p:nvSpPr>
            <p:cNvPr id="523" name=""/>
            <p:cNvSpPr/>
            <p:nvPr/>
          </p:nvSpPr>
          <p:spPr>
            <a:xfrm>
              <a:off x="1843200" y="442800"/>
              <a:ext cx="603000" cy="606240"/>
            </a:xfrm>
            <a:prstGeom prst="ellipse">
              <a:avLst/>
            </a:prstGeom>
            <a:noFill/>
            <a:ln w="9360">
              <a:solidFill>
                <a:srgbClr val="e304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22440" y="2035080"/>
              <a:ext cx="603360" cy="604800"/>
            </a:xfrm>
            <a:prstGeom prst="ellipse">
              <a:avLst/>
            </a:prstGeom>
            <a:noFill/>
            <a:ln w="9360">
              <a:solidFill>
                <a:srgbClr val="e304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78360" y="2376360"/>
              <a:ext cx="356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81120" y="19825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23880" y="3032280"/>
            <a:ext cx="5979960" cy="398880"/>
            <a:chOff x="1523880" y="3032280"/>
            <a:chExt cx="5979960" cy="398880"/>
          </a:xfrm>
        </p:grpSpPr>
        <p:sp>
          <p:nvSpPr>
            <p:cNvPr id="528" name=""/>
            <p:cNvSpPr/>
            <p:nvPr/>
          </p:nvSpPr>
          <p:spPr>
            <a:xfrm flipV="1">
              <a:off x="1523880" y="3365280"/>
              <a:ext cx="5867280" cy="1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90920" y="3032280"/>
              <a:ext cx="131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cff"/>
                  </a:solidFill>
                  <a:latin typeface="Arial"/>
                </a:rPr>
                <a:t>Near S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1852920" y="410760"/>
            <a:ext cx="6030720" cy="2149920"/>
            <a:chOff x="1852920" y="410760"/>
            <a:chExt cx="6030720" cy="2149920"/>
          </a:xfrm>
        </p:grpSpPr>
        <p:sp>
          <p:nvSpPr>
            <p:cNvPr id="531" name=""/>
            <p:cNvSpPr/>
            <p:nvPr/>
          </p:nvSpPr>
          <p:spPr>
            <a:xfrm rot="2715000">
              <a:off x="2590200" y="304560"/>
              <a:ext cx="685800" cy="2361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41600" y="1460160"/>
              <a:ext cx="4267080" cy="0"/>
            </a:xfrm>
            <a:prstGeom prst="line">
              <a:avLst/>
            </a:prstGeom>
            <a:ln w="19080">
              <a:solidFill>
                <a:srgbClr val="065549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74400" y="1066680"/>
              <a:ext cx="300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65549"/>
                  </a:solidFill>
                  <a:latin typeface="Arial"/>
                </a:rPr>
                <a:t>Elongated Away Side J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676520" y="242280"/>
            <a:ext cx="2514600" cy="25146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1828800" y="242640"/>
            <a:ext cx="2286000" cy="243828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828800" y="2666880"/>
            <a:ext cx="3429000" cy="1676520"/>
          </a:xfrm>
          <a:prstGeom prst="line">
            <a:avLst/>
          </a:prstGeom>
          <a:ln w="25560">
            <a:solidFill>
              <a:srgbClr val="3333cc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2666880"/>
            <a:ext cx="1143000" cy="3048120"/>
          </a:xfrm>
          <a:prstGeom prst="line">
            <a:avLst/>
          </a:prstGeom>
          <a:ln w="2556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A8C-F879-4951-8A0F-A29E3A2B3AE7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6261120" y="990720"/>
            <a:ext cx="2882520" cy="5187960"/>
            <a:chOff x="6261120" y="990720"/>
            <a:chExt cx="2882520" cy="5187960"/>
          </a:xfrm>
        </p:grpSpPr>
        <p:pic>
          <p:nvPicPr>
            <p:cNvPr id="539" name="" descr=""/>
            <p:cNvPicPr/>
            <p:nvPr/>
          </p:nvPicPr>
          <p:blipFill>
            <a:blip r:embed="rId1"/>
            <a:stretch/>
          </p:blipFill>
          <p:spPr>
            <a:xfrm>
              <a:off x="6261120" y="990720"/>
              <a:ext cx="2882520" cy="518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2"/>
            <a:stretch/>
          </p:blipFill>
          <p:spPr>
            <a:xfrm>
              <a:off x="7455240" y="2877120"/>
              <a:ext cx="1147680" cy="3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3"/>
            <a:stretch/>
          </p:blipFill>
          <p:spPr>
            <a:xfrm>
              <a:off x="7455240" y="4581000"/>
              <a:ext cx="1147680" cy="32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2" name=""/>
          <p:cNvGrpSpPr/>
          <p:nvPr/>
        </p:nvGrpSpPr>
        <p:grpSpPr>
          <a:xfrm>
            <a:off x="3416400" y="990720"/>
            <a:ext cx="2882520" cy="5187960"/>
            <a:chOff x="3416400" y="990720"/>
            <a:chExt cx="2882520" cy="5187960"/>
          </a:xfrm>
        </p:grpSpPr>
        <p:pic>
          <p:nvPicPr>
            <p:cNvPr id="543" name="" descr=""/>
            <p:cNvPicPr/>
            <p:nvPr/>
          </p:nvPicPr>
          <p:blipFill>
            <a:blip r:embed="rId4"/>
            <a:stretch/>
          </p:blipFill>
          <p:spPr>
            <a:xfrm>
              <a:off x="3416400" y="990720"/>
              <a:ext cx="2882520" cy="518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5"/>
            <a:stretch/>
          </p:blipFill>
          <p:spPr>
            <a:xfrm>
              <a:off x="4640760" y="2877120"/>
              <a:ext cx="1147680" cy="3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6"/>
            <a:stretch/>
          </p:blipFill>
          <p:spPr>
            <a:xfrm>
              <a:off x="4640760" y="4581000"/>
              <a:ext cx="1147680" cy="32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6" name=""/>
          <p:cNvGrpSpPr/>
          <p:nvPr/>
        </p:nvGrpSpPr>
        <p:grpSpPr>
          <a:xfrm>
            <a:off x="444600" y="990720"/>
            <a:ext cx="2882520" cy="5187960"/>
            <a:chOff x="444600" y="990720"/>
            <a:chExt cx="2882520" cy="5187960"/>
          </a:xfrm>
        </p:grpSpPr>
        <p:pic>
          <p:nvPicPr>
            <p:cNvPr id="547" name="" descr=""/>
            <p:cNvPicPr/>
            <p:nvPr/>
          </p:nvPicPr>
          <p:blipFill>
            <a:blip r:embed="rId7"/>
            <a:stretch/>
          </p:blipFill>
          <p:spPr>
            <a:xfrm>
              <a:off x="444600" y="990720"/>
              <a:ext cx="2882520" cy="518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" descr=""/>
            <p:cNvPicPr/>
            <p:nvPr/>
          </p:nvPicPr>
          <p:blipFill>
            <a:blip r:embed="rId8"/>
            <a:stretch/>
          </p:blipFill>
          <p:spPr>
            <a:xfrm>
              <a:off x="1668960" y="2877120"/>
              <a:ext cx="1147680" cy="3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" descr=""/>
            <p:cNvPicPr/>
            <p:nvPr/>
          </p:nvPicPr>
          <p:blipFill>
            <a:blip r:embed="rId9"/>
            <a:stretch/>
          </p:blipFill>
          <p:spPr>
            <a:xfrm>
              <a:off x="1668960" y="4581000"/>
              <a:ext cx="1147680" cy="32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"/>
          <p:cNvSpPr/>
          <p:nvPr/>
        </p:nvSpPr>
        <p:spPr>
          <a:xfrm>
            <a:off x="254160" y="254160"/>
            <a:ext cx="5841720" cy="660240"/>
          </a:xfrm>
          <a:prstGeom prst="rect">
            <a:avLst/>
          </a:prstGeom>
          <a:solidFill>
            <a:srgbClr val="065549"/>
          </a:solidFill>
          <a:ln w="9360">
            <a:solidFill>
              <a:srgbClr val="065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et - Flow Subtraction - System Size Depen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0"/>
          <a:stretch/>
        </p:blipFill>
        <p:spPr>
          <a:xfrm>
            <a:off x="7378560" y="241200"/>
            <a:ext cx="1587600" cy="5716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3919680" y="4267080"/>
            <a:ext cx="187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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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24360" y="6070680"/>
            <a:ext cx="1587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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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323080" y="2521080"/>
            <a:ext cx="57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l-GR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13600" y="2514600"/>
            <a:ext cx="57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l-GR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158680" y="2508120"/>
            <a:ext cx="57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l-GR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16200000">
            <a:off x="149400" y="1135080"/>
            <a:ext cx="57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rot="16200000">
            <a:off x="3095640" y="1135080"/>
            <a:ext cx="57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16200000">
            <a:off x="5959800" y="1102320"/>
            <a:ext cx="57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1"/>
          <a:stretch/>
        </p:blipFill>
        <p:spPr>
          <a:xfrm>
            <a:off x="-3240" y="4892760"/>
            <a:ext cx="587520" cy="94140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12"/>
          <a:stretch/>
        </p:blipFill>
        <p:spPr>
          <a:xfrm>
            <a:off x="-3240" y="2911320"/>
            <a:ext cx="587520" cy="9414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826200" y="2898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745080" y="284796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+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56680" y="312408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+Au 50-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2E6-D012-4DDD-A5F5-3114C46B00CE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27080" y="4532400"/>
            <a:ext cx="584280" cy="9414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101520" y="2881440"/>
            <a:ext cx="584280" cy="941400"/>
          </a:xfrm>
          <a:prstGeom prst="rect">
            <a:avLst/>
          </a:prstGeom>
          <a:ln w="0">
            <a:noFill/>
          </a:ln>
        </p:spPr>
      </p:pic>
      <p:grpSp>
        <p:nvGrpSpPr>
          <p:cNvPr id="567" name=""/>
          <p:cNvGrpSpPr/>
          <p:nvPr/>
        </p:nvGrpSpPr>
        <p:grpSpPr>
          <a:xfrm>
            <a:off x="555480" y="1130400"/>
            <a:ext cx="2860920" cy="5075280"/>
            <a:chOff x="555480" y="1130400"/>
            <a:chExt cx="2860920" cy="5075280"/>
          </a:xfrm>
        </p:grpSpPr>
        <p:pic>
          <p:nvPicPr>
            <p:cNvPr id="568" name="" descr=""/>
            <p:cNvPicPr/>
            <p:nvPr/>
          </p:nvPicPr>
          <p:blipFill>
            <a:blip r:embed="rId3"/>
            <a:stretch/>
          </p:blipFill>
          <p:spPr>
            <a:xfrm>
              <a:off x="555480" y="1130400"/>
              <a:ext cx="2860920" cy="507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4"/>
            <a:stretch/>
          </p:blipFill>
          <p:spPr>
            <a:xfrm>
              <a:off x="1741320" y="2982600"/>
              <a:ext cx="1143000" cy="31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5"/>
            <a:stretch/>
          </p:blipFill>
          <p:spPr>
            <a:xfrm>
              <a:off x="1741320" y="4655520"/>
              <a:ext cx="1143000" cy="32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" name=""/>
          <p:cNvGrpSpPr/>
          <p:nvPr/>
        </p:nvGrpSpPr>
        <p:grpSpPr>
          <a:xfrm>
            <a:off x="6138720" y="1103400"/>
            <a:ext cx="2852640" cy="5102280"/>
            <a:chOff x="6138720" y="1103400"/>
            <a:chExt cx="2852640" cy="5102280"/>
          </a:xfrm>
        </p:grpSpPr>
        <p:pic>
          <p:nvPicPr>
            <p:cNvPr id="572" name="" descr=""/>
            <p:cNvPicPr/>
            <p:nvPr/>
          </p:nvPicPr>
          <p:blipFill>
            <a:blip r:embed="rId6"/>
            <a:stretch/>
          </p:blipFill>
          <p:spPr>
            <a:xfrm>
              <a:off x="6138720" y="1103400"/>
              <a:ext cx="2852640" cy="51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7"/>
            <a:stretch/>
          </p:blipFill>
          <p:spPr>
            <a:xfrm>
              <a:off x="7357680" y="2908800"/>
              <a:ext cx="1143000" cy="32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" descr=""/>
            <p:cNvPicPr/>
            <p:nvPr/>
          </p:nvPicPr>
          <p:blipFill>
            <a:blip r:embed="rId8"/>
            <a:stretch/>
          </p:blipFill>
          <p:spPr>
            <a:xfrm>
              <a:off x="7357680" y="4654440"/>
              <a:ext cx="1143000" cy="32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5" name=""/>
          <p:cNvGrpSpPr/>
          <p:nvPr/>
        </p:nvGrpSpPr>
        <p:grpSpPr>
          <a:xfrm>
            <a:off x="3300480" y="1117440"/>
            <a:ext cx="2860560" cy="5088240"/>
            <a:chOff x="3300480" y="1117440"/>
            <a:chExt cx="2860560" cy="5088240"/>
          </a:xfrm>
        </p:grpSpPr>
        <p:pic>
          <p:nvPicPr>
            <p:cNvPr id="576" name="" descr=""/>
            <p:cNvPicPr/>
            <p:nvPr/>
          </p:nvPicPr>
          <p:blipFill>
            <a:blip r:embed="rId9"/>
            <a:stretch/>
          </p:blipFill>
          <p:spPr>
            <a:xfrm>
              <a:off x="3300480" y="1117440"/>
              <a:ext cx="2860560" cy="508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" descr=""/>
            <p:cNvPicPr/>
            <p:nvPr/>
          </p:nvPicPr>
          <p:blipFill>
            <a:blip r:embed="rId10"/>
            <a:stretch/>
          </p:blipFill>
          <p:spPr>
            <a:xfrm>
              <a:off x="4495680" y="2974680"/>
              <a:ext cx="1143000" cy="32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11"/>
            <a:stretch/>
          </p:blipFill>
          <p:spPr>
            <a:xfrm>
              <a:off x="4495680" y="4651920"/>
              <a:ext cx="11430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"/>
          <p:cNvSpPr/>
          <p:nvPr/>
        </p:nvSpPr>
        <p:spPr>
          <a:xfrm>
            <a:off x="228600" y="228600"/>
            <a:ext cx="5943600" cy="533520"/>
          </a:xfrm>
          <a:prstGeom prst="rect">
            <a:avLst/>
          </a:prstGeom>
          <a:solidFill>
            <a:srgbClr val="065549"/>
          </a:solidFill>
          <a:ln w="9360">
            <a:solidFill>
              <a:srgbClr val="065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et - Flow Subtraction - System Size Depen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2"/>
          <a:stretch/>
        </p:blipFill>
        <p:spPr>
          <a:xfrm>
            <a:off x="7378560" y="241200"/>
            <a:ext cx="1587600" cy="5716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3032280" y="1298520"/>
            <a:ext cx="57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5864400" y="1362600"/>
            <a:ext cx="57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16200000">
            <a:off x="187560" y="1298520"/>
            <a:ext cx="57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56280" y="2633760"/>
            <a:ext cx="57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l-GR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61320" y="2614680"/>
            <a:ext cx="57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l-GR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891920" y="2583000"/>
            <a:ext cx="57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l-GR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19680" y="4335480"/>
            <a:ext cx="187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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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24360" y="6062760"/>
            <a:ext cx="1587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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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14960" y="82548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+Au 30-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08920" y="83808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+Au 10-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38800" y="82548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+Au 0-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2841-F152-4302-A04D-8880B235790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685800" y="1600200"/>
            <a:ext cx="52578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352680" y="1752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azim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rcRect l="0" t="52006" r="14930" b="0"/>
          <a:stretch/>
        </p:blipFill>
        <p:spPr>
          <a:xfrm>
            <a:off x="1981080" y="2971800"/>
            <a:ext cx="3962520" cy="3165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95" name=""/>
          <p:cNvSpPr/>
          <p:nvPr/>
        </p:nvSpPr>
        <p:spPr>
          <a:xfrm>
            <a:off x="609480" y="990720"/>
            <a:ext cx="16002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14400" y="152280"/>
            <a:ext cx="56386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Particle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rrelations in High pT Framework 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86200" y="6172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 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4114800" y="748800"/>
            <a:ext cx="4800600" cy="4389120"/>
            <a:chOff x="4114800" y="748800"/>
            <a:chExt cx="4800600" cy="4389120"/>
          </a:xfrm>
        </p:grpSpPr>
        <p:grpSp>
          <p:nvGrpSpPr>
            <p:cNvPr id="599" name=""/>
            <p:cNvGrpSpPr/>
            <p:nvPr/>
          </p:nvGrpSpPr>
          <p:grpSpPr>
            <a:xfrm>
              <a:off x="4114800" y="748800"/>
              <a:ext cx="4800600" cy="3669840"/>
              <a:chOff x="4114800" y="748800"/>
              <a:chExt cx="4800600" cy="366984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4114800" y="1066680"/>
                <a:ext cx="4800600" cy="3351960"/>
                <a:chOff x="4114800" y="1066680"/>
                <a:chExt cx="4800600" cy="3351960"/>
              </a:xfrm>
            </p:grpSpPr>
            <p:grpSp>
              <p:nvGrpSpPr>
                <p:cNvPr id="601" name=""/>
                <p:cNvGrpSpPr/>
                <p:nvPr/>
              </p:nvGrpSpPr>
              <p:grpSpPr>
                <a:xfrm>
                  <a:off x="5946120" y="1066680"/>
                  <a:ext cx="2969280" cy="2615040"/>
                  <a:chOff x="5946120" y="1066680"/>
                  <a:chExt cx="2969280" cy="2615040"/>
                </a:xfrm>
              </p:grpSpPr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7146000" y="1120320"/>
                    <a:ext cx="1119600" cy="1306440"/>
                    <a:chOff x="7146000" y="1120320"/>
                    <a:chExt cx="1119600" cy="1306440"/>
                  </a:xfrm>
                </p:grpSpPr>
                <p:grpSp>
                  <p:nvGrpSpPr>
                    <p:cNvPr id="603" name=""/>
                    <p:cNvGrpSpPr/>
                    <p:nvPr/>
                  </p:nvGrpSpPr>
                  <p:grpSpPr>
                    <a:xfrm>
                      <a:off x="7146000" y="1120320"/>
                      <a:ext cx="1119600" cy="1306440"/>
                      <a:chOff x="7146000" y="1120320"/>
                      <a:chExt cx="1119600" cy="1306440"/>
                    </a:xfrm>
                  </p:grpSpPr>
                  <p:sp>
                    <p:nvSpPr>
                      <p:cNvPr id="604" name=""/>
                      <p:cNvSpPr/>
                      <p:nvPr/>
                    </p:nvSpPr>
                    <p:spPr>
                      <a:xfrm rot="561000">
                        <a:off x="7234560" y="1188720"/>
                        <a:ext cx="941400" cy="116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9" h="1417">
                            <a:moveTo>
                              <a:pt x="603" y="1417"/>
                            </a:moveTo>
                            <a:lnTo>
                              <a:pt x="0" y="96"/>
                            </a:lnTo>
                            <a:lnTo>
                              <a:pt x="809" y="0"/>
                            </a:lnTo>
                            <a:lnTo>
                              <a:pt x="603" y="1417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66">
                              <a:alpha val="16078"/>
                            </a:srgbClr>
                          </a:gs>
                          <a:gs pos="50000">
                            <a:srgbClr val="eaeaea">
                              <a:alpha val="14117"/>
                            </a:srgbClr>
                          </a:gs>
                          <a:gs pos="100000">
                            <a:srgbClr val="000066">
                              <a:alpha val="16078"/>
                            </a:srgbClr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prstDash val="sysDot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5" name=""/>
                      <p:cNvSpPr/>
                      <p:nvPr/>
                    </p:nvSpPr>
                    <p:spPr>
                      <a:xfrm rot="154800">
                        <a:off x="7328880" y="1149840"/>
                        <a:ext cx="933120" cy="181440"/>
                      </a:xfrm>
                      <a:prstGeom prst="ellipse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06" name=""/>
                    <p:cNvSpPr/>
                    <p:nvPr/>
                  </p:nvSpPr>
                  <p:spPr>
                    <a:xfrm flipV="1">
                      <a:off x="7827840" y="1715760"/>
                      <a:ext cx="130320" cy="536400"/>
                    </a:xfrm>
                    <a:prstGeom prst="line">
                      <a:avLst/>
                    </a:prstGeom>
                    <a:ln cap="rnd" w="28440">
                      <a:solidFill>
                        <a:srgbClr val="ff0000"/>
                      </a:solidFill>
                      <a:custDash>
                        <a:ds d="100000" sp="1000"/>
                      </a:custDash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flipV="1">
                      <a:off x="7806960" y="1359720"/>
                      <a:ext cx="56520" cy="500400"/>
                    </a:xfrm>
                    <a:prstGeom prst="line">
                      <a:avLst/>
                    </a:prstGeom>
                    <a:ln cap="rnd" w="28440">
                      <a:solidFill>
                        <a:srgbClr val="ff0000"/>
                      </a:solidFill>
                      <a:custDash>
                        <a:ds d="100000" sp="1000"/>
                      </a:custDash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 flipH="1" flipV="1">
                      <a:off x="7670160" y="1354320"/>
                      <a:ext cx="142920" cy="734400"/>
                    </a:xfrm>
                    <a:prstGeom prst="line">
                      <a:avLst/>
                    </a:prstGeom>
                    <a:ln cap="rnd" w="28440">
                      <a:solidFill>
                        <a:srgbClr val="ff0000"/>
                      </a:solidFill>
                      <a:custDash>
                        <a:ds d="100000" sp="1000"/>
                      </a:custDash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flipV="1">
                      <a:off x="7725240" y="1201680"/>
                      <a:ext cx="10800" cy="475560"/>
                    </a:xfrm>
                    <a:prstGeom prst="line">
                      <a:avLst/>
                    </a:prstGeom>
                    <a:ln cap="rnd" w="28440">
                      <a:solidFill>
                        <a:srgbClr val="ff0000"/>
                      </a:solidFill>
                      <a:custDash>
                        <a:ds d="100000" sp="1000"/>
                      </a:custDash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7146000" y="2375640"/>
                    <a:ext cx="1119600" cy="1306080"/>
                    <a:chOff x="7146000" y="2375640"/>
                    <a:chExt cx="1119600" cy="1306080"/>
                  </a:xfrm>
                </p:grpSpPr>
                <p:grpSp>
                  <p:nvGrpSpPr>
                    <p:cNvPr id="611" name=""/>
                    <p:cNvGrpSpPr/>
                    <p:nvPr/>
                  </p:nvGrpSpPr>
                  <p:grpSpPr>
                    <a:xfrm>
                      <a:off x="7146000" y="2375640"/>
                      <a:ext cx="1119600" cy="1306080"/>
                      <a:chOff x="7146000" y="2375640"/>
                      <a:chExt cx="1119600" cy="1306080"/>
                    </a:xfrm>
                  </p:grpSpPr>
                  <p:sp>
                    <p:nvSpPr>
                      <p:cNvPr id="612" name=""/>
                      <p:cNvSpPr/>
                      <p:nvPr/>
                    </p:nvSpPr>
                    <p:spPr>
                      <a:xfrm flipV="1" rot="21039000">
                        <a:off x="7234560" y="2444040"/>
                        <a:ext cx="941400" cy="1168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9" h="1417">
                            <a:moveTo>
                              <a:pt x="603" y="1417"/>
                            </a:moveTo>
                            <a:lnTo>
                              <a:pt x="0" y="96"/>
                            </a:lnTo>
                            <a:lnTo>
                              <a:pt x="809" y="0"/>
                            </a:lnTo>
                            <a:lnTo>
                              <a:pt x="603" y="1417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66">
                              <a:alpha val="16078"/>
                            </a:srgbClr>
                          </a:gs>
                          <a:gs pos="50000">
                            <a:srgbClr val="eaeaea">
                              <a:alpha val="14117"/>
                            </a:srgbClr>
                          </a:gs>
                          <a:gs pos="100000">
                            <a:srgbClr val="000066">
                              <a:alpha val="16078"/>
                            </a:srgbClr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prstDash val="sysDot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3" name=""/>
                      <p:cNvSpPr/>
                      <p:nvPr/>
                    </p:nvSpPr>
                    <p:spPr>
                      <a:xfrm flipV="1" rot="21445200">
                        <a:off x="7328880" y="3470040"/>
                        <a:ext cx="933120" cy="181440"/>
                      </a:xfrm>
                      <a:prstGeom prst="ellipse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14" name=""/>
                    <p:cNvSpPr/>
                    <p:nvPr/>
                  </p:nvSpPr>
                  <p:spPr>
                    <a:xfrm flipH="1">
                      <a:off x="7806600" y="2407320"/>
                      <a:ext cx="33120" cy="10897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prstDash val="sysDot"/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7846920" y="2544480"/>
                      <a:ext cx="130320" cy="536400"/>
                    </a:xfrm>
                    <a:prstGeom prst="line">
                      <a:avLst/>
                    </a:prstGeom>
                    <a:ln cap="rnd" w="28440">
                      <a:solidFill>
                        <a:srgbClr val="ff0000"/>
                      </a:solidFill>
                      <a:custDash>
                        <a:ds d="100000" sp="1000"/>
                      </a:custDash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7826400" y="2937600"/>
                      <a:ext cx="56880" cy="500040"/>
                    </a:xfrm>
                    <a:prstGeom prst="line">
                      <a:avLst/>
                    </a:prstGeom>
                    <a:ln cap="rnd" w="28440">
                      <a:solidFill>
                        <a:srgbClr val="ff0000"/>
                      </a:solidFill>
                      <a:custDash>
                        <a:ds d="100000" sp="1000"/>
                      </a:custDash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 flipH="1">
                      <a:off x="7689240" y="2708280"/>
                      <a:ext cx="142920" cy="734400"/>
                    </a:xfrm>
                    <a:prstGeom prst="line">
                      <a:avLst/>
                    </a:prstGeom>
                    <a:ln cap="rnd" w="28440">
                      <a:solidFill>
                        <a:srgbClr val="ff0000"/>
                      </a:solidFill>
                      <a:custDash>
                        <a:ds d="100000" sp="1000"/>
                      </a:custDash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7745040" y="3119760"/>
                      <a:ext cx="10080" cy="475200"/>
                    </a:xfrm>
                    <a:prstGeom prst="line">
                      <a:avLst/>
                    </a:prstGeom>
                    <a:ln cap="rnd" w="28440">
                      <a:solidFill>
                        <a:srgbClr val="ff0000"/>
                      </a:solidFill>
                      <a:custDash>
                        <a:ds d="100000" sp="1000"/>
                      </a:custDash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9" name=""/>
                  <p:cNvSpPr/>
                  <p:nvPr/>
                </p:nvSpPr>
                <p:spPr>
                  <a:xfrm>
                    <a:off x="5946120" y="1447200"/>
                    <a:ext cx="1296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Same Sid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5946120" y="3047400"/>
                    <a:ext cx="1258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way Sid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V="1">
                    <a:off x="7848360" y="1091520"/>
                    <a:ext cx="457200" cy="1218600"/>
                  </a:xfrm>
                  <a:prstGeom prst="line">
                    <a:avLst/>
                  </a:prstGeom>
                  <a:ln cap="rnd" w="28440">
                    <a:solidFill>
                      <a:srgbClr val="ff0000"/>
                    </a:solidFill>
                    <a:custDash>
                      <a:ds d="100000" sp="1000"/>
                    </a:custDash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V="1">
                    <a:off x="7848360" y="1066680"/>
                    <a:ext cx="228600" cy="12189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prstDash val="sysDot"/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6781680" y="2285640"/>
                    <a:ext cx="2133720" cy="304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624" name=""/>
                  <p:cNvGraphicFramePr/>
                  <p:nvPr/>
                </p:nvGraphicFramePr>
                <p:xfrm>
                  <a:off x="6489720" y="2133000"/>
                  <a:ext cx="444240" cy="363240"/>
                </p:xfrm>
                <a:graphic>
                  <a:graphicData uri="http://schemas.openxmlformats.org/presentationml/2006/ole">
                    <p:oleObj r:id="rId2" spid="">
                      <p:embed/>
                      <p:pic>
                        <p:nvPicPr>
                          <p:cNvPr id="625" name="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6489720" y="2133000"/>
                            <a:ext cx="444240" cy="3632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626" name=""/>
                  <p:cNvSpPr/>
                  <p:nvPr/>
                </p:nvSpPr>
                <p:spPr>
                  <a:xfrm>
                    <a:off x="7848360" y="1904400"/>
                    <a:ext cx="648000" cy="10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672">
                        <a:moveTo>
                          <a:pt x="0" y="0"/>
                        </a:moveTo>
                        <a:cubicBezTo>
                          <a:pt x="112" y="0"/>
                          <a:pt x="224" y="0"/>
                          <a:pt x="288" y="48"/>
                        </a:cubicBezTo>
                        <a:cubicBezTo>
                          <a:pt x="352" y="96"/>
                          <a:pt x="408" y="184"/>
                          <a:pt x="384" y="288"/>
                        </a:cubicBezTo>
                        <a:cubicBezTo>
                          <a:pt x="360" y="392"/>
                          <a:pt x="252" y="532"/>
                          <a:pt x="144" y="6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lgDashDot"/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627" name=""/>
                  <p:cNvGraphicFramePr/>
                  <p:nvPr/>
                </p:nvGraphicFramePr>
                <p:xfrm>
                  <a:off x="8381880" y="1675800"/>
                  <a:ext cx="334800" cy="382320"/>
                </p:xfrm>
                <a:graphic>
                  <a:graphicData uri="http://schemas.openxmlformats.org/presentationml/2006/ole">
                    <p:oleObj r:id="rId4" spid="">
                      <p:embed/>
                      <p:pic>
                        <p:nvPicPr>
                          <p:cNvPr id="628" name="" descr=""/>
                          <p:cNvPicPr/>
                          <p:nvPr/>
                        </p:nvPicPr>
                        <p:blipFill>
                          <a:blip r:embed="rId5"/>
                          <a:stretch/>
                        </p:blipFill>
                        <p:spPr>
                          <a:xfrm>
                            <a:off x="8381880" y="1675800"/>
                            <a:ext cx="334800" cy="382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629" name=""/>
                <p:cNvSpPr/>
                <p:nvPr/>
              </p:nvSpPr>
              <p:spPr>
                <a:xfrm flipV="1">
                  <a:off x="4114800" y="1447200"/>
                  <a:ext cx="3352680" cy="29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V="1">
                  <a:off x="5486400" y="3275640"/>
                  <a:ext cx="190476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 flipH="1" flipV="1">
                <a:off x="7829280" y="748800"/>
                <a:ext cx="23400" cy="164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7086600" y="48006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Assoc. pTs (2,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62120" y="4648320"/>
            <a:ext cx="1447200" cy="703080"/>
            <a:chOff x="762120" y="4648320"/>
            <a:chExt cx="1447200" cy="703080"/>
          </a:xfrm>
        </p:grpSpPr>
        <p:grpSp>
          <p:nvGrpSpPr>
            <p:cNvPr id="634" name=""/>
            <p:cNvGrpSpPr/>
            <p:nvPr/>
          </p:nvGrpSpPr>
          <p:grpSpPr>
            <a:xfrm>
              <a:off x="1218960" y="4648320"/>
              <a:ext cx="989640" cy="635400"/>
              <a:chOff x="1218960" y="4648320"/>
              <a:chExt cx="989640" cy="6354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1218960" y="4648320"/>
                <a:ext cx="837360" cy="487080"/>
                <a:chOff x="1218960" y="4648320"/>
                <a:chExt cx="837360" cy="4870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1689840" y="4649760"/>
                  <a:ext cx="3664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218960" y="4648320"/>
                  <a:ext cx="180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1447200" y="4800600"/>
                <a:ext cx="761400" cy="483120"/>
                <a:chOff x="1447200" y="4800600"/>
                <a:chExt cx="761400" cy="48312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1447200" y="4800600"/>
                  <a:ext cx="3736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555560" y="5007240"/>
                  <a:ext cx="653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1" name=""/>
            <p:cNvSpPr/>
            <p:nvPr/>
          </p:nvSpPr>
          <p:spPr>
            <a:xfrm>
              <a:off x="1257120" y="5076720"/>
              <a:ext cx="95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762120" y="4648320"/>
              <a:ext cx="609120" cy="520560"/>
              <a:chOff x="762120" y="4648320"/>
              <a:chExt cx="609120" cy="520560"/>
            </a:xfrm>
          </p:grpSpPr>
          <p:sp>
            <p:nvSpPr>
              <p:cNvPr id="643" name=""/>
              <p:cNvSpPr/>
              <p:nvPr/>
            </p:nvSpPr>
            <p:spPr>
              <a:xfrm>
                <a:off x="1066680" y="4648320"/>
                <a:ext cx="147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62120" y="4800600"/>
                <a:ext cx="304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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066680" y="480060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6" name=""/>
          <p:cNvSpPr/>
          <p:nvPr/>
        </p:nvSpPr>
        <p:spPr>
          <a:xfrm>
            <a:off x="838080" y="3809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590920" y="2209680"/>
            <a:ext cx="2438280" cy="779760"/>
            <a:chOff x="2590920" y="2209680"/>
            <a:chExt cx="2438280" cy="779760"/>
          </a:xfrm>
        </p:grpSpPr>
        <p:grpSp>
          <p:nvGrpSpPr>
            <p:cNvPr id="648" name=""/>
            <p:cNvGrpSpPr/>
            <p:nvPr/>
          </p:nvGrpSpPr>
          <p:grpSpPr>
            <a:xfrm>
              <a:off x="3429000" y="2209680"/>
              <a:ext cx="914400" cy="733680"/>
              <a:chOff x="3429000" y="2209680"/>
              <a:chExt cx="914400" cy="73368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3429000" y="2209680"/>
                <a:ext cx="914040" cy="489240"/>
                <a:chOff x="3429000" y="2209680"/>
                <a:chExt cx="914040" cy="48924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3943080" y="2211120"/>
                  <a:ext cx="39996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429000" y="2209680"/>
                  <a:ext cx="216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3810240" y="2438280"/>
                <a:ext cx="533160" cy="505080"/>
                <a:chOff x="3810240" y="2438280"/>
                <a:chExt cx="533160" cy="50508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3810240" y="2438280"/>
                  <a:ext cx="2617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886200" y="2666880"/>
                  <a:ext cx="457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5" name=""/>
            <p:cNvGrpSpPr/>
            <p:nvPr/>
          </p:nvGrpSpPr>
          <p:grpSpPr>
            <a:xfrm>
              <a:off x="4114800" y="2209680"/>
              <a:ext cx="914400" cy="733680"/>
              <a:chOff x="4114800" y="2209680"/>
              <a:chExt cx="914400" cy="733680"/>
            </a:xfrm>
          </p:grpSpPr>
          <p:grpSp>
            <p:nvGrpSpPr>
              <p:cNvPr id="656" name=""/>
              <p:cNvGrpSpPr/>
              <p:nvPr/>
            </p:nvGrpSpPr>
            <p:grpSpPr>
              <a:xfrm>
                <a:off x="4114800" y="2209680"/>
                <a:ext cx="914040" cy="489240"/>
                <a:chOff x="4114800" y="2209680"/>
                <a:chExt cx="914040" cy="48924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4628880" y="2211120"/>
                  <a:ext cx="39996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114800" y="2209680"/>
                  <a:ext cx="216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4496040" y="2438280"/>
                <a:ext cx="533160" cy="505080"/>
                <a:chOff x="4496040" y="2438280"/>
                <a:chExt cx="533160" cy="5050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4496040" y="2438280"/>
                  <a:ext cx="2617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572000" y="2666880"/>
                  <a:ext cx="457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2" name=""/>
            <p:cNvGrpSpPr/>
            <p:nvPr/>
          </p:nvGrpSpPr>
          <p:grpSpPr>
            <a:xfrm>
              <a:off x="2590920" y="2209680"/>
              <a:ext cx="1143000" cy="779760"/>
              <a:chOff x="2590920" y="2209680"/>
              <a:chExt cx="1143000" cy="779760"/>
            </a:xfrm>
          </p:grpSpPr>
          <p:grpSp>
            <p:nvGrpSpPr>
              <p:cNvPr id="663" name=""/>
              <p:cNvGrpSpPr/>
              <p:nvPr/>
            </p:nvGrpSpPr>
            <p:grpSpPr>
              <a:xfrm>
                <a:off x="2590920" y="2209680"/>
                <a:ext cx="1142280" cy="488880"/>
                <a:chOff x="2590920" y="2209680"/>
                <a:chExt cx="1142280" cy="48888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3233160" y="2210760"/>
                  <a:ext cx="50004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2590920" y="2209680"/>
                  <a:ext cx="36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6" name=""/>
              <p:cNvSpPr/>
              <p:nvPr/>
            </p:nvSpPr>
            <p:spPr>
              <a:xfrm>
                <a:off x="3067200" y="2462040"/>
                <a:ext cx="326880" cy="305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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162240" y="2714760"/>
                <a:ext cx="571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411480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05320" y="2514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7162920" y="441972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848720" y="609480"/>
            <a:ext cx="91440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i pT(1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162920" y="457200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87E-2491-4160-BAD5-1743FD7D55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rcRect l="7263" t="61702" r="14246" b="2565"/>
          <a:stretch/>
        </p:blipFill>
        <p:spPr>
          <a:xfrm>
            <a:off x="76320" y="4114800"/>
            <a:ext cx="2590560" cy="16686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758520" y="350532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Deflected jet s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2"/>
          <a:srcRect l="7263" t="61787" r="14938" b="2565"/>
          <a:stretch/>
        </p:blipFill>
        <p:spPr>
          <a:xfrm>
            <a:off x="6324480" y="4114800"/>
            <a:ext cx="2590920" cy="167940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1447920" y="6019920"/>
            <a:ext cx="632448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ta shows strong away side 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009200" y="3429000"/>
            <a:ext cx="14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Mach Cone s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08120" y="903240"/>
            <a:ext cx="1879560" cy="2280600"/>
            <a:chOff x="708120" y="903240"/>
            <a:chExt cx="1879560" cy="2280600"/>
          </a:xfrm>
        </p:grpSpPr>
        <p:sp>
          <p:nvSpPr>
            <p:cNvPr id="679" name=""/>
            <p:cNvSpPr/>
            <p:nvPr/>
          </p:nvSpPr>
          <p:spPr>
            <a:xfrm rot="21450000">
              <a:off x="1218960" y="990720"/>
              <a:ext cx="780840" cy="144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708120" y="903240"/>
              <a:ext cx="1879560" cy="2280600"/>
              <a:chOff x="708120" y="903240"/>
              <a:chExt cx="1879560" cy="228060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1494720" y="903240"/>
                <a:ext cx="534240" cy="1309680"/>
                <a:chOff x="1494720" y="903240"/>
                <a:chExt cx="534240" cy="1309680"/>
              </a:xfrm>
            </p:grpSpPr>
            <p:sp>
              <p:nvSpPr>
                <p:cNvPr id="682" name=""/>
                <p:cNvSpPr/>
                <p:nvPr/>
              </p:nvSpPr>
              <p:spPr>
                <a:xfrm flipH="1" flipV="1">
                  <a:off x="1598760" y="903240"/>
                  <a:ext cx="30240" cy="1309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V="1">
                  <a:off x="1646640" y="1179360"/>
                  <a:ext cx="382320" cy="9698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V="1">
                  <a:off x="1630080" y="1676880"/>
                  <a:ext cx="105480" cy="426600"/>
                </a:xfrm>
                <a:prstGeom prst="line">
                  <a:avLst/>
                </a:prstGeom>
                <a:ln cap="rnd" w="28440">
                  <a:solidFill>
                    <a:srgbClr val="ff0000"/>
                  </a:solidFill>
                  <a:custDash>
                    <a:ds d="100000" sp="1000"/>
                  </a:custDash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>
                  <a:off x="1646640" y="1158840"/>
                  <a:ext cx="191880" cy="9698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V="1">
                  <a:off x="1613880" y="1392480"/>
                  <a:ext cx="43200" cy="398520"/>
                </a:xfrm>
                <a:prstGeom prst="line">
                  <a:avLst/>
                </a:prstGeom>
                <a:ln cap="rnd" w="28440">
                  <a:solidFill>
                    <a:srgbClr val="ff0000"/>
                  </a:solidFill>
                  <a:custDash>
                    <a:ds d="100000" sp="1000"/>
                  </a:custDash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H="1" flipV="1">
                  <a:off x="1494720" y="1387080"/>
                  <a:ext cx="123840" cy="587160"/>
                </a:xfrm>
                <a:prstGeom prst="line">
                  <a:avLst/>
                </a:prstGeom>
                <a:ln cap="rnd" w="28440">
                  <a:solidFill>
                    <a:srgbClr val="ff0000"/>
                  </a:solidFill>
                  <a:custDash>
                    <a:ds d="100000" sp="1000"/>
                  </a:custDash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V="1">
                  <a:off x="1544040" y="1267200"/>
                  <a:ext cx="6480" cy="379080"/>
                </a:xfrm>
                <a:prstGeom prst="line">
                  <a:avLst/>
                </a:prstGeom>
                <a:ln cap="rnd" w="28440">
                  <a:solidFill>
                    <a:srgbClr val="ff0000"/>
                  </a:solidFill>
                  <a:custDash>
                    <a:ds d="100000" sp="1000"/>
                  </a:custDash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708120" y="1927440"/>
                <a:ext cx="1879560" cy="1256400"/>
                <a:chOff x="708120" y="1927440"/>
                <a:chExt cx="1879560" cy="125640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798840" y="2104920"/>
                  <a:ext cx="1788840" cy="243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flipV="1" rot="1647000">
                  <a:off x="877680" y="2056680"/>
                  <a:ext cx="790560" cy="930240"/>
                </a:xfrm>
                <a:custGeom>
                  <a:avLst/>
                  <a:gdLst/>
                  <a:ahLst/>
                  <a:rect l="l" t="t" r="r" b="b"/>
                  <a:pathLst>
                    <a:path w="809" h="1417">
                      <a:moveTo>
                        <a:pt x="603" y="1417"/>
                      </a:moveTo>
                      <a:lnTo>
                        <a:pt x="0" y="96"/>
                      </a:lnTo>
                      <a:lnTo>
                        <a:pt x="809" y="0"/>
                      </a:lnTo>
                      <a:lnTo>
                        <a:pt x="603" y="141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>
                        <a:alpha val="16078"/>
                      </a:srgbClr>
                    </a:gs>
                    <a:gs pos="50000">
                      <a:srgbClr val="eaeaea">
                        <a:alpha val="14117"/>
                      </a:srgbClr>
                    </a:gs>
                    <a:gs pos="100000">
                      <a:srgbClr val="000066">
                        <a:alpha val="16078"/>
                      </a:srgbClr>
                    </a:gs>
                  </a:gsLst>
                  <a:lin ang="12450000"/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H="1">
                  <a:off x="1117440" y="2194920"/>
                  <a:ext cx="547200" cy="6742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sysDot"/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H="1">
                  <a:off x="1430640" y="2286720"/>
                  <a:ext cx="171000" cy="405000"/>
                </a:xfrm>
                <a:prstGeom prst="line">
                  <a:avLst/>
                </a:prstGeom>
                <a:ln cap="rnd" w="28440">
                  <a:solidFill>
                    <a:srgbClr val="ff0000"/>
                  </a:solidFill>
                  <a:custDash>
                    <a:ds d="100000" sp="1000"/>
                  </a:custDash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H="1">
                  <a:off x="1198080" y="2526480"/>
                  <a:ext cx="204120" cy="344520"/>
                </a:xfrm>
                <a:prstGeom prst="line">
                  <a:avLst/>
                </a:prstGeom>
                <a:ln cap="rnd" w="28440">
                  <a:solidFill>
                    <a:srgbClr val="ff0000"/>
                  </a:solidFill>
                  <a:custDash>
                    <a:ds d="100000" sp="1000"/>
                  </a:custDash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flipH="1">
                  <a:off x="1064520" y="2383560"/>
                  <a:ext cx="450720" cy="395280"/>
                </a:xfrm>
                <a:prstGeom prst="line">
                  <a:avLst/>
                </a:prstGeom>
                <a:ln cap="rnd" w="28440">
                  <a:solidFill>
                    <a:srgbClr val="ff0000"/>
                  </a:solidFill>
                  <a:custDash>
                    <a:ds d="100000" sp="1000"/>
                  </a:custDash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V="1" rot="2053200">
                  <a:off x="685800" y="2831040"/>
                  <a:ext cx="783000" cy="1443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H="1">
                  <a:off x="1035360" y="2601000"/>
                  <a:ext cx="222840" cy="308160"/>
                </a:xfrm>
                <a:prstGeom prst="line">
                  <a:avLst/>
                </a:prstGeom>
                <a:ln cap="rnd" w="28440">
                  <a:solidFill>
                    <a:srgbClr val="ff0000"/>
                  </a:solidFill>
                  <a:custDash>
                    <a:ds d="100000" sp="1000"/>
                  </a:custDash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8" name=""/>
              <p:cNvSpPr/>
              <p:nvPr/>
            </p:nvSpPr>
            <p:spPr>
              <a:xfrm rot="336000">
                <a:off x="1143000" y="1066320"/>
                <a:ext cx="773280" cy="1036800"/>
              </a:xfrm>
              <a:custGeom>
                <a:avLst/>
                <a:gdLst/>
                <a:ahLst/>
                <a:rect l="l" t="t" r="r" b="b"/>
                <a:pathLst>
                  <a:path w="809" h="1417">
                    <a:moveTo>
                      <a:pt x="603" y="1417"/>
                    </a:moveTo>
                    <a:lnTo>
                      <a:pt x="0" y="96"/>
                    </a:lnTo>
                    <a:lnTo>
                      <a:pt x="809" y="0"/>
                    </a:lnTo>
                    <a:lnTo>
                      <a:pt x="603" y="141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>
                      <a:alpha val="16078"/>
                    </a:srgbClr>
                  </a:gs>
                  <a:gs pos="50000">
                    <a:srgbClr val="eaeaea">
                      <a:alpha val="14117"/>
                    </a:srgbClr>
                  </a:gs>
                  <a:gs pos="100000">
                    <a:srgbClr val="000066">
                      <a:alpha val="16078"/>
                    </a:srgbClr>
                  </a:gs>
                </a:gsLst>
                <a:lin ang="10464000"/>
              </a:gra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9" name=""/>
          <p:cNvSpPr/>
          <p:nvPr/>
        </p:nvSpPr>
        <p:spPr>
          <a:xfrm>
            <a:off x="990720" y="304920"/>
            <a:ext cx="11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igh pT(1)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38880" y="228600"/>
            <a:ext cx="119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igh pT(1)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6790680" y="674640"/>
            <a:ext cx="2054520" cy="2672280"/>
            <a:chOff x="6790680" y="674640"/>
            <a:chExt cx="2054520" cy="2672280"/>
          </a:xfrm>
        </p:grpSpPr>
        <p:grpSp>
          <p:nvGrpSpPr>
            <p:cNvPr id="702" name=""/>
            <p:cNvGrpSpPr/>
            <p:nvPr/>
          </p:nvGrpSpPr>
          <p:grpSpPr>
            <a:xfrm>
              <a:off x="6790680" y="3048480"/>
              <a:ext cx="2054520" cy="298440"/>
              <a:chOff x="6790680" y="3048480"/>
              <a:chExt cx="2054520" cy="298440"/>
            </a:xfrm>
          </p:grpSpPr>
          <p:sp>
            <p:nvSpPr>
              <p:cNvPr id="703" name=""/>
              <p:cNvSpPr/>
              <p:nvPr/>
            </p:nvSpPr>
            <p:spPr>
              <a:xfrm flipV="1" rot="7800">
                <a:off x="6790680" y="3050640"/>
                <a:ext cx="2053800" cy="2934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 rot="7800">
                <a:off x="7033680" y="3096720"/>
                <a:ext cx="1576440" cy="184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7154280" y="966240"/>
              <a:ext cx="930600" cy="1046880"/>
              <a:chOff x="7154280" y="966240"/>
              <a:chExt cx="930600" cy="1046880"/>
            </a:xfrm>
          </p:grpSpPr>
          <p:sp>
            <p:nvSpPr>
              <p:cNvPr id="706" name=""/>
              <p:cNvSpPr/>
              <p:nvPr/>
            </p:nvSpPr>
            <p:spPr>
              <a:xfrm rot="561000">
                <a:off x="7224480" y="1023840"/>
                <a:ext cx="789120" cy="930960"/>
              </a:xfrm>
              <a:custGeom>
                <a:avLst/>
                <a:gdLst/>
                <a:ahLst/>
                <a:rect l="l" t="t" r="r" b="b"/>
                <a:pathLst>
                  <a:path w="809" h="1417">
                    <a:moveTo>
                      <a:pt x="603" y="1417"/>
                    </a:moveTo>
                    <a:lnTo>
                      <a:pt x="0" y="96"/>
                    </a:lnTo>
                    <a:lnTo>
                      <a:pt x="809" y="0"/>
                    </a:lnTo>
                    <a:lnTo>
                      <a:pt x="603" y="141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>
                      <a:alpha val="16078"/>
                    </a:srgbClr>
                  </a:gs>
                  <a:gs pos="50000">
                    <a:srgbClr val="eaeaea">
                      <a:alpha val="14117"/>
                    </a:srgbClr>
                  </a:gs>
                  <a:gs pos="100000">
                    <a:srgbClr val="000066">
                      <a:alpha val="16078"/>
                    </a:srgbClr>
                  </a:gs>
                </a:gsLst>
                <a:lin ang="10800000"/>
              </a:gra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154800">
                <a:off x="7299720" y="993240"/>
                <a:ext cx="781920" cy="144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 flipH="1" flipV="1">
              <a:off x="7706520" y="674640"/>
              <a:ext cx="30600" cy="13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7738560" y="1448280"/>
              <a:ext cx="105480" cy="426600"/>
            </a:xfrm>
            <a:prstGeom prst="line">
              <a:avLst/>
            </a:prstGeom>
            <a:ln cap="rnd" w="28440">
              <a:solidFill>
                <a:srgbClr val="ff0000"/>
              </a:solidFill>
              <a:custDash>
                <a:ds d="100000" sp="1000"/>
              </a:custDash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722000" y="1163880"/>
              <a:ext cx="43200" cy="398520"/>
            </a:xfrm>
            <a:prstGeom prst="line">
              <a:avLst/>
            </a:prstGeom>
            <a:ln cap="rnd" w="28440">
              <a:solidFill>
                <a:srgbClr val="ff0000"/>
              </a:solidFill>
              <a:custDash>
                <a:ds d="100000" sp="1000"/>
              </a:custDash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 flipV="1">
              <a:off x="7603200" y="1159200"/>
              <a:ext cx="123840" cy="586800"/>
            </a:xfrm>
            <a:prstGeom prst="line">
              <a:avLst/>
            </a:prstGeom>
            <a:ln cap="rnd" w="28440">
              <a:solidFill>
                <a:srgbClr val="ff0000"/>
              </a:solidFill>
              <a:custDash>
                <a:ds d="100000" sp="1000"/>
              </a:custDash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7652160" y="1039320"/>
              <a:ext cx="6120" cy="378720"/>
            </a:xfrm>
            <a:prstGeom prst="line">
              <a:avLst/>
            </a:prstGeom>
            <a:ln cap="rnd" w="28440">
              <a:solidFill>
                <a:srgbClr val="ff0000"/>
              </a:solidFill>
              <a:custDash>
                <a:ds d="100000" sp="1000"/>
              </a:custDash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7754760" y="950400"/>
              <a:ext cx="382680" cy="9702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7754760" y="930240"/>
              <a:ext cx="192240" cy="96984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859440" y="1900080"/>
              <a:ext cx="178920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724160" y="1947600"/>
              <a:ext cx="969480" cy="1254600"/>
            </a:xfrm>
            <a:prstGeom prst="line">
              <a:avLst/>
            </a:prstGeom>
            <a:ln cap="rnd" w="2844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6914160" y="2058840"/>
              <a:ext cx="816840" cy="1128960"/>
            </a:xfrm>
            <a:prstGeom prst="line">
              <a:avLst/>
            </a:prstGeom>
            <a:ln cap="rnd" w="2844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6790680" y="1984320"/>
              <a:ext cx="9493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740360" y="1984320"/>
              <a:ext cx="10288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740360" y="1984320"/>
              <a:ext cx="8715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7029000" y="1984320"/>
              <a:ext cx="7110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2" name="" descr=""/>
          <p:cNvPicPr/>
          <p:nvPr/>
        </p:nvPicPr>
        <p:blipFill>
          <a:blip r:embed="rId3"/>
          <a:srcRect l="0" t="52006" r="14930" b="0"/>
          <a:stretch/>
        </p:blipFill>
        <p:spPr>
          <a:xfrm>
            <a:off x="3124080" y="3657600"/>
            <a:ext cx="2743200" cy="2192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23" name=""/>
          <p:cNvSpPr/>
          <p:nvPr/>
        </p:nvSpPr>
        <p:spPr>
          <a:xfrm>
            <a:off x="3808080" y="3505320"/>
            <a:ext cx="141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Normal jet s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3051000" y="1066320"/>
            <a:ext cx="2431800" cy="1924200"/>
            <a:chOff x="3051000" y="1066320"/>
            <a:chExt cx="2431800" cy="1924200"/>
          </a:xfrm>
        </p:grpSpPr>
        <p:grpSp>
          <p:nvGrpSpPr>
            <p:cNvPr id="725" name=""/>
            <p:cNvGrpSpPr/>
            <p:nvPr/>
          </p:nvGrpSpPr>
          <p:grpSpPr>
            <a:xfrm>
              <a:off x="4126320" y="1103400"/>
              <a:ext cx="853920" cy="964800"/>
              <a:chOff x="4126320" y="1103400"/>
              <a:chExt cx="853920" cy="96480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4126320" y="1103400"/>
                <a:ext cx="853920" cy="964800"/>
                <a:chOff x="4126320" y="1103400"/>
                <a:chExt cx="853920" cy="964800"/>
              </a:xfrm>
            </p:grpSpPr>
            <p:sp>
              <p:nvSpPr>
                <p:cNvPr id="727" name=""/>
                <p:cNvSpPr/>
                <p:nvPr/>
              </p:nvSpPr>
              <p:spPr>
                <a:xfrm rot="561000">
                  <a:off x="4190760" y="1156320"/>
                  <a:ext cx="723600" cy="858600"/>
                </a:xfrm>
                <a:custGeom>
                  <a:avLst/>
                  <a:gdLst/>
                  <a:ahLst/>
                  <a:rect l="l" t="t" r="r" b="b"/>
                  <a:pathLst>
                    <a:path w="809" h="1417">
                      <a:moveTo>
                        <a:pt x="603" y="1417"/>
                      </a:moveTo>
                      <a:lnTo>
                        <a:pt x="0" y="96"/>
                      </a:lnTo>
                      <a:lnTo>
                        <a:pt x="809" y="0"/>
                      </a:lnTo>
                      <a:lnTo>
                        <a:pt x="603" y="141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>
                        <a:alpha val="16078"/>
                      </a:srgbClr>
                    </a:gs>
                    <a:gs pos="50000">
                      <a:srgbClr val="eaeaea">
                        <a:alpha val="14117"/>
                      </a:srgbClr>
                    </a:gs>
                    <a:gs pos="100000">
                      <a:srgbClr val="000066">
                        <a:alpha val="16078"/>
                      </a:srgbClr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rot="154800">
                  <a:off x="4260240" y="1127520"/>
                  <a:ext cx="717120" cy="1332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" name=""/>
              <p:cNvSpPr/>
              <p:nvPr/>
            </p:nvSpPr>
            <p:spPr>
              <a:xfrm flipV="1">
                <a:off x="4647960" y="1543680"/>
                <a:ext cx="97200" cy="3934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631760" y="1281600"/>
                <a:ext cx="41040" cy="36792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flipV="1">
                <a:off x="4523400" y="1276920"/>
                <a:ext cx="113400" cy="5410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569120" y="1166040"/>
                <a:ext cx="5760" cy="34992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4125960" y="2026080"/>
              <a:ext cx="854280" cy="964440"/>
              <a:chOff x="4125960" y="2026080"/>
              <a:chExt cx="854280" cy="964440"/>
            </a:xfrm>
          </p:grpSpPr>
          <p:grpSp>
            <p:nvGrpSpPr>
              <p:cNvPr id="734" name=""/>
              <p:cNvGrpSpPr/>
              <p:nvPr/>
            </p:nvGrpSpPr>
            <p:grpSpPr>
              <a:xfrm>
                <a:off x="4125960" y="2026080"/>
                <a:ext cx="854280" cy="964440"/>
                <a:chOff x="4125960" y="2026080"/>
                <a:chExt cx="854280" cy="964440"/>
              </a:xfrm>
            </p:grpSpPr>
            <p:sp>
              <p:nvSpPr>
                <p:cNvPr id="735" name=""/>
                <p:cNvSpPr/>
                <p:nvPr/>
              </p:nvSpPr>
              <p:spPr>
                <a:xfrm flipV="1" rot="21039000">
                  <a:off x="4190760" y="2078640"/>
                  <a:ext cx="723600" cy="858240"/>
                </a:xfrm>
                <a:custGeom>
                  <a:avLst/>
                  <a:gdLst/>
                  <a:ahLst/>
                  <a:rect l="l" t="t" r="r" b="b"/>
                  <a:pathLst>
                    <a:path w="809" h="1417">
                      <a:moveTo>
                        <a:pt x="603" y="1417"/>
                      </a:moveTo>
                      <a:lnTo>
                        <a:pt x="0" y="96"/>
                      </a:lnTo>
                      <a:lnTo>
                        <a:pt x="809" y="0"/>
                      </a:lnTo>
                      <a:lnTo>
                        <a:pt x="603" y="141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>
                        <a:alpha val="16078"/>
                      </a:srgbClr>
                    </a:gs>
                    <a:gs pos="50000">
                      <a:srgbClr val="eaeaea">
                        <a:alpha val="14117"/>
                      </a:srgbClr>
                    </a:gs>
                    <a:gs pos="100000">
                      <a:srgbClr val="000066">
                        <a:alpha val="16078"/>
                      </a:srgbClr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V="1" rot="21445200">
                  <a:off x="4260240" y="2832480"/>
                  <a:ext cx="717120" cy="1332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7" name=""/>
              <p:cNvSpPr/>
              <p:nvPr/>
            </p:nvSpPr>
            <p:spPr>
              <a:xfrm flipH="1">
                <a:off x="4626720" y="2050920"/>
                <a:ext cx="31320" cy="801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662360" y="2152800"/>
                <a:ext cx="97200" cy="3934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646160" y="2441160"/>
                <a:ext cx="41400" cy="3675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4538160" y="2271600"/>
                <a:ext cx="113400" cy="5410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583880" y="2574720"/>
                <a:ext cx="5760" cy="3495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3051000" y="134640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ame S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053880" y="252288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way S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662720" y="1085040"/>
              <a:ext cx="351360" cy="895320"/>
            </a:xfrm>
            <a:prstGeom prst="line">
              <a:avLst/>
            </a:prstGeom>
            <a:ln cap="rnd" w="2844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4662720" y="1066320"/>
              <a:ext cx="175680" cy="8953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42640" y="1962000"/>
              <a:ext cx="1640160" cy="223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47" name=""/>
            <p:cNvGraphicFramePr/>
            <p:nvPr/>
          </p:nvGraphicFramePr>
          <p:xfrm>
            <a:off x="3618000" y="1850040"/>
            <a:ext cx="341280" cy="266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4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618000" y="1850040"/>
                      <a:ext cx="341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9" name=""/>
            <p:cNvSpPr/>
            <p:nvPr/>
          </p:nvSpPr>
          <p:spPr>
            <a:xfrm>
              <a:off x="4662720" y="1681920"/>
              <a:ext cx="497880" cy="783720"/>
            </a:xfrm>
            <a:custGeom>
              <a:avLst/>
              <a:gdLst/>
              <a:ahLst/>
              <a:rect l="l" t="t" r="r" b="b"/>
              <a:pathLst>
                <a:path w="408" h="672">
                  <a:moveTo>
                    <a:pt x="0" y="0"/>
                  </a:moveTo>
                  <a:cubicBezTo>
                    <a:pt x="112" y="0"/>
                    <a:pt x="224" y="0"/>
                    <a:pt x="288" y="48"/>
                  </a:cubicBezTo>
                  <a:cubicBezTo>
                    <a:pt x="352" y="96"/>
                    <a:pt x="408" y="184"/>
                    <a:pt x="384" y="288"/>
                  </a:cubicBezTo>
                  <a:cubicBezTo>
                    <a:pt x="360" y="392"/>
                    <a:pt x="252" y="532"/>
                    <a:pt x="144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50" name=""/>
            <p:cNvGraphicFramePr/>
            <p:nvPr/>
          </p:nvGraphicFramePr>
          <p:xfrm>
            <a:off x="5072760" y="1514160"/>
            <a:ext cx="257400" cy="280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5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72760" y="1514160"/>
                      <a:ext cx="25740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52" name=""/>
          <p:cNvSpPr/>
          <p:nvPr/>
        </p:nvSpPr>
        <p:spPr>
          <a:xfrm flipV="1">
            <a:off x="4635360" y="915840"/>
            <a:ext cx="35280" cy="11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114800" y="609480"/>
            <a:ext cx="11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igh pT(1)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590920" y="152280"/>
            <a:ext cx="373356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article Correlations in High pT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8"/>
          <a:srcRect l="0" t="52995" r="14063" b="0"/>
          <a:stretch/>
        </p:blipFill>
        <p:spPr>
          <a:xfrm>
            <a:off x="2819520" y="609480"/>
            <a:ext cx="3352680" cy="276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30D-2D79-4BA3-9CD1-08B85A29A6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" descr=""/>
          <p:cNvPicPr/>
          <p:nvPr/>
        </p:nvPicPr>
        <p:blipFill>
          <a:blip r:embed="rId1"/>
          <a:srcRect l="6469" t="34194" r="6178" b="2406"/>
          <a:stretch/>
        </p:blipFill>
        <p:spPr>
          <a:xfrm>
            <a:off x="3124080" y="2819520"/>
            <a:ext cx="3114720" cy="320040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2"/>
          <a:srcRect l="7263" t="61702" r="14246" b="2565"/>
          <a:stretch/>
        </p:blipFill>
        <p:spPr>
          <a:xfrm>
            <a:off x="304920" y="2133720"/>
            <a:ext cx="2590560" cy="16682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064520" y="1600200"/>
            <a:ext cx="1174320" cy="52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lected 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2120" y="2286000"/>
            <a:ext cx="1676160" cy="99072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38280" y="2971800"/>
            <a:ext cx="21337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6248520" y="1600200"/>
            <a:ext cx="2590560" cy="2133720"/>
            <a:chOff x="6248520" y="1600200"/>
            <a:chExt cx="2590560" cy="2133720"/>
          </a:xfrm>
        </p:grpSpPr>
        <p:pic>
          <p:nvPicPr>
            <p:cNvPr id="762" name="" descr=""/>
            <p:cNvPicPr/>
            <p:nvPr/>
          </p:nvPicPr>
          <p:blipFill>
            <a:blip r:embed="rId3"/>
            <a:srcRect l="7263" t="61787" r="14938" b="2565"/>
            <a:stretch/>
          </p:blipFill>
          <p:spPr>
            <a:xfrm>
              <a:off x="6248520" y="2054160"/>
              <a:ext cx="2590560" cy="16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7009560" y="1600200"/>
              <a:ext cx="1092240" cy="520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ulate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ch C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 flipH="1">
            <a:off x="6781680" y="2286000"/>
            <a:ext cx="1648080" cy="87624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4648320" y="3200400"/>
            <a:ext cx="26668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4800240" y="5029200"/>
            <a:ext cx="1676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80880" y="5943600"/>
            <a:ext cx="85042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validates the presence of a  Mach Cone but does not rule out contributions from other topolog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200400" y="685800"/>
            <a:ext cx="274320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imuthal variation along ri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248520" y="5257800"/>
            <a:ext cx="6667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0FC-4AC3-421E-9EA2-88B7424CA1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791320" y="3352680"/>
            <a:ext cx="320040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pg073-fig3" descr=""/>
          <p:cNvPicPr/>
          <p:nvPr/>
        </p:nvPicPr>
        <p:blipFill>
          <a:blip r:embed="rId1"/>
          <a:stretch/>
        </p:blipFill>
        <p:spPr>
          <a:xfrm>
            <a:off x="152280" y="3352680"/>
            <a:ext cx="5562720" cy="2968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rcRect l="12203" t="8041" r="8597" b="5513"/>
          <a:stretch/>
        </p:blipFill>
        <p:spPr>
          <a:xfrm>
            <a:off x="228600" y="152280"/>
            <a:ext cx="4572000" cy="3078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rcRect l="0" t="0" r="4600" b="0"/>
          <a:stretch/>
        </p:blipFill>
        <p:spPr>
          <a:xfrm>
            <a:off x="4952880" y="152280"/>
            <a:ext cx="3810240" cy="3043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rot="5400000">
            <a:off x="7419240" y="1413360"/>
            <a:ext cx="25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0b0b"/>
                </a:solidFill>
                <a:latin typeface="Times New Roman"/>
              </a:rPr>
              <a:t>STAR : PRL </a:t>
            </a:r>
            <a:r>
              <a:rPr b="0" lang="en-US" sz="1400" spc="-1" strike="noStrike">
                <a:solidFill>
                  <a:srgbClr val="4d0b0b"/>
                </a:solidFill>
                <a:latin typeface="Times New Roman"/>
              </a:rPr>
              <a:t>97, 152301 (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791320" y="3505320"/>
          <a:ext cx="709560" cy="22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1320" y="3505320"/>
                    <a:ext cx="7095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6461280" y="3505320"/>
          <a:ext cx="2454120" cy="281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61280" y="3505320"/>
                    <a:ext cx="245412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7001640" y="544212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STAR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95800" y="3581280"/>
            <a:ext cx="20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phenix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nucl-ex/07030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16560" y="379440"/>
            <a:ext cx="524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583400" y="3597120"/>
          <a:ext cx="609840" cy="46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83400" y="3597120"/>
                    <a:ext cx="6098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7DA-2511-4B26-A57E-C8F1B5537C4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47760" y="0"/>
            <a:ext cx="84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Results: flow contribution and conditional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722160" y="1143000"/>
            <a:ext cx="8421840" cy="483228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 rot="16200000">
            <a:off x="-517680" y="234684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Raw 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rot="16200000">
            <a:off x="-471960" y="43581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00000"/>
                </a:solidFill>
                <a:latin typeface="Times New Roman"/>
              </a:rPr>
              <a:t>Conditional y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759400" y="623880"/>
            <a:ext cx="42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Times New Roman"/>
              </a:rPr>
              <a:t>CERN-SPS, CERES/NA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5562720" y="2742840"/>
            <a:ext cx="380880" cy="228600"/>
          </a:xfrm>
          <a:prstGeom prst="line">
            <a:avLst/>
          </a:prstGeom>
          <a:ln cap="sq" w="1260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114800" y="2941560"/>
            <a:ext cx="1981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0000"/>
                </a:solidFill>
                <a:latin typeface="Times New Roman"/>
              </a:rPr>
              <a:t>flow contrib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0000"/>
                </a:solidFill>
                <a:latin typeface="Times New Roman"/>
              </a:rPr>
              <a:t>(stat. unceratinties in v</a:t>
            </a:r>
            <a:r>
              <a:rPr b="1" lang="de-DE" sz="1200" spc="-1" strike="noStrike" baseline="-25000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de-DE" sz="12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333240" y="5576760"/>
            <a:ext cx="17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ard probes 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52280" y="762120"/>
            <a:ext cx="2295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Trigger     p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:  (</a:t>
            </a:r>
            <a:r>
              <a:rPr b="1" lang="de-DE" sz="1200" spc="-1" strike="noStrike">
                <a:solidFill>
                  <a:srgbClr val="800000"/>
                </a:solidFill>
                <a:latin typeface="Times New Roman"/>
              </a:rPr>
              <a:t>2.5-4.0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) GeV/c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Associate  p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:  (</a:t>
            </a:r>
            <a:r>
              <a:rPr b="1" lang="de-DE" sz="1200" spc="-1" strike="noStrike">
                <a:solidFill>
                  <a:srgbClr val="800000"/>
                </a:solidFill>
                <a:latin typeface="Times New Roman"/>
              </a:rPr>
              <a:t>1.0-2.5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) GeV/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9A77-4220-4047-A14A-451E0E53F88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"/>
          <p:cNvGrpSpPr/>
          <p:nvPr/>
        </p:nvGrpSpPr>
        <p:grpSpPr>
          <a:xfrm>
            <a:off x="2590920" y="2239920"/>
            <a:ext cx="6324480" cy="1798560"/>
            <a:chOff x="2590920" y="2239920"/>
            <a:chExt cx="6324480" cy="1798560"/>
          </a:xfrm>
        </p:grpSpPr>
        <p:pic>
          <p:nvPicPr>
            <p:cNvPr id="780" name="" descr=""/>
            <p:cNvPicPr/>
            <p:nvPr/>
          </p:nvPicPr>
          <p:blipFill>
            <a:blip r:embed="rId1"/>
            <a:srcRect l="0" t="23294" r="0" b="52727"/>
            <a:stretch/>
          </p:blipFill>
          <p:spPr>
            <a:xfrm>
              <a:off x="2590920" y="2239920"/>
              <a:ext cx="6324480" cy="15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" descr=""/>
            <p:cNvPicPr/>
            <p:nvPr/>
          </p:nvPicPr>
          <p:blipFill>
            <a:blip r:embed="rId2"/>
            <a:srcRect l="0" t="94164" r="0" b="0"/>
            <a:stretch/>
          </p:blipFill>
          <p:spPr>
            <a:xfrm>
              <a:off x="2590920" y="3671640"/>
              <a:ext cx="6324480" cy="36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2" name="" descr=""/>
          <p:cNvPicPr/>
          <p:nvPr/>
        </p:nvPicPr>
        <p:blipFill>
          <a:blip r:embed="rId3"/>
          <a:srcRect l="65151" t="48885" r="0" b="0"/>
          <a:stretch/>
        </p:blipFill>
        <p:spPr>
          <a:xfrm>
            <a:off x="5257800" y="4114800"/>
            <a:ext cx="3886200" cy="213372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4"/>
          <a:srcRect l="0" t="48885" r="68338" b="0"/>
          <a:stretch/>
        </p:blipFill>
        <p:spPr>
          <a:xfrm>
            <a:off x="1905120" y="4114800"/>
            <a:ext cx="3504960" cy="213372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4099680" y="45655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0-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954840" y="459756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10-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57200" y="25909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99"/>
                </a:solidFill>
                <a:latin typeface="Arial"/>
                <a:ea typeface="Arial"/>
              </a:rPr>
              <a:t>√</a:t>
            </a:r>
            <a:r>
              <a:rPr b="0" lang="ja-JP" sz="2000" spc="-1" strike="noStrike">
                <a:solidFill>
                  <a:srgbClr val="000099"/>
                </a:solidFill>
                <a:latin typeface="Arial"/>
              </a:rPr>
              <a:t>s=62.4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99"/>
                </a:solidFill>
                <a:latin typeface="Arial"/>
              </a:rPr>
              <a:t>at RH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809880" y="2541600"/>
            <a:ext cx="152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nucl-ex/0611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6760" y="5791320"/>
            <a:ext cx="20962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.5 &lt; p</a:t>
            </a:r>
            <a:r>
              <a:rPr b="0" lang="en-GB" sz="14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T,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ri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&lt; 4.0 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1.0 &lt; p</a:t>
            </a:r>
            <a:r>
              <a:rPr b="0" lang="en-GB" sz="14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T,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ssoc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&lt; 2.5 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32440" y="4724280"/>
            <a:ext cx="1524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99"/>
                </a:solidFill>
                <a:latin typeface="Arial"/>
                <a:ea typeface="Arial"/>
              </a:rPr>
              <a:t>√</a:t>
            </a:r>
            <a:r>
              <a:rPr b="0" lang="ja-JP" sz="2000" spc="-1" strike="noStrike">
                <a:solidFill>
                  <a:srgbClr val="000099"/>
                </a:solidFill>
                <a:latin typeface="Arial"/>
              </a:rPr>
              <a:t>s=19 GeV</a:t>
            </a:r>
            <a:r>
              <a:rPr b="0" lang="ja-JP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99"/>
                </a:solidFill>
                <a:latin typeface="Arial"/>
              </a:rPr>
              <a:t>at S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889280" y="5384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2590920" y="274680"/>
            <a:ext cx="6324120" cy="1885320"/>
            <a:chOff x="2590920" y="274680"/>
            <a:chExt cx="6324120" cy="1885320"/>
          </a:xfrm>
        </p:grpSpPr>
        <p:pic>
          <p:nvPicPr>
            <p:cNvPr id="792" name="" descr=""/>
            <p:cNvPicPr/>
            <p:nvPr/>
          </p:nvPicPr>
          <p:blipFill>
            <a:blip r:embed="rId5"/>
            <a:srcRect l="0" t="0" r="0" b="75791"/>
            <a:stretch/>
          </p:blipFill>
          <p:spPr>
            <a:xfrm>
              <a:off x="2590920" y="274680"/>
              <a:ext cx="6319080" cy="16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6"/>
            <a:srcRect l="465" t="93968" r="0" b="769"/>
            <a:stretch/>
          </p:blipFill>
          <p:spPr>
            <a:xfrm>
              <a:off x="2620440" y="1802160"/>
              <a:ext cx="6294600" cy="3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4" name=""/>
          <p:cNvSpPr/>
          <p:nvPr/>
        </p:nvSpPr>
        <p:spPr>
          <a:xfrm>
            <a:off x="3886200" y="6364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nucl-ex/0611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" y="533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99"/>
                </a:solidFill>
                <a:latin typeface="Arial"/>
                <a:ea typeface="Arial"/>
              </a:rPr>
              <a:t>√</a:t>
            </a:r>
            <a:r>
              <a:rPr b="0" lang="ja-JP" sz="2000" spc="-1" strike="noStrike">
                <a:solidFill>
                  <a:srgbClr val="000099"/>
                </a:solidFill>
                <a:latin typeface="Arial"/>
              </a:rPr>
              <a:t>s=200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99"/>
                </a:solidFill>
                <a:latin typeface="Arial"/>
              </a:rPr>
              <a:t>at RH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F7F-9839-4251-AB4F-6762B5FA639A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895480" cy="221472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2819160" cy="286560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3"/>
          <a:stretch/>
        </p:blipFill>
        <p:spPr>
          <a:xfrm>
            <a:off x="3181320" y="685800"/>
            <a:ext cx="2781360" cy="28828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4"/>
          <a:stretch/>
        </p:blipFill>
        <p:spPr>
          <a:xfrm>
            <a:off x="6027840" y="685800"/>
            <a:ext cx="2887560" cy="288288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1213200" y="5076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article correlations : two particle con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5"/>
          <a:stretch/>
        </p:blipFill>
        <p:spPr>
          <a:xfrm>
            <a:off x="5562720" y="3886200"/>
            <a:ext cx="2743200" cy="216360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3124080" y="3352680"/>
            <a:ext cx="1447920" cy="12193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572000" y="3505320"/>
            <a:ext cx="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571640" y="3352680"/>
            <a:ext cx="1600200" cy="12193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654000" y="45720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- (..+..+.. )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630120" y="35053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y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071000" y="3505320"/>
            <a:ext cx="19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raw cor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09C-0824-4CA8-863A-09F1C91FF20D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3200400" cy="194292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3124080" y="785880"/>
            <a:ext cx="2895840" cy="188100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3351600" y="777960"/>
            <a:ext cx="114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421520" y="2209680"/>
            <a:ext cx="152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0-12% 200 GeV Au+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11520" y="115884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ff3300"/>
                </a:solidFill>
                <a:latin typeface="Arial"/>
              </a:rPr>
              <a:t>PHENI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nucl-ex/0611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3"/>
          <a:srcRect l="0" t="0" r="0" b="2963"/>
          <a:stretch/>
        </p:blipFill>
        <p:spPr>
          <a:xfrm>
            <a:off x="3352680" y="2895480"/>
            <a:ext cx="2743200" cy="221472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4"/>
          <a:srcRect l="0" t="52995" r="0" b="0"/>
          <a:stretch/>
        </p:blipFill>
        <p:spPr>
          <a:xfrm>
            <a:off x="176040" y="2743200"/>
            <a:ext cx="2872080" cy="262080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532440" y="5181480"/>
            <a:ext cx="1867680" cy="80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ff0000"/>
                </a:solidFill>
                <a:latin typeface="Arial"/>
                <a:ea typeface="ＭＳ ゴシック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3333cc"/>
                </a:solidFill>
                <a:latin typeface="Arial"/>
                <a:ea typeface="Arial"/>
              </a:rPr>
              <a:t>10-20% Au+Au</a:t>
            </a:r>
            <a:r>
              <a:rPr b="1" lang="ja-JP" sz="1000" spc="-1" strike="noStrike">
                <a:solidFill>
                  <a:srgbClr val="3333cc"/>
                </a:solidFill>
                <a:latin typeface="Arial"/>
              </a:rPr>
              <a:t> 200Ge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1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0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=2.5-4 GeV/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1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000" spc="-1" strike="noStrike" baseline="30000">
                <a:solidFill>
                  <a:srgbClr val="000000"/>
                </a:solidFill>
                <a:latin typeface="Arial"/>
              </a:rPr>
              <a:t>assoc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=1-2.5 GeV/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732840" y="5181480"/>
            <a:ext cx="167724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ff3300"/>
                </a:solidFill>
                <a:latin typeface="Arial"/>
              </a:rPr>
              <a:t>STAR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3333cc"/>
                </a:solidFill>
                <a:latin typeface="Arial"/>
                <a:ea typeface="Arial"/>
              </a:rPr>
              <a:t>0-12% Au+Au</a:t>
            </a:r>
            <a:r>
              <a:rPr b="1" lang="ja-JP" sz="1000" spc="-1" strike="noStrike">
                <a:solidFill>
                  <a:srgbClr val="3333cc"/>
                </a:solidFill>
                <a:latin typeface="Arial"/>
              </a:rPr>
              <a:t> 200Ge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1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0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=3-4 GeV/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1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000" spc="-1" strike="noStrike" baseline="30000">
                <a:solidFill>
                  <a:srgbClr val="000000"/>
                </a:solidFill>
                <a:latin typeface="Arial"/>
              </a:rPr>
              <a:t>assoc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=1-2 GeV/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5"/>
          <a:stretch/>
        </p:blipFill>
        <p:spPr>
          <a:xfrm>
            <a:off x="5943600" y="838080"/>
            <a:ext cx="2819520" cy="190512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6728760" y="2162160"/>
            <a:ext cx="180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CERES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781680" y="914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691320" y="898560"/>
            <a:ext cx="1447920" cy="5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  <a:ea typeface="Arial"/>
              </a:rPr>
              <a:t>0-5% Pb +Au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 17GeV </a:t>
            </a:r>
            <a:br>
              <a:rPr sz="1000"/>
            </a:b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1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0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=2.5-4 GeV/c </a:t>
            </a:r>
            <a:br>
              <a:rPr sz="1000"/>
            </a:b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1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000" spc="-1" strike="noStrike" baseline="30000">
                <a:solidFill>
                  <a:srgbClr val="000000"/>
                </a:solidFill>
                <a:latin typeface="Arial"/>
              </a:rPr>
              <a:t>assoc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=1-2.5 GeV/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6"/>
          <a:stretch/>
        </p:blipFill>
        <p:spPr>
          <a:xfrm>
            <a:off x="6248520" y="2895480"/>
            <a:ext cx="2666880" cy="243864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6553080" y="5181480"/>
            <a:ext cx="182880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ff3300"/>
                </a:solidFill>
                <a:latin typeface="Arial"/>
              </a:rPr>
              <a:t>CERES preliminary</a:t>
            </a:r>
            <a:br>
              <a:rPr sz="1400"/>
            </a:br>
            <a:r>
              <a:rPr b="1" lang="ja-JP" sz="1000" spc="-1" strike="noStrike">
                <a:solidFill>
                  <a:srgbClr val="3333cc"/>
                </a:solidFill>
                <a:latin typeface="Arial"/>
                <a:ea typeface="Arial"/>
              </a:rPr>
              <a:t>0-5% Pb +Au</a:t>
            </a:r>
            <a:r>
              <a:rPr b="1" lang="ja-JP" sz="1000" spc="-1" strike="noStrike">
                <a:solidFill>
                  <a:srgbClr val="3333cc"/>
                </a:solidFill>
                <a:latin typeface="Arial"/>
              </a:rPr>
              <a:t> 17GeV </a:t>
            </a:r>
            <a:br>
              <a:rPr sz="1000"/>
            </a:b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1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0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=2.5-4 GeV/c </a:t>
            </a:r>
            <a:br>
              <a:rPr sz="1000"/>
            </a:b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1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000" spc="-1" strike="noStrike" baseline="30000">
                <a:solidFill>
                  <a:srgbClr val="000000"/>
                </a:solidFill>
                <a:latin typeface="Arial"/>
              </a:rPr>
              <a:t>assoc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=1-2.5 GeV/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85800" y="3962520"/>
            <a:ext cx="53352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28800" y="3962520"/>
            <a:ext cx="53352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191120" y="2895480"/>
            <a:ext cx="533160" cy="5335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934320" y="3276720"/>
            <a:ext cx="53316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91320" y="3962520"/>
            <a:ext cx="53352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982160" y="15876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t modification and cone lik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083960" y="6019920"/>
            <a:ext cx="698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he bulk and jet interaction is there, but in Cu+Cu/Au+Au and SPS-RHIC?!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913-6CD5-40EF-8E13-CA3E745479E4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58600" y="75960"/>
            <a:ext cx="793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813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re a ridge on the away-side (di-hadron trigger)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187920" y="1219320"/>
            <a:ext cx="4091760" cy="3776400"/>
            <a:chOff x="187920" y="1219320"/>
            <a:chExt cx="4091760" cy="3776400"/>
          </a:xfrm>
        </p:grpSpPr>
        <p:sp>
          <p:nvSpPr>
            <p:cNvPr id="833" name=""/>
            <p:cNvSpPr/>
            <p:nvPr/>
          </p:nvSpPr>
          <p:spPr>
            <a:xfrm>
              <a:off x="735120" y="1219320"/>
              <a:ext cx="271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T1 near-side trigger &gt; 6 (8) Ge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384560" y="4262400"/>
              <a:ext cx="2895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8000"/>
                  </a:solidFill>
                  <a:latin typeface="Arial"/>
                </a:rPr>
                <a:t>T2 “away-side trigger” &gt; 4 (6) Ge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8000"/>
                  </a:solidFill>
                  <a:latin typeface="Arial"/>
                </a:rPr>
                <a:t>(and &lt; near-side trigg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8000"/>
                  </a:solidFill>
                  <a:latin typeface="Arial"/>
                </a:rPr>
                <a:t>within 180</a:t>
              </a:r>
              <a:r>
                <a:rPr b="0" lang="en-US" sz="1400" spc="-1" strike="noStrike" baseline="30000">
                  <a:solidFill>
                    <a:srgbClr val="ff8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8000"/>
                  </a:solidFill>
                  <a:latin typeface="Arial"/>
                </a:rPr>
                <a:t>deg.</a:t>
              </a:r>
              <a:r>
                <a:rPr b="0" lang="en-US" sz="1400" spc="-1" strike="noStrike" baseline="30000">
                  <a:solidFill>
                    <a:srgbClr val="ff8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8000"/>
                  </a:solidFill>
                  <a:latin typeface="Arial"/>
                </a:rPr>
                <a:t>+- 30 deg.</a:t>
              </a:r>
              <a:r>
                <a:rPr b="0" lang="en-US" sz="1400" spc="-1" strike="noStrike" baseline="30000">
                  <a:solidFill>
                    <a:srgbClr val="ff8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87920" y="2819520"/>
              <a:ext cx="22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 assoc. particles &gt; 2 Ge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" name=""/>
            <p:cNvGrpSpPr/>
            <p:nvPr/>
          </p:nvGrpSpPr>
          <p:grpSpPr>
            <a:xfrm>
              <a:off x="2106720" y="1369080"/>
              <a:ext cx="1430280" cy="2751840"/>
              <a:chOff x="2106720" y="1369080"/>
              <a:chExt cx="1430280" cy="2751840"/>
            </a:xfrm>
          </p:grpSpPr>
          <p:sp>
            <p:nvSpPr>
              <p:cNvPr id="837" name=""/>
              <p:cNvSpPr/>
              <p:nvPr/>
            </p:nvSpPr>
            <p:spPr>
              <a:xfrm flipH="1">
                <a:off x="2838600" y="1369080"/>
                <a:ext cx="698400" cy="133596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2486160" y="2863800"/>
                <a:ext cx="286200" cy="1242720"/>
              </a:xfrm>
              <a:prstGeom prst="line">
                <a:avLst/>
              </a:prstGeom>
              <a:ln w="19080">
                <a:solidFill>
                  <a:srgbClr val="ff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2106720" y="2784600"/>
                <a:ext cx="698400" cy="133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2495520" y="2863800"/>
                <a:ext cx="276480" cy="77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 flipV="1">
                <a:off x="2772360" y="2863800"/>
                <a:ext cx="91440" cy="89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2383200" y="2863800"/>
                <a:ext cx="388800" cy="48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4129200">
                <a:off x="2680920" y="2664720"/>
                <a:ext cx="248040" cy="2386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4" name=""/>
          <p:cNvGrpSpPr/>
          <p:nvPr/>
        </p:nvGrpSpPr>
        <p:grpSpPr>
          <a:xfrm>
            <a:off x="4641840" y="1143000"/>
            <a:ext cx="3825720" cy="3881520"/>
            <a:chOff x="4641840" y="1143000"/>
            <a:chExt cx="3825720" cy="3881520"/>
          </a:xfrm>
        </p:grpSpPr>
        <p:pic>
          <p:nvPicPr>
            <p:cNvPr id="845" name="" descr=""/>
            <p:cNvPicPr/>
            <p:nvPr/>
          </p:nvPicPr>
          <p:blipFill>
            <a:blip r:embed="rId1"/>
            <a:stretch/>
          </p:blipFill>
          <p:spPr>
            <a:xfrm>
              <a:off x="4641840" y="1143000"/>
              <a:ext cx="3825720" cy="38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>
              <a:off x="7665840" y="1524240"/>
              <a:ext cx="351360" cy="3124080"/>
            </a:xfrm>
            <a:prstGeom prst="rect">
              <a:avLst/>
            </a:prstGeom>
            <a:solidFill>
              <a:srgbClr val="ff80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8370720" y="2057400"/>
            <a:ext cx="0" cy="2209680"/>
          </a:xfrm>
          <a:prstGeom prst="line">
            <a:avLst/>
          </a:prstGeom>
          <a:ln w="158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 rot="5400000">
            <a:off x="7772040" y="2926080"/>
            <a:ext cx="15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8000"/>
                </a:solidFill>
                <a:latin typeface="Arial"/>
              </a:rPr>
              <a:t>disappearing bk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999760" y="993600"/>
            <a:ext cx="1345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&lt;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t,trigg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15 G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63480" y="5410080"/>
            <a:ext cx="78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“away-side trigger” for 2-particl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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orrel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A465-6B38-47C1-AC7C-5430A46F455C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" descr=""/>
          <p:cNvPicPr/>
          <p:nvPr/>
        </p:nvPicPr>
        <p:blipFill>
          <a:blip r:embed="rId1">
            <a:lum contrast="-4000"/>
          </a:blip>
          <a:stretch/>
        </p:blipFill>
        <p:spPr>
          <a:xfrm>
            <a:off x="360360" y="1066680"/>
            <a:ext cx="3602160" cy="320040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1140840" y="1600200"/>
            <a:ext cx="1294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-jets in Au+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3780000" y="1066680"/>
            <a:ext cx="3763800" cy="318456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4646520" y="1600200"/>
            <a:ext cx="1310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13920" y="3048120"/>
            <a:ext cx="842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1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&amp;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2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481000" y="3008160"/>
            <a:ext cx="842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1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&amp;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2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250720" y="1332000"/>
            <a:ext cx="1375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STAR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621040" y="1306440"/>
            <a:ext cx="1375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STAR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252560" y="1908000"/>
            <a:ext cx="1512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T1: p</a:t>
            </a:r>
            <a:r>
              <a:rPr b="0" lang="en-US" sz="1400" spc="-1" strike="noStrike" baseline="-25000">
                <a:solidFill>
                  <a:srgbClr val="cc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&gt;5GeV/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2: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4GeV/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  : p</a:t>
            </a:r>
            <a:r>
              <a:rPr b="0" lang="en-US" sz="1400" spc="-1" strike="noStrike" baseline="-25000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gt;1.5GeV/</a:t>
            </a: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898720" y="1066680"/>
            <a:ext cx="24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TAR, R. Hollis, Berkeley School (0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3886200" y="4495680"/>
            <a:ext cx="4430520" cy="1714320"/>
            <a:chOff x="3886200" y="4495680"/>
            <a:chExt cx="4430520" cy="1714320"/>
          </a:xfrm>
        </p:grpSpPr>
        <p:pic>
          <p:nvPicPr>
            <p:cNvPr id="863" name="" descr=""/>
            <p:cNvPicPr/>
            <p:nvPr/>
          </p:nvPicPr>
          <p:blipFill>
            <a:blip r:embed="rId3"/>
            <a:srcRect l="0" t="63303" r="0" b="0"/>
            <a:stretch/>
          </p:blipFill>
          <p:spPr>
            <a:xfrm>
              <a:off x="3965760" y="4690800"/>
              <a:ext cx="4350960" cy="15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" descr=""/>
            <p:cNvPicPr/>
            <p:nvPr/>
          </p:nvPicPr>
          <p:blipFill>
            <a:blip r:embed="rId4"/>
            <a:srcRect l="0" t="42931" r="93117" b="44150"/>
            <a:stretch/>
          </p:blipFill>
          <p:spPr>
            <a:xfrm>
              <a:off x="3886200" y="5060160"/>
              <a:ext cx="29916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" descr=""/>
            <p:cNvPicPr/>
            <p:nvPr/>
          </p:nvPicPr>
          <p:blipFill>
            <a:blip r:embed="rId5"/>
            <a:srcRect l="0" t="0" r="0" b="95291"/>
            <a:stretch/>
          </p:blipFill>
          <p:spPr>
            <a:xfrm>
              <a:off x="3965760" y="4495680"/>
              <a:ext cx="4350960" cy="19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3DF-4EA3-44F8-84E1-16EE40BCC6D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jet_summary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82160" cy="426744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1451880" y="714240"/>
            <a:ext cx="45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PT 200GeV Au+Au → charged hadrons (|y|&lt;2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37840" y="1143000"/>
            <a:ext cx="165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string-melting 10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tring-melting 3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AMPT 3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993960" y="205740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12 fm 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051000" y="2057400"/>
            <a:ext cx="11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8~12 f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235120" y="205740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4~8 f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292520" y="205740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0~4 f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16200000">
            <a:off x="-1235160" y="3368520"/>
            <a:ext cx="3063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/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d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/d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702120" y="5654520"/>
            <a:ext cx="172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 (r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967720" y="609480"/>
            <a:ext cx="1648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: 0.7-1.7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trig.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: 1.7-4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71C4-A0B5-41AA-A836-1CB75874707D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rpdep_jet_dm20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419112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/>
          <p:nvPr/>
        </p:nvSpPr>
        <p:spPr>
          <a:xfrm>
            <a:off x="1451880" y="714240"/>
            <a:ext cx="45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PT 200GeV Au+Au → charged hadrons (|y|&lt;2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967720" y="609480"/>
            <a:ext cx="1648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: 0.7-1.7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trig.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: 1.7-4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37840" y="1143000"/>
            <a:ext cx="176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trigger at in-pl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rigger at out-of-pl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993960" y="205740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12 fm 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051000" y="2057400"/>
            <a:ext cx="11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8~12 f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235120" y="205740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4~8 f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292520" y="205740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0~4 f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2120" y="5654520"/>
            <a:ext cx="172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 (r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rot="16200000">
            <a:off x="-1235160" y="3368520"/>
            <a:ext cx="3063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/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d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/d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762120" y="3276720"/>
            <a:ext cx="1218960" cy="1218960"/>
            <a:chOff x="762120" y="3276720"/>
            <a:chExt cx="1218960" cy="1218960"/>
          </a:xfrm>
        </p:grpSpPr>
        <p:sp>
          <p:nvSpPr>
            <p:cNvPr id="887" name=""/>
            <p:cNvSpPr/>
            <p:nvPr/>
          </p:nvSpPr>
          <p:spPr>
            <a:xfrm>
              <a:off x="1143000" y="3428640"/>
              <a:ext cx="45684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62120" y="3885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371600" y="32767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914400" y="3428280"/>
              <a:ext cx="91404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14400" y="3428640"/>
              <a:ext cx="91404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523880" y="3809880"/>
              <a:ext cx="228240" cy="151920"/>
            </a:xfrm>
            <a:prstGeom prst="rightArrow">
              <a:avLst>
                <a:gd name="adj1" fmla="val 50000"/>
                <a:gd name="adj2" fmla="val 3755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10800000">
              <a:off x="990360" y="3809880"/>
              <a:ext cx="228240" cy="151920"/>
            </a:xfrm>
            <a:prstGeom prst="rightArrow">
              <a:avLst>
                <a:gd name="adj1" fmla="val 50000"/>
                <a:gd name="adj2" fmla="val 3755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5400000">
              <a:off x="1257120" y="4228920"/>
              <a:ext cx="228240" cy="151920"/>
            </a:xfrm>
            <a:prstGeom prst="rightArrow">
              <a:avLst>
                <a:gd name="adj1" fmla="val 50000"/>
                <a:gd name="adj2" fmla="val 37559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16200000">
              <a:off x="1257120" y="3390840"/>
              <a:ext cx="228240" cy="151920"/>
            </a:xfrm>
            <a:prstGeom prst="rightArrow">
              <a:avLst>
                <a:gd name="adj1" fmla="val 50000"/>
                <a:gd name="adj2" fmla="val 37559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5257800" y="24382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486400" y="24382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4674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543800" y="24382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1240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505320" y="24382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14400" y="24382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447920" y="24382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100-5AA2-43CE-BF5E-5FD88F0FAFBA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ampt_v2pt" descr=""/>
          <p:cNvPicPr/>
          <p:nvPr/>
        </p:nvPicPr>
        <p:blipFill>
          <a:blip r:embed="rId1"/>
          <a:stretch/>
        </p:blipFill>
        <p:spPr>
          <a:xfrm>
            <a:off x="3149640" y="2768760"/>
            <a:ext cx="5689440" cy="3632040"/>
          </a:xfrm>
          <a:prstGeom prst="rect">
            <a:avLst/>
          </a:prstGeom>
          <a:ln w="0">
            <a:noFill/>
          </a:ln>
        </p:spPr>
      </p:pic>
      <p:pic>
        <p:nvPicPr>
          <p:cNvPr id="905" name="ampt_v2cn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4038480" cy="331956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6274800" y="276120"/>
            <a:ext cx="264960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T 200GeV Au+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fault option (solid symbo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ting-on (open symbo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585240" y="4419720"/>
            <a:ext cx="4941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entral                                                                                               periph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343400" y="4572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755360" y="3276720"/>
            <a:ext cx="1306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tal multiplic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02560" y="1600200"/>
            <a:ext cx="19317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ipheral                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371600" y="1752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69960" y="304920"/>
            <a:ext cx="6379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324080" y="1976400"/>
            <a:ext cx="883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lting-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851240" y="6172200"/>
            <a:ext cx="950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pT (GeV/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rot="16200000">
            <a:off x="2081160" y="4395600"/>
            <a:ext cx="1930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rged particle v2 (|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|&lt;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rot="16200000">
            <a:off x="-657000" y="1541520"/>
            <a:ext cx="1930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rged particle v2 (|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|&lt;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04920" y="4191120"/>
            <a:ext cx="2286000" cy="183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ack symbol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ue v2 w.r.t. true r.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red symbol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measured v2 w.r.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alculated r.p. at |h|=1.7~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Times New Roman"/>
              </a:rPr>
              <a:t>blue symbol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en-US" sz="1200" spc="-1" strike="noStrike">
                <a:solidFill>
                  <a:srgbClr val="0033cc"/>
                </a:solidFill>
                <a:latin typeface="Times New Roman"/>
              </a:rPr>
              <a:t>corrected v2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en-US" sz="1200" spc="-1" strike="noStrike">
                <a:solidFill>
                  <a:srgbClr val="0033cc"/>
                </a:solidFill>
                <a:latin typeface="Times New Roman"/>
              </a:rPr>
              <a:t>estimated r.p.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rot="16200000">
            <a:off x="1962720" y="1578240"/>
            <a:ext cx="1099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.p.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724280" y="1249200"/>
            <a:ext cx="1828800" cy="12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sub-event correlation</a:t>
            </a:r>
            <a:br>
              <a:rPr sz="1200"/>
            </a:b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&lt;cos2(</a:t>
            </a:r>
            <a:r>
              <a:rPr b="1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ja-JP" sz="1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ja-JP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imes New Roman"/>
              </a:rPr>
              <a:t>true resolution</a:t>
            </a:r>
            <a:br>
              <a:rPr sz="1200"/>
            </a:br>
            <a:r>
              <a:rPr b="1" lang="ja-JP" sz="1200" spc="-1" strike="noStrike">
                <a:solidFill>
                  <a:srgbClr val="ff0000"/>
                </a:solidFill>
                <a:latin typeface="Times New Roman"/>
              </a:rPr>
              <a:t>&lt;cos2(</a:t>
            </a:r>
            <a:r>
              <a:rPr b="1" lang="ja-JP" sz="12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lang="ja-JP" sz="1200" spc="-1" strike="noStrike" baseline="-25000">
                <a:solidFill>
                  <a:srgbClr val="ff0000"/>
                </a:solidFill>
                <a:latin typeface="Times New Roman"/>
              </a:rPr>
              <a:t>meas.</a:t>
            </a:r>
            <a:r>
              <a:rPr b="1" lang="ja-JP" sz="1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ja-JP" sz="12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lang="ja-JP" sz="1200" spc="-1" strike="noStrike" baseline="-25000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ja-JP" sz="1200" spc="-1" strike="noStrike">
                <a:solidFill>
                  <a:srgbClr val="ff0000"/>
                </a:solidFill>
                <a:latin typeface="Times New Roman"/>
              </a:rPr>
              <a:t>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cc"/>
                </a:solidFill>
                <a:latin typeface="Times New Roman"/>
              </a:rPr>
              <a:t>estimated r.p.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753080" y="4724280"/>
            <a:ext cx="883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lting-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770360" y="2967120"/>
            <a:ext cx="6379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 flipV="1">
            <a:off x="1294920" y="1371600"/>
            <a:ext cx="304920" cy="2819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 flipV="1">
            <a:off x="1143000" y="2590560"/>
            <a:ext cx="457200" cy="1600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2590920" y="3885840"/>
            <a:ext cx="1143000" cy="6858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590920" y="4572000"/>
            <a:ext cx="1143000" cy="10666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 flipV="1">
            <a:off x="4267080" y="1295280"/>
            <a:ext cx="45720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4267080" y="1828800"/>
            <a:ext cx="45720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DD7-BD3B-482C-932B-4E5DD403BA6B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"/>
          <p:cNvGrpSpPr/>
          <p:nvPr/>
        </p:nvGrpSpPr>
        <p:grpSpPr>
          <a:xfrm>
            <a:off x="380880" y="1351080"/>
            <a:ext cx="3238560" cy="3959280"/>
            <a:chOff x="380880" y="1351080"/>
            <a:chExt cx="3238560" cy="3959280"/>
          </a:xfrm>
        </p:grpSpPr>
        <p:grpSp>
          <p:nvGrpSpPr>
            <p:cNvPr id="929" name=""/>
            <p:cNvGrpSpPr/>
            <p:nvPr/>
          </p:nvGrpSpPr>
          <p:grpSpPr>
            <a:xfrm>
              <a:off x="1388160" y="2430720"/>
              <a:ext cx="1258200" cy="1977840"/>
              <a:chOff x="1388160" y="2430720"/>
              <a:chExt cx="1258200" cy="1977840"/>
            </a:xfrm>
          </p:grpSpPr>
          <p:sp>
            <p:nvSpPr>
              <p:cNvPr id="930" name=""/>
              <p:cNvSpPr/>
              <p:nvPr/>
            </p:nvSpPr>
            <p:spPr>
              <a:xfrm>
                <a:off x="1388160" y="2430720"/>
                <a:ext cx="1258200" cy="1977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" name=""/>
            <p:cNvSpPr/>
            <p:nvPr/>
          </p:nvSpPr>
          <p:spPr>
            <a:xfrm>
              <a:off x="380880" y="3402000"/>
              <a:ext cx="3238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035800" y="1351080"/>
              <a:ext cx="108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812520" y="2284200"/>
              <a:ext cx="2338560" cy="234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918360" y="2284200"/>
              <a:ext cx="2341800" cy="234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4305240" y="1351080"/>
            <a:ext cx="3238560" cy="3959280"/>
            <a:chOff x="4305240" y="1351080"/>
            <a:chExt cx="3238560" cy="3959280"/>
          </a:xfrm>
        </p:grpSpPr>
        <p:grpSp>
          <p:nvGrpSpPr>
            <p:cNvPr id="936" name=""/>
            <p:cNvGrpSpPr/>
            <p:nvPr/>
          </p:nvGrpSpPr>
          <p:grpSpPr>
            <a:xfrm>
              <a:off x="5312520" y="2430720"/>
              <a:ext cx="1258200" cy="1977840"/>
              <a:chOff x="5312520" y="2430720"/>
              <a:chExt cx="1258200" cy="1977840"/>
            </a:xfrm>
          </p:grpSpPr>
          <p:sp>
            <p:nvSpPr>
              <p:cNvPr id="937" name=""/>
              <p:cNvSpPr/>
              <p:nvPr/>
            </p:nvSpPr>
            <p:spPr>
              <a:xfrm>
                <a:off x="5312520" y="2430720"/>
                <a:ext cx="1258200" cy="1977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>
              <a:off x="4305240" y="3402000"/>
              <a:ext cx="3238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959800" y="1351080"/>
              <a:ext cx="144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4736880" y="2284200"/>
              <a:ext cx="2338920" cy="234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 flipV="1">
              <a:off x="4843080" y="2284200"/>
              <a:ext cx="2342160" cy="234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1460520" y="2106720"/>
            <a:ext cx="1260360" cy="28796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81240" y="3726000"/>
            <a:ext cx="539640" cy="1260360"/>
          </a:xfrm>
          <a:prstGeom prst="line">
            <a:avLst/>
          </a:prstGeom>
          <a:ln w="108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452680" y="487692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108240" y="367668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ff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712960" y="270504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244600" y="198612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00ff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76240" y="281304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ff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76240" y="346248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309680" y="4290840"/>
            <a:ext cx="56988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00ff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044720" y="160020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909880" y="4648320"/>
            <a:ext cx="914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Trigger </a:t>
            </a:r>
            <a:br>
              <a:rPr sz="1600"/>
            </a:b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parti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290760" y="2970360"/>
            <a:ext cx="1067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(R.P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256520" y="2970360"/>
            <a:ext cx="1066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(R.P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961240" y="1027080"/>
            <a:ext cx="345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036880" y="1027080"/>
            <a:ext cx="345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476360" y="2986200"/>
            <a:ext cx="581040" cy="839520"/>
            <a:chOff x="1476360" y="2986200"/>
            <a:chExt cx="581040" cy="839520"/>
          </a:xfrm>
        </p:grpSpPr>
        <p:sp>
          <p:nvSpPr>
            <p:cNvPr id="958" name=""/>
            <p:cNvSpPr/>
            <p:nvPr/>
          </p:nvSpPr>
          <p:spPr>
            <a:xfrm>
              <a:off x="1476360" y="2986200"/>
              <a:ext cx="581040" cy="839520"/>
            </a:xfrm>
            <a:custGeom>
              <a:avLst/>
              <a:gdLst/>
              <a:ahLst/>
              <a:rect l="l" t="t" r="r" b="b"/>
              <a:pathLst>
                <a:path w="1619" h="2338">
                  <a:moveTo>
                    <a:pt x="648" y="506"/>
                  </a:moveTo>
                  <a:lnTo>
                    <a:pt x="614" y="527"/>
                  </a:lnTo>
                  <a:lnTo>
                    <a:pt x="583" y="550"/>
                  </a:lnTo>
                  <a:lnTo>
                    <a:pt x="553" y="575"/>
                  </a:lnTo>
                  <a:lnTo>
                    <a:pt x="524" y="602"/>
                  </a:lnTo>
                  <a:lnTo>
                    <a:pt x="497" y="630"/>
                  </a:lnTo>
                  <a:lnTo>
                    <a:pt x="471" y="659"/>
                  </a:lnTo>
                  <a:lnTo>
                    <a:pt x="447" y="690"/>
                  </a:lnTo>
                  <a:lnTo>
                    <a:pt x="425" y="723"/>
                  </a:lnTo>
                  <a:lnTo>
                    <a:pt x="403" y="756"/>
                  </a:lnTo>
                  <a:lnTo>
                    <a:pt x="384" y="791"/>
                  </a:lnTo>
                  <a:lnTo>
                    <a:pt x="366" y="826"/>
                  </a:lnTo>
                  <a:lnTo>
                    <a:pt x="351" y="863"/>
                  </a:lnTo>
                  <a:lnTo>
                    <a:pt x="337" y="901"/>
                  </a:lnTo>
                  <a:lnTo>
                    <a:pt x="325" y="939"/>
                  </a:lnTo>
                  <a:lnTo>
                    <a:pt x="315" y="978"/>
                  </a:lnTo>
                  <a:lnTo>
                    <a:pt x="307" y="1017"/>
                  </a:lnTo>
                  <a:lnTo>
                    <a:pt x="301" y="1057"/>
                  </a:lnTo>
                  <a:lnTo>
                    <a:pt x="297" y="1098"/>
                  </a:lnTo>
                  <a:lnTo>
                    <a:pt x="295" y="1139"/>
                  </a:lnTo>
                  <a:lnTo>
                    <a:pt x="294" y="1180"/>
                  </a:lnTo>
                  <a:lnTo>
                    <a:pt x="297" y="1221"/>
                  </a:lnTo>
                  <a:lnTo>
                    <a:pt x="300" y="1262"/>
                  </a:lnTo>
                  <a:lnTo>
                    <a:pt x="306" y="1303"/>
                  </a:lnTo>
                  <a:lnTo>
                    <a:pt x="315" y="1344"/>
                  </a:lnTo>
                  <a:lnTo>
                    <a:pt x="324" y="1384"/>
                  </a:lnTo>
                  <a:lnTo>
                    <a:pt x="337" y="1423"/>
                  </a:lnTo>
                  <a:lnTo>
                    <a:pt x="349" y="1464"/>
                  </a:lnTo>
                  <a:lnTo>
                    <a:pt x="366" y="1502"/>
                  </a:lnTo>
                  <a:lnTo>
                    <a:pt x="384" y="1541"/>
                  </a:lnTo>
                  <a:lnTo>
                    <a:pt x="402" y="1578"/>
                  </a:lnTo>
                  <a:lnTo>
                    <a:pt x="422" y="1614"/>
                  </a:lnTo>
                  <a:lnTo>
                    <a:pt x="444" y="1649"/>
                  </a:lnTo>
                  <a:lnTo>
                    <a:pt x="468" y="1684"/>
                  </a:lnTo>
                  <a:lnTo>
                    <a:pt x="494" y="1717"/>
                  </a:lnTo>
                  <a:lnTo>
                    <a:pt x="523" y="1749"/>
                  </a:lnTo>
                  <a:lnTo>
                    <a:pt x="549" y="1779"/>
                  </a:lnTo>
                  <a:lnTo>
                    <a:pt x="579" y="1808"/>
                  </a:lnTo>
                  <a:lnTo>
                    <a:pt x="611" y="1834"/>
                  </a:lnTo>
                  <a:lnTo>
                    <a:pt x="643" y="1861"/>
                  </a:lnTo>
                  <a:lnTo>
                    <a:pt x="676" y="1886"/>
                  </a:lnTo>
                  <a:lnTo>
                    <a:pt x="711" y="1909"/>
                  </a:lnTo>
                  <a:lnTo>
                    <a:pt x="748" y="1929"/>
                  </a:lnTo>
                  <a:lnTo>
                    <a:pt x="782" y="1949"/>
                  </a:lnTo>
                  <a:lnTo>
                    <a:pt x="821" y="1966"/>
                  </a:lnTo>
                  <a:lnTo>
                    <a:pt x="857" y="1981"/>
                  </a:lnTo>
                  <a:lnTo>
                    <a:pt x="896" y="1995"/>
                  </a:lnTo>
                  <a:lnTo>
                    <a:pt x="935" y="2006"/>
                  </a:lnTo>
                  <a:lnTo>
                    <a:pt x="974" y="2015"/>
                  </a:lnTo>
                  <a:lnTo>
                    <a:pt x="1013" y="2024"/>
                  </a:lnTo>
                  <a:lnTo>
                    <a:pt x="1054" y="2028"/>
                  </a:lnTo>
                  <a:lnTo>
                    <a:pt x="1093" y="2031"/>
                  </a:lnTo>
                  <a:lnTo>
                    <a:pt x="1134" y="2033"/>
                  </a:lnTo>
                  <a:lnTo>
                    <a:pt x="1172" y="2032"/>
                  </a:lnTo>
                  <a:lnTo>
                    <a:pt x="1211" y="2029"/>
                  </a:lnTo>
                  <a:lnTo>
                    <a:pt x="1251" y="2025"/>
                  </a:lnTo>
                  <a:lnTo>
                    <a:pt x="1290" y="2017"/>
                  </a:lnTo>
                  <a:lnTo>
                    <a:pt x="1327" y="2008"/>
                  </a:lnTo>
                  <a:lnTo>
                    <a:pt x="1365" y="1997"/>
                  </a:lnTo>
                  <a:lnTo>
                    <a:pt x="1402" y="1985"/>
                  </a:lnTo>
                  <a:lnTo>
                    <a:pt x="1439" y="1970"/>
                  </a:lnTo>
                  <a:lnTo>
                    <a:pt x="1473" y="1953"/>
                  </a:lnTo>
                  <a:lnTo>
                    <a:pt x="1618" y="2225"/>
                  </a:lnTo>
                  <a:lnTo>
                    <a:pt x="1568" y="2249"/>
                  </a:lnTo>
                  <a:lnTo>
                    <a:pt x="1519" y="2270"/>
                  </a:lnTo>
                  <a:lnTo>
                    <a:pt x="1469" y="2288"/>
                  </a:lnTo>
                  <a:lnTo>
                    <a:pt x="1417" y="2303"/>
                  </a:lnTo>
                  <a:lnTo>
                    <a:pt x="1365" y="2315"/>
                  </a:lnTo>
                  <a:lnTo>
                    <a:pt x="1312" y="2324"/>
                  </a:lnTo>
                  <a:lnTo>
                    <a:pt x="1260" y="2332"/>
                  </a:lnTo>
                  <a:lnTo>
                    <a:pt x="1204" y="2335"/>
                  </a:lnTo>
                  <a:lnTo>
                    <a:pt x="1150" y="2337"/>
                  </a:lnTo>
                  <a:lnTo>
                    <a:pt x="1096" y="2334"/>
                  </a:lnTo>
                  <a:lnTo>
                    <a:pt x="1042" y="2329"/>
                  </a:lnTo>
                  <a:lnTo>
                    <a:pt x="986" y="2323"/>
                  </a:lnTo>
                  <a:lnTo>
                    <a:pt x="932" y="2312"/>
                  </a:lnTo>
                  <a:lnTo>
                    <a:pt x="878" y="2299"/>
                  </a:lnTo>
                  <a:lnTo>
                    <a:pt x="825" y="2283"/>
                  </a:lnTo>
                  <a:lnTo>
                    <a:pt x="773" y="2265"/>
                  </a:lnTo>
                  <a:lnTo>
                    <a:pt x="720" y="2244"/>
                  </a:lnTo>
                  <a:lnTo>
                    <a:pt x="669" y="2220"/>
                  </a:lnTo>
                  <a:lnTo>
                    <a:pt x="619" y="2194"/>
                  </a:lnTo>
                  <a:lnTo>
                    <a:pt x="571" y="2165"/>
                  </a:lnTo>
                  <a:lnTo>
                    <a:pt x="524" y="2134"/>
                  </a:lnTo>
                  <a:lnTo>
                    <a:pt x="478" y="2101"/>
                  </a:lnTo>
                  <a:lnTo>
                    <a:pt x="435" y="2065"/>
                  </a:lnTo>
                  <a:lnTo>
                    <a:pt x="391" y="2028"/>
                  </a:lnTo>
                  <a:lnTo>
                    <a:pt x="350" y="1988"/>
                  </a:lnTo>
                  <a:lnTo>
                    <a:pt x="310" y="1946"/>
                  </a:lnTo>
                  <a:lnTo>
                    <a:pt x="274" y="1902"/>
                  </a:lnTo>
                  <a:lnTo>
                    <a:pt x="239" y="1857"/>
                  </a:lnTo>
                  <a:lnTo>
                    <a:pt x="205" y="1811"/>
                  </a:lnTo>
                  <a:lnTo>
                    <a:pt x="174" y="1762"/>
                  </a:lnTo>
                  <a:lnTo>
                    <a:pt x="146" y="1712"/>
                  </a:lnTo>
                  <a:lnTo>
                    <a:pt x="120" y="1662"/>
                  </a:lnTo>
                  <a:lnTo>
                    <a:pt x="96" y="1609"/>
                  </a:lnTo>
                  <a:lnTo>
                    <a:pt x="75" y="1556"/>
                  </a:lnTo>
                  <a:lnTo>
                    <a:pt x="57" y="1501"/>
                  </a:lnTo>
                  <a:lnTo>
                    <a:pt x="40" y="1447"/>
                  </a:lnTo>
                  <a:lnTo>
                    <a:pt x="27" y="1391"/>
                  </a:lnTo>
                  <a:lnTo>
                    <a:pt x="17" y="1336"/>
                  </a:lnTo>
                  <a:lnTo>
                    <a:pt x="8" y="1280"/>
                  </a:lnTo>
                  <a:lnTo>
                    <a:pt x="3" y="1223"/>
                  </a:lnTo>
                  <a:lnTo>
                    <a:pt x="0" y="1167"/>
                  </a:lnTo>
                  <a:lnTo>
                    <a:pt x="0" y="1111"/>
                  </a:lnTo>
                  <a:lnTo>
                    <a:pt x="4" y="1054"/>
                  </a:lnTo>
                  <a:lnTo>
                    <a:pt x="9" y="999"/>
                  </a:lnTo>
                  <a:lnTo>
                    <a:pt x="17" y="944"/>
                  </a:lnTo>
                  <a:lnTo>
                    <a:pt x="29" y="891"/>
                  </a:lnTo>
                  <a:lnTo>
                    <a:pt x="42" y="836"/>
                  </a:lnTo>
                  <a:lnTo>
                    <a:pt x="58" y="784"/>
                  </a:lnTo>
                  <a:lnTo>
                    <a:pt x="77" y="733"/>
                  </a:lnTo>
                  <a:lnTo>
                    <a:pt x="98" y="682"/>
                  </a:lnTo>
                  <a:lnTo>
                    <a:pt x="123" y="632"/>
                  </a:lnTo>
                  <a:lnTo>
                    <a:pt x="149" y="586"/>
                  </a:lnTo>
                  <a:lnTo>
                    <a:pt x="179" y="539"/>
                  </a:lnTo>
                  <a:lnTo>
                    <a:pt x="208" y="495"/>
                  </a:lnTo>
                  <a:lnTo>
                    <a:pt x="243" y="453"/>
                  </a:lnTo>
                  <a:lnTo>
                    <a:pt x="277" y="412"/>
                  </a:lnTo>
                  <a:lnTo>
                    <a:pt x="314" y="374"/>
                  </a:lnTo>
                  <a:lnTo>
                    <a:pt x="353" y="337"/>
                  </a:lnTo>
                  <a:lnTo>
                    <a:pt x="395" y="304"/>
                  </a:lnTo>
                  <a:lnTo>
                    <a:pt x="438" y="271"/>
                  </a:lnTo>
                  <a:lnTo>
                    <a:pt x="482" y="242"/>
                  </a:lnTo>
                  <a:lnTo>
                    <a:pt x="332" y="0"/>
                  </a:lnTo>
                  <a:lnTo>
                    <a:pt x="913" y="156"/>
                  </a:lnTo>
                  <a:lnTo>
                    <a:pt x="798" y="748"/>
                  </a:lnTo>
                  <a:lnTo>
                    <a:pt x="648" y="506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1460520" y="3886200"/>
            <a:ext cx="534960" cy="3556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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1905120" y="2782800"/>
            <a:ext cx="623880" cy="881280"/>
            <a:chOff x="1905120" y="2782800"/>
            <a:chExt cx="623880" cy="881280"/>
          </a:xfrm>
        </p:grpSpPr>
        <p:sp>
          <p:nvSpPr>
            <p:cNvPr id="961" name=""/>
            <p:cNvSpPr/>
            <p:nvPr/>
          </p:nvSpPr>
          <p:spPr>
            <a:xfrm>
              <a:off x="1905120" y="2782800"/>
              <a:ext cx="623880" cy="881280"/>
            </a:xfrm>
            <a:custGeom>
              <a:avLst/>
              <a:gdLst/>
              <a:ahLst/>
              <a:rect l="l" t="t" r="r" b="b"/>
              <a:pathLst>
                <a:path w="1739" h="2451">
                  <a:moveTo>
                    <a:pt x="438" y="571"/>
                  </a:moveTo>
                  <a:lnTo>
                    <a:pt x="477" y="562"/>
                  </a:lnTo>
                  <a:lnTo>
                    <a:pt x="518" y="555"/>
                  </a:lnTo>
                  <a:lnTo>
                    <a:pt x="553" y="549"/>
                  </a:lnTo>
                  <a:lnTo>
                    <a:pt x="591" y="545"/>
                  </a:lnTo>
                  <a:lnTo>
                    <a:pt x="633" y="548"/>
                  </a:lnTo>
                  <a:lnTo>
                    <a:pt x="670" y="545"/>
                  </a:lnTo>
                  <a:lnTo>
                    <a:pt x="710" y="548"/>
                  </a:lnTo>
                  <a:lnTo>
                    <a:pt x="750" y="553"/>
                  </a:lnTo>
                  <a:lnTo>
                    <a:pt x="786" y="560"/>
                  </a:lnTo>
                  <a:lnTo>
                    <a:pt x="826" y="572"/>
                  </a:lnTo>
                  <a:lnTo>
                    <a:pt x="867" y="583"/>
                  </a:lnTo>
                  <a:lnTo>
                    <a:pt x="905" y="595"/>
                  </a:lnTo>
                  <a:lnTo>
                    <a:pt x="939" y="609"/>
                  </a:lnTo>
                  <a:lnTo>
                    <a:pt x="977" y="627"/>
                  </a:lnTo>
                  <a:lnTo>
                    <a:pt x="1011" y="644"/>
                  </a:lnTo>
                  <a:lnTo>
                    <a:pt x="1046" y="665"/>
                  </a:lnTo>
                  <a:lnTo>
                    <a:pt x="1079" y="691"/>
                  </a:lnTo>
                  <a:lnTo>
                    <a:pt x="1112" y="713"/>
                  </a:lnTo>
                  <a:lnTo>
                    <a:pt x="1146" y="738"/>
                  </a:lnTo>
                  <a:lnTo>
                    <a:pt x="1175" y="765"/>
                  </a:lnTo>
                  <a:lnTo>
                    <a:pt x="1206" y="796"/>
                  </a:lnTo>
                  <a:lnTo>
                    <a:pt x="1234" y="825"/>
                  </a:lnTo>
                  <a:lnTo>
                    <a:pt x="1259" y="858"/>
                  </a:lnTo>
                  <a:lnTo>
                    <a:pt x="1285" y="890"/>
                  </a:lnTo>
                  <a:lnTo>
                    <a:pt x="1305" y="925"/>
                  </a:lnTo>
                  <a:lnTo>
                    <a:pt x="1326" y="961"/>
                  </a:lnTo>
                  <a:lnTo>
                    <a:pt x="1347" y="998"/>
                  </a:lnTo>
                  <a:lnTo>
                    <a:pt x="1366" y="1037"/>
                  </a:lnTo>
                  <a:lnTo>
                    <a:pt x="1382" y="1073"/>
                  </a:lnTo>
                  <a:lnTo>
                    <a:pt x="1398" y="1113"/>
                  </a:lnTo>
                  <a:lnTo>
                    <a:pt x="1411" y="1153"/>
                  </a:lnTo>
                  <a:lnTo>
                    <a:pt x="1421" y="1192"/>
                  </a:lnTo>
                  <a:lnTo>
                    <a:pt x="1430" y="1234"/>
                  </a:lnTo>
                  <a:lnTo>
                    <a:pt x="1436" y="1274"/>
                  </a:lnTo>
                  <a:lnTo>
                    <a:pt x="1445" y="1317"/>
                  </a:lnTo>
                  <a:lnTo>
                    <a:pt x="1445" y="1357"/>
                  </a:lnTo>
                  <a:lnTo>
                    <a:pt x="1447" y="1400"/>
                  </a:lnTo>
                  <a:lnTo>
                    <a:pt x="1448" y="1441"/>
                  </a:lnTo>
                  <a:lnTo>
                    <a:pt x="1443" y="1485"/>
                  </a:lnTo>
                  <a:lnTo>
                    <a:pt x="1440" y="1523"/>
                  </a:lnTo>
                  <a:lnTo>
                    <a:pt x="1435" y="1564"/>
                  </a:lnTo>
                  <a:lnTo>
                    <a:pt x="1423" y="1604"/>
                  </a:lnTo>
                  <a:lnTo>
                    <a:pt x="1412" y="1644"/>
                  </a:lnTo>
                  <a:lnTo>
                    <a:pt x="1404" y="1686"/>
                  </a:lnTo>
                  <a:lnTo>
                    <a:pt x="1388" y="1721"/>
                  </a:lnTo>
                  <a:lnTo>
                    <a:pt x="1372" y="1759"/>
                  </a:lnTo>
                  <a:lnTo>
                    <a:pt x="1353" y="1795"/>
                  </a:lnTo>
                  <a:lnTo>
                    <a:pt x="1333" y="1830"/>
                  </a:lnTo>
                  <a:lnTo>
                    <a:pt x="1315" y="1867"/>
                  </a:lnTo>
                  <a:lnTo>
                    <a:pt x="1290" y="1898"/>
                  </a:lnTo>
                  <a:lnTo>
                    <a:pt x="1267" y="1931"/>
                  </a:lnTo>
                  <a:lnTo>
                    <a:pt x="1240" y="1960"/>
                  </a:lnTo>
                  <a:lnTo>
                    <a:pt x="1212" y="1987"/>
                  </a:lnTo>
                  <a:lnTo>
                    <a:pt x="1186" y="2018"/>
                  </a:lnTo>
                  <a:lnTo>
                    <a:pt x="1156" y="2041"/>
                  </a:lnTo>
                  <a:lnTo>
                    <a:pt x="1123" y="2065"/>
                  </a:lnTo>
                  <a:lnTo>
                    <a:pt x="1092" y="2090"/>
                  </a:lnTo>
                  <a:lnTo>
                    <a:pt x="1057" y="2107"/>
                  </a:lnTo>
                  <a:lnTo>
                    <a:pt x="1023" y="2127"/>
                  </a:lnTo>
                  <a:lnTo>
                    <a:pt x="989" y="2145"/>
                  </a:lnTo>
                  <a:lnTo>
                    <a:pt x="951" y="2161"/>
                  </a:lnTo>
                  <a:lnTo>
                    <a:pt x="1058" y="2450"/>
                  </a:lnTo>
                  <a:lnTo>
                    <a:pt x="1106" y="2427"/>
                  </a:lnTo>
                  <a:lnTo>
                    <a:pt x="1155" y="2408"/>
                  </a:lnTo>
                  <a:lnTo>
                    <a:pt x="1202" y="2380"/>
                  </a:lnTo>
                  <a:lnTo>
                    <a:pt x="1248" y="2352"/>
                  </a:lnTo>
                  <a:lnTo>
                    <a:pt x="1292" y="2321"/>
                  </a:lnTo>
                  <a:lnTo>
                    <a:pt x="1338" y="2287"/>
                  </a:lnTo>
                  <a:lnTo>
                    <a:pt x="1378" y="2253"/>
                  </a:lnTo>
                  <a:lnTo>
                    <a:pt x="1419" y="2217"/>
                  </a:lnTo>
                  <a:lnTo>
                    <a:pt x="1452" y="2176"/>
                  </a:lnTo>
                  <a:lnTo>
                    <a:pt x="1489" y="2138"/>
                  </a:lnTo>
                  <a:lnTo>
                    <a:pt x="1522" y="2093"/>
                  </a:lnTo>
                  <a:lnTo>
                    <a:pt x="1556" y="2047"/>
                  </a:lnTo>
                  <a:lnTo>
                    <a:pt x="1585" y="2000"/>
                  </a:lnTo>
                  <a:lnTo>
                    <a:pt x="1608" y="1950"/>
                  </a:lnTo>
                  <a:lnTo>
                    <a:pt x="1632" y="1901"/>
                  </a:lnTo>
                  <a:lnTo>
                    <a:pt x="1654" y="1849"/>
                  </a:lnTo>
                  <a:lnTo>
                    <a:pt x="1674" y="1800"/>
                  </a:lnTo>
                  <a:lnTo>
                    <a:pt x="1692" y="1746"/>
                  </a:lnTo>
                  <a:lnTo>
                    <a:pt x="1706" y="1691"/>
                  </a:lnTo>
                  <a:lnTo>
                    <a:pt x="1716" y="1634"/>
                  </a:lnTo>
                  <a:lnTo>
                    <a:pt x="1726" y="1578"/>
                  </a:lnTo>
                  <a:lnTo>
                    <a:pt x="1731" y="1521"/>
                  </a:lnTo>
                  <a:lnTo>
                    <a:pt x="1738" y="1465"/>
                  </a:lnTo>
                  <a:lnTo>
                    <a:pt x="1735" y="1407"/>
                  </a:lnTo>
                  <a:lnTo>
                    <a:pt x="1734" y="1350"/>
                  </a:lnTo>
                  <a:lnTo>
                    <a:pt x="1731" y="1295"/>
                  </a:lnTo>
                  <a:lnTo>
                    <a:pt x="1725" y="1236"/>
                  </a:lnTo>
                  <a:lnTo>
                    <a:pt x="1712" y="1180"/>
                  </a:lnTo>
                  <a:lnTo>
                    <a:pt x="1702" y="1125"/>
                  </a:lnTo>
                  <a:lnTo>
                    <a:pt x="1686" y="1072"/>
                  </a:lnTo>
                  <a:lnTo>
                    <a:pt x="1667" y="1014"/>
                  </a:lnTo>
                  <a:lnTo>
                    <a:pt x="1650" y="960"/>
                  </a:lnTo>
                  <a:lnTo>
                    <a:pt x="1624" y="907"/>
                  </a:lnTo>
                  <a:lnTo>
                    <a:pt x="1602" y="857"/>
                  </a:lnTo>
                  <a:lnTo>
                    <a:pt x="1575" y="805"/>
                  </a:lnTo>
                  <a:lnTo>
                    <a:pt x="1542" y="757"/>
                  </a:lnTo>
                  <a:lnTo>
                    <a:pt x="1510" y="710"/>
                  </a:lnTo>
                  <a:lnTo>
                    <a:pt x="1475" y="663"/>
                  </a:lnTo>
                  <a:lnTo>
                    <a:pt x="1443" y="621"/>
                  </a:lnTo>
                  <a:lnTo>
                    <a:pt x="1402" y="578"/>
                  </a:lnTo>
                  <a:lnTo>
                    <a:pt x="1365" y="538"/>
                  </a:lnTo>
                  <a:lnTo>
                    <a:pt x="1323" y="501"/>
                  </a:lnTo>
                  <a:lnTo>
                    <a:pt x="1277" y="466"/>
                  </a:lnTo>
                  <a:lnTo>
                    <a:pt x="1235" y="431"/>
                  </a:lnTo>
                  <a:lnTo>
                    <a:pt x="1187" y="401"/>
                  </a:lnTo>
                  <a:lnTo>
                    <a:pt x="1139" y="373"/>
                  </a:lnTo>
                  <a:lnTo>
                    <a:pt x="1090" y="347"/>
                  </a:lnTo>
                  <a:lnTo>
                    <a:pt x="1042" y="326"/>
                  </a:lnTo>
                  <a:lnTo>
                    <a:pt x="989" y="303"/>
                  </a:lnTo>
                  <a:lnTo>
                    <a:pt x="937" y="286"/>
                  </a:lnTo>
                  <a:lnTo>
                    <a:pt x="888" y="269"/>
                  </a:lnTo>
                  <a:lnTo>
                    <a:pt x="832" y="258"/>
                  </a:lnTo>
                  <a:lnTo>
                    <a:pt x="779" y="247"/>
                  </a:lnTo>
                  <a:lnTo>
                    <a:pt x="727" y="242"/>
                  </a:lnTo>
                  <a:lnTo>
                    <a:pt x="671" y="237"/>
                  </a:lnTo>
                  <a:lnTo>
                    <a:pt x="621" y="237"/>
                  </a:lnTo>
                  <a:lnTo>
                    <a:pt x="564" y="238"/>
                  </a:lnTo>
                  <a:lnTo>
                    <a:pt x="511" y="242"/>
                  </a:lnTo>
                  <a:lnTo>
                    <a:pt x="458" y="250"/>
                  </a:lnTo>
                  <a:lnTo>
                    <a:pt x="408" y="259"/>
                  </a:lnTo>
                  <a:lnTo>
                    <a:pt x="354" y="273"/>
                  </a:lnTo>
                  <a:lnTo>
                    <a:pt x="278" y="0"/>
                  </a:lnTo>
                  <a:lnTo>
                    <a:pt x="0" y="535"/>
                  </a:lnTo>
                  <a:lnTo>
                    <a:pt x="515" y="846"/>
                  </a:lnTo>
                  <a:lnTo>
                    <a:pt x="438" y="571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2433600" y="3581280"/>
            <a:ext cx="552600" cy="37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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5425920" y="3321000"/>
            <a:ext cx="897120" cy="600120"/>
            <a:chOff x="5425920" y="3321000"/>
            <a:chExt cx="897120" cy="600120"/>
          </a:xfrm>
        </p:grpSpPr>
        <p:sp>
          <p:nvSpPr>
            <p:cNvPr id="964" name=""/>
            <p:cNvSpPr/>
            <p:nvPr/>
          </p:nvSpPr>
          <p:spPr>
            <a:xfrm>
              <a:off x="5425920" y="3321000"/>
              <a:ext cx="897120" cy="600120"/>
            </a:xfrm>
            <a:custGeom>
              <a:avLst/>
              <a:gdLst/>
              <a:ahLst/>
              <a:rect l="l" t="t" r="r" b="b"/>
              <a:pathLst>
                <a:path w="2497" h="1672">
                  <a:moveTo>
                    <a:pt x="583" y="429"/>
                  </a:moveTo>
                  <a:lnTo>
                    <a:pt x="577" y="471"/>
                  </a:lnTo>
                  <a:lnTo>
                    <a:pt x="571" y="507"/>
                  </a:lnTo>
                  <a:lnTo>
                    <a:pt x="568" y="546"/>
                  </a:lnTo>
                  <a:lnTo>
                    <a:pt x="567" y="585"/>
                  </a:lnTo>
                  <a:lnTo>
                    <a:pt x="569" y="624"/>
                  </a:lnTo>
                  <a:lnTo>
                    <a:pt x="572" y="662"/>
                  </a:lnTo>
                  <a:lnTo>
                    <a:pt x="577" y="701"/>
                  </a:lnTo>
                  <a:lnTo>
                    <a:pt x="585" y="740"/>
                  </a:lnTo>
                  <a:lnTo>
                    <a:pt x="598" y="780"/>
                  </a:lnTo>
                  <a:lnTo>
                    <a:pt x="606" y="816"/>
                  </a:lnTo>
                  <a:lnTo>
                    <a:pt x="620" y="854"/>
                  </a:lnTo>
                  <a:lnTo>
                    <a:pt x="638" y="891"/>
                  </a:lnTo>
                  <a:lnTo>
                    <a:pt x="653" y="927"/>
                  </a:lnTo>
                  <a:lnTo>
                    <a:pt x="673" y="962"/>
                  </a:lnTo>
                  <a:lnTo>
                    <a:pt x="694" y="996"/>
                  </a:lnTo>
                  <a:lnTo>
                    <a:pt x="719" y="1031"/>
                  </a:lnTo>
                  <a:lnTo>
                    <a:pt x="741" y="1061"/>
                  </a:lnTo>
                  <a:lnTo>
                    <a:pt x="768" y="1093"/>
                  </a:lnTo>
                  <a:lnTo>
                    <a:pt x="795" y="1122"/>
                  </a:lnTo>
                  <a:lnTo>
                    <a:pt x="824" y="1151"/>
                  </a:lnTo>
                  <a:lnTo>
                    <a:pt x="855" y="1178"/>
                  </a:lnTo>
                  <a:lnTo>
                    <a:pt x="887" y="1204"/>
                  </a:lnTo>
                  <a:lnTo>
                    <a:pt x="922" y="1228"/>
                  </a:lnTo>
                  <a:lnTo>
                    <a:pt x="956" y="1251"/>
                  </a:lnTo>
                  <a:lnTo>
                    <a:pt x="992" y="1271"/>
                  </a:lnTo>
                  <a:lnTo>
                    <a:pt x="1029" y="1293"/>
                  </a:lnTo>
                  <a:lnTo>
                    <a:pt x="1068" y="1308"/>
                  </a:lnTo>
                  <a:lnTo>
                    <a:pt x="1106" y="1324"/>
                  </a:lnTo>
                  <a:lnTo>
                    <a:pt x="1144" y="1339"/>
                  </a:lnTo>
                  <a:lnTo>
                    <a:pt x="1185" y="1351"/>
                  </a:lnTo>
                  <a:lnTo>
                    <a:pt x="1226" y="1361"/>
                  </a:lnTo>
                  <a:lnTo>
                    <a:pt x="1267" y="1369"/>
                  </a:lnTo>
                  <a:lnTo>
                    <a:pt x="1309" y="1376"/>
                  </a:lnTo>
                  <a:lnTo>
                    <a:pt x="1349" y="1380"/>
                  </a:lnTo>
                  <a:lnTo>
                    <a:pt x="1391" y="1383"/>
                  </a:lnTo>
                  <a:lnTo>
                    <a:pt x="1433" y="1383"/>
                  </a:lnTo>
                  <a:lnTo>
                    <a:pt x="1475" y="1382"/>
                  </a:lnTo>
                  <a:lnTo>
                    <a:pt x="1516" y="1379"/>
                  </a:lnTo>
                  <a:lnTo>
                    <a:pt x="1557" y="1372"/>
                  </a:lnTo>
                  <a:lnTo>
                    <a:pt x="1600" y="1366"/>
                  </a:lnTo>
                  <a:lnTo>
                    <a:pt x="1638" y="1359"/>
                  </a:lnTo>
                  <a:lnTo>
                    <a:pt x="1677" y="1349"/>
                  </a:lnTo>
                  <a:lnTo>
                    <a:pt x="1720" y="1334"/>
                  </a:lnTo>
                  <a:lnTo>
                    <a:pt x="1755" y="1318"/>
                  </a:lnTo>
                  <a:lnTo>
                    <a:pt x="1792" y="1301"/>
                  </a:lnTo>
                  <a:lnTo>
                    <a:pt x="1829" y="1283"/>
                  </a:lnTo>
                  <a:lnTo>
                    <a:pt x="1864" y="1263"/>
                  </a:lnTo>
                  <a:lnTo>
                    <a:pt x="1897" y="1245"/>
                  </a:lnTo>
                  <a:lnTo>
                    <a:pt x="1930" y="1218"/>
                  </a:lnTo>
                  <a:lnTo>
                    <a:pt x="1962" y="1192"/>
                  </a:lnTo>
                  <a:lnTo>
                    <a:pt x="1992" y="1166"/>
                  </a:lnTo>
                  <a:lnTo>
                    <a:pt x="2023" y="1139"/>
                  </a:lnTo>
                  <a:lnTo>
                    <a:pt x="2047" y="1110"/>
                  </a:lnTo>
                  <a:lnTo>
                    <a:pt x="2072" y="1084"/>
                  </a:lnTo>
                  <a:lnTo>
                    <a:pt x="2096" y="1048"/>
                  </a:lnTo>
                  <a:lnTo>
                    <a:pt x="2121" y="1016"/>
                  </a:lnTo>
                  <a:lnTo>
                    <a:pt x="2138" y="981"/>
                  </a:lnTo>
                  <a:lnTo>
                    <a:pt x="2156" y="947"/>
                  </a:lnTo>
                  <a:lnTo>
                    <a:pt x="2173" y="911"/>
                  </a:lnTo>
                  <a:lnTo>
                    <a:pt x="2187" y="876"/>
                  </a:lnTo>
                  <a:lnTo>
                    <a:pt x="2201" y="840"/>
                  </a:lnTo>
                  <a:lnTo>
                    <a:pt x="2496" y="924"/>
                  </a:lnTo>
                  <a:lnTo>
                    <a:pt x="2478" y="979"/>
                  </a:lnTo>
                  <a:lnTo>
                    <a:pt x="2459" y="1026"/>
                  </a:lnTo>
                  <a:lnTo>
                    <a:pt x="2439" y="1075"/>
                  </a:lnTo>
                  <a:lnTo>
                    <a:pt x="2416" y="1122"/>
                  </a:lnTo>
                  <a:lnTo>
                    <a:pt x="2385" y="1167"/>
                  </a:lnTo>
                  <a:lnTo>
                    <a:pt x="2354" y="1211"/>
                  </a:lnTo>
                  <a:lnTo>
                    <a:pt x="2322" y="1260"/>
                  </a:lnTo>
                  <a:lnTo>
                    <a:pt x="2287" y="1297"/>
                  </a:lnTo>
                  <a:lnTo>
                    <a:pt x="2251" y="1337"/>
                  </a:lnTo>
                  <a:lnTo>
                    <a:pt x="2212" y="1377"/>
                  </a:lnTo>
                  <a:lnTo>
                    <a:pt x="2171" y="1412"/>
                  </a:lnTo>
                  <a:lnTo>
                    <a:pt x="2128" y="1445"/>
                  </a:lnTo>
                  <a:lnTo>
                    <a:pt x="2083" y="1477"/>
                  </a:lnTo>
                  <a:lnTo>
                    <a:pt x="2035" y="1511"/>
                  </a:lnTo>
                  <a:lnTo>
                    <a:pt x="1991" y="1535"/>
                  </a:lnTo>
                  <a:lnTo>
                    <a:pt x="1937" y="1560"/>
                  </a:lnTo>
                  <a:lnTo>
                    <a:pt x="1886" y="1582"/>
                  </a:lnTo>
                  <a:lnTo>
                    <a:pt x="1834" y="1603"/>
                  </a:lnTo>
                  <a:lnTo>
                    <a:pt x="1781" y="1620"/>
                  </a:lnTo>
                  <a:lnTo>
                    <a:pt x="1727" y="1635"/>
                  </a:lnTo>
                  <a:lnTo>
                    <a:pt x="1671" y="1647"/>
                  </a:lnTo>
                  <a:lnTo>
                    <a:pt x="1616" y="1658"/>
                  </a:lnTo>
                  <a:lnTo>
                    <a:pt x="1559" y="1665"/>
                  </a:lnTo>
                  <a:lnTo>
                    <a:pt x="1503" y="1670"/>
                  </a:lnTo>
                  <a:lnTo>
                    <a:pt x="1445" y="1671"/>
                  </a:lnTo>
                  <a:lnTo>
                    <a:pt x="1388" y="1671"/>
                  </a:lnTo>
                  <a:lnTo>
                    <a:pt x="1332" y="1671"/>
                  </a:lnTo>
                  <a:lnTo>
                    <a:pt x="1274" y="1661"/>
                  </a:lnTo>
                  <a:lnTo>
                    <a:pt x="1217" y="1653"/>
                  </a:lnTo>
                  <a:lnTo>
                    <a:pt x="1161" y="1641"/>
                  </a:lnTo>
                  <a:lnTo>
                    <a:pt x="1105" y="1627"/>
                  </a:lnTo>
                  <a:lnTo>
                    <a:pt x="1051" y="1611"/>
                  </a:lnTo>
                  <a:lnTo>
                    <a:pt x="996" y="1592"/>
                  </a:lnTo>
                  <a:lnTo>
                    <a:pt x="943" y="1571"/>
                  </a:lnTo>
                  <a:lnTo>
                    <a:pt x="891" y="1546"/>
                  </a:lnTo>
                  <a:lnTo>
                    <a:pt x="840" y="1519"/>
                  </a:lnTo>
                  <a:lnTo>
                    <a:pt x="791" y="1490"/>
                  </a:lnTo>
                  <a:lnTo>
                    <a:pt x="744" y="1459"/>
                  </a:lnTo>
                  <a:lnTo>
                    <a:pt x="698" y="1427"/>
                  </a:lnTo>
                  <a:lnTo>
                    <a:pt x="654" y="1391"/>
                  </a:lnTo>
                  <a:lnTo>
                    <a:pt x="611" y="1354"/>
                  </a:lnTo>
                  <a:lnTo>
                    <a:pt x="571" y="1316"/>
                  </a:lnTo>
                  <a:lnTo>
                    <a:pt x="532" y="1274"/>
                  </a:lnTo>
                  <a:lnTo>
                    <a:pt x="496" y="1231"/>
                  </a:lnTo>
                  <a:lnTo>
                    <a:pt x="464" y="1187"/>
                  </a:lnTo>
                  <a:lnTo>
                    <a:pt x="431" y="1142"/>
                  </a:lnTo>
                  <a:lnTo>
                    <a:pt x="402" y="1095"/>
                  </a:lnTo>
                  <a:lnTo>
                    <a:pt x="376" y="1047"/>
                  </a:lnTo>
                  <a:lnTo>
                    <a:pt x="353" y="999"/>
                  </a:lnTo>
                  <a:lnTo>
                    <a:pt x="330" y="947"/>
                  </a:lnTo>
                  <a:lnTo>
                    <a:pt x="311" y="896"/>
                  </a:lnTo>
                  <a:lnTo>
                    <a:pt x="298" y="845"/>
                  </a:lnTo>
                  <a:lnTo>
                    <a:pt x="283" y="791"/>
                  </a:lnTo>
                  <a:lnTo>
                    <a:pt x="271" y="738"/>
                  </a:lnTo>
                  <a:lnTo>
                    <a:pt x="264" y="684"/>
                  </a:lnTo>
                  <a:lnTo>
                    <a:pt x="263" y="632"/>
                  </a:lnTo>
                  <a:lnTo>
                    <a:pt x="260" y="580"/>
                  </a:lnTo>
                  <a:lnTo>
                    <a:pt x="259" y="524"/>
                  </a:lnTo>
                  <a:lnTo>
                    <a:pt x="263" y="471"/>
                  </a:lnTo>
                  <a:lnTo>
                    <a:pt x="269" y="417"/>
                  </a:lnTo>
                  <a:lnTo>
                    <a:pt x="279" y="365"/>
                  </a:lnTo>
                  <a:lnTo>
                    <a:pt x="0" y="308"/>
                  </a:lnTo>
                  <a:lnTo>
                    <a:pt x="516" y="0"/>
                  </a:lnTo>
                  <a:lnTo>
                    <a:pt x="862" y="489"/>
                  </a:lnTo>
                  <a:lnTo>
                    <a:pt x="583" y="429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6176880" y="3911760"/>
            <a:ext cx="542880" cy="355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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5606640" y="2879280"/>
            <a:ext cx="839160" cy="657000"/>
            <a:chOff x="5606640" y="2879280"/>
            <a:chExt cx="839160" cy="657000"/>
          </a:xfrm>
        </p:grpSpPr>
        <p:sp>
          <p:nvSpPr>
            <p:cNvPr id="967" name=""/>
            <p:cNvSpPr/>
            <p:nvPr/>
          </p:nvSpPr>
          <p:spPr>
            <a:xfrm rot="21430200">
              <a:off x="5621040" y="2898720"/>
              <a:ext cx="809640" cy="617760"/>
            </a:xfrm>
            <a:custGeom>
              <a:avLst/>
              <a:gdLst/>
              <a:ahLst/>
              <a:rect l="l" t="t" r="r" b="b"/>
              <a:pathLst>
                <a:path w="2255" h="1718">
                  <a:moveTo>
                    <a:pt x="476" y="590"/>
                  </a:moveTo>
                  <a:lnTo>
                    <a:pt x="499" y="558"/>
                  </a:lnTo>
                  <a:lnTo>
                    <a:pt x="526" y="530"/>
                  </a:lnTo>
                  <a:lnTo>
                    <a:pt x="553" y="504"/>
                  </a:lnTo>
                  <a:lnTo>
                    <a:pt x="582" y="477"/>
                  </a:lnTo>
                  <a:lnTo>
                    <a:pt x="614" y="452"/>
                  </a:lnTo>
                  <a:lnTo>
                    <a:pt x="645" y="429"/>
                  </a:lnTo>
                  <a:lnTo>
                    <a:pt x="678" y="409"/>
                  </a:lnTo>
                  <a:lnTo>
                    <a:pt x="713" y="389"/>
                  </a:lnTo>
                  <a:lnTo>
                    <a:pt x="747" y="372"/>
                  </a:lnTo>
                  <a:lnTo>
                    <a:pt x="784" y="356"/>
                  </a:lnTo>
                  <a:lnTo>
                    <a:pt x="822" y="340"/>
                  </a:lnTo>
                  <a:lnTo>
                    <a:pt x="858" y="328"/>
                  </a:lnTo>
                  <a:lnTo>
                    <a:pt x="896" y="318"/>
                  </a:lnTo>
                  <a:lnTo>
                    <a:pt x="937" y="310"/>
                  </a:lnTo>
                  <a:lnTo>
                    <a:pt x="977" y="303"/>
                  </a:lnTo>
                  <a:lnTo>
                    <a:pt x="1016" y="299"/>
                  </a:lnTo>
                  <a:lnTo>
                    <a:pt x="1057" y="298"/>
                  </a:lnTo>
                  <a:lnTo>
                    <a:pt x="1099" y="298"/>
                  </a:lnTo>
                  <a:lnTo>
                    <a:pt x="1140" y="300"/>
                  </a:lnTo>
                  <a:lnTo>
                    <a:pt x="1180" y="302"/>
                  </a:lnTo>
                  <a:lnTo>
                    <a:pt x="1220" y="309"/>
                  </a:lnTo>
                  <a:lnTo>
                    <a:pt x="1262" y="315"/>
                  </a:lnTo>
                  <a:lnTo>
                    <a:pt x="1301" y="326"/>
                  </a:lnTo>
                  <a:lnTo>
                    <a:pt x="1341" y="336"/>
                  </a:lnTo>
                  <a:lnTo>
                    <a:pt x="1381" y="351"/>
                  </a:lnTo>
                  <a:lnTo>
                    <a:pt x="1420" y="366"/>
                  </a:lnTo>
                  <a:lnTo>
                    <a:pt x="1457" y="383"/>
                  </a:lnTo>
                  <a:lnTo>
                    <a:pt x="1494" y="402"/>
                  </a:lnTo>
                  <a:lnTo>
                    <a:pt x="1529" y="422"/>
                  </a:lnTo>
                  <a:lnTo>
                    <a:pt x="1566" y="446"/>
                  </a:lnTo>
                  <a:lnTo>
                    <a:pt x="1600" y="469"/>
                  </a:lnTo>
                  <a:lnTo>
                    <a:pt x="1633" y="495"/>
                  </a:lnTo>
                  <a:lnTo>
                    <a:pt x="1664" y="522"/>
                  </a:lnTo>
                  <a:lnTo>
                    <a:pt x="1696" y="551"/>
                  </a:lnTo>
                  <a:lnTo>
                    <a:pt x="1725" y="581"/>
                  </a:lnTo>
                  <a:lnTo>
                    <a:pt x="1753" y="612"/>
                  </a:lnTo>
                  <a:lnTo>
                    <a:pt x="1780" y="644"/>
                  </a:lnTo>
                  <a:lnTo>
                    <a:pt x="1802" y="678"/>
                  </a:lnTo>
                  <a:lnTo>
                    <a:pt x="1826" y="713"/>
                  </a:lnTo>
                  <a:lnTo>
                    <a:pt x="1848" y="748"/>
                  </a:lnTo>
                  <a:lnTo>
                    <a:pt x="1867" y="785"/>
                  </a:lnTo>
                  <a:lnTo>
                    <a:pt x="1885" y="822"/>
                  </a:lnTo>
                  <a:lnTo>
                    <a:pt x="1899" y="860"/>
                  </a:lnTo>
                  <a:lnTo>
                    <a:pt x="1914" y="899"/>
                  </a:lnTo>
                  <a:lnTo>
                    <a:pt x="1925" y="937"/>
                  </a:lnTo>
                  <a:lnTo>
                    <a:pt x="1935" y="977"/>
                  </a:lnTo>
                  <a:lnTo>
                    <a:pt x="1943" y="1017"/>
                  </a:lnTo>
                  <a:lnTo>
                    <a:pt x="1948" y="1057"/>
                  </a:lnTo>
                  <a:lnTo>
                    <a:pt x="1951" y="1098"/>
                  </a:lnTo>
                  <a:lnTo>
                    <a:pt x="1953" y="1137"/>
                  </a:lnTo>
                  <a:lnTo>
                    <a:pt x="1953" y="1177"/>
                  </a:lnTo>
                  <a:lnTo>
                    <a:pt x="1950" y="1216"/>
                  </a:lnTo>
                  <a:lnTo>
                    <a:pt x="1945" y="1256"/>
                  </a:lnTo>
                  <a:lnTo>
                    <a:pt x="1937" y="1295"/>
                  </a:lnTo>
                  <a:lnTo>
                    <a:pt x="1929" y="1334"/>
                  </a:lnTo>
                  <a:lnTo>
                    <a:pt x="1920" y="1371"/>
                  </a:lnTo>
                  <a:lnTo>
                    <a:pt x="1906" y="1408"/>
                  </a:lnTo>
                  <a:lnTo>
                    <a:pt x="1892" y="1445"/>
                  </a:lnTo>
                  <a:lnTo>
                    <a:pt x="1877" y="1480"/>
                  </a:lnTo>
                  <a:lnTo>
                    <a:pt x="1859" y="1515"/>
                  </a:lnTo>
                  <a:lnTo>
                    <a:pt x="1838" y="1549"/>
                  </a:lnTo>
                  <a:lnTo>
                    <a:pt x="2097" y="1717"/>
                  </a:lnTo>
                  <a:lnTo>
                    <a:pt x="2124" y="1671"/>
                  </a:lnTo>
                  <a:lnTo>
                    <a:pt x="2152" y="1623"/>
                  </a:lnTo>
                  <a:lnTo>
                    <a:pt x="2173" y="1575"/>
                  </a:lnTo>
                  <a:lnTo>
                    <a:pt x="2193" y="1525"/>
                  </a:lnTo>
                  <a:lnTo>
                    <a:pt x="2209" y="1474"/>
                  </a:lnTo>
                  <a:lnTo>
                    <a:pt x="2225" y="1421"/>
                  </a:lnTo>
                  <a:lnTo>
                    <a:pt x="2234" y="1369"/>
                  </a:lnTo>
                  <a:lnTo>
                    <a:pt x="2245" y="1316"/>
                  </a:lnTo>
                  <a:lnTo>
                    <a:pt x="2251" y="1262"/>
                  </a:lnTo>
                  <a:lnTo>
                    <a:pt x="2254" y="1208"/>
                  </a:lnTo>
                  <a:lnTo>
                    <a:pt x="2254" y="1153"/>
                  </a:lnTo>
                  <a:lnTo>
                    <a:pt x="2251" y="1097"/>
                  </a:lnTo>
                  <a:lnTo>
                    <a:pt x="2246" y="1042"/>
                  </a:lnTo>
                  <a:lnTo>
                    <a:pt x="2239" y="988"/>
                  </a:lnTo>
                  <a:lnTo>
                    <a:pt x="2229" y="934"/>
                  </a:lnTo>
                  <a:lnTo>
                    <a:pt x="2215" y="880"/>
                  </a:lnTo>
                  <a:lnTo>
                    <a:pt x="2200" y="826"/>
                  </a:lnTo>
                  <a:lnTo>
                    <a:pt x="2181" y="773"/>
                  </a:lnTo>
                  <a:lnTo>
                    <a:pt x="2160" y="721"/>
                  </a:lnTo>
                  <a:lnTo>
                    <a:pt x="2134" y="670"/>
                  </a:lnTo>
                  <a:lnTo>
                    <a:pt x="2110" y="619"/>
                  </a:lnTo>
                  <a:lnTo>
                    <a:pt x="2080" y="571"/>
                  </a:lnTo>
                  <a:lnTo>
                    <a:pt x="2048" y="523"/>
                  </a:lnTo>
                  <a:lnTo>
                    <a:pt x="2015" y="478"/>
                  </a:lnTo>
                  <a:lnTo>
                    <a:pt x="1980" y="433"/>
                  </a:lnTo>
                  <a:lnTo>
                    <a:pt x="1942" y="390"/>
                  </a:lnTo>
                  <a:lnTo>
                    <a:pt x="1902" y="348"/>
                  </a:lnTo>
                  <a:lnTo>
                    <a:pt x="1860" y="309"/>
                  </a:lnTo>
                  <a:lnTo>
                    <a:pt x="1815" y="273"/>
                  </a:lnTo>
                  <a:lnTo>
                    <a:pt x="1770" y="238"/>
                  </a:lnTo>
                  <a:lnTo>
                    <a:pt x="1723" y="204"/>
                  </a:lnTo>
                  <a:lnTo>
                    <a:pt x="1675" y="173"/>
                  </a:lnTo>
                  <a:lnTo>
                    <a:pt x="1626" y="145"/>
                  </a:lnTo>
                  <a:lnTo>
                    <a:pt x="1575" y="119"/>
                  </a:lnTo>
                  <a:lnTo>
                    <a:pt x="1523" y="95"/>
                  </a:lnTo>
                  <a:lnTo>
                    <a:pt x="1470" y="74"/>
                  </a:lnTo>
                  <a:lnTo>
                    <a:pt x="1415" y="55"/>
                  </a:lnTo>
                  <a:lnTo>
                    <a:pt x="1362" y="39"/>
                  </a:lnTo>
                  <a:lnTo>
                    <a:pt x="1306" y="26"/>
                  </a:lnTo>
                  <a:lnTo>
                    <a:pt x="1250" y="15"/>
                  </a:lnTo>
                  <a:lnTo>
                    <a:pt x="1194" y="7"/>
                  </a:lnTo>
                  <a:lnTo>
                    <a:pt x="1137" y="3"/>
                  </a:lnTo>
                  <a:lnTo>
                    <a:pt x="1081" y="1"/>
                  </a:lnTo>
                  <a:lnTo>
                    <a:pt x="1027" y="0"/>
                  </a:lnTo>
                  <a:lnTo>
                    <a:pt x="970" y="4"/>
                  </a:lnTo>
                  <a:lnTo>
                    <a:pt x="915" y="9"/>
                  </a:lnTo>
                  <a:lnTo>
                    <a:pt x="860" y="19"/>
                  </a:lnTo>
                  <a:lnTo>
                    <a:pt x="806" y="30"/>
                  </a:lnTo>
                  <a:lnTo>
                    <a:pt x="753" y="44"/>
                  </a:lnTo>
                  <a:lnTo>
                    <a:pt x="701" y="62"/>
                  </a:lnTo>
                  <a:lnTo>
                    <a:pt x="651" y="80"/>
                  </a:lnTo>
                  <a:lnTo>
                    <a:pt x="602" y="102"/>
                  </a:lnTo>
                  <a:lnTo>
                    <a:pt x="552" y="125"/>
                  </a:lnTo>
                  <a:lnTo>
                    <a:pt x="506" y="152"/>
                  </a:lnTo>
                  <a:lnTo>
                    <a:pt x="460" y="181"/>
                  </a:lnTo>
                  <a:lnTo>
                    <a:pt x="416" y="213"/>
                  </a:lnTo>
                  <a:lnTo>
                    <a:pt x="376" y="247"/>
                  </a:lnTo>
                  <a:lnTo>
                    <a:pt x="336" y="282"/>
                  </a:lnTo>
                  <a:lnTo>
                    <a:pt x="297" y="320"/>
                  </a:lnTo>
                  <a:lnTo>
                    <a:pt x="261" y="360"/>
                  </a:lnTo>
                  <a:lnTo>
                    <a:pt x="227" y="402"/>
                  </a:lnTo>
                  <a:lnTo>
                    <a:pt x="0" y="229"/>
                  </a:lnTo>
                  <a:lnTo>
                    <a:pt x="103" y="822"/>
                  </a:lnTo>
                  <a:lnTo>
                    <a:pt x="702" y="762"/>
                  </a:lnTo>
                  <a:lnTo>
                    <a:pt x="476" y="590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6465960" y="2895480"/>
            <a:ext cx="558720" cy="3747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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556160" y="2827440"/>
            <a:ext cx="3060720" cy="1260360"/>
          </a:xfrm>
          <a:prstGeom prst="line">
            <a:avLst/>
          </a:prstGeom>
          <a:ln w="255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392880" y="3583080"/>
            <a:ext cx="1187280" cy="503280"/>
          </a:xfrm>
          <a:prstGeom prst="line">
            <a:avLst/>
          </a:prstGeom>
          <a:ln w="1080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558200" y="366876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ff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405560" y="4083120"/>
            <a:ext cx="874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ff00"/>
                </a:solidFill>
                <a:latin typeface="Times New Roman"/>
              </a:rPr>
              <a:t>Trigg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ff00"/>
                </a:solidFill>
                <a:latin typeface="Times New Roman"/>
              </a:rPr>
              <a:t>parti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234680" y="4827600"/>
            <a:ext cx="1329840" cy="381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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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823440" y="380880"/>
            <a:ext cx="1997640" cy="10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R.P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: rxn S+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: 1.5-4.0 GeV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: 0.5-1.5 GeV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545400" y="3429000"/>
            <a:ext cx="2225520" cy="2805480"/>
            <a:chOff x="545400" y="3429000"/>
            <a:chExt cx="2225520" cy="2805480"/>
          </a:xfrm>
        </p:grpSpPr>
        <p:grpSp>
          <p:nvGrpSpPr>
            <p:cNvPr id="976" name=""/>
            <p:cNvGrpSpPr/>
            <p:nvPr/>
          </p:nvGrpSpPr>
          <p:grpSpPr>
            <a:xfrm>
              <a:off x="545400" y="3429000"/>
              <a:ext cx="2225520" cy="2805480"/>
              <a:chOff x="545400" y="3429000"/>
              <a:chExt cx="2225520" cy="2805480"/>
            </a:xfrm>
          </p:grpSpPr>
          <p:grpSp>
            <p:nvGrpSpPr>
              <p:cNvPr id="977" name=""/>
              <p:cNvGrpSpPr/>
              <p:nvPr/>
            </p:nvGrpSpPr>
            <p:grpSpPr>
              <a:xfrm>
                <a:off x="1894320" y="3429000"/>
                <a:ext cx="696600" cy="1066680"/>
                <a:chOff x="1894320" y="3429000"/>
                <a:chExt cx="696600" cy="106668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2057400" y="3429000"/>
                  <a:ext cx="533520" cy="6094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057400" y="3429000"/>
                  <a:ext cx="76320" cy="1066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flipV="1">
                  <a:off x="1894320" y="3612600"/>
                  <a:ext cx="45648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1" name=""/>
              <p:cNvSpPr/>
              <p:nvPr/>
            </p:nvSpPr>
            <p:spPr>
              <a:xfrm>
                <a:off x="545400" y="5489280"/>
                <a:ext cx="2225520" cy="745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ff9900"/>
                    </a:solidFill>
                    <a:latin typeface="Times New Roman"/>
                  </a:rPr>
                  <a:t>associate particle direction a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ff9900"/>
                    </a:solidFill>
                    <a:latin typeface="Times New Roman"/>
                  </a:rPr>
                  <a:t>same |</a:t>
                </a:r>
                <a:r>
                  <a:rPr b="1" lang="ja-JP" sz="1200" spc="-1" strike="noStrike">
                    <a:solidFill>
                      <a:srgbClr val="ff9900"/>
                    </a:solidFill>
                    <a:latin typeface="Symbol"/>
                    <a:ea typeface="Symbol"/>
                  </a:rPr>
                  <a:t></a:t>
                </a:r>
                <a:r>
                  <a:rPr b="1" lang="ja-JP" sz="1200" spc="-1" strike="noStrike">
                    <a:solidFill>
                      <a:srgbClr val="ff9900"/>
                    </a:solidFill>
                    <a:latin typeface="Times New Roman"/>
                  </a:rPr>
                  <a:t>| w.r.t. trigger particl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ff9900"/>
                    </a:solidFill>
                    <a:latin typeface="Times New Roman"/>
                  </a:rPr>
                  <a:t>but with different arrow leng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2133720" y="4491000"/>
              <a:ext cx="0" cy="9903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2133720" y="4033800"/>
              <a:ext cx="457200" cy="14475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447560" y="1295280"/>
            <a:ext cx="3309120" cy="2203200"/>
            <a:chOff x="1447560" y="1295280"/>
            <a:chExt cx="3309120" cy="2203200"/>
          </a:xfrm>
        </p:grpSpPr>
        <p:grpSp>
          <p:nvGrpSpPr>
            <p:cNvPr id="985" name=""/>
            <p:cNvGrpSpPr/>
            <p:nvPr/>
          </p:nvGrpSpPr>
          <p:grpSpPr>
            <a:xfrm>
              <a:off x="1447560" y="1295280"/>
              <a:ext cx="3309120" cy="2203200"/>
              <a:chOff x="1447560" y="1295280"/>
              <a:chExt cx="3309120" cy="2203200"/>
            </a:xfrm>
          </p:grpSpPr>
          <p:grpSp>
            <p:nvGrpSpPr>
              <p:cNvPr id="986" name=""/>
              <p:cNvGrpSpPr/>
              <p:nvPr/>
            </p:nvGrpSpPr>
            <p:grpSpPr>
              <a:xfrm>
                <a:off x="1447560" y="2431800"/>
                <a:ext cx="935280" cy="1066680"/>
                <a:chOff x="1447560" y="2431800"/>
                <a:chExt cx="935280" cy="106668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1447560" y="2431800"/>
                  <a:ext cx="686160" cy="990720"/>
                  <a:chOff x="1447560" y="2431800"/>
                  <a:chExt cx="686160" cy="99072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 flipH="1" flipV="1">
                    <a:off x="1447560" y="2965320"/>
                    <a:ext cx="609480" cy="457200"/>
                  </a:xfrm>
                  <a:prstGeom prst="line">
                    <a:avLst/>
                  </a:prstGeom>
                  <a:ln w="38160">
                    <a:solidFill>
                      <a:srgbClr val="80008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 flipV="1">
                    <a:off x="2057400" y="2431800"/>
                    <a:ext cx="76320" cy="990720"/>
                  </a:xfrm>
                  <a:prstGeom prst="line">
                    <a:avLst/>
                  </a:prstGeom>
                  <a:ln w="38160">
                    <a:solidFill>
                      <a:srgbClr val="80008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0" name=""/>
                <p:cNvSpPr/>
                <p:nvPr/>
              </p:nvSpPr>
              <p:spPr>
                <a:xfrm flipH="1">
                  <a:off x="1775160" y="3041640"/>
                  <a:ext cx="60732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43717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4371788"/>
                    </a:path>
                  </a:pathLst>
                </a:custGeom>
                <a:noFill/>
                <a:ln w="3816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1" name=""/>
              <p:cNvSpPr/>
              <p:nvPr/>
            </p:nvSpPr>
            <p:spPr>
              <a:xfrm>
                <a:off x="2521800" y="1295280"/>
                <a:ext cx="2234880" cy="745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800080"/>
                    </a:solidFill>
                    <a:latin typeface="Times New Roman"/>
                  </a:rPr>
                  <a:t>associate particle direction a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800080"/>
                    </a:solidFill>
                    <a:latin typeface="Times New Roman"/>
                  </a:rPr>
                  <a:t>same |</a:t>
                </a:r>
                <a:r>
                  <a:rPr b="1" lang="ja-JP" sz="1200" spc="-1" strike="noStrike">
                    <a:solidFill>
                      <a:srgbClr val="800080"/>
                    </a:solidFill>
                    <a:latin typeface="Symbol"/>
                    <a:ea typeface="Symbol"/>
                  </a:rPr>
                  <a:t></a:t>
                </a:r>
                <a:r>
                  <a:rPr b="1" lang="ja-JP" sz="1200" spc="-1" strike="noStrike">
                    <a:solidFill>
                      <a:srgbClr val="800080"/>
                    </a:solidFill>
                    <a:latin typeface="Times New Roman"/>
                  </a:rPr>
                  <a:t>| w.r.t. </a:t>
                </a:r>
                <a:r>
                  <a:rPr b="1" lang="ja-JP" sz="1200" spc="-1" strike="noStrike">
                    <a:solidFill>
                      <a:srgbClr val="ff0000"/>
                    </a:solidFill>
                    <a:latin typeface="Times New Roman"/>
                  </a:rPr>
                  <a:t>red dashed line</a:t>
                </a:r>
                <a:r>
                  <a:rPr b="1" lang="ja-JP" sz="12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800080"/>
                    </a:solidFill>
                    <a:latin typeface="Times New Roman"/>
                  </a:rPr>
                  <a:t>but with different arrow leng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2" name=""/>
            <p:cNvSpPr/>
            <p:nvPr/>
          </p:nvSpPr>
          <p:spPr>
            <a:xfrm flipH="1">
              <a:off x="1523880" y="1752480"/>
              <a:ext cx="990720" cy="129528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2133720" y="1752480"/>
              <a:ext cx="380880" cy="83808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891-5C1F-4D0D-9C94-79C8D976B33D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320" y="2960640"/>
            <a:ext cx="4495680" cy="3287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419720" y="2971800"/>
            <a:ext cx="4537080" cy="3276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275160" y="5369040"/>
            <a:ext cx="19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529000" y="571680"/>
            <a:ext cx="3489480" cy="2021040"/>
            <a:chOff x="2529000" y="571680"/>
            <a:chExt cx="3489480" cy="2021040"/>
          </a:xfrm>
        </p:grpSpPr>
        <p:sp>
          <p:nvSpPr>
            <p:cNvPr id="194" name=""/>
            <p:cNvSpPr/>
            <p:nvPr/>
          </p:nvSpPr>
          <p:spPr>
            <a:xfrm>
              <a:off x="3817080" y="856440"/>
              <a:ext cx="646920" cy="13608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1585400">
              <a:off x="3530160" y="1175400"/>
              <a:ext cx="502560" cy="240120"/>
            </a:xfrm>
            <a:custGeom>
              <a:avLst/>
              <a:gdLst>
                <a:gd name="textAreaLeft" fmla="*/ 62640 w 502560"/>
                <a:gd name="textAreaRight" fmla="*/ 439920 w 502560"/>
                <a:gd name="textAreaTop" fmla="*/ 60120 h 240120"/>
                <a:gd name="textAreaBottom" fmla="*/ 180360 h 24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5558600">
              <a:off x="3878640" y="1085760"/>
              <a:ext cx="560160" cy="180720"/>
            </a:xfrm>
            <a:custGeom>
              <a:avLst/>
              <a:gdLst>
                <a:gd name="textAreaLeft" fmla="*/ 69840 w 560160"/>
                <a:gd name="textAreaRight" fmla="*/ 490320 w 560160"/>
                <a:gd name="textAreaTop" fmla="*/ 45000 h 180720"/>
                <a:gd name="textAreaBottom" fmla="*/ 135720 h 18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589200">
              <a:off x="4212360" y="1576080"/>
              <a:ext cx="502920" cy="241560"/>
            </a:xfrm>
            <a:custGeom>
              <a:avLst/>
              <a:gdLst>
                <a:gd name="textAreaLeft" fmla="*/ 62640 w 502920"/>
                <a:gd name="textAreaRight" fmla="*/ 440280 w 502920"/>
                <a:gd name="textAreaTop" fmla="*/ 60480 h 241560"/>
                <a:gd name="textAreaBottom" fmla="*/ 18144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4521600">
              <a:off x="3843000" y="1846800"/>
              <a:ext cx="560160" cy="180720"/>
            </a:xfrm>
            <a:custGeom>
              <a:avLst/>
              <a:gdLst>
                <a:gd name="textAreaLeft" fmla="*/ 69840 w 560160"/>
                <a:gd name="textAreaRight" fmla="*/ 490320 w 560160"/>
                <a:gd name="textAreaTop" fmla="*/ 45000 h 180720"/>
                <a:gd name="textAreaBottom" fmla="*/ 135720 h 18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 rot="9351000">
              <a:off x="3206520" y="1376640"/>
              <a:ext cx="539640" cy="119520"/>
            </a:xfrm>
            <a:custGeom>
              <a:avLst/>
              <a:gdLst>
                <a:gd name="textAreaLeft" fmla="*/ 84240 w 539640"/>
                <a:gd name="textAreaRight" fmla="*/ 472320 w 539640"/>
                <a:gd name="textAreaTop" fmla="*/ 29880 h 119520"/>
                <a:gd name="textAreaBottom" fmla="*/ 89640 h 1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 rot="5439600">
              <a:off x="3787560" y="2142360"/>
              <a:ext cx="599760" cy="108720"/>
            </a:xfrm>
            <a:custGeom>
              <a:avLst/>
              <a:gdLst>
                <a:gd name="textAreaLeft" fmla="*/ 93600 w 599760"/>
                <a:gd name="textAreaRight" fmla="*/ 524880 w 599760"/>
                <a:gd name="textAreaTop" fmla="*/ 27000 h 108720"/>
                <a:gd name="textAreaBottom" fmla="*/ 81720 h 10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 rot="20870400">
              <a:off x="4463640" y="1536480"/>
              <a:ext cx="539640" cy="120240"/>
            </a:xfrm>
            <a:custGeom>
              <a:avLst/>
              <a:gdLst>
                <a:gd name="textAreaLeft" fmla="*/ 84240 w 539640"/>
                <a:gd name="textAreaRight" fmla="*/ 472320 w 539640"/>
                <a:gd name="textAreaTop" fmla="*/ 29880 h 120240"/>
                <a:gd name="textAreaBottom" fmla="*/ 90360 h 12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16859400">
              <a:off x="3930840" y="822600"/>
              <a:ext cx="599760" cy="107280"/>
            </a:xfrm>
            <a:custGeom>
              <a:avLst/>
              <a:gdLst>
                <a:gd name="textAreaLeft" fmla="*/ 93600 w 599760"/>
                <a:gd name="textAreaRight" fmla="*/ 524880 w 599760"/>
                <a:gd name="textAreaTop" fmla="*/ 26640 h 107280"/>
                <a:gd name="textAreaBottom" fmla="*/ 80640 h 10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21880" y="1028160"/>
              <a:ext cx="159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annihi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compton scatt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29000" y="2133720"/>
              <a:ext cx="135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Bremsstrahl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(energy los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400800" y="837720"/>
            <a:ext cx="2062080" cy="1368360"/>
            <a:chOff x="6400800" y="837720"/>
            <a:chExt cx="2062080" cy="1368360"/>
          </a:xfrm>
        </p:grpSpPr>
        <p:sp>
          <p:nvSpPr>
            <p:cNvPr id="206" name=""/>
            <p:cNvSpPr/>
            <p:nvPr/>
          </p:nvSpPr>
          <p:spPr>
            <a:xfrm>
              <a:off x="6400800" y="1522080"/>
              <a:ext cx="20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7443720" y="83772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7306920" y="1228320"/>
              <a:ext cx="272880" cy="566640"/>
              <a:chOff x="7306920" y="1228320"/>
              <a:chExt cx="272880" cy="566640"/>
            </a:xfrm>
          </p:grpSpPr>
          <p:sp>
            <p:nvSpPr>
              <p:cNvPr id="209" name=""/>
              <p:cNvSpPr/>
              <p:nvPr/>
            </p:nvSpPr>
            <p:spPr>
              <a:xfrm>
                <a:off x="7306920" y="1228680"/>
                <a:ext cx="272160" cy="5648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306920" y="1498680"/>
                <a:ext cx="272880" cy="29628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306920" y="1499760"/>
                <a:ext cx="271800" cy="6300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306920" y="1228320"/>
                <a:ext cx="272160" cy="564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rot="16200000">
              <a:off x="7324920" y="891000"/>
              <a:ext cx="249120" cy="339480"/>
            </a:xfrm>
            <a:custGeom>
              <a:avLst/>
              <a:gdLst>
                <a:gd name="textAreaLeft" fmla="*/ 38880 w 249120"/>
                <a:gd name="textAreaRight" fmla="*/ 209160 w 249120"/>
                <a:gd name="textAreaTop" fmla="*/ 85320 h 339480"/>
                <a:gd name="textAreaBottom" fmla="*/ 254160 h 3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7324560" y="1819800"/>
              <a:ext cx="249120" cy="339480"/>
            </a:xfrm>
            <a:custGeom>
              <a:avLst/>
              <a:gdLst>
                <a:gd name="textAreaLeft" fmla="*/ 38880 w 249120"/>
                <a:gd name="textAreaRight" fmla="*/ 209160 w 249120"/>
                <a:gd name="textAreaTop" fmla="*/ 85320 h 339480"/>
                <a:gd name="textAreaBottom" fmla="*/ 254160 h 3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8596800">
              <a:off x="6861960" y="1647360"/>
              <a:ext cx="356760" cy="330480"/>
            </a:xfrm>
            <a:custGeom>
              <a:avLst/>
              <a:gdLst>
                <a:gd name="textAreaLeft" fmla="*/ 55800 w 356760"/>
                <a:gd name="textAreaRight" fmla="*/ 299880 w 356760"/>
                <a:gd name="textAreaTop" fmla="*/ 83160 h 330480"/>
                <a:gd name="textAreaBottom" fmla="*/ 247320 h 33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0800000">
              <a:off x="6551280" y="1350360"/>
              <a:ext cx="560160" cy="330120"/>
            </a:xfrm>
            <a:custGeom>
              <a:avLst/>
              <a:gdLst>
                <a:gd name="textAreaLeft" fmla="*/ 87480 w 560160"/>
                <a:gd name="textAreaRight" fmla="*/ 470520 w 560160"/>
                <a:gd name="textAreaTop" fmla="*/ 82800 h 330120"/>
                <a:gd name="textAreaBottom" fmla="*/ 24732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3749600">
              <a:off x="6898680" y="988560"/>
              <a:ext cx="349200" cy="339480"/>
            </a:xfrm>
            <a:custGeom>
              <a:avLst/>
              <a:gdLst>
                <a:gd name="textAreaLeft" fmla="*/ 54360 w 349200"/>
                <a:gd name="textAreaRight" fmla="*/ 293400 w 349200"/>
                <a:gd name="textAreaTop" fmla="*/ 85320 h 339480"/>
                <a:gd name="textAreaBottom" fmla="*/ 254160 h 3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495400">
              <a:off x="7657920" y="1667880"/>
              <a:ext cx="358560" cy="330120"/>
            </a:xfrm>
            <a:custGeom>
              <a:avLst/>
              <a:gdLst>
                <a:gd name="textAreaLeft" fmla="*/ 55800 w 358560"/>
                <a:gd name="textAreaRight" fmla="*/ 301320 w 358560"/>
                <a:gd name="textAreaTop" fmla="*/ 82800 h 330120"/>
                <a:gd name="textAreaBottom" fmla="*/ 24732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9687800">
              <a:off x="7657560" y="1034640"/>
              <a:ext cx="358560" cy="328680"/>
            </a:xfrm>
            <a:custGeom>
              <a:avLst/>
              <a:gdLst>
                <a:gd name="textAreaLeft" fmla="*/ 55800 w 358560"/>
                <a:gd name="textAreaRight" fmla="*/ 301320 w 358560"/>
                <a:gd name="textAreaTop" fmla="*/ 82440 h 328680"/>
                <a:gd name="textAreaBottom" fmla="*/ 24624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59440" y="1355400"/>
              <a:ext cx="558360" cy="330120"/>
            </a:xfrm>
            <a:custGeom>
              <a:avLst/>
              <a:gdLst>
                <a:gd name="textAreaLeft" fmla="*/ 87120 w 558360"/>
                <a:gd name="textAreaRight" fmla="*/ 469080 w 558360"/>
                <a:gd name="textAreaTop" fmla="*/ 82800 h 330120"/>
                <a:gd name="textAreaBottom" fmla="*/ 24732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85800" y="713520"/>
            <a:ext cx="1710720" cy="1820160"/>
            <a:chOff x="685800" y="713520"/>
            <a:chExt cx="1710720" cy="1820160"/>
          </a:xfrm>
        </p:grpSpPr>
        <p:pic>
          <p:nvPicPr>
            <p:cNvPr id="222" name="" descr=""/>
            <p:cNvPicPr/>
            <p:nvPr/>
          </p:nvPicPr>
          <p:blipFill>
            <a:blip r:embed="rId3"/>
            <a:stretch/>
          </p:blipFill>
          <p:spPr>
            <a:xfrm rot="19997400">
              <a:off x="1572480" y="863280"/>
              <a:ext cx="7686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4"/>
            <a:stretch/>
          </p:blipFill>
          <p:spPr>
            <a:xfrm rot="1821000">
              <a:off x="804240" y="1859400"/>
              <a:ext cx="768600" cy="51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85800" y="1493280"/>
              <a:ext cx="118440" cy="1569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85760" y="1493280"/>
              <a:ext cx="118440" cy="1569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76920" y="1440000"/>
              <a:ext cx="294480" cy="262080"/>
            </a:xfrm>
            <a:prstGeom prst="irregularSeal1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4240" y="1545120"/>
              <a:ext cx="471600" cy="51840"/>
            </a:xfrm>
            <a:prstGeom prst="rightArrow">
              <a:avLst>
                <a:gd name="adj1" fmla="val 50000"/>
                <a:gd name="adj2" fmla="val 227431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0800000">
              <a:off x="1572480" y="1545120"/>
              <a:ext cx="471240" cy="51840"/>
            </a:xfrm>
            <a:prstGeom prst="rightArrow">
              <a:avLst>
                <a:gd name="adj1" fmla="val 50000"/>
                <a:gd name="adj2" fmla="val 22725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94280" y="1177560"/>
              <a:ext cx="236880" cy="223200"/>
            </a:xfrm>
            <a:custGeom>
              <a:avLst/>
              <a:gdLst/>
              <a:ahLst/>
              <a:rect l="l" t="t" r="r" b="b"/>
              <a:pathLst>
                <a:path w="652" h="599">
                  <a:moveTo>
                    <a:pt x="0" y="599"/>
                  </a:moveTo>
                  <a:lnTo>
                    <a:pt x="9" y="426"/>
                  </a:lnTo>
                  <a:lnTo>
                    <a:pt x="19" y="334"/>
                  </a:lnTo>
                  <a:lnTo>
                    <a:pt x="64" y="234"/>
                  </a:lnTo>
                  <a:lnTo>
                    <a:pt x="165" y="115"/>
                  </a:lnTo>
                  <a:lnTo>
                    <a:pt x="137" y="252"/>
                  </a:lnTo>
                  <a:lnTo>
                    <a:pt x="156" y="343"/>
                  </a:lnTo>
                  <a:lnTo>
                    <a:pt x="229" y="407"/>
                  </a:lnTo>
                  <a:lnTo>
                    <a:pt x="302" y="444"/>
                  </a:lnTo>
                  <a:lnTo>
                    <a:pt x="403" y="426"/>
                  </a:lnTo>
                  <a:lnTo>
                    <a:pt x="485" y="371"/>
                  </a:lnTo>
                  <a:lnTo>
                    <a:pt x="531" y="298"/>
                  </a:lnTo>
                  <a:lnTo>
                    <a:pt x="549" y="215"/>
                  </a:lnTo>
                  <a:lnTo>
                    <a:pt x="494" y="124"/>
                  </a:lnTo>
                  <a:lnTo>
                    <a:pt x="412" y="87"/>
                  </a:lnTo>
                  <a:lnTo>
                    <a:pt x="329" y="78"/>
                  </a:lnTo>
                  <a:lnTo>
                    <a:pt x="229" y="97"/>
                  </a:lnTo>
                  <a:lnTo>
                    <a:pt x="137" y="151"/>
                  </a:lnTo>
                  <a:lnTo>
                    <a:pt x="247" y="60"/>
                  </a:lnTo>
                  <a:lnTo>
                    <a:pt x="384" y="5"/>
                  </a:lnTo>
                  <a:lnTo>
                    <a:pt x="6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1276920" y="1701360"/>
              <a:ext cx="235440" cy="261000"/>
            </a:xfrm>
            <a:custGeom>
              <a:avLst/>
              <a:gdLst/>
              <a:ahLst/>
              <a:rect l="l" t="t" r="r" b="b"/>
              <a:pathLst>
                <a:path w="652" h="599">
                  <a:moveTo>
                    <a:pt x="0" y="599"/>
                  </a:moveTo>
                  <a:lnTo>
                    <a:pt x="9" y="426"/>
                  </a:lnTo>
                  <a:lnTo>
                    <a:pt x="19" y="334"/>
                  </a:lnTo>
                  <a:lnTo>
                    <a:pt x="64" y="234"/>
                  </a:lnTo>
                  <a:lnTo>
                    <a:pt x="165" y="115"/>
                  </a:lnTo>
                  <a:lnTo>
                    <a:pt x="137" y="252"/>
                  </a:lnTo>
                  <a:lnTo>
                    <a:pt x="156" y="343"/>
                  </a:lnTo>
                  <a:lnTo>
                    <a:pt x="229" y="407"/>
                  </a:lnTo>
                  <a:lnTo>
                    <a:pt x="302" y="444"/>
                  </a:lnTo>
                  <a:lnTo>
                    <a:pt x="403" y="426"/>
                  </a:lnTo>
                  <a:lnTo>
                    <a:pt x="485" y="371"/>
                  </a:lnTo>
                  <a:lnTo>
                    <a:pt x="531" y="298"/>
                  </a:lnTo>
                  <a:lnTo>
                    <a:pt x="549" y="215"/>
                  </a:lnTo>
                  <a:lnTo>
                    <a:pt x="494" y="124"/>
                  </a:lnTo>
                  <a:lnTo>
                    <a:pt x="412" y="87"/>
                  </a:lnTo>
                  <a:lnTo>
                    <a:pt x="329" y="78"/>
                  </a:lnTo>
                  <a:lnTo>
                    <a:pt x="229" y="97"/>
                  </a:lnTo>
                  <a:lnTo>
                    <a:pt x="137" y="151"/>
                  </a:lnTo>
                  <a:lnTo>
                    <a:pt x="247" y="60"/>
                  </a:lnTo>
                  <a:lnTo>
                    <a:pt x="384" y="5"/>
                  </a:lnTo>
                  <a:lnTo>
                    <a:pt x="6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56120" y="2362320"/>
            <a:ext cx="1832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明朝B"/>
              </a:rPr>
              <a:t>prompt photon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明朝B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31160" y="2514600"/>
            <a:ext cx="631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明朝B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明朝B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12400" y="2274840"/>
            <a:ext cx="187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明朝B"/>
              </a:rPr>
              <a:t>thermal photon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明朝B"/>
              </a:rPr>
              <a:t> &gt;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0" y="1828800"/>
            <a:ext cx="182880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明朝B"/>
              </a:rPr>
              <a:t>Jet-frag. photon from the survived par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明朝B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明朝B"/>
              </a:rPr>
              <a:t> &gt;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54880" y="158760"/>
            <a:ext cx="49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photon as a probe of bulk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47080" y="2286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M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C84F-D93A-4D11-98A5-2A682EEA0E9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ampt_cor4m" descr=""/>
          <p:cNvPicPr/>
          <p:nvPr/>
        </p:nvPicPr>
        <p:blipFill>
          <a:blip r:embed="rId1"/>
          <a:stretch/>
        </p:blipFill>
        <p:spPr>
          <a:xfrm>
            <a:off x="4648320" y="1579680"/>
            <a:ext cx="4419360" cy="428760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>
            <a:off x="2003040" y="152280"/>
            <a:ext cx="529992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T 200GeV Au+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default option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           melting-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800600" y="2335320"/>
            <a:ext cx="7412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0~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745160" y="3402000"/>
            <a:ext cx="7412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9~1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724280" y="4392720"/>
            <a:ext cx="838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19~3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48320" y="5383080"/>
            <a:ext cx="914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39~10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876920" y="113364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715000" y="113364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ff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3040" y="111924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431120" y="112068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00ff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8229600" y="1120680"/>
            <a:ext cx="7462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5" name="ampt_cor4d" descr=""/>
          <p:cNvPicPr/>
          <p:nvPr/>
        </p:nvPicPr>
        <p:blipFill>
          <a:blip r:embed="rId2"/>
          <a:stretch/>
        </p:blipFill>
        <p:spPr>
          <a:xfrm>
            <a:off x="152280" y="1558800"/>
            <a:ext cx="4419720" cy="428796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>
            <a:off x="380880" y="111276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219320" y="111276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ff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97000" y="109872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935440" y="1100160"/>
            <a:ext cx="5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00ff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733920" y="1100160"/>
            <a:ext cx="745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04920" y="2314440"/>
            <a:ext cx="7412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0~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49120" y="3381480"/>
            <a:ext cx="7416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9~1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28600" y="4371840"/>
            <a:ext cx="8380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19~3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71360" y="5362560"/>
            <a:ext cx="914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39~10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FFE5-169A-4F61-AA32-2B8451380C7A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200400" y="512640"/>
            <a:ext cx="2895480" cy="2190960"/>
          </a:xfrm>
          <a:prstGeom prst="rect">
            <a:avLst/>
          </a:prstGeom>
          <a:ln w="0">
            <a:noFill/>
          </a:ln>
        </p:spPr>
      </p:pic>
      <p:pic>
        <p:nvPicPr>
          <p:cNvPr id="1016" name="sky-bbc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4449600" y="28195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D/Z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7391520" y="1981080"/>
            <a:ext cx="1676160" cy="4496040"/>
            <a:chOff x="7391520" y="1981080"/>
            <a:chExt cx="1676160" cy="4496040"/>
          </a:xfrm>
        </p:grpSpPr>
        <p:pic>
          <p:nvPicPr>
            <p:cNvPr id="1019" name="smd_pict1_frontview" descr=""/>
            <p:cNvPicPr/>
            <p:nvPr/>
          </p:nvPicPr>
          <p:blipFill>
            <a:blip r:embed="rId3"/>
            <a:stretch/>
          </p:blipFill>
          <p:spPr>
            <a:xfrm>
              <a:off x="7391520" y="1981080"/>
              <a:ext cx="167616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0" name=""/>
            <p:cNvSpPr/>
            <p:nvPr/>
          </p:nvSpPr>
          <p:spPr>
            <a:xfrm>
              <a:off x="7913160" y="5256000"/>
              <a:ext cx="115920" cy="11653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029080" y="5256000"/>
              <a:ext cx="115560" cy="11653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145000" y="5256000"/>
              <a:ext cx="115560" cy="11653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260920" y="5256000"/>
              <a:ext cx="115920" cy="11653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376840" y="5256000"/>
              <a:ext cx="115560" cy="11653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492760" y="5256000"/>
              <a:ext cx="115560" cy="11653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608680" y="5256000"/>
              <a:ext cx="115920" cy="11653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7797240" y="5311440"/>
              <a:ext cx="869400" cy="55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7826040" y="5422320"/>
              <a:ext cx="869400" cy="550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7826040" y="5533560"/>
              <a:ext cx="869400" cy="55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7840800" y="5644440"/>
              <a:ext cx="869400" cy="55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7869600" y="5755320"/>
              <a:ext cx="869400" cy="550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7884360" y="5866560"/>
              <a:ext cx="869400" cy="55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7898400" y="5977440"/>
              <a:ext cx="869400" cy="55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7913160" y="6088320"/>
              <a:ext cx="869400" cy="550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7927560" y="6199560"/>
              <a:ext cx="869400" cy="55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2362320" y="3579840"/>
            <a:ext cx="110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325680" y="3427560"/>
            <a:ext cx="16524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219480" y="3274920"/>
            <a:ext cx="38088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524400" y="3276720"/>
            <a:ext cx="30420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9443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944358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448080" y="32749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828960" y="35798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209680" y="3351240"/>
            <a:ext cx="152640" cy="4572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5029200" y="3389400"/>
            <a:ext cx="457200" cy="380880"/>
            <a:chOff x="5029200" y="3389400"/>
            <a:chExt cx="457200" cy="380880"/>
          </a:xfrm>
        </p:grpSpPr>
        <p:sp>
          <p:nvSpPr>
            <p:cNvPr id="1044" name=""/>
            <p:cNvSpPr/>
            <p:nvPr/>
          </p:nvSpPr>
          <p:spPr>
            <a:xfrm>
              <a:off x="5029200" y="338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029200" y="3694320"/>
              <a:ext cx="152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81480" y="3465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029200" y="33894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181480" y="3465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029200" y="3389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181480" y="3770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486400" y="3465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333760" y="338940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3429000" y="388476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127680" y="388620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BC/M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2666520" y="4343400"/>
            <a:ext cx="8384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19920" y="3048120"/>
            <a:ext cx="137160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7162920" y="380520"/>
            <a:ext cx="1904400" cy="1295640"/>
            <a:chOff x="7162920" y="380520"/>
            <a:chExt cx="1904400" cy="1295640"/>
          </a:xfrm>
        </p:grpSpPr>
        <p:sp>
          <p:nvSpPr>
            <p:cNvPr id="1058" name=""/>
            <p:cNvSpPr/>
            <p:nvPr/>
          </p:nvSpPr>
          <p:spPr>
            <a:xfrm rot="10800000">
              <a:off x="7772040" y="380520"/>
              <a:ext cx="1295280" cy="1295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rot="10800000">
              <a:off x="7162920" y="380520"/>
              <a:ext cx="1294920" cy="1295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8534880" y="121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8382240" y="1066320"/>
              <a:ext cx="609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8382240" y="914040"/>
              <a:ext cx="609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8487360" y="799560"/>
              <a:ext cx="4568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8496360" y="647280"/>
              <a:ext cx="39024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8487000" y="552240"/>
              <a:ext cx="28512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8448840" y="504360"/>
              <a:ext cx="151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8334720" y="4284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7696800" y="1485360"/>
              <a:ext cx="218520" cy="190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7592040" y="1390320"/>
              <a:ext cx="21852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7468200" y="1256760"/>
              <a:ext cx="266040" cy="266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7391520" y="1142640"/>
              <a:ext cx="266400" cy="266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7306200" y="894960"/>
              <a:ext cx="38052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7239240" y="533160"/>
              <a:ext cx="60912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7268040" y="466200"/>
              <a:ext cx="38052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10800000">
              <a:off x="7277040" y="91404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611200" y="914400"/>
              <a:ext cx="380520" cy="228600"/>
            </a:xfrm>
            <a:prstGeom prst="rightArrow">
              <a:avLst>
                <a:gd name="adj1" fmla="val 50000"/>
                <a:gd name="adj2" fmla="val 4161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233280" y="1295280"/>
            <a:ext cx="1371600" cy="1066680"/>
            <a:chOff x="233280" y="1295280"/>
            <a:chExt cx="1371600" cy="1066680"/>
          </a:xfrm>
        </p:grpSpPr>
        <p:sp>
          <p:nvSpPr>
            <p:cNvPr id="1078" name=""/>
            <p:cNvSpPr/>
            <p:nvPr/>
          </p:nvSpPr>
          <p:spPr>
            <a:xfrm>
              <a:off x="614160" y="1295280"/>
              <a:ext cx="685800" cy="1066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33280" y="181908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33280" y="1295280"/>
              <a:ext cx="1371600" cy="10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1295280" y="3581280"/>
            <a:ext cx="87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590920" y="2819520"/>
            <a:ext cx="457200" cy="152388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743200" y="3200400"/>
            <a:ext cx="152280" cy="76212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1280" y="236232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icipant elliptic R.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193520" y="76320"/>
            <a:ext cx="18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tator directed R.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146240" y="27432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VD/R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7" name="mpc-pic" descr=""/>
          <p:cNvPicPr/>
          <p:nvPr/>
        </p:nvPicPr>
        <p:blipFill>
          <a:blip r:embed="rId4"/>
          <a:stretch/>
        </p:blipFill>
        <p:spPr>
          <a:xfrm>
            <a:off x="4495680" y="4533840"/>
            <a:ext cx="2667240" cy="200016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4267080" y="4343400"/>
            <a:ext cx="15264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2514600" y="2057040"/>
            <a:ext cx="60948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0200" y="76320"/>
            <a:ext cx="285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HENIX impro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.P.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CD1-EAB2-42E8-A839-92BE2D1B85C2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711360" y="1289160"/>
          <a:ext cx="789912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89160"/>
                    <a:ext cx="789912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3" name=""/>
          <p:cNvSpPr/>
          <p:nvPr/>
        </p:nvSpPr>
        <p:spPr>
          <a:xfrm>
            <a:off x="1528560" y="952560"/>
            <a:ext cx="13496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RXN(S) - RXN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MPC(S) - MPC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(S) - BBC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090680" y="1019160"/>
            <a:ext cx="15433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Times New Roman"/>
              </a:rPr>
              <a:t>RXN(SN) - MPC(S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Times New Roman"/>
              </a:rPr>
              <a:t>RXN(SN) - BBC(S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576480" y="1019160"/>
            <a:ext cx="18007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BBC+MPC+RXN  (S - 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+MPC            (S - 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347200" y="567684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(2000 - BBC charged multiplicity)/100  :  [centrality bi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rot="16200000">
            <a:off x="-48600" y="1845360"/>
            <a:ext cx="1348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cos 2(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37240" y="457200"/>
            <a:ext cx="19638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rpres2_s1" descr=""/>
          <p:cNvPicPr/>
          <p:nvPr/>
        </p:nvPicPr>
        <p:blipFill>
          <a:blip r:embed="rId3"/>
          <a:stretch/>
        </p:blipFill>
        <p:spPr>
          <a:xfrm>
            <a:off x="685800" y="3467160"/>
            <a:ext cx="7924680" cy="2209680"/>
          </a:xfrm>
          <a:prstGeom prst="rect">
            <a:avLst/>
          </a:prstGeom>
          <a:ln w="0">
            <a:noFill/>
          </a:ln>
        </p:spPr>
      </p:pic>
      <p:sp>
        <p:nvSpPr>
          <p:cNvPr id="1100" name=""/>
          <p:cNvSpPr/>
          <p:nvPr/>
        </p:nvSpPr>
        <p:spPr>
          <a:xfrm rot="16200000">
            <a:off x="-48600" y="4055400"/>
            <a:ext cx="1348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cos 4(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19720" y="4457880"/>
            <a:ext cx="1295280" cy="0"/>
          </a:xfrm>
          <a:prstGeom prst="line">
            <a:avLst/>
          </a:prstGeom>
          <a:ln w="93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FE52-BBEA-4DEF-A4C1-CFEBD5C0F6C0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2968200" y="914400"/>
            <a:ext cx="335376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jet quenching,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jet suppression and re-appea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jet modification at low-mid 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head-shoulder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near-side 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cone / def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ystem size, centrality 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rapidity, energy 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h-h,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-h 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 and 3 parti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+1 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r.p. angle 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CAA-F203-47BF-AB50-4F7A0983787E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4113360" cy="31874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797640" y="1069920"/>
            <a:ext cx="110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Inclusive 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-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198108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Decay 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-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(via 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-had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99440" y="3230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Direct 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-h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5360" y="3049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+p collisions at 200 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rcRect l="23627" t="3304" r="50918" b="50059"/>
          <a:stretch/>
        </p:blipFill>
        <p:spPr>
          <a:xfrm>
            <a:off x="152280" y="4343400"/>
            <a:ext cx="1785960" cy="21225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rcRect l="24786" t="52411" r="50809" b="0"/>
          <a:stretch/>
        </p:blipFill>
        <p:spPr>
          <a:xfrm>
            <a:off x="1828800" y="4267080"/>
            <a:ext cx="1712880" cy="21733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5560" y="4114800"/>
            <a:ext cx="12628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65760" y="4114800"/>
            <a:ext cx="12628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495680"/>
            <a:ext cx="1752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asonable agre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between data and Pyth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ythia 6.1, k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= 2.5 G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7800" y="53352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lack: Au+Au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Red: p+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5029200" y="990720"/>
            <a:ext cx="3962520" cy="2455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5029200" y="3505320"/>
            <a:ext cx="3962520" cy="245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D95-247C-4CF5-8B38-0BF1B72E260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429000" y="380880"/>
            <a:ext cx="5560920" cy="60865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57200" y="4213080"/>
            <a:ext cx="2438280" cy="2340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457200" y="0"/>
            <a:ext cx="2438280" cy="2340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457200" y="2133720"/>
            <a:ext cx="2438280" cy="23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462-5800-4068-83B9-6415FA89E38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rcRect l="0" t="56250" r="10182" b="0"/>
          <a:stretch/>
        </p:blipFill>
        <p:spPr>
          <a:xfrm>
            <a:off x="152280" y="1830240"/>
            <a:ext cx="4876920" cy="3600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219320" y="44956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pedestal and flow subtra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444680"/>
            <a:ext cx="441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 &lt;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,tri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lt; 6 GeV/c,  2&lt;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,asso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lt;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,tr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32734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-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7600" y="5178600"/>
            <a:ext cx="25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TAR, PRL 90 (2003) 0823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4038480" cy="362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E12B-93C0-4885-9579-0A20FCB8029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4419720" cy="40384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666880" y="5562720"/>
            <a:ext cx="40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TAR, Phys. Rev. Lett.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97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(2006) 1623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724280" y="1371600"/>
            <a:ext cx="4267440" cy="40384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5638680" y="9907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8 &lt; pT,trig&lt; 15 GeV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8E2D-DA48-4D56-AD4D-CB0240AB721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6320" y="3124080"/>
            <a:ext cx="3657600" cy="32162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809880" y="2819520"/>
            <a:ext cx="5181840" cy="350676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685800" y="76320"/>
            <a:ext cx="3047760" cy="2895120"/>
            <a:chOff x="685800" y="76320"/>
            <a:chExt cx="3047760" cy="2895120"/>
          </a:xfrm>
        </p:grpSpPr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685800" y="76320"/>
              <a:ext cx="3047760" cy="28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424880" y="2186640"/>
              <a:ext cx="1058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66ff33"/>
                  </a:solidFill>
                  <a:latin typeface=""/>
                  <a:ea typeface="ＭＳ ゴシック"/>
                </a:rPr>
                <a:t>PHENIX preliminar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09480" y="29718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hys. Rev. Lett. 97, 052301 (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640480" y="76320"/>
            <a:ext cx="2359800" cy="1599840"/>
            <a:chOff x="5640480" y="76320"/>
            <a:chExt cx="2359800" cy="1599840"/>
          </a:xfrm>
        </p:grpSpPr>
        <p:sp>
          <p:nvSpPr>
            <p:cNvPr id="271" name=""/>
            <p:cNvSpPr/>
            <p:nvPr/>
          </p:nvSpPr>
          <p:spPr>
            <a:xfrm>
              <a:off x="5640480" y="260280"/>
              <a:ext cx="1412280" cy="1415880"/>
            </a:xfrm>
            <a:prstGeom prst="ellipse">
              <a:avLst/>
            </a:prstGeom>
            <a:gradFill rotWithShape="0">
              <a:gsLst>
                <a:gs pos="0">
                  <a:srgbClr val="ff0000">
                    <a:alpha val="75294"/>
                  </a:srgbClr>
                </a:gs>
                <a:gs pos="100000">
                  <a:srgbClr val="ffff66">
                    <a:alpha val="83137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2880600">
              <a:off x="6066000" y="316800"/>
              <a:ext cx="738720" cy="1117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ff66"/>
                </a:gs>
              </a:gsLst>
              <a:lin ang="81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523200" y="568800"/>
              <a:ext cx="23508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229080" y="876240"/>
              <a:ext cx="23436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053400" y="937440"/>
              <a:ext cx="17568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876720" y="76320"/>
              <a:ext cx="410400" cy="36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346800" y="506520"/>
              <a:ext cx="46980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876720" y="199080"/>
              <a:ext cx="117720" cy="183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817320" y="322200"/>
              <a:ext cx="293760" cy="183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18640" y="18432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</a:rPr>
                <a:t>Lea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</a:rPr>
                <a:t>hadr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64200" y="13215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Medi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267080" y="685440"/>
            <a:ext cx="1447920" cy="1829160"/>
            <a:chOff x="4267080" y="685440"/>
            <a:chExt cx="1447920" cy="1829160"/>
          </a:xfrm>
        </p:grpSpPr>
        <p:sp>
          <p:nvSpPr>
            <p:cNvPr id="283" name=""/>
            <p:cNvSpPr/>
            <p:nvPr/>
          </p:nvSpPr>
          <p:spPr>
            <a:xfrm>
              <a:off x="4267080" y="1143000"/>
              <a:ext cx="1447920" cy="13716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029200" y="68544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105160" y="914400"/>
              <a:ext cx="7632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4876560" y="914400"/>
              <a:ext cx="763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40280" y="1447920"/>
              <a:ext cx="241200" cy="533160"/>
            </a:xfrm>
            <a:custGeom>
              <a:avLst/>
              <a:gdLst/>
              <a:ahLst/>
              <a:rect l="l" t="t" r="r" b="b"/>
              <a:pathLst>
                <a:path w="152" h="336">
                  <a:moveTo>
                    <a:pt x="56" y="0"/>
                  </a:moveTo>
                  <a:cubicBezTo>
                    <a:pt x="28" y="36"/>
                    <a:pt x="0" y="72"/>
                    <a:pt x="8" y="96"/>
                  </a:cubicBezTo>
                  <a:cubicBezTo>
                    <a:pt x="16" y="120"/>
                    <a:pt x="88" y="128"/>
                    <a:pt x="104" y="144"/>
                  </a:cubicBezTo>
                  <a:cubicBezTo>
                    <a:pt x="120" y="160"/>
                    <a:pt x="120" y="176"/>
                    <a:pt x="104" y="192"/>
                  </a:cubicBezTo>
                  <a:cubicBezTo>
                    <a:pt x="88" y="208"/>
                    <a:pt x="16" y="224"/>
                    <a:pt x="8" y="240"/>
                  </a:cubicBezTo>
                  <a:cubicBezTo>
                    <a:pt x="0" y="256"/>
                    <a:pt x="32" y="272"/>
                    <a:pt x="56" y="288"/>
                  </a:cubicBezTo>
                  <a:cubicBezTo>
                    <a:pt x="80" y="304"/>
                    <a:pt x="136" y="328"/>
                    <a:pt x="152" y="3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81480" y="1981080"/>
              <a:ext cx="53352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10080" y="22096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33760" y="20574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010280" y="685440"/>
            <a:ext cx="1447920" cy="1829160"/>
            <a:chOff x="7010280" y="685440"/>
            <a:chExt cx="1447920" cy="1829160"/>
          </a:xfrm>
        </p:grpSpPr>
        <p:sp>
          <p:nvSpPr>
            <p:cNvPr id="292" name=""/>
            <p:cNvSpPr/>
            <p:nvPr/>
          </p:nvSpPr>
          <p:spPr>
            <a:xfrm>
              <a:off x="7010280" y="1143000"/>
              <a:ext cx="1447920" cy="13716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7772400" y="68544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7848720" y="914400"/>
              <a:ext cx="7596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7619760" y="914400"/>
              <a:ext cx="7596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24680" y="1981080"/>
              <a:ext cx="53352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153280" y="22096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077320" y="205740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72400" y="14479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84920" y="2057400"/>
              <a:ext cx="152640" cy="15228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08960" y="1828800"/>
              <a:ext cx="304560" cy="31608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88360" y="1523880"/>
              <a:ext cx="544320" cy="53496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7696080" y="1676520"/>
              <a:ext cx="457200" cy="685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Inst. of Physics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B4A-D16F-4881-BC54-3625DEE9A16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-Ion Cafe, 30/Jun/2007, Tokyo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02:30:36Z</dcterms:created>
  <dc:creator>ShinIchi Esumi</dc:creator>
  <dc:description/>
  <dc:language>en-US</dc:language>
  <cp:lastModifiedBy>ShinIchi Esumi</cp:lastModifiedBy>
  <dcterms:modified xsi:type="dcterms:W3CDTF">2007-06-30T01:04:52Z</dcterms:modified>
  <cp:revision>39</cp:revision>
  <dc:subject/>
  <dc:title>PowerPoint プレゼンテーション</dc:title>
</cp:coreProperties>
</file>