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DCB-27D8-4746-9058-DCE06DF0AF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&lt;0.9           (Main T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3.9 &lt;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-2.9  (FTPC E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9 &lt;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3.9    (FTPC W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5 &lt; pT &lt; 2.0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1CB-5C36-4DCA-9947-A076BBE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995-0A35-41DB-8301-DAFFDF65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962-26DB-4A1A-A28E-DD9C0B5B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7E3-E153-4743-ACFE-7DEBEC62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3D1D-7933-451C-9487-D5B405A2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6D5B-A2B6-48CC-8792-2E85D14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1321-5AFF-4CC7-90FF-99DACE2D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472-A236-4D90-8944-DD5ED7F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6AF6-64E7-4EB2-A4A7-C3F4EF32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AB56-44B9-49CA-A818-72A6F56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AAD6-B020-43CD-8E5A-E807C8AA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59E-1D76-47E1-BE00-4F5A5DB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5890-B556-48AF-AB6A-DE47F1F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0D69-785B-4F84-B084-9D64838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34C-C028-4AB3-8CB3-14198F4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3A1-5745-418B-94FB-6E2770A4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9ADD-BEEC-437D-B3B8-0BB1FB4B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A40-0759-4935-95C8-027F38F9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5F3-AEDB-4133-9AFD-5203481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863-540A-4AA2-A9FE-EA0FBCCB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060-27B7-44E5-8EA0-B460DB08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DAA-47F5-4D3D-89F3-4C08DB9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6F8-F397-4B1A-8AFD-370D515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301-0E6A-4BFB-ADB8-B8B0D3AD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Mar/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552720"/>
            <a:ext cx="3581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Times New Roman"/>
              </a:rPr>
              <a:t>H. Masui / Univ. of Tsuk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DF5-386F-432C-BE73-8B99DF7DD4E8}" type="slidenum">
              <a:rPr b="0" lang="ja-JP" sz="28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5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ED76-CC77-4958-A1CA-03AB24F63AC5}" type="slidenum">
              <a:rPr b="0" lang="ja-JP" sz="28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2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990720"/>
            <a:ext cx="8382240" cy="2438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733920"/>
            <a:ext cx="6705360" cy="2209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ヒラギノ角ゴ Pro W3"/>
              </a:rPr>
              <a:t>Anisotropic Fl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ヒラギノ角ゴ Pro W3"/>
              </a:rPr>
              <a:t>@ RHIC</a:t>
            </a:r>
            <a:endParaRPr b="1" lang="en-US" sz="5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iroshi Masui / Univ. of Tsukub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ar/03/2007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eavy Ion Caf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8480" y="6019920"/>
            <a:ext cx="2689200" cy="71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BEE7-32D8-4A1B-93B6-5728096664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rcRect l="4193" t="21016" r="6941" b="33916"/>
          <a:stretch/>
        </p:blipFill>
        <p:spPr>
          <a:xfrm>
            <a:off x="76320" y="961920"/>
            <a:ext cx="4572000" cy="3000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572000" y="1141560"/>
            <a:ext cx="4495680" cy="30495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Validity check (2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oment Central Arm Event plan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me direction to BBC Event pla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ill, sign is unknow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2666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381-095E-45EF-9CC7-1470667E1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495680" cy="3047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rcRect l="4193" t="21016" r="6941" b="33916"/>
          <a:stretch/>
        </p:blipFill>
        <p:spPr>
          <a:xfrm>
            <a:off x="76320" y="961920"/>
            <a:ext cx="4572000" cy="30006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4495680" cy="30495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Validity check (3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1920" y="472392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ja-JP" sz="28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moment BBC and SMD Event pla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Back-to-back direction for both BBC and SM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114800" y="1676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2666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5800" y="24382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666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D16-B2CA-4EA0-8A12-1CB4B1483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4193" t="21016" r="6941" b="33916"/>
          <a:stretch/>
        </p:blipFill>
        <p:spPr>
          <a:xfrm>
            <a:off x="76320" y="961920"/>
            <a:ext cx="4572000" cy="3000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572000" y="1141560"/>
            <a:ext cx="4495680" cy="30495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Validity check (4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BBC(1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) - SMD(1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) corre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Opposite direction to same side SM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Opposite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for BBC and SM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675800" y="24382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2666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BB3-218B-4A48-B8A3-D881BF4A0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rcRect l="4193" t="21016" r="6941" b="33916"/>
          <a:stretch/>
        </p:blipFill>
        <p:spPr>
          <a:xfrm>
            <a:off x="76320" y="961920"/>
            <a:ext cx="4572000" cy="3000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572000" y="1141560"/>
            <a:ext cx="4495680" cy="30495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Validity check (5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BBC(2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) - SMD(1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) corre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Positive correlation 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is in-plane 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1866600" y="224784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666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674-8BC1-498D-B82C-4361A2E568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Large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at RHIC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is in-plane ! Initial geometry origin ?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is expected to be driven by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initial eccentri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pressure (density) grad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Explore the origin of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: Several scaling properties of v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Eccentricity scal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ransverse kinetic energy (KE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 scaling + NCQ (Number of Constituent Quark) scal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F76-05F5-48AB-9696-5C739CC100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9720" t="1952" r="4806" b="12064"/>
          <a:stretch/>
        </p:blipFill>
        <p:spPr>
          <a:xfrm>
            <a:off x="533520" y="4038480"/>
            <a:ext cx="2590560" cy="2517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6320" y="990720"/>
            <a:ext cx="4572000" cy="3070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896000" y="1816200"/>
            <a:ext cx="3790800" cy="2070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4952880" y="509760"/>
            <a:ext cx="2514600" cy="1014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Eccentricit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7240" y="4038480"/>
            <a:ext cx="5334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Estimate eccentricity by Glauber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st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) gives minimum (maximum) eccentri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Since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include auto-correl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rue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lies between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st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F42-FDF1-4093-921F-7A4943563A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1727" t="897" r="1727" b="2538"/>
          <a:stretch/>
        </p:blipFill>
        <p:spPr>
          <a:xfrm>
            <a:off x="76320" y="3554280"/>
            <a:ext cx="4419360" cy="2998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rcRect l="1379" t="0" r="1379" b="0"/>
          <a:stretch/>
        </p:blipFill>
        <p:spPr>
          <a:xfrm>
            <a:off x="4572000" y="3505320"/>
            <a:ext cx="4465800" cy="3112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Eccentricity scaling (1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1640" y="9907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ling of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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in Cu+Cu and Au+Au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Participant eccentricity is relevant geometric quantity for generating elliptic flo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304920" y="944640"/>
            <a:ext cx="3886200" cy="2636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99072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宋体"/>
              </a:rPr>
              <a:t>PRL: </a:t>
            </a:r>
            <a:br>
              <a:rPr sz="900"/>
            </a:br>
            <a:r>
              <a:rPr b="1" lang="en-US" sz="900" spc="-1" strike="noStrike">
                <a:solidFill>
                  <a:srgbClr val="ff0000"/>
                </a:solidFill>
                <a:latin typeface="Arial"/>
                <a:ea typeface="宋体"/>
              </a:rPr>
              <a:t>nucl-ex/0610037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7200" y="2895480"/>
            <a:ext cx="155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Arial"/>
                <a:ea typeface="宋体"/>
              </a:rPr>
              <a:t>PRC C72, 051901R (2005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45280" y="5486400"/>
            <a:ext cx="22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PHOBOS Collaboration</a:t>
            </a:r>
            <a:br>
              <a:rPr sz="1200"/>
            </a:b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PRL: nucl-ex/0610037</a:t>
            </a:r>
            <a:r>
              <a:rPr b="0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69840" y="441972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pperplate31ab"/>
                <a:ea typeface="宋体"/>
              </a:rPr>
              <a:t>Cu+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pperplate31ab"/>
                <a:ea typeface="宋体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67000" y="4952880"/>
            <a:ext cx="819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0d81"/>
                </a:solidFill>
                <a:latin typeface="Copperplate31ab"/>
                <a:ea typeface="宋体"/>
              </a:rPr>
              <a:t>  </a:t>
            </a: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Au+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6000" y="6041880"/>
            <a:ext cx="9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87720" y="4632480"/>
            <a:ext cx="200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atistical error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7560" y="3581280"/>
            <a:ext cx="13665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2360" y="3581280"/>
            <a:ext cx="1585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1B6-5BBB-4D5A-98FF-E508C2E17F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168560"/>
            <a:ext cx="4495680" cy="38606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Eccentricity scaling (2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{ZDC} scales </a:t>
            </a:r>
            <a:r>
              <a:rPr b="0" lang="ja-JP" sz="32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 baseline="-25000">
                <a:solidFill>
                  <a:srgbClr val="333399"/>
                </a:solidFill>
                <a:latin typeface="Arial"/>
              </a:rPr>
              <a:t>st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Insensitive the fluctuations in the participant eccentric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Linear increase of v</a:t>
            </a:r>
            <a:r>
              <a:rPr b="0" lang="ja-JP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from SPS to RH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Incomplete thermalization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aturation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08240" y="124920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3886200"/>
            <a:ext cx="9144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09480" y="5029200"/>
            <a:ext cx="3556080" cy="11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AAC-7E0E-46EC-82E8-6C909195DD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741840" cy="56898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Eccentricity scaling (3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343400" y="9907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PHENIX uses integrated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s the estimate of eccentri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Assume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= k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, k = 3.1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0.2 from Glauber mod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Cancel systematic error from event pla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scales with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nd the scaled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values are independent of the system siz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Centrality independent shape of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)/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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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does not change so muc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5280" y="56386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-ex/0608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ED4-AD8D-417A-9BC4-737AB1337D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0" t="0" r="5999" b="0"/>
          <a:stretch/>
        </p:blipFill>
        <p:spPr>
          <a:xfrm>
            <a:off x="5486400" y="1123920"/>
            <a:ext cx="3657600" cy="2792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2901" t="0" r="4347" b="0"/>
          <a:stretch/>
        </p:blipFill>
        <p:spPr>
          <a:xfrm>
            <a:off x="0" y="838080"/>
            <a:ext cx="5410080" cy="4218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KE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 scaling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49528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ressure gradient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Collective kinetic energ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Radial flow with common velocity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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~ 0.5c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5200" indent="-25956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Gain more energy for heavier particles </a:t>
            </a:r>
            <a:r>
              <a:rPr b="0" lang="ja-JP" sz="16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 mass ordering of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scaling holds up to 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~ 1 GeV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Clear meson and baryon splitting at intermediate p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97840" y="17827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-ex/0608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73040" y="297180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C69, 034909 (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400800" y="685800"/>
            <a:ext cx="2540160" cy="5270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114800" y="2895480"/>
            <a:ext cx="1219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2209680"/>
            <a:ext cx="1219320" cy="0"/>
          </a:xfrm>
          <a:prstGeom prst="line">
            <a:avLst/>
          </a:prstGeom>
          <a:ln w="158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44120" y="29718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4120" y="16765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ar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702400" y="4064040"/>
            <a:ext cx="2603520" cy="43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6CF-8A3A-426E-BB56-F343D6B0FD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Anisotropic Flow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1640" y="990720"/>
            <a:ext cx="4419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Azimuthally anisotropic emission of particles with respect to the reaction pla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Why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The probe for early tim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Initial spatial anisotropy (eccentricity,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Low 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6208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Re-scattering (pressure gradient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Intermediate 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6208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Quark coalescence/recombin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High 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6208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Jet quenchin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203840" y="4175280"/>
            <a:ext cx="2113200" cy="2266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78680" y="1370160"/>
            <a:ext cx="2113200" cy="22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6240" y="1114560"/>
            <a:ext cx="3900960" cy="2548080"/>
            <a:chOff x="426240" y="1114560"/>
            <a:chExt cx="3900960" cy="2548080"/>
          </a:xfrm>
        </p:grpSpPr>
        <p:sp>
          <p:nvSpPr>
            <p:cNvPr id="99" name=""/>
            <p:cNvSpPr/>
            <p:nvPr/>
          </p:nvSpPr>
          <p:spPr>
            <a:xfrm rot="11343000">
              <a:off x="3445920" y="121464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21840" y="133092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56640" y="138168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93960" y="152172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1120" y="257940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3000">
              <a:off x="561600" y="138744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6240" y="271080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677240" y="143280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1343000">
              <a:off x="1598040" y="242964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79880" y="242532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645640" y="1262160"/>
              <a:ext cx="1289520" cy="1285200"/>
              <a:chOff x="2645640" y="1262160"/>
              <a:chExt cx="1289520" cy="1285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45640" y="1262160"/>
                <a:ext cx="1289520" cy="1285200"/>
                <a:chOff x="2645640" y="1262160"/>
                <a:chExt cx="1289520" cy="1285200"/>
              </a:xfrm>
            </p:grpSpPr>
            <p:sp>
              <p:nvSpPr>
                <p:cNvPr id="111" name=""/>
                <p:cNvSpPr/>
                <p:nvPr/>
              </p:nvSpPr>
              <p:spPr>
                <a:xfrm rot="543000">
                  <a:off x="2754000" y="134280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543000">
                  <a:off x="2754360" y="134172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3000">
                  <a:off x="2691000" y="178740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543000">
                  <a:off x="2743560" y="181728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 rot="543000">
                <a:off x="2752560" y="143064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086920" y="132876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91120" y="160092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2880" y="170964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601720" y="183888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6120" y="190152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383120" y="147744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7920" y="209196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961280" y="1783440"/>
              <a:ext cx="714960" cy="1180440"/>
              <a:chOff x="1961280" y="1783440"/>
              <a:chExt cx="714960" cy="1180440"/>
            </a:xfrm>
          </p:grpSpPr>
          <p:sp>
            <p:nvSpPr>
              <p:cNvPr id="124" name=""/>
              <p:cNvSpPr/>
              <p:nvPr/>
            </p:nvSpPr>
            <p:spPr>
              <a:xfrm rot="543000">
                <a:off x="2044800" y="182052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3000">
                <a:off x="2003040" y="234432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3000">
                <a:off x="2038320" y="235008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543000">
                <a:off x="2044800" y="181944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2352600" y="207324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035440" y="209664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99760" y="247500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97040" y="245916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49400" y="242388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5840" y="235512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85080" y="2142000"/>
              <a:ext cx="1280160" cy="1287360"/>
              <a:chOff x="685080" y="2142000"/>
              <a:chExt cx="1280160" cy="1287360"/>
            </a:xfrm>
          </p:grpSpPr>
          <p:sp>
            <p:nvSpPr>
              <p:cNvPr id="135" name=""/>
              <p:cNvSpPr/>
              <p:nvPr/>
            </p:nvSpPr>
            <p:spPr>
              <a:xfrm rot="543000">
                <a:off x="783720" y="222300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543000">
                <a:off x="781200" y="222156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43000">
                <a:off x="730080" y="267660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 rot="11343000">
                <a:off x="1600560" y="242136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3000">
                <a:off x="1575000" y="239940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3000">
                <a:off x="766800" y="276840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flipH="1">
              <a:off x="1688400" y="219708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69320" y="258048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3000">
              <a:off x="1490760" y="309744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18200" y="278928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76640" y="261432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69920" y="298800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55280" y="289080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0880" y="309852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3000">
              <a:off x="806040" y="295596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678320" y="1967040"/>
              <a:ext cx="1308240" cy="475920"/>
              <a:chOff x="1678320" y="1967040"/>
              <a:chExt cx="1308240" cy="4759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2406960" y="211212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51320" y="208260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625840" y="230112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13960" y="240696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861200" y="196704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730160" y="212040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1678320" y="228816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980720" y="227844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2029320" y="214236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2244600" y="209844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480760" y="222912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55200" y="233712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183040" y="225360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652040" y="2469240"/>
              <a:ext cx="1278000" cy="465120"/>
              <a:chOff x="1652040" y="2469240"/>
              <a:chExt cx="1278000" cy="46512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2096280" y="264204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826640" y="267696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652040" y="256428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1750680" y="246924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39360" y="274356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32600" y="263700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12520" y="255312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3360" y="256140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86800" y="266472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04000" y="270072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981080" y="264492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1924200" y="253908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04000" y="258516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51240" y="285408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3240" y="202500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852000" y="163080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18639000">
            <a:off x="2898720" y="23443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69320" y="1188360"/>
            <a:ext cx="490320" cy="52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56080" y="3438000"/>
            <a:ext cx="642600" cy="9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5000" y="347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3800" y="1090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74440" y="2923200"/>
            <a:ext cx="252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2160" y="2900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2000" y="3762360"/>
            <a:ext cx="485640" cy="647640"/>
          </a:xfrm>
          <a:prstGeom prst="downArrow">
            <a:avLst>
              <a:gd name="adj1" fmla="val 39213"/>
              <a:gd name="adj2" fmla="val 408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5200" y="512280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39751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280" y="39718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" y="3928680"/>
            <a:ext cx="3901320" cy="2748240"/>
            <a:chOff x="365760" y="3928680"/>
            <a:chExt cx="3901320" cy="2748240"/>
          </a:xfrm>
        </p:grpSpPr>
        <p:sp>
          <p:nvSpPr>
            <p:cNvPr id="193" name=""/>
            <p:cNvSpPr/>
            <p:nvPr/>
          </p:nvSpPr>
          <p:spPr>
            <a:xfrm>
              <a:off x="1297080" y="510624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664720" y="468396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82120" y="4596840"/>
              <a:ext cx="122796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045520" y="454428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75440" y="486936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39240" y="548712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974240" y="5110920"/>
              <a:ext cx="115812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161360" y="4344120"/>
              <a:ext cx="84852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96160" y="4395240"/>
              <a:ext cx="832320" cy="89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3840" y="4534920"/>
              <a:ext cx="225720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3000">
              <a:off x="501480" y="440172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65760" y="572436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616040" y="4446000"/>
              <a:ext cx="103176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18320" y="5439240"/>
              <a:ext cx="75996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26800" y="434196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9920" y="4613760"/>
              <a:ext cx="66780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51320" y="472356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540520" y="4851360"/>
              <a:ext cx="44604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74920" y="491544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321200" y="449100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91760" y="508716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887840" y="543780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75000" y="536796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27560" y="5209920"/>
              <a:ext cx="30852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7760" y="559368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3000">
              <a:off x="936720" y="6068520"/>
              <a:ext cx="192240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7360" y="580284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08360" y="6001560"/>
              <a:ext cx="19152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91560" y="5901120"/>
              <a:ext cx="22932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9320" y="6111720"/>
              <a:ext cx="221040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9680" y="5866560"/>
              <a:ext cx="36720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400" y="503856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790440" y="4643640"/>
              <a:ext cx="14004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71800">
              <a:off x="1395000" y="4768200"/>
              <a:ext cx="194472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36200" y="547200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720" y="567756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1371800">
              <a:off x="1045800" y="4153320"/>
              <a:ext cx="281700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06520" y="5055840"/>
              <a:ext cx="192420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508760" y="5354280"/>
              <a:ext cx="642240" cy="69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045080" y="5274360"/>
              <a:ext cx="83088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8360" y="5163120"/>
              <a:ext cx="87120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94880" y="540864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055240" y="543384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38560" y="5488920"/>
              <a:ext cx="103968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18160" y="529452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81600" y="5104800"/>
              <a:ext cx="31968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7600" y="5410080"/>
              <a:ext cx="35532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323440" y="5407560"/>
              <a:ext cx="89604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0280" y="559296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828160" y="4857120"/>
              <a:ext cx="820800" cy="491040"/>
              <a:chOff x="2828160" y="4857120"/>
              <a:chExt cx="820800" cy="49104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2828160" y="494640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3048120" y="485712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163680" y="510048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6720" y="531324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917800" y="508860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520" y="525312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175760" y="4669920"/>
              <a:ext cx="932760" cy="403920"/>
              <a:chOff x="1175760" y="4669920"/>
              <a:chExt cx="932760" cy="403920"/>
            </a:xfrm>
          </p:grpSpPr>
          <p:sp>
            <p:nvSpPr>
              <p:cNvPr id="250" name=""/>
              <p:cNvSpPr/>
              <p:nvPr/>
            </p:nvSpPr>
            <p:spPr>
              <a:xfrm flipH="1" flipV="1">
                <a:off x="1474560" y="4669920"/>
                <a:ext cx="30924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1255320" y="4797720"/>
                <a:ext cx="34560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175760" y="4957200"/>
                <a:ext cx="31896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592280" y="5014080"/>
                <a:ext cx="22536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1826640" y="4750920"/>
                <a:ext cx="19260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2045880" y="4672440"/>
                <a:ext cx="6264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824840" y="4932720"/>
                <a:ext cx="12240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252080" y="5191920"/>
              <a:ext cx="484560" cy="432000"/>
              <a:chOff x="1252080" y="5191920"/>
              <a:chExt cx="484560" cy="43200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1629720" y="548820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424160" y="542628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277640" y="535104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1252080" y="519192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1570320" y="537372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425600" y="526140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696760" y="5521680"/>
              <a:ext cx="784440" cy="351720"/>
              <a:chOff x="2696760" y="5521680"/>
              <a:chExt cx="784440" cy="351720"/>
            </a:xfrm>
          </p:grpSpPr>
          <p:sp>
            <p:nvSpPr>
              <p:cNvPr id="265" name=""/>
              <p:cNvSpPr/>
              <p:nvPr/>
            </p:nvSpPr>
            <p:spPr>
              <a:xfrm>
                <a:off x="2802240" y="568260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85480" y="560700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64040" y="553788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94040" y="552168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80280" y="561924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96760" y="570204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68760" y="555372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3230280" y="5425200"/>
            <a:ext cx="897840" cy="122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81040" y="4188960"/>
            <a:ext cx="3600" cy="70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952000" y="4039560"/>
            <a:ext cx="490320" cy="52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3352680"/>
            <a:ext cx="4114800" cy="1600200"/>
          </a:xfrm>
          <a:prstGeom prst="roundRect">
            <a:avLst>
              <a:gd name="adj" fmla="val 16667"/>
            </a:avLst>
          </a:prstGeom>
          <a:solidFill>
            <a:srgbClr val="ff0000">
              <a:alpha val="1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100-A46D-4244-9781-BB58197DE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572000" cy="2187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entrality dependence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1640" y="350496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scaling holds for measured centrality range up to KE</a:t>
            </a:r>
            <a:r>
              <a:rPr b="0" lang="ja-JP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~ 1 GeV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entrality dependence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0" t="6997" r="0" b="0"/>
          <a:stretch/>
        </p:blipFill>
        <p:spPr>
          <a:xfrm>
            <a:off x="0" y="3376440"/>
            <a:ext cx="4572000" cy="2033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rcRect l="0" t="6997" r="0" b="0"/>
          <a:stretch/>
        </p:blipFill>
        <p:spPr>
          <a:xfrm>
            <a:off x="4572000" y="1143000"/>
            <a:ext cx="4572000" cy="20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1BF-B155-4AED-9D3C-3C5FC0DB9B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952880" y="988920"/>
            <a:ext cx="3936960" cy="9921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CQ scaling of v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NCQ scaling indicate the collective flow evolves in quark level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Number of Constituent Quark scaling by quark coalescence / recombination mod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Exponential p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 spectra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Narrow momentum spread (</a:t>
            </a:r>
            <a:r>
              <a:rPr b="0" lang="ja-JP" sz="16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-function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Common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 for light quarks (u, d, s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71360" y="914400"/>
            <a:ext cx="4552920" cy="2178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rcRect l="0" t="6997" r="0" b="0"/>
          <a:stretch/>
        </p:blipFill>
        <p:spPr>
          <a:xfrm>
            <a:off x="171360" y="2784600"/>
            <a:ext cx="4552920" cy="2025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rcRect l="0" t="6997" r="0" b="0"/>
          <a:stretch/>
        </p:blipFill>
        <p:spPr>
          <a:xfrm>
            <a:off x="171360" y="4495680"/>
            <a:ext cx="4552920" cy="2025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027760" y="6172200"/>
            <a:ext cx="272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R. J. Fries, et., al, Phys. Rev. C68, 044902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V. Greco, et., al, Phys. Rev. C68, 034904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86B-745C-4E2D-893B-C8BE89725E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rcRect l="0" t="11678" r="0" b="9492"/>
          <a:stretch/>
        </p:blipFill>
        <p:spPr>
          <a:xfrm>
            <a:off x="76320" y="3786120"/>
            <a:ext cx="5181480" cy="2691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76320" y="762120"/>
            <a:ext cx="5333760" cy="2841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913320" y="29257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06,  A. Taranen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41148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QM06,  N. X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meson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4120" y="121896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meson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Important test at intermediate 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~ m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Mass (radial flow) effect, or constituent quark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les like a mes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s-quark flow, not mass effe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Smaller radial flow velocity also support the partonic flow at pre-hadronic stage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819520" y="4267080"/>
            <a:ext cx="914400" cy="1447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352680" y="4571640"/>
            <a:ext cx="175284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22C-4AA9-4589-AD33-8A456AB508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534200" cy="4800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48040" cy="3429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Universal scaling of v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800600" y="45720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ubstantial elliptic flow signals are observed for a variety of particles species at RHI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0720" y="9907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06,  A. Taranen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E50-601E-4485-94B3-0A062AF47A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52280" y="990720"/>
            <a:ext cx="883944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Universal scaling of v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 mid-rapid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52280" y="1185840"/>
            <a:ext cx="4038840" cy="3614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496040" cy="39621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200400" y="5052960"/>
            <a:ext cx="502920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684720" y="106668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06,  A. Taranen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2C-3162-43A8-91AF-C5000ECE33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ccentricity scal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RHIC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is driven by eccentricit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In-plane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, and eccentricity scalin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articipant eccentricity is relevant geometric quantity for generating elliptic flow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scal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scaling of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holds up to KE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~ 1 GeV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Consistent with the flowing matter with common velocit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At intermediate p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, NCQ scaling holds a variety of particles spec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</a:rPr>
              <a:t>Indication of light quark (u, d, s) collectivity at pre-hadronic stag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Universal scaling of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(Eccentricity + KET + NCQ) works for a variety of particle species and for a side range of central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Need to investigate the validity range of scalin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449-E7F7-4BBD-9723-6AF63B0342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333399"/>
                </a:solidFill>
                <a:latin typeface="Arial Black"/>
              </a:rPr>
              <a:t>Back up</a:t>
            </a:r>
            <a:endParaRPr b="0" lang="en-US" sz="7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60C-94BB-408A-8BA2-37E4C91174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487760" cy="30430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4495680" cy="30495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BBC - SMD EP correlation</a:t>
            </a:r>
            <a:endParaRPr b="0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Positive correlation, v</a:t>
            </a:r>
            <a:r>
              <a:rPr b="0" lang="ja-JP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&gt; 0 at BB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Expected </a:t>
            </a:r>
            <a:r>
              <a:rPr b="0" lang="ja-JP" sz="3200" spc="-1" strike="noStrike">
                <a:solidFill>
                  <a:srgbClr val="333399"/>
                </a:solidFill>
                <a:latin typeface="Symbol"/>
                <a:ea typeface="Symbol"/>
              </a:rPr>
              <a:t>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cos(2</a:t>
            </a:r>
            <a:r>
              <a:rPr b="0" lang="ja-JP" sz="3200" spc="-1" strike="noStrike">
                <a:solidFill>
                  <a:srgbClr val="333399"/>
                </a:solidFill>
                <a:latin typeface="Symbol"/>
                <a:ea typeface="Symbol"/>
              </a:rPr>
              <a:t>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333399"/>
                </a:solidFill>
                <a:latin typeface="Symbol"/>
                <a:ea typeface="Symbol"/>
              </a:rPr>
              <a:t>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is given b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228600" y="5638680"/>
            <a:ext cx="8686800" cy="5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CB4-7039-453C-810D-93B1454B8C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6320" y="1371600"/>
            <a:ext cx="89913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</a:rPr>
              <a:t>Differential v</a:t>
            </a:r>
            <a:r>
              <a:rPr b="0" lang="ja-JP" sz="40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</a:rPr>
              <a:t>, v</a:t>
            </a:r>
            <a:r>
              <a:rPr b="0" lang="ja-JP" sz="40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</a:rPr>
              <a:t>(p</a:t>
            </a:r>
            <a:r>
              <a:rPr b="0" lang="ja-JP" sz="40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</a:rPr>
              <a:t>) :</a:t>
            </a:r>
            <a:br>
              <a:rPr sz="4000"/>
            </a:br>
            <a:r>
              <a:rPr b="0" lang="ja-JP" sz="4000" spc="-1" strike="noStrike">
                <a:solidFill>
                  <a:srgbClr val="333399"/>
                </a:solidFill>
                <a:latin typeface="Arial Black"/>
              </a:rPr>
              <a:t>PHENIX vs STAR (Au+Au)</a:t>
            </a:r>
            <a:endParaRPr b="0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Non-flow effects are under contr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{4}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{BBC} ~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{FTPC} &lt;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{2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Similar acceptance : BBC, FTP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6320" y="1450800"/>
            <a:ext cx="5181480" cy="35132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800600" y="1644480"/>
            <a:ext cx="4243320" cy="34862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7008840" y="160020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1680" y="137160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TAR : Phys. Rev. Lett. 93, 252301 (200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HENIX : 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AF4-D801-4D24-9021-A36D872EDD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6320" y="990720"/>
            <a:ext cx="89913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2666880" cy="25862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590920" y="1066680"/>
            <a:ext cx="6476760" cy="41515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Arial Black"/>
              </a:rPr>
              <a:t>v</a:t>
            </a:r>
            <a:r>
              <a:rPr b="0" lang="ja-JP" sz="4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Arial Black"/>
              </a:rPr>
              <a:t>(p</a:t>
            </a:r>
            <a:r>
              <a:rPr b="0" lang="ja-JP" sz="4400" spc="-1" strike="noStrike" baseline="-25000">
                <a:solidFill>
                  <a:srgbClr val="333399"/>
                </a:solidFill>
                <a:latin typeface="Arial Black"/>
              </a:rPr>
              <a:t>T</a:t>
            </a:r>
            <a:r>
              <a:rPr b="0" lang="ja-JP" sz="4400" spc="-1" strike="noStrike">
                <a:solidFill>
                  <a:srgbClr val="333399"/>
                </a:solidFill>
                <a:latin typeface="Arial Black"/>
              </a:rPr>
              <a:t>) in Cu+Cu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Larger non-flow effects in smaller syste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Dominant non-flow is ~ </a:t>
            </a:r>
            <a:r>
              <a:rPr b="0" i="1" lang="ja-JP" sz="2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(1/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6680" y="16002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94480" y="685800"/>
            <a:ext cx="34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STAR preliminary (QM06, S. A. Volosh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407360" y="3505320"/>
            <a:ext cx="100080" cy="99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07360" y="3749760"/>
            <a:ext cx="100080" cy="100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72880" y="3429000"/>
            <a:ext cx="441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2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72880" y="3657600"/>
            <a:ext cx="702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FTPC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6080" y="403848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: nucl-ex/060803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A34-7ACC-4259-A582-19BA43C95F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968480"/>
            <a:ext cx="4114800" cy="39495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Observable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1640" y="243792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Particle azimuthal distributions by Fourier expan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ja-JP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 = “Directed Flow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ja-JP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 = “Elliptic Flow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4480" y="6010200"/>
            <a:ext cx="4792320" cy="459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S. Voloshin and Y. Zhang, Z. Phys. C70, 665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A. M. Poskanzer and S. A. Voloshin, Phys. Rev. C58, 1671 (1998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71360" y="914400"/>
            <a:ext cx="882036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23E-5882-44F3-9025-68783E7DFF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rcRect l="1655" t="53070" r="8307" b="1464"/>
          <a:stretch/>
        </p:blipFill>
        <p:spPr>
          <a:xfrm>
            <a:off x="324000" y="3641760"/>
            <a:ext cx="4248000" cy="29113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rcRect l="1693" t="4083" r="7902" b="51464"/>
          <a:stretch/>
        </p:blipFill>
        <p:spPr>
          <a:xfrm>
            <a:off x="324000" y="946080"/>
            <a:ext cx="4248000" cy="28353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987920" y="283536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+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81440" y="3105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9280" y="2944800"/>
            <a:ext cx="90360" cy="90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889280" y="3232080"/>
            <a:ext cx="90360" cy="9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19600" y="24526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8520" y="4395960"/>
            <a:ext cx="1843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lear 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 signal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00600" y="9140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ypical S/N ~ 0.3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rality 20 – 60 %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/N is goo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vent plane resolution is goo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paration of 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etween meson and baryon is goo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gnitude of 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o not vary very muc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669-95EA-4800-BCDC-080EAFE8E1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4193" t="21016" r="6941" b="33916"/>
          <a:stretch/>
        </p:blipFill>
        <p:spPr>
          <a:xfrm>
            <a:off x="76320" y="99072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4193" t="21016" r="6941" b="33916"/>
          <a:stretch/>
        </p:blipFill>
        <p:spPr>
          <a:xfrm>
            <a:off x="76320" y="99072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4193" t="21016" r="6941" b="33916"/>
          <a:stretch/>
        </p:blipFill>
        <p:spPr>
          <a:xfrm>
            <a:off x="76320" y="990720"/>
            <a:ext cx="4572000" cy="3000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Flow analysis @ PHENIX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Event plane metho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Determined at forward and backward beam counter (BBC, |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| = 3.0 - 3.9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Correlate paticles at mid-rapidity (|</a:t>
            </a:r>
            <a:r>
              <a:rPr b="0" lang="ja-JP" sz="28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| &lt; 0.35) and BBC event plane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24280" y="979560"/>
            <a:ext cx="4343400" cy="366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525000" y="1020600"/>
            <a:ext cx="24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OS: PRL91, 052303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2376360"/>
            <a:ext cx="228600" cy="290520"/>
          </a:xfrm>
          <a:prstGeom prst="downArrow">
            <a:avLst>
              <a:gd name="adj1" fmla="val 50000"/>
              <a:gd name="adj2" fmla="val 618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53480" y="2376360"/>
            <a:ext cx="228600" cy="290520"/>
          </a:xfrm>
          <a:prstGeom prst="downArrow">
            <a:avLst>
              <a:gd name="adj1" fmla="val 50000"/>
              <a:gd name="adj2" fmla="val 618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91200" y="1843200"/>
            <a:ext cx="228600" cy="290520"/>
          </a:xfrm>
          <a:prstGeom prst="downArrow">
            <a:avLst>
              <a:gd name="adj1" fmla="val 50000"/>
              <a:gd name="adj2" fmla="val 618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A85-4089-46B4-9481-9DC99D542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Arial Black"/>
              </a:rPr>
              <a:t>Event plane method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vent plane”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Estimate of true reaction plan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Brackets denote average over all events and all particles in a selected rapidity window,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ja-JP" sz="20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is “event plane resolution”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w (weight) is chosen to maximize the event plane resolution (ex. 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, multiplicity etc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The best weight is v</a:t>
            </a:r>
            <a:r>
              <a:rPr b="0" lang="ja-JP" sz="1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itself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2444" t="0" r="0" b="10118"/>
          <a:stretch/>
        </p:blipFill>
        <p:spPr>
          <a:xfrm>
            <a:off x="5110200" y="914400"/>
            <a:ext cx="3348000" cy="2979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31720" y="1447920"/>
            <a:ext cx="4573800" cy="21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472520" y="2133720"/>
            <a:ext cx="71280" cy="358560"/>
          </a:xfrm>
          <a:custGeom>
            <a:avLst/>
            <a:gdLst/>
            <a:ahLst/>
            <a:rect l="l" t="t" r="r" b="b"/>
            <a:pathLst>
              <a:path w="56" h="192">
                <a:moveTo>
                  <a:pt x="48" y="192"/>
                </a:moveTo>
                <a:cubicBezTo>
                  <a:pt x="52" y="160"/>
                  <a:pt x="56" y="128"/>
                  <a:pt x="48" y="96"/>
                </a:cubicBezTo>
                <a:cubicBezTo>
                  <a:pt x="40" y="64"/>
                  <a:pt x="20" y="32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198108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543800" y="2209680"/>
            <a:ext cx="4572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291-03B8-40DB-9406-A3C593DBC2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496040" cy="1338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4496040" cy="1325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4267080" cy="28940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Flattening correction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724280" y="10663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Acceptance anisotropy should be remov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Re-centering corre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black -&gt; bl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Flattening corre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emove remaining non-flat contributions (blue -&gt; red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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should be smal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Isotropic distribution -&gt; vanishing of </a:t>
            </a:r>
            <a:r>
              <a:rPr b="0" i="1" lang="ja-JP" sz="2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-th Forier moment of the new distribution (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CA2-E130-48AE-A287-F1AEC587A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4494240" cy="3047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41760" cy="30495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Large v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 at RHIC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~ 50 % increase from SPS to RHI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Hadron cascade underestimate the magnitude of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at RHI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Due to the small transverse pressure in early tim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280" y="4229280"/>
            <a:ext cx="43520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80120" y="175248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5, H. Mas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23040" y="3095640"/>
            <a:ext cx="2358720" cy="181080"/>
          </a:xfrm>
          <a:custGeom>
            <a:avLst/>
            <a:gdLst/>
            <a:ahLst/>
            <a:rect l="l" t="t" r="r" b="b"/>
            <a:pathLst>
              <a:path w="1486" h="114">
                <a:moveTo>
                  <a:pt x="0" y="114"/>
                </a:moveTo>
                <a:cubicBezTo>
                  <a:pt x="27" y="107"/>
                  <a:pt x="105" y="84"/>
                  <a:pt x="166" y="70"/>
                </a:cubicBezTo>
                <a:cubicBezTo>
                  <a:pt x="227" y="56"/>
                  <a:pt x="287" y="40"/>
                  <a:pt x="366" y="29"/>
                </a:cubicBezTo>
                <a:cubicBezTo>
                  <a:pt x="445" y="18"/>
                  <a:pt x="541" y="6"/>
                  <a:pt x="640" y="3"/>
                </a:cubicBezTo>
                <a:cubicBezTo>
                  <a:pt x="739" y="0"/>
                  <a:pt x="865" y="6"/>
                  <a:pt x="958" y="11"/>
                </a:cubicBezTo>
                <a:cubicBezTo>
                  <a:pt x="1051" y="16"/>
                  <a:pt x="1112" y="20"/>
                  <a:pt x="1200" y="31"/>
                </a:cubicBezTo>
                <a:cubicBezTo>
                  <a:pt x="1288" y="42"/>
                  <a:pt x="1427" y="66"/>
                  <a:pt x="1486" y="75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80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Q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69A-4C5D-4F2C-B603-DA05FBA24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vent plane = reaction plane 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We cannot determine the direction of 2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moment BBC event plane w.r.t. the reaction plane </a:t>
            </a:r>
            <a:r>
              <a:rPr b="0" lang="ja-JP" sz="3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sign of v</a:t>
            </a:r>
            <a:r>
              <a:rPr b="0" lang="ja-JP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is unknow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moment event plane give us the reference dire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94000" y="4684680"/>
            <a:ext cx="1944720" cy="961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590520" y="4718880"/>
            <a:ext cx="1944720" cy="961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66920" y="51814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70560" y="4761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852720" y="43797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62800" y="403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87080" y="5181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050840" y="4572000"/>
            <a:ext cx="549360" cy="1107720"/>
            <a:chOff x="1050840" y="4572000"/>
            <a:chExt cx="549360" cy="1107720"/>
          </a:xfrm>
        </p:grpSpPr>
        <p:sp>
          <p:nvSpPr>
            <p:cNvPr id="321" name=""/>
            <p:cNvSpPr/>
            <p:nvPr/>
          </p:nvSpPr>
          <p:spPr>
            <a:xfrm>
              <a:off x="1050840" y="4573080"/>
              <a:ext cx="547920" cy="110376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0840" y="5100120"/>
              <a:ext cx="549360" cy="579600"/>
            </a:xfrm>
            <a:custGeom>
              <a:avLst/>
              <a:gdLst/>
              <a:ahLst/>
              <a:rect l="l" t="t" r="r" b="b"/>
              <a:pathLst>
                <a:path w="489" h="515">
                  <a:moveTo>
                    <a:pt x="13" y="46"/>
                  </a:moveTo>
                  <a:cubicBezTo>
                    <a:pt x="24" y="55"/>
                    <a:pt x="47" y="72"/>
                    <a:pt x="65" y="81"/>
                  </a:cubicBezTo>
                  <a:cubicBezTo>
                    <a:pt x="83" y="90"/>
                    <a:pt x="103" y="92"/>
                    <a:pt x="121" y="97"/>
                  </a:cubicBezTo>
                  <a:cubicBezTo>
                    <a:pt x="139" y="102"/>
                    <a:pt x="156" y="109"/>
                    <a:pt x="176" y="112"/>
                  </a:cubicBezTo>
                  <a:cubicBezTo>
                    <a:pt x="196" y="115"/>
                    <a:pt x="218" y="115"/>
                    <a:pt x="241" y="114"/>
                  </a:cubicBezTo>
                  <a:cubicBezTo>
                    <a:pt x="264" y="113"/>
                    <a:pt x="289" y="109"/>
                    <a:pt x="313" y="103"/>
                  </a:cubicBezTo>
                  <a:cubicBezTo>
                    <a:pt x="337" y="97"/>
                    <a:pt x="362" y="90"/>
                    <a:pt x="385" y="78"/>
                  </a:cubicBezTo>
                  <a:cubicBezTo>
                    <a:pt x="408" y="66"/>
                    <a:pt x="435" y="41"/>
                    <a:pt x="452" y="29"/>
                  </a:cubicBezTo>
                  <a:cubicBezTo>
                    <a:pt x="469" y="17"/>
                    <a:pt x="479" y="0"/>
                    <a:pt x="485" y="7"/>
                  </a:cubicBezTo>
                  <a:cubicBezTo>
                    <a:pt x="483" y="11"/>
                    <a:pt x="489" y="40"/>
                    <a:pt x="487" y="70"/>
                  </a:cubicBezTo>
                  <a:cubicBezTo>
                    <a:pt x="485" y="100"/>
                    <a:pt x="481" y="151"/>
                    <a:pt x="474" y="190"/>
                  </a:cubicBezTo>
                  <a:cubicBezTo>
                    <a:pt x="467" y="229"/>
                    <a:pt x="455" y="272"/>
                    <a:pt x="444" y="304"/>
                  </a:cubicBezTo>
                  <a:cubicBezTo>
                    <a:pt x="433" y="336"/>
                    <a:pt x="423" y="359"/>
                    <a:pt x="408" y="385"/>
                  </a:cubicBezTo>
                  <a:cubicBezTo>
                    <a:pt x="394" y="411"/>
                    <a:pt x="376" y="438"/>
                    <a:pt x="356" y="458"/>
                  </a:cubicBezTo>
                  <a:cubicBezTo>
                    <a:pt x="336" y="478"/>
                    <a:pt x="313" y="495"/>
                    <a:pt x="289" y="503"/>
                  </a:cubicBezTo>
                  <a:cubicBezTo>
                    <a:pt x="265" y="511"/>
                    <a:pt x="238" y="515"/>
                    <a:pt x="214" y="509"/>
                  </a:cubicBezTo>
                  <a:cubicBezTo>
                    <a:pt x="189" y="503"/>
                    <a:pt x="164" y="488"/>
                    <a:pt x="143" y="469"/>
                  </a:cubicBezTo>
                  <a:cubicBezTo>
                    <a:pt x="122" y="450"/>
                    <a:pt x="104" y="427"/>
                    <a:pt x="87" y="397"/>
                  </a:cubicBezTo>
                  <a:cubicBezTo>
                    <a:pt x="69" y="367"/>
                    <a:pt x="52" y="328"/>
                    <a:pt x="39" y="289"/>
                  </a:cubicBezTo>
                  <a:cubicBezTo>
                    <a:pt x="27" y="250"/>
                    <a:pt x="17" y="204"/>
                    <a:pt x="10" y="161"/>
                  </a:cubicBezTo>
                  <a:cubicBezTo>
                    <a:pt x="4" y="118"/>
                    <a:pt x="0" y="47"/>
                    <a:pt x="0" y="28"/>
                  </a:cubicBezTo>
                  <a:lnTo>
                    <a:pt x="13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50840" y="5103000"/>
              <a:ext cx="546120" cy="123480"/>
            </a:xfrm>
            <a:custGeom>
              <a:avLst/>
              <a:gdLst/>
              <a:ahLst/>
              <a:rect l="l" t="t" r="r" b="b"/>
              <a:pathLst>
                <a:path w="979" h="257">
                  <a:moveTo>
                    <a:pt x="0" y="78"/>
                  </a:moveTo>
                  <a:cubicBezTo>
                    <a:pt x="17" y="92"/>
                    <a:pt x="57" y="134"/>
                    <a:pt x="101" y="160"/>
                  </a:cubicBezTo>
                  <a:cubicBezTo>
                    <a:pt x="145" y="186"/>
                    <a:pt x="213" y="216"/>
                    <a:pt x="263" y="232"/>
                  </a:cubicBezTo>
                  <a:cubicBezTo>
                    <a:pt x="313" y="248"/>
                    <a:pt x="347" y="255"/>
                    <a:pt x="404" y="256"/>
                  </a:cubicBezTo>
                  <a:cubicBezTo>
                    <a:pt x="461" y="257"/>
                    <a:pt x="542" y="254"/>
                    <a:pt x="608" y="238"/>
                  </a:cubicBezTo>
                  <a:cubicBezTo>
                    <a:pt x="674" y="222"/>
                    <a:pt x="738" y="200"/>
                    <a:pt x="800" y="160"/>
                  </a:cubicBezTo>
                  <a:cubicBezTo>
                    <a:pt x="862" y="120"/>
                    <a:pt x="942" y="33"/>
                    <a:pt x="9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0840" y="4572000"/>
              <a:ext cx="547920" cy="110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28600" y="5181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572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9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561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42670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94F-DB91-4685-BF42-E2B68579F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rcRect l="4193" t="21016" r="6941" b="33916"/>
          <a:stretch/>
        </p:blipFill>
        <p:spPr>
          <a:xfrm>
            <a:off x="76320" y="961920"/>
            <a:ext cx="4572000" cy="30006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Validity check (1)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32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 moment BBC event plan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Same dire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Cannot distinguish in-plane or out-of-pla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2362320"/>
            <a:ext cx="152280" cy="609480"/>
          </a:xfrm>
          <a:prstGeom prst="upDownArrow">
            <a:avLst>
              <a:gd name="adj1" fmla="val 50000"/>
              <a:gd name="adj2" fmla="val 7967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666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2362320"/>
            <a:ext cx="152640" cy="609480"/>
          </a:xfrm>
          <a:prstGeom prst="upDownArrow">
            <a:avLst>
              <a:gd name="adj1" fmla="val 50000"/>
              <a:gd name="adj2" fmla="val 7948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1599840" y="2362320"/>
            <a:ext cx="152280" cy="609480"/>
          </a:xfrm>
          <a:prstGeom prst="upDownArrow">
            <a:avLst>
              <a:gd name="adj1" fmla="val 50000"/>
              <a:gd name="adj2" fmla="val 7967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2895480" y="2361960"/>
            <a:ext cx="152280" cy="609840"/>
          </a:xfrm>
          <a:prstGeom prst="upDownArrow">
            <a:avLst>
              <a:gd name="adj1" fmla="val 50000"/>
              <a:gd name="adj2" fmla="val 7972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130-A566-4D17-9660-6E74F575C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6:04:12Z</dcterms:created>
  <dc:creator>益井 宙</dc:creator>
  <dc:description/>
  <dc:language>en-US</dc:language>
  <cp:lastModifiedBy>益井 宙</cp:lastModifiedBy>
  <cp:lastPrinted>2006-12-25T16:24:56Z</cp:lastPrinted>
  <dcterms:modified xsi:type="dcterms:W3CDTF">2007-03-02T22:22:43Z</dcterms:modified>
  <cp:revision>396</cp:revision>
  <dc:subject/>
  <dc:title>Elliptic Flow @ RHIC</dc:title>
</cp:coreProperties>
</file>