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4.jpeg" ContentType="image/jpeg"/>
  <Override PartName="/ppt/media/image41.jpeg" ContentType="image/jpeg"/>
  <Override PartName="/ppt/media/image40.jpeg" ContentType="image/jpeg"/>
  <Override PartName="/ppt/media/image44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3.pct" ContentType="image/x-pict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B9B-102F-475E-B657-CA44324D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EFB-3D02-4D1F-AE9F-CDDA8377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BA3-F2F8-4345-8386-47B68A1A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A82-98F3-434F-9A20-78D07F4E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1189-4905-4E13-B8C1-88AA58C5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FB1F-1F76-48F2-A2DE-B04DFED2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A4D3-0832-4B72-9ACC-EBC8C52E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5291-CBF8-493A-AC7E-5C638F81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D046-2CB5-40E8-B5A5-634A9905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5936-EBDF-4B9D-828F-6DA595E4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9D8-4DA8-4C17-B5E5-63CB4656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96B-54F9-42C8-9D3B-7D9AA8A3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152A-2CBE-4521-8CA1-63432A0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2A9-9800-4AE6-A7B6-92619729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12B3-642A-415C-BA13-D30EF735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EBCE-F7AB-423B-ABCB-AC4B24B8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A6D9-9CB7-48CF-80BA-2537F8CF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229-2A90-4405-A61C-CDE2D7D5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A68-2AD3-4EE2-B28C-78461E7B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0C7-4B83-4739-A5F6-85DC922D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C2F-424F-4797-8AA7-AB8DA260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809-A021-4C42-A752-4CF9B24D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BF3-D166-42A6-92A8-88087F9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115-B8E1-4363-9150-DD04093B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43C0-DE0A-40A0-93F1-492150CBF59E}" type="slidenum"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760" y="661356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INPC 2007, Tokyo, Japan (June 3-8, 2007)                                                        T.Chu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8003-3CBE-4526-A516-EBA15C33ED78}" type="slidenum"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760" y="661356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INPC 2007, Tokyo, Japan (June 3-8, 2007)                                                        T.Chu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83772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eam energy dependences of baryon productions and hadron freeze-out properties at RHIC-PHENIX</a:t>
            </a:r>
            <a:br>
              <a:rPr sz="3600"/>
            </a:b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36800" y="4191120"/>
            <a:ext cx="5270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Tatsuya Ch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University of Tsuk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(for the PHENIX Collabo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34320" y="6019920"/>
            <a:ext cx="1981080" cy="457200"/>
            <a:chOff x="6934320" y="6019920"/>
            <a:chExt cx="1981080" cy="457200"/>
          </a:xfrm>
        </p:grpSpPr>
        <p:sp>
          <p:nvSpPr>
            <p:cNvPr id="87" name=""/>
            <p:cNvSpPr/>
            <p:nvPr/>
          </p:nvSpPr>
          <p:spPr>
            <a:xfrm>
              <a:off x="6934320" y="601992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7010640" y="6045120"/>
              <a:ext cx="3902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7531200" y="6045120"/>
              <a:ext cx="135900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ID spectra at lower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6449" r="10144" b="0"/>
          <a:stretch/>
        </p:blipFill>
        <p:spPr>
          <a:xfrm>
            <a:off x="2819520" y="4398840"/>
            <a:ext cx="3504960" cy="2459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36720" y="914400"/>
            <a:ext cx="30924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876920" y="990720"/>
            <a:ext cx="3090600" cy="3429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59800" y="5853240"/>
            <a:ext cx="2512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spect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n Cu+Cu 22.5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C59-A8F5-4C02-BCA0-519679AEC5BF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105520" y="265284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+p 62.4 GeV, set the baseline for HI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New PHENIX data agrees with ISR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28600"/>
            <a:ext cx="4632480" cy="459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3400" y="129528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5F6-8BF4-4298-B8A3-2FB126DAF419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2835360"/>
            <a:ext cx="34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u+Cu 22.5 GeV,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ratio in central agrees with p+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36520"/>
            <a:ext cx="4616280" cy="45849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E68-0383-4847-A44D-935AE9D45B9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05520" y="2652840"/>
            <a:ext cx="341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u+Cu 62.4 GeV,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ratio larg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hose in p+p and Cu+Cu 22.5 G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35080"/>
            <a:ext cx="4621320" cy="4587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05E-154C-4D84-BA6C-5DEC99E4713F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181480" y="283536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u+Cu 200 GeV, similar to those in Cu+Cu 62.4 Ge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35080"/>
            <a:ext cx="4621320" cy="45878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4B6-56B1-496C-B8AD-2E2CF67E37C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105520" y="3017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u+Au 62 GeV,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is unchanged from Cu+Cu 2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49989" t="0" r="0" b="0"/>
          <a:stretch/>
        </p:blipFill>
        <p:spPr>
          <a:xfrm>
            <a:off x="0" y="1135080"/>
            <a:ext cx="4621320" cy="4587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BA9-8F62-40E2-94CF-5DD4808F05E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562720" y="2835360"/>
            <a:ext cx="256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u+Au 200 GeV,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is enh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1119240"/>
            <a:ext cx="4650840" cy="4619160"/>
            <a:chOff x="0" y="1119240"/>
            <a:chExt cx="4650840" cy="46191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rcRect l="50002" t="0" r="0" b="0"/>
            <a:stretch/>
          </p:blipFill>
          <p:spPr>
            <a:xfrm>
              <a:off x="0" y="1119240"/>
              <a:ext cx="4650840" cy="46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990360" y="3429720"/>
              <a:ext cx="1014120" cy="40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895-CCB6-4EB1-86ED-FB4F820AD374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3536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Peripheral collisions for al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onversing to the sa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1120680"/>
            <a:ext cx="4647960" cy="4616280"/>
            <a:chOff x="0" y="1120680"/>
            <a:chExt cx="4647960" cy="46162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rcRect l="50002" t="0" r="0" b="0"/>
            <a:stretch/>
          </p:blipFill>
          <p:spPr>
            <a:xfrm>
              <a:off x="0" y="1120680"/>
              <a:ext cx="4647960" cy="46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989640" y="3429720"/>
              <a:ext cx="1013400" cy="40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 dep. of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peripheral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0E8-A2E0-48C3-8328-DAA9E037B25A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795920" y="52578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44680" y="1143000"/>
            <a:ext cx="8052840" cy="4208400"/>
            <a:chOff x="544680" y="1143000"/>
            <a:chExt cx="8052840" cy="4208400"/>
          </a:xfrm>
        </p:grpSpPr>
        <p:grpSp>
          <p:nvGrpSpPr>
            <p:cNvPr id="174" name=""/>
            <p:cNvGrpSpPr/>
            <p:nvPr/>
          </p:nvGrpSpPr>
          <p:grpSpPr>
            <a:xfrm>
              <a:off x="544680" y="1143000"/>
              <a:ext cx="8052840" cy="4208400"/>
              <a:chOff x="544680" y="1143000"/>
              <a:chExt cx="8052840" cy="420840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"/>
              <a:srcRect l="56464" t="0" r="0" b="0"/>
              <a:stretch/>
            </p:blipFill>
            <p:spPr>
              <a:xfrm>
                <a:off x="4743360" y="1155600"/>
                <a:ext cx="3854160" cy="419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2"/>
              <a:srcRect l="50009" t="0" r="2580" b="0"/>
              <a:stretch/>
            </p:blipFill>
            <p:spPr>
              <a:xfrm>
                <a:off x="544680" y="1143000"/>
                <a:ext cx="4198680" cy="4197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1523880" y="2666880"/>
              <a:ext cx="86832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461880" y="5562720"/>
            <a:ext cx="82202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In 22.5 GeV Cu+Cu: weak centrality dependence, 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ratios are ~0.3-0.4 at p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= 2 GeV/c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hich is close to the value in p+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In 62.4 GeV Cu+Cu: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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ratio in central collisions reaches R=~0.6 at p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= 2 GeV/c, decreasing towards the peripheral ev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ntrality dep.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22 GeV vs. 62 GeV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168560" y="4368960"/>
            <a:ext cx="7162560" cy="0"/>
          </a:xfrm>
          <a:prstGeom prst="line">
            <a:avLst/>
          </a:prstGeom>
          <a:ln w="9360">
            <a:solidFill>
              <a:srgbClr val="ff6fc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640" y="4149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fcf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5A5-4527-48F5-B623-91A12A91B3B5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-895680" y="1530360"/>
            <a:ext cx="7861680" cy="3834360"/>
            <a:chOff x="-895680" y="1530360"/>
            <a:chExt cx="7861680" cy="383436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rcRect l="32259" t="3285" r="37387" b="63052"/>
            <a:stretch/>
          </p:blipFill>
          <p:spPr>
            <a:xfrm>
              <a:off x="380880" y="1530360"/>
              <a:ext cx="502920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-895680" y="4684680"/>
              <a:ext cx="78616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0                1.0              2.0               3.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ja-JP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(GeV/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Comparison with SPS dat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4140360"/>
            <a:ext cx="3898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00" y="38862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98040" y="379404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Pb+Pb 17.2 GeV (cent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87400" y="1747800"/>
            <a:ext cx="32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Schuster, A. Laszlo (NA4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-ex/0606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638680"/>
            <a:ext cx="70106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PS Pb+Pb: consistent with Cu+Cu 22.5 GeV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32960" y="2023920"/>
            <a:ext cx="13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u+Au 200 Ge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06200" y="2273400"/>
            <a:ext cx="13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u+Au 200 Ge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29000" y="177804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(Pb+Pb 17.2 Ge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4C8-72DA-4E0F-A45D-D1014C2ACA58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1800" y="-360"/>
            <a:ext cx="734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Baryon/Meson anomaly at RHIC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429000" cy="2652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914400"/>
            <a:ext cx="42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ENIX: PRL 91, 172301 (2003), PRC 69, 034909 (2004), PRC 74, 024904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1155600"/>
            <a:ext cx="4572000" cy="53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“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Baryon anomaly (or enhancement) at RHIC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In Au+Au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N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= 200 GeV central colli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C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(or 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Pions: Strong suppression of yields abov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~ 2 GeV/c, due to jet quen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Protons: No suppression at intermediate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(2-5 GeV/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and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p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Osaka"/>
              </a:rPr>
              <a:t>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More (anti) baryons than pions at intermediat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(2-5 GeV/c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trong centrality depend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8000ff"/>
                </a:solidFill>
                <a:latin typeface="Arial"/>
                <a:ea typeface="Osaka"/>
              </a:rPr>
              <a:t>Inspired extensive theoretical works to explain the data.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013280"/>
            <a:ext cx="3911760" cy="28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89E-BAA3-4E10-8861-7D4927A46ED7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5854680" cy="4797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1828800" y="2819520"/>
            <a:ext cx="2743200" cy="167616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236232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creasing as a function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dicates the onset of baryon enhancement is in between 22 GeV and 62 GeV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ratio (central): summary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BF8-069E-425C-A81E-3246E6500DDC}" type="slidenum">
              <a:t>20</a:t>
            </a:fld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dep. R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for antiprotons (by ISR fit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203880" cy="491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48520" y="2666880"/>
            <a:ext cx="257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d ISR data at 23 GeV and 63 GeV (Alper. NPB 100, 237) for p+p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ilar 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for all thre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* Note: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p+p 62.4 GeV p+p data has been measured by PHENIX, still working on the trigger bias and cross section seen in the detector. Here we use ISR fit to obtain R</a:t>
            </a:r>
            <a:r>
              <a:rPr b="0" i="1" lang="ja-JP" sz="1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685800"/>
            <a:ext cx="350532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7720" y="761040"/>
            <a:ext cx="2404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ar Modification Fac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791320" y="1066680"/>
            <a:ext cx="3276360" cy="70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3A0-D9F3-415D-94BE-9AEF8B3C1C33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200640" cy="4911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dep. R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for charged pions (by ISR fit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95560" y="2971800"/>
            <a:ext cx="2819160" cy="102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Error nota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Error bars: statistical error for HI spec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Boxe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) sys. error for p+p refer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) sys. error for HI spectra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ines: N</a:t>
            </a:r>
            <a:r>
              <a:rPr b="0" lang="ja-JP" sz="10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error (1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1549440"/>
            <a:ext cx="293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d ISR fit (nucl-ex/0411049, D. d’Enteria) for p+p parameter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derate suppression for Au+Au 62.4 G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eater than unity for Cu+Cu 62/22 GeV (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2.0 GeV/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991-8D29-43E3-848F-D47629BD2914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6449" r="10144" b="0"/>
          <a:stretch/>
        </p:blipFill>
        <p:spPr>
          <a:xfrm>
            <a:off x="4572000" y="114300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267080" cy="3049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at 22.5 GeV (centrality dep.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5181480"/>
            <a:ext cx="449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centrality depend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3427560"/>
            <a:ext cx="4267080" cy="3049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0" y="3427560"/>
            <a:ext cx="4267080" cy="3049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1280" y="60199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Baldo Sahlmüller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3A4-F1F6-4DD5-A65F-CFF8DE40D7F2}" type="slidenum">
              <a:t>23</a:t>
            </a:fld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6324480" cy="4289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PS (17 GeV) vs. RHIC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ehavior for similar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3 at WA98, 67.8 at PHEN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4191120"/>
            <a:ext cx="2514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lattnig parameterization used for WA98 data (S. Blattnig et. al.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hys.Rev. D62 (2000) 094030 / D. D’Enterria, Phys. Lett. B 596 (2004) 32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080" y="62485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Baldo Sahlmüller (QM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DBE-D165-4D3F-8294-F231DBB6D96F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20" y="7999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pectra for antiproton and pions at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22.5 and 62.4 GeV in Au+Au (Cu+Cu) have been studied to search for the onset of baryon enhancement at RH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nly antiprotons in Cu+Cu 22.5 GeV system seems to be different from oth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ttle centrality dependence i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atio at the intermediat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entral 0-10%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atio agrees with the value in p+p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utral pion’s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: no suppression and consistent with SPS data. Little centrality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2 GeV Cu+Cu/Au+Au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atio: baryon enhancement still exists in central Au+Au 62 GeV and Cu+Cu 62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by ISR fit, limited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&lt; 2.5 ~ 3.0 GeV/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moderate suppression in Au+Au 62 GeV, unity for Cu+Cu 62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: small differences between Cu+Cu and Au+Au, close to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ata indicates that an onset of baryon anomaly at RHIC is in between 22 GeV and 62 Ge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CF1-2A2A-4C96-9062-35BE39965600}" type="slidenum">
              <a:t>25</a:t>
            </a:fld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look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PHENIX high p</a:t>
            </a:r>
            <a:r>
              <a:rPr b="1" lang="ja-JP" sz="1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 PID upgrade (Physic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et correlations of PID particles, to study the origin of the baryon enhanc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tailed study of fragmentation mechanisms of p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 at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&gt;  5 GeV/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pectra and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high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&gt;  5 GeV/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RHIC-II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ploring QCD phase diagram in detail by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e beam energy scan(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= 5 - 65 GeV) and species s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to study the bulk properties of produced QCD matter,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near the critical end poi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which maybe accessible in RHIC-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46840" cy="518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2D8-FEFC-42EE-9A16-DE47EAD3C7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541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7B3-E254-41D5-9074-F471A6113C78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Backup Slides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EC7-CE74-4BD1-AC00-9B4E89747BE8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7240" y="387000"/>
            <a:ext cx="71755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ep. of p/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atio (central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854680" cy="4797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52480" y="2666880"/>
            <a:ext cx="2819520" cy="1638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ecreasing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s a function of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A36-5B23-47F6-B542-3A184EDE2760}" type="slidenum">
              <a:t>29</a:t>
            </a:fld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38280"/>
            <a:ext cx="5257800" cy="3781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rticle type dep. of elliptic flow (v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licated particle type dependent structure at low p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(&lt; 1.5 GeV/c) is well described by the hydro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 about at the intermediate p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9C7-45A8-4B00-9AFE-196B20C285E6}" type="slidenum">
              <a:t>3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 for protons (by ISR fit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6204240" cy="491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26360" y="1778040"/>
            <a:ext cx="25779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sed ISR data at 63 GeV (Alper. NPB 100, 237) for p+p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Largest R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or Cu+Cu 22.5 G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for Au+Au 62.4 GeV is smaller than that in Cu+Cu 62.4 G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3920" y="5943600"/>
            <a:ext cx="33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No weak decay feed-down correction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CF0-27A4-4559-B207-56D9EFD4CA45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ference data (p+p 62.4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+p parameterization at 62.4 GeV: Fit to existing (ISR) data at similar energies (D.d'Enterria. J.Phys.G31, S491 (200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1938240"/>
            <a:ext cx="5334120" cy="46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974-2D70-4892-864E-EDC77150CF9A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17520" y="1981080"/>
            <a:ext cx="6302520" cy="37846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ference data (p+p 62.4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data sets inconsistent =&gt; larg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C05-55BF-4F0C-AB1B-82AC4C8E9503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ference data (p+p 22.5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p parameterization at 22.4 GeV: Fit to existing data at similar energies (D.d'Enterria. J.Phys.G31, S491 (200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800600" cy="45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0FE-B5C1-4D4F-B0A7-5A6F984852F6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vs.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0" r="0" b="34726"/>
          <a:stretch/>
        </p:blipFill>
        <p:spPr>
          <a:xfrm>
            <a:off x="1028880" y="1219320"/>
            <a:ext cx="7086600" cy="480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23000" y="600228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. d’Enterria, nucl-ex/0504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E8B-1F37-49B1-A1BD-DAA3A66D0D9F}" type="slidenum">
              <a:t>34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49700" t="0" r="0" b="0"/>
          <a:stretch/>
        </p:blipFill>
        <p:spPr>
          <a:xfrm>
            <a:off x="4572000" y="1143000"/>
            <a:ext cx="3701880" cy="413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Quark Number Scaling of v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92080" y="1023840"/>
            <a:ext cx="3679920" cy="4254480"/>
            <a:chOff x="892080" y="1023840"/>
            <a:chExt cx="3679920" cy="4254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rcRect l="0" t="0" r="50005" b="0"/>
            <a:stretch/>
          </p:blipFill>
          <p:spPr>
            <a:xfrm>
              <a:off x="892080" y="1143000"/>
              <a:ext cx="3679920" cy="41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73200" y="1023840"/>
              <a:ext cx="233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nucl-ex/0703024 (PHENIX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hown a clear </a:t>
            </a:r>
            <a:r>
              <a:rPr b="1" lang="ja-JP" sz="1600" spc="-1" strike="noStrike">
                <a:solidFill>
                  <a:srgbClr val="ff8000"/>
                </a:solidFill>
                <a:latin typeface="Arial"/>
              </a:rPr>
              <a:t>Baryon / Meson split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t the intermediate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reg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eson’s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follows the meson data 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Number of constituent quark sc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n =2 for mesons, n =3 for baryons) works, suggested the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pressure developed at quark leve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not hadronic le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55720" y="4191120"/>
            <a:ext cx="1916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6fcf"/>
                </a:solidFill>
                <a:latin typeface="Arial"/>
              </a:rPr>
              <a:t>* KE</a:t>
            </a:r>
            <a:r>
              <a:rPr b="1" lang="ja-JP" sz="1400" spc="-1" strike="noStrike" baseline="-25000">
                <a:solidFill>
                  <a:srgbClr val="ff6fcf"/>
                </a:solidFill>
                <a:latin typeface="Arial"/>
              </a:rPr>
              <a:t>T</a:t>
            </a:r>
            <a:r>
              <a:rPr b="1" lang="ja-JP" sz="1400" spc="-1" strike="noStrike">
                <a:solidFill>
                  <a:srgbClr val="ff6fcf"/>
                </a:solidFill>
                <a:latin typeface="Arial"/>
              </a:rPr>
              <a:t> = m</a:t>
            </a:r>
            <a:r>
              <a:rPr b="1" lang="ja-JP" sz="1400" spc="-1" strike="noStrike" baseline="-25000">
                <a:solidFill>
                  <a:srgbClr val="ff6fcf"/>
                </a:solidFill>
                <a:latin typeface="Arial"/>
              </a:rPr>
              <a:t>T</a:t>
            </a:r>
            <a:r>
              <a:rPr b="1" lang="ja-JP" sz="1400" spc="-1" strike="noStrike">
                <a:solidFill>
                  <a:srgbClr val="ff6fcf"/>
                </a:solidFill>
                <a:latin typeface="Arial"/>
              </a:rPr>
              <a:t> -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2E9-5F3C-4111-AA9E-B468FF96DF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HENIX White Paper (WP) says…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382240" cy="19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6280" y="4572000"/>
            <a:ext cx="8191440" cy="1643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8720" y="3530520"/>
            <a:ext cx="805176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6120" y="3809880"/>
            <a:ext cx="234936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6560" y="4737240"/>
            <a:ext cx="805176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280" y="4991040"/>
            <a:ext cx="2628720" cy="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6880" y="5181480"/>
            <a:ext cx="8217000" cy="8892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rcRect l="0" t="0" r="0" b="7320"/>
          <a:stretch/>
        </p:blipFill>
        <p:spPr>
          <a:xfrm>
            <a:off x="6248520" y="1295280"/>
            <a:ext cx="2666880" cy="137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-628200" y="14479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0000"/>
                </a:solidFill>
                <a:latin typeface="Times New Roman"/>
              </a:rPr>
              <a:t>Nucl. Phys. A 757 (2005) 184-283, PHENIX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638680" y="4952880"/>
            <a:ext cx="3048120" cy="76320"/>
          </a:xfrm>
          <a:prstGeom prst="line">
            <a:avLst/>
          </a:prstGeom>
          <a:ln w="181080">
            <a:solidFill>
              <a:srgbClr val="ffff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B99-3FEC-4C8C-AC35-1C0A7A34D656}" type="slidenum">
              <a:t>5</a:t>
            </a:fld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1790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fter the publication of WP…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" y="952200"/>
            <a:ext cx="511812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PHENIX high p</a:t>
            </a:r>
            <a:r>
              <a:rPr b="1" lang="ja-JP" sz="24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 PID detector upgr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erogel Cherenk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lly installed in 2005, work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F West (MR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stalled in 2006, started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aking in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New data s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High statistics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200 GeV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+Cu 200 GeV 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+p 200 GeV (2005,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Lower beam energy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u+Au 62 GeV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+Cu 22, 62 GeV 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+p 62 GeV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0" y="4419720"/>
            <a:ext cx="2057400" cy="2209680"/>
            <a:chOff x="6858000" y="4419720"/>
            <a:chExt cx="2057400" cy="220968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858000" y="441972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8292600" y="5187600"/>
              <a:ext cx="419040" cy="16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724280" y="4419720"/>
            <a:ext cx="2286000" cy="22510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5791320" y="1828800"/>
            <a:ext cx="3200400" cy="2449440"/>
            <a:chOff x="5791320" y="1828800"/>
            <a:chExt cx="3200400" cy="2449440"/>
          </a:xfrm>
        </p:grpSpPr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791320" y="1828800"/>
              <a:ext cx="32004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552000" y="3733920"/>
              <a:ext cx="239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F.W installation (2006. Jul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954-6884-4174-8AAB-C860A28901E2}" type="slidenum">
              <a:t>6</a:t>
            </a:fld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Exploring the QCD phase diagram by changing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 at RHIC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00240" y="13716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here is the onset of baryon anomaly at RH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w p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ratios and R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evolve as a function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 (or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 and colliding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The lower beam energy data taken at RHIC so far can provide the excitation function of baryon prod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5500" t="0" r="11971" b="20387"/>
          <a:stretch/>
        </p:blipFill>
        <p:spPr>
          <a:xfrm>
            <a:off x="0" y="1219320"/>
            <a:ext cx="4876920" cy="3902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708840" y="5586480"/>
            <a:ext cx="626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Figure from “Future Science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elativistic heavy ion Collider (Aug. 25, 2006 version)”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by RHIC II Science Working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02B-B84F-4046-A587-DFDFE044AA45}" type="slidenum">
              <a:t>7</a:t>
            </a:fld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2880" y="1087560"/>
            <a:ext cx="4178520" cy="5541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PID charged p</a:t>
            </a:r>
            <a:r>
              <a:rPr b="1" lang="ja-JP" sz="24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 spectra analysis in PHENIX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1520" y="901440"/>
            <a:ext cx="45720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HENIX detector: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ft Chamber, Pad Chamber 1 (PC1), Beam-Beam Counter (BBC) and TOF for PID charged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llision centrality: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divided minimum bias triggered events, based on BBC charge (62 GeV), or the number of PC1 hit (22 GeV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rrections: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metrical acceptance, in flight dec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weak decay feed-down correction appl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0" r="0" b="46249"/>
          <a:stretch/>
        </p:blipFill>
        <p:spPr>
          <a:xfrm>
            <a:off x="5054760" y="4775040"/>
            <a:ext cx="2590560" cy="17463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56120" y="4309920"/>
            <a:ext cx="4115880" cy="2549520"/>
            <a:chOff x="456120" y="4309920"/>
            <a:chExt cx="4115880" cy="254952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506520" y="4309920"/>
              <a:ext cx="406548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65600" y="4373280"/>
              <a:ext cx="29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d particle identification by T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9240" y="658296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 x Momentum (GeV/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120" y="4487760"/>
              <a:ext cx="4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7160" y="460188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+Cu @ 22.5 Ge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1E5-1A17-4B46-85DE-901195E1AE6D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8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Experimental Results:</a:t>
            </a:r>
            <a:br>
              <a:rPr sz="4800"/>
            </a:br>
            <a:br>
              <a:rPr sz="4800"/>
            </a:b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ja-JP" sz="4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s dependence of baryon productions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6AF-2313-4396-B6F4-59AEEEB2B4D8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54:41Z</dcterms:created>
  <dc:creator>Tatsuya Chujo</dc:creator>
  <dc:description/>
  <cp:keywords/>
  <dc:language>en-US</dc:language>
  <cp:lastModifiedBy>Tatsuya Chujo</cp:lastModifiedBy>
  <cp:lastPrinted>2007-06-03T17:58:43Z</cp:lastPrinted>
  <dcterms:modified xsi:type="dcterms:W3CDTF">2007-06-05T05:04:39Z</dcterms:modified>
  <cp:revision>2445</cp:revision>
  <dc:subject/>
  <dc:title>PowerPoint Presentation  -  Hot Quarks 2004 (chujo)</dc:title>
</cp:coreProperties>
</file>