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6576000"/>
  <p:notesSz cx="6659563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581-B5F0-4A76-ACE4-7C806CC6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08B-CE9E-42F8-A8AC-EE77071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FEC-5AE4-445F-8CA9-3B3F61FB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43C-37E5-41B1-A471-7F35573C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E49-26B0-4D0A-8797-7884D1C2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758-98C8-4A71-8EC6-2CC83FAC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B45-B200-4E89-8425-EDF15805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CAB-2523-4299-B397-1E2C8CD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250800"/>
            <a:ext cx="233172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E14-4772-481F-8A35-668DF5FA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1BC-3EC7-4F6E-965F-11FF7B8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595-0CA8-485A-9EE4-391C149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F14-A648-46D9-893D-0258AA4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ja-JP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ja-JP" sz="5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3244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ja-JP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ja-JP" sz="5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ja-JP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D327E303-8C73-45B0-9EED-BC4B4401E4A3}" type="slidenum">
              <a:rPr b="0" lang="ja-JP" sz="5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230600" y="523800"/>
            <a:ext cx="10820520" cy="10058400"/>
          </a:xfrm>
          <a:prstGeom prst="roundRect">
            <a:avLst>
              <a:gd name="adj" fmla="val 38824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30600" y="5172120"/>
            <a:ext cx="10820520" cy="5486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30600" y="4867200"/>
            <a:ext cx="10820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66680" y="15621120"/>
            <a:ext cx="9105840" cy="5619600"/>
            <a:chOff x="1066680" y="15621120"/>
            <a:chExt cx="9105840" cy="5619600"/>
          </a:xfrm>
        </p:grpSpPr>
        <p:grpSp>
          <p:nvGrpSpPr>
            <p:cNvPr id="45" name=""/>
            <p:cNvGrpSpPr/>
            <p:nvPr/>
          </p:nvGrpSpPr>
          <p:grpSpPr>
            <a:xfrm>
              <a:off x="5619600" y="15621120"/>
              <a:ext cx="4552920" cy="5607000"/>
              <a:chOff x="5619600" y="15621120"/>
              <a:chExt cx="4552920" cy="5607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19600" y="15621120"/>
                <a:ext cx="4552920" cy="21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rcRect l="0" t="6997" r="0" b="0"/>
              <a:stretch/>
            </p:blipFill>
            <p:spPr>
              <a:xfrm>
                <a:off x="5619600" y="17481600"/>
                <a:ext cx="4552920" cy="202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3"/>
              <a:srcRect l="0" t="6997" r="0" b="0"/>
              <a:stretch/>
            </p:blipFill>
            <p:spPr>
              <a:xfrm>
                <a:off x="5619600" y="19202400"/>
                <a:ext cx="4552920" cy="202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"/>
            <p:cNvGrpSpPr/>
            <p:nvPr/>
          </p:nvGrpSpPr>
          <p:grpSpPr>
            <a:xfrm>
              <a:off x="1066680" y="15621120"/>
              <a:ext cx="4552920" cy="5619600"/>
              <a:chOff x="1066680" y="15621120"/>
              <a:chExt cx="4552920" cy="5619600"/>
            </a:xfrm>
          </p:grpSpPr>
          <p:pic>
            <p:nvPicPr>
              <p:cNvPr id="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66680" y="15621120"/>
                <a:ext cx="4552920" cy="21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5"/>
              <a:srcRect l="0" t="6997" r="0" b="0"/>
              <a:stretch/>
            </p:blipFill>
            <p:spPr>
              <a:xfrm>
                <a:off x="1066680" y="17494200"/>
                <a:ext cx="4552920" cy="202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6"/>
              <a:srcRect l="0" t="6997" r="0" b="0"/>
              <a:stretch/>
            </p:blipFill>
            <p:spPr>
              <a:xfrm>
                <a:off x="1066680" y="19215360"/>
                <a:ext cx="4552920" cy="2025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3" name=""/>
          <p:cNvGrpSpPr/>
          <p:nvPr/>
        </p:nvGrpSpPr>
        <p:grpSpPr>
          <a:xfrm>
            <a:off x="838080" y="1242720"/>
            <a:ext cx="4955760" cy="5585760"/>
            <a:chOff x="838080" y="1242720"/>
            <a:chExt cx="4955760" cy="5585760"/>
          </a:xfrm>
        </p:grpSpPr>
        <p:sp>
          <p:nvSpPr>
            <p:cNvPr id="54" name=""/>
            <p:cNvSpPr/>
            <p:nvPr/>
          </p:nvSpPr>
          <p:spPr>
            <a:xfrm flipH="1">
              <a:off x="2554920" y="4327560"/>
              <a:ext cx="2113200" cy="2266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129400" y="1522800"/>
              <a:ext cx="2113200" cy="2266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777320" y="1266480"/>
              <a:ext cx="3900960" cy="2548080"/>
              <a:chOff x="1777320" y="1266480"/>
              <a:chExt cx="3900960" cy="2548080"/>
            </a:xfrm>
          </p:grpSpPr>
          <p:sp>
            <p:nvSpPr>
              <p:cNvPr id="57" name=""/>
              <p:cNvSpPr/>
              <p:nvPr/>
            </p:nvSpPr>
            <p:spPr>
              <a:xfrm rot="11343000">
                <a:off x="4797000" y="1366560"/>
                <a:ext cx="401400" cy="34776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2572920" y="1482840"/>
                <a:ext cx="848520" cy="908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2907720" y="1533600"/>
                <a:ext cx="831960" cy="894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45040" y="1673640"/>
                <a:ext cx="2257560" cy="359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22200" y="2731320"/>
                <a:ext cx="1586520" cy="252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543000">
                <a:off x="1912680" y="1539360"/>
                <a:ext cx="3630600" cy="2001960"/>
              </a:xfrm>
              <a:prstGeom prst="parallelogram">
                <a:avLst>
                  <a:gd name="adj" fmla="val 67285"/>
                </a:avLst>
              </a:prstGeom>
              <a:noFill/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777320" y="2862720"/>
                <a:ext cx="355320" cy="383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3028320" y="1584720"/>
                <a:ext cx="1031400" cy="1107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 rot="11343000">
                <a:off x="2949120" y="2581560"/>
                <a:ext cx="282600" cy="803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730960" y="2577240"/>
                <a:ext cx="759240" cy="812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3996720" y="1414080"/>
                <a:ext cx="1289520" cy="1285200"/>
                <a:chOff x="3996720" y="1414080"/>
                <a:chExt cx="1289520" cy="1285200"/>
              </a:xfrm>
            </p:grpSpPr>
            <p:grpSp>
              <p:nvGrpSpPr>
                <p:cNvPr id="68" name=""/>
                <p:cNvGrpSpPr/>
                <p:nvPr/>
              </p:nvGrpSpPr>
              <p:grpSpPr>
                <a:xfrm>
                  <a:off x="3996720" y="1414080"/>
                  <a:ext cx="1289520" cy="1285200"/>
                  <a:chOff x="3996720" y="1414080"/>
                  <a:chExt cx="1289520" cy="128520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543000">
                    <a:off x="4105080" y="1494720"/>
                    <a:ext cx="1100880" cy="110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543000">
                    <a:off x="4105440" y="1493640"/>
                    <a:ext cx="1100880" cy="1101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543000">
                    <a:off x="4042080" y="1939320"/>
                    <a:ext cx="1152360" cy="67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00">
                        <a:moveTo>
                          <a:pt x="43" y="123"/>
                        </a:moveTo>
                        <a:cubicBezTo>
                          <a:pt x="61" y="136"/>
                          <a:pt x="84" y="160"/>
                          <a:pt x="120" y="181"/>
                        </a:cubicBezTo>
                        <a:cubicBezTo>
                          <a:pt x="156" y="202"/>
                          <a:pt x="210" y="233"/>
                          <a:pt x="262" y="250"/>
                        </a:cubicBezTo>
                        <a:cubicBezTo>
                          <a:pt x="314" y="267"/>
                          <a:pt x="370" y="279"/>
                          <a:pt x="432" y="280"/>
                        </a:cubicBezTo>
                        <a:cubicBezTo>
                          <a:pt x="494" y="281"/>
                          <a:pt x="573" y="272"/>
                          <a:pt x="634" y="259"/>
                        </a:cubicBezTo>
                        <a:cubicBezTo>
                          <a:pt x="695" y="246"/>
                          <a:pt x="749" y="229"/>
                          <a:pt x="799" y="201"/>
                        </a:cubicBezTo>
                        <a:cubicBezTo>
                          <a:pt x="849" y="173"/>
                          <a:pt x="899" y="122"/>
                          <a:pt x="937" y="90"/>
                        </a:cubicBezTo>
                        <a:cubicBezTo>
                          <a:pt x="975" y="58"/>
                          <a:pt x="1012" y="0"/>
                          <a:pt x="1026" y="9"/>
                        </a:cubicBezTo>
                        <a:cubicBezTo>
                          <a:pt x="1021" y="13"/>
                          <a:pt x="1025" y="101"/>
                          <a:pt x="1019" y="144"/>
                        </a:cubicBezTo>
                        <a:cubicBezTo>
                          <a:pt x="1013" y="187"/>
                          <a:pt x="1007" y="227"/>
                          <a:pt x="992" y="267"/>
                        </a:cubicBezTo>
                        <a:cubicBezTo>
                          <a:pt x="978" y="307"/>
                          <a:pt x="952" y="351"/>
                          <a:pt x="929" y="384"/>
                        </a:cubicBezTo>
                        <a:cubicBezTo>
                          <a:pt x="907" y="417"/>
                          <a:pt x="886" y="440"/>
                          <a:pt x="857" y="467"/>
                        </a:cubicBezTo>
                        <a:cubicBezTo>
                          <a:pt x="827" y="493"/>
                          <a:pt x="790" y="521"/>
                          <a:pt x="749" y="542"/>
                        </a:cubicBezTo>
                        <a:cubicBezTo>
                          <a:pt x="708" y="562"/>
                          <a:pt x="659" y="580"/>
                          <a:pt x="610" y="588"/>
                        </a:cubicBezTo>
                        <a:cubicBezTo>
                          <a:pt x="561" y="596"/>
                          <a:pt x="505" y="600"/>
                          <a:pt x="455" y="594"/>
                        </a:cubicBezTo>
                        <a:cubicBezTo>
                          <a:pt x="404" y="588"/>
                          <a:pt x="353" y="572"/>
                          <a:pt x="310" y="553"/>
                        </a:cubicBezTo>
                        <a:cubicBezTo>
                          <a:pt x="267" y="533"/>
                          <a:pt x="229" y="510"/>
                          <a:pt x="193" y="479"/>
                        </a:cubicBezTo>
                        <a:cubicBezTo>
                          <a:pt x="157" y="448"/>
                          <a:pt x="121" y="408"/>
                          <a:pt x="95" y="368"/>
                        </a:cubicBezTo>
                        <a:cubicBezTo>
                          <a:pt x="69" y="328"/>
                          <a:pt x="52" y="286"/>
                          <a:pt x="36" y="237"/>
                        </a:cubicBezTo>
                        <a:cubicBezTo>
                          <a:pt x="20" y="188"/>
                          <a:pt x="0" y="92"/>
                          <a:pt x="1" y="73"/>
                        </a:cubicBezTo>
                        <a:lnTo>
                          <a:pt x="43" y="12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543000">
                    <a:off x="4094640" y="1969200"/>
                    <a:ext cx="10990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79" h="257">
                        <a:moveTo>
                          <a:pt x="0" y="78"/>
                        </a:moveTo>
                        <a:cubicBezTo>
                          <a:pt x="17" y="92"/>
                          <a:pt x="57" y="134"/>
                          <a:pt x="101" y="160"/>
                        </a:cubicBezTo>
                        <a:cubicBezTo>
                          <a:pt x="145" y="186"/>
                          <a:pt x="213" y="216"/>
                          <a:pt x="263" y="232"/>
                        </a:cubicBezTo>
                        <a:cubicBezTo>
                          <a:pt x="313" y="248"/>
                          <a:pt x="347" y="255"/>
                          <a:pt x="404" y="256"/>
                        </a:cubicBezTo>
                        <a:cubicBezTo>
                          <a:pt x="461" y="257"/>
                          <a:pt x="542" y="254"/>
                          <a:pt x="608" y="238"/>
                        </a:cubicBezTo>
                        <a:cubicBezTo>
                          <a:pt x="674" y="222"/>
                          <a:pt x="738" y="200"/>
                          <a:pt x="800" y="160"/>
                        </a:cubicBezTo>
                        <a:cubicBezTo>
                          <a:pt x="862" y="120"/>
                          <a:pt x="942" y="33"/>
                          <a:pt x="97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 rot="543000">
                  <a:off x="4103640" y="1582560"/>
                  <a:ext cx="282240" cy="80316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438000" y="1480680"/>
                <a:ext cx="929880" cy="1483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42200" y="1752840"/>
                <a:ext cx="667800" cy="106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063960" y="1861560"/>
                <a:ext cx="1323360" cy="21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3952800" y="1990800"/>
                <a:ext cx="446040" cy="478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87200" y="2053440"/>
                <a:ext cx="2260800" cy="360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734200" y="1629360"/>
                <a:ext cx="1635480" cy="1758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09000" y="2243880"/>
                <a:ext cx="2260440" cy="360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3312360" y="1935360"/>
                <a:ext cx="714960" cy="1180440"/>
                <a:chOff x="3312360" y="1935360"/>
                <a:chExt cx="714960" cy="1180440"/>
              </a:xfrm>
            </p:grpSpPr>
            <p:sp>
              <p:nvSpPr>
                <p:cNvPr id="82" name=""/>
                <p:cNvSpPr/>
                <p:nvPr/>
              </p:nvSpPr>
              <p:spPr>
                <a:xfrm rot="543000">
                  <a:off x="3395880" y="1972440"/>
                  <a:ext cx="547920" cy="110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543000">
                  <a:off x="3354120" y="2496240"/>
                  <a:ext cx="549360" cy="57960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543000">
                  <a:off x="3389400" y="2502000"/>
                  <a:ext cx="546120" cy="12348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543000">
                  <a:off x="3395880" y="1971360"/>
                  <a:ext cx="547920" cy="11037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3703680" y="2225160"/>
                <a:ext cx="1227960" cy="1320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3386520" y="2248560"/>
                <a:ext cx="1157400" cy="1243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50840" y="2626920"/>
                <a:ext cx="1039320" cy="165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3048120" y="2611080"/>
                <a:ext cx="776160" cy="834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300480" y="2575800"/>
                <a:ext cx="190080" cy="204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86920" y="2507040"/>
                <a:ext cx="528480" cy="8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2036160" y="2293920"/>
                <a:ext cx="1280160" cy="1287360"/>
                <a:chOff x="2036160" y="2293920"/>
                <a:chExt cx="1280160" cy="1287360"/>
              </a:xfrm>
            </p:grpSpPr>
            <p:sp>
              <p:nvSpPr>
                <p:cNvPr id="93" name=""/>
                <p:cNvSpPr/>
                <p:nvPr/>
              </p:nvSpPr>
              <p:spPr>
                <a:xfrm rot="543000">
                  <a:off x="2134800" y="2374920"/>
                  <a:ext cx="1101600" cy="110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543000">
                  <a:off x="2132280" y="2373480"/>
                  <a:ext cx="1101600" cy="1101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543000">
                  <a:off x="2081160" y="2828520"/>
                  <a:ext cx="1141560" cy="666720"/>
                </a:xfrm>
                <a:custGeom>
                  <a:avLst/>
                  <a:gdLst/>
                  <a:ahLst/>
                  <a:rect l="l" t="t" r="r" b="b"/>
                  <a:pathLst>
                    <a:path w="982" h="568">
                      <a:moveTo>
                        <a:pt x="22" y="106"/>
                      </a:moveTo>
                      <a:cubicBezTo>
                        <a:pt x="39" y="120"/>
                        <a:pt x="60" y="144"/>
                        <a:pt x="100" y="166"/>
                      </a:cubicBezTo>
                      <a:cubicBezTo>
                        <a:pt x="140" y="188"/>
                        <a:pt x="212" y="222"/>
                        <a:pt x="262" y="238"/>
                      </a:cubicBezTo>
                      <a:cubicBezTo>
                        <a:pt x="312" y="254"/>
                        <a:pt x="346" y="261"/>
                        <a:pt x="403" y="262"/>
                      </a:cubicBezTo>
                      <a:cubicBezTo>
                        <a:pt x="460" y="263"/>
                        <a:pt x="546" y="257"/>
                        <a:pt x="607" y="244"/>
                      </a:cubicBezTo>
                      <a:cubicBezTo>
                        <a:pt x="668" y="231"/>
                        <a:pt x="719" y="210"/>
                        <a:pt x="769" y="183"/>
                      </a:cubicBezTo>
                      <a:cubicBezTo>
                        <a:pt x="819" y="156"/>
                        <a:pt x="872" y="111"/>
                        <a:pt x="907" y="82"/>
                      </a:cubicBezTo>
                      <a:cubicBezTo>
                        <a:pt x="942" y="53"/>
                        <a:pt x="966" y="0"/>
                        <a:pt x="978" y="7"/>
                      </a:cubicBezTo>
                      <a:cubicBezTo>
                        <a:pt x="973" y="11"/>
                        <a:pt x="982" y="84"/>
                        <a:pt x="978" y="123"/>
                      </a:cubicBezTo>
                      <a:cubicBezTo>
                        <a:pt x="974" y="162"/>
                        <a:pt x="966" y="204"/>
                        <a:pt x="952" y="243"/>
                      </a:cubicBezTo>
                      <a:cubicBezTo>
                        <a:pt x="938" y="282"/>
                        <a:pt x="913" y="325"/>
                        <a:pt x="891" y="357"/>
                      </a:cubicBezTo>
                      <a:cubicBezTo>
                        <a:pt x="869" y="389"/>
                        <a:pt x="849" y="412"/>
                        <a:pt x="820" y="438"/>
                      </a:cubicBezTo>
                      <a:cubicBezTo>
                        <a:pt x="791" y="464"/>
                        <a:pt x="755" y="491"/>
                        <a:pt x="715" y="511"/>
                      </a:cubicBezTo>
                      <a:cubicBezTo>
                        <a:pt x="675" y="531"/>
                        <a:pt x="628" y="548"/>
                        <a:pt x="580" y="556"/>
                      </a:cubicBezTo>
                      <a:cubicBezTo>
                        <a:pt x="532" y="564"/>
                        <a:pt x="478" y="568"/>
                        <a:pt x="429" y="562"/>
                      </a:cubicBezTo>
                      <a:cubicBezTo>
                        <a:pt x="380" y="556"/>
                        <a:pt x="330" y="541"/>
                        <a:pt x="288" y="522"/>
                      </a:cubicBezTo>
                      <a:cubicBezTo>
                        <a:pt x="246" y="503"/>
                        <a:pt x="209" y="480"/>
                        <a:pt x="174" y="450"/>
                      </a:cubicBezTo>
                      <a:cubicBezTo>
                        <a:pt x="139" y="420"/>
                        <a:pt x="104" y="381"/>
                        <a:pt x="79" y="342"/>
                      </a:cubicBezTo>
                      <a:cubicBezTo>
                        <a:pt x="54" y="303"/>
                        <a:pt x="34" y="257"/>
                        <a:pt x="21" y="214"/>
                      </a:cubicBezTo>
                      <a:cubicBezTo>
                        <a:pt x="8" y="171"/>
                        <a:pt x="0" y="99"/>
                        <a:pt x="0" y="81"/>
                      </a:cubicBez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 rot="11343000">
                  <a:off x="2951640" y="2573280"/>
                  <a:ext cx="283680" cy="803520"/>
                </a:xfrm>
                <a:custGeom>
                  <a:avLst/>
                  <a:gdLst/>
                  <a:ahLst/>
                  <a:rect l="l" t="t" r="r" b="b"/>
                  <a:pathLst>
                    <a:path w="252" h="715">
                      <a:moveTo>
                        <a:pt x="84" y="643"/>
                      </a:moveTo>
                      <a:cubicBezTo>
                        <a:pt x="64" y="611"/>
                        <a:pt x="38" y="568"/>
                        <a:pt x="24" y="519"/>
                      </a:cubicBezTo>
                      <a:cubicBezTo>
                        <a:pt x="10" y="470"/>
                        <a:pt x="0" y="403"/>
                        <a:pt x="1" y="351"/>
                      </a:cubicBezTo>
                      <a:cubicBezTo>
                        <a:pt x="2" y="299"/>
                        <a:pt x="14" y="251"/>
                        <a:pt x="30" y="205"/>
                      </a:cubicBezTo>
                      <a:cubicBezTo>
                        <a:pt x="46" y="159"/>
                        <a:pt x="77" y="106"/>
                        <a:pt x="100" y="73"/>
                      </a:cubicBezTo>
                      <a:cubicBezTo>
                        <a:pt x="123" y="40"/>
                        <a:pt x="163" y="0"/>
                        <a:pt x="166" y="4"/>
                      </a:cubicBezTo>
                      <a:cubicBezTo>
                        <a:pt x="198" y="57"/>
                        <a:pt x="212" y="120"/>
                        <a:pt x="225" y="171"/>
                      </a:cubicBezTo>
                      <a:cubicBezTo>
                        <a:pt x="239" y="226"/>
                        <a:pt x="246" y="280"/>
                        <a:pt x="249" y="337"/>
                      </a:cubicBezTo>
                      <a:cubicBezTo>
                        <a:pt x="252" y="394"/>
                        <a:pt x="249" y="464"/>
                        <a:pt x="241" y="514"/>
                      </a:cubicBezTo>
                      <a:cubicBezTo>
                        <a:pt x="233" y="564"/>
                        <a:pt x="216" y="603"/>
                        <a:pt x="199" y="636"/>
                      </a:cubicBezTo>
                      <a:cubicBezTo>
                        <a:pt x="182" y="669"/>
                        <a:pt x="142" y="715"/>
                        <a:pt x="142" y="712"/>
                      </a:cubicBezTo>
                      <a:cubicBezTo>
                        <a:pt x="142" y="711"/>
                        <a:pt x="104" y="675"/>
                        <a:pt x="84" y="6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543000">
                  <a:off x="2926080" y="2551320"/>
                  <a:ext cx="127800" cy="818280"/>
                </a:xfrm>
                <a:custGeom>
                  <a:avLst/>
                  <a:gdLst/>
                  <a:ahLst/>
                  <a:rect l="l" t="t" r="r" b="b"/>
                  <a:pathLst>
                    <a:path w="114" h="728">
                      <a:moveTo>
                        <a:pt x="90" y="621"/>
                      </a:moveTo>
                      <a:cubicBezTo>
                        <a:pt x="86" y="592"/>
                        <a:pt x="86" y="572"/>
                        <a:pt x="84" y="540"/>
                      </a:cubicBezTo>
                      <a:cubicBezTo>
                        <a:pt x="82" y="508"/>
                        <a:pt x="78" y="467"/>
                        <a:pt x="78" y="426"/>
                      </a:cubicBezTo>
                      <a:cubicBezTo>
                        <a:pt x="78" y="385"/>
                        <a:pt x="80" y="339"/>
                        <a:pt x="81" y="291"/>
                      </a:cubicBezTo>
                      <a:cubicBezTo>
                        <a:pt x="82" y="243"/>
                        <a:pt x="83" y="185"/>
                        <a:pt x="84" y="138"/>
                      </a:cubicBezTo>
                      <a:cubicBezTo>
                        <a:pt x="85" y="91"/>
                        <a:pt x="95" y="0"/>
                        <a:pt x="86" y="6"/>
                      </a:cubicBezTo>
                      <a:cubicBezTo>
                        <a:pt x="54" y="59"/>
                        <a:pt x="40" y="122"/>
                        <a:pt x="27" y="173"/>
                      </a:cubicBezTo>
                      <a:cubicBezTo>
                        <a:pt x="13" y="228"/>
                        <a:pt x="6" y="282"/>
                        <a:pt x="3" y="339"/>
                      </a:cubicBezTo>
                      <a:cubicBezTo>
                        <a:pt x="0" y="396"/>
                        <a:pt x="3" y="465"/>
                        <a:pt x="11" y="516"/>
                      </a:cubicBezTo>
                      <a:cubicBezTo>
                        <a:pt x="19" y="567"/>
                        <a:pt x="35" y="608"/>
                        <a:pt x="52" y="643"/>
                      </a:cubicBezTo>
                      <a:cubicBezTo>
                        <a:pt x="69" y="678"/>
                        <a:pt x="108" y="728"/>
                        <a:pt x="114" y="724"/>
                      </a:cubicBezTo>
                      <a:cubicBezTo>
                        <a:pt x="114" y="723"/>
                        <a:pt x="95" y="642"/>
                        <a:pt x="90" y="621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3000">
                  <a:off x="2117880" y="2920320"/>
                  <a:ext cx="887040" cy="200160"/>
                </a:xfrm>
                <a:custGeom>
                  <a:avLst/>
                  <a:gdLst/>
                  <a:ahLst/>
                  <a:rect l="l" t="t" r="r" b="b"/>
                  <a:pathLst>
                    <a:path w="790" h="179">
                      <a:moveTo>
                        <a:pt x="0" y="0"/>
                      </a:moveTo>
                      <a:cubicBezTo>
                        <a:pt x="17" y="14"/>
                        <a:pt x="57" y="56"/>
                        <a:pt x="101" y="82"/>
                      </a:cubicBezTo>
                      <a:cubicBezTo>
                        <a:pt x="145" y="108"/>
                        <a:pt x="213" y="138"/>
                        <a:pt x="263" y="154"/>
                      </a:cubicBezTo>
                      <a:cubicBezTo>
                        <a:pt x="313" y="170"/>
                        <a:pt x="347" y="177"/>
                        <a:pt x="404" y="178"/>
                      </a:cubicBezTo>
                      <a:cubicBezTo>
                        <a:pt x="461" y="179"/>
                        <a:pt x="556" y="169"/>
                        <a:pt x="608" y="160"/>
                      </a:cubicBezTo>
                      <a:cubicBezTo>
                        <a:pt x="660" y="151"/>
                        <a:pt x="687" y="140"/>
                        <a:pt x="714" y="123"/>
                      </a:cubicBezTo>
                      <a:cubicBezTo>
                        <a:pt x="741" y="106"/>
                        <a:pt x="755" y="73"/>
                        <a:pt x="768" y="60"/>
                      </a:cubicBezTo>
                      <a:cubicBezTo>
                        <a:pt x="781" y="47"/>
                        <a:pt x="785" y="46"/>
                        <a:pt x="790" y="4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 flipH="1">
                <a:off x="3039480" y="2349000"/>
                <a:ext cx="308880" cy="33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20400" y="2732400"/>
                <a:ext cx="1400040" cy="223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3000">
                <a:off x="2841840" y="3249360"/>
                <a:ext cx="1422360" cy="324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969280" y="2941200"/>
                <a:ext cx="1481400" cy="236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27720" y="2766240"/>
                <a:ext cx="583920" cy="628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421000" y="3139920"/>
                <a:ext cx="191880" cy="206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106360" y="3042720"/>
                <a:ext cx="227880" cy="248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21960" y="3250440"/>
                <a:ext cx="2210760" cy="35244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3000">
                <a:off x="2157120" y="3107880"/>
                <a:ext cx="401760" cy="345960"/>
              </a:xfrm>
              <a:custGeom>
                <a:avLst/>
                <a:gdLst/>
                <a:ahLst/>
                <a:rect l="l" t="t" r="r" b="b"/>
                <a:pathLst>
                  <a:path w="720" h="622">
                    <a:moveTo>
                      <a:pt x="430" y="0"/>
                    </a:moveTo>
                    <a:lnTo>
                      <a:pt x="177" y="379"/>
                    </a:lnTo>
                    <a:lnTo>
                      <a:pt x="0" y="379"/>
                    </a:lnTo>
                    <a:lnTo>
                      <a:pt x="168" y="622"/>
                    </a:lnTo>
                    <a:lnTo>
                      <a:pt x="631" y="379"/>
                    </a:lnTo>
                    <a:lnTo>
                      <a:pt x="465" y="382"/>
                    </a:lnTo>
                    <a:lnTo>
                      <a:pt x="720" y="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029400" y="2118960"/>
                <a:ext cx="1308240" cy="475920"/>
                <a:chOff x="3029400" y="2118960"/>
                <a:chExt cx="1308240" cy="475920"/>
              </a:xfrm>
            </p:grpSpPr>
            <p:sp>
              <p:nvSpPr>
                <p:cNvPr id="109" name=""/>
                <p:cNvSpPr/>
                <p:nvPr/>
              </p:nvSpPr>
              <p:spPr>
                <a:xfrm flipV="1">
                  <a:off x="3758040" y="2264040"/>
                  <a:ext cx="96120" cy="101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902400" y="2234520"/>
                  <a:ext cx="230400" cy="138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3976920" y="2453040"/>
                  <a:ext cx="332640" cy="33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65040" y="2558880"/>
                  <a:ext cx="372600" cy="36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3212280" y="2118960"/>
                  <a:ext cx="308880" cy="189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flipV="1">
                  <a:off x="3081240" y="2272320"/>
                  <a:ext cx="345240" cy="141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3029400" y="2440080"/>
                  <a:ext cx="318600" cy="56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3331800" y="2430360"/>
                  <a:ext cx="225720" cy="59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3380400" y="2294280"/>
                  <a:ext cx="193320" cy="91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3595680" y="2250360"/>
                  <a:ext cx="61560" cy="98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3831840" y="2381040"/>
                  <a:ext cx="146880" cy="27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806280" y="2489040"/>
                  <a:ext cx="231840" cy="22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3534120" y="2405520"/>
                  <a:ext cx="121320" cy="59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003120" y="2621160"/>
                <a:ext cx="1278000" cy="465120"/>
                <a:chOff x="3003120" y="2621160"/>
                <a:chExt cx="1278000" cy="46512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3447360" y="2793960"/>
                  <a:ext cx="108360" cy="1360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177720" y="2828880"/>
                  <a:ext cx="230760" cy="1404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003120" y="2716200"/>
                  <a:ext cx="331200" cy="33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3101760" y="2621160"/>
                  <a:ext cx="245520" cy="212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790440" y="2895480"/>
                  <a:ext cx="309240" cy="190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83680" y="2788920"/>
                  <a:ext cx="345240" cy="141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63600" y="2705040"/>
                  <a:ext cx="317520" cy="561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754440" y="2713320"/>
                  <a:ext cx="225360" cy="597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737880" y="2816640"/>
                  <a:ext cx="193680" cy="91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655080" y="2852640"/>
                  <a:ext cx="61560" cy="1004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32160" y="2796840"/>
                  <a:ext cx="147240" cy="255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3275280" y="2691000"/>
                  <a:ext cx="230040" cy="21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55080" y="2737080"/>
                  <a:ext cx="121320" cy="594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2002320" y="3006000"/>
                <a:ext cx="366840" cy="583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44320" y="2176920"/>
                <a:ext cx="275760" cy="43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203080" y="1782720"/>
                <a:ext cx="139680" cy="15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18639000">
              <a:off x="4249800" y="24969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eaction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920400" y="1341000"/>
              <a:ext cx="490320" cy="5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6800" y="3590280"/>
              <a:ext cx="642960" cy="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6080" y="362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44880" y="1242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25520" y="3075120"/>
              <a:ext cx="252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52880" y="3052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6280" y="52750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62360" y="41274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70360" y="41241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16840" y="4081320"/>
              <a:ext cx="3900600" cy="2747160"/>
              <a:chOff x="1716840" y="4081320"/>
              <a:chExt cx="3900600" cy="2747160"/>
            </a:xfrm>
          </p:grpSpPr>
          <p:sp>
            <p:nvSpPr>
              <p:cNvPr id="150" name=""/>
              <p:cNvSpPr/>
              <p:nvPr/>
            </p:nvSpPr>
            <p:spPr>
              <a:xfrm>
                <a:off x="2647800" y="5258160"/>
                <a:ext cx="2260080" cy="360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015800" y="4835880"/>
                <a:ext cx="1227600" cy="131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733200" y="4748760"/>
                <a:ext cx="1227600" cy="13194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396600" y="4696200"/>
                <a:ext cx="1227600" cy="131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26160" y="5021280"/>
                <a:ext cx="1323000" cy="21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9600" y="5639040"/>
                <a:ext cx="1399680" cy="223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325320" y="5262840"/>
                <a:ext cx="1157760" cy="1242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512440" y="4496400"/>
                <a:ext cx="848160" cy="907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846520" y="4546800"/>
                <a:ext cx="831960" cy="89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84560" y="4686840"/>
                <a:ext cx="2256840" cy="35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3000">
                <a:off x="1852200" y="4553640"/>
                <a:ext cx="3630240" cy="2001600"/>
              </a:xfrm>
              <a:prstGeom prst="parallelogram">
                <a:avLst>
                  <a:gd name="adj" fmla="val 67290"/>
                </a:avLst>
              </a:prstGeom>
              <a:noFill/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16840" y="5876280"/>
                <a:ext cx="354960" cy="3834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66400" y="4597920"/>
                <a:ext cx="1031400" cy="1107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669400" y="5591160"/>
                <a:ext cx="759600" cy="812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77520" y="4493880"/>
                <a:ext cx="929520" cy="1483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80640" y="4765680"/>
                <a:ext cx="667440" cy="106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02040" y="4875480"/>
                <a:ext cx="1323000" cy="21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891600" y="5003280"/>
                <a:ext cx="445680" cy="478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25640" y="5067360"/>
                <a:ext cx="2260080" cy="360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672280" y="4642920"/>
                <a:ext cx="1635120" cy="1758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642840" y="5239080"/>
                <a:ext cx="1227600" cy="131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238200" y="5589720"/>
                <a:ext cx="189720" cy="204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25720" y="5519880"/>
                <a:ext cx="528120" cy="8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978640" y="5361840"/>
                <a:ext cx="308160" cy="331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58120" y="5745600"/>
                <a:ext cx="1399680" cy="2232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43000">
                <a:off x="2287440" y="6220440"/>
                <a:ext cx="1922040" cy="2520"/>
              </a:xfrm>
              <a:custGeom>
                <a:avLst/>
                <a:gdLst/>
                <a:ahLst/>
                <a:rect l="l" t="t" r="r" b="b"/>
                <a:pathLst>
                  <a:path w="1266" h="3">
                    <a:moveTo>
                      <a:pt x="0" y="3"/>
                    </a:moveTo>
                    <a:lnTo>
                      <a:pt x="1266" y="0"/>
                    </a:lnTo>
                  </a:path>
                </a:pathLst>
              </a:custGeom>
              <a:noFill/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08080" y="5954760"/>
                <a:ext cx="1481040" cy="236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358720" y="6153480"/>
                <a:ext cx="191160" cy="205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042640" y="6053040"/>
                <a:ext cx="2289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60400" y="6263640"/>
                <a:ext cx="2210040" cy="352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40400" y="6018480"/>
                <a:ext cx="366840" cy="583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83120" y="5190480"/>
                <a:ext cx="275400" cy="43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141520" y="4795560"/>
                <a:ext cx="139680" cy="152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571800">
                <a:off x="2745720" y="4920120"/>
                <a:ext cx="1944360" cy="961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986560" y="5623920"/>
                <a:ext cx="775800" cy="834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25440" y="5829480"/>
                <a:ext cx="1481040" cy="236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1371800">
                <a:off x="2396880" y="4305960"/>
                <a:ext cx="2816640" cy="12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57" y="2880"/>
                    </a:moveTo>
                    <a:arcTo wR="10800" hR="10800" stAng="-7970201" swAng="5200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57" y="2880"/>
                    </a:moveTo>
                    <a:arcTo wR="10800" hR="10800" stAng="-7970201" swAng="52001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57240" y="5207760"/>
                <a:ext cx="1923840" cy="695160"/>
              </a:xfrm>
              <a:custGeom>
                <a:avLst/>
                <a:gdLst/>
                <a:ahLst/>
                <a:rect l="l" t="t" r="r" b="b"/>
                <a:pathLst>
                  <a:path w="1212" h="438">
                    <a:moveTo>
                      <a:pt x="58" y="184"/>
                    </a:moveTo>
                    <a:cubicBezTo>
                      <a:pt x="69" y="195"/>
                      <a:pt x="60" y="192"/>
                      <a:pt x="108" y="234"/>
                    </a:cubicBezTo>
                    <a:cubicBezTo>
                      <a:pt x="157" y="271"/>
                      <a:pt x="130" y="252"/>
                      <a:pt x="163" y="276"/>
                    </a:cubicBezTo>
                    <a:cubicBezTo>
                      <a:pt x="200" y="299"/>
                      <a:pt x="211" y="307"/>
                      <a:pt x="244" y="322"/>
                    </a:cubicBezTo>
                    <a:cubicBezTo>
                      <a:pt x="276" y="337"/>
                      <a:pt x="318" y="355"/>
                      <a:pt x="334" y="361"/>
                    </a:cubicBezTo>
                    <a:cubicBezTo>
                      <a:pt x="354" y="369"/>
                      <a:pt x="374" y="375"/>
                      <a:pt x="394" y="382"/>
                    </a:cubicBezTo>
                    <a:cubicBezTo>
                      <a:pt x="415" y="390"/>
                      <a:pt x="445" y="396"/>
                      <a:pt x="471" y="405"/>
                    </a:cubicBezTo>
                    <a:cubicBezTo>
                      <a:pt x="516" y="411"/>
                      <a:pt x="505" y="411"/>
                      <a:pt x="526" y="414"/>
                    </a:cubicBezTo>
                    <a:cubicBezTo>
                      <a:pt x="555" y="420"/>
                      <a:pt x="559" y="421"/>
                      <a:pt x="579" y="424"/>
                    </a:cubicBezTo>
                    <a:cubicBezTo>
                      <a:pt x="615" y="429"/>
                      <a:pt x="637" y="433"/>
                      <a:pt x="658" y="433"/>
                    </a:cubicBezTo>
                    <a:cubicBezTo>
                      <a:pt x="697" y="438"/>
                      <a:pt x="717" y="435"/>
                      <a:pt x="730" y="436"/>
                    </a:cubicBezTo>
                    <a:cubicBezTo>
                      <a:pt x="774" y="436"/>
                      <a:pt x="763" y="438"/>
                      <a:pt x="792" y="436"/>
                    </a:cubicBezTo>
                    <a:cubicBezTo>
                      <a:pt x="828" y="435"/>
                      <a:pt x="849" y="433"/>
                      <a:pt x="871" y="430"/>
                    </a:cubicBezTo>
                    <a:cubicBezTo>
                      <a:pt x="934" y="420"/>
                      <a:pt x="915" y="424"/>
                      <a:pt x="940" y="418"/>
                    </a:cubicBezTo>
                    <a:cubicBezTo>
                      <a:pt x="987" y="406"/>
                      <a:pt x="985" y="408"/>
                      <a:pt x="1008" y="400"/>
                    </a:cubicBezTo>
                    <a:cubicBezTo>
                      <a:pt x="1054" y="385"/>
                      <a:pt x="1068" y="381"/>
                      <a:pt x="1090" y="367"/>
                    </a:cubicBezTo>
                    <a:cubicBezTo>
                      <a:pt x="1137" y="334"/>
                      <a:pt x="1142" y="336"/>
                      <a:pt x="1167" y="312"/>
                    </a:cubicBezTo>
                    <a:cubicBezTo>
                      <a:pt x="1191" y="281"/>
                      <a:pt x="1183" y="292"/>
                      <a:pt x="1195" y="271"/>
                    </a:cubicBezTo>
                    <a:cubicBezTo>
                      <a:pt x="1210" y="237"/>
                      <a:pt x="1201" y="259"/>
                      <a:pt x="1205" y="251"/>
                    </a:cubicBezTo>
                    <a:cubicBezTo>
                      <a:pt x="1206" y="236"/>
                      <a:pt x="1209" y="237"/>
                      <a:pt x="1212" y="207"/>
                    </a:cubicBezTo>
                    <a:cubicBezTo>
                      <a:pt x="1176" y="213"/>
                      <a:pt x="1163" y="217"/>
                      <a:pt x="1143" y="219"/>
                    </a:cubicBezTo>
                    <a:cubicBezTo>
                      <a:pt x="1134" y="222"/>
                      <a:pt x="1107" y="225"/>
                      <a:pt x="1107" y="225"/>
                    </a:cubicBezTo>
                    <a:cubicBezTo>
                      <a:pt x="1068" y="232"/>
                      <a:pt x="1054" y="231"/>
                      <a:pt x="1027" y="232"/>
                    </a:cubicBezTo>
                    <a:cubicBezTo>
                      <a:pt x="994" y="235"/>
                      <a:pt x="962" y="238"/>
                      <a:pt x="940" y="238"/>
                    </a:cubicBezTo>
                    <a:cubicBezTo>
                      <a:pt x="907" y="237"/>
                      <a:pt x="891" y="235"/>
                      <a:pt x="861" y="237"/>
                    </a:cubicBezTo>
                    <a:cubicBezTo>
                      <a:pt x="818" y="236"/>
                      <a:pt x="814" y="234"/>
                      <a:pt x="777" y="234"/>
                    </a:cubicBezTo>
                    <a:cubicBezTo>
                      <a:pt x="738" y="229"/>
                      <a:pt x="723" y="230"/>
                      <a:pt x="675" y="222"/>
                    </a:cubicBezTo>
                    <a:cubicBezTo>
                      <a:pt x="654" y="219"/>
                      <a:pt x="634" y="217"/>
                      <a:pt x="615" y="214"/>
                    </a:cubicBezTo>
                    <a:cubicBezTo>
                      <a:pt x="593" y="210"/>
                      <a:pt x="567" y="204"/>
                      <a:pt x="541" y="199"/>
                    </a:cubicBezTo>
                    <a:cubicBezTo>
                      <a:pt x="511" y="194"/>
                      <a:pt x="494" y="191"/>
                      <a:pt x="460" y="183"/>
                    </a:cubicBezTo>
                    <a:cubicBezTo>
                      <a:pt x="424" y="176"/>
                      <a:pt x="424" y="172"/>
                      <a:pt x="387" y="165"/>
                    </a:cubicBezTo>
                    <a:cubicBezTo>
                      <a:pt x="358" y="157"/>
                      <a:pt x="338" y="149"/>
                      <a:pt x="316" y="142"/>
                    </a:cubicBezTo>
                    <a:cubicBezTo>
                      <a:pt x="306" y="138"/>
                      <a:pt x="262" y="122"/>
                      <a:pt x="252" y="121"/>
                    </a:cubicBezTo>
                    <a:cubicBezTo>
                      <a:pt x="233" y="114"/>
                      <a:pt x="219" y="107"/>
                      <a:pt x="203" y="101"/>
                    </a:cubicBezTo>
                    <a:cubicBezTo>
                      <a:pt x="187" y="95"/>
                      <a:pt x="185" y="92"/>
                      <a:pt x="169" y="87"/>
                    </a:cubicBezTo>
                    <a:cubicBezTo>
                      <a:pt x="154" y="81"/>
                      <a:pt x="138" y="73"/>
                      <a:pt x="123" y="64"/>
                    </a:cubicBezTo>
                    <a:cubicBezTo>
                      <a:pt x="106" y="55"/>
                      <a:pt x="86" y="46"/>
                      <a:pt x="70" y="36"/>
                    </a:cubicBezTo>
                    <a:cubicBezTo>
                      <a:pt x="59" y="29"/>
                      <a:pt x="40" y="21"/>
                      <a:pt x="29" y="15"/>
                    </a:cubicBezTo>
                    <a:cubicBezTo>
                      <a:pt x="27" y="14"/>
                      <a:pt x="6" y="0"/>
                      <a:pt x="7" y="1"/>
                    </a:cubicBezTo>
                    <a:cubicBezTo>
                      <a:pt x="5" y="12"/>
                      <a:pt x="1" y="15"/>
                      <a:pt x="0" y="45"/>
                    </a:cubicBezTo>
                    <a:cubicBezTo>
                      <a:pt x="0" y="73"/>
                      <a:pt x="1" y="77"/>
                      <a:pt x="10" y="106"/>
                    </a:cubicBezTo>
                    <a:cubicBezTo>
                      <a:pt x="27" y="139"/>
                      <a:pt x="40" y="163"/>
                      <a:pt x="57" y="183"/>
                    </a:cubicBez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859480" y="5506200"/>
                <a:ext cx="641520" cy="69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395440" y="5426280"/>
                <a:ext cx="830520" cy="894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088720" y="5315040"/>
                <a:ext cx="870840" cy="936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045240" y="5560560"/>
                <a:ext cx="775800" cy="834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3405600" y="5585760"/>
                <a:ext cx="775800" cy="834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89280" y="5640840"/>
                <a:ext cx="1039320" cy="165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68880" y="5446440"/>
                <a:ext cx="1586160" cy="252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32320" y="5256720"/>
                <a:ext cx="319320" cy="52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57960" y="5562000"/>
                <a:ext cx="355320" cy="57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3674520" y="5559480"/>
                <a:ext cx="895680" cy="963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61000" y="5744880"/>
                <a:ext cx="1586160" cy="252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4178880" y="5008680"/>
                <a:ext cx="820800" cy="491400"/>
                <a:chOff x="4178880" y="5008680"/>
                <a:chExt cx="820800" cy="491400"/>
              </a:xfrm>
            </p:grpSpPr>
            <p:sp>
              <p:nvSpPr>
                <p:cNvPr id="200" name=""/>
                <p:cNvSpPr/>
                <p:nvPr/>
              </p:nvSpPr>
              <p:spPr>
                <a:xfrm flipV="1">
                  <a:off x="4178880" y="5097600"/>
                  <a:ext cx="96480" cy="101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4398840" y="5008680"/>
                  <a:ext cx="231120" cy="137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4514400" y="5251680"/>
                  <a:ext cx="333360" cy="32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27440" y="5464800"/>
                  <a:ext cx="372240" cy="35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268520" y="5240520"/>
                  <a:ext cx="145440" cy="26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51240" y="5403960"/>
                  <a:ext cx="231120" cy="22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526120" y="4821120"/>
                <a:ext cx="932040" cy="403560"/>
                <a:chOff x="2526120" y="4821120"/>
                <a:chExt cx="932040" cy="40356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flipV="1">
                  <a:off x="2825280" y="4821120"/>
                  <a:ext cx="308880" cy="1904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2605320" y="4948920"/>
                  <a:ext cx="345240" cy="141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2526120" y="5109120"/>
                  <a:ext cx="318600" cy="56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2942280" y="5165280"/>
                  <a:ext cx="225000" cy="59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3177360" y="4902840"/>
                  <a:ext cx="192240" cy="914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>
                  <a:off x="3395880" y="4824720"/>
                  <a:ext cx="62280" cy="99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3174840" y="5084640"/>
                  <a:ext cx="122040" cy="597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602800" y="5342760"/>
                <a:ext cx="484560" cy="433080"/>
                <a:chOff x="2602800" y="5342760"/>
                <a:chExt cx="484560" cy="43308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2980800" y="5640480"/>
                  <a:ext cx="106560" cy="1353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2774880" y="5578560"/>
                  <a:ext cx="229680" cy="139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2628360" y="5503320"/>
                  <a:ext cx="331560" cy="31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2602800" y="5342760"/>
                  <a:ext cx="245520" cy="219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2921040" y="5524560"/>
                  <a:ext cx="146880" cy="241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2776320" y="5411880"/>
                  <a:ext cx="230760" cy="226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047480" y="5673600"/>
                <a:ext cx="784440" cy="351720"/>
                <a:chOff x="4047480" y="5673600"/>
                <a:chExt cx="784440" cy="3517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152960" y="5834520"/>
                  <a:ext cx="308880" cy="190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36200" y="5758920"/>
                  <a:ext cx="345600" cy="141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14760" y="5689800"/>
                  <a:ext cx="317160" cy="5652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244760" y="5673600"/>
                  <a:ext cx="226800" cy="604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31000" y="5771160"/>
                  <a:ext cx="194040" cy="921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47480" y="5853960"/>
                  <a:ext cx="61200" cy="1011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119480" y="5705640"/>
                  <a:ext cx="122040" cy="5976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4581000" y="5577120"/>
              <a:ext cx="89784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732120" y="4340880"/>
              <a:ext cx="3600" cy="70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303080" y="4191480"/>
              <a:ext cx="490320" cy="52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2209680"/>
              <a:ext cx="1143000" cy="274284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561960 h 2742840"/>
                <a:gd name="textAreaBottom" fmla="*/ 1936080 h 27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853" stAng="-5400000" swAng="-5400000"/>
                  <a:lnTo>
                    <a:pt x="0" y="10820"/>
                  </a:lnTo>
                  <a:arcTo wR="21600" hR="8853" stAng="10800000" swAng="-3412674"/>
                  <a:lnTo>
                    <a:pt x="16020" y="21299"/>
                  </a:lnTo>
                  <a:lnTo>
                    <a:pt x="21600" y="18690"/>
                  </a:lnTo>
                  <a:lnTo>
                    <a:pt x="16020" y="15478"/>
                  </a:lnTo>
                  <a:lnTo>
                    <a:pt x="16020" y="17405"/>
                  </a:lnTo>
                  <a:arcTo wR="21600" hR="8853" stAng="7387326" swAng="3255281"/>
                  <a:lnTo>
                    <a:pt x="134" y="9837"/>
                  </a:lnTo>
                  <a:arcTo wR="21600" hR="8853" stAng="-10642606" swAng="5242606"/>
                  <a:close/>
                </a:path>
                <a:path fill="darkenLess" w="21600" h="21600">
                  <a:moveTo>
                    <a:pt x="21600" y="0"/>
                  </a:moveTo>
                  <a:arcTo wR="21600" hR="8853" stAng="-5400000" swAng="-5400000"/>
                  <a:lnTo>
                    <a:pt x="0" y="8853"/>
                  </a:lnTo>
                  <a:arcTo wR="21600" hR="8853" stAng="10800000" swAng="-157394"/>
                  <a:lnTo>
                    <a:pt x="134" y="9837"/>
                  </a:lnTo>
                  <a:arcTo wR="21600" hR="8853" stAng="-10642606" swAng="52426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10287000" y="6172200"/>
            <a:ext cx="4876920" cy="3979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10287000" y="15998760"/>
            <a:ext cx="3657600" cy="3508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15925680" y="31177080"/>
            <a:ext cx="4973760" cy="3714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913960" y="33850440"/>
            <a:ext cx="19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HGP明朝B"/>
              </a:rPr>
              <a:t>PHENIX prelim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21107520" y="31138920"/>
            <a:ext cx="4917960" cy="37605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6291080" y="28509840"/>
            <a:ext cx="9159120" cy="2610360"/>
            <a:chOff x="16291080" y="28509840"/>
            <a:chExt cx="9159120" cy="2610360"/>
          </a:xfrm>
        </p:grpSpPr>
        <p:sp>
          <p:nvSpPr>
            <p:cNvPr id="239" name=""/>
            <p:cNvSpPr/>
            <p:nvPr/>
          </p:nvSpPr>
          <p:spPr>
            <a:xfrm>
              <a:off x="20116800" y="28842840"/>
              <a:ext cx="740160" cy="1591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1585400">
              <a:off x="19787400" y="29216160"/>
              <a:ext cx="575280" cy="281520"/>
            </a:xfrm>
            <a:custGeom>
              <a:avLst/>
              <a:gdLst>
                <a:gd name="textAreaLeft" fmla="*/ 71640 w 575280"/>
                <a:gd name="textAreaRight" fmla="*/ 503640 w 575280"/>
                <a:gd name="textAreaTop" fmla="*/ 70200 h 281520"/>
                <a:gd name="textAreaBottom" fmla="*/ 211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558600">
              <a:off x="20179800" y="29113560"/>
              <a:ext cx="655200" cy="205920"/>
            </a:xfrm>
            <a:custGeom>
              <a:avLst/>
              <a:gdLst>
                <a:gd name="textAreaLeft" fmla="*/ 81720 w 655200"/>
                <a:gd name="textAreaRight" fmla="*/ 573480 w 655200"/>
                <a:gd name="textAreaTop" fmla="*/ 51480 h 205920"/>
                <a:gd name="textAreaBottom" fmla="*/ 154440 h 2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89200">
              <a:off x="20568600" y="29684160"/>
              <a:ext cx="575280" cy="281160"/>
            </a:xfrm>
            <a:custGeom>
              <a:avLst/>
              <a:gdLst>
                <a:gd name="textAreaLeft" fmla="*/ 71640 w 575280"/>
                <a:gd name="textAreaRight" fmla="*/ 503640 w 575280"/>
                <a:gd name="textAreaTop" fmla="*/ 70200 h 281160"/>
                <a:gd name="textAreaBottom" fmla="*/ 21096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4521600">
              <a:off x="20138760" y="30003120"/>
              <a:ext cx="654840" cy="207360"/>
            </a:xfrm>
            <a:custGeom>
              <a:avLst/>
              <a:gdLst>
                <a:gd name="textAreaLeft" fmla="*/ 81720 w 654840"/>
                <a:gd name="textAreaRight" fmla="*/ 573120 w 654840"/>
                <a:gd name="textAreaTop" fmla="*/ 51840 h 207360"/>
                <a:gd name="textAreaBottom" fmla="*/ 15552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9351000">
              <a:off x="19417680" y="29449800"/>
              <a:ext cx="616680" cy="139680"/>
            </a:xfrm>
            <a:custGeom>
              <a:avLst/>
              <a:gdLst>
                <a:gd name="textAreaLeft" fmla="*/ 96120 w 616680"/>
                <a:gd name="textAreaRight" fmla="*/ 539640 w 616680"/>
                <a:gd name="textAreaTop" fmla="*/ 34920 h 139680"/>
                <a:gd name="textAreaBottom" fmla="*/ 10476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5439600">
              <a:off x="20072880" y="30348000"/>
              <a:ext cx="703080" cy="124200"/>
            </a:xfrm>
            <a:custGeom>
              <a:avLst/>
              <a:gdLst>
                <a:gd name="textAreaLeft" fmla="*/ 109800 w 703080"/>
                <a:gd name="textAreaRight" fmla="*/ 615240 w 703080"/>
                <a:gd name="textAreaTop" fmla="*/ 30960 h 124200"/>
                <a:gd name="textAreaBottom" fmla="*/ 9324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20870400">
              <a:off x="20856600" y="29637000"/>
              <a:ext cx="616680" cy="141480"/>
            </a:xfrm>
            <a:custGeom>
              <a:avLst/>
              <a:gdLst>
                <a:gd name="textAreaLeft" fmla="*/ 96120 w 616680"/>
                <a:gd name="textAreaRight" fmla="*/ 539640 w 616680"/>
                <a:gd name="textAreaTop" fmla="*/ 35280 h 141480"/>
                <a:gd name="textAreaBottom" fmla="*/ 10620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16859400">
              <a:off x="20238840" y="28804320"/>
              <a:ext cx="701640" cy="121680"/>
            </a:xfrm>
            <a:custGeom>
              <a:avLst/>
              <a:gdLst>
                <a:gd name="textAreaLeft" fmla="*/ 109440 w 701640"/>
                <a:gd name="textAreaRight" fmla="*/ 614160 w 701640"/>
                <a:gd name="textAreaTop" fmla="*/ 30240 h 121680"/>
                <a:gd name="textAreaBottom" fmla="*/ 91440 h 12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807640" y="29041560"/>
              <a:ext cx="159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nihi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compton scatt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59040" y="30392280"/>
              <a:ext cx="135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Bremsstrah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(energy lo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3091480" y="28821600"/>
              <a:ext cx="2358720" cy="1599840"/>
              <a:chOff x="23091480" y="28821600"/>
              <a:chExt cx="2358720" cy="15998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091480" y="29621160"/>
                <a:ext cx="23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4284520" y="2882160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24128280" y="29277720"/>
                <a:ext cx="312480" cy="662400"/>
                <a:chOff x="24128280" y="29277720"/>
                <a:chExt cx="312480" cy="6624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4128280" y="29278080"/>
                  <a:ext cx="311760" cy="66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128280" y="29593800"/>
                  <a:ext cx="312480" cy="34632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4128280" y="29595240"/>
                  <a:ext cx="311040" cy="738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4128280" y="29277720"/>
                  <a:ext cx="311760" cy="6602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 rot="16200000">
                <a:off x="24145920" y="28887480"/>
                <a:ext cx="291240" cy="388440"/>
              </a:xfrm>
              <a:custGeom>
                <a:avLst/>
                <a:gdLst>
                  <a:gd name="textAreaLeft" fmla="*/ 45360 w 291240"/>
                  <a:gd name="textAreaRight" fmla="*/ 244800 w 291240"/>
                  <a:gd name="textAreaTop" fmla="*/ 97560 h 388440"/>
                  <a:gd name="textAreaBottom" fmla="*/ 290880 h 38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400000">
                <a:off x="24145560" y="29973960"/>
                <a:ext cx="291240" cy="388440"/>
              </a:xfrm>
              <a:custGeom>
                <a:avLst/>
                <a:gdLst>
                  <a:gd name="textAreaLeft" fmla="*/ 45360 w 291240"/>
                  <a:gd name="textAreaRight" fmla="*/ 244800 w 291240"/>
                  <a:gd name="textAreaTop" fmla="*/ 97560 h 388440"/>
                  <a:gd name="textAreaBottom" fmla="*/ 290880 h 38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8596800">
                <a:off x="23619600" y="29767320"/>
                <a:ext cx="408240" cy="386280"/>
              </a:xfrm>
              <a:custGeom>
                <a:avLst/>
                <a:gdLst>
                  <a:gd name="textAreaLeft" fmla="*/ 63720 w 408240"/>
                  <a:gd name="textAreaRight" fmla="*/ 343080 w 408240"/>
                  <a:gd name="textAreaTop" fmla="*/ 97200 h 386280"/>
                  <a:gd name="textAreaBottom" fmla="*/ 289080 h 38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0800000">
                <a:off x="23263920" y="29421000"/>
                <a:ext cx="640800" cy="385920"/>
              </a:xfrm>
              <a:custGeom>
                <a:avLst/>
                <a:gdLst>
                  <a:gd name="textAreaLeft" fmla="*/ 100080 w 640800"/>
                  <a:gd name="textAreaRight" fmla="*/ 538200 w 640800"/>
                  <a:gd name="textAreaTop" fmla="*/ 96840 h 385920"/>
                  <a:gd name="textAreaBottom" fmla="*/ 28908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3749600">
                <a:off x="23657040" y="29001240"/>
                <a:ext cx="408240" cy="388440"/>
              </a:xfrm>
              <a:custGeom>
                <a:avLst/>
                <a:gdLst>
                  <a:gd name="textAreaLeft" fmla="*/ 63720 w 408240"/>
                  <a:gd name="textAreaRight" fmla="*/ 343080 w 408240"/>
                  <a:gd name="textAreaTop" fmla="*/ 97560 h 388440"/>
                  <a:gd name="textAreaBottom" fmla="*/ 290880 h 38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495400">
                <a:off x="24529320" y="29792160"/>
                <a:ext cx="410400" cy="385920"/>
              </a:xfrm>
              <a:custGeom>
                <a:avLst/>
                <a:gdLst>
                  <a:gd name="textAreaLeft" fmla="*/ 64080 w 410400"/>
                  <a:gd name="textAreaRight" fmla="*/ 344880 w 410400"/>
                  <a:gd name="textAreaTop" fmla="*/ 96840 h 385920"/>
                  <a:gd name="textAreaBottom" fmla="*/ 28908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87800">
                <a:off x="24529680" y="29050920"/>
                <a:ext cx="410400" cy="384120"/>
              </a:xfrm>
              <a:custGeom>
                <a:avLst/>
                <a:gdLst>
                  <a:gd name="textAreaLeft" fmla="*/ 64080 w 410400"/>
                  <a:gd name="textAreaRight" fmla="*/ 344880 w 410400"/>
                  <a:gd name="textAreaTop" fmla="*/ 96480 h 384120"/>
                  <a:gd name="textAreaBottom" fmla="*/ 2876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645600" y="29426400"/>
                <a:ext cx="639000" cy="385920"/>
              </a:xfrm>
              <a:custGeom>
                <a:avLst/>
                <a:gdLst>
                  <a:gd name="textAreaLeft" fmla="*/ 99720 w 639000"/>
                  <a:gd name="textAreaRight" fmla="*/ 536760 w 639000"/>
                  <a:gd name="textAreaTop" fmla="*/ 96840 h 385920"/>
                  <a:gd name="textAreaBottom" fmla="*/ 28908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553880" y="28679400"/>
              <a:ext cx="1959840" cy="2120400"/>
              <a:chOff x="16553880" y="28679400"/>
              <a:chExt cx="1959840" cy="212040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1"/>
              <a:stretch/>
            </p:blipFill>
            <p:spPr>
              <a:xfrm rot="19997400">
                <a:off x="17568360" y="28850040"/>
                <a:ext cx="879120" cy="50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2"/>
              <a:stretch/>
            </p:blipFill>
            <p:spPr>
              <a:xfrm rot="1821000">
                <a:off x="16688880" y="30016080"/>
                <a:ext cx="87912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16553880" y="29587320"/>
                <a:ext cx="135360" cy="1839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041040" y="29587320"/>
                <a:ext cx="135360" cy="1839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7230320" y="29525040"/>
                <a:ext cx="336600" cy="306720"/>
              </a:xfrm>
              <a:prstGeom prst="irregularSeal1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89240" y="29648160"/>
                <a:ext cx="539640" cy="60480"/>
              </a:xfrm>
              <a:prstGeom prst="rightArrow">
                <a:avLst>
                  <a:gd name="adj1" fmla="val 50000"/>
                  <a:gd name="adj2" fmla="val 22306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0800000">
                <a:off x="17568720" y="29648160"/>
                <a:ext cx="539280" cy="60480"/>
              </a:xfrm>
              <a:prstGeom prst="rightArrow">
                <a:avLst>
                  <a:gd name="adj1" fmla="val 50000"/>
                  <a:gd name="adj2" fmla="val 22291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364600" y="29217960"/>
                <a:ext cx="270720" cy="261000"/>
              </a:xfrm>
              <a:custGeom>
                <a:avLst/>
                <a:gdLst/>
                <a:ahLst/>
                <a:rect l="l" t="t" r="r" b="b"/>
                <a:pathLst>
                  <a:path w="652" h="599">
                    <a:moveTo>
                      <a:pt x="0" y="599"/>
                    </a:moveTo>
                    <a:lnTo>
                      <a:pt x="9" y="426"/>
                    </a:lnTo>
                    <a:lnTo>
                      <a:pt x="19" y="334"/>
                    </a:lnTo>
                    <a:lnTo>
                      <a:pt x="64" y="234"/>
                    </a:lnTo>
                    <a:lnTo>
                      <a:pt x="165" y="115"/>
                    </a:lnTo>
                    <a:lnTo>
                      <a:pt x="137" y="252"/>
                    </a:lnTo>
                    <a:lnTo>
                      <a:pt x="156" y="343"/>
                    </a:lnTo>
                    <a:lnTo>
                      <a:pt x="229" y="407"/>
                    </a:lnTo>
                    <a:lnTo>
                      <a:pt x="302" y="444"/>
                    </a:lnTo>
                    <a:lnTo>
                      <a:pt x="403" y="426"/>
                    </a:lnTo>
                    <a:lnTo>
                      <a:pt x="485" y="371"/>
                    </a:lnTo>
                    <a:lnTo>
                      <a:pt x="531" y="298"/>
                    </a:lnTo>
                    <a:lnTo>
                      <a:pt x="549" y="215"/>
                    </a:lnTo>
                    <a:lnTo>
                      <a:pt x="494" y="124"/>
                    </a:lnTo>
                    <a:lnTo>
                      <a:pt x="412" y="87"/>
                    </a:lnTo>
                    <a:lnTo>
                      <a:pt x="329" y="78"/>
                    </a:lnTo>
                    <a:lnTo>
                      <a:pt x="229" y="97"/>
                    </a:lnTo>
                    <a:lnTo>
                      <a:pt x="137" y="151"/>
                    </a:lnTo>
                    <a:lnTo>
                      <a:pt x="247" y="60"/>
                    </a:lnTo>
                    <a:lnTo>
                      <a:pt x="384" y="5"/>
                    </a:lnTo>
                    <a:lnTo>
                      <a:pt x="65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17229600" y="29831400"/>
                <a:ext cx="269640" cy="305640"/>
              </a:xfrm>
              <a:custGeom>
                <a:avLst/>
                <a:gdLst/>
                <a:ahLst/>
                <a:rect l="l" t="t" r="r" b="b"/>
                <a:pathLst>
                  <a:path w="652" h="599">
                    <a:moveTo>
                      <a:pt x="0" y="599"/>
                    </a:moveTo>
                    <a:lnTo>
                      <a:pt x="9" y="426"/>
                    </a:lnTo>
                    <a:lnTo>
                      <a:pt x="19" y="334"/>
                    </a:lnTo>
                    <a:lnTo>
                      <a:pt x="64" y="234"/>
                    </a:lnTo>
                    <a:lnTo>
                      <a:pt x="165" y="115"/>
                    </a:lnTo>
                    <a:lnTo>
                      <a:pt x="137" y="252"/>
                    </a:lnTo>
                    <a:lnTo>
                      <a:pt x="156" y="343"/>
                    </a:lnTo>
                    <a:lnTo>
                      <a:pt x="229" y="407"/>
                    </a:lnTo>
                    <a:lnTo>
                      <a:pt x="302" y="444"/>
                    </a:lnTo>
                    <a:lnTo>
                      <a:pt x="403" y="426"/>
                    </a:lnTo>
                    <a:lnTo>
                      <a:pt x="485" y="371"/>
                    </a:lnTo>
                    <a:lnTo>
                      <a:pt x="531" y="298"/>
                    </a:lnTo>
                    <a:lnTo>
                      <a:pt x="549" y="215"/>
                    </a:lnTo>
                    <a:lnTo>
                      <a:pt x="494" y="124"/>
                    </a:lnTo>
                    <a:lnTo>
                      <a:pt x="412" y="87"/>
                    </a:lnTo>
                    <a:lnTo>
                      <a:pt x="329" y="78"/>
                    </a:lnTo>
                    <a:lnTo>
                      <a:pt x="229" y="97"/>
                    </a:lnTo>
                    <a:lnTo>
                      <a:pt x="137" y="151"/>
                    </a:lnTo>
                    <a:lnTo>
                      <a:pt x="247" y="60"/>
                    </a:lnTo>
                    <a:lnTo>
                      <a:pt x="384" y="5"/>
                    </a:lnTo>
                    <a:lnTo>
                      <a:pt x="65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291080" y="30604680"/>
              <a:ext cx="183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prompt photon 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00000" y="30783960"/>
              <a:ext cx="631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67240" y="30465720"/>
              <a:ext cx="187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thermal photon v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006000" y="29887920"/>
              <a:ext cx="17791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Jet-frag. photon from the survived par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v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Arial"/>
                  <a:ea typeface="HGP明朝B"/>
                </a:rPr>
                <a:t>2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 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1945600" y="35020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nsistent with prompt photon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553080" y="29718000"/>
            <a:ext cx="7925040" cy="5068800"/>
            <a:chOff x="6553080" y="29718000"/>
            <a:chExt cx="7925040" cy="5068800"/>
          </a:xfrm>
        </p:grpSpPr>
        <p:pic>
          <p:nvPicPr>
            <p:cNvPr id="282" name="photon_v2_comp_ppg" descr=""/>
            <p:cNvPicPr/>
            <p:nvPr/>
          </p:nvPicPr>
          <p:blipFill>
            <a:blip r:embed="rId13"/>
            <a:stretch/>
          </p:blipFill>
          <p:spPr>
            <a:xfrm>
              <a:off x="6553080" y="32016600"/>
              <a:ext cx="792504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4"/>
            <a:stretch/>
          </p:blipFill>
          <p:spPr>
            <a:xfrm>
              <a:off x="7013520" y="29718000"/>
              <a:ext cx="743832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17360" y="33653520"/>
              <a:ext cx="6812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7360" y="33106680"/>
              <a:ext cx="6812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7360" y="31115520"/>
              <a:ext cx="6812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7360" y="30555360"/>
              <a:ext cx="6812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ppg073-fig2" descr=""/>
          <p:cNvPicPr/>
          <p:nvPr/>
        </p:nvPicPr>
        <p:blipFill>
          <a:blip r:embed="rId15"/>
          <a:stretch/>
        </p:blipFill>
        <p:spPr>
          <a:xfrm>
            <a:off x="15697080" y="15544800"/>
            <a:ext cx="4876920" cy="5334120"/>
          </a:xfrm>
          <a:prstGeom prst="rect">
            <a:avLst/>
          </a:prstGeom>
          <a:ln w="0">
            <a:noFill/>
          </a:ln>
        </p:spPr>
      </p:pic>
      <p:pic>
        <p:nvPicPr>
          <p:cNvPr id="289" name="ppg073-fig3" descr=""/>
          <p:cNvPicPr/>
          <p:nvPr/>
        </p:nvPicPr>
        <p:blipFill>
          <a:blip r:embed="rId16"/>
          <a:stretch/>
        </p:blipFill>
        <p:spPr>
          <a:xfrm>
            <a:off x="20650320" y="15573240"/>
            <a:ext cx="5943600" cy="3171960"/>
          </a:xfrm>
          <a:prstGeom prst="rect">
            <a:avLst/>
          </a:prstGeom>
          <a:ln w="0">
            <a:noFill/>
          </a:ln>
        </p:spPr>
      </p:pic>
      <p:pic>
        <p:nvPicPr>
          <p:cNvPr id="290" name="ppg073-fig1" descr=""/>
          <p:cNvPicPr/>
          <p:nvPr/>
        </p:nvPicPr>
        <p:blipFill>
          <a:blip r:embed="rId17"/>
          <a:stretch/>
        </p:blipFill>
        <p:spPr>
          <a:xfrm>
            <a:off x="20802600" y="18840600"/>
            <a:ext cx="5715000" cy="340992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685800" y="8137440"/>
            <a:ext cx="8305920" cy="6187680"/>
            <a:chOff x="685800" y="8137440"/>
            <a:chExt cx="8305920" cy="6187680"/>
          </a:xfrm>
        </p:grpSpPr>
        <p:pic>
          <p:nvPicPr>
            <p:cNvPr id="292" name="rp2nd" descr=""/>
            <p:cNvPicPr/>
            <p:nvPr/>
          </p:nvPicPr>
          <p:blipFill>
            <a:blip r:embed="rId18"/>
            <a:stretch/>
          </p:blipFill>
          <p:spPr>
            <a:xfrm>
              <a:off x="1981080" y="11439360"/>
              <a:ext cx="701064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rp1st" descr=""/>
            <p:cNvPicPr/>
            <p:nvPr/>
          </p:nvPicPr>
          <p:blipFill>
            <a:blip r:embed="rId19"/>
            <a:stretch/>
          </p:blipFill>
          <p:spPr>
            <a:xfrm>
              <a:off x="1981080" y="8534160"/>
              <a:ext cx="7010640" cy="27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267080" y="813744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SMD1</a:t>
              </a:r>
              <a:r>
                <a:rPr b="1" lang="ja-JP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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SM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9680" y="81374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1</a:t>
              </a:r>
              <a:r>
                <a:rPr b="1" lang="ja-JP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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53080" y="813744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SMD</a:t>
              </a:r>
              <a:r>
                <a:rPr b="1" lang="ja-JP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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9680" y="11261520"/>
              <a:ext cx="205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1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0800" y="8762760"/>
              <a:ext cx="1183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ck-to-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22240" y="8762760"/>
              <a:ext cx="1183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ck-to-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2960" y="8762760"/>
              <a:ext cx="18097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spectator neutrons v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s from participa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are flowing opposit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43400" y="11261520"/>
              <a:ext cx="205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MVD1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MV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11261520"/>
              <a:ext cx="205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BBC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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MV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20920" y="10439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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62280" y="13563360"/>
              <a:ext cx="13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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" y="9067680"/>
              <a:ext cx="123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8080" y="12115440"/>
              <a:ext cx="108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ip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rxn-mpc-bbc-res" descr=""/>
          <p:cNvPicPr/>
          <p:nvPr/>
        </p:nvPicPr>
        <p:blipFill>
          <a:blip r:embed="rId20"/>
          <a:stretch/>
        </p:blipFill>
        <p:spPr>
          <a:xfrm>
            <a:off x="18954720" y="11874600"/>
            <a:ext cx="7715160" cy="2222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9600560" y="11582280"/>
            <a:ext cx="1349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RXN(S) - RXN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PC(S) - MPC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(S) - BBC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74120" y="11649240"/>
            <a:ext cx="15433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</a:rPr>
              <a:t>RXN(SN) - MPC(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RXN(SN) - BBC(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615360" y="11649240"/>
            <a:ext cx="1800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BBC+MPC+RXN  (S -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BC+MPC            (S -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34840" y="14020920"/>
            <a:ext cx="39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000 – charged multiplicity) / 100  :  [centrality b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18162720" y="12551400"/>
            <a:ext cx="134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cos 2(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210680" y="11893680"/>
            <a:ext cx="7086600" cy="2202840"/>
            <a:chOff x="10210680" y="11893680"/>
            <a:chExt cx="7086600" cy="2202840"/>
          </a:xfrm>
        </p:grpSpPr>
        <p:sp>
          <p:nvSpPr>
            <p:cNvPr id="314" name=""/>
            <p:cNvSpPr/>
            <p:nvPr/>
          </p:nvSpPr>
          <p:spPr>
            <a:xfrm>
              <a:off x="11125080" y="12263400"/>
              <a:ext cx="5257800" cy="144756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482360" y="12782520"/>
              <a:ext cx="457200" cy="3805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53760" y="12611160"/>
              <a:ext cx="685800" cy="9900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558680" y="12382560"/>
              <a:ext cx="685800" cy="9900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563360" y="12611160"/>
              <a:ext cx="380880" cy="761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05840" y="12782520"/>
              <a:ext cx="1447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320440" y="12782520"/>
              <a:ext cx="1447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210680" y="12263400"/>
              <a:ext cx="7086600" cy="1447560"/>
            </a:xfrm>
            <a:prstGeom prst="parallelogram">
              <a:avLst>
                <a:gd name="adj" fmla="val 6327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420360" y="12306240"/>
              <a:ext cx="2666880" cy="13712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61400" y="1333008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Verdana"/>
                </a:rPr>
                <a:t>beam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50800" y="1337472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action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2026520" y="11899800"/>
              <a:ext cx="838440" cy="609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4655600" y="13487400"/>
              <a:ext cx="838080" cy="609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9200000">
              <a:off x="12953520" y="13143960"/>
              <a:ext cx="609480" cy="304560"/>
            </a:xfrm>
            <a:prstGeom prst="lef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8400000">
              <a:off x="13906080" y="12458520"/>
              <a:ext cx="609480" cy="304560"/>
            </a:xfrm>
            <a:prstGeom prst="lef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53800" y="1344924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715640" y="122490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886840" y="12687120"/>
              <a:ext cx="381024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906360" y="11893680"/>
              <a:ext cx="20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Verdana"/>
                </a:rPr>
                <a:t>neutron spect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123240" y="12229920"/>
              <a:ext cx="193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ff00"/>
                  </a:solidFill>
                  <a:latin typeface="Verdana"/>
                </a:rPr>
                <a:t>charged parti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ff00"/>
                  </a:solidFill>
                  <a:latin typeface="Verdana"/>
                </a:rPr>
                <a:t>(pions) at mid </a:t>
              </a:r>
              <a:r>
                <a:rPr b="1" lang="ja-JP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5544440" y="13068000"/>
              <a:ext cx="457200" cy="380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1531520" y="12521880"/>
              <a:ext cx="457200" cy="380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841840" y="1291572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b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916400" y="993600"/>
            <a:ext cx="9601200" cy="9131040"/>
            <a:chOff x="16916400" y="993600"/>
            <a:chExt cx="9601200" cy="9131040"/>
          </a:xfrm>
        </p:grpSpPr>
        <p:pic>
          <p:nvPicPr>
            <p:cNvPr id="338" name="" descr=""/>
            <p:cNvPicPr/>
            <p:nvPr/>
          </p:nvPicPr>
          <p:blipFill>
            <a:blip r:embed="rId21">
              <a:lum bright="20000"/>
            </a:blip>
            <a:stretch/>
          </p:blipFill>
          <p:spPr>
            <a:xfrm>
              <a:off x="18897840" y="993600"/>
              <a:ext cx="38098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sky-bbc" descr=""/>
            <p:cNvPicPr/>
            <p:nvPr/>
          </p:nvPicPr>
          <p:blipFill>
            <a:blip r:embed="rId22"/>
            <a:stretch/>
          </p:blipFill>
          <p:spPr>
            <a:xfrm>
              <a:off x="16916400" y="715284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1366000" y="486684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MD/Z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4314400" y="3952440"/>
              <a:ext cx="2203200" cy="6172200"/>
              <a:chOff x="24314400" y="3952440"/>
              <a:chExt cx="2203200" cy="6172200"/>
            </a:xfrm>
          </p:grpSpPr>
          <p:pic>
            <p:nvPicPr>
              <p:cNvPr id="342" name="smd_pict1_frontview" descr=""/>
              <p:cNvPicPr/>
              <p:nvPr/>
            </p:nvPicPr>
            <p:blipFill>
              <a:blip r:embed="rId23"/>
              <a:stretch/>
            </p:blipFill>
            <p:spPr>
              <a:xfrm>
                <a:off x="24314400" y="3952440"/>
                <a:ext cx="2203200" cy="617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24999840" y="8448480"/>
                <a:ext cx="15228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152480" y="8448480"/>
                <a:ext cx="15192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304760" y="8448480"/>
                <a:ext cx="15192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457040" y="8448480"/>
                <a:ext cx="15228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609680" y="8448480"/>
                <a:ext cx="15192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761960" y="8448480"/>
                <a:ext cx="15192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914240" y="8448480"/>
                <a:ext cx="152280" cy="1600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4847560" y="852444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4885720" y="8676720"/>
                <a:ext cx="1142640" cy="759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4885720" y="882936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4904800" y="898164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4942960" y="9133920"/>
                <a:ext cx="1142640" cy="759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4962040" y="928656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4980760" y="943884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999840" y="9591120"/>
                <a:ext cx="1142640" cy="759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018920" y="9743760"/>
                <a:ext cx="1142640" cy="763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9278720" y="5627520"/>
              <a:ext cx="11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242440" y="5474880"/>
              <a:ext cx="16488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135880" y="5322600"/>
              <a:ext cx="38124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41160" y="5324040"/>
              <a:ext cx="3042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44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44358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64480" y="532260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745720" y="5627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126440" y="5398920"/>
              <a:ext cx="152280" cy="457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1945600" y="5436720"/>
              <a:ext cx="457200" cy="380880"/>
              <a:chOff x="21945600" y="5436720"/>
              <a:chExt cx="457200" cy="380880"/>
            </a:xfrm>
          </p:grpSpPr>
          <p:sp>
            <p:nvSpPr>
              <p:cNvPr id="367" name=""/>
              <p:cNvSpPr/>
              <p:nvPr/>
            </p:nvSpPr>
            <p:spPr>
              <a:xfrm>
                <a:off x="21945600" y="5436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945600" y="574164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097880" y="5513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1945600" y="543672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097880" y="5513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945600" y="5436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097880" y="5817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402800" y="5513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250160" y="543672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0345400" y="59320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4440" y="5933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BC/M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9202040" y="6391080"/>
              <a:ext cx="121932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36320" y="5095440"/>
              <a:ext cx="13716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24307920" y="2504880"/>
              <a:ext cx="1905120" cy="1295280"/>
              <a:chOff x="24307920" y="2504880"/>
              <a:chExt cx="1905120" cy="1295280"/>
            </a:xfrm>
          </p:grpSpPr>
          <p:sp>
            <p:nvSpPr>
              <p:cNvPr id="381" name=""/>
              <p:cNvSpPr/>
              <p:nvPr/>
            </p:nvSpPr>
            <p:spPr>
              <a:xfrm rot="10800000">
                <a:off x="24917400" y="2504880"/>
                <a:ext cx="1295640" cy="1295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800000">
                <a:off x="24307920" y="2504880"/>
                <a:ext cx="129528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5679520" y="3343680"/>
                <a:ext cx="45720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5527600" y="31910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5527600" y="303876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5632000" y="292428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641720" y="2772000"/>
                <a:ext cx="39060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32360" y="2676960"/>
                <a:ext cx="285480" cy="27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594200" y="262908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5479360" y="2553120"/>
                <a:ext cx="1526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4841440" y="3609720"/>
                <a:ext cx="21888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4736680" y="3515040"/>
                <a:ext cx="218880" cy="19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4612840" y="3381480"/>
                <a:ext cx="266400" cy="266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4536880" y="3267360"/>
                <a:ext cx="266760" cy="266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4450840" y="3019680"/>
                <a:ext cx="380880" cy="380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4384600" y="2657880"/>
                <a:ext cx="609480" cy="60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4412680" y="2590920"/>
                <a:ext cx="38088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0800000">
                <a:off x="24422040" y="3038760"/>
                <a:ext cx="381240" cy="228240"/>
              </a:xfrm>
              <a:prstGeom prst="rightArrow">
                <a:avLst>
                  <a:gd name="adj1" fmla="val 50000"/>
                  <a:gd name="adj2" fmla="val 41759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5755840" y="3038760"/>
                <a:ext cx="380880" cy="228240"/>
              </a:xfrm>
              <a:prstGeom prst="rightArrow">
                <a:avLst>
                  <a:gd name="adj1" fmla="val 50000"/>
                  <a:gd name="adj2" fmla="val 4171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7145000" y="2657160"/>
              <a:ext cx="1371600" cy="1066680"/>
              <a:chOff x="17145000" y="2657160"/>
              <a:chExt cx="1371600" cy="1066680"/>
            </a:xfrm>
          </p:grpSpPr>
          <p:sp>
            <p:nvSpPr>
              <p:cNvPr id="401" name=""/>
              <p:cNvSpPr/>
              <p:nvPr/>
            </p:nvSpPr>
            <p:spPr>
              <a:xfrm>
                <a:off x="17525880" y="2657160"/>
                <a:ext cx="685800" cy="10666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145000" y="3180960"/>
                <a:ext cx="137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145000" y="2657160"/>
                <a:ext cx="13716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12040" y="56289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507320" y="4866840"/>
              <a:ext cx="457200" cy="15242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659600" y="5248080"/>
              <a:ext cx="152640" cy="76176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983000" y="3723840"/>
              <a:ext cx="184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ticipant elliptic R.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338880" y="2199960"/>
              <a:ext cx="180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ectator directed R.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38960" y="45622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VD/RX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mpc-pic" descr=""/>
            <p:cNvPicPr/>
            <p:nvPr/>
          </p:nvPicPr>
          <p:blipFill>
            <a:blip r:embed="rId24"/>
            <a:stretch/>
          </p:blipFill>
          <p:spPr>
            <a:xfrm>
              <a:off x="20193120" y="715284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1259800" y="6391080"/>
              <a:ext cx="6858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9735920" y="4028400"/>
              <a:ext cx="6094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9677520" y="5638680"/>
            <a:ext cx="5943600" cy="5181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42760" y="10591920"/>
            <a:ext cx="368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IX experimental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609480"/>
            <a:ext cx="5562720" cy="6553440"/>
          </a:xfrm>
          <a:custGeom>
            <a:avLst/>
            <a:gdLst>
              <a:gd name="textAreaLeft" fmla="*/ 271440 w 5562720"/>
              <a:gd name="textAreaRight" fmla="*/ 5291280 w 5562720"/>
              <a:gd name="textAreaTop" fmla="*/ 271440 h 6553440"/>
              <a:gd name="textAreaBottom" fmla="*/ 6282000 h 6553440"/>
            </a:gdLst>
            <a:ahLst/>
            <a:rect l="textAreaLeft" t="textAreaTop" r="textAreaRight" b="textAreaBottom"/>
            <a:pathLst>
              <a:path w="21600" h="25447">
                <a:moveTo>
                  <a:pt x="3600" y="0"/>
                </a:moveTo>
                <a:arcTo wR="3600" hR="3600" stAng="16200000" swAng="-5400000"/>
                <a:lnTo>
                  <a:pt x="0" y="21847"/>
                </a:lnTo>
                <a:arcTo wR="3600" hR="3600" stAng="10800000" swAng="-5400000"/>
                <a:lnTo>
                  <a:pt x="18000" y="25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49200" y="6858000"/>
            <a:ext cx="4318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/ Event aniso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7772400"/>
            <a:ext cx="8762760" cy="685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86640" y="14325480"/>
            <a:ext cx="7058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event plane correlation between sub-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82080" y="11658600"/>
            <a:ext cx="7620120" cy="2743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89640" y="14173200"/>
            <a:ext cx="5667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 side-ward flow and reactio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051120" y="4410000"/>
            <a:ext cx="0" cy="266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230600" y="4410000"/>
            <a:ext cx="0" cy="266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182880" y="10353600"/>
            <a:ext cx="641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IX detectors for reaction plane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440280" y="11201400"/>
            <a:ext cx="8382240" cy="342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09440" y="423720"/>
            <a:ext cx="112921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Event anisotropy measurements in RHIC-PHE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ShinIchi Esumi for the PHENIX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Inst. of Physics. Univ. of Tsuk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Tennno-dai 1-1-1, Tsukuba, Ibaraki 305,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esumi@sakura.cc.tsukuba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571040" y="14401800"/>
            <a:ext cx="617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plane resolution (sub-event cor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15316200"/>
            <a:ext cx="13868640" cy="609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363320" y="19802520"/>
            <a:ext cx="37335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rticle identified hadr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316200" y="15316200"/>
            <a:ext cx="11506320" cy="7086600"/>
          </a:xfrm>
          <a:prstGeom prst="roundRect">
            <a:avLst>
              <a:gd name="adj" fmla="val 13065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306920" y="20878920"/>
            <a:ext cx="37335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euteron and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meson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7560" y="26746200"/>
            <a:ext cx="13390200" cy="8305560"/>
            <a:chOff x="1087560" y="26746200"/>
            <a:chExt cx="13390200" cy="8305560"/>
          </a:xfrm>
        </p:grpSpPr>
        <p:grpSp>
          <p:nvGrpSpPr>
            <p:cNvPr id="432" name=""/>
            <p:cNvGrpSpPr/>
            <p:nvPr/>
          </p:nvGrpSpPr>
          <p:grpSpPr>
            <a:xfrm>
              <a:off x="6782040" y="27203400"/>
              <a:ext cx="7695720" cy="2057400"/>
              <a:chOff x="6782040" y="27203400"/>
              <a:chExt cx="7695720" cy="2057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6782040" y="27203400"/>
                <a:ext cx="7695720" cy="2057400"/>
                <a:chOff x="6782040" y="27203400"/>
                <a:chExt cx="7695720" cy="2057400"/>
              </a:xfrm>
            </p:grpSpPr>
            <p:pic>
              <p:nvPicPr>
                <p:cNvPr id="43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6782040" y="27203400"/>
                  <a:ext cx="1616400" cy="203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334000" y="27203400"/>
                  <a:ext cx="1616400" cy="203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9821520" y="27203400"/>
                  <a:ext cx="1616760" cy="205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1308680" y="27203400"/>
                  <a:ext cx="1616760" cy="205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2861000" y="27203400"/>
                  <a:ext cx="1616760" cy="2057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9" name=""/>
              <p:cNvSpPr/>
              <p:nvPr/>
            </p:nvSpPr>
            <p:spPr>
              <a:xfrm>
                <a:off x="6975720" y="28205280"/>
                <a:ext cx="73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104960" y="27994320"/>
                <a:ext cx="6143760" cy="1580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158960" y="28141560"/>
                <a:ext cx="0" cy="896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694720" y="28130400"/>
                <a:ext cx="0" cy="896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10198800" y="28047240"/>
                <a:ext cx="0" cy="10022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1683440" y="28036080"/>
                <a:ext cx="0" cy="10022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13222080" y="27994320"/>
                <a:ext cx="0" cy="10328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520040" y="28669320"/>
                <a:ext cx="0" cy="36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9058680" y="28627200"/>
                <a:ext cx="0" cy="410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10559880" y="28521720"/>
                <a:ext cx="0" cy="516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2047400" y="28363680"/>
                <a:ext cx="0" cy="674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13599720" y="28469160"/>
                <a:ext cx="0" cy="579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7493040" y="28363320"/>
                <a:ext cx="6079320" cy="31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630200" y="26746200"/>
              <a:ext cx="591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Non-photonic electron R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AA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vs p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(centrality dependen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5400000">
              <a:off x="13592160" y="3316356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NIX RU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400000">
              <a:off x="13547880" y="3064896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NIX RUN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8360" y="29413080"/>
              <a:ext cx="754380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centrality dependence of non-photonic electron v2 compared with hadr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6" name="PHENIX_electron_raa_v2" descr=""/>
            <p:cNvPicPr/>
            <p:nvPr/>
          </p:nvPicPr>
          <p:blipFill>
            <a:blip r:embed="rId30"/>
            <a:stretch/>
          </p:blipFill>
          <p:spPr>
            <a:xfrm>
              <a:off x="1087560" y="26974800"/>
              <a:ext cx="5618160" cy="807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"/>
          <p:cNvSpPr/>
          <p:nvPr/>
        </p:nvSpPr>
        <p:spPr>
          <a:xfrm>
            <a:off x="685800" y="26212680"/>
            <a:ext cx="14096880" cy="9982440"/>
          </a:xfrm>
          <a:prstGeom prst="roundRect">
            <a:avLst>
              <a:gd name="adj" fmla="val 13065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05120" y="35052120"/>
            <a:ext cx="4876560" cy="875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single elect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ed from heavy qu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544800" y="28194120"/>
            <a:ext cx="10591920" cy="7924680"/>
          </a:xfrm>
          <a:prstGeom prst="roundRect">
            <a:avLst>
              <a:gd name="adj" fmla="val 13065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230600" y="35204400"/>
            <a:ext cx="46483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direct phot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SinyukovFitsAzimuthRadii" descr=""/>
          <p:cNvPicPr/>
          <p:nvPr/>
        </p:nvPicPr>
        <p:blipFill>
          <a:blip r:embed="rId31"/>
          <a:stretch/>
        </p:blipFill>
        <p:spPr>
          <a:xfrm>
            <a:off x="19659600" y="23088600"/>
            <a:ext cx="6705720" cy="4541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68480" y="22860000"/>
            <a:ext cx="11125440" cy="4876920"/>
          </a:xfrm>
          <a:prstGeom prst="roundRect">
            <a:avLst>
              <a:gd name="adj" fmla="val 13065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5773400" y="23088240"/>
            <a:ext cx="3601800" cy="1547640"/>
            <a:chOff x="15773400" y="23088240"/>
            <a:chExt cx="3601800" cy="1547640"/>
          </a:xfrm>
        </p:grpSpPr>
        <p:sp>
          <p:nvSpPr>
            <p:cNvPr id="464" name=""/>
            <p:cNvSpPr/>
            <p:nvPr/>
          </p:nvSpPr>
          <p:spPr>
            <a:xfrm>
              <a:off x="16854120" y="23700960"/>
              <a:ext cx="100800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349400" y="23700960"/>
              <a:ext cx="100764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738720" y="239630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.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16817760" y="23196240"/>
              <a:ext cx="502920" cy="286920"/>
            </a:xfrm>
            <a:prstGeom prst="leftArrow">
              <a:avLst>
                <a:gd name="adj1" fmla="val 50000"/>
                <a:gd name="adj2" fmla="val 4382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243200">
              <a:off x="16061760" y="23340240"/>
              <a:ext cx="502920" cy="287280"/>
            </a:xfrm>
            <a:prstGeom prst="leftArrow">
              <a:avLst>
                <a:gd name="adj1" fmla="val 50000"/>
                <a:gd name="adj2" fmla="val 4376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9015200">
              <a:off x="17573040" y="23267520"/>
              <a:ext cx="502920" cy="286920"/>
            </a:xfrm>
            <a:prstGeom prst="leftArrow">
              <a:avLst>
                <a:gd name="adj1" fmla="val 50000"/>
                <a:gd name="adj2" fmla="val 4382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525880" y="23916960"/>
              <a:ext cx="3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852680" y="23774040"/>
              <a:ext cx="504360" cy="7902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7070120" y="23700600"/>
              <a:ext cx="934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133400" y="2420424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933760" y="24059880"/>
              <a:ext cx="502920" cy="286920"/>
            </a:xfrm>
            <a:prstGeom prst="leftArrow">
              <a:avLst>
                <a:gd name="adj1" fmla="val 50000"/>
                <a:gd name="adj2" fmla="val 4382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5773400" y="24061680"/>
              <a:ext cx="504720" cy="286920"/>
            </a:xfrm>
            <a:prstGeom prst="leftArrow">
              <a:avLst>
                <a:gd name="adj1" fmla="val 50000"/>
                <a:gd name="adj2" fmla="val 4397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5729840" y="24841080"/>
            <a:ext cx="3658680" cy="2057400"/>
            <a:chOff x="15729840" y="24841080"/>
            <a:chExt cx="3658680" cy="2057400"/>
          </a:xfrm>
        </p:grpSpPr>
        <p:sp>
          <p:nvSpPr>
            <p:cNvPr id="477" name=""/>
            <p:cNvSpPr/>
            <p:nvPr/>
          </p:nvSpPr>
          <p:spPr>
            <a:xfrm>
              <a:off x="16011360" y="25819200"/>
              <a:ext cx="914400" cy="1079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c742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239960" y="25755480"/>
              <a:ext cx="457200" cy="0"/>
            </a:xfrm>
            <a:prstGeom prst="line">
              <a:avLst/>
            </a:prstGeom>
            <a:ln w="1908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002080" y="25993800"/>
              <a:ext cx="0" cy="75240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773480" y="26365320"/>
              <a:ext cx="457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468560" y="25374600"/>
              <a:ext cx="0" cy="762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059400" y="26640000"/>
              <a:ext cx="431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059400" y="26352360"/>
              <a:ext cx="431640" cy="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435240" y="2613672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R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R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29840" y="2484108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-of-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15859080" y="25222320"/>
              <a:ext cx="380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6697160" y="25222320"/>
              <a:ext cx="381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6697160" y="2575512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97160" y="2666988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17120520" y="2616048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-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001000" y="35128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nsistent with similar flow and suppression of heavy quarks as light qu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515600" y="20542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ydrodynamic flow evolution and quark coal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1143000"/>
            <a:ext cx="112014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687800" y="21609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nfirmation of quark and nucleon coal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78320" y="27051120"/>
            <a:ext cx="388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zimuthal dependent H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059400" y="24688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Geometrical shape at freeze-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2"/>
          <a:srcRect l="52099" t="0" r="0" b="4743"/>
          <a:stretch/>
        </p:blipFill>
        <p:spPr>
          <a:xfrm>
            <a:off x="10896480" y="22402800"/>
            <a:ext cx="3429000" cy="2892600"/>
          </a:xfrm>
          <a:prstGeom prst="rect">
            <a:avLst/>
          </a:prstGeom>
          <a:ln w="0">
            <a:noFill/>
          </a:ln>
        </p:spPr>
      </p:pic>
      <p:pic>
        <p:nvPicPr>
          <p:cNvPr id="498" name="finalPi0V2ptMinBias4" descr=""/>
          <p:cNvPicPr/>
          <p:nvPr/>
        </p:nvPicPr>
        <p:blipFill>
          <a:blip r:embed="rId33"/>
          <a:stretch/>
        </p:blipFill>
        <p:spPr>
          <a:xfrm>
            <a:off x="6553080" y="22250520"/>
            <a:ext cx="4267440" cy="3198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62120" y="21869280"/>
            <a:ext cx="14173200" cy="3962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4993720"/>
            <a:ext cx="43434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gh 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and jet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420720" y="22631400"/>
            <a:ext cx="170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71600" y="22326480"/>
            <a:ext cx="2971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Jet suppression, modification and high p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and their relation with  the geomet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23400" y="22789080"/>
            <a:ext cx="2146320" cy="1976040"/>
            <a:chOff x="4523400" y="22789080"/>
            <a:chExt cx="2146320" cy="1976040"/>
          </a:xfrm>
        </p:grpSpPr>
        <p:sp>
          <p:nvSpPr>
            <p:cNvPr id="504" name=""/>
            <p:cNvSpPr/>
            <p:nvPr/>
          </p:nvSpPr>
          <p:spPr>
            <a:xfrm>
              <a:off x="4773600" y="23304600"/>
              <a:ext cx="1109520" cy="146052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5192280" y="22789080"/>
              <a:ext cx="12600" cy="876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185800" y="23693400"/>
              <a:ext cx="3960" cy="94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24240" y="23606280"/>
              <a:ext cx="171720" cy="15228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4523400" y="24194880"/>
              <a:ext cx="928800" cy="52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18800" y="24229800"/>
              <a:ext cx="1150920" cy="30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75160" y="24161760"/>
              <a:ext cx="184320" cy="152280"/>
            </a:xfrm>
            <a:prstGeom prst="sun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3:45:58Z</dcterms:created>
  <dc:creator>ShinIchi Esumi</dc:creator>
  <dc:description/>
  <dc:language>en-US</dc:language>
  <cp:lastModifiedBy>ShinIchi Esumi</cp:lastModifiedBy>
  <dcterms:modified xsi:type="dcterms:W3CDTF">2007-06-01T00:46:08Z</dcterms:modified>
  <cp:revision>19</cp:revision>
  <dc:subject/>
  <dc:title>PowerPoint プレゼンテーション</dc:title>
</cp:coreProperties>
</file>