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0275213" cy="4280376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E74-3C61-4DC6-AD3A-21057C91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2573496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70160" y="25779240"/>
            <a:ext cx="2573496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436-36C1-4013-A781-9326E7EF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70160" y="2577924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56960" y="2577924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843-B128-4854-9645-41C20F1B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971360" y="1236456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672560" y="1236456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70160" y="2577924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971360" y="2577924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672560" y="2577924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FE8-FECC-4704-91AD-5C3BB301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3039-723A-47F4-97AF-122BEAE0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70160" y="12364560"/>
            <a:ext cx="25734960" cy="256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7091-5A40-4D05-A81E-A644CD23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2573496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1E85-63B8-413C-8A35-C0A7CAE8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C34A-778D-4EFD-B0F8-B9840109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B23D-509D-4370-B78E-5B8F4C8D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7016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EAAE-A56C-4288-B4F9-AACFBA2D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70160" y="2577924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6C36-F441-451A-9DA7-5F67A6B0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70160" y="12364560"/>
            <a:ext cx="25734960" cy="256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D22-9D5B-44EA-9AB5-35AA54C7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456960" y="2577924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6881-2597-483C-9E98-B193D331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70160" y="25779240"/>
            <a:ext cx="2573496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711B-C359-4D29-8E56-55EE9D7E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2573496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70160" y="25779240"/>
            <a:ext cx="2573496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1E33-5A8A-4F8F-8695-490A9692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70160" y="2577924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456960" y="2577924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C307-74F0-4CCE-9F65-B2040531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971360" y="1236456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672560" y="1236456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70160" y="2577924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0971360" y="2577924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9672560" y="2577924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9296-9780-4007-A95F-A124E4D0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2573496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E5D-D487-486D-B6FD-8B24EDA8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8B3-A8E2-4A95-9588-FDAB860A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9C6-50A2-45E5-9C46-A7AA3DA2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7016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AC3-D73D-4E95-B05E-E3C3EE06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70160" y="2577924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DCD-DBCD-4B01-BE1B-AAAAB4B0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56960" y="2577924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3F4-3E7B-49D0-A766-9243836B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70160" y="25779240"/>
            <a:ext cx="2573496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AF6-BA16-4078-854E-8C813433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0160" y="12364560"/>
            <a:ext cx="2573496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565280" indent="-156528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1" marL="3392640" indent="-130500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2" marL="5219640" indent="-104436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3" marL="7307280" indent="-104292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4" marL="9396360" indent="-104436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5" marL="9396360" indent="-104436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6" marL="9396360" indent="-104436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016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4240" y="38998080"/>
            <a:ext cx="9586800" cy="2854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ct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792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4175280"/>
                <a:tab algn="l" pos="8350200"/>
              </a:tabLst>
            </a:pPr>
            <a:fld id="{78E19BDD-BE66-45CF-8009-269959925F2F}" type="slidenum">
              <a:rPr b="0" lang="en-US" sz="6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70160" y="142682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7016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0344240" y="38998080"/>
            <a:ext cx="9586800" cy="2854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ct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2169792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4175280"/>
                <a:tab algn="l" pos="8350200"/>
              </a:tabLst>
            </a:pPr>
            <a:fld id="{5FF226F8-5969-4E6D-88DA-E40779255A50}" type="slidenum">
              <a:rPr b="0" lang="en-US" sz="6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438280" y="735120"/>
            <a:ext cx="258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Identified Hadron Production in Au+Au and Cu+Cu Collisions at RHIC-PHENI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84840" y="1671480"/>
            <a:ext cx="1972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asahiro Konno (Univ. of Tsukuba) for the PHENIX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2960" y="2666880"/>
            <a:ext cx="96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e-mail: konno@rcf.rhic.bnl.g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94800" y="2971800"/>
            <a:ext cx="2975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6320" y="3809880"/>
            <a:ext cx="116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dron production in relativistic heavy ion coll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438280" y="4724280"/>
          <a:ext cx="8686800" cy="28270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adro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ter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 the 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-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(sof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ermal e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ark recomb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ermal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lective f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igh-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(har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et frag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ard scatter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et quenc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2438280" y="4724280"/>
            <a:ext cx="2895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45840" y="7867800"/>
            <a:ext cx="8241120" cy="185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There are multiple hadronization mechanis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intermediate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~5 GeV/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lative contribut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particle-ty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pende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not yet fully 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29360" y="9982080"/>
            <a:ext cx="4516560" cy="5814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utstanding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4200" y="3733920"/>
            <a:ext cx="147196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ryon/Meson difference in yield and emission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40440" y="13335120"/>
            <a:ext cx="1040652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&lt; Proton and antiproton production &g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Sensitive to collective flow due to its relatively large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Indicator of baryon number transport at lower ener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017160" y="41741640"/>
            <a:ext cx="877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INPC, June/2007, Toky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8200" y="31835880"/>
            <a:ext cx="42116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ENIX det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918400"/>
            <a:ext cx="6248160" cy="4240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8960" y="32967720"/>
            <a:ext cx="4435560" cy="55080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erogel Cherenkov (PI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05400" y="34643880"/>
            <a:ext cx="614520" cy="1025640"/>
          </a:xfrm>
          <a:prstGeom prst="ellipse">
            <a:avLst/>
          </a:prstGeom>
          <a:noFill/>
          <a:ln w="572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9480" y="33577200"/>
            <a:ext cx="1209600" cy="1295280"/>
          </a:xfrm>
          <a:prstGeom prst="line">
            <a:avLst/>
          </a:prstGeom>
          <a:ln w="572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832680" y="32967720"/>
            <a:ext cx="3819960" cy="55080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 Calorimeter (PI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518120" y="33882120"/>
            <a:ext cx="1174320" cy="100764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PI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9143640" y="33196320"/>
            <a:ext cx="684360" cy="609480"/>
          </a:xfrm>
          <a:prstGeom prst="line">
            <a:avLst/>
          </a:prstGeom>
          <a:ln w="572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9372240" y="34339320"/>
            <a:ext cx="1143000" cy="1066680"/>
          </a:xfrm>
          <a:prstGeom prst="line">
            <a:avLst/>
          </a:prstGeom>
          <a:ln w="572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43600" y="35558280"/>
            <a:ext cx="3583800" cy="100764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ift Cha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momentum meas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8153280" y="35558280"/>
            <a:ext cx="2286000" cy="533520"/>
          </a:xfrm>
          <a:prstGeom prst="line">
            <a:avLst/>
          </a:prstGeom>
          <a:ln w="572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62800" y="34186680"/>
            <a:ext cx="2721240" cy="100764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d Cha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track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34872480"/>
            <a:ext cx="1828800" cy="1143000"/>
          </a:xfrm>
          <a:prstGeom prst="line">
            <a:avLst/>
          </a:prstGeom>
          <a:ln w="572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296280" y="38890440"/>
            <a:ext cx="3353040" cy="3068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591280" y="40803480"/>
            <a:ext cx="45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9720" y="39597120"/>
            <a:ext cx="487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06480" y="394444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38080" y="38835000"/>
            <a:ext cx="4267440" cy="3021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562720" y="39296880"/>
            <a:ext cx="2971800" cy="2357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93680" y="37755360"/>
            <a:ext cx="3029040" cy="7038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f Flight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20 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n ID up to 4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635320" y="37680840"/>
            <a:ext cx="3531960" cy="7038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gel Cherenkov (n=1.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n ID up to 7 G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8800" y="38987280"/>
            <a:ext cx="2099880" cy="642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bffc0"/>
                </a:solidFill>
                <a:latin typeface="Arial"/>
              </a:rPr>
              <a:t>m</a:t>
            </a:r>
            <a:r>
              <a:rPr b="1" lang="en-US" sz="2000" spc="-1" strike="noStrike" baseline="30000">
                <a:solidFill>
                  <a:srgbClr val="dbffc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dbffc0"/>
                </a:solidFill>
                <a:latin typeface="Arial"/>
              </a:rPr>
              <a:t>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ffc0"/>
                </a:solidFill>
                <a:latin typeface="Arial"/>
              </a:rPr>
              <a:t>(3.5-4.0 GeV/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915400" y="38666880"/>
            <a:ext cx="2343240" cy="3988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bffc0"/>
                </a:solidFill>
                <a:latin typeface="Arial"/>
              </a:rPr>
              <a:t>Veto for proto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677520" y="40435200"/>
            <a:ext cx="1218960" cy="885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9880" y="41257440"/>
            <a:ext cx="42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ear proton line up to high 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411080" y="4800600"/>
            <a:ext cx="11506320" cy="533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166000" y="10439280"/>
            <a:ext cx="14365800" cy="191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Anti-)proton enhanc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bserved/confirmed at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2~5 GeV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r than expected from jet fragment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sured in pp, 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ratio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urn over at 2~3 GeV/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fall towards the ratio in p+p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Indicat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transition from soft to ha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 intermediate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45840" y="10820520"/>
            <a:ext cx="10335240" cy="143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What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hydrodynamic contribution exist up 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Quark recombination process is really necess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an we separate hadron radial flow and quark radial fl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1459080" y="25522200"/>
            <a:ext cx="9524880" cy="5033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459080" y="19659600"/>
            <a:ext cx="9524880" cy="5486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12810960" y="20197800"/>
            <a:ext cx="6019920" cy="3576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18973800" y="20650320"/>
            <a:ext cx="335268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22140720" y="26441280"/>
            <a:ext cx="7805880" cy="2590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22174200" y="29946600"/>
            <a:ext cx="7772400" cy="2438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25298280" y="4648320"/>
            <a:ext cx="3886200" cy="270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249520" y="12573000"/>
            <a:ext cx="12801600" cy="1065240"/>
          </a:xfrm>
          <a:prstGeom prst="rect">
            <a:avLst/>
          </a:prstGeom>
          <a:solidFill>
            <a:srgbClr val="dbff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The ratio is controlled by the initial size of the created systems (~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Transverse energy density is a connection key between different √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5298280" y="7467480"/>
            <a:ext cx="3886200" cy="2819520"/>
            <a:chOff x="25298280" y="7467480"/>
            <a:chExt cx="3886200" cy="2819520"/>
          </a:xfrm>
        </p:grpSpPr>
        <p:pic>
          <p:nvPicPr>
            <p:cNvPr id="130" name="" descr=""/>
            <p:cNvPicPr/>
            <p:nvPr/>
          </p:nvPicPr>
          <p:blipFill>
            <a:blip r:embed="rId13"/>
            <a:stretch/>
          </p:blipFill>
          <p:spPr>
            <a:xfrm>
              <a:off x="25298280" y="7467480"/>
              <a:ext cx="38862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6871840" y="946800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6388720" y="7988400"/>
              <a:ext cx="2522160" cy="1446840"/>
              <a:chOff x="26388720" y="7988400"/>
              <a:chExt cx="2522160" cy="1446840"/>
            </a:xfrm>
          </p:grpSpPr>
          <p:sp>
            <p:nvSpPr>
              <p:cNvPr id="133" name=""/>
              <p:cNvSpPr/>
              <p:nvPr/>
            </p:nvSpPr>
            <p:spPr>
              <a:xfrm flipV="1">
                <a:off x="26388720" y="8856360"/>
                <a:ext cx="2454480" cy="578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26456400" y="8508960"/>
                <a:ext cx="2454480" cy="69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6388720" y="7988400"/>
                <a:ext cx="2113200" cy="1157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" descr=""/>
          <p:cNvPicPr/>
          <p:nvPr/>
        </p:nvPicPr>
        <p:blipFill>
          <a:blip r:embed="rId14"/>
          <a:stretch/>
        </p:blipFill>
        <p:spPr>
          <a:xfrm>
            <a:off x="16187760" y="33820200"/>
            <a:ext cx="3581280" cy="252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5"/>
          <a:stretch/>
        </p:blipFill>
        <p:spPr>
          <a:xfrm>
            <a:off x="20226240" y="33820200"/>
            <a:ext cx="3429000" cy="2458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6"/>
          <a:stretch/>
        </p:blipFill>
        <p:spPr>
          <a:xfrm>
            <a:off x="24188760" y="33820200"/>
            <a:ext cx="3505320" cy="245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7"/>
          <a:stretch/>
        </p:blipFill>
        <p:spPr>
          <a:xfrm>
            <a:off x="16187760" y="36499680"/>
            <a:ext cx="3505320" cy="2667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8"/>
          <a:stretch/>
        </p:blipFill>
        <p:spPr>
          <a:xfrm>
            <a:off x="20226240" y="3657600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9"/>
          <a:stretch/>
        </p:blipFill>
        <p:spPr>
          <a:xfrm>
            <a:off x="24188760" y="3657600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380960" y="15163920"/>
            <a:ext cx="977724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paration of soft/hard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64440" y="17027640"/>
            <a:ext cx="10278720" cy="10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: Blast-wave fit (thermal + radial 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: p+p spectra,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b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caling, constant suppressi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13680" y="18170640"/>
            <a:ext cx="80186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onsistent description for pions and 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Trying to explain soft/hard cross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523880" y="30784680"/>
            <a:ext cx="9144000" cy="459720"/>
            <a:chOff x="1523880" y="30784680"/>
            <a:chExt cx="9144000" cy="459720"/>
          </a:xfrm>
        </p:grpSpPr>
        <p:sp>
          <p:nvSpPr>
            <p:cNvPr id="146" name=""/>
            <p:cNvSpPr/>
            <p:nvPr/>
          </p:nvSpPr>
          <p:spPr>
            <a:xfrm>
              <a:off x="1523880" y="30841920"/>
              <a:ext cx="9144000" cy="380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657600" y="31070520"/>
              <a:ext cx="487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64120" y="3078468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nt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93160" y="30784680"/>
              <a:ext cx="16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iphe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7250040" y="211834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30240" y="21640680"/>
            <a:ext cx="14698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W.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0374480" y="20116800"/>
            <a:ext cx="30456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536400" y="19659600"/>
            <a:ext cx="189972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+p spec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0440" y="21564720"/>
            <a:ext cx="2806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lue: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: data - Hyd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0"/>
          <a:stretch/>
        </p:blipFill>
        <p:spPr>
          <a:xfrm>
            <a:off x="12801600" y="25866720"/>
            <a:ext cx="8915400" cy="4648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3334760" y="25790400"/>
            <a:ext cx="2214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W p)/(BW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415760" y="28152720"/>
            <a:ext cx="2248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W p)/(real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841280" y="31353120"/>
            <a:ext cx="6878880" cy="947160"/>
          </a:xfrm>
          <a:prstGeom prst="rect">
            <a:avLst/>
          </a:prstGeom>
          <a:solidFill>
            <a:srgbClr val="dbff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dial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one of the explan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baryon enhancement. It’s signific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673560" y="27847800"/>
            <a:ext cx="26053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lue: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: data - B.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4874840" y="15940080"/>
                <a:ext cx="45720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µ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dr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h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h</m:t>
                            </m:r>
                            <m:r>
                              <m:t xml:space="preserve">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9675440" y="15849720"/>
                <a:ext cx="1447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9675440" y="16230600"/>
                <a:ext cx="13716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21"/>
          <a:stretch/>
        </p:blipFill>
        <p:spPr>
          <a:xfrm>
            <a:off x="14325480" y="16992720"/>
            <a:ext cx="3630600" cy="228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2"/>
          <a:stretch/>
        </p:blipFill>
        <p:spPr>
          <a:xfrm>
            <a:off x="18108720" y="16992720"/>
            <a:ext cx="353196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3"/>
          <a:stretch/>
        </p:blipFill>
        <p:spPr>
          <a:xfrm>
            <a:off x="23240880" y="16002000"/>
            <a:ext cx="3810240" cy="281952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26898480" y="18973800"/>
            <a:ext cx="2666880" cy="2666880"/>
            <a:chOff x="26898480" y="18973800"/>
            <a:chExt cx="2666880" cy="2666880"/>
          </a:xfrm>
        </p:grpSpPr>
        <p:pic>
          <p:nvPicPr>
            <p:cNvPr id="167" name="" descr=""/>
            <p:cNvPicPr/>
            <p:nvPr/>
          </p:nvPicPr>
          <p:blipFill>
            <a:blip r:embed="rId24"/>
            <a:stretch/>
          </p:blipFill>
          <p:spPr>
            <a:xfrm>
              <a:off x="27313200" y="18973800"/>
              <a:ext cx="2252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5"/>
            <a:stretch/>
          </p:blipFill>
          <p:spPr>
            <a:xfrm>
              <a:off x="27372240" y="19100520"/>
              <a:ext cx="1837440" cy="50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6"/>
            <a:stretch/>
          </p:blipFill>
          <p:spPr>
            <a:xfrm>
              <a:off x="26898480" y="18973800"/>
              <a:ext cx="473760" cy="241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>
            <a:off x="23778000" y="22021920"/>
            <a:ext cx="5537520" cy="1191240"/>
          </a:xfrm>
          <a:prstGeom prst="rect">
            <a:avLst/>
          </a:prstGeom>
          <a:solidFill>
            <a:srgbClr val="dbff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simple recombination pictu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dial f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not be distinguish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hadron and quark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246280" y="15017760"/>
            <a:ext cx="6600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hadron production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bination of thermal qu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3240880" y="18973800"/>
            <a:ext cx="2514240" cy="2743200"/>
            <a:chOff x="23240880" y="18973800"/>
            <a:chExt cx="2514240" cy="2743200"/>
          </a:xfrm>
        </p:grpSpPr>
        <p:pic>
          <p:nvPicPr>
            <p:cNvPr id="173" name="" descr=""/>
            <p:cNvPicPr/>
            <p:nvPr/>
          </p:nvPicPr>
          <p:blipFill>
            <a:blip r:embed="rId27"/>
            <a:stretch/>
          </p:blipFill>
          <p:spPr>
            <a:xfrm>
              <a:off x="23643000" y="18973800"/>
              <a:ext cx="211212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8"/>
            <a:stretch/>
          </p:blipFill>
          <p:spPr>
            <a:xfrm>
              <a:off x="23240880" y="19045800"/>
              <a:ext cx="429480" cy="238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3525640" y="21413160"/>
              <a:ext cx="250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9"/>
            <a:stretch/>
          </p:blipFill>
          <p:spPr>
            <a:xfrm>
              <a:off x="23758200" y="19117800"/>
              <a:ext cx="1331280" cy="40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1630440" y="12496680"/>
            <a:ext cx="2732040" cy="5814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cusing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62040" y="16230600"/>
            <a:ext cx="4741920" cy="5814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wo component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2600" y="20720160"/>
            <a:ext cx="459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4320" y="23275800"/>
            <a:ext cx="688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3080" y="26789040"/>
            <a:ext cx="587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4720" y="28955880"/>
            <a:ext cx="520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210760" y="21717000"/>
            <a:ext cx="1133640" cy="762120"/>
          </a:xfrm>
          <a:prstGeom prst="rightArrow">
            <a:avLst>
              <a:gd name="adj1" fmla="val 50000"/>
              <a:gd name="adj2" fmla="val 371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558040" y="13841280"/>
            <a:ext cx="3725640" cy="5814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last wave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557320" y="14636880"/>
            <a:ext cx="7718400" cy="12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parameterization at low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&lt;1 GeV/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bout ambiguity due to velocity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Several velocity profile tested; n=1 is best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4" idx="1"/>
            <a:endCxn id="143" idx="3"/>
          </p:cNvCxnSpPr>
          <p:nvPr/>
        </p:nvCxnSpPr>
        <p:spPr>
          <a:xfrm flipV="1" rot="10800000">
            <a:off x="12143160" y="14131440"/>
            <a:ext cx="2415240" cy="3399120"/>
          </a:xfrm>
          <a:prstGeom prst="curvedConnector3">
            <a:avLst>
              <a:gd name="adj1" fmla="val 25745"/>
            </a:avLst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7" name=""/>
          <p:cNvSpPr/>
          <p:nvPr/>
        </p:nvSpPr>
        <p:spPr>
          <a:xfrm>
            <a:off x="18959400" y="20193120"/>
            <a:ext cx="382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- Cross point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S=H)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vs. p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551120" y="23895000"/>
            <a:ext cx="761292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mediate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rd p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ft 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2953880" y="30591000"/>
            <a:ext cx="8829360" cy="459720"/>
            <a:chOff x="12953880" y="30591000"/>
            <a:chExt cx="8829360" cy="459720"/>
          </a:xfrm>
        </p:grpSpPr>
        <p:sp>
          <p:nvSpPr>
            <p:cNvPr id="190" name=""/>
            <p:cNvSpPr/>
            <p:nvPr/>
          </p:nvSpPr>
          <p:spPr>
            <a:xfrm>
              <a:off x="12953880" y="30648240"/>
              <a:ext cx="8763120" cy="380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4998320" y="30876840"/>
              <a:ext cx="467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759200" y="3059100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nt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112120" y="30591000"/>
              <a:ext cx="16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iphe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917240" y="14173200"/>
            <a:ext cx="5712840" cy="5814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uark recombination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612600" y="19431000"/>
            <a:ext cx="6660720" cy="5814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raction of soft/hard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563720" y="2624760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3716000" y="27085680"/>
            <a:ext cx="3808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676240" y="26812800"/>
            <a:ext cx="993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573280" y="29348280"/>
            <a:ext cx="1154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" y="36838080"/>
            <a:ext cx="5315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icle Iden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057120" y="5791320"/>
            <a:ext cx="993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954160" y="8326440"/>
            <a:ext cx="1154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8120" y="2011680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843160" y="32739120"/>
            <a:ext cx="6765840" cy="648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paration in yield (dN/dy/(N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par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2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53200" y="25638120"/>
            <a:ext cx="2627640" cy="71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336560" y="29184480"/>
            <a:ext cx="1762920" cy="71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+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 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26920" y="25001640"/>
            <a:ext cx="3452760" cy="5814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paration in p/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709160" y="2386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137480" y="24765120"/>
            <a:ext cx="3224160" cy="648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paration in v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059400" y="24876000"/>
            <a:ext cx="99072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824200">
            <a:off x="22174200" y="2346912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830560" y="39624120"/>
            <a:ext cx="2393640" cy="5814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0000" y="32004000"/>
            <a:ext cx="70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wo-arm magnetic spectrometer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.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038800" y="33518520"/>
            <a:ext cx="21106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0 GeV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031560" y="33527880"/>
            <a:ext cx="21106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2 GeV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360" y="33518520"/>
            <a:ext cx="21106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4 GeV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009280" y="36261720"/>
            <a:ext cx="21286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,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0 GeV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001680" y="36258480"/>
            <a:ext cx="21286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,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2 GeV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16480" y="36249120"/>
            <a:ext cx="21286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,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4 GeV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787240" y="39471480"/>
            <a:ext cx="11418480" cy="202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Origi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ryon enhanc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verse radial f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is pushing particles to higher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ion of soft component at higher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hancement and freeze-out propertie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xt question: What’s the relation of hadronic and partonic radial flow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929840" y="44956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90360" y="193546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1280" y="2514600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enix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832320" y="16154280"/>
            <a:ext cx="33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trapolation 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rmal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922360" y="16916400"/>
            <a:ext cx="23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verse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667080" y="1690056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e-out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614720" y="25069680"/>
            <a:ext cx="441720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zero. It may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jet quen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066200" y="32543640"/>
            <a:ext cx="805968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soft/hard yields (dN/dy) are not scaled with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scattering, energy loss should be consid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811880" y="359665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9735920" y="34061400"/>
            <a:ext cx="4572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698080" y="358902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3698080" y="34061400"/>
            <a:ext cx="45720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735920" y="38785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735920" y="36804600"/>
            <a:ext cx="4572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698080" y="387856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698080" y="36804600"/>
            <a:ext cx="4572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184" idx="3"/>
            <a:endCxn id="194" idx="1"/>
          </p:cNvCxnSpPr>
          <p:nvPr/>
        </p:nvCxnSpPr>
        <p:spPr>
          <a:xfrm>
            <a:off x="18283680" y="14131800"/>
            <a:ext cx="4633920" cy="332280"/>
          </a:xfrm>
          <a:prstGeom prst="curvedConnector3">
            <a:avLst>
              <a:gd name="adj1" fmla="val 24994"/>
            </a:avLst>
          </a:prstGeom>
          <a:ln w="38160">
            <a:solidFill>
              <a:srgbClr val="000000"/>
            </a:solidFill>
            <a:prstDash val="dash"/>
            <a:miter/>
            <a:tailEnd len="med" type="triangle" w="lg"/>
          </a:ln>
        </p:spPr>
      </p:cxnSp>
      <p:sp>
        <p:nvSpPr>
          <p:cNvPr id="238" name=""/>
          <p:cNvSpPr/>
          <p:nvPr/>
        </p:nvSpPr>
        <p:spPr>
          <a:xfrm>
            <a:off x="20103840" y="137635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adron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14706360" y="952488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464160" y="9906120"/>
            <a:ext cx="4809240" cy="510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p+p (√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62.4, 200 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706520" y="29108520"/>
            <a:ext cx="346500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lue: data 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: estimated hard 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3850720" y="30937320"/>
            <a:ext cx="54864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3622120" y="27812520"/>
            <a:ext cx="533376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895320" y="35737920"/>
            <a:ext cx="1806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: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lue: 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: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363040" y="2499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00240" y="26517600"/>
            <a:ext cx="1041840" cy="510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W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240880" y="269748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284400" y="17373600"/>
            <a:ext cx="26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C 68 (2003) 0449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L 90 (2003) 2023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C 70(2004) 024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7:53:36Z</dcterms:created>
  <dc:creator>M. Konno</dc:creator>
  <dc:description/>
  <dc:language>en-US</dc:language>
  <cp:lastModifiedBy>ipe</cp:lastModifiedBy>
  <dcterms:modified xsi:type="dcterms:W3CDTF">2007-06-04T11:20:20Z</dcterms:modified>
  <cp:revision>74</cp:revision>
  <dc:subject/>
  <dc:title>PowerPoint プレゼンテーション</dc:title>
</cp:coreProperties>
</file>