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0.wmf" ContentType="image/x-wmf"/>
  <Override PartName="/ppt/media/image21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1124D-280E-431B-ACC4-DE4D5B6E3D6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C55D4-6FAC-4777-BC29-32153CC22D1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A321D-0059-41D2-9C75-E502634974B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D5014-8A5B-4F9A-BCCE-018D895167E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4244-810F-4D7B-BC3E-EBA9B4C41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706E-56B0-4CAC-AC90-8893BD90B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733A-4100-47F1-9455-758082A38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1FA7-A5D3-4E9F-95EC-5501331C4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0BCD-1F33-4634-B68C-62DBDB5DA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AB10-E8CD-480F-A520-6D53B4BC9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4B35-ADA2-4AB0-841F-7E02DA67B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D657-0146-4340-B485-5C1980B73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71CD-18BD-4784-B073-06D34273B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8B97-6174-41FF-91DE-B4637385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6DC8-CBE7-48E9-B4F0-EDE77D6C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D873-3246-4B5A-B3EC-AF3CD152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D5F2E-6780-4183-9D3E-6D41F7461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9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87123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66"/>
                </a:solidFill>
                <a:latin typeface="Tahoma"/>
              </a:rPr>
              <a:t>The Study of Elliptic Flow </a:t>
            </a:r>
            <a:br>
              <a:rPr sz="4800"/>
            </a:br>
            <a:r>
              <a:rPr b="1" lang="ja-JP" sz="4800" spc="-1" strike="noStrike">
                <a:solidFill>
                  <a:srgbClr val="000066"/>
                </a:solidFill>
                <a:latin typeface="Tahoma"/>
              </a:rPr>
              <a:t>for PID Hadron </a:t>
            </a:r>
            <a:br>
              <a:rPr sz="4800"/>
            </a:br>
            <a:r>
              <a:rPr b="1" lang="ja-JP" sz="4800" spc="-1" strike="noStrike">
                <a:solidFill>
                  <a:srgbClr val="000066"/>
                </a:solidFill>
                <a:latin typeface="Tahoma"/>
              </a:rPr>
              <a:t>at RHIC-PHENIX</a:t>
            </a:r>
            <a:r>
              <a:rPr b="0" lang="ja-JP" sz="4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4920" y="3645000"/>
            <a:ext cx="8101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Monotype Corsiva"/>
              </a:rPr>
              <a:t>Maya SHIMOMU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Monotype Corsiva"/>
              </a:rPr>
              <a:t>for the PHENIX 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Monotype Corsiva"/>
              </a:rPr>
              <a:t>University of Tsuku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08000" y="6437160"/>
            <a:ext cx="525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Monotype Corsiva"/>
              </a:rPr>
              <a:t>September 24 2007 JPS meet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50920" y="6018120"/>
            <a:ext cx="1728720" cy="630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948360" y="6093000"/>
            <a:ext cx="2016360" cy="56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ahoma"/>
              </a:rPr>
              <a:t>Particles and Anti-partic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28120" y="5589360"/>
            <a:ext cx="78598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anti-proton look smaller than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proto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errors are too big to conclu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108000" y="1268280"/>
            <a:ext cx="9007560" cy="355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034D-2634-43CC-B3AA-FF8AAC629D7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ahoma"/>
              </a:rPr>
              <a:t>Particles and Anti-partic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28120" y="5589360"/>
            <a:ext cx="78598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anti-proton look smaller than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proto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errors are too big to conclu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133200" y="1265400"/>
            <a:ext cx="8975880" cy="367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F14F-CB70-4A48-A451-6A24E21FC8D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3628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ahoma"/>
                <a:ea typeface="HGP創英角ﾎﾟｯﾌﾟ体"/>
              </a:rPr>
              <a:t>Summary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HGP創英角ﾎﾟｯﾌﾟ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94920" y="981000"/>
            <a:ext cx="84978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We measured PID (π, K, p) 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at 62.4 GeV in Au Au collisions and observed the dependence on p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, centrality, and ch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of 62.4 GeV is similar to that of 200 GeV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of 62.4 GeV is consistent to quark number sca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There could be the difference for 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of 62.4 GeV depending on the charge, however, the errors are to big to conclu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95280" y="3860640"/>
            <a:ext cx="8362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ahoma"/>
                <a:ea typeface="HGP創英角ﾎﾟｯﾌﾟ体"/>
              </a:rPr>
              <a:t>Next St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476360" y="4581360"/>
            <a:ext cx="676764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Detail study for charge depend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Close look into the difference of 200 GeV and 62.4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Comparison with PID v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 at Cu Cu 200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68360" y="608976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Monotype Corsiva"/>
              </a:rPr>
              <a:t>and,,,,, how about at LHC ? Stay ? Or Going Up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FF4C-6170-46C3-91FE-8A0E18C8FCE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563400"/>
            <a:ext cx="814716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Monotype Corsiva"/>
              </a:rPr>
              <a:t>how about at LHC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23640" y="188640"/>
            <a:ext cx="7427880" cy="3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more interesting topic is of course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rcRect l="0" t="7455" r="3745" b="0"/>
          <a:stretch/>
        </p:blipFill>
        <p:spPr>
          <a:xfrm>
            <a:off x="179280" y="1495440"/>
            <a:ext cx="5653080" cy="47419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5423040" y="5506920"/>
            <a:ext cx="24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067280" y="3933720"/>
            <a:ext cx="38894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995640" y="2852640"/>
            <a:ext cx="38894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524720" y="1268280"/>
            <a:ext cx="10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7524720" y="206064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237440" y="551664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8086-2831-481C-A612-7B1CE285214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4648320" y="3124080"/>
            <a:ext cx="419076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267080" y="320040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13 Countries;  62 Institutions;  550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articipants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392600" y="6477120"/>
            <a:ext cx="168804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*as of March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4616280" y="3660840"/>
          <a:ext cx="4527720" cy="2892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16280" y="3660840"/>
                    <a:ext cx="4527720" cy="28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"/>
          <p:cNvGraphicFramePr/>
          <p:nvPr/>
        </p:nvGraphicFramePr>
        <p:xfrm>
          <a:off x="0" y="152280"/>
          <a:ext cx="4645080" cy="66168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152280"/>
                    <a:ext cx="4645080" cy="661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3" name="" descr=""/>
          <p:cNvPicPr/>
          <p:nvPr/>
        </p:nvPicPr>
        <p:blipFill>
          <a:blip r:embed="rId6"/>
          <a:stretch/>
        </p:blipFill>
        <p:spPr>
          <a:xfrm>
            <a:off x="4191120" y="384120"/>
            <a:ext cx="4876560" cy="28162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 flipV="1">
            <a:off x="4648320" y="3581280"/>
            <a:ext cx="0" cy="3200400"/>
          </a:xfrm>
          <a:prstGeom prst="line">
            <a:avLst/>
          </a:prstGeom>
          <a:ln w="9360">
            <a:solidFill>
              <a:srgbClr val="cc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7"/>
          <a:stretch/>
        </p:blipFill>
        <p:spPr>
          <a:xfrm>
            <a:off x="4495680" y="0"/>
            <a:ext cx="1524240" cy="555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A7B1-F8AD-4AE1-9356-85ACB28BF1E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2679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66"/>
                </a:solidFill>
                <a:latin typeface="Monotype Corsiva"/>
              </a:rPr>
              <a:t>Back up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071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Resolution Calculation of Reaction Pl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61520" y="5844960"/>
            <a:ext cx="749484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BC North + South comb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√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(2*&lt;cos(2*(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Ψ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Ψ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))&gt;) =1/correction fa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4282920" y="2317680"/>
            <a:ext cx="4753080" cy="34164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971640" y="190980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,B : reaction plane determined for each sub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11280" y="2276640"/>
            <a:ext cx="273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684360" y="1341360"/>
                <a:ext cx="7378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solution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[</m:t>
                    </m:r>
                    <m:r>
                      <m:t xml:space="preserve">2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easured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ue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[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&gt;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684360" y="3716280"/>
                <a:ext cx="3300120" cy="12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eal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asured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esolutio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D2C0-2F67-451F-A18C-FE73CAA99D0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1795320" y="1600200"/>
            <a:ext cx="5553360" cy="452592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5076720" y="4653000"/>
            <a:ext cx="176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PHENIX prelimina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268360" y="162864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+ Au 200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2F3A-B423-4AD5-871A-EB633FF3944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560" y="374400"/>
            <a:ext cx="84582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99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990000"/>
                </a:solidFill>
                <a:latin typeface="Arial"/>
              </a:rPr>
              <a:t>Elliptic Flow at SPS (Pb+Pb at 158 GeV, NA4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7680" y="874800"/>
            <a:ext cx="3368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304920" y="1600200"/>
            <a:ext cx="4184640" cy="428616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4343400" y="1600200"/>
            <a:ext cx="4287960" cy="43434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990720" y="5943600"/>
            <a:ext cx="731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The statistical errors are too large  to make any statement about the scaling of elliptic flow at SPS ener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2952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V2 of K0  (preliminary) - G. Stefanek for NA49 collaboration (nucl-ex/0611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" y="9144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Arial"/>
              </a:rPr>
              <a:t>v2 of p,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Arial"/>
              </a:rPr>
              <a:t> -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. Alt et al (NA49 collaboration) nucl-ex/0606026 submitted to P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24000" y="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This slide is taken from A. Tranenko’s talk at QM 200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475E-254B-40AF-B58D-1BF7474BF2AB}" type="slidenum">
              <a:t>18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63640" y="82440"/>
            <a:ext cx="5400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About Elliptic Flow (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36440" y="4583160"/>
                <a:ext cx="450684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num>
                      <m:den>
                        <m:r>
                          <m:t xml:space="preserve">dφ</m:t>
                        </m:r>
                      </m:den>
                    </m:f>
                    <m:r>
                      <m:t xml:space="preserve">=</m:t>
                    </m:r>
                    <m:r>
                      <m:t xml:space="preserve">n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φ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P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407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66"/>
                </a:solidFill>
                <a:uFillTx/>
                <a:latin typeface="Arial"/>
              </a:rPr>
              <a:t>A sensitive probe for studying properties of the hot dense matter made by heavy ion collis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79280" y="1700280"/>
            <a:ext cx="3649320" cy="2691720"/>
            <a:chOff x="179280" y="1700280"/>
            <a:chExt cx="3649320" cy="2691720"/>
          </a:xfrm>
        </p:grpSpPr>
        <p:sp>
          <p:nvSpPr>
            <p:cNvPr id="57" name=""/>
            <p:cNvSpPr/>
            <p:nvPr/>
          </p:nvSpPr>
          <p:spPr>
            <a:xfrm>
              <a:off x="280800" y="2117880"/>
              <a:ext cx="10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eam axi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179280" y="1700280"/>
              <a:ext cx="3649320" cy="2691720"/>
              <a:chOff x="179280" y="1700280"/>
              <a:chExt cx="3649320" cy="2691720"/>
            </a:xfrm>
          </p:grpSpPr>
          <p:grpSp>
            <p:nvGrpSpPr>
              <p:cNvPr id="59" name=""/>
              <p:cNvGrpSpPr/>
              <p:nvPr/>
            </p:nvGrpSpPr>
            <p:grpSpPr>
              <a:xfrm>
                <a:off x="323280" y="1700280"/>
                <a:ext cx="3505320" cy="2691720"/>
                <a:chOff x="323280" y="1700280"/>
                <a:chExt cx="3505320" cy="2691720"/>
              </a:xfrm>
            </p:grpSpPr>
            <p:grpSp>
              <p:nvGrpSpPr>
                <p:cNvPr id="60" name=""/>
                <p:cNvGrpSpPr/>
                <p:nvPr/>
              </p:nvGrpSpPr>
              <p:grpSpPr>
                <a:xfrm>
                  <a:off x="323280" y="1863720"/>
                  <a:ext cx="3140280" cy="2528280"/>
                  <a:chOff x="323280" y="1863720"/>
                  <a:chExt cx="3140280" cy="2528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rot="10800000">
                    <a:off x="2668320" y="1863720"/>
                    <a:ext cx="346680" cy="322920"/>
                  </a:xfrm>
                  <a:custGeom>
                    <a:avLst/>
                    <a:gdLst/>
                    <a:ahLst/>
                    <a:rect l="l" t="t" r="r" b="b"/>
                    <a:pathLst>
                      <a:path w="720" h="622">
                        <a:moveTo>
                          <a:pt x="430" y="0"/>
                        </a:moveTo>
                        <a:lnTo>
                          <a:pt x="177" y="379"/>
                        </a:lnTo>
                        <a:lnTo>
                          <a:pt x="0" y="379"/>
                        </a:lnTo>
                        <a:lnTo>
                          <a:pt x="168" y="622"/>
                        </a:lnTo>
                        <a:lnTo>
                          <a:pt x="631" y="379"/>
                        </a:lnTo>
                        <a:lnTo>
                          <a:pt x="465" y="382"/>
                        </a:lnTo>
                        <a:lnTo>
                          <a:pt x="720" y="0"/>
                        </a:lnTo>
                        <a:lnTo>
                          <a:pt x="430" y="0"/>
                        </a:lnTo>
                        <a:close/>
                      </a:path>
                    </a:pathLst>
                  </a:cu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>
                    <a:off x="886680" y="2203560"/>
                    <a:ext cx="600120" cy="95904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 flipH="1">
                    <a:off x="1176480" y="2203560"/>
                    <a:ext cx="590040" cy="94428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1362600" y="2404440"/>
                    <a:ext cx="1977480" cy="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1315440" y="3409200"/>
                    <a:ext cx="1389600" cy="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" name=""/>
                  <p:cNvSpPr/>
                  <p:nvPr/>
                </p:nvSpPr>
                <p:spPr>
                  <a:xfrm>
                    <a:off x="323640" y="2199240"/>
                    <a:ext cx="3139920" cy="1862280"/>
                  </a:xfrm>
                  <a:prstGeom prst="parallelogram">
                    <a:avLst>
                      <a:gd name="adj" fmla="val 62556"/>
                    </a:avLst>
                  </a:prstGeom>
                  <a:noFill/>
                  <a:ln w="2844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 flipH="1">
                    <a:off x="323280" y="3659400"/>
                    <a:ext cx="251640" cy="40500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>
                    <a:off x="1316160" y="2203560"/>
                    <a:ext cx="729720" cy="116856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 flipV="1" rot="10800000">
                    <a:off x="1287360" y="3255840"/>
                    <a:ext cx="243720" cy="74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52" h="715">
                        <a:moveTo>
                          <a:pt x="84" y="643"/>
                        </a:moveTo>
                        <a:cubicBezTo>
                          <a:pt x="64" y="611"/>
                          <a:pt x="38" y="568"/>
                          <a:pt x="24" y="519"/>
                        </a:cubicBezTo>
                        <a:cubicBezTo>
                          <a:pt x="10" y="470"/>
                          <a:pt x="0" y="403"/>
                          <a:pt x="1" y="351"/>
                        </a:cubicBezTo>
                        <a:cubicBezTo>
                          <a:pt x="2" y="299"/>
                          <a:pt x="14" y="251"/>
                          <a:pt x="30" y="205"/>
                        </a:cubicBezTo>
                        <a:cubicBezTo>
                          <a:pt x="46" y="159"/>
                          <a:pt x="77" y="106"/>
                          <a:pt x="100" y="73"/>
                        </a:cubicBezTo>
                        <a:cubicBezTo>
                          <a:pt x="123" y="40"/>
                          <a:pt x="163" y="0"/>
                          <a:pt x="166" y="4"/>
                        </a:cubicBezTo>
                        <a:cubicBezTo>
                          <a:pt x="198" y="57"/>
                          <a:pt x="212" y="120"/>
                          <a:pt x="225" y="171"/>
                        </a:cubicBezTo>
                        <a:cubicBezTo>
                          <a:pt x="239" y="226"/>
                          <a:pt x="246" y="280"/>
                          <a:pt x="249" y="337"/>
                        </a:cubicBezTo>
                        <a:cubicBezTo>
                          <a:pt x="252" y="394"/>
                          <a:pt x="249" y="464"/>
                          <a:pt x="241" y="514"/>
                        </a:cubicBezTo>
                        <a:cubicBezTo>
                          <a:pt x="233" y="564"/>
                          <a:pt x="216" y="603"/>
                          <a:pt x="199" y="636"/>
                        </a:cubicBezTo>
                        <a:cubicBezTo>
                          <a:pt x="182" y="669"/>
                          <a:pt x="142" y="715"/>
                          <a:pt x="142" y="712"/>
                        </a:cubicBezTo>
                        <a:cubicBezTo>
                          <a:pt x="142" y="711"/>
                          <a:pt x="104" y="675"/>
                          <a:pt x="84" y="643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381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 flipH="1">
                    <a:off x="1156320" y="3198240"/>
                    <a:ext cx="537840" cy="85932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2121480" y="4084920"/>
                    <a:ext cx="2707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x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1188000" y="2116080"/>
                    <a:ext cx="2707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z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" name=""/>
                  <p:cNvGrpSpPr/>
                  <p:nvPr/>
                </p:nvGrpSpPr>
                <p:grpSpPr>
                  <a:xfrm>
                    <a:off x="2119320" y="2026800"/>
                    <a:ext cx="996840" cy="1043640"/>
                    <a:chOff x="2119320" y="2026800"/>
                    <a:chExt cx="996840" cy="1043640"/>
                  </a:xfrm>
                </p:grpSpPr>
                <p:grpSp>
                  <p:nvGrpSpPr>
                    <p:cNvPr id="74" name=""/>
                    <p:cNvGrpSpPr/>
                    <p:nvPr/>
                  </p:nvGrpSpPr>
                  <p:grpSpPr>
                    <a:xfrm>
                      <a:off x="2119320" y="2026800"/>
                      <a:ext cx="996840" cy="1043640"/>
                      <a:chOff x="2119320" y="2026800"/>
                      <a:chExt cx="996840" cy="1043640"/>
                    </a:xfrm>
                  </p:grpSpPr>
                  <p:sp>
                    <p:nvSpPr>
                      <p:cNvPr id="75" name=""/>
                      <p:cNvSpPr/>
                      <p:nvPr/>
                    </p:nvSpPr>
                    <p:spPr>
                      <a:xfrm>
                        <a:off x="2141640" y="2027880"/>
                        <a:ext cx="952920" cy="102492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ffffff"/>
                          </a:gs>
                          <a:gs pos="100000">
                            <a:srgbClr val="333399"/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" name=""/>
                      <p:cNvSpPr/>
                      <p:nvPr/>
                    </p:nvSpPr>
                    <p:spPr>
                      <a:xfrm>
                        <a:off x="2141640" y="2026800"/>
                        <a:ext cx="952920" cy="1024920"/>
                      </a:xfrm>
                      <a:prstGeom prst="ellipse">
                        <a:avLst/>
                      </a:prstGeom>
                      <a:noFill/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" name=""/>
                      <p:cNvSpPr/>
                      <p:nvPr/>
                    </p:nvSpPr>
                    <p:spPr>
                      <a:xfrm>
                        <a:off x="2119320" y="2443680"/>
                        <a:ext cx="996840" cy="62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26" h="600">
                            <a:moveTo>
                              <a:pt x="43" y="123"/>
                            </a:moveTo>
                            <a:cubicBezTo>
                              <a:pt x="61" y="136"/>
                              <a:pt x="84" y="160"/>
                              <a:pt x="120" y="181"/>
                            </a:cubicBezTo>
                            <a:cubicBezTo>
                              <a:pt x="156" y="202"/>
                              <a:pt x="210" y="233"/>
                              <a:pt x="262" y="250"/>
                            </a:cubicBezTo>
                            <a:cubicBezTo>
                              <a:pt x="314" y="267"/>
                              <a:pt x="370" y="279"/>
                              <a:pt x="432" y="280"/>
                            </a:cubicBezTo>
                            <a:cubicBezTo>
                              <a:pt x="494" y="281"/>
                              <a:pt x="573" y="272"/>
                              <a:pt x="634" y="259"/>
                            </a:cubicBezTo>
                            <a:cubicBezTo>
                              <a:pt x="695" y="246"/>
                              <a:pt x="749" y="229"/>
                              <a:pt x="799" y="201"/>
                            </a:cubicBezTo>
                            <a:cubicBezTo>
                              <a:pt x="849" y="173"/>
                              <a:pt x="899" y="122"/>
                              <a:pt x="937" y="90"/>
                            </a:cubicBezTo>
                            <a:cubicBezTo>
                              <a:pt x="975" y="58"/>
                              <a:pt x="1012" y="0"/>
                              <a:pt x="1026" y="9"/>
                            </a:cubicBezTo>
                            <a:cubicBezTo>
                              <a:pt x="1021" y="13"/>
                              <a:pt x="1025" y="101"/>
                              <a:pt x="1019" y="144"/>
                            </a:cubicBezTo>
                            <a:cubicBezTo>
                              <a:pt x="1013" y="187"/>
                              <a:pt x="1007" y="227"/>
                              <a:pt x="992" y="267"/>
                            </a:cubicBezTo>
                            <a:cubicBezTo>
                              <a:pt x="978" y="307"/>
                              <a:pt x="952" y="351"/>
                              <a:pt x="929" y="384"/>
                            </a:cubicBezTo>
                            <a:cubicBezTo>
                              <a:pt x="907" y="417"/>
                              <a:pt x="886" y="440"/>
                              <a:pt x="857" y="467"/>
                            </a:cubicBezTo>
                            <a:cubicBezTo>
                              <a:pt x="827" y="493"/>
                              <a:pt x="790" y="521"/>
                              <a:pt x="749" y="542"/>
                            </a:cubicBezTo>
                            <a:cubicBezTo>
                              <a:pt x="708" y="562"/>
                              <a:pt x="659" y="580"/>
                              <a:pt x="610" y="588"/>
                            </a:cubicBezTo>
                            <a:cubicBezTo>
                              <a:pt x="561" y="596"/>
                              <a:pt x="505" y="600"/>
                              <a:pt x="455" y="594"/>
                            </a:cubicBezTo>
                            <a:cubicBezTo>
                              <a:pt x="404" y="588"/>
                              <a:pt x="353" y="572"/>
                              <a:pt x="310" y="553"/>
                            </a:cubicBezTo>
                            <a:cubicBezTo>
                              <a:pt x="267" y="533"/>
                              <a:pt x="229" y="510"/>
                              <a:pt x="193" y="479"/>
                            </a:cubicBezTo>
                            <a:cubicBezTo>
                              <a:pt x="157" y="448"/>
                              <a:pt x="121" y="408"/>
                              <a:pt x="95" y="368"/>
                            </a:cubicBezTo>
                            <a:cubicBezTo>
                              <a:pt x="69" y="328"/>
                              <a:pt x="52" y="286"/>
                              <a:pt x="36" y="237"/>
                            </a:cubicBezTo>
                            <a:cubicBezTo>
                              <a:pt x="20" y="188"/>
                              <a:pt x="0" y="92"/>
                              <a:pt x="1" y="73"/>
                            </a:cubicBezTo>
                            <a:lnTo>
                              <a:pt x="43" y="123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5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8" name=""/>
                      <p:cNvSpPr/>
                      <p:nvPr/>
                    </p:nvSpPr>
                    <p:spPr>
                      <a:xfrm>
                        <a:off x="2141640" y="2469600"/>
                        <a:ext cx="951120" cy="268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79" h="257">
                            <a:moveTo>
                              <a:pt x="0" y="78"/>
                            </a:moveTo>
                            <a:cubicBezTo>
                              <a:pt x="17" y="92"/>
                              <a:pt x="57" y="134"/>
                              <a:pt x="101" y="160"/>
                            </a:cubicBezTo>
                            <a:cubicBezTo>
                              <a:pt x="145" y="186"/>
                              <a:pt x="213" y="216"/>
                              <a:pt x="263" y="232"/>
                            </a:cubicBezTo>
                            <a:cubicBezTo>
                              <a:pt x="313" y="248"/>
                              <a:pt x="347" y="255"/>
                              <a:pt x="404" y="256"/>
                            </a:cubicBezTo>
                            <a:cubicBezTo>
                              <a:pt x="461" y="257"/>
                              <a:pt x="542" y="254"/>
                              <a:pt x="608" y="238"/>
                            </a:cubicBezTo>
                            <a:cubicBezTo>
                              <a:pt x="674" y="222"/>
                              <a:pt x="738" y="200"/>
                              <a:pt x="800" y="160"/>
                            </a:cubicBezTo>
                            <a:cubicBezTo>
                              <a:pt x="862" y="120"/>
                              <a:pt x="942" y="33"/>
                              <a:pt x="979" y="0"/>
                            </a:cubicBez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79" name=""/>
                    <p:cNvSpPr/>
                    <p:nvPr/>
                  </p:nvSpPr>
                  <p:spPr>
                    <a:xfrm>
                      <a:off x="2136600" y="2170080"/>
                      <a:ext cx="244440" cy="74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2" h="715">
                          <a:moveTo>
                            <a:pt x="84" y="643"/>
                          </a:moveTo>
                          <a:cubicBezTo>
                            <a:pt x="64" y="611"/>
                            <a:pt x="38" y="568"/>
                            <a:pt x="24" y="519"/>
                          </a:cubicBezTo>
                          <a:cubicBezTo>
                            <a:pt x="10" y="470"/>
                            <a:pt x="0" y="403"/>
                            <a:pt x="1" y="351"/>
                          </a:cubicBezTo>
                          <a:cubicBezTo>
                            <a:pt x="2" y="299"/>
                            <a:pt x="14" y="251"/>
                            <a:pt x="30" y="205"/>
                          </a:cubicBezTo>
                          <a:cubicBezTo>
                            <a:pt x="46" y="159"/>
                            <a:pt x="77" y="106"/>
                            <a:pt x="100" y="73"/>
                          </a:cubicBezTo>
                          <a:cubicBezTo>
                            <a:pt x="123" y="40"/>
                            <a:pt x="163" y="0"/>
                            <a:pt x="166" y="4"/>
                          </a:cubicBezTo>
                          <a:cubicBezTo>
                            <a:pt x="198" y="57"/>
                            <a:pt x="212" y="120"/>
                            <a:pt x="225" y="171"/>
                          </a:cubicBezTo>
                          <a:cubicBezTo>
                            <a:pt x="239" y="226"/>
                            <a:pt x="246" y="280"/>
                            <a:pt x="249" y="337"/>
                          </a:cubicBezTo>
                          <a:cubicBezTo>
                            <a:pt x="252" y="394"/>
                            <a:pt x="249" y="464"/>
                            <a:pt x="241" y="514"/>
                          </a:cubicBezTo>
                          <a:cubicBezTo>
                            <a:pt x="233" y="564"/>
                            <a:pt x="216" y="603"/>
                            <a:pt x="199" y="636"/>
                          </a:cubicBezTo>
                          <a:cubicBezTo>
                            <a:pt x="182" y="669"/>
                            <a:pt x="142" y="715"/>
                            <a:pt x="142" y="712"/>
                          </a:cubicBezTo>
                          <a:cubicBezTo>
                            <a:pt x="142" y="711"/>
                            <a:pt x="104" y="675"/>
                            <a:pt x="84" y="643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572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" name=""/>
                  <p:cNvSpPr/>
                  <p:nvPr/>
                </p:nvSpPr>
                <p:spPr>
                  <a:xfrm>
                    <a:off x="1500840" y="2199240"/>
                    <a:ext cx="815040" cy="0"/>
                  </a:xfrm>
                  <a:prstGeom prst="line">
                    <a:avLst/>
                  </a:prstGeom>
                  <a:ln w="2844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1798560" y="2404440"/>
                    <a:ext cx="583560" cy="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1234080" y="2604240"/>
                    <a:ext cx="1158480" cy="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 flipH="1">
                    <a:off x="2075760" y="2527560"/>
                    <a:ext cx="315000" cy="50472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1108080" y="2805480"/>
                    <a:ext cx="1980000" cy="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flipH="1">
                    <a:off x="1159920" y="2199240"/>
                    <a:ext cx="1156680" cy="185400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982080" y="3006720"/>
                    <a:ext cx="1980000" cy="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7" name=""/>
                  <p:cNvGrpSpPr/>
                  <p:nvPr/>
                </p:nvGrpSpPr>
                <p:grpSpPr>
                  <a:xfrm>
                    <a:off x="1604160" y="2610000"/>
                    <a:ext cx="475200" cy="1029960"/>
                    <a:chOff x="1604160" y="2610000"/>
                    <a:chExt cx="475200" cy="1029960"/>
                  </a:xfrm>
                </p:grpSpPr>
                <p:sp>
                  <p:nvSpPr>
                    <p:cNvPr id="88" name=""/>
                    <p:cNvSpPr/>
                    <p:nvPr/>
                  </p:nvSpPr>
                  <p:spPr>
                    <a:xfrm>
                      <a:off x="1604160" y="2610720"/>
                      <a:ext cx="474120" cy="10263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33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" name=""/>
                    <p:cNvSpPr/>
                    <p:nvPr/>
                  </p:nvSpPr>
                  <p:spPr>
                    <a:xfrm>
                      <a:off x="1604160" y="3101400"/>
                      <a:ext cx="475200" cy="53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515">
                          <a:moveTo>
                            <a:pt x="13" y="46"/>
                          </a:moveTo>
                          <a:cubicBezTo>
                            <a:pt x="24" y="55"/>
                            <a:pt x="47" y="72"/>
                            <a:pt x="65" y="81"/>
                          </a:cubicBezTo>
                          <a:cubicBezTo>
                            <a:pt x="83" y="90"/>
                            <a:pt x="103" y="92"/>
                            <a:pt x="121" y="97"/>
                          </a:cubicBezTo>
                          <a:cubicBezTo>
                            <a:pt x="139" y="102"/>
                            <a:pt x="156" y="109"/>
                            <a:pt x="176" y="112"/>
                          </a:cubicBezTo>
                          <a:cubicBezTo>
                            <a:pt x="196" y="115"/>
                            <a:pt x="218" y="115"/>
                            <a:pt x="241" y="114"/>
                          </a:cubicBezTo>
                          <a:cubicBezTo>
                            <a:pt x="264" y="113"/>
                            <a:pt x="289" y="109"/>
                            <a:pt x="313" y="103"/>
                          </a:cubicBezTo>
                          <a:cubicBezTo>
                            <a:pt x="337" y="97"/>
                            <a:pt x="362" y="90"/>
                            <a:pt x="385" y="78"/>
                          </a:cubicBezTo>
                          <a:cubicBezTo>
                            <a:pt x="408" y="66"/>
                            <a:pt x="435" y="41"/>
                            <a:pt x="452" y="29"/>
                          </a:cubicBezTo>
                          <a:cubicBezTo>
                            <a:pt x="469" y="17"/>
                            <a:pt x="479" y="0"/>
                            <a:pt x="485" y="7"/>
                          </a:cubicBezTo>
                          <a:cubicBezTo>
                            <a:pt x="483" y="11"/>
                            <a:pt x="489" y="40"/>
                            <a:pt x="487" y="70"/>
                          </a:cubicBezTo>
                          <a:cubicBezTo>
                            <a:pt x="485" y="100"/>
                            <a:pt x="481" y="151"/>
                            <a:pt x="474" y="190"/>
                          </a:cubicBezTo>
                          <a:cubicBezTo>
                            <a:pt x="467" y="229"/>
                            <a:pt x="455" y="272"/>
                            <a:pt x="444" y="304"/>
                          </a:cubicBezTo>
                          <a:cubicBezTo>
                            <a:pt x="433" y="336"/>
                            <a:pt x="423" y="359"/>
                            <a:pt x="408" y="385"/>
                          </a:cubicBezTo>
                          <a:cubicBezTo>
                            <a:pt x="394" y="411"/>
                            <a:pt x="376" y="438"/>
                            <a:pt x="356" y="458"/>
                          </a:cubicBezTo>
                          <a:cubicBezTo>
                            <a:pt x="336" y="478"/>
                            <a:pt x="313" y="495"/>
                            <a:pt x="289" y="503"/>
                          </a:cubicBezTo>
                          <a:cubicBezTo>
                            <a:pt x="265" y="511"/>
                            <a:pt x="238" y="515"/>
                            <a:pt x="214" y="509"/>
                          </a:cubicBezTo>
                          <a:cubicBezTo>
                            <a:pt x="189" y="503"/>
                            <a:pt x="164" y="488"/>
                            <a:pt x="143" y="469"/>
                          </a:cubicBezTo>
                          <a:cubicBezTo>
                            <a:pt x="122" y="450"/>
                            <a:pt x="104" y="427"/>
                            <a:pt x="87" y="397"/>
                          </a:cubicBezTo>
                          <a:cubicBezTo>
                            <a:pt x="69" y="367"/>
                            <a:pt x="52" y="328"/>
                            <a:pt x="39" y="289"/>
                          </a:cubicBezTo>
                          <a:cubicBezTo>
                            <a:pt x="27" y="250"/>
                            <a:pt x="17" y="204"/>
                            <a:pt x="10" y="161"/>
                          </a:cubicBezTo>
                          <a:cubicBezTo>
                            <a:pt x="4" y="118"/>
                            <a:pt x="0" y="47"/>
                            <a:pt x="0" y="28"/>
                          </a:cubicBezTo>
                          <a:lnTo>
                            <a:pt x="13" y="46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" name=""/>
                    <p:cNvSpPr/>
                    <p:nvPr/>
                  </p:nvSpPr>
                  <p:spPr>
                    <a:xfrm>
                      <a:off x="1604160" y="3103560"/>
                      <a:ext cx="473040" cy="11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79" h="257">
                          <a:moveTo>
                            <a:pt x="0" y="78"/>
                          </a:moveTo>
                          <a:cubicBezTo>
                            <a:pt x="17" y="92"/>
                            <a:pt x="57" y="134"/>
                            <a:pt x="101" y="160"/>
                          </a:cubicBezTo>
                          <a:cubicBezTo>
                            <a:pt x="145" y="186"/>
                            <a:pt x="213" y="216"/>
                            <a:pt x="263" y="232"/>
                          </a:cubicBezTo>
                          <a:cubicBezTo>
                            <a:pt x="313" y="248"/>
                            <a:pt x="347" y="255"/>
                            <a:pt x="404" y="256"/>
                          </a:cubicBezTo>
                          <a:cubicBezTo>
                            <a:pt x="461" y="257"/>
                            <a:pt x="542" y="254"/>
                            <a:pt x="608" y="238"/>
                          </a:cubicBezTo>
                          <a:cubicBezTo>
                            <a:pt x="674" y="222"/>
                            <a:pt x="738" y="200"/>
                            <a:pt x="800" y="160"/>
                          </a:cubicBezTo>
                          <a:cubicBezTo>
                            <a:pt x="862" y="120"/>
                            <a:pt x="942" y="33"/>
                            <a:pt x="979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" name=""/>
                    <p:cNvSpPr/>
                    <p:nvPr/>
                  </p:nvSpPr>
                  <p:spPr>
                    <a:xfrm>
                      <a:off x="1604160" y="2610000"/>
                      <a:ext cx="474120" cy="1026360"/>
                    </a:xfrm>
                    <a:prstGeom prst="ellipse">
                      <a:avLst/>
                    </a:prstGeom>
                    <a:noFill/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2" name=""/>
                  <p:cNvSpPr/>
                  <p:nvPr/>
                </p:nvSpPr>
                <p:spPr>
                  <a:xfrm flipH="1">
                    <a:off x="2009520" y="2664720"/>
                    <a:ext cx="868320" cy="139284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 flipH="1">
                    <a:off x="1731240" y="2742480"/>
                    <a:ext cx="818640" cy="131112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1924560" y="3206520"/>
                    <a:ext cx="910440" cy="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 flipH="1">
                    <a:off x="1401840" y="2091240"/>
                    <a:ext cx="151200" cy="242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 flipH="1">
                    <a:off x="1434960" y="3182040"/>
                    <a:ext cx="549360" cy="87948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>
                    <a:off x="1560960" y="3196800"/>
                    <a:ext cx="134640" cy="21600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1255680" y="3207960"/>
                    <a:ext cx="462960" cy="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9" name=""/>
                  <p:cNvGrpSpPr/>
                  <p:nvPr/>
                </p:nvGrpSpPr>
                <p:grpSpPr>
                  <a:xfrm>
                    <a:off x="565200" y="3124440"/>
                    <a:ext cx="986760" cy="1045080"/>
                    <a:chOff x="565200" y="3124440"/>
                    <a:chExt cx="986760" cy="1045080"/>
                  </a:xfrm>
                </p:grpSpPr>
                <p:sp>
                  <p:nvSpPr>
                    <p:cNvPr id="100" name=""/>
                    <p:cNvSpPr/>
                    <p:nvPr/>
                  </p:nvSpPr>
                  <p:spPr>
                    <a:xfrm>
                      <a:off x="578880" y="3125520"/>
                      <a:ext cx="952200" cy="10249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333399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" name=""/>
                    <p:cNvSpPr/>
                    <p:nvPr/>
                  </p:nvSpPr>
                  <p:spPr>
                    <a:xfrm>
                      <a:off x="576720" y="3124440"/>
                      <a:ext cx="952200" cy="1024920"/>
                    </a:xfrm>
                    <a:prstGeom prst="ellipse">
                      <a:avLst/>
                    </a:prstGeom>
                    <a:noFill/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" name=""/>
                    <p:cNvSpPr/>
                    <p:nvPr/>
                  </p:nvSpPr>
                  <p:spPr>
                    <a:xfrm>
                      <a:off x="565200" y="3549600"/>
                      <a:ext cx="986760" cy="619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82" h="568">
                          <a:moveTo>
                            <a:pt x="22" y="106"/>
                          </a:moveTo>
                          <a:cubicBezTo>
                            <a:pt x="39" y="120"/>
                            <a:pt x="60" y="144"/>
                            <a:pt x="100" y="166"/>
                          </a:cubicBezTo>
                          <a:cubicBezTo>
                            <a:pt x="140" y="188"/>
                            <a:pt x="212" y="222"/>
                            <a:pt x="262" y="238"/>
                          </a:cubicBezTo>
                          <a:cubicBezTo>
                            <a:pt x="312" y="254"/>
                            <a:pt x="346" y="261"/>
                            <a:pt x="403" y="262"/>
                          </a:cubicBezTo>
                          <a:cubicBezTo>
                            <a:pt x="460" y="263"/>
                            <a:pt x="546" y="257"/>
                            <a:pt x="607" y="244"/>
                          </a:cubicBezTo>
                          <a:cubicBezTo>
                            <a:pt x="668" y="231"/>
                            <a:pt x="719" y="210"/>
                            <a:pt x="769" y="183"/>
                          </a:cubicBezTo>
                          <a:cubicBezTo>
                            <a:pt x="819" y="156"/>
                            <a:pt x="872" y="111"/>
                            <a:pt x="907" y="82"/>
                          </a:cubicBezTo>
                          <a:cubicBezTo>
                            <a:pt x="942" y="53"/>
                            <a:pt x="966" y="0"/>
                            <a:pt x="978" y="7"/>
                          </a:cubicBezTo>
                          <a:cubicBezTo>
                            <a:pt x="973" y="11"/>
                            <a:pt x="982" y="84"/>
                            <a:pt x="978" y="123"/>
                          </a:cubicBezTo>
                          <a:cubicBezTo>
                            <a:pt x="974" y="162"/>
                            <a:pt x="966" y="204"/>
                            <a:pt x="952" y="243"/>
                          </a:cubicBezTo>
                          <a:cubicBezTo>
                            <a:pt x="938" y="282"/>
                            <a:pt x="913" y="325"/>
                            <a:pt x="891" y="357"/>
                          </a:cubicBezTo>
                          <a:cubicBezTo>
                            <a:pt x="869" y="389"/>
                            <a:pt x="849" y="412"/>
                            <a:pt x="820" y="438"/>
                          </a:cubicBezTo>
                          <a:cubicBezTo>
                            <a:pt x="791" y="464"/>
                            <a:pt x="755" y="491"/>
                            <a:pt x="715" y="511"/>
                          </a:cubicBezTo>
                          <a:cubicBezTo>
                            <a:pt x="675" y="531"/>
                            <a:pt x="628" y="548"/>
                            <a:pt x="580" y="556"/>
                          </a:cubicBezTo>
                          <a:cubicBezTo>
                            <a:pt x="532" y="564"/>
                            <a:pt x="478" y="568"/>
                            <a:pt x="429" y="562"/>
                          </a:cubicBezTo>
                          <a:cubicBezTo>
                            <a:pt x="380" y="556"/>
                            <a:pt x="330" y="541"/>
                            <a:pt x="288" y="522"/>
                          </a:cubicBezTo>
                          <a:cubicBezTo>
                            <a:pt x="246" y="503"/>
                            <a:pt x="209" y="480"/>
                            <a:pt x="174" y="450"/>
                          </a:cubicBezTo>
                          <a:cubicBezTo>
                            <a:pt x="139" y="420"/>
                            <a:pt x="104" y="381"/>
                            <a:pt x="79" y="342"/>
                          </a:cubicBezTo>
                          <a:cubicBezTo>
                            <a:pt x="54" y="303"/>
                            <a:pt x="34" y="257"/>
                            <a:pt x="21" y="214"/>
                          </a:cubicBezTo>
                          <a:cubicBezTo>
                            <a:pt x="8" y="171"/>
                            <a:pt x="0" y="99"/>
                            <a:pt x="0" y="81"/>
                          </a:cubicBezTo>
                          <a:lnTo>
                            <a:pt x="22" y="106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" name=""/>
                    <p:cNvSpPr/>
                    <p:nvPr/>
                  </p:nvSpPr>
                  <p:spPr>
                    <a:xfrm flipV="1" rot="10800000">
                      <a:off x="1287000" y="3249000"/>
                      <a:ext cx="245160" cy="74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2" h="715">
                          <a:moveTo>
                            <a:pt x="84" y="643"/>
                          </a:moveTo>
                          <a:cubicBezTo>
                            <a:pt x="64" y="611"/>
                            <a:pt x="38" y="568"/>
                            <a:pt x="24" y="519"/>
                          </a:cubicBezTo>
                          <a:cubicBezTo>
                            <a:pt x="10" y="470"/>
                            <a:pt x="0" y="403"/>
                            <a:pt x="1" y="351"/>
                          </a:cubicBezTo>
                          <a:cubicBezTo>
                            <a:pt x="2" y="299"/>
                            <a:pt x="14" y="251"/>
                            <a:pt x="30" y="205"/>
                          </a:cubicBezTo>
                          <a:cubicBezTo>
                            <a:pt x="46" y="159"/>
                            <a:pt x="77" y="106"/>
                            <a:pt x="100" y="73"/>
                          </a:cubicBezTo>
                          <a:cubicBezTo>
                            <a:pt x="123" y="40"/>
                            <a:pt x="163" y="0"/>
                            <a:pt x="166" y="4"/>
                          </a:cubicBezTo>
                          <a:cubicBezTo>
                            <a:pt x="198" y="57"/>
                            <a:pt x="212" y="120"/>
                            <a:pt x="225" y="171"/>
                          </a:cubicBezTo>
                          <a:cubicBezTo>
                            <a:pt x="239" y="226"/>
                            <a:pt x="246" y="280"/>
                            <a:pt x="249" y="337"/>
                          </a:cubicBezTo>
                          <a:cubicBezTo>
                            <a:pt x="252" y="394"/>
                            <a:pt x="249" y="464"/>
                            <a:pt x="241" y="514"/>
                          </a:cubicBezTo>
                          <a:cubicBezTo>
                            <a:pt x="233" y="564"/>
                            <a:pt x="216" y="603"/>
                            <a:pt x="199" y="636"/>
                          </a:cubicBezTo>
                          <a:cubicBezTo>
                            <a:pt x="182" y="669"/>
                            <a:pt x="142" y="715"/>
                            <a:pt x="142" y="712"/>
                          </a:cubicBezTo>
                          <a:cubicBezTo>
                            <a:pt x="142" y="711"/>
                            <a:pt x="104" y="675"/>
                            <a:pt x="84" y="643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81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" name=""/>
                    <p:cNvSpPr/>
                    <p:nvPr/>
                  </p:nvSpPr>
                  <p:spPr>
                    <a:xfrm>
                      <a:off x="1264320" y="3244680"/>
                      <a:ext cx="110520" cy="76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4" h="728">
                          <a:moveTo>
                            <a:pt x="90" y="621"/>
                          </a:moveTo>
                          <a:cubicBezTo>
                            <a:pt x="86" y="592"/>
                            <a:pt x="86" y="572"/>
                            <a:pt x="84" y="540"/>
                          </a:cubicBezTo>
                          <a:cubicBezTo>
                            <a:pt x="82" y="508"/>
                            <a:pt x="78" y="467"/>
                            <a:pt x="78" y="426"/>
                          </a:cubicBezTo>
                          <a:cubicBezTo>
                            <a:pt x="78" y="385"/>
                            <a:pt x="80" y="339"/>
                            <a:pt x="81" y="291"/>
                          </a:cubicBezTo>
                          <a:cubicBezTo>
                            <a:pt x="82" y="243"/>
                            <a:pt x="83" y="185"/>
                            <a:pt x="84" y="138"/>
                          </a:cubicBezTo>
                          <a:cubicBezTo>
                            <a:pt x="85" y="91"/>
                            <a:pt x="95" y="0"/>
                            <a:pt x="86" y="6"/>
                          </a:cubicBezTo>
                          <a:cubicBezTo>
                            <a:pt x="54" y="59"/>
                            <a:pt x="40" y="122"/>
                            <a:pt x="27" y="173"/>
                          </a:cubicBezTo>
                          <a:cubicBezTo>
                            <a:pt x="13" y="228"/>
                            <a:pt x="6" y="282"/>
                            <a:pt x="3" y="339"/>
                          </a:cubicBezTo>
                          <a:cubicBezTo>
                            <a:pt x="0" y="396"/>
                            <a:pt x="3" y="465"/>
                            <a:pt x="11" y="516"/>
                          </a:cubicBezTo>
                          <a:cubicBezTo>
                            <a:pt x="19" y="567"/>
                            <a:pt x="35" y="608"/>
                            <a:pt x="52" y="643"/>
                          </a:cubicBezTo>
                          <a:cubicBezTo>
                            <a:pt x="69" y="678"/>
                            <a:pt x="108" y="728"/>
                            <a:pt x="114" y="724"/>
                          </a:cubicBezTo>
                          <a:cubicBezTo>
                            <a:pt x="114" y="723"/>
                            <a:pt x="95" y="642"/>
                            <a:pt x="90" y="621"/>
                          </a:cubicBezTo>
                          <a:close/>
                        </a:path>
                      </a:pathLst>
                    </a:custGeom>
                    <a:solidFill>
                      <a:srgbClr val="0099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>
                      <a:off x="578880" y="3649680"/>
                      <a:ext cx="766440" cy="18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90" h="179">
                          <a:moveTo>
                            <a:pt x="0" y="0"/>
                          </a:moveTo>
                          <a:cubicBezTo>
                            <a:pt x="17" y="14"/>
                            <a:pt x="57" y="56"/>
                            <a:pt x="101" y="82"/>
                          </a:cubicBezTo>
                          <a:cubicBezTo>
                            <a:pt x="145" y="108"/>
                            <a:pt x="213" y="138"/>
                            <a:pt x="263" y="154"/>
                          </a:cubicBezTo>
                          <a:cubicBezTo>
                            <a:pt x="313" y="170"/>
                            <a:pt x="347" y="177"/>
                            <a:pt x="404" y="178"/>
                          </a:cubicBezTo>
                          <a:cubicBezTo>
                            <a:pt x="461" y="179"/>
                            <a:pt x="556" y="169"/>
                            <a:pt x="608" y="160"/>
                          </a:cubicBezTo>
                          <a:cubicBezTo>
                            <a:pt x="660" y="151"/>
                            <a:pt x="687" y="140"/>
                            <a:pt x="714" y="123"/>
                          </a:cubicBezTo>
                          <a:cubicBezTo>
                            <a:pt x="741" y="106"/>
                            <a:pt x="755" y="73"/>
                            <a:pt x="768" y="60"/>
                          </a:cubicBezTo>
                          <a:cubicBezTo>
                            <a:pt x="781" y="47"/>
                            <a:pt x="785" y="46"/>
                            <a:pt x="790" y="42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flipH="1">
                    <a:off x="1324080" y="3009240"/>
                    <a:ext cx="218880" cy="35028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1314000" y="3410280"/>
                    <a:ext cx="1225800" cy="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1225080" y="3807360"/>
                    <a:ext cx="123084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1266" h="3">
                        <a:moveTo>
                          <a:pt x="0" y="3"/>
                        </a:moveTo>
                        <a:lnTo>
                          <a:pt x="1266" y="0"/>
                        </a:lnTo>
                      </a:path>
                    </a:pathLst>
                  </a:custGeom>
                  <a:noFill/>
                  <a:ln w="936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43200" bIns="-43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1300320" y="3609000"/>
                    <a:ext cx="1297080" cy="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H="1">
                    <a:off x="1154880" y="3398400"/>
                    <a:ext cx="412920" cy="66348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>
                    <a:off x="887040" y="3844080"/>
                    <a:ext cx="134640" cy="21744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flipH="1">
                    <a:off x="610920" y="3796560"/>
                    <a:ext cx="159840" cy="25992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361440" y="4061880"/>
                    <a:ext cx="1935360" cy="0"/>
                  </a:xfrm>
                  <a:prstGeom prst="line">
                    <a:avLst/>
                  </a:prstGeom>
                  <a:ln w="2844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650160" y="3849840"/>
                    <a:ext cx="347040" cy="322920"/>
                  </a:xfrm>
                  <a:custGeom>
                    <a:avLst/>
                    <a:gdLst/>
                    <a:ahLst/>
                    <a:rect l="l" t="t" r="r" b="b"/>
                    <a:pathLst>
                      <a:path w="720" h="622">
                        <a:moveTo>
                          <a:pt x="430" y="0"/>
                        </a:moveTo>
                        <a:lnTo>
                          <a:pt x="177" y="379"/>
                        </a:lnTo>
                        <a:lnTo>
                          <a:pt x="0" y="379"/>
                        </a:lnTo>
                        <a:lnTo>
                          <a:pt x="168" y="622"/>
                        </a:lnTo>
                        <a:lnTo>
                          <a:pt x="631" y="379"/>
                        </a:lnTo>
                        <a:lnTo>
                          <a:pt x="465" y="382"/>
                        </a:lnTo>
                        <a:lnTo>
                          <a:pt x="720" y="0"/>
                        </a:lnTo>
                        <a:lnTo>
                          <a:pt x="430" y="0"/>
                        </a:lnTo>
                        <a:close/>
                      </a:path>
                    </a:pathLst>
                  </a:cu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5" name=""/>
                  <p:cNvGrpSpPr/>
                  <p:nvPr/>
                </p:nvGrpSpPr>
                <p:grpSpPr>
                  <a:xfrm>
                    <a:off x="1283040" y="2790720"/>
                    <a:ext cx="1137960" cy="354960"/>
                    <a:chOff x="1283040" y="2790720"/>
                    <a:chExt cx="1137960" cy="354960"/>
                  </a:xfrm>
                </p:grpSpPr>
                <p:sp>
                  <p:nvSpPr>
                    <p:cNvPr id="116" name=""/>
                    <p:cNvSpPr/>
                    <p:nvPr/>
                  </p:nvSpPr>
                  <p:spPr>
                    <a:xfrm flipV="1">
                      <a:off x="1895040" y="2859120"/>
                      <a:ext cx="68760" cy="106200"/>
                    </a:xfrm>
                    <a:prstGeom prst="line">
                      <a:avLst/>
                    </a:prstGeom>
                    <a:ln w="9360">
                      <a:solidFill>
                        <a:srgbClr val="0000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 flipV="1">
                      <a:off x="2019600" y="2790720"/>
                      <a:ext cx="177840" cy="161280"/>
                    </a:xfrm>
                    <a:prstGeom prst="line">
                      <a:avLst/>
                    </a:prstGeom>
                    <a:ln w="9360">
                      <a:solidFill>
                        <a:srgbClr val="0000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 flipV="1">
                      <a:off x="2098440" y="2965320"/>
                      <a:ext cx="279000" cy="78840"/>
                    </a:xfrm>
                    <a:prstGeom prst="line">
                      <a:avLst/>
                    </a:prstGeom>
                    <a:ln w="9360">
                      <a:solidFill>
                        <a:srgbClr val="0000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040" bIns="320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" name=""/>
                    <p:cNvSpPr/>
                    <p:nvPr/>
                  </p:nvSpPr>
                  <p:spPr>
                    <a:xfrm flipV="1">
                      <a:off x="2098440" y="3090240"/>
                      <a:ext cx="322560" cy="22680"/>
                    </a:xfrm>
                    <a:prstGeom prst="line">
                      <a:avLst/>
                    </a:prstGeom>
                    <a:ln w="9360">
                      <a:solidFill>
                        <a:srgbClr val="0000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" name=""/>
                    <p:cNvSpPr/>
                    <p:nvPr/>
                  </p:nvSpPr>
                  <p:spPr>
                    <a:xfrm flipH="1" flipV="1">
                      <a:off x="1394640" y="2818440"/>
                      <a:ext cx="289800" cy="129240"/>
                    </a:xfrm>
                    <a:prstGeom prst="line">
                      <a:avLst/>
                    </a:prstGeom>
                    <a:ln w="9360">
                      <a:solidFill>
                        <a:srgbClr val="0000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 flipH="1" flipV="1">
                      <a:off x="1304280" y="2978640"/>
                      <a:ext cx="314280" cy="78840"/>
                    </a:xfrm>
                    <a:prstGeom prst="line">
                      <a:avLst/>
                    </a:prstGeom>
                    <a:ln w="9360">
                      <a:solidFill>
                        <a:srgbClr val="0000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040" bIns="320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 flipH="1" flipV="1">
                      <a:off x="1283040" y="3140640"/>
                      <a:ext cx="279000" cy="5040"/>
                    </a:xfrm>
                    <a:prstGeom prst="line">
                      <a:avLst/>
                    </a:prstGeom>
                    <a:ln w="9360">
                      <a:solidFill>
                        <a:srgbClr val="0000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 flipH="1" flipV="1">
                      <a:off x="1540080" y="3085920"/>
                      <a:ext cx="200160" cy="22680"/>
                    </a:xfrm>
                    <a:prstGeom prst="line">
                      <a:avLst/>
                    </a:prstGeom>
                    <a:ln w="9360">
                      <a:solidFill>
                        <a:srgbClr val="0000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 flipH="1" flipV="1">
                      <a:off x="1562400" y="2956320"/>
                      <a:ext cx="177840" cy="56160"/>
                    </a:xfrm>
                    <a:prstGeom prst="line">
                      <a:avLst/>
                    </a:prstGeom>
                    <a:ln w="9360">
                      <a:solidFill>
                        <a:srgbClr val="0000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360" bIns="9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 flipH="1" flipV="1">
                      <a:off x="1740240" y="2882880"/>
                      <a:ext cx="65880" cy="82440"/>
                    </a:xfrm>
                    <a:prstGeom prst="line">
                      <a:avLst/>
                    </a:prstGeom>
                    <a:ln w="9360">
                      <a:solidFill>
                        <a:srgbClr val="0000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 flipV="1">
                      <a:off x="1964160" y="2947680"/>
                      <a:ext cx="121320" cy="45720"/>
                    </a:xfrm>
                    <a:prstGeom prst="line">
                      <a:avLst/>
                    </a:prstGeom>
                    <a:ln w="9360">
                      <a:solidFill>
                        <a:srgbClr val="0000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" bIns="-10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 flipV="1">
                      <a:off x="1953360" y="3058200"/>
                      <a:ext cx="200160" cy="13680"/>
                    </a:xfrm>
                    <a:prstGeom prst="line">
                      <a:avLst/>
                    </a:prstGeom>
                    <a:ln w="9360">
                      <a:solidFill>
                        <a:srgbClr val="0000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" name=""/>
                    <p:cNvSpPr/>
                    <p:nvPr/>
                  </p:nvSpPr>
                  <p:spPr>
                    <a:xfrm flipH="1" flipV="1">
                      <a:off x="1709280" y="3035160"/>
                      <a:ext cx="111600" cy="36360"/>
                    </a:xfrm>
                    <a:prstGeom prst="line">
                      <a:avLst/>
                    </a:prstGeom>
                    <a:ln w="9360">
                      <a:solidFill>
                        <a:srgbClr val="0000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9" name=""/>
                  <p:cNvGrpSpPr/>
                  <p:nvPr/>
                </p:nvGrpSpPr>
                <p:grpSpPr>
                  <a:xfrm>
                    <a:off x="1302480" y="3247560"/>
                    <a:ext cx="1093320" cy="356400"/>
                    <a:chOff x="1302480" y="3247560"/>
                    <a:chExt cx="1093320" cy="356400"/>
                  </a:xfrm>
                </p:grpSpPr>
                <p:sp>
                  <p:nvSpPr>
                    <p:cNvPr id="130" name=""/>
                    <p:cNvSpPr/>
                    <p:nvPr/>
                  </p:nvSpPr>
                  <p:spPr>
                    <a:xfrm flipH="1">
                      <a:off x="1706760" y="3387960"/>
                      <a:ext cx="73800" cy="140040"/>
                    </a:xfrm>
                    <a:prstGeom prst="line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 flipH="1">
                      <a:off x="1482480" y="3441960"/>
                      <a:ext cx="177840" cy="162000"/>
                    </a:xfrm>
                    <a:prstGeom prst="line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 flipH="1">
                      <a:off x="1302480" y="3349800"/>
                      <a:ext cx="279000" cy="79200"/>
                    </a:xfrm>
                    <a:prstGeom prst="line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0" bIns="32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 flipH="1">
                      <a:off x="1369440" y="3279960"/>
                      <a:ext cx="212760" cy="15480"/>
                    </a:xfrm>
                    <a:prstGeom prst="line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995480" y="3447000"/>
                      <a:ext cx="289440" cy="129600"/>
                    </a:xfrm>
                    <a:prstGeom prst="line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2060280" y="3336480"/>
                      <a:ext cx="313560" cy="79200"/>
                    </a:xfrm>
                    <a:prstGeom prst="line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0" bIns="32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2117160" y="3247560"/>
                      <a:ext cx="278640" cy="5040"/>
                    </a:xfrm>
                    <a:prstGeom prst="line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1939680" y="3284280"/>
                      <a:ext cx="199800" cy="22680"/>
                    </a:xfrm>
                    <a:prstGeom prst="line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1939320" y="3382560"/>
                      <a:ext cx="177840" cy="56160"/>
                    </a:xfrm>
                    <a:prstGeom prst="line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360" bIns="9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1873440" y="3427560"/>
                      <a:ext cx="65880" cy="82440"/>
                    </a:xfrm>
                    <a:prstGeom prst="line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 flipH="1">
                      <a:off x="1594080" y="3400560"/>
                      <a:ext cx="121320" cy="45720"/>
                    </a:xfrm>
                    <a:prstGeom prst="line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" bIns="-10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 flipH="1">
                      <a:off x="1526760" y="3321720"/>
                      <a:ext cx="199800" cy="13680"/>
                    </a:xfrm>
                    <a:prstGeom prst="line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1858680" y="3321720"/>
                      <a:ext cx="111600" cy="36720"/>
                    </a:xfrm>
                    <a:prstGeom prst="line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3" name=""/>
                  <p:cNvSpPr/>
                  <p:nvPr/>
                </p:nvSpPr>
                <p:spPr>
                  <a:xfrm>
                    <a:off x="482400" y="3810240"/>
                    <a:ext cx="321840" cy="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2967480" y="2604240"/>
                    <a:ext cx="241560" cy="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 flipH="1">
                    <a:off x="3070080" y="2197800"/>
                    <a:ext cx="99000" cy="15984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2065680" y="4064400"/>
                    <a:ext cx="4042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7" name=""/>
                <p:cNvSpPr/>
                <p:nvPr/>
              </p:nvSpPr>
              <p:spPr>
                <a:xfrm flipH="1" flipV="1">
                  <a:off x="2878920" y="3125520"/>
                  <a:ext cx="145800" cy="297000"/>
                </a:xfrm>
                <a:prstGeom prst="line">
                  <a:avLst/>
                </a:prstGeom>
                <a:ln w="9360">
                  <a:solidFill>
                    <a:srgbClr val="99cc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733480" y="3348720"/>
                  <a:ext cx="109512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66"/>
                      </a:solidFill>
                      <a:latin typeface="Times New Roman"/>
                    </a:rPr>
                    <a:t>Reaction plane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396360" y="1700280"/>
                  <a:ext cx="2701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non central collision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"/>
              <p:cNvSpPr/>
              <p:nvPr/>
            </p:nvSpPr>
            <p:spPr>
              <a:xfrm flipV="1">
                <a:off x="323640" y="3642840"/>
                <a:ext cx="0" cy="433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79280" y="3338280"/>
                <a:ext cx="250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Arial"/>
                  </a:rPr>
                  <a:t>Ｙ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2" name=""/>
          <p:cNvSpPr/>
          <p:nvPr/>
        </p:nvSpPr>
        <p:spPr>
          <a:xfrm>
            <a:off x="6622920" y="1811160"/>
            <a:ext cx="241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ier expansion of the distribution of produced particle angle, Φ, to R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51280" y="4516560"/>
            <a:ext cx="428472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is the coefficient of  the second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indicates elliptic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79640" y="5303880"/>
            <a:ext cx="503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4156920" y="1773360"/>
            <a:ext cx="4736160" cy="2665440"/>
            <a:chOff x="4156920" y="1773360"/>
            <a:chExt cx="4736160" cy="2665440"/>
          </a:xfrm>
        </p:grpSpPr>
        <p:sp>
          <p:nvSpPr>
            <p:cNvPr id="156" name=""/>
            <p:cNvSpPr/>
            <p:nvPr/>
          </p:nvSpPr>
          <p:spPr>
            <a:xfrm>
              <a:off x="6732720" y="3357360"/>
              <a:ext cx="21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Arial"/>
                </a:rPr>
                <a:t>x (Reaction Plane)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859280" y="1773360"/>
              <a:ext cx="25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cc3300"/>
                  </a:solidFill>
                  <a:latin typeface="Arial"/>
                </a:rPr>
                <a:t>Ｙ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4156920" y="2061360"/>
              <a:ext cx="2645640" cy="2377440"/>
              <a:chOff x="4156920" y="2061360"/>
              <a:chExt cx="2645640" cy="2377440"/>
            </a:xfrm>
          </p:grpSpPr>
          <p:sp>
            <p:nvSpPr>
              <p:cNvPr id="159" name=""/>
              <p:cNvSpPr/>
              <p:nvPr/>
            </p:nvSpPr>
            <p:spPr>
              <a:xfrm flipV="1">
                <a:off x="5003640" y="2781000"/>
                <a:ext cx="1366920" cy="79344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4156920" y="2061360"/>
                <a:ext cx="2645640" cy="2377440"/>
                <a:chOff x="4156920" y="2061360"/>
                <a:chExt cx="2645640" cy="237744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4427640" y="3574440"/>
                  <a:ext cx="2374920" cy="0"/>
                </a:xfrm>
                <a:prstGeom prst="line">
                  <a:avLst/>
                </a:prstGeom>
                <a:ln w="9360">
                  <a:solidFill>
                    <a:srgbClr val="cc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flipH="1" flipV="1">
                  <a:off x="5002560" y="2061360"/>
                  <a:ext cx="1440" cy="2089080"/>
                </a:xfrm>
                <a:prstGeom prst="line">
                  <a:avLst/>
                </a:prstGeom>
                <a:ln w="9360">
                  <a:solidFill>
                    <a:srgbClr val="cc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4156920" y="2709360"/>
                  <a:ext cx="1729440" cy="1729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6313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63135"/>
                    </a:path>
                  </a:pathLst>
                </a:custGeom>
                <a:noFill/>
                <a:ln w="9360">
                  <a:solidFill>
                    <a:srgbClr val="cc3300"/>
                  </a:solidFill>
                  <a:prstDash val="dash"/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5724720" y="2612520"/>
                  <a:ext cx="647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400" spc="-1" strike="noStrike">
                      <a:solidFill>
                        <a:srgbClr val="cc3300"/>
                      </a:solidFill>
                      <a:latin typeface="Arial"/>
                      <a:ea typeface="Arial"/>
                    </a:rPr>
                    <a:t>φ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flipV="1">
                  <a:off x="5004000" y="2339640"/>
                  <a:ext cx="576360" cy="122400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flipV="1">
                  <a:off x="5013720" y="2315520"/>
                  <a:ext cx="215640" cy="122400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 flipV="1">
                  <a:off x="4981680" y="3287160"/>
                  <a:ext cx="1440000" cy="28728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4992840" y="3585600"/>
                  <a:ext cx="1228680" cy="14292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5002560" y="3573000"/>
                  <a:ext cx="1162080" cy="49212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 flipH="1" flipV="1">
                  <a:off x="4857480" y="2205720"/>
                  <a:ext cx="135000" cy="136692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" name=""/>
            <p:cNvSpPr/>
            <p:nvPr/>
          </p:nvSpPr>
          <p:spPr>
            <a:xfrm>
              <a:off x="4910040" y="3428640"/>
              <a:ext cx="189000" cy="288720"/>
            </a:xfrm>
            <a:prstGeom prst="ellips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3851280" y="3068640"/>
            <a:ext cx="504720" cy="289080"/>
          </a:xfrm>
          <a:prstGeom prst="rightArrow">
            <a:avLst>
              <a:gd name="adj1" fmla="val 50000"/>
              <a:gd name="adj2" fmla="val 436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716360" y="5149800"/>
            <a:ext cx="442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ield is (x direction)&gt;(y direction),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gt;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6560" y="5681520"/>
            <a:ext cx="77058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itial geometrical anisotropy is transferred by the pressure gradients into a momentum space anisotropy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measured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flects the dense matter produced in the coll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09800" y="741240"/>
            <a:ext cx="7091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strength of the elliptic anisotropy of produced partic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1BCA-B987-4225-A86C-1E615F1CCE1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771640" y="75960"/>
            <a:ext cx="388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Motiv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79280" y="1414080"/>
            <a:ext cx="88567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ｖ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２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t low p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&lt; ~2 GeV/c)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an be explained by a 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hydro-dynamical mode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ｖ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２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t mid p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(&lt;4~6 GeV/c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→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s consistent with recombination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The results are consistent with Quark number sca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4000" y="739800"/>
            <a:ext cx="46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. From the results at 200G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539640" y="3119400"/>
            <a:ext cx="3745080" cy="25416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 rot="5400000">
            <a:off x="1475640" y="6021360"/>
            <a:ext cx="432000" cy="431640"/>
          </a:xfrm>
          <a:custGeom>
            <a:avLst/>
            <a:gdLst>
              <a:gd name="textAreaLeft" fmla="*/ 144000 w 432000"/>
              <a:gd name="textAreaRight" fmla="*/ 349560 w 432000"/>
              <a:gd name="textAreaTop" fmla="*/ 226440 h 431640"/>
              <a:gd name="textAreaBottom" fmla="*/ 3492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5458"/>
                </a:moveTo>
                <a:lnTo>
                  <a:pt x="11329" y="15458"/>
                </a:lnTo>
                <a:lnTo>
                  <a:pt x="11329" y="7200"/>
                </a:lnTo>
                <a:lnTo>
                  <a:pt x="7200" y="7200"/>
                </a:lnTo>
                <a:lnTo>
                  <a:pt x="14400" y="0"/>
                </a:lnTo>
                <a:lnTo>
                  <a:pt x="21600" y="7200"/>
                </a:lnTo>
                <a:lnTo>
                  <a:pt x="17471" y="7200"/>
                </a:lnTo>
                <a:lnTo>
                  <a:pt x="174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08000" y="6070680"/>
            <a:ext cx="5256360" cy="440640"/>
          </a:xfrm>
          <a:prstGeom prst="rect">
            <a:avLst/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about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t 62.4GeV !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861080" y="2874960"/>
            <a:ext cx="4032000" cy="2786040"/>
            <a:chOff x="4861080" y="2874960"/>
            <a:chExt cx="4032000" cy="2786040"/>
          </a:xfrm>
        </p:grpSpPr>
        <p:pic>
          <p:nvPicPr>
            <p:cNvPr id="183" name="" descr=""/>
            <p:cNvPicPr/>
            <p:nvPr/>
          </p:nvPicPr>
          <p:blipFill>
            <a:blip r:embed="rId3"/>
            <a:stretch/>
          </p:blipFill>
          <p:spPr>
            <a:xfrm>
              <a:off x="4861080" y="2874960"/>
              <a:ext cx="4032000" cy="27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7453440" y="4795920"/>
              <a:ext cx="1401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 u="sng">
                  <a:solidFill>
                    <a:srgbClr val="000066"/>
                  </a:solidFill>
                  <a:uFillTx/>
                  <a:latin typeface="Tahoma"/>
                </a:rPr>
                <a:t>PRL 98, 16230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2916360" y="31129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66"/>
                </a:solidFill>
                <a:uFillTx/>
                <a:latin typeface="Tahoma"/>
              </a:rPr>
              <a:t>PRL 91, 1823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596360" y="5746680"/>
            <a:ext cx="1136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= mT-m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3229-224D-4E70-8A86-D12A71F135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771640" y="75960"/>
            <a:ext cx="388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50920" y="620640"/>
            <a:ext cx="856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2. From the comparison between v</a:t>
            </a:r>
            <a:r>
              <a:rPr b="1" lang="ja-JP" sz="2400" spc="-1" strike="noStrike" u="sng" baseline="-25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s of charged hadron at 62.4GeV and 200G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5400000">
            <a:off x="394560" y="6021360"/>
            <a:ext cx="432000" cy="431640"/>
          </a:xfrm>
          <a:custGeom>
            <a:avLst/>
            <a:gdLst>
              <a:gd name="textAreaLeft" fmla="*/ 144000 w 432000"/>
              <a:gd name="textAreaRight" fmla="*/ 349560 w 432000"/>
              <a:gd name="textAreaTop" fmla="*/ 226440 h 431640"/>
              <a:gd name="textAreaBottom" fmla="*/ 3492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5458"/>
                </a:moveTo>
                <a:lnTo>
                  <a:pt x="11329" y="15458"/>
                </a:lnTo>
                <a:lnTo>
                  <a:pt x="11329" y="7200"/>
                </a:lnTo>
                <a:lnTo>
                  <a:pt x="7200" y="7200"/>
                </a:lnTo>
                <a:lnTo>
                  <a:pt x="14400" y="0"/>
                </a:lnTo>
                <a:lnTo>
                  <a:pt x="21600" y="7200"/>
                </a:lnTo>
                <a:lnTo>
                  <a:pt x="17471" y="7200"/>
                </a:lnTo>
                <a:lnTo>
                  <a:pt x="174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00000" y="6070680"/>
            <a:ext cx="5256360" cy="440640"/>
          </a:xfrm>
          <a:prstGeom prst="rect">
            <a:avLst/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about PID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t 62.4GeV !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rcRect l="0" t="7455" r="3745" b="0"/>
          <a:stretch/>
        </p:blipFill>
        <p:spPr>
          <a:xfrm>
            <a:off x="6372360" y="2989440"/>
            <a:ext cx="2700360" cy="22651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460920" y="5032440"/>
            <a:ext cx="109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66"/>
                </a:solidFill>
                <a:uFillTx/>
                <a:latin typeface="Tahoma"/>
              </a:rPr>
              <a:t>PRL 94, 2323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632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of inclusive charged hadrons agree well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is saturated and doesn’t depend on collision energy at RH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395280" y="4235400"/>
            <a:ext cx="5977080" cy="17146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395280" y="2576520"/>
            <a:ext cx="5977080" cy="171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D77A-743F-4B3D-A438-342AEFE61B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76360" y="43920"/>
            <a:ext cx="266220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484360" y="620280"/>
            <a:ext cx="46800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66"/>
                </a:solidFill>
                <a:latin typeface="ＭＳ Ｐゴシック"/>
              </a:rPr>
              <a:t>&lt;Data set for this analysis&gt;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Au+Au coll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37.6 Million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taken in 2003-2004 at RHIC-PHE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Collision energy 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62.4 GeV/2 nucle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576440" y="213372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&lt;PHENIX detector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1647720" y="2587680"/>
            <a:ext cx="2317680" cy="20127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63360" y="2498760"/>
            <a:ext cx="162900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EMCA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　　　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Particle Identification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solution=380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432080" y="2854440"/>
            <a:ext cx="50292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79720" y="3646440"/>
            <a:ext cx="1619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BBC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to determine reaction plane and vert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800080" y="3625920"/>
            <a:ext cx="1584360" cy="92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52800" y="2422440"/>
            <a:ext cx="172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DC + PC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good track  selection and to determine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160440" y="2709720"/>
            <a:ext cx="863640" cy="648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20" y="3699000"/>
            <a:ext cx="15843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OF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　　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Particle Identification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solution=120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504800" y="3789000"/>
            <a:ext cx="201636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12720" y="4869000"/>
            <a:ext cx="352764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&lt;PID by TOF measurem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OF or EMC with BBC, the flight time of the particles is   obtained. Mass of the particle is calculated by the flight time and the momentum measured by D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75280" y="4869000"/>
            <a:ext cx="3744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66"/>
                </a:solidFill>
                <a:latin typeface="Arial"/>
              </a:rPr>
              <a:t>&lt;Reaction Plane determination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he reaction plane is obtained by measurement of the anisotropic distribution for the produced particles with north and south  BBCs located at  |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| ~ 3 – 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5608800" y="2638440"/>
            <a:ext cx="3456000" cy="19461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6880320" y="3502080"/>
            <a:ext cx="288720" cy="28728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424640" y="3502080"/>
            <a:ext cx="289080" cy="28728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5105520" y="3717720"/>
            <a:ext cx="1726920" cy="2156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5105520" y="3717720"/>
            <a:ext cx="2303280" cy="2156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73080" y="27000"/>
            <a:ext cx="2195280" cy="21067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6804000" y="189000"/>
            <a:ext cx="2305080" cy="156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CCE3-14A6-4980-AAEC-49C955B150D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4000" y="117360"/>
            <a:ext cx="7489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Comparison of 62.4GeV to 200G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6165720"/>
            <a:ext cx="821844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Similar to 200 GeV results for any particles at any centra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22200" y="739800"/>
            <a:ext cx="8497800" cy="5281560"/>
            <a:chOff x="322200" y="739800"/>
            <a:chExt cx="8497800" cy="5281560"/>
          </a:xfrm>
        </p:grpSpPr>
        <p:pic>
          <p:nvPicPr>
            <p:cNvPr id="220" name="" descr=""/>
            <p:cNvPicPr/>
            <p:nvPr/>
          </p:nvPicPr>
          <p:blipFill>
            <a:blip r:embed="rId2"/>
            <a:stretch/>
          </p:blipFill>
          <p:spPr>
            <a:xfrm>
              <a:off x="322200" y="1069920"/>
              <a:ext cx="8497800" cy="495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3235320" y="739800"/>
              <a:ext cx="28796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PHENIX PRELIMINA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4941-F95B-42B3-B5B2-DF92FAECC34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66"/>
                </a:solidFill>
                <a:latin typeface="Tahoma"/>
              </a:rPr>
              <a:t>Mean 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6205320"/>
            <a:ext cx="8229600" cy="3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ean p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of 62.4 GeV and 200 GeV are consistent within erro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116000" y="836640"/>
            <a:ext cx="6769080" cy="5246640"/>
            <a:chOff x="1116000" y="836640"/>
            <a:chExt cx="6769080" cy="5246640"/>
          </a:xfrm>
        </p:grpSpPr>
        <p:grpSp>
          <p:nvGrpSpPr>
            <p:cNvPr id="225" name=""/>
            <p:cNvGrpSpPr/>
            <p:nvPr/>
          </p:nvGrpSpPr>
          <p:grpSpPr>
            <a:xfrm>
              <a:off x="1116000" y="836640"/>
              <a:ext cx="6769080" cy="5246640"/>
              <a:chOff x="1116000" y="836640"/>
              <a:chExt cx="6769080" cy="5246640"/>
            </a:xfrm>
          </p:grpSpPr>
          <p:pic>
            <p:nvPicPr>
              <p:cNvPr id="22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116000" y="836640"/>
                <a:ext cx="6769080" cy="524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7" name=""/>
              <p:cNvSpPr/>
              <p:nvPr/>
            </p:nvSpPr>
            <p:spPr>
              <a:xfrm>
                <a:off x="2411280" y="1484280"/>
                <a:ext cx="1440000" cy="63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pen: negativ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lose: positiv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545000" y="1413000"/>
                <a:ext cx="314280" cy="95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14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4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K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4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398840" y="1528920"/>
                <a:ext cx="144720" cy="1425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398840" y="1830240"/>
                <a:ext cx="144720" cy="14292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400640" y="2152800"/>
                <a:ext cx="142920" cy="142560"/>
              </a:xfrm>
              <a:prstGeom prst="triangle">
                <a:avLst>
                  <a:gd name="adj" fmla="val 50000"/>
                </a:avLst>
              </a:prstGeom>
              <a:solidFill>
                <a:srgbClr val="333399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195640" y="981000"/>
                <a:ext cx="496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btained by fitting PHENIX preliminary resul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 rot="16200000">
              <a:off x="6481080" y="2159280"/>
              <a:ext cx="165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Produced b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2023-42A7-4801-968A-6109C9924D4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Quark number sca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79280" y="5950080"/>
            <a:ext cx="8507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ult at 62.4GeV is consistent to quark number sca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108000" y="1474920"/>
            <a:ext cx="8964720" cy="35384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547640" y="515772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bars include both statistical and systematic err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372360" y="974880"/>
            <a:ext cx="143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979640" y="1484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-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1D07-4290-4B78-9DA1-FB34715A8D1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Quark number sca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2560" y="5805000"/>
            <a:ext cx="860580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he result at 62.4 GeV is consistent to quark number sca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08000" y="836640"/>
            <a:ext cx="8640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PHENIX: Error bars include both statistical and systematic erro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STAR: Error bars include statistical errors. Yellow band indicates systematic error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1440" y="1774800"/>
            <a:ext cx="9144000" cy="3610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361480" y="1785240"/>
            <a:ext cx="356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ar results were taken from </a:t>
            </a: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Phys. Rev. C 75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835280" y="17668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-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70C7-22AC-417C-82DF-A68816C61C7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6T08:07:15Z</dcterms:created>
  <dc:creator>maya </dc:creator>
  <dc:description/>
  <dc:language>en-US</dc:language>
  <cp:lastModifiedBy>maya</cp:lastModifiedBy>
  <dcterms:modified xsi:type="dcterms:W3CDTF">2007-09-23T14:29:57Z</dcterms:modified>
  <cp:revision>135</cp:revision>
  <dc:subject/>
  <dc:title>スライド 1</dc:title>
</cp:coreProperties>
</file>