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1" i="1" lang="en-US" sz="4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A8CB-66C6-4BC3-B309-EB442A4A503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9FFE-D5D7-40B9-AFF8-CF357A8E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9044-70A8-4318-81C4-9698E51D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9D97-0162-414B-922D-718438AC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A765-CA21-495E-B387-809B3D45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40BA-7A65-4088-BA4A-A9D3D4B1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51E8-51B0-49C4-AE24-77ABDD11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D3FC-E767-4608-8AEC-056EC34E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2FCB-98C8-4674-9AEF-021B6F17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67BD-6F29-4FA0-BCC4-B1574541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08D1-A929-4B87-B75E-AFC340CD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411E-53E5-4761-ACC1-FFD14BCF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AE32-96C9-477D-BD09-1C2089CA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35B8-ECDB-4FFA-B1FF-1BFE0D83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B0A6-1A31-44D4-886A-12852862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0976-6E11-45E1-88BD-E52B43CF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D047-3C4C-43BA-9D88-590B0ABF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C21C-FF24-4A94-AC02-DBEC6A2F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17C-D999-470E-AEB3-3FFB6251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5F6-5EA1-404C-9F86-E7A114E1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77E9-BFC7-4BAA-818E-87C61D64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16E8-4E48-412A-977B-416B6F3C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9962-4EE1-438D-A774-C7192B9E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B88F-CE9A-4826-8942-57EE8C2E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C87-8BD5-463F-8BB7-615EC446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15280"/>
            <a:ext cx="9144000" cy="342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619440" y="6552720"/>
            <a:ext cx="2781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Hiroshi Masui / Univ. of Tsuku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7596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600" y="76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D988-379B-4221-95AA-CDEC368DD06A}" type="slidenum"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/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515280"/>
            <a:ext cx="9144000" cy="342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i="1" lang="en-US" sz="4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619080" y="6552720"/>
            <a:ext cx="2933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Hiroshi Masui / Univ. of Tsuku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7596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86600" y="76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0463-F2E6-4AE0-AC16-C73001E43BE9}" type="slidenum"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/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0769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4000" spc="-1" strike="noStrike">
                <a:solidFill>
                  <a:srgbClr val="333399"/>
                </a:solidFill>
                <a:latin typeface="Arial Black"/>
              </a:rPr>
              <a:t>Measurement of Centrality dependence of identified hadron Elliptic Flow in </a:t>
            </a:r>
            <a:r>
              <a:rPr b="1" i="1" lang="ja-JP" sz="4000" spc="-1" strike="noStrike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1" i="1" lang="ja-JP" sz="4000" spc="-1" strike="noStrike">
                <a:solidFill>
                  <a:srgbClr val="333399"/>
                </a:solidFill>
                <a:latin typeface="Arial Black"/>
              </a:rPr>
              <a:t>s</a:t>
            </a:r>
            <a:r>
              <a:rPr b="1" i="1" lang="ja-JP" sz="4000" spc="-1" strike="noStrike" baseline="-25000">
                <a:solidFill>
                  <a:srgbClr val="333399"/>
                </a:solidFill>
                <a:latin typeface="Arial Black"/>
              </a:rPr>
              <a:t>NN</a:t>
            </a:r>
            <a:r>
              <a:rPr b="1" i="1" lang="ja-JP" sz="4000" spc="-1" strike="noStrike">
                <a:solidFill>
                  <a:srgbClr val="333399"/>
                </a:solidFill>
                <a:latin typeface="Arial Black"/>
              </a:rPr>
              <a:t> = 200 GeV Au+Au collisions at RHIC - PHENIX</a:t>
            </a:r>
            <a:endParaRPr b="1" i="1" lang="en-US" sz="4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Hiroshi Masui / Univ. of Tsukuba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for the                  Collabor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JPS, 62</a:t>
            </a:r>
            <a:r>
              <a:rPr b="0" lang="ja-JP" sz="3200" spc="-1" strike="noStrike" baseline="30000">
                <a:solidFill>
                  <a:srgbClr val="333399"/>
                </a:solidFill>
                <a:latin typeface="Arial"/>
              </a:rPr>
              <a:t>nd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 Annual Meet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124080" y="4838760"/>
            <a:ext cx="1752840" cy="57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PS, Sep/24/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B2BF-1957-4B0C-832A-44EF802DCA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5689440" cy="49006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5689440" cy="49021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0" y="685800"/>
            <a:ext cx="5689440" cy="49021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0" y="685800"/>
            <a:ext cx="5689440" cy="49021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0" y="685800"/>
            <a:ext cx="5689440" cy="4902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0" y="685800"/>
            <a:ext cx="5689440" cy="49021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0" y="685800"/>
            <a:ext cx="5689440" cy="49021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0" y="685800"/>
            <a:ext cx="5689440" cy="490212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Eccentricity scaling</a:t>
            </a: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257800" y="914040"/>
            <a:ext cx="3733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Scaled 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with participant eccentrici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Start to break even in mid-central at high KE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caling works at low KE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within systematic err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Clear difference between central and peripher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e difference of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is also observed for different eccentri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9720" y="5657760"/>
            <a:ext cx="428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* Only statistical errors are sh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* Systematic error on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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~ 10 -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, Sep/24/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70B-D4FE-4039-9A38-B4ED04421D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Study the scaling of v</a:t>
            </a:r>
            <a:r>
              <a:rPr b="0" lang="ja-JP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ja-JP" sz="28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) for identified hadrons in a wide range of central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KE</a:t>
            </a:r>
            <a:r>
              <a:rPr b="0" lang="ja-JP" sz="28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+ quark number scal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caling holds within systematic errors, except for low KE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ew RXNP detector could help u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duce systematic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d more statistics at peripheral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Eccentricity scal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caling breaks even in mid-central at high KE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orks for low KE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within systematic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lear difference between central and periph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uggest that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f(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, Sep/24/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DAA5-438D-4F90-B1EE-E5E4978079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000" spc="-1" strike="noStrike">
                <a:solidFill>
                  <a:srgbClr val="ffffff"/>
                </a:solidFill>
                <a:latin typeface="Arial Black"/>
              </a:rPr>
              <a:t>Back up</a:t>
            </a: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, Sep/24/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04CA-526D-42F4-B927-E40E90723F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38160" y="838080"/>
            <a:ext cx="4533840" cy="48006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3848040" cy="3429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Elliptic Flow at RHIC</a:t>
            </a: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1640" y="4495320"/>
            <a:ext cx="4419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Substantial elliptic flow signals are observed for a variety of particle species at RHIC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, Sep/24/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F075-2EA0-4648-8C84-36BF67269C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0" y="736560"/>
            <a:ext cx="5410080" cy="3668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Event plane resolution</a:t>
            </a: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4648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Event plane resolution is determined by multiplicity and 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aximum at mid-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igh multiplicity, small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t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ow multiplicity, large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t periph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, Sep/24/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CB5D-30FC-4707-906A-57E730556C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8600" y="1154160"/>
            <a:ext cx="4114800" cy="3798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Terminology</a:t>
            </a: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1640" y="106632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Definition of eccentricit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std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ndard eccen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va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participant eccentricity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event plane eccentricity) :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va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subtract auto-correlation event-by-event (an idea from ShinIch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Weighting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col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alculated by weighting with 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(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col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Averaging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{2}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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veraging of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over all events, then take squar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ore natural definition like measured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Total : 3 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 2 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 2 = 12 definitio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228600" y="5181480"/>
            <a:ext cx="4114800" cy="120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, Sep/24/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4BA0-15F5-48F8-906A-9FA44CE63B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42847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Eccentricity</a:t>
            </a: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5105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Estimated by Glauber MC simul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col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due to steeper 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col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distributions compared to 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, Sep/24/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E89-1965-4213-929D-611861C19C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Why Elliptic Flow ?</a:t>
            </a: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2520" y="838080"/>
            <a:ext cx="3962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Sensitive probe in the early stage of heavy ion collis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itial geometry overlap (eccentri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itial density + 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ystem size (number of colli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inal momentum anisotropy (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9800" y="4073760"/>
            <a:ext cx="2113200" cy="226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67280" y="1508400"/>
            <a:ext cx="2113200" cy="226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34000" y="1252440"/>
            <a:ext cx="3900960" cy="2548080"/>
            <a:chOff x="234000" y="1252440"/>
            <a:chExt cx="3900960" cy="2548080"/>
          </a:xfrm>
        </p:grpSpPr>
        <p:sp>
          <p:nvSpPr>
            <p:cNvPr id="102" name=""/>
            <p:cNvSpPr/>
            <p:nvPr/>
          </p:nvSpPr>
          <p:spPr>
            <a:xfrm rot="11343000">
              <a:off x="3253680" y="1352520"/>
              <a:ext cx="401400" cy="34776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029600" y="1468800"/>
              <a:ext cx="848520" cy="908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364400" y="1519560"/>
              <a:ext cx="831960" cy="894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01720" y="1659600"/>
              <a:ext cx="2257560" cy="3596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78880" y="2717280"/>
              <a:ext cx="1586520" cy="25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543000">
              <a:off x="369360" y="1525320"/>
              <a:ext cx="3630600" cy="2001960"/>
            </a:xfrm>
            <a:prstGeom prst="parallelogram">
              <a:avLst>
                <a:gd name="adj" fmla="val 67285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34000" y="2848680"/>
              <a:ext cx="355320" cy="383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485000" y="1570680"/>
              <a:ext cx="1031400" cy="1107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 rot="11343000">
              <a:off x="1405800" y="2567520"/>
              <a:ext cx="282600" cy="803520"/>
            </a:xfrm>
            <a:custGeom>
              <a:avLst/>
              <a:gdLst/>
              <a:ahLst/>
              <a:rect l="l" t="t" r="r" b="b"/>
              <a:pathLst>
                <a:path w="252" h="715">
                  <a:moveTo>
                    <a:pt x="84" y="643"/>
                  </a:moveTo>
                  <a:cubicBezTo>
                    <a:pt x="64" y="611"/>
                    <a:pt x="38" y="568"/>
                    <a:pt x="24" y="519"/>
                  </a:cubicBezTo>
                  <a:cubicBezTo>
                    <a:pt x="10" y="470"/>
                    <a:pt x="0" y="403"/>
                    <a:pt x="1" y="351"/>
                  </a:cubicBezTo>
                  <a:cubicBezTo>
                    <a:pt x="2" y="299"/>
                    <a:pt x="14" y="251"/>
                    <a:pt x="30" y="205"/>
                  </a:cubicBezTo>
                  <a:cubicBezTo>
                    <a:pt x="46" y="159"/>
                    <a:pt x="77" y="106"/>
                    <a:pt x="100" y="73"/>
                  </a:cubicBezTo>
                  <a:cubicBezTo>
                    <a:pt x="123" y="40"/>
                    <a:pt x="163" y="0"/>
                    <a:pt x="166" y="4"/>
                  </a:cubicBezTo>
                  <a:cubicBezTo>
                    <a:pt x="198" y="57"/>
                    <a:pt x="212" y="120"/>
                    <a:pt x="225" y="171"/>
                  </a:cubicBezTo>
                  <a:cubicBezTo>
                    <a:pt x="239" y="226"/>
                    <a:pt x="246" y="280"/>
                    <a:pt x="249" y="337"/>
                  </a:cubicBezTo>
                  <a:cubicBezTo>
                    <a:pt x="252" y="394"/>
                    <a:pt x="249" y="464"/>
                    <a:pt x="241" y="514"/>
                  </a:cubicBezTo>
                  <a:cubicBezTo>
                    <a:pt x="233" y="564"/>
                    <a:pt x="216" y="603"/>
                    <a:pt x="199" y="636"/>
                  </a:cubicBezTo>
                  <a:cubicBezTo>
                    <a:pt x="182" y="669"/>
                    <a:pt x="142" y="715"/>
                    <a:pt x="142" y="712"/>
                  </a:cubicBezTo>
                  <a:cubicBezTo>
                    <a:pt x="142" y="711"/>
                    <a:pt x="104" y="675"/>
                    <a:pt x="84" y="64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187640" y="2563200"/>
              <a:ext cx="759240" cy="8128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453400" y="1400040"/>
              <a:ext cx="1289520" cy="1285200"/>
              <a:chOff x="2453400" y="1400040"/>
              <a:chExt cx="1289520" cy="128520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2453400" y="1400040"/>
                <a:ext cx="1289520" cy="1285200"/>
                <a:chOff x="2453400" y="1400040"/>
                <a:chExt cx="1289520" cy="1285200"/>
              </a:xfrm>
            </p:grpSpPr>
            <p:sp>
              <p:nvSpPr>
                <p:cNvPr id="114" name=""/>
                <p:cNvSpPr/>
                <p:nvPr/>
              </p:nvSpPr>
              <p:spPr>
                <a:xfrm rot="543000">
                  <a:off x="2561760" y="1480680"/>
                  <a:ext cx="1100880" cy="110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543000">
                  <a:off x="2562120" y="1479600"/>
                  <a:ext cx="1100880" cy="110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rot="543000">
                  <a:off x="2498760" y="1925280"/>
                  <a:ext cx="1152360" cy="673560"/>
                </a:xfrm>
                <a:custGeom>
                  <a:avLst/>
                  <a:gdLst/>
                  <a:ahLst/>
                  <a:rect l="l" t="t" r="r" b="b"/>
                  <a:pathLst>
                    <a:path w="1026" h="600">
                      <a:moveTo>
                        <a:pt x="43" y="123"/>
                      </a:moveTo>
                      <a:cubicBezTo>
                        <a:pt x="61" y="136"/>
                        <a:pt x="84" y="160"/>
                        <a:pt x="120" y="181"/>
                      </a:cubicBezTo>
                      <a:cubicBezTo>
                        <a:pt x="156" y="202"/>
                        <a:pt x="210" y="233"/>
                        <a:pt x="262" y="250"/>
                      </a:cubicBezTo>
                      <a:cubicBezTo>
                        <a:pt x="314" y="267"/>
                        <a:pt x="370" y="279"/>
                        <a:pt x="432" y="280"/>
                      </a:cubicBezTo>
                      <a:cubicBezTo>
                        <a:pt x="494" y="281"/>
                        <a:pt x="573" y="272"/>
                        <a:pt x="634" y="259"/>
                      </a:cubicBezTo>
                      <a:cubicBezTo>
                        <a:pt x="695" y="246"/>
                        <a:pt x="749" y="229"/>
                        <a:pt x="799" y="201"/>
                      </a:cubicBezTo>
                      <a:cubicBezTo>
                        <a:pt x="849" y="173"/>
                        <a:pt x="899" y="122"/>
                        <a:pt x="937" y="90"/>
                      </a:cubicBezTo>
                      <a:cubicBezTo>
                        <a:pt x="975" y="58"/>
                        <a:pt x="1012" y="0"/>
                        <a:pt x="1026" y="9"/>
                      </a:cubicBezTo>
                      <a:cubicBezTo>
                        <a:pt x="1021" y="13"/>
                        <a:pt x="1025" y="101"/>
                        <a:pt x="1019" y="144"/>
                      </a:cubicBezTo>
                      <a:cubicBezTo>
                        <a:pt x="1013" y="187"/>
                        <a:pt x="1007" y="227"/>
                        <a:pt x="992" y="267"/>
                      </a:cubicBezTo>
                      <a:cubicBezTo>
                        <a:pt x="978" y="307"/>
                        <a:pt x="952" y="351"/>
                        <a:pt x="929" y="384"/>
                      </a:cubicBezTo>
                      <a:cubicBezTo>
                        <a:pt x="907" y="417"/>
                        <a:pt x="886" y="440"/>
                        <a:pt x="857" y="467"/>
                      </a:cubicBezTo>
                      <a:cubicBezTo>
                        <a:pt x="827" y="493"/>
                        <a:pt x="790" y="521"/>
                        <a:pt x="749" y="542"/>
                      </a:cubicBezTo>
                      <a:cubicBezTo>
                        <a:pt x="708" y="562"/>
                        <a:pt x="659" y="580"/>
                        <a:pt x="610" y="588"/>
                      </a:cubicBezTo>
                      <a:cubicBezTo>
                        <a:pt x="561" y="596"/>
                        <a:pt x="505" y="600"/>
                        <a:pt x="455" y="594"/>
                      </a:cubicBezTo>
                      <a:cubicBezTo>
                        <a:pt x="404" y="588"/>
                        <a:pt x="353" y="572"/>
                        <a:pt x="310" y="553"/>
                      </a:cubicBezTo>
                      <a:cubicBezTo>
                        <a:pt x="267" y="533"/>
                        <a:pt x="229" y="510"/>
                        <a:pt x="193" y="479"/>
                      </a:cubicBezTo>
                      <a:cubicBezTo>
                        <a:pt x="157" y="448"/>
                        <a:pt x="121" y="408"/>
                        <a:pt x="95" y="368"/>
                      </a:cubicBezTo>
                      <a:cubicBezTo>
                        <a:pt x="69" y="328"/>
                        <a:pt x="52" y="286"/>
                        <a:pt x="36" y="237"/>
                      </a:cubicBezTo>
                      <a:cubicBezTo>
                        <a:pt x="20" y="188"/>
                        <a:pt x="0" y="92"/>
                        <a:pt x="1" y="73"/>
                      </a:cubicBezTo>
                      <a:lnTo>
                        <a:pt x="43" y="123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rot="543000">
                  <a:off x="2551320" y="1955160"/>
                  <a:ext cx="1099080" cy="28800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 rot="543000">
                <a:off x="2560320" y="1568520"/>
                <a:ext cx="282240" cy="80316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894680" y="1466640"/>
              <a:ext cx="929880" cy="14832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98880" y="1738800"/>
              <a:ext cx="667800" cy="106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20640" y="1847520"/>
              <a:ext cx="1323360" cy="210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409480" y="1976760"/>
              <a:ext cx="446040" cy="4784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43880" y="2039400"/>
              <a:ext cx="2260800" cy="360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190880" y="1615320"/>
              <a:ext cx="1635480" cy="1758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65680" y="2229840"/>
              <a:ext cx="2260440" cy="36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769040" y="1921320"/>
              <a:ext cx="714960" cy="1180440"/>
              <a:chOff x="1769040" y="1921320"/>
              <a:chExt cx="714960" cy="1180440"/>
            </a:xfrm>
          </p:grpSpPr>
          <p:sp>
            <p:nvSpPr>
              <p:cNvPr id="127" name=""/>
              <p:cNvSpPr/>
              <p:nvPr/>
            </p:nvSpPr>
            <p:spPr>
              <a:xfrm rot="543000">
                <a:off x="1852560" y="1958400"/>
                <a:ext cx="547920" cy="1103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543000">
                <a:off x="1810800" y="2482200"/>
                <a:ext cx="549360" cy="579600"/>
              </a:xfrm>
              <a:custGeom>
                <a:avLst/>
                <a:gdLst/>
                <a:ahLst/>
                <a:rect l="l" t="t" r="r" b="b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543000">
                <a:off x="1846080" y="2487960"/>
                <a:ext cx="546120" cy="123480"/>
              </a:xfrm>
              <a:custGeom>
                <a:avLst/>
                <a:gdLst/>
                <a:ahLst/>
                <a:rect l="l" t="t" r="r" b="b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543000">
                <a:off x="1852560" y="1957320"/>
                <a:ext cx="547920" cy="1103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 flipH="1">
              <a:off x="2160360" y="2211120"/>
              <a:ext cx="122796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843200" y="2234520"/>
              <a:ext cx="1157400" cy="12430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7520" y="2612880"/>
              <a:ext cx="1039320" cy="165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504800" y="2597040"/>
              <a:ext cx="776160" cy="834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757160" y="2561760"/>
              <a:ext cx="190080" cy="20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43600" y="2493000"/>
              <a:ext cx="528480" cy="84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492840" y="2279880"/>
              <a:ext cx="1280160" cy="1287360"/>
              <a:chOff x="492840" y="2279880"/>
              <a:chExt cx="1280160" cy="1287360"/>
            </a:xfrm>
          </p:grpSpPr>
          <p:sp>
            <p:nvSpPr>
              <p:cNvPr id="138" name=""/>
              <p:cNvSpPr/>
              <p:nvPr/>
            </p:nvSpPr>
            <p:spPr>
              <a:xfrm rot="543000">
                <a:off x="591480" y="2360880"/>
                <a:ext cx="1101600" cy="110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3000">
                <a:off x="588960" y="2359440"/>
                <a:ext cx="1101600" cy="1101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3000">
                <a:off x="537840" y="2814480"/>
                <a:ext cx="1141560" cy="666720"/>
              </a:xfrm>
              <a:custGeom>
                <a:avLst/>
                <a:gdLst/>
                <a:ahLst/>
                <a:rect l="l" t="t" r="r" b="b"/>
                <a:pathLst>
                  <a:path w="982" h="568">
                    <a:moveTo>
                      <a:pt x="22" y="106"/>
                    </a:moveTo>
                    <a:cubicBezTo>
                      <a:pt x="39" y="120"/>
                      <a:pt x="60" y="144"/>
                      <a:pt x="100" y="166"/>
                    </a:cubicBezTo>
                    <a:cubicBezTo>
                      <a:pt x="140" y="188"/>
                      <a:pt x="212" y="222"/>
                      <a:pt x="262" y="238"/>
                    </a:cubicBezTo>
                    <a:cubicBezTo>
                      <a:pt x="312" y="254"/>
                      <a:pt x="346" y="261"/>
                      <a:pt x="403" y="262"/>
                    </a:cubicBezTo>
                    <a:cubicBezTo>
                      <a:pt x="460" y="263"/>
                      <a:pt x="546" y="257"/>
                      <a:pt x="607" y="244"/>
                    </a:cubicBezTo>
                    <a:cubicBezTo>
                      <a:pt x="668" y="231"/>
                      <a:pt x="719" y="210"/>
                      <a:pt x="769" y="183"/>
                    </a:cubicBezTo>
                    <a:cubicBezTo>
                      <a:pt x="819" y="156"/>
                      <a:pt x="872" y="111"/>
                      <a:pt x="907" y="82"/>
                    </a:cubicBezTo>
                    <a:cubicBezTo>
                      <a:pt x="942" y="53"/>
                      <a:pt x="966" y="0"/>
                      <a:pt x="978" y="7"/>
                    </a:cubicBezTo>
                    <a:cubicBezTo>
                      <a:pt x="973" y="11"/>
                      <a:pt x="982" y="84"/>
                      <a:pt x="978" y="123"/>
                    </a:cubicBezTo>
                    <a:cubicBezTo>
                      <a:pt x="974" y="162"/>
                      <a:pt x="966" y="204"/>
                      <a:pt x="952" y="243"/>
                    </a:cubicBezTo>
                    <a:cubicBezTo>
                      <a:pt x="938" y="282"/>
                      <a:pt x="913" y="325"/>
                      <a:pt x="891" y="357"/>
                    </a:cubicBezTo>
                    <a:cubicBezTo>
                      <a:pt x="869" y="389"/>
                      <a:pt x="849" y="412"/>
                      <a:pt x="820" y="438"/>
                    </a:cubicBezTo>
                    <a:cubicBezTo>
                      <a:pt x="791" y="464"/>
                      <a:pt x="755" y="491"/>
                      <a:pt x="715" y="511"/>
                    </a:cubicBezTo>
                    <a:cubicBezTo>
                      <a:pt x="675" y="531"/>
                      <a:pt x="628" y="548"/>
                      <a:pt x="580" y="556"/>
                    </a:cubicBezTo>
                    <a:cubicBezTo>
                      <a:pt x="532" y="564"/>
                      <a:pt x="478" y="568"/>
                      <a:pt x="429" y="562"/>
                    </a:cubicBezTo>
                    <a:cubicBezTo>
                      <a:pt x="380" y="556"/>
                      <a:pt x="330" y="541"/>
                      <a:pt x="288" y="522"/>
                    </a:cubicBezTo>
                    <a:cubicBezTo>
                      <a:pt x="246" y="503"/>
                      <a:pt x="209" y="480"/>
                      <a:pt x="174" y="450"/>
                    </a:cubicBezTo>
                    <a:cubicBezTo>
                      <a:pt x="139" y="420"/>
                      <a:pt x="104" y="381"/>
                      <a:pt x="79" y="342"/>
                    </a:cubicBezTo>
                    <a:cubicBezTo>
                      <a:pt x="54" y="303"/>
                      <a:pt x="34" y="257"/>
                      <a:pt x="21" y="214"/>
                    </a:cubicBezTo>
                    <a:cubicBezTo>
                      <a:pt x="8" y="171"/>
                      <a:pt x="0" y="99"/>
                      <a:pt x="0" y="81"/>
                    </a:cubicBez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 rot="11343000">
                <a:off x="1408320" y="2559240"/>
                <a:ext cx="283680" cy="80352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543000">
                <a:off x="1382760" y="2537280"/>
                <a:ext cx="127800" cy="818280"/>
              </a:xfrm>
              <a:custGeom>
                <a:avLst/>
                <a:gdLst/>
                <a:ahLst/>
                <a:rect l="l" t="t" r="r" b="b"/>
                <a:pathLst>
                  <a:path w="114" h="728">
                    <a:moveTo>
                      <a:pt x="90" y="621"/>
                    </a:moveTo>
                    <a:cubicBezTo>
                      <a:pt x="86" y="592"/>
                      <a:pt x="86" y="572"/>
                      <a:pt x="84" y="540"/>
                    </a:cubicBezTo>
                    <a:cubicBezTo>
                      <a:pt x="82" y="508"/>
                      <a:pt x="78" y="467"/>
                      <a:pt x="78" y="426"/>
                    </a:cubicBezTo>
                    <a:cubicBezTo>
                      <a:pt x="78" y="385"/>
                      <a:pt x="80" y="339"/>
                      <a:pt x="81" y="291"/>
                    </a:cubicBezTo>
                    <a:cubicBezTo>
                      <a:pt x="82" y="243"/>
                      <a:pt x="83" y="185"/>
                      <a:pt x="84" y="138"/>
                    </a:cubicBezTo>
                    <a:cubicBezTo>
                      <a:pt x="85" y="91"/>
                      <a:pt x="95" y="0"/>
                      <a:pt x="86" y="6"/>
                    </a:cubicBezTo>
                    <a:cubicBezTo>
                      <a:pt x="54" y="59"/>
                      <a:pt x="40" y="122"/>
                      <a:pt x="27" y="173"/>
                    </a:cubicBezTo>
                    <a:cubicBezTo>
                      <a:pt x="13" y="228"/>
                      <a:pt x="6" y="282"/>
                      <a:pt x="3" y="339"/>
                    </a:cubicBezTo>
                    <a:cubicBezTo>
                      <a:pt x="0" y="396"/>
                      <a:pt x="3" y="465"/>
                      <a:pt x="11" y="516"/>
                    </a:cubicBezTo>
                    <a:cubicBezTo>
                      <a:pt x="19" y="567"/>
                      <a:pt x="35" y="608"/>
                      <a:pt x="52" y="643"/>
                    </a:cubicBezTo>
                    <a:cubicBezTo>
                      <a:pt x="69" y="678"/>
                      <a:pt x="108" y="728"/>
                      <a:pt x="114" y="724"/>
                    </a:cubicBezTo>
                    <a:cubicBezTo>
                      <a:pt x="114" y="723"/>
                      <a:pt x="95" y="642"/>
                      <a:pt x="90" y="621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543000">
                <a:off x="574560" y="2906280"/>
                <a:ext cx="887040" cy="200160"/>
              </a:xfrm>
              <a:custGeom>
                <a:avLst/>
                <a:gdLst/>
                <a:ahLst/>
                <a:rect l="l" t="t" r="r" b="b"/>
                <a:pathLst>
                  <a:path w="790" h="179">
                    <a:moveTo>
                      <a:pt x="0" y="0"/>
                    </a:moveTo>
                    <a:cubicBezTo>
                      <a:pt x="17" y="14"/>
                      <a:pt x="57" y="56"/>
                      <a:pt x="101" y="82"/>
                    </a:cubicBezTo>
                    <a:cubicBezTo>
                      <a:pt x="145" y="108"/>
                      <a:pt x="213" y="138"/>
                      <a:pt x="263" y="154"/>
                    </a:cubicBezTo>
                    <a:cubicBezTo>
                      <a:pt x="313" y="170"/>
                      <a:pt x="347" y="177"/>
                      <a:pt x="404" y="178"/>
                    </a:cubicBezTo>
                    <a:cubicBezTo>
                      <a:pt x="461" y="179"/>
                      <a:pt x="556" y="169"/>
                      <a:pt x="608" y="160"/>
                    </a:cubicBezTo>
                    <a:cubicBezTo>
                      <a:pt x="660" y="151"/>
                      <a:pt x="687" y="140"/>
                      <a:pt x="714" y="123"/>
                    </a:cubicBezTo>
                    <a:cubicBezTo>
                      <a:pt x="741" y="106"/>
                      <a:pt x="755" y="73"/>
                      <a:pt x="768" y="60"/>
                    </a:cubicBezTo>
                    <a:cubicBezTo>
                      <a:pt x="781" y="47"/>
                      <a:pt x="785" y="46"/>
                      <a:pt x="79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H="1">
              <a:off x="1496160" y="2334960"/>
              <a:ext cx="308880" cy="331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77080" y="2718360"/>
              <a:ext cx="1400040" cy="223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543000">
              <a:off x="1298520" y="3235320"/>
              <a:ext cx="1422360" cy="324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25960" y="2927160"/>
              <a:ext cx="1481400" cy="236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184400" y="2752200"/>
              <a:ext cx="583920" cy="628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77680" y="3125880"/>
              <a:ext cx="191880" cy="206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63040" y="3028680"/>
              <a:ext cx="227880" cy="248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8640" y="3236400"/>
              <a:ext cx="2210760" cy="35244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3000">
              <a:off x="613800" y="3093840"/>
              <a:ext cx="401760" cy="34596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486080" y="2104920"/>
              <a:ext cx="1308240" cy="475920"/>
              <a:chOff x="1486080" y="2104920"/>
              <a:chExt cx="1308240" cy="475920"/>
            </a:xfrm>
          </p:grpSpPr>
          <p:sp>
            <p:nvSpPr>
              <p:cNvPr id="154" name=""/>
              <p:cNvSpPr/>
              <p:nvPr/>
            </p:nvSpPr>
            <p:spPr>
              <a:xfrm flipV="1">
                <a:off x="2214720" y="2250000"/>
                <a:ext cx="96120" cy="1011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359080" y="2220480"/>
                <a:ext cx="230400" cy="1389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2433600" y="2439000"/>
                <a:ext cx="332640" cy="334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21720" y="2544840"/>
                <a:ext cx="372600" cy="36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1668960" y="2104920"/>
                <a:ext cx="308880" cy="189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1537920" y="2258280"/>
                <a:ext cx="345240" cy="1414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1486080" y="2426040"/>
                <a:ext cx="318600" cy="561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1788480" y="2416320"/>
                <a:ext cx="225720" cy="590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837080" y="2280240"/>
                <a:ext cx="193320" cy="91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2052360" y="2236320"/>
                <a:ext cx="61560" cy="986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288520" y="2367000"/>
                <a:ext cx="146880" cy="27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62960" y="2475000"/>
                <a:ext cx="231840" cy="223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1990800" y="2391480"/>
                <a:ext cx="121320" cy="59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1459800" y="2607120"/>
              <a:ext cx="1278000" cy="465120"/>
              <a:chOff x="1459800" y="2607120"/>
              <a:chExt cx="1278000" cy="46512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1904040" y="2779920"/>
                <a:ext cx="108360" cy="1360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1634400" y="2814840"/>
                <a:ext cx="230760" cy="140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1459800" y="2702160"/>
                <a:ext cx="331200" cy="33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flipV="1">
                <a:off x="1558440" y="2607120"/>
                <a:ext cx="245520" cy="212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47120" y="2881440"/>
                <a:ext cx="309240" cy="1908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40360" y="2774880"/>
                <a:ext cx="345240" cy="141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20280" y="2691000"/>
                <a:ext cx="317520" cy="56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11120" y="2699280"/>
                <a:ext cx="225360" cy="597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194560" y="2802600"/>
                <a:ext cx="193680" cy="914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111760" y="2838600"/>
                <a:ext cx="61560" cy="1004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1788840" y="2782800"/>
                <a:ext cx="147240" cy="255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flipV="1">
                <a:off x="1731960" y="2676960"/>
                <a:ext cx="230040" cy="219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111760" y="2723040"/>
                <a:ext cx="121320" cy="59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59000" y="2991960"/>
              <a:ext cx="366840" cy="58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1000" y="2162880"/>
              <a:ext cx="275760" cy="43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659760" y="1768680"/>
              <a:ext cx="139680" cy="1526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V="1">
            <a:off x="2269440" y="1315440"/>
            <a:ext cx="490320" cy="52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8639000">
            <a:off x="2513160" y="258912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eaction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18040" y="1829880"/>
            <a:ext cx="642960" cy="9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09560" y="19764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17640" y="1004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122360" y="1311480"/>
            <a:ext cx="2520" cy="510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73840" y="12906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15280" y="5022720"/>
            <a:ext cx="38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18840" y="3900600"/>
            <a:ext cx="38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 Blac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4320" y="390060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 Black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360" y="3827160"/>
            <a:ext cx="3901320" cy="2748240"/>
            <a:chOff x="351360" y="3827160"/>
            <a:chExt cx="3901320" cy="2748240"/>
          </a:xfrm>
        </p:grpSpPr>
        <p:sp>
          <p:nvSpPr>
            <p:cNvPr id="195" name=""/>
            <p:cNvSpPr/>
            <p:nvPr/>
          </p:nvSpPr>
          <p:spPr>
            <a:xfrm>
              <a:off x="1282680" y="5004720"/>
              <a:ext cx="2260440" cy="36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650320" y="4582440"/>
              <a:ext cx="122796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367720" y="4495320"/>
              <a:ext cx="1227960" cy="1319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031120" y="4442760"/>
              <a:ext cx="122796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61040" y="4767840"/>
              <a:ext cx="1323360" cy="210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24840" y="5385600"/>
              <a:ext cx="1399680" cy="223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959840" y="5009400"/>
              <a:ext cx="1158120" cy="124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146960" y="4242600"/>
              <a:ext cx="848520" cy="907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1481760" y="4293720"/>
              <a:ext cx="832320" cy="894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9440" y="4433400"/>
              <a:ext cx="2257200" cy="359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3000">
              <a:off x="487080" y="4300200"/>
              <a:ext cx="3630600" cy="2001960"/>
            </a:xfrm>
            <a:prstGeom prst="parallelogram">
              <a:avLst>
                <a:gd name="adj" fmla="val 67285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51360" y="5622840"/>
              <a:ext cx="355320" cy="383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601640" y="4344480"/>
              <a:ext cx="1031760" cy="1107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303920" y="5337720"/>
              <a:ext cx="759960" cy="8128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12400" y="4240440"/>
              <a:ext cx="929880" cy="14832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15520" y="4512240"/>
              <a:ext cx="667800" cy="106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36920" y="4622040"/>
              <a:ext cx="1323360" cy="210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526120" y="4749840"/>
              <a:ext cx="446040" cy="4788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60520" y="4813920"/>
              <a:ext cx="2260440" cy="36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306800" y="4389480"/>
              <a:ext cx="1635480" cy="1758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277360" y="4985640"/>
              <a:ext cx="122796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873440" y="5336280"/>
              <a:ext cx="190080" cy="20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60600" y="5266440"/>
              <a:ext cx="528480" cy="84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613160" y="5108400"/>
              <a:ext cx="308520" cy="331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93360" y="5492160"/>
              <a:ext cx="1399680" cy="223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3000">
              <a:off x="922320" y="5967000"/>
              <a:ext cx="1922400" cy="288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42960" y="5701320"/>
              <a:ext cx="1481400" cy="236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993960" y="5900040"/>
              <a:ext cx="191520" cy="205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77160" y="5799600"/>
              <a:ext cx="229320" cy="248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920" y="6010200"/>
              <a:ext cx="2210400" cy="35208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5280" y="5765040"/>
              <a:ext cx="367200" cy="58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18000" y="4937040"/>
              <a:ext cx="275760" cy="43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776040" y="4542120"/>
              <a:ext cx="140040" cy="153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571800">
              <a:off x="1380600" y="4666680"/>
              <a:ext cx="1944720" cy="961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621800" y="5370480"/>
              <a:ext cx="776160" cy="83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0320" y="5576040"/>
              <a:ext cx="1481400" cy="236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1371800">
              <a:off x="1031400" y="4051800"/>
              <a:ext cx="2817000" cy="124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57" y="2880"/>
                  </a:moveTo>
                  <a:arcTo wR="10800" hR="10800" stAng="-7970201" swAng="5200149"/>
                  <a:lnTo>
                    <a:pt x="10800" y="10800"/>
                  </a:lnTo>
                  <a:close/>
                </a:path>
                <a:path fill="none" w="21600" h="21600">
                  <a:moveTo>
                    <a:pt x="3457" y="2880"/>
                  </a:moveTo>
                  <a:arcTo wR="10800" hR="10800" stAng="-7970201" swAng="520014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92120" y="4954320"/>
              <a:ext cx="1924200" cy="695520"/>
            </a:xfrm>
            <a:custGeom>
              <a:avLst/>
              <a:gdLst/>
              <a:ahLst/>
              <a:rect l="l" t="t" r="r" b="b"/>
              <a:pathLst>
                <a:path w="1212" h="438">
                  <a:moveTo>
                    <a:pt x="58" y="184"/>
                  </a:moveTo>
                  <a:cubicBezTo>
                    <a:pt x="69" y="195"/>
                    <a:pt x="60" y="192"/>
                    <a:pt x="108" y="234"/>
                  </a:cubicBezTo>
                  <a:cubicBezTo>
                    <a:pt x="157" y="271"/>
                    <a:pt x="130" y="252"/>
                    <a:pt x="163" y="276"/>
                  </a:cubicBezTo>
                  <a:cubicBezTo>
                    <a:pt x="200" y="299"/>
                    <a:pt x="211" y="307"/>
                    <a:pt x="244" y="322"/>
                  </a:cubicBezTo>
                  <a:cubicBezTo>
                    <a:pt x="276" y="337"/>
                    <a:pt x="318" y="355"/>
                    <a:pt x="334" y="361"/>
                  </a:cubicBezTo>
                  <a:cubicBezTo>
                    <a:pt x="354" y="369"/>
                    <a:pt x="374" y="375"/>
                    <a:pt x="394" y="382"/>
                  </a:cubicBezTo>
                  <a:cubicBezTo>
                    <a:pt x="415" y="390"/>
                    <a:pt x="445" y="396"/>
                    <a:pt x="471" y="405"/>
                  </a:cubicBezTo>
                  <a:cubicBezTo>
                    <a:pt x="516" y="411"/>
                    <a:pt x="505" y="411"/>
                    <a:pt x="526" y="414"/>
                  </a:cubicBezTo>
                  <a:cubicBezTo>
                    <a:pt x="555" y="420"/>
                    <a:pt x="559" y="421"/>
                    <a:pt x="579" y="424"/>
                  </a:cubicBezTo>
                  <a:cubicBezTo>
                    <a:pt x="615" y="429"/>
                    <a:pt x="637" y="433"/>
                    <a:pt x="658" y="433"/>
                  </a:cubicBezTo>
                  <a:cubicBezTo>
                    <a:pt x="697" y="438"/>
                    <a:pt x="717" y="435"/>
                    <a:pt x="730" y="436"/>
                  </a:cubicBezTo>
                  <a:cubicBezTo>
                    <a:pt x="774" y="436"/>
                    <a:pt x="763" y="438"/>
                    <a:pt x="792" y="436"/>
                  </a:cubicBezTo>
                  <a:cubicBezTo>
                    <a:pt x="828" y="435"/>
                    <a:pt x="849" y="433"/>
                    <a:pt x="871" y="430"/>
                  </a:cubicBezTo>
                  <a:cubicBezTo>
                    <a:pt x="934" y="420"/>
                    <a:pt x="915" y="424"/>
                    <a:pt x="940" y="418"/>
                  </a:cubicBezTo>
                  <a:cubicBezTo>
                    <a:pt x="987" y="406"/>
                    <a:pt x="985" y="408"/>
                    <a:pt x="1008" y="400"/>
                  </a:cubicBezTo>
                  <a:cubicBezTo>
                    <a:pt x="1054" y="385"/>
                    <a:pt x="1068" y="381"/>
                    <a:pt x="1090" y="367"/>
                  </a:cubicBezTo>
                  <a:cubicBezTo>
                    <a:pt x="1137" y="334"/>
                    <a:pt x="1142" y="336"/>
                    <a:pt x="1167" y="312"/>
                  </a:cubicBezTo>
                  <a:cubicBezTo>
                    <a:pt x="1191" y="281"/>
                    <a:pt x="1183" y="292"/>
                    <a:pt x="1195" y="271"/>
                  </a:cubicBezTo>
                  <a:cubicBezTo>
                    <a:pt x="1210" y="237"/>
                    <a:pt x="1201" y="259"/>
                    <a:pt x="1205" y="251"/>
                  </a:cubicBezTo>
                  <a:cubicBezTo>
                    <a:pt x="1206" y="236"/>
                    <a:pt x="1209" y="237"/>
                    <a:pt x="1212" y="207"/>
                  </a:cubicBezTo>
                  <a:cubicBezTo>
                    <a:pt x="1176" y="213"/>
                    <a:pt x="1163" y="217"/>
                    <a:pt x="1143" y="219"/>
                  </a:cubicBezTo>
                  <a:cubicBezTo>
                    <a:pt x="1134" y="222"/>
                    <a:pt x="1107" y="225"/>
                    <a:pt x="1107" y="225"/>
                  </a:cubicBezTo>
                  <a:cubicBezTo>
                    <a:pt x="1068" y="232"/>
                    <a:pt x="1054" y="231"/>
                    <a:pt x="1027" y="232"/>
                  </a:cubicBezTo>
                  <a:cubicBezTo>
                    <a:pt x="994" y="235"/>
                    <a:pt x="962" y="238"/>
                    <a:pt x="940" y="238"/>
                  </a:cubicBezTo>
                  <a:cubicBezTo>
                    <a:pt x="907" y="237"/>
                    <a:pt x="891" y="235"/>
                    <a:pt x="861" y="237"/>
                  </a:cubicBezTo>
                  <a:cubicBezTo>
                    <a:pt x="818" y="236"/>
                    <a:pt x="814" y="234"/>
                    <a:pt x="777" y="234"/>
                  </a:cubicBezTo>
                  <a:cubicBezTo>
                    <a:pt x="738" y="229"/>
                    <a:pt x="723" y="230"/>
                    <a:pt x="675" y="222"/>
                  </a:cubicBezTo>
                  <a:cubicBezTo>
                    <a:pt x="654" y="219"/>
                    <a:pt x="634" y="217"/>
                    <a:pt x="615" y="214"/>
                  </a:cubicBezTo>
                  <a:cubicBezTo>
                    <a:pt x="593" y="210"/>
                    <a:pt x="567" y="204"/>
                    <a:pt x="541" y="199"/>
                  </a:cubicBezTo>
                  <a:cubicBezTo>
                    <a:pt x="511" y="194"/>
                    <a:pt x="494" y="191"/>
                    <a:pt x="460" y="183"/>
                  </a:cubicBezTo>
                  <a:cubicBezTo>
                    <a:pt x="424" y="176"/>
                    <a:pt x="424" y="172"/>
                    <a:pt x="387" y="165"/>
                  </a:cubicBezTo>
                  <a:cubicBezTo>
                    <a:pt x="358" y="157"/>
                    <a:pt x="338" y="149"/>
                    <a:pt x="316" y="142"/>
                  </a:cubicBezTo>
                  <a:cubicBezTo>
                    <a:pt x="306" y="138"/>
                    <a:pt x="262" y="122"/>
                    <a:pt x="252" y="121"/>
                  </a:cubicBezTo>
                  <a:cubicBezTo>
                    <a:pt x="233" y="114"/>
                    <a:pt x="219" y="107"/>
                    <a:pt x="203" y="101"/>
                  </a:cubicBezTo>
                  <a:cubicBezTo>
                    <a:pt x="187" y="95"/>
                    <a:pt x="185" y="92"/>
                    <a:pt x="169" y="87"/>
                  </a:cubicBezTo>
                  <a:cubicBezTo>
                    <a:pt x="154" y="81"/>
                    <a:pt x="138" y="73"/>
                    <a:pt x="123" y="64"/>
                  </a:cubicBezTo>
                  <a:cubicBezTo>
                    <a:pt x="106" y="55"/>
                    <a:pt x="86" y="46"/>
                    <a:pt x="70" y="36"/>
                  </a:cubicBezTo>
                  <a:cubicBezTo>
                    <a:pt x="59" y="29"/>
                    <a:pt x="40" y="21"/>
                    <a:pt x="29" y="15"/>
                  </a:cubicBezTo>
                  <a:cubicBezTo>
                    <a:pt x="27" y="14"/>
                    <a:pt x="6" y="0"/>
                    <a:pt x="7" y="1"/>
                  </a:cubicBezTo>
                  <a:cubicBezTo>
                    <a:pt x="5" y="12"/>
                    <a:pt x="1" y="15"/>
                    <a:pt x="0" y="45"/>
                  </a:cubicBezTo>
                  <a:cubicBezTo>
                    <a:pt x="0" y="73"/>
                    <a:pt x="1" y="77"/>
                    <a:pt x="10" y="106"/>
                  </a:cubicBezTo>
                  <a:cubicBezTo>
                    <a:pt x="27" y="139"/>
                    <a:pt x="40" y="163"/>
                    <a:pt x="57" y="183"/>
                  </a:cubicBezTo>
                </a:path>
              </a:pathLst>
            </a:custGeom>
            <a:solidFill>
              <a:srgbClr val="ffffff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1494360" y="5252760"/>
              <a:ext cx="642240" cy="691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1030680" y="5172840"/>
              <a:ext cx="830880" cy="894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23960" y="5061600"/>
              <a:ext cx="871200" cy="936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680480" y="5307120"/>
              <a:ext cx="776160" cy="83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040840" y="5332320"/>
              <a:ext cx="776160" cy="834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24160" y="5387400"/>
              <a:ext cx="1039680" cy="165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03760" y="5193000"/>
              <a:ext cx="1586520" cy="25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67200" y="5003280"/>
              <a:ext cx="319680" cy="52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93200" y="5308560"/>
              <a:ext cx="355320" cy="58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309040" y="5306040"/>
              <a:ext cx="896040" cy="963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5880" y="5491440"/>
              <a:ext cx="1586520" cy="25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2813760" y="4755600"/>
              <a:ext cx="820800" cy="491040"/>
              <a:chOff x="2813760" y="4755600"/>
              <a:chExt cx="820800" cy="491040"/>
            </a:xfrm>
          </p:grpSpPr>
          <p:sp>
            <p:nvSpPr>
              <p:cNvPr id="245" name=""/>
              <p:cNvSpPr/>
              <p:nvPr/>
            </p:nvSpPr>
            <p:spPr>
              <a:xfrm flipV="1">
                <a:off x="2813760" y="4844880"/>
                <a:ext cx="96480" cy="102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3033720" y="4755600"/>
                <a:ext cx="231120" cy="138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3149280" y="4998960"/>
                <a:ext cx="333360" cy="32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62320" y="5211720"/>
                <a:ext cx="372240" cy="349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2903400" y="4987080"/>
                <a:ext cx="145440" cy="27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886120" y="5151600"/>
                <a:ext cx="231120" cy="223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1161360" y="4568400"/>
              <a:ext cx="932760" cy="403920"/>
              <a:chOff x="1161360" y="4568400"/>
              <a:chExt cx="932760" cy="403920"/>
            </a:xfrm>
          </p:grpSpPr>
          <p:sp>
            <p:nvSpPr>
              <p:cNvPr id="252" name=""/>
              <p:cNvSpPr/>
              <p:nvPr/>
            </p:nvSpPr>
            <p:spPr>
              <a:xfrm flipH="1" flipV="1">
                <a:off x="1460160" y="4568400"/>
                <a:ext cx="309240" cy="190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1240920" y="4696200"/>
                <a:ext cx="345600" cy="1418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flipV="1">
                <a:off x="1161360" y="4855680"/>
                <a:ext cx="318960" cy="57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1577880" y="4912560"/>
                <a:ext cx="225360" cy="597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flipV="1">
                <a:off x="1812240" y="4649400"/>
                <a:ext cx="192600" cy="91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2031480" y="4570920"/>
                <a:ext cx="62640" cy="997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flipV="1">
                <a:off x="1810440" y="4831200"/>
                <a:ext cx="122400" cy="601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1237680" y="5090400"/>
              <a:ext cx="484560" cy="432000"/>
              <a:chOff x="1237680" y="5090400"/>
              <a:chExt cx="484560" cy="432000"/>
            </a:xfrm>
          </p:grpSpPr>
          <p:sp>
            <p:nvSpPr>
              <p:cNvPr id="260" name=""/>
              <p:cNvSpPr/>
              <p:nvPr/>
            </p:nvSpPr>
            <p:spPr>
              <a:xfrm flipH="1">
                <a:off x="1615320" y="5386680"/>
                <a:ext cx="106920" cy="1357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1409760" y="5324760"/>
                <a:ext cx="229680" cy="140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1263240" y="5249520"/>
                <a:ext cx="331560" cy="32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1237680" y="5090400"/>
                <a:ext cx="245880" cy="216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1555920" y="5272200"/>
                <a:ext cx="146880" cy="24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flipV="1">
                <a:off x="1411200" y="5159880"/>
                <a:ext cx="230760" cy="223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682360" y="5420160"/>
              <a:ext cx="784440" cy="351720"/>
              <a:chOff x="2682360" y="5420160"/>
              <a:chExt cx="784440" cy="351720"/>
            </a:xfrm>
          </p:grpSpPr>
          <p:sp>
            <p:nvSpPr>
              <p:cNvPr id="267" name=""/>
              <p:cNvSpPr/>
              <p:nvPr/>
            </p:nvSpPr>
            <p:spPr>
              <a:xfrm>
                <a:off x="2787840" y="5581080"/>
                <a:ext cx="308880" cy="1908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71080" y="5505480"/>
                <a:ext cx="345600" cy="1418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149640" y="5436360"/>
                <a:ext cx="317160" cy="565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879640" y="5420160"/>
                <a:ext cx="226800" cy="60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765880" y="5517720"/>
                <a:ext cx="194040" cy="92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682360" y="5600520"/>
                <a:ext cx="61200" cy="101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54360" y="5452200"/>
                <a:ext cx="122040" cy="597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3215880" y="5323320"/>
            <a:ext cx="898200" cy="122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366640" y="4087440"/>
            <a:ext cx="3600" cy="705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937600" y="3938040"/>
            <a:ext cx="490320" cy="52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1974960" cy="933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8" name=""/>
          <p:cNvSpPr/>
          <p:nvPr/>
        </p:nvSpPr>
        <p:spPr>
          <a:xfrm>
            <a:off x="1676520" y="3562200"/>
            <a:ext cx="485640" cy="704880"/>
          </a:xfrm>
          <a:prstGeom prst="downArrow">
            <a:avLst>
              <a:gd name="adj1" fmla="val 39213"/>
              <a:gd name="adj2" fmla="val 44471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819680" y="5180040"/>
            <a:ext cx="4095720" cy="1220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80" name=""/>
          <p:cNvSpPr/>
          <p:nvPr/>
        </p:nvSpPr>
        <p:spPr>
          <a:xfrm>
            <a:off x="5486400" y="3352680"/>
            <a:ext cx="485640" cy="990720"/>
          </a:xfrm>
          <a:prstGeom prst="downArrow">
            <a:avLst>
              <a:gd name="adj1" fmla="val 39213"/>
              <a:gd name="adj2" fmla="val 62504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, Sep/24/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F42A-96C0-4BB3-9FDD-3C12A6BF62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04920" y="738360"/>
            <a:ext cx="4114800" cy="3681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rcRect l="0" t="2747" r="0" b="0"/>
          <a:stretch/>
        </p:blipFill>
        <p:spPr>
          <a:xfrm>
            <a:off x="4572000" y="738360"/>
            <a:ext cx="4267080" cy="36576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Black"/>
              </a:rPr>
              <a:t>Universal Scaling of v</a:t>
            </a:r>
            <a:r>
              <a:rPr b="1" i="1" lang="en-US" sz="40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1" i="1" lang="en-US" sz="4000" spc="-1" strike="noStrike">
                <a:solidFill>
                  <a:srgbClr val="ffffff"/>
                </a:solidFill>
                <a:latin typeface="Arial Black"/>
              </a:rPr>
              <a:t> ?</a:t>
            </a: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1640" y="4419360"/>
            <a:ext cx="4419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Universal scaling of v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 sugges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for a variety of particle species at RHIC are determined through  (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K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ts magnitude is established in partonic level before had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152280" y="4952880"/>
            <a:ext cx="4419720" cy="952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7133400" y="335772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QM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. Taranen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2080" y="451476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t mid-rap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, Sep/24/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498-B34B-4A10-97FB-2C2EFB6C15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Black"/>
              </a:rPr>
              <a:t>Motivation</a:t>
            </a: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Universal scaling of v</a:t>
            </a:r>
            <a:r>
              <a:rPr b="0" lang="ja-JP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has been observed by assum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of non-identified charged had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F(KE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re these assumptions really correc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e scaling of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is tested from central to mid-central. How about peripheral collision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Study the validity of the scaling of v</a:t>
            </a:r>
            <a:r>
              <a:rPr b="0" lang="ja-JP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in a wide range of centrality for identified hadr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, Sep/24/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600-D564-4FCF-AF4C-4275F88BA4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6320" y="3479760"/>
            <a:ext cx="4419360" cy="29973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Black"/>
              </a:rPr>
              <a:t>PHENIX Experiment</a:t>
            </a: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1640" y="12949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Vertex, Centralit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BC, Z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Event plan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BC (full azimuth, |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 = 3.0 - 3.9)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Large rapidity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Tracking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C,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OF (|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&lt;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4, |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&lt;0.35),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~ 120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, p :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&lt; 4 GeV/c,  K :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&lt; 3 GeV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rcRect l="5748" t="0" r="8668" b="46469"/>
          <a:stretch/>
        </p:blipFill>
        <p:spPr>
          <a:xfrm>
            <a:off x="609480" y="833400"/>
            <a:ext cx="3505320" cy="274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, Sep/24/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F745-ED61-41B0-9E02-15B0C372D5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0562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85800" y="5562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ncrease with increasing central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milar mass ordering for all central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ffffff"/>
                </a:solidFill>
                <a:latin typeface="Arial Black"/>
              </a:rPr>
              <a:t>Centrality dependence of v</a:t>
            </a:r>
            <a:r>
              <a:rPr b="0" i="1" lang="ja-JP" sz="32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i="1" lang="ja-JP" sz="3200" spc="-1" strike="noStrike">
                <a:solidFill>
                  <a:srgbClr val="ffffff"/>
                </a:solidFill>
                <a:latin typeface="Arial Black"/>
              </a:rPr>
              <a:t>(p</a:t>
            </a:r>
            <a:r>
              <a:rPr b="0" i="1" lang="ja-JP" sz="3200" spc="-1" strike="noStrike" baseline="-25000">
                <a:solidFill>
                  <a:srgbClr val="ffffff"/>
                </a:solidFill>
                <a:latin typeface="Arial Black"/>
              </a:rPr>
              <a:t>T</a:t>
            </a:r>
            <a:r>
              <a:rPr b="0" i="1" lang="ja-JP" sz="32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i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, Sep/24/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295-887E-47C0-8B47-39848BA44A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0562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800" y="5562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Scaling holds for all centrality 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atio of data to fit (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KE</a:t>
            </a:r>
            <a:r>
              <a:rPr b="0" i="1" lang="en-US" sz="4000" spc="-1" strike="noStrike" baseline="-25000">
                <a:solidFill>
                  <a:srgbClr val="ffffff"/>
                </a:solidFill>
                <a:latin typeface="Arial Black"/>
              </a:rPr>
              <a:t>T</a:t>
            </a: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 + NCQ scaling of v</a:t>
            </a:r>
            <a:r>
              <a:rPr b="0" i="1" lang="en-US" sz="40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, Sep/24/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8C6-3C25-4646-9A4B-A2604F23FB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0547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000" spc="-1" strike="noStrike">
                <a:solidFill>
                  <a:srgbClr val="ffffff"/>
                </a:solidFill>
                <a:latin typeface="Arial Black"/>
              </a:rPr>
              <a:t>v</a:t>
            </a:r>
            <a:r>
              <a:rPr b="0" i="1" lang="ja-JP" sz="40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i="1" lang="ja-JP" sz="4000" spc="-1" strike="noStrike">
                <a:solidFill>
                  <a:srgbClr val="ffffff"/>
                </a:solidFill>
                <a:latin typeface="Arial Black"/>
              </a:rPr>
              <a:t>(Data)/v</a:t>
            </a:r>
            <a:r>
              <a:rPr b="0" i="1" lang="ja-JP" sz="40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i="1" lang="ja-JP" sz="4000" spc="-1" strike="noStrike">
                <a:solidFill>
                  <a:srgbClr val="ffffff"/>
                </a:solidFill>
                <a:latin typeface="Arial Black"/>
              </a:rPr>
              <a:t>(Fit)</a:t>
            </a: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560" y="56383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Scaling works within systematic errors, except for low KE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adial flow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, Sep/24/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93C-031C-4EB9-81CC-A421AEC00F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5715000" cy="38768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Black"/>
              </a:rPr>
              <a:t>Eccentricity</a:t>
            </a:r>
            <a:endParaRPr b="0" i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4120" y="1294920"/>
            <a:ext cx="3657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Eccentricity (</a:t>
            </a:r>
            <a:r>
              <a:rPr b="0" lang="ja-JP" sz="28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) is estimated by Glauber MC simul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alue’s are not changed so much in b = 5 - 9 fm (10 - 50 % centrality).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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~ 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uite different for different definitions of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at central and periphe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77760" y="5141880"/>
            <a:ext cx="35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atic error on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~ 10 - 2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, Sep/24/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F40-046A-4965-B066-0DEDC8D9D0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1:49:00Z</dcterms:created>
  <dc:creator>益井 宙</dc:creator>
  <dc:description/>
  <dc:language>en-US</dc:language>
  <cp:lastModifiedBy>益井 宙</cp:lastModifiedBy>
  <cp:lastPrinted>2007-09-21T10:03:45Z</cp:lastPrinted>
  <dcterms:modified xsi:type="dcterms:W3CDTF">2007-09-23T16:07:15Z</dcterms:modified>
  <cp:revision>82</cp:revision>
  <dc:subject/>
  <dc:title>PowerPoint プレゼンテーション</dc:title>
</cp:coreProperties>
</file>