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33.png" ContentType="image/png"/>
  <Override PartName="/ppt/media/image30.pct" ContentType="image/x-pict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7F5-C449-48CB-AD2E-89D8C153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5CB-0821-4954-9DEB-1ED0E4BE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AD8-FDD8-4903-A12E-A424A027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8A5-BA92-4B65-887A-956BF62A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62F5-36E6-4B78-A5FF-F0C1C1A9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F77-358E-4886-829A-6E33BC09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2C1-D7AD-4519-945A-7EA51262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1BA5-9EB5-4CF4-8993-1AD166D8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CB9-242E-45DD-801E-A6E599CB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8C8-F50D-4D69-9A3E-ED2AA353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7EBA-F160-457F-B3B7-1C8AABD8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174-2B1F-41EB-B8A1-19E9EEE5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B00E-38FB-4C38-B7A1-EF038093CCDE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440" y="6553080"/>
            <a:ext cx="306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PS 2007 Spring, 3/26/2007, TMU, Toky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352680" y="65530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ahiro Konno (Univ. of Tsukub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ct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28200" y="2255760"/>
            <a:ext cx="7965360" cy="13737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 Properties of Identified Hadr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verse Momentum Spect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u+Au and Cu+Cu Collisions at RHIC-PHE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04800" y="4370400"/>
            <a:ext cx="3559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ahiro Kon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HENIX Collabo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iversity of Tsuku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2057400" cy="671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03960" y="60480"/>
            <a:ext cx="1863720" cy="590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477120" y="41400"/>
            <a:ext cx="644400" cy="64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9953-BC92-4D4B-93D3-A90D0A80F3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89640" y="4967280"/>
            <a:ext cx="3228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+Au vs. Cu+Cu at 20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8640" y="168120"/>
            <a:ext cx="5959800" cy="57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ryon enhancement - p/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s. N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46680" y="5638680"/>
            <a:ext cx="6591600" cy="43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scaling of p/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between Au+Au and Cu+Cu at same √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0760" y="4952880"/>
            <a:ext cx="32925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+Au vs. Cu+Cu at 62.4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49400" y="1143000"/>
            <a:ext cx="8762760" cy="3733920"/>
            <a:chOff x="149400" y="1143000"/>
            <a:chExt cx="8762760" cy="3733920"/>
          </a:xfrm>
        </p:grpSpPr>
        <p:grpSp>
          <p:nvGrpSpPr>
            <p:cNvPr id="167" name=""/>
            <p:cNvGrpSpPr/>
            <p:nvPr/>
          </p:nvGrpSpPr>
          <p:grpSpPr>
            <a:xfrm>
              <a:off x="149400" y="1143000"/>
              <a:ext cx="8762760" cy="3733920"/>
              <a:chOff x="149400" y="1143000"/>
              <a:chExt cx="8762760" cy="3733920"/>
            </a:xfrm>
          </p:grpSpPr>
          <p:pic>
            <p:nvPicPr>
              <p:cNvPr id="1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400" y="1143000"/>
                <a:ext cx="4495680" cy="373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2800" y="1143000"/>
                <a:ext cx="4419360" cy="373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4120" y="1905120"/>
                <a:ext cx="1143000" cy="45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5185800" y="2300400"/>
                <a:ext cx="205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Phenix prelimina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914400" y="22860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57800" y="27432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EF7-B9DD-413B-BFCC-C2A59BFD8E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14400" y="4896000"/>
            <a:ext cx="7391520" cy="12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aling of p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ar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n Au+Au between 62.4 and 200 G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/dy scaling of pbar/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en. =&gt; Proton production (at this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n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62.4 GeV is partly from baryon transport, not only pair produ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ar stopping is still large at 62.4 G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6320" y="1035000"/>
            <a:ext cx="4343400" cy="3632400"/>
            <a:chOff x="76320" y="1035000"/>
            <a:chExt cx="4343400" cy="363240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76320" y="1035000"/>
              <a:ext cx="4343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839960" y="360360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267080" y="1012680"/>
            <a:ext cx="4724280" cy="3711600"/>
            <a:chOff x="4267080" y="1012680"/>
            <a:chExt cx="4724280" cy="3711600"/>
          </a:xfrm>
        </p:grpSpPr>
        <p:grpSp>
          <p:nvGrpSpPr>
            <p:cNvPr id="179" name=""/>
            <p:cNvGrpSpPr/>
            <p:nvPr/>
          </p:nvGrpSpPr>
          <p:grpSpPr>
            <a:xfrm>
              <a:off x="4267080" y="1012680"/>
              <a:ext cx="4724280" cy="3711600"/>
              <a:chOff x="4267080" y="1012680"/>
              <a:chExt cx="4724280" cy="3711600"/>
            </a:xfrm>
          </p:grpSpPr>
          <p:pic>
            <p:nvPicPr>
              <p:cNvPr id="1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7960" y="1012680"/>
                <a:ext cx="4343400" cy="371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4267080" y="2536920"/>
                <a:ext cx="533520" cy="533160"/>
              </a:xfrm>
              <a:prstGeom prst="rightArrow">
                <a:avLst>
                  <a:gd name="adj1" fmla="val 50000"/>
                  <a:gd name="adj2" fmla="val 25017"/>
                </a:avLst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6411960" y="367992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henix prelimi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867280" y="1698480"/>
            <a:ext cx="2819160" cy="1904760"/>
            <a:chOff x="5867280" y="1698480"/>
            <a:chExt cx="2819160" cy="1904760"/>
          </a:xfrm>
        </p:grpSpPr>
        <p:sp>
          <p:nvSpPr>
            <p:cNvPr id="184" name=""/>
            <p:cNvSpPr/>
            <p:nvPr/>
          </p:nvSpPr>
          <p:spPr>
            <a:xfrm flipV="1">
              <a:off x="5867280" y="2841120"/>
              <a:ext cx="2743200" cy="762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943240" y="2384280"/>
              <a:ext cx="274320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867280" y="1698480"/>
              <a:ext cx="2361960" cy="1524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67040" y="168120"/>
            <a:ext cx="6406200" cy="57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ryon enhancement - p/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s. dE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1EAD-E726-48A4-A07E-64D315B71D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6320" y="100800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419720" y="1008000"/>
            <a:ext cx="4647960" cy="3716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97640" y="168120"/>
            <a:ext cx="5505480" cy="57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stical Model Fit 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s. N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13240" y="5181480"/>
            <a:ext cx="5985720" cy="78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scaling of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between Au+Au and Cu+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Larger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t √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62.4 GeV than that at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066680" y="1981080"/>
            <a:ext cx="7772400" cy="1447920"/>
            <a:chOff x="1066680" y="1981080"/>
            <a:chExt cx="7772400" cy="1447920"/>
          </a:xfrm>
        </p:grpSpPr>
        <p:grpSp>
          <p:nvGrpSpPr>
            <p:cNvPr id="193" name=""/>
            <p:cNvGrpSpPr/>
            <p:nvPr/>
          </p:nvGrpSpPr>
          <p:grpSpPr>
            <a:xfrm>
              <a:off x="1066680" y="1981080"/>
              <a:ext cx="7772400" cy="1447920"/>
              <a:chOff x="1066680" y="1981080"/>
              <a:chExt cx="7772400" cy="1447920"/>
            </a:xfrm>
          </p:grpSpPr>
          <p:sp>
            <p:nvSpPr>
              <p:cNvPr id="194" name=""/>
              <p:cNvSpPr/>
              <p:nvPr/>
            </p:nvSpPr>
            <p:spPr>
              <a:xfrm>
                <a:off x="1066680" y="3429000"/>
                <a:ext cx="7239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534520" y="1981080"/>
                <a:ext cx="304560" cy="1295640"/>
              </a:xfrm>
              <a:prstGeom prst="upArrow">
                <a:avLst>
                  <a:gd name="adj1" fmla="val 50000"/>
                  <a:gd name="adj2" fmla="val 106353"/>
                </a:avLst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1670400" y="2727360"/>
              <a:ext cx="137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</a:t>
              </a:r>
              <a:r>
                <a:rPr b="1" lang="ja-JP" sz="2000" spc="-1" strike="noStrike" baseline="-25000">
                  <a:solidFill>
                    <a:srgbClr val="ff0000"/>
                  </a:solidFill>
                  <a:latin typeface="Arial"/>
                </a:rPr>
                <a:t>q</a:t>
              </a:r>
              <a:r>
                <a:rPr b="1" lang="ja-JP" sz="2000" spc="-1" strike="noStrike">
                  <a:solidFill>
                    <a:srgbClr val="ff0000"/>
                  </a:solidFill>
                  <a:latin typeface="Arial"/>
                </a:rPr>
                <a:t> ~8 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B03-91D7-4141-8AB7-4E0C19BD95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55240" y="243000"/>
            <a:ext cx="179928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58760" y="990720"/>
            <a:ext cx="724896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caling properties of PID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spectra t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ith Au+Au and Cu+Cu data at √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62.4/200 G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ulk properties (dN/dy, &lt;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gt;, kinetic and chemical freeze-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perties) are scaled with 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(~volume) at same √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(pbar)/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rat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1)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scaling between Au+Au and Cu+Cu at same sqrt(s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2) dE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dy scaling between 62.4 and 200 GeV in Au+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3) pbar/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is a good indicator of baryon enhan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PC-type TOF counte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O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~100ps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stalled behind the Aerogel for high-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P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upgrade. Run-7 has just started for 20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u+Au. Higher-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physics can be rea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867280" y="4114800"/>
            <a:ext cx="3124440" cy="23432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91960" y="4267080"/>
            <a:ext cx="15354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n-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914400"/>
            <a:ext cx="761976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AE7-6502-419A-AA1D-9E385C1CBB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64640" y="5105520"/>
            <a:ext cx="221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06F-0E9C-45CE-92DE-6CF1CC5298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471840" y="3809880"/>
            <a:ext cx="3843360" cy="30481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3000" y="152280"/>
            <a:ext cx="35211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stical Model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1080" y="838080"/>
            <a:ext cx="77058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ing chemical freeze-out properties with statistical model 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tting particle ratios of dN/dy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K/p) at y~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ing chemical equilibrium of light quarks (u,d,s)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 feed-down correction taken into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6200" y="3063960"/>
            <a:ext cx="79452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relatively 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not determined with this set of ratio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K/p)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ngeness info is sh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48520" y="2301840"/>
            <a:ext cx="26146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. Rev. C71 054901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-th/0405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A698(2002)306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371600" y="2149560"/>
          <a:ext cx="4038480" cy="84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149560"/>
                    <a:ext cx="40384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7010280" y="5257800"/>
            <a:ext cx="2057400" cy="11462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7238880" y="4267080"/>
            <a:ext cx="1524240" cy="99216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0" y="3809880"/>
            <a:ext cx="3886200" cy="3048120"/>
            <a:chOff x="0" y="3809880"/>
            <a:chExt cx="3886200" cy="3048120"/>
          </a:xfrm>
        </p:grpSpPr>
        <p:pic>
          <p:nvPicPr>
            <p:cNvPr id="213" name="" descr=""/>
            <p:cNvPicPr/>
            <p:nvPr/>
          </p:nvPicPr>
          <p:blipFill>
            <a:blip r:embed="rId6"/>
            <a:stretch/>
          </p:blipFill>
          <p:spPr>
            <a:xfrm>
              <a:off x="0" y="3809880"/>
              <a:ext cx="388620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466280" y="5715000"/>
              <a:ext cx="190656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35760" y="5927760"/>
              <a:ext cx="1956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√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Arial"/>
                </a:rPr>
                <a:t>NN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 = 200 G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837320" y="5943600"/>
            <a:ext cx="2026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62.4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C4D-2C5D-4F58-894D-9ABB7FE969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2280" y="1044720"/>
            <a:ext cx="4572000" cy="3663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495680" y="1050840"/>
            <a:ext cx="4419720" cy="3733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675120" y="2436840"/>
            <a:ext cx="1997280" cy="673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fre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155 +/- 7 M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54484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019560" y="2665440"/>
            <a:ext cx="60948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7000" y="152280"/>
            <a:ext cx="5632200" cy="57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stical Model Fit -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s. N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33920" y="5257800"/>
            <a:ext cx="5181120" cy="78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scaling of 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c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between Au+Au and Cu+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Almost same 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c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t √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62.4,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066680" y="1981080"/>
            <a:ext cx="7239240" cy="745560"/>
            <a:chOff x="1066680" y="1981080"/>
            <a:chExt cx="7239240" cy="745560"/>
          </a:xfrm>
        </p:grpSpPr>
        <p:sp>
          <p:nvSpPr>
            <p:cNvPr id="225" name=""/>
            <p:cNvSpPr/>
            <p:nvPr/>
          </p:nvSpPr>
          <p:spPr>
            <a:xfrm>
              <a:off x="1066680" y="1981080"/>
              <a:ext cx="72392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96440" y="2286000"/>
              <a:ext cx="174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1" lang="ja-JP" sz="2000" spc="-1" strike="noStrike" baseline="-25000">
                  <a:solidFill>
                    <a:srgbClr val="ff0000"/>
                  </a:solidFill>
                  <a:latin typeface="Arial"/>
                </a:rPr>
                <a:t>ch</a:t>
              </a:r>
              <a:r>
                <a:rPr b="1" lang="ja-JP" sz="2000" spc="-1" strike="noStrike">
                  <a:solidFill>
                    <a:srgbClr val="ff0000"/>
                  </a:solidFill>
                  <a:latin typeface="Arial"/>
                </a:rPr>
                <a:t> ~160 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D4B-5AAA-4316-9235-CC02FEB0EB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9960" y="166680"/>
            <a:ext cx="864972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ron production in heavy ion collisions at R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29200" y="1333440"/>
            <a:ext cx="3900600" cy="2933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91320" y="434340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pace-time evolu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f a heavy ion coll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0840" y="914400"/>
            <a:ext cx="453492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adron production mechanis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mal e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k recomb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 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k properties of the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m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ve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ze-out (Chemical, Kine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henomena in the me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 quenching(Energy lo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correlation of j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2680" y="2987640"/>
            <a:ext cx="7232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2680" y="4359240"/>
            <a:ext cx="8406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305560" cy="109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Single particle spectr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particle ratio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provide the most basic observables        to investigate the  mechanisms of hadron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Particle Identifi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PID) over wide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ange is also cru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A7F-93D1-4ABE-BCFB-D1B10EA0C5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762120"/>
            <a:ext cx="6162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yon/meson difference at intermediat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~5 GeV/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aryon enhancement in particle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plitting of v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strength into baryon/meso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ow explained in quark recombination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 transition from soft to hard production at intermediat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4080" y="2352600"/>
            <a:ext cx="4572000" cy="2143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7400" y="2306520"/>
            <a:ext cx="532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364840" y="2306520"/>
            <a:ext cx="532440" cy="398880"/>
            <a:chOff x="2364840" y="2306520"/>
            <a:chExt cx="532440" cy="398880"/>
          </a:xfrm>
        </p:grpSpPr>
        <p:sp>
          <p:nvSpPr>
            <p:cNvPr id="59" name=""/>
            <p:cNvSpPr/>
            <p:nvPr/>
          </p:nvSpPr>
          <p:spPr>
            <a:xfrm>
              <a:off x="2364840" y="2306520"/>
              <a:ext cx="532440" cy="398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/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36840" y="23364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2"/>
          <a:srcRect l="0" t="7205" r="0" b="0"/>
          <a:stretch/>
        </p:blipFill>
        <p:spPr>
          <a:xfrm>
            <a:off x="152280" y="4419720"/>
            <a:ext cx="4572000" cy="2438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98040" y="46022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-ex/06080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5715000"/>
            <a:ext cx="176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PHENIX prelimina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62680" y="152280"/>
            <a:ext cx="6445800" cy="57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ron production at intermediate 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45040" y="4952880"/>
            <a:ext cx="38638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atic scan over different colli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lliding species, beam energ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available data obtained at PHEN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45040" y="3333600"/>
            <a:ext cx="3942000" cy="109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 contribution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ron production mechanism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oft/ha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ing properties of identified hadr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pectra in different collision 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20840" y="2971800"/>
            <a:ext cx="1328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236232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2040" y="243828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hat is the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8720" y="5864400"/>
            <a:ext cx="3440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Au+Au, Cu+Cu at √s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= 62.4, 200 Ge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760" y="5241960"/>
            <a:ext cx="391320" cy="440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7600" y="6583320"/>
            <a:ext cx="726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=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44956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B2C-F69A-4900-8FB5-736EB9EABE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4191120"/>
            <a:ext cx="3048120" cy="2363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95680" y="930240"/>
            <a:ext cx="4267440" cy="2895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21120" y="3154320"/>
            <a:ext cx="3082320" cy="42912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erogel Cherenkov (P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073240"/>
            <a:ext cx="457200" cy="762120"/>
          </a:xfrm>
          <a:prstGeom prst="ellipse">
            <a:avLst/>
          </a:prstGeom>
          <a:noFill/>
          <a:ln w="442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267080" y="2590560"/>
            <a:ext cx="838440" cy="68580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9440" y="457200"/>
            <a:ext cx="2707560" cy="42912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 Calorimeter (P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003160" y="762120"/>
            <a:ext cx="886320" cy="76428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P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257440" y="838080"/>
            <a:ext cx="152280" cy="68580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924320" y="1463760"/>
            <a:ext cx="304920" cy="106668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33000" y="3902040"/>
            <a:ext cx="2419560" cy="76428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ift Cha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momentum meas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6095520" y="2758680"/>
            <a:ext cx="1219320" cy="114300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74360" y="5029200"/>
            <a:ext cx="2266920" cy="76428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cking det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C1,PC2,PC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5714640" y="3520800"/>
            <a:ext cx="762120" cy="150804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3341400">
            <a:off x="5599800" y="279720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2680" y="990720"/>
            <a:ext cx="383184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entral Arm Det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ity and Reaction Pl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d on an E-by-E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D (particle identification)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werful tool to study had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048120" y="4343400"/>
            <a:ext cx="3047760" cy="234468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738720" y="3778200"/>
            <a:ext cx="2152800" cy="565920"/>
            <a:chOff x="738720" y="3778200"/>
            <a:chExt cx="2152800" cy="565920"/>
          </a:xfrm>
        </p:grpSpPr>
        <p:sp>
          <p:nvSpPr>
            <p:cNvPr id="91" name=""/>
            <p:cNvSpPr/>
            <p:nvPr/>
          </p:nvSpPr>
          <p:spPr>
            <a:xfrm>
              <a:off x="738720" y="4006800"/>
              <a:ext cx="2152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p (p) ID up to 7 GeV/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64440" y="3778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356640" y="3778200"/>
            <a:ext cx="2152800" cy="565920"/>
            <a:chOff x="3356640" y="3778200"/>
            <a:chExt cx="2152800" cy="565920"/>
          </a:xfrm>
        </p:grpSpPr>
        <p:sp>
          <p:nvSpPr>
            <p:cNvPr id="94" name=""/>
            <p:cNvSpPr/>
            <p:nvPr/>
          </p:nvSpPr>
          <p:spPr>
            <a:xfrm>
              <a:off x="3356640" y="4006800"/>
              <a:ext cx="2152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p (p) ID up to 4 GeV/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82720" y="3778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93480" y="367200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ime of Flight (T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512040"/>
            <a:ext cx="17524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eto for proton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49560" y="5821200"/>
            <a:ext cx="41220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30840" y="4587840"/>
            <a:ext cx="47340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65000" y="4359240"/>
            <a:ext cx="32076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3657600"/>
            <a:ext cx="29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erogel Cherenkov (A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1840" y="228600"/>
            <a:ext cx="304272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ENIX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04C-1CE5-4ADA-9A2D-2F38FF476E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2712960"/>
            <a:ext cx="4952880" cy="3382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4080" y="152280"/>
            <a:ext cx="369828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ast-wave Model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560" y="685800"/>
            <a:ext cx="72702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last-wave model is a hydrodynamic-inspired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xtracting kinetic freeze-out properties with BW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taneous fit to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ectra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K/p) for each centrality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685800"/>
            <a:ext cx="2514600" cy="17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Ref: PRC48(1993)24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456160" y="1752480"/>
            <a:ext cx="300204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30680" y="6019920"/>
            <a:ext cx="5731200" cy="76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* Resonance decay feed-down correction not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ead, tighte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itting range us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 0.6-1.2 GeV/c K; 0.4-1.4 GeV/c, p/pbar; 0.6-1.7 GeV/c)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61760" y="6095880"/>
            <a:ext cx="37224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tra for heavier part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a convex shape due t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adial fl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85800" y="1828800"/>
            <a:ext cx="4647960" cy="1066680"/>
            <a:chOff x="685800" y="1828800"/>
            <a:chExt cx="4647960" cy="106668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1523880" y="2514600"/>
                  <a:ext cx="11145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h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2971800" y="2590920"/>
                  <a:ext cx="10983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761760" y="1857240"/>
                  <a:ext cx="4496040" cy="69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n</m:t>
                          </m:r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den>
                      </m:f>
                      <m:r>
                        <m:t xml:space="preserve">∝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R</m:t>
                          </m:r>
                        </m:sup>
                        <m:e>
                          <m:r>
                            <m:t xml:space="preserve">r</m:t>
                          </m:r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h</m:t>
                                  </m:r>
                                  <m:r>
                                    <m:t xml:space="preserve">ρ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d>
                        </m:e>
                      </m:nary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h</m:t>
                              </m:r>
                              <m:r>
                                <m:t xml:space="preserve">ρ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"/>
            <p:cNvSpPr/>
            <p:nvPr/>
          </p:nvSpPr>
          <p:spPr>
            <a:xfrm>
              <a:off x="685800" y="1828800"/>
              <a:ext cx="4647960" cy="1066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177600" y="2057400"/>
            <a:ext cx="9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467480" y="518112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4571640" y="525780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CD0-EBB6-4D17-B966-298BB2A82B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496040" cy="380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464796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934280" y="5257800"/>
            <a:ext cx="5133960" cy="77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scaling of T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between Au+Au and Cu+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Almost same 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t √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62.4,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4480" y="152280"/>
            <a:ext cx="5763240" cy="57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ast-wave Model Fit -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f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s. N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2743200"/>
            <a:ext cx="72388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95400" y="2819520"/>
            <a:ext cx="1712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Arial"/>
              </a:rPr>
              <a:t>fo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~120 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C59D-15A5-49CB-B8E4-64D3BBFEA7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343400" y="1143000"/>
            <a:ext cx="4724280" cy="3809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98360" y="168120"/>
            <a:ext cx="6087960" cy="57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ast-wave Model Fit - &lt;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 vs. N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2819520"/>
            <a:ext cx="72392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29600" y="5268960"/>
            <a:ext cx="5397480" cy="78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scaling of &lt;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between Au+Au and Cu+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Almost same &lt;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gt; at √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62.4,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10520" y="2297160"/>
            <a:ext cx="128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gt; ~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719-DA44-426B-8FA0-6B8D9505EB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2360" y="5356080"/>
            <a:ext cx="3318480" cy="61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&lt;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K&lt;p (mass depend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nsistent with radial flow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9080" y="152280"/>
            <a:ext cx="2274840" cy="57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 vs. N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76800" y="5356080"/>
            <a:ext cx="4293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 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scaling of &lt;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between Au+Au and Cu+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 Almost same &lt;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&gt; at √s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= 62.4, 200 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6320" y="914400"/>
            <a:ext cx="8991360" cy="4114800"/>
            <a:chOff x="76320" y="914400"/>
            <a:chExt cx="8991360" cy="411480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76320" y="914400"/>
              <a:ext cx="472428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4572000" y="914400"/>
              <a:ext cx="449568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330360" y="167652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ff"/>
                  </a:solidFill>
                  <a:latin typeface="Arial"/>
                </a:rPr>
                <a:t>p(pba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1504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50680" y="32767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62720" y="1523880"/>
              <a:ext cx="20574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1523880"/>
              <a:ext cx="21337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36160" y="1447920"/>
              <a:ext cx="1956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√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Arial"/>
                </a:rPr>
                <a:t>NN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 = 200 G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56600" y="1447920"/>
              <a:ext cx="2026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√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Arial"/>
                </a:rPr>
                <a:t>NN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 = 62.4 G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010280" y="73080"/>
            <a:ext cx="2057400" cy="1146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486400" y="204840"/>
            <a:ext cx="1523880" cy="992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458200" y="25909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25909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6D1-9707-48B5-B2CC-D3F8DB6238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320" y="1901880"/>
            <a:ext cx="9067680" cy="2822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3520" y="17524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752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4320" y="1523880"/>
            <a:ext cx="2442240" cy="3988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ydro p)/(hydro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447560" y="1752480"/>
            <a:ext cx="23619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9160" y="1554120"/>
            <a:ext cx="2187720" cy="3988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ydro p)/(rea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92760" y="1371600"/>
            <a:ext cx="24544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No weak decay feed-dow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4648320"/>
            <a:ext cx="9144000" cy="382320"/>
            <a:chOff x="0" y="4648320"/>
            <a:chExt cx="9144000" cy="382320"/>
          </a:xfrm>
        </p:grpSpPr>
        <p:sp>
          <p:nvSpPr>
            <p:cNvPr id="155" name=""/>
            <p:cNvSpPr/>
            <p:nvPr/>
          </p:nvSpPr>
          <p:spPr>
            <a:xfrm>
              <a:off x="0" y="4648320"/>
              <a:ext cx="9144000" cy="380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133720" y="4876920"/>
              <a:ext cx="487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40960" y="466236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71080" y="466236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iph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3640" y="5232240"/>
            <a:ext cx="80186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ydrodynamic con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protons is 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explanations of baryon enha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ther con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lso needed: Recombination, Jet 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5360" y="806400"/>
            <a:ext cx="49935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polate low-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ast-wave fit resul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termediat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order to estimate p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4880" y="168120"/>
            <a:ext cx="6112080" cy="57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imation of p/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t intermediate 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BC3-F20C-4385-A486-CCBBDB04B6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34:25Z</dcterms:created>
  <dc:creator>M. Konno</dc:creator>
  <dc:description/>
  <dc:language>en-US</dc:language>
  <cp:lastModifiedBy>M. Konno</cp:lastModifiedBy>
  <cp:lastPrinted>2007-03-25T03:45:47Z</cp:lastPrinted>
  <dcterms:modified xsi:type="dcterms:W3CDTF">2007-03-25T20:53:58Z</dcterms:modified>
  <cp:revision>313</cp:revision>
  <dc:subject/>
  <dc:title>PowerPoint プレゼンテーション</dc:title>
</cp:coreProperties>
</file>