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3CB-A234-47DF-83DA-9B2FF50E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0DD-3758-4CC7-BF2D-9632310E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9AA-8D60-4B98-A9A3-8CD538F9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9DB-A4F6-4089-9A29-0D2AE135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A3A-664E-4752-AA19-34F6E7B3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810-7882-441E-B79F-87B89137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8E1-9F2E-4B64-AEB8-173E2B7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DF0-44E4-4BEB-85C5-E4645B61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908-AB7A-42FC-84C2-102EE81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C61-0509-4295-B5C6-340BF0C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DD3-2F6E-4184-9E19-3377D6D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7CB-A909-465C-8187-846DE162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9E4E-F9CD-4FBA-9403-6839D0D7A2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28800" y="1905120"/>
            <a:ext cx="3682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マッハ錐についてのコメ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「ジェットの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」　と　「ジェット分布の変化」　は区別できるのか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筑波大、物理、江角晋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pdep_jet_dm20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191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451880" y="714240"/>
            <a:ext cx="45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T 200GeV Au+Au → charged hadrons (|y|&lt;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67720" y="60948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7-1.7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7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37840" y="1143000"/>
            <a:ext cx="17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rigger at in-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rigger at out-of-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3960" y="205740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12 fm 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51000" y="205740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8~12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35120" y="2057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4~8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92520" y="2057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0~4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2120" y="5654520"/>
            <a:ext cx="17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-1235160" y="3368520"/>
            <a:ext cx="306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62120" y="3276720"/>
            <a:ext cx="1218960" cy="1218960"/>
            <a:chOff x="762120" y="3276720"/>
            <a:chExt cx="1218960" cy="1218960"/>
          </a:xfrm>
        </p:grpSpPr>
        <p:sp>
          <p:nvSpPr>
            <p:cNvPr id="218" name=""/>
            <p:cNvSpPr/>
            <p:nvPr/>
          </p:nvSpPr>
          <p:spPr>
            <a:xfrm>
              <a:off x="1143000" y="3428640"/>
              <a:ext cx="45684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3885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71600" y="32767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914400" y="3428280"/>
              <a:ext cx="91404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4400" y="3428640"/>
              <a:ext cx="91404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3809880"/>
              <a:ext cx="228240" cy="151920"/>
            </a:xfrm>
            <a:prstGeom prst="rightArrow">
              <a:avLst>
                <a:gd name="adj1" fmla="val 50000"/>
                <a:gd name="adj2" fmla="val 375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0800000">
              <a:off x="990360" y="3809880"/>
              <a:ext cx="228240" cy="151920"/>
            </a:xfrm>
            <a:prstGeom prst="rightArrow">
              <a:avLst>
                <a:gd name="adj1" fmla="val 50000"/>
                <a:gd name="adj2" fmla="val 375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1257120" y="4228920"/>
              <a:ext cx="228240" cy="151920"/>
            </a:xfrm>
            <a:prstGeom prst="rightArrow">
              <a:avLst>
                <a:gd name="adj1" fmla="val 50000"/>
                <a:gd name="adj2" fmla="val 3755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1257120" y="3390840"/>
              <a:ext cx="228240" cy="151920"/>
            </a:xfrm>
            <a:prstGeom prst="rightArrow">
              <a:avLst>
                <a:gd name="adj1" fmla="val 50000"/>
                <a:gd name="adj2" fmla="val 3755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25780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674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4380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2438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09480" y="2286000"/>
            <a:ext cx="1219320" cy="243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80880" y="2405160"/>
            <a:ext cx="2209680" cy="1937880"/>
            <a:chOff x="380880" y="2405160"/>
            <a:chExt cx="2209680" cy="1937880"/>
          </a:xfrm>
        </p:grpSpPr>
        <p:sp>
          <p:nvSpPr>
            <p:cNvPr id="237" name=""/>
            <p:cNvSpPr/>
            <p:nvPr/>
          </p:nvSpPr>
          <p:spPr>
            <a:xfrm flipV="1">
              <a:off x="1676160" y="2405160"/>
              <a:ext cx="838440" cy="11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61760" y="3547800"/>
              <a:ext cx="914400" cy="609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719000" y="2937960"/>
              <a:ext cx="22860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676160" y="3242880"/>
              <a:ext cx="457200" cy="30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023920" y="2557440"/>
              <a:ext cx="228600" cy="532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966680" y="2862000"/>
              <a:ext cx="45720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238120" y="2557440"/>
              <a:ext cx="352440" cy="275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09480" y="3547440"/>
              <a:ext cx="990720" cy="759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80880" y="3776400"/>
              <a:ext cx="990720" cy="3045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19000" y="3886200"/>
              <a:ext cx="380880" cy="4568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37720" y="37288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761880" y="3124080"/>
            <a:ext cx="1776600" cy="510120"/>
            <a:chOff x="6761880" y="3124080"/>
            <a:chExt cx="1776600" cy="510120"/>
          </a:xfrm>
        </p:grpSpPr>
        <p:sp>
          <p:nvSpPr>
            <p:cNvPr id="249" name=""/>
            <p:cNvSpPr/>
            <p:nvPr/>
          </p:nvSpPr>
          <p:spPr>
            <a:xfrm>
              <a:off x="6761880" y="3124080"/>
              <a:ext cx="177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therm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=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j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34320" y="32065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911320" y="304812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11320" y="3246480"/>
            <a:ext cx="1376640" cy="318960"/>
          </a:xfrm>
          <a:custGeom>
            <a:avLst/>
            <a:gdLst/>
            <a:ahLst/>
            <a:rect l="l" t="t" r="r" b="b"/>
            <a:pathLst>
              <a:path w="867" h="201">
                <a:moveTo>
                  <a:pt x="0" y="19"/>
                </a:moveTo>
                <a:cubicBezTo>
                  <a:pt x="23" y="25"/>
                  <a:pt x="95" y="35"/>
                  <a:pt x="140" y="57"/>
                </a:cubicBezTo>
                <a:cubicBezTo>
                  <a:pt x="185" y="79"/>
                  <a:pt x="218" y="127"/>
                  <a:pt x="272" y="151"/>
                </a:cubicBezTo>
                <a:cubicBezTo>
                  <a:pt x="326" y="175"/>
                  <a:pt x="405" y="201"/>
                  <a:pt x="461" y="198"/>
                </a:cubicBezTo>
                <a:cubicBezTo>
                  <a:pt x="517" y="195"/>
                  <a:pt x="561" y="159"/>
                  <a:pt x="609" y="132"/>
                </a:cubicBezTo>
                <a:cubicBezTo>
                  <a:pt x="657" y="105"/>
                  <a:pt x="708" y="60"/>
                  <a:pt x="751" y="38"/>
                </a:cubicBezTo>
                <a:cubicBezTo>
                  <a:pt x="794" y="16"/>
                  <a:pt x="843" y="8"/>
                  <a:pt x="8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jet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362320" cy="1644840"/>
          </a:xfrm>
          <a:prstGeom prst="rect">
            <a:avLst/>
          </a:prstGeom>
          <a:ln w="0">
            <a:noFill/>
          </a:ln>
        </p:spPr>
      </p:pic>
      <p:pic>
        <p:nvPicPr>
          <p:cNvPr id="254" name="modi" descr=""/>
          <p:cNvPicPr/>
          <p:nvPr/>
        </p:nvPicPr>
        <p:blipFill>
          <a:blip r:embed="rId2"/>
          <a:stretch/>
        </p:blipFill>
        <p:spPr>
          <a:xfrm>
            <a:off x="2590920" y="152280"/>
            <a:ext cx="2438280" cy="1936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909880" y="3124080"/>
            <a:ext cx="1376280" cy="443160"/>
          </a:xfrm>
          <a:custGeom>
            <a:avLst/>
            <a:gdLst/>
            <a:ahLst/>
            <a:rect l="l" t="t" r="r" b="b"/>
            <a:pathLst>
              <a:path w="867" h="201">
                <a:moveTo>
                  <a:pt x="0" y="19"/>
                </a:moveTo>
                <a:cubicBezTo>
                  <a:pt x="23" y="25"/>
                  <a:pt x="95" y="35"/>
                  <a:pt x="140" y="57"/>
                </a:cubicBezTo>
                <a:cubicBezTo>
                  <a:pt x="185" y="79"/>
                  <a:pt x="218" y="127"/>
                  <a:pt x="272" y="151"/>
                </a:cubicBezTo>
                <a:cubicBezTo>
                  <a:pt x="326" y="175"/>
                  <a:pt x="405" y="201"/>
                  <a:pt x="461" y="198"/>
                </a:cubicBezTo>
                <a:cubicBezTo>
                  <a:pt x="517" y="195"/>
                  <a:pt x="561" y="159"/>
                  <a:pt x="609" y="132"/>
                </a:cubicBezTo>
                <a:cubicBezTo>
                  <a:pt x="657" y="105"/>
                  <a:pt x="708" y="60"/>
                  <a:pt x="751" y="38"/>
                </a:cubicBezTo>
                <a:cubicBezTo>
                  <a:pt x="794" y="16"/>
                  <a:pt x="843" y="8"/>
                  <a:pt x="867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4462560"/>
            <a:ext cx="2209680" cy="1937880"/>
            <a:chOff x="380880" y="4462560"/>
            <a:chExt cx="2209680" cy="1937880"/>
          </a:xfrm>
        </p:grpSpPr>
        <p:sp>
          <p:nvSpPr>
            <p:cNvPr id="257" name=""/>
            <p:cNvSpPr/>
            <p:nvPr/>
          </p:nvSpPr>
          <p:spPr>
            <a:xfrm flipV="1">
              <a:off x="1676160" y="4462560"/>
              <a:ext cx="838440" cy="11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61760" y="5605200"/>
              <a:ext cx="914400" cy="609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719000" y="4995360"/>
              <a:ext cx="22860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676160" y="5300280"/>
              <a:ext cx="457200" cy="30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023920" y="4614840"/>
              <a:ext cx="228600" cy="532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966680" y="4919400"/>
              <a:ext cx="45720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238120" y="4614840"/>
              <a:ext cx="352440" cy="275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609480" y="5604840"/>
              <a:ext cx="990720" cy="759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80880" y="5833800"/>
              <a:ext cx="990720" cy="3045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19000" y="5943600"/>
              <a:ext cx="380880" cy="4568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37720" y="57862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0384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21080" y="2514600"/>
            <a:ext cx="20764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inclusiv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er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r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7280" y="495288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19240" y="5278320"/>
            <a:ext cx="1333800" cy="936720"/>
          </a:xfrm>
          <a:custGeom>
            <a:avLst/>
            <a:gdLst/>
            <a:ahLst/>
            <a:rect l="l" t="t" r="r" b="b"/>
            <a:pathLst>
              <a:path w="840" h="590">
                <a:moveTo>
                  <a:pt x="0" y="0"/>
                </a:moveTo>
                <a:cubicBezTo>
                  <a:pt x="17" y="25"/>
                  <a:pt x="71" y="82"/>
                  <a:pt x="104" y="151"/>
                </a:cubicBezTo>
                <a:cubicBezTo>
                  <a:pt x="137" y="220"/>
                  <a:pt x="156" y="343"/>
                  <a:pt x="198" y="415"/>
                </a:cubicBezTo>
                <a:cubicBezTo>
                  <a:pt x="240" y="487"/>
                  <a:pt x="302" y="580"/>
                  <a:pt x="359" y="585"/>
                </a:cubicBezTo>
                <a:cubicBezTo>
                  <a:pt x="416" y="590"/>
                  <a:pt x="488" y="500"/>
                  <a:pt x="538" y="443"/>
                </a:cubicBezTo>
                <a:cubicBezTo>
                  <a:pt x="588" y="386"/>
                  <a:pt x="611" y="290"/>
                  <a:pt x="661" y="245"/>
                </a:cubicBezTo>
                <a:cubicBezTo>
                  <a:pt x="711" y="200"/>
                  <a:pt x="803" y="186"/>
                  <a:pt x="840" y="17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5800" y="40068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24280" y="5272200"/>
            <a:ext cx="1298520" cy="931680"/>
          </a:xfrm>
          <a:custGeom>
            <a:avLst/>
            <a:gdLst/>
            <a:ahLst/>
            <a:rect l="l" t="t" r="r" b="b"/>
            <a:pathLst>
              <a:path w="818" h="587">
                <a:moveTo>
                  <a:pt x="0" y="0"/>
                </a:moveTo>
                <a:cubicBezTo>
                  <a:pt x="17" y="25"/>
                  <a:pt x="71" y="82"/>
                  <a:pt x="104" y="151"/>
                </a:cubicBezTo>
                <a:cubicBezTo>
                  <a:pt x="137" y="220"/>
                  <a:pt x="156" y="343"/>
                  <a:pt x="198" y="415"/>
                </a:cubicBezTo>
                <a:cubicBezTo>
                  <a:pt x="240" y="487"/>
                  <a:pt x="308" y="587"/>
                  <a:pt x="359" y="585"/>
                </a:cubicBezTo>
                <a:cubicBezTo>
                  <a:pt x="410" y="583"/>
                  <a:pt x="460" y="462"/>
                  <a:pt x="507" y="400"/>
                </a:cubicBezTo>
                <a:cubicBezTo>
                  <a:pt x="554" y="338"/>
                  <a:pt x="587" y="231"/>
                  <a:pt x="639" y="211"/>
                </a:cubicBezTo>
                <a:cubicBezTo>
                  <a:pt x="691" y="191"/>
                  <a:pt x="781" y="263"/>
                  <a:pt x="818" y="277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4038480"/>
            <a:ext cx="320040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imes New Roman"/>
                <a:ea typeface=""/>
              </a:rPr>
              <a:t>Jet-matter interactio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should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modify the jet shape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depending on the orientation with respect to the ellipse ax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The suppression caused by the interaction gives high p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 v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the modification would change the low-mid p</a:t>
            </a:r>
            <a:r>
              <a:rPr b="1" lang="ja-JP" sz="18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 v</a:t>
            </a:r>
            <a:r>
              <a:rPr b="1" lang="ja-JP" sz="1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3324240"/>
            <a:ext cx="1371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09520" y="2590920"/>
            <a:ext cx="131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pai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4320" y="457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答え：区別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73840" y="167652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3840" y="1874880"/>
            <a:ext cx="1376280" cy="318960"/>
          </a:xfrm>
          <a:custGeom>
            <a:avLst/>
            <a:gdLst/>
            <a:ahLst/>
            <a:rect l="l" t="t" r="r" b="b"/>
            <a:pathLst>
              <a:path w="867" h="201">
                <a:moveTo>
                  <a:pt x="0" y="19"/>
                </a:moveTo>
                <a:cubicBezTo>
                  <a:pt x="23" y="25"/>
                  <a:pt x="95" y="35"/>
                  <a:pt x="140" y="57"/>
                </a:cubicBezTo>
                <a:cubicBezTo>
                  <a:pt x="185" y="79"/>
                  <a:pt x="218" y="127"/>
                  <a:pt x="272" y="151"/>
                </a:cubicBezTo>
                <a:cubicBezTo>
                  <a:pt x="326" y="175"/>
                  <a:pt x="405" y="201"/>
                  <a:pt x="461" y="198"/>
                </a:cubicBezTo>
                <a:cubicBezTo>
                  <a:pt x="517" y="195"/>
                  <a:pt x="561" y="159"/>
                  <a:pt x="609" y="132"/>
                </a:cubicBezTo>
                <a:cubicBezTo>
                  <a:pt x="657" y="105"/>
                  <a:pt x="708" y="60"/>
                  <a:pt x="751" y="38"/>
                </a:cubicBezTo>
                <a:cubicBezTo>
                  <a:pt x="794" y="16"/>
                  <a:pt x="843" y="8"/>
                  <a:pt x="8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77080" y="2833560"/>
            <a:ext cx="1376280" cy="138240"/>
          </a:xfrm>
          <a:custGeom>
            <a:avLst/>
            <a:gdLst/>
            <a:ahLst/>
            <a:rect l="l" t="t" r="r" b="b"/>
            <a:pathLst>
              <a:path w="867" h="201">
                <a:moveTo>
                  <a:pt x="0" y="19"/>
                </a:moveTo>
                <a:cubicBezTo>
                  <a:pt x="23" y="25"/>
                  <a:pt x="95" y="35"/>
                  <a:pt x="140" y="57"/>
                </a:cubicBezTo>
                <a:cubicBezTo>
                  <a:pt x="185" y="79"/>
                  <a:pt x="218" y="127"/>
                  <a:pt x="272" y="151"/>
                </a:cubicBezTo>
                <a:cubicBezTo>
                  <a:pt x="326" y="175"/>
                  <a:pt x="405" y="201"/>
                  <a:pt x="461" y="198"/>
                </a:cubicBezTo>
                <a:cubicBezTo>
                  <a:pt x="517" y="195"/>
                  <a:pt x="561" y="159"/>
                  <a:pt x="609" y="132"/>
                </a:cubicBezTo>
                <a:cubicBezTo>
                  <a:pt x="657" y="105"/>
                  <a:pt x="708" y="60"/>
                  <a:pt x="751" y="38"/>
                </a:cubicBezTo>
                <a:cubicBezTo>
                  <a:pt x="794" y="16"/>
                  <a:pt x="843" y="8"/>
                  <a:pt x="867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59320" y="172080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77800" y="1219320"/>
            <a:ext cx="12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86120" y="26352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6880" y="5335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-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8600" y="2363760"/>
            <a:ext cx="4495680" cy="319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4145040" cy="4217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60880" y="12952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nucl-ex/0611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0440" y="202572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PRL 97 052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tdep_yield" descr=""/>
          <p:cNvPicPr/>
          <p:nvPr/>
        </p:nvPicPr>
        <p:blipFill>
          <a:blip r:embed="rId1"/>
          <a:stretch/>
        </p:blipFill>
        <p:spPr>
          <a:xfrm>
            <a:off x="2766960" y="609480"/>
            <a:ext cx="5843520" cy="5607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rot="16200000">
            <a:off x="998280" y="2972160"/>
            <a:ext cx="30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1760" y="228600"/>
            <a:ext cx="54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T 200GeV Au+Au (b=0-4fm) → charged hadrons (|y|&lt;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05080" y="6080040"/>
            <a:ext cx="17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18360" y="99072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5-1.5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5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90160" y="99072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7-1.7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7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58840" y="3809880"/>
            <a:ext cx="13802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1-2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2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20400" y="3809880"/>
            <a:ext cx="1514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1-2.5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2.5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tdep_corr" descr=""/>
          <p:cNvPicPr/>
          <p:nvPr/>
        </p:nvPicPr>
        <p:blipFill>
          <a:blip r:embed="rId1"/>
          <a:stretch/>
        </p:blipFill>
        <p:spPr>
          <a:xfrm>
            <a:off x="2743200" y="619200"/>
            <a:ext cx="5867280" cy="56293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 rot="16200000">
            <a:off x="30240" y="3170880"/>
            <a:ext cx="479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(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pai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) - flow(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05080" y="6080040"/>
            <a:ext cx="17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1760" y="228600"/>
            <a:ext cx="54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T 200GeV Au+Au (b=0-4fm) → charged hadrons (|y|&lt;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18360" y="99072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5-1.5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5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90160" y="99072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7-1.7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7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58840" y="3809880"/>
            <a:ext cx="13802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1-2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2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20400" y="3809880"/>
            <a:ext cx="1514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1-2.5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2.5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cross_section" descr=""/>
          <p:cNvPicPr/>
          <p:nvPr/>
        </p:nvPicPr>
        <p:blipFill>
          <a:blip r:embed="rId1"/>
          <a:stretch/>
        </p:blipFill>
        <p:spPr>
          <a:xfrm>
            <a:off x="1165320" y="1303200"/>
            <a:ext cx="6811920" cy="42516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9840" y="958680"/>
            <a:ext cx="54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T 200GeV Au+Au (b=0-4fm) → charged hadrons (|y|&lt;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-412920" y="3063600"/>
            <a:ext cx="306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87720" y="5410080"/>
            <a:ext cx="17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71320" y="1905120"/>
            <a:ext cx="166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AMPT 3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efault AMPT 10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09240" y="1905120"/>
            <a:ext cx="165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-melting 3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tring-melting 10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91520" y="77796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7-1.7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7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melting_option" descr=""/>
          <p:cNvPicPr/>
          <p:nvPr/>
        </p:nvPicPr>
        <p:blipFill>
          <a:blip r:embed="rId1"/>
          <a:stretch/>
        </p:blipFill>
        <p:spPr>
          <a:xfrm>
            <a:off x="1165320" y="1303200"/>
            <a:ext cx="6811920" cy="4251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451880" y="714240"/>
            <a:ext cx="45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T 200GeV Au+Au → charged hadrons (|y|&lt;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-412920" y="3063600"/>
            <a:ext cx="306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37840" y="1143000"/>
            <a:ext cx="165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-melting 3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tring-melting 10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87720" y="5410080"/>
            <a:ext cx="17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98800" y="18730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(b=0-4f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06760" y="1873080"/>
            <a:ext cx="20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ipheral (b=8-12f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67720" y="60948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7-1.7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7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pdep_jet_d3" descr=""/>
          <p:cNvPicPr/>
          <p:nvPr/>
        </p:nvPicPr>
        <p:blipFill>
          <a:blip r:embed="rId1"/>
          <a:stretch/>
        </p:blipFill>
        <p:spPr>
          <a:xfrm>
            <a:off x="0" y="3322800"/>
            <a:ext cx="9097920" cy="3001680"/>
          </a:xfrm>
          <a:prstGeom prst="rect">
            <a:avLst/>
          </a:prstGeom>
          <a:ln w="0">
            <a:noFill/>
          </a:ln>
        </p:spPr>
      </p:pic>
      <p:pic>
        <p:nvPicPr>
          <p:cNvPr id="321" name="rpdep_jet_dm20" descr=""/>
          <p:cNvPicPr/>
          <p:nvPr/>
        </p:nvPicPr>
        <p:blipFill>
          <a:blip r:embed="rId2"/>
          <a:stretch/>
        </p:blipFill>
        <p:spPr>
          <a:xfrm>
            <a:off x="0" y="457200"/>
            <a:ext cx="90979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pdep_jet_n3" descr=""/>
          <p:cNvPicPr/>
          <p:nvPr/>
        </p:nvPicPr>
        <p:blipFill>
          <a:blip r:embed="rId1"/>
          <a:stretch/>
        </p:blipFill>
        <p:spPr>
          <a:xfrm>
            <a:off x="0" y="4495680"/>
            <a:ext cx="9097920" cy="2210040"/>
          </a:xfrm>
          <a:prstGeom prst="rect">
            <a:avLst/>
          </a:prstGeom>
          <a:ln w="0">
            <a:noFill/>
          </a:ln>
        </p:spPr>
      </p:pic>
      <p:pic>
        <p:nvPicPr>
          <p:cNvPr id="323" name="rpdep_jet_mn3" descr=""/>
          <p:cNvPicPr/>
          <p:nvPr/>
        </p:nvPicPr>
        <p:blipFill>
          <a:blip r:embed="rId2"/>
          <a:stretch/>
        </p:blipFill>
        <p:spPr>
          <a:xfrm>
            <a:off x="0" y="2286000"/>
            <a:ext cx="9097920" cy="2209680"/>
          </a:xfrm>
          <a:prstGeom prst="rect">
            <a:avLst/>
          </a:prstGeom>
          <a:ln w="0">
            <a:noFill/>
          </a:ln>
        </p:spPr>
      </p:pic>
      <p:pic>
        <p:nvPicPr>
          <p:cNvPr id="324" name="rpdep_jet_mn10" descr=""/>
          <p:cNvPicPr/>
          <p:nvPr/>
        </p:nvPicPr>
        <p:blipFill>
          <a:blip r:embed="rId3"/>
          <a:stretch/>
        </p:blipFill>
        <p:spPr>
          <a:xfrm>
            <a:off x="0" y="76320"/>
            <a:ext cx="9097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038480" y="3429000"/>
            <a:ext cx="5105520" cy="3429000"/>
            <a:chOff x="4038480" y="3429000"/>
            <a:chExt cx="5105520" cy="3429000"/>
          </a:xfrm>
        </p:grpSpPr>
        <p:sp>
          <p:nvSpPr>
            <p:cNvPr id="43" name=""/>
            <p:cNvSpPr/>
            <p:nvPr/>
          </p:nvSpPr>
          <p:spPr>
            <a:xfrm>
              <a:off x="4038480" y="3429000"/>
              <a:ext cx="5105520" cy="3429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jet_supp_star" descr=""/>
            <p:cNvPicPr/>
            <p:nvPr/>
          </p:nvPicPr>
          <p:blipFill>
            <a:blip r:embed="rId1"/>
            <a:stretch/>
          </p:blipFill>
          <p:spPr>
            <a:xfrm>
              <a:off x="4191120" y="3605040"/>
              <a:ext cx="4800600" cy="312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"/>
          <p:cNvGrpSpPr/>
          <p:nvPr/>
        </p:nvGrpSpPr>
        <p:grpSpPr>
          <a:xfrm>
            <a:off x="5257800" y="151920"/>
            <a:ext cx="3162240" cy="2591280"/>
            <a:chOff x="5257800" y="151920"/>
            <a:chExt cx="3162240" cy="2591280"/>
          </a:xfrm>
        </p:grpSpPr>
        <p:sp>
          <p:nvSpPr>
            <p:cNvPr id="46" name=""/>
            <p:cNvSpPr/>
            <p:nvPr/>
          </p:nvSpPr>
          <p:spPr>
            <a:xfrm>
              <a:off x="5486400" y="1295280"/>
              <a:ext cx="2685960" cy="14335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67440" y="1295280"/>
              <a:ext cx="552600" cy="14320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7800" y="1295280"/>
              <a:ext cx="554040" cy="1447920"/>
            </a:xfrm>
            <a:prstGeom prst="ellips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24440" y="457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7181640" y="533520"/>
              <a:ext cx="68580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7181640" y="151920"/>
              <a:ext cx="609840" cy="7621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181640" y="151920"/>
              <a:ext cx="152640" cy="7621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46680" y="2004840"/>
              <a:ext cx="77760" cy="35748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190920" y="1952640"/>
              <a:ext cx="438120" cy="71424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038280" y="1952640"/>
              <a:ext cx="590760" cy="40968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05480" y="148896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089480" y="148896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571800" y="1441440"/>
              <a:ext cx="304920" cy="66348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10440" y="1332000"/>
              <a:ext cx="152280" cy="30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72000" y="1351080"/>
              <a:ext cx="152280" cy="30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800760" y="762120"/>
              <a:ext cx="457200" cy="7617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72160" y="118440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57760" y="11872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15160" y="11872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7688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4376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0" y="0"/>
            <a:ext cx="7086600" cy="3733920"/>
            <a:chOff x="0" y="0"/>
            <a:chExt cx="7086600" cy="3733920"/>
          </a:xfrm>
        </p:grpSpPr>
        <p:sp>
          <p:nvSpPr>
            <p:cNvPr id="68" name=""/>
            <p:cNvSpPr/>
            <p:nvPr/>
          </p:nvSpPr>
          <p:spPr>
            <a:xfrm>
              <a:off x="0" y="0"/>
              <a:ext cx="5105520" cy="3733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152280" y="149400"/>
              <a:ext cx="4800600" cy="34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0" y="1523880"/>
              <a:ext cx="228600" cy="679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52280" y="3933360"/>
            <a:ext cx="3048120" cy="2848320"/>
            <a:chOff x="152280" y="3933360"/>
            <a:chExt cx="3048120" cy="2848320"/>
          </a:xfrm>
        </p:grpSpPr>
        <p:sp>
          <p:nvSpPr>
            <p:cNvPr id="72" name=""/>
            <p:cNvSpPr/>
            <p:nvPr/>
          </p:nvSpPr>
          <p:spPr>
            <a:xfrm>
              <a:off x="1600200" y="4009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828800" y="4184280"/>
              <a:ext cx="914400" cy="733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778040" y="3933360"/>
              <a:ext cx="554040" cy="1035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752480" y="4336920"/>
              <a:ext cx="23760" cy="576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82760" y="6043320"/>
              <a:ext cx="153720" cy="625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40960" y="5991120"/>
              <a:ext cx="523800" cy="7905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09120" y="5991120"/>
              <a:ext cx="755640" cy="5000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8600" y="5505120"/>
              <a:ext cx="1081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812600" y="5505120"/>
              <a:ext cx="1158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294920" y="5457600"/>
              <a:ext cx="304920" cy="762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560" y="5348160"/>
              <a:ext cx="152280" cy="30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120" y="5367240"/>
              <a:ext cx="152280" cy="30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600200" y="4771440"/>
              <a:ext cx="304560" cy="685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5280" y="5200560"/>
              <a:ext cx="541440" cy="626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280" y="5000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3200" y="4968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6320" y="3581280"/>
            <a:ext cx="4419360" cy="3200400"/>
            <a:chOff x="76320" y="3581280"/>
            <a:chExt cx="4419360" cy="3200400"/>
          </a:xfrm>
        </p:grpSpPr>
        <p:sp>
          <p:nvSpPr>
            <p:cNvPr id="89" name=""/>
            <p:cNvSpPr/>
            <p:nvPr/>
          </p:nvSpPr>
          <p:spPr>
            <a:xfrm>
              <a:off x="76320" y="3581280"/>
              <a:ext cx="4419360" cy="3200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601640" y="3657240"/>
              <a:ext cx="2359800" cy="1599840"/>
              <a:chOff x="1601640" y="3657240"/>
              <a:chExt cx="2359800" cy="1599840"/>
            </a:xfrm>
          </p:grpSpPr>
          <p:sp>
            <p:nvSpPr>
              <p:cNvPr id="91" name=""/>
              <p:cNvSpPr/>
              <p:nvPr/>
            </p:nvSpPr>
            <p:spPr>
              <a:xfrm>
                <a:off x="1601640" y="3841200"/>
                <a:ext cx="1412640" cy="141588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75294"/>
                    </a:srgbClr>
                  </a:gs>
                  <a:gs pos="100000">
                    <a:srgbClr val="ffff66">
                      <a:alpha val="83137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2880600">
                <a:off x="2027160" y="3897720"/>
                <a:ext cx="738720" cy="1117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81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484720" y="4149720"/>
                <a:ext cx="235440" cy="30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190600" y="4457160"/>
                <a:ext cx="234720" cy="6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2014200" y="4518360"/>
                <a:ext cx="176040" cy="12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2837880" y="3657240"/>
                <a:ext cx="410760" cy="36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308320" y="4087440"/>
                <a:ext cx="470160" cy="30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837880" y="3780000"/>
                <a:ext cx="117720" cy="183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778480" y="3903120"/>
                <a:ext cx="293760" cy="183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79800" y="3765240"/>
                <a:ext cx="881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Lead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hadr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25360" y="490248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Arial"/>
                  </a:rPr>
                  <a:t>Medi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28600" y="5257440"/>
              <a:ext cx="1447920" cy="1371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990720" y="47998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066680" y="5028480"/>
              <a:ext cx="7632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838080" y="5028840"/>
              <a:ext cx="763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1800" y="5562360"/>
              <a:ext cx="241200" cy="53352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56" y="0"/>
                  </a:moveTo>
                  <a:cubicBezTo>
                    <a:pt x="28" y="36"/>
                    <a:pt x="0" y="72"/>
                    <a:pt x="8" y="96"/>
                  </a:cubicBezTo>
                  <a:cubicBezTo>
                    <a:pt x="16" y="120"/>
                    <a:pt x="88" y="128"/>
                    <a:pt x="104" y="144"/>
                  </a:cubicBezTo>
                  <a:cubicBezTo>
                    <a:pt x="120" y="160"/>
                    <a:pt x="120" y="176"/>
                    <a:pt x="104" y="192"/>
                  </a:cubicBezTo>
                  <a:cubicBezTo>
                    <a:pt x="88" y="208"/>
                    <a:pt x="16" y="224"/>
                    <a:pt x="8" y="240"/>
                  </a:cubicBezTo>
                  <a:cubicBezTo>
                    <a:pt x="0" y="256"/>
                    <a:pt x="32" y="272"/>
                    <a:pt x="56" y="288"/>
                  </a:cubicBezTo>
                  <a:cubicBezTo>
                    <a:pt x="80" y="304"/>
                    <a:pt x="136" y="328"/>
                    <a:pt x="152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609588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600" y="63244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5280" y="617184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5257440"/>
              <a:ext cx="1447920" cy="1371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657600" y="47998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33920" y="5028480"/>
              <a:ext cx="7596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504960" y="5028840"/>
              <a:ext cx="759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9880" y="609588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8480" y="6324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6171840"/>
              <a:ext cx="3045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55623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70120" y="6171840"/>
              <a:ext cx="152640" cy="15264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94160" y="5943240"/>
              <a:ext cx="304560" cy="3160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3560" y="5638680"/>
              <a:ext cx="544320" cy="5349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581280" y="5790960"/>
              <a:ext cx="457200" cy="685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subtraction_method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subtraction_method2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24080" y="785880"/>
            <a:ext cx="2895840" cy="1881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51600" y="777960"/>
            <a:ext cx="11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1520" y="2209680"/>
            <a:ext cx="152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0-12% 200 GeV Au+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1520" y="115884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3300"/>
                </a:solidFill>
                <a:latin typeface="Arial"/>
              </a:rPr>
              <a:t>PHENI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nucl-ex/0611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rcRect l="0" t="0" r="0" b="2963"/>
          <a:stretch/>
        </p:blipFill>
        <p:spPr>
          <a:xfrm>
            <a:off x="3352680" y="2895480"/>
            <a:ext cx="2743200" cy="2214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rcRect l="0" t="52995" r="0" b="0"/>
          <a:stretch/>
        </p:blipFill>
        <p:spPr>
          <a:xfrm>
            <a:off x="176040" y="2743200"/>
            <a:ext cx="2872080" cy="262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2440" y="5181480"/>
            <a:ext cx="1867680" cy="80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0000"/>
                </a:solidFill>
                <a:latin typeface="Arial"/>
                <a:ea typeface="ＭＳ ゴシック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33cc"/>
                </a:solidFill>
                <a:latin typeface="Arial"/>
                <a:ea typeface="Arial"/>
              </a:rPr>
              <a:t>10-20% Au+Au</a:t>
            </a:r>
            <a:r>
              <a:rPr b="1" lang="ja-JP" sz="1000" spc="-1" strike="noStrike">
                <a:solidFill>
                  <a:srgbClr val="3333cc"/>
                </a:solidFill>
                <a:latin typeface="Arial"/>
              </a:rPr>
              <a:t> 200G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2.5-4 GeV/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assoc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1-2.5 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2840" y="5181480"/>
            <a:ext cx="167724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3300"/>
                </a:solidFill>
                <a:latin typeface="Arial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33cc"/>
                </a:solidFill>
                <a:latin typeface="Arial"/>
                <a:ea typeface="Arial"/>
              </a:rPr>
              <a:t>0-12% Au+Au</a:t>
            </a:r>
            <a:r>
              <a:rPr b="1" lang="ja-JP" sz="1000" spc="-1" strike="noStrike">
                <a:solidFill>
                  <a:srgbClr val="3333cc"/>
                </a:solidFill>
                <a:latin typeface="Arial"/>
              </a:rPr>
              <a:t> 200G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3-4 GeV/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assoc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1-2 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943600" y="838080"/>
            <a:ext cx="2819520" cy="1905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28760" y="216216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CERES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914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1320" y="898560"/>
            <a:ext cx="144792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Arial"/>
              </a:rPr>
              <a:t>0-5% Pb +Au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 17GeV </a:t>
            </a:r>
            <a:br>
              <a:rPr sz="1000"/>
            </a:b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2.5-4 GeV/c </a:t>
            </a:r>
            <a:br>
              <a:rPr sz="1000"/>
            </a:b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assoc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1-2.5 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248520" y="2895480"/>
            <a:ext cx="2666880" cy="2438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553080" y="5181480"/>
            <a:ext cx="18288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ff3300"/>
                </a:solidFill>
                <a:latin typeface="Arial"/>
              </a:rPr>
              <a:t>CERES preliminary</a:t>
            </a:r>
            <a:br>
              <a:rPr sz="1400"/>
            </a:br>
            <a:r>
              <a:rPr b="1" lang="ja-JP" sz="1000" spc="-1" strike="noStrike">
                <a:solidFill>
                  <a:srgbClr val="3333cc"/>
                </a:solidFill>
                <a:latin typeface="Arial"/>
                <a:ea typeface="Arial"/>
              </a:rPr>
              <a:t>0-5% Pb +Au</a:t>
            </a:r>
            <a:r>
              <a:rPr b="1" lang="ja-JP" sz="1000" spc="-1" strike="noStrike">
                <a:solidFill>
                  <a:srgbClr val="3333cc"/>
                </a:solidFill>
                <a:latin typeface="Arial"/>
              </a:rPr>
              <a:t> 17GeV </a:t>
            </a:r>
            <a:br>
              <a:rPr sz="1000"/>
            </a:b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2.5-4 GeV/c </a:t>
            </a:r>
            <a:br>
              <a:rPr sz="1000"/>
            </a:b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1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000" spc="-1" strike="noStrike" baseline="30000">
                <a:solidFill>
                  <a:srgbClr val="000000"/>
                </a:solidFill>
                <a:latin typeface="Arial"/>
              </a:rPr>
              <a:t>assoc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=1-2.5 GeV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962520"/>
            <a:ext cx="53352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3962520"/>
            <a:ext cx="53352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2895480"/>
            <a:ext cx="53316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91320" y="3962520"/>
            <a:ext cx="53352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2160" y="15876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modification and cone lik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83960" y="6019920"/>
            <a:ext cx="698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 bulk and jet interaction is there, but in Cu+Cu/Au+Au and SPS-RHIC?!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357440" cy="5105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5600" y="942840"/>
            <a:ext cx="4164120" cy="5305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60880" y="6094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nucl-ex/0611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40440" y="60948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PRL 97 052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809880" cy="360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47360" y="838080"/>
            <a:ext cx="27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STA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PRL93 (2004) 2523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010280" y="4487760"/>
            <a:ext cx="1981440" cy="1836720"/>
            <a:chOff x="7010280" y="4487760"/>
            <a:chExt cx="1981440" cy="183672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7010280" y="4487760"/>
              <a:ext cx="198144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96560" y="4526640"/>
              <a:ext cx="143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Verdana"/>
                  <a:ea typeface="SimSun"/>
                </a:rPr>
                <a:t>trig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Verdana"/>
                  <a:ea typeface="SimSun"/>
                </a:rPr>
                <a:t>R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62520" y="838080"/>
            <a:ext cx="5010120" cy="3810240"/>
            <a:chOff x="3962520" y="838080"/>
            <a:chExt cx="5010120" cy="38102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3962520" y="1227240"/>
              <a:ext cx="5010120" cy="34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094000" y="838080"/>
              <a:ext cx="264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Rounded MT Bold"/>
                </a:rPr>
                <a:t>PHENIX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, nucl-ex/0510019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07200" y="158760"/>
            <a:ext cx="534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modification and its correlation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05360" y="4952880"/>
            <a:ext cx="4956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t shape w.r.t. reaction pla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ometrical effect of the almond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is effect itself is a one of v2 sourc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hich will be an important effect at LH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is should also lead different v2 between bulk and j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00600" y="1722600"/>
            <a:ext cx="4191120" cy="3916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2280" y="1681200"/>
            <a:ext cx="4572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114800" cy="388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111920" cy="3886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244920" y="631332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筑波大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年　齊藤飛鳥　卒業研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subtraction_method0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73760" cy="5513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69400" y="3352680"/>
            <a:ext cx="130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R.P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60600" y="3352680"/>
            <a:ext cx="125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R.P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7120" y="3352680"/>
            <a:ext cx="126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4240" y="990720"/>
            <a:ext cx="404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08880" y="990720"/>
            <a:ext cx="404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32760" y="990720"/>
            <a:ext cx="404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7000" y="990720"/>
            <a:ext cx="404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80880" y="990720"/>
            <a:ext cx="404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68360" y="365040"/>
            <a:ext cx="1886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(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2171520" y="-19080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5981400" y="-87660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55600" y="380880"/>
            <a:ext cx="251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(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pai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47400" y="1433520"/>
            <a:ext cx="57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67320" y="1447920"/>
            <a:ext cx="53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ri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040" y="2666880"/>
            <a:ext cx="115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.7-1.7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7840" y="2666880"/>
            <a:ext cx="1018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7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6560" y="114300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-pl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20440" y="1143000"/>
            <a:ext cx="111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-of-pl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3720" y="114300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47920" y="4495680"/>
            <a:ext cx="1218960" cy="1219320"/>
            <a:chOff x="1447920" y="4495680"/>
            <a:chExt cx="1218960" cy="1219320"/>
          </a:xfrm>
        </p:grpSpPr>
        <p:sp>
          <p:nvSpPr>
            <p:cNvPr id="185" name=""/>
            <p:cNvSpPr/>
            <p:nvPr/>
          </p:nvSpPr>
          <p:spPr>
            <a:xfrm>
              <a:off x="1828800" y="4647960"/>
              <a:ext cx="45684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7920" y="5105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7400" y="4495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600200" y="4647960"/>
              <a:ext cx="914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4647960"/>
              <a:ext cx="914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09680" y="5029200"/>
              <a:ext cx="228240" cy="152280"/>
            </a:xfrm>
            <a:prstGeom prst="rightArrow">
              <a:avLst>
                <a:gd name="adj1" fmla="val 50000"/>
                <a:gd name="adj2" fmla="val 37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1676160" y="5028840"/>
              <a:ext cx="228240" cy="152280"/>
            </a:xfrm>
            <a:prstGeom prst="rightArrow">
              <a:avLst>
                <a:gd name="adj1" fmla="val 50000"/>
                <a:gd name="adj2" fmla="val 37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1942560" y="5448240"/>
              <a:ext cx="228600" cy="151920"/>
            </a:xfrm>
            <a:prstGeom prst="rightArrow">
              <a:avLst>
                <a:gd name="adj1" fmla="val 50000"/>
                <a:gd name="adj2" fmla="val 3761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1942560" y="4609800"/>
              <a:ext cx="228600" cy="151920"/>
            </a:xfrm>
            <a:prstGeom prst="rightArrow">
              <a:avLst>
                <a:gd name="adj1" fmla="val 50000"/>
                <a:gd name="adj2" fmla="val 3761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957120" y="6095880"/>
            <a:ext cx="126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2440080" y="4767840"/>
            <a:ext cx="2436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/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d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jet_summary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82160" cy="4267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451880" y="714240"/>
            <a:ext cx="45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T 200GeV Au+Au → charged hadrons (|y|&lt;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37840" y="1143000"/>
            <a:ext cx="165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tring-melting 10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tring-melting 3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AMPT 3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3960" y="205740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12 fm 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1000" y="205740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8~12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35120" y="2057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4~8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2520" y="2057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0~4 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-1235160" y="3368520"/>
            <a:ext cx="306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/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d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d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2120" y="5654520"/>
            <a:ext cx="17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rig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|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67720" y="609480"/>
            <a:ext cx="164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: 0.7-1.7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trig.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: 1.7-4GeV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4920" y="632448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筑波大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年　塩原尚希　卒業研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9:50:28Z</dcterms:created>
  <dc:creator>ShinIchi Esumi</dc:creator>
  <dc:description/>
  <dc:language>en-US</dc:language>
  <cp:lastModifiedBy>ShinIchi Esumi</cp:lastModifiedBy>
  <dcterms:modified xsi:type="dcterms:W3CDTF">2007-02-11T03:09:01Z</dcterms:modified>
  <cp:revision>27</cp:revision>
  <dc:subject/>
  <dc:title>PowerPoint プレゼンテーション</dc:title>
</cp:coreProperties>
</file>