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2.png" ContentType="image/png"/>
  <Override PartName="/ppt/media/image30.png" ContentType="image/png"/>
  <Override PartName="/ppt/media/image14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68.png" ContentType="image/png"/>
  <Override PartName="/ppt/media/image13.png" ContentType="image/png"/>
  <Override PartName="/ppt/media/image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7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732-3DD3-411F-8B82-3B9BD810A5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B50-818E-4D0F-B601-3323DD03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B0C-CB8E-4A76-BD2A-9859C339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CA5-7456-46E4-951A-8A218460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3C6-02C3-4E46-A512-F23130DE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328-194A-4D0F-AC76-C9E39D0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8FA-2355-4813-BADF-F97E0AC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52D-326E-466C-A3B0-82EB6D7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7E8-A116-47AD-B33A-DF5950E5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CF1-B501-473F-9516-429B8D9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181-354D-4A35-B650-F9370D91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168-3AB5-4BC8-8193-09D6703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54D-CC2D-4362-B95D-8917392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F6B-1511-4EDD-BD84-D8558F24D8A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040" y="6521400"/>
            <a:ext cx="26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CN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研究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0/29-30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16440" y="5127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金野正裕（筑波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5760" y="2362320"/>
            <a:ext cx="54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RHIC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おける陽子反陽子生成の系統的測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636-7FDC-4589-B0E0-5A50F8F855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43760" y="5562720"/>
            <a:ext cx="7790040" cy="10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ear hadron mass dependence: larger 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 for heavier parti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Consistent with radial flow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 increases with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it is clearly seen for (anti)pro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472428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64832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4320" y="120600"/>
            <a:ext cx="61531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an Transverse 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36320" y="3124080"/>
            <a:ext cx="375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6320" y="2438280"/>
            <a:ext cx="416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36320" y="1447920"/>
            <a:ext cx="37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24440" y="470844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23480" y="470844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853000">
            <a:off x="1676520" y="15998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489-85FC-4A8D-A301-2CE6D5467C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410080" cy="3962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3640" y="838080"/>
            <a:ext cx="49633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st-wave model is a parame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thin a simple boost-invariant model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nsverse collective flow.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pectra reflec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hermal freeze-out temperatu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ransve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flo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t final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59160" y="2133720"/>
            <a:ext cx="2514600" cy="17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Ref: PRC48(1993)24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350496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720" y="6051600"/>
            <a:ext cx="5767560" cy="7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 Resonance decay feed-down correction not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ead, tighte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tting range us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0.6-1.2 GeV/c K; 0.4-1.4 GeV/c, p/pbar; 0.6-1.7 GeV/c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61760" y="6172200"/>
            <a:ext cx="37224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tra for heavier p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a convex shape du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03800" y="18288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72400" y="5257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962520" y="4419720"/>
            <a:ext cx="1218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800600" y="152280"/>
                <a:ext cx="41911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4120" y="1009800"/>
                <a:ext cx="13316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086600" y="838080"/>
                <a:ext cx="1179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45440" y="152280"/>
            <a:ext cx="44251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st-wave Model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89480" y="3048120"/>
            <a:ext cx="240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~120 MeV,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~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6CC-45C8-43AB-91DD-BEC0516B1C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4770360" cy="403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55440" y="5486400"/>
            <a:ext cx="575532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&gt;: increasing with N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scaling of &lt;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between Au+Au and Cu+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lmost same &lt;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gt; at √s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= 62.4,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240" y="654120"/>
            <a:ext cx="4770360" cy="40701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066680" y="1905120"/>
            <a:ext cx="7239240" cy="1773720"/>
            <a:chOff x="1066680" y="1905120"/>
            <a:chExt cx="7239240" cy="1773720"/>
          </a:xfrm>
        </p:grpSpPr>
        <p:sp>
          <p:nvSpPr>
            <p:cNvPr id="156" name=""/>
            <p:cNvSpPr/>
            <p:nvPr/>
          </p:nvSpPr>
          <p:spPr>
            <a:xfrm>
              <a:off x="1066680" y="2514600"/>
              <a:ext cx="72392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9000" y="1905120"/>
              <a:ext cx="1282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&gt; ~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929000">
              <a:off x="1219320" y="3123720"/>
              <a:ext cx="838080" cy="381240"/>
            </a:xfrm>
            <a:prstGeom prst="rightArrow">
              <a:avLst>
                <a:gd name="adj1" fmla="val 50000"/>
                <a:gd name="adj2" fmla="val 5495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9880" y="120600"/>
            <a:ext cx="52891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verse Flow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24440" y="464832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23480" y="464832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EB2-0070-4FF5-87A0-413382479C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60840" y="5486400"/>
            <a:ext cx="5506560" cy="11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</a:rPr>
              <a:t>fo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: decreasing with N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scaling of T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between Au+Au and Cu+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lmost same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at √s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= 62.4, 200 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72428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066680" y="1349640"/>
            <a:ext cx="7239240" cy="1589760"/>
            <a:chOff x="1066680" y="1349640"/>
            <a:chExt cx="7239240" cy="1589760"/>
          </a:xfrm>
        </p:grpSpPr>
        <p:sp>
          <p:nvSpPr>
            <p:cNvPr id="166" name=""/>
            <p:cNvSpPr/>
            <p:nvPr/>
          </p:nvSpPr>
          <p:spPr>
            <a:xfrm flipV="1">
              <a:off x="1066680" y="2361960"/>
              <a:ext cx="7239240" cy="60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9080" y="2498760"/>
              <a:ext cx="171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ja-JP" sz="2000" spc="-1" strike="noStrike" baseline="-25000">
                  <a:solidFill>
                    <a:srgbClr val="ff0000"/>
                  </a:solidFill>
                  <a:latin typeface="Arial"/>
                </a:rPr>
                <a:t>fo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 ~120 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77000">
              <a:off x="1828800" y="1523520"/>
              <a:ext cx="838080" cy="381240"/>
            </a:xfrm>
            <a:prstGeom prst="rightArrow">
              <a:avLst>
                <a:gd name="adj1" fmla="val 50000"/>
                <a:gd name="adj2" fmla="val 5495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53720" y="152280"/>
            <a:ext cx="66362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etic Freeze-out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4440" y="464832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23480" y="464832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480-9FAA-4F21-B3C7-E0BFD75451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7040" y="76320"/>
            <a:ext cx="69152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Summary - Freeze-out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8640" y="974880"/>
            <a:ext cx="836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Characterizing bulk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Chemical freeze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Kinetic freeze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Hadron production at low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“Thermal emission + Radial fl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Scaling properties between different 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Chemical/kinetic freeze-out properties show 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etween different collis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scaling of freeze-out properties (Au+Au, Cu+Cu)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* even though the overlapped region has a different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System volume N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is a control para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* Particle yield: (Cu+Cu) &gt; (Au+Au) at smaller N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imilarity at 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= 200 and 62.4 GeV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8B4-2CB0-46D0-9342-447200E623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yon Enh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137-FE89-448C-83BD-3864C6E74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5200" y="5562720"/>
            <a:ext cx="8416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(Anti-)proton enhancemen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observed/confirmed in 200 GeV Au+Au/Cu+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Larger than expected from jet fragmentation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measured in pp, e</a:t>
            </a:r>
            <a:r>
              <a:rPr b="1" lang="ja-JP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 ratios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turn over at 2~3 GeV/c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,and fall towards the ratio in p+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0840" y="96840"/>
            <a:ext cx="834336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Baryon enhancement at </a:t>
            </a:r>
            <a:r>
              <a:rPr b="0" lang="ja-JP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= 200 G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200" y="838080"/>
            <a:ext cx="60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00" y="3124080"/>
            <a:ext cx="75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3A1-B11B-4D5D-A607-02AC202AB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29000" y="1066680"/>
            <a:ext cx="2819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u+Au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98600" y="1128600"/>
            <a:ext cx="86976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49230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, nucl-ex/06010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800" y="120600"/>
            <a:ext cx="62568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nge Baryon enhan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71800" y="1662120"/>
            <a:ext cx="4190760" cy="3166920"/>
            <a:chOff x="2071800" y="1662120"/>
            <a:chExt cx="4190760" cy="31669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rcRect l="0" t="7625" r="9667" b="0"/>
            <a:stretch/>
          </p:blipFill>
          <p:spPr>
            <a:xfrm>
              <a:off x="2071800" y="1662120"/>
              <a:ext cx="419076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357440" y="2043000"/>
              <a:ext cx="75960" cy="21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98120" y="5472000"/>
            <a:ext cx="5330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yon enhancement seen in st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690-77DF-415E-AA3C-4504AFB1F0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1200" y="96840"/>
            <a:ext cx="846972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Baryon enhancement at </a:t>
            </a:r>
            <a:r>
              <a:rPr b="0" lang="ja-JP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= 62.4 G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762120"/>
            <a:ext cx="606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00" y="3352680"/>
            <a:ext cx="75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4960" y="5867280"/>
            <a:ext cx="8480160" cy="6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(Anti-)proton enhancemen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observed/confirmed in 62.4 GeV Au+Au/Cu+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imilar 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dependence as at 200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8C2-A7EE-4F75-B8BA-5E1777CBE9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6600" y="914400"/>
            <a:ext cx="3465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vs. Au+Au (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5181480"/>
            <a:ext cx="792504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scaling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of 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 at same √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e ratios are controlled by the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initial overlap siz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of colliding nucle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ven though overlap region has a different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geometrical shap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0680" y="120600"/>
            <a:ext cx="38228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ratio vs. N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part</a:t>
            </a:r>
            <a:r>
              <a:rPr b="0" lang="ja-JP" sz="36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3360" y="898560"/>
            <a:ext cx="3535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vs. Au+Au (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67080" y="251460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C26-ECF4-49AA-A1FB-91FC18B472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419720" cy="3094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5560" y="76320"/>
            <a:ext cx="4240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C Finding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320" y="1050840"/>
            <a:ext cx="4419360" cy="3597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380880"/>
            <a:ext cx="2477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et Que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29600" y="4927680"/>
            <a:ext cx="7425720" cy="105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entral Au+Au collisions, hadrons are suppressed at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The suppression is a final state effect (parton energy lo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way-side jet peak disappeared in central Au+Au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97C-D8BF-4827-962D-9D3A1691A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3080" y="5637240"/>
            <a:ext cx="77000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omparison with p+p spectra (reference) in binary collision sc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Proton, antiproton are enhanced at 1.5 - 4 GeV/c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for all central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- Suppression is seen for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, 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640" y="152280"/>
            <a:ext cx="57477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clear Modification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76320" y="990720"/>
            <a:ext cx="9144000" cy="3504960"/>
            <a:chOff x="-76320" y="990720"/>
            <a:chExt cx="9144000" cy="350496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449568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-7632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819520" y="4694400"/>
            <a:ext cx="4876560" cy="868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02560" y="4923000"/>
            <a:ext cx="6350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76320" y="990720"/>
            <a:ext cx="9144000" cy="3504960"/>
            <a:chOff x="-76320" y="990720"/>
            <a:chExt cx="9144000" cy="350496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449568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-7632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-76320" y="990720"/>
            <a:ext cx="9144000" cy="3504960"/>
            <a:chOff x="-76320" y="990720"/>
            <a:chExt cx="9144000" cy="3504960"/>
          </a:xfrm>
        </p:grpSpPr>
        <p:pic>
          <p:nvPicPr>
            <p:cNvPr id="212" name="" descr=""/>
            <p:cNvPicPr/>
            <p:nvPr/>
          </p:nvPicPr>
          <p:blipFill>
            <a:blip r:embed="rId6"/>
            <a:stretch/>
          </p:blipFill>
          <p:spPr>
            <a:xfrm>
              <a:off x="-7632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7"/>
            <a:stretch/>
          </p:blipFill>
          <p:spPr>
            <a:xfrm>
              <a:off x="449568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-76320" y="990720"/>
            <a:ext cx="9144000" cy="3504960"/>
            <a:chOff x="-76320" y="990720"/>
            <a:chExt cx="9144000" cy="3504960"/>
          </a:xfrm>
        </p:grpSpPr>
        <p:pic>
          <p:nvPicPr>
            <p:cNvPr id="215" name="" descr=""/>
            <p:cNvPicPr/>
            <p:nvPr/>
          </p:nvPicPr>
          <p:blipFill>
            <a:blip r:embed="rId8"/>
            <a:stretch/>
          </p:blipFill>
          <p:spPr>
            <a:xfrm>
              <a:off x="-76320" y="990720"/>
              <a:ext cx="456876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9"/>
            <a:stretch/>
          </p:blipFill>
          <p:spPr>
            <a:xfrm>
              <a:off x="4495680" y="990720"/>
              <a:ext cx="4572000" cy="35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BC7-6027-4EEB-A1DA-971202627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4960" y="5842080"/>
            <a:ext cx="813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oton is enhance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r all centralities, while 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/K are suppresse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320" y="1035000"/>
            <a:ext cx="4647960" cy="4680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4647960" cy="4648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360" y="120600"/>
            <a:ext cx="752472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rison of 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u+Au/Cu+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29520" y="990720"/>
            <a:ext cx="30369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on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2.25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72920" y="990720"/>
            <a:ext cx="327780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n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2.25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294920" y="32004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962520" y="25146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9200" y="2819520"/>
            <a:ext cx="17946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Cu+C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Au+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0B6-4E6E-40DD-B31A-6FA5ABF94B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320" y="3746520"/>
            <a:ext cx="3200400" cy="3105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6320" y="852480"/>
            <a:ext cx="4495680" cy="3338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634720" y="762120"/>
            <a:ext cx="30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u+Cu: b=0.0 fm, Au+Au: b=8.6 f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29520" y="2438280"/>
            <a:ext cx="141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~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8520" y="106200"/>
            <a:ext cx="6345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son of Au+Au and Cu+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7200" y="6080040"/>
            <a:ext cx="156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~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74840" y="4343400"/>
            <a:ext cx="36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+Cu: good resolution at smaller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6600" y="762120"/>
            <a:ext cx="3701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lauber model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67160" y="5334120"/>
            <a:ext cx="4308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ven though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relation is almost s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etween Au+Au and Cu+Cu, the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geometr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overlap sha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is differ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590560" y="3123720"/>
            <a:ext cx="9903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819160" y="4952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867280" y="31237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0520" y="1346040"/>
            <a:ext cx="6639480" cy="4860720"/>
            <a:chOff x="1370520" y="1346040"/>
            <a:chExt cx="6639480" cy="4860720"/>
          </a:xfrm>
        </p:grpSpPr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2286000" y="1346040"/>
              <a:ext cx="5029200" cy="38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370520" y="5156280"/>
              <a:ext cx="663948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AA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(Cu+Cu) &gt; R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</a:rPr>
                <a:t>AA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(Au+Au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- Geometrical shape : Au+Au more deform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- No. of N-N scatterings per N : narrow peak in Cu+Cu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D58-9B6D-42EC-A967-A1B2BEE4F8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m energy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B80-4280-400E-BE2B-5F1776CAC5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680" y="76320"/>
            <a:ext cx="8952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Beam energy dependence of enhan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715000"/>
            <a:ext cx="8001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- p/</a:t>
            </a: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ecreasing as a function of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- </a:t>
            </a:r>
            <a:r>
              <a:rPr b="1" lang="ja-JP" sz="1800" spc="-1" strike="noStrike">
                <a:solidFill>
                  <a:srgbClr val="ff00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 rati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:  increasing as a function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Antiprot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is a good probe to study the baryon enha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4770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84280" y="5410080"/>
            <a:ext cx="39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41911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8288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200" y="838080"/>
            <a:ext cx="60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00" y="3124080"/>
            <a:ext cx="75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DDE-CE0B-4756-AC0C-76FC0B0225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4702320"/>
            <a:ext cx="807696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o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scaling of 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 in Au+Au between 62.4 and 200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ransverse energy density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/d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scaling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f p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is fav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/d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is a connection key between different √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320" y="936720"/>
            <a:ext cx="4343400" cy="363204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267080" y="914400"/>
            <a:ext cx="4724280" cy="3711600"/>
            <a:chOff x="4267080" y="914400"/>
            <a:chExt cx="4724280" cy="371160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4647960" y="914400"/>
              <a:ext cx="434340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267080" y="2438640"/>
              <a:ext cx="533520" cy="533160"/>
            </a:xfrm>
            <a:prstGeom prst="rightArrow">
              <a:avLst>
                <a:gd name="adj1" fmla="val 50000"/>
                <a:gd name="adj2" fmla="val 25017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67280" y="1600200"/>
            <a:ext cx="2819160" cy="1904760"/>
            <a:chOff x="5867280" y="1600200"/>
            <a:chExt cx="2819160" cy="1904760"/>
          </a:xfrm>
        </p:grpSpPr>
        <p:sp>
          <p:nvSpPr>
            <p:cNvPr id="258" name=""/>
            <p:cNvSpPr/>
            <p:nvPr/>
          </p:nvSpPr>
          <p:spPr>
            <a:xfrm flipV="1">
              <a:off x="5867280" y="2742840"/>
              <a:ext cx="274320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943240" y="2286000"/>
              <a:ext cx="27432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867280" y="1600200"/>
              <a:ext cx="2361960" cy="1524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56600" y="120600"/>
            <a:ext cx="47174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ja-JP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ratio vs. (dE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/d</a:t>
            </a:r>
            <a:r>
              <a:rPr b="0" lang="ja-JP" sz="36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600" spc="-1" strike="noStrike" baseline="30000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7320" y="5759280"/>
            <a:ext cx="6778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roton production at 62.4 GeV is partly from baryon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ransport, not only proton-antiproton pair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B5D-8D61-41A3-8838-749C88D716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419720" cy="3683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876920" y="1046160"/>
            <a:ext cx="3886200" cy="2954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486400" y="4724280"/>
            <a:ext cx="3333600" cy="781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486400" y="4019400"/>
            <a:ext cx="3048120" cy="727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730400" y="5715000"/>
            <a:ext cx="4199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ergy loss per nucleon: 73±6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5560" y="100080"/>
            <a:ext cx="46551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 proton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22860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75760" y="4883040"/>
            <a:ext cx="3007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rastically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beam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8480" y="609480"/>
            <a:ext cx="28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HMS, PRL 93 (2004) 102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DEC-867D-43D6-80B0-8430DF6708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6200" y="577800"/>
            <a:ext cx="4694400" cy="4299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648320" cy="4267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24440" y="464832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23480" y="464832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160" y="120600"/>
            <a:ext cx="39952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23840" y="5491080"/>
            <a:ext cx="602820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200 GeV) : ~8 MeV, independent of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62.4 GeV) : increasing with 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&gt; more baryon stopping at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90720" y="2394000"/>
            <a:ext cx="6348960" cy="806400"/>
            <a:chOff x="990720" y="2394000"/>
            <a:chExt cx="6348960" cy="806400"/>
          </a:xfrm>
        </p:grpSpPr>
        <p:sp>
          <p:nvSpPr>
            <p:cNvPr id="279" name=""/>
            <p:cNvSpPr/>
            <p:nvPr/>
          </p:nvSpPr>
          <p:spPr>
            <a:xfrm rot="20634000">
              <a:off x="6400800" y="251460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0720" y="3200400"/>
              <a:ext cx="3124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8600" y="5562720"/>
                <a:ext cx="22096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341-22DC-4297-9654-F9F2E76964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69200" y="120600"/>
            <a:ext cx="68907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 - Baryon enhan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9720" y="1066680"/>
            <a:ext cx="802620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Baryon enhan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oton and antiproton enhancemen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confir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(2-5 GeV/c) in Au+Au/Cu+C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 turnover of p/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ratio seen at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= 2-3 GeV/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In terms of binary collision sca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anti)protons are enhanced while pions/kaons are sup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Low energy 62.4 GeV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At lower energy 62.4 GeV, proton production seems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ore affected by baryon number transport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Antiproton is a good indicator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f the baryon enha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Scaling properties between different 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scaling of p/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dE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scaling of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446-7654-4501-90C1-3A1534FA77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component mod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oft+H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78B-A933-49E2-9910-F498379C51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6160" y="1219320"/>
            <a:ext cx="3580200" cy="3580920"/>
            <a:chOff x="686160" y="1219320"/>
            <a:chExt cx="3580200" cy="3580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07000" y="1219320"/>
              <a:ext cx="3159360" cy="35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6160" y="29980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6160" y="20214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59400" y="380880"/>
            <a:ext cx="4432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ticles &amp; Medium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8120" y="5384880"/>
            <a:ext cx="7658640" cy="105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Suppression/Enhancement has particle-type 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Baryon/Meson difference in yields and emiss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at intermediate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(2-5 GeV/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95680" y="1143000"/>
            <a:ext cx="3504960" cy="3504960"/>
            <a:chOff x="4495680" y="1143000"/>
            <a:chExt cx="3504960" cy="35049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5056200" y="1143000"/>
              <a:ext cx="294444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4495680" y="1235160"/>
              <a:ext cx="5990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908600" y="4260240"/>
              <a:ext cx="250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5216760" y="1327320"/>
              <a:ext cx="18558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 flipV="1">
            <a:off x="2133720" y="297180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4920" y="478476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ryon enh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410080" y="2472840"/>
            <a:ext cx="1219320" cy="22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10560" y="4784760"/>
            <a:ext cx="23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/M Splitting of 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560" y="76320"/>
            <a:ext cx="4240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C Finding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3A3-337B-40E9-BE87-1AA411EC31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297320" y="2901960"/>
            <a:ext cx="4846680" cy="3270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133720" y="1758960"/>
            <a:ext cx="3045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3080" y="1557360"/>
            <a:ext cx="3924360" cy="1228680"/>
          </a:xfrm>
          <a:custGeom>
            <a:avLst/>
            <a:gdLst/>
            <a:ahLst/>
            <a:rect l="l" t="t" r="r" b="b"/>
            <a:pathLst>
              <a:path w="2472" h="774">
                <a:moveTo>
                  <a:pt x="0" y="527"/>
                </a:moveTo>
                <a:cubicBezTo>
                  <a:pt x="155" y="554"/>
                  <a:pt x="648" y="774"/>
                  <a:pt x="928" y="687"/>
                </a:cubicBezTo>
                <a:cubicBezTo>
                  <a:pt x="1208" y="600"/>
                  <a:pt x="1423" y="14"/>
                  <a:pt x="1680" y="7"/>
                </a:cubicBezTo>
                <a:cubicBezTo>
                  <a:pt x="1937" y="0"/>
                  <a:pt x="2307" y="514"/>
                  <a:pt x="2472" y="6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58000" y="3053880"/>
            <a:ext cx="1447920" cy="2133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98520" y="2149560"/>
            <a:ext cx="131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high-p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248160" y="2901600"/>
            <a:ext cx="15228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400440" y="2901600"/>
            <a:ext cx="15228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553080" y="2901600"/>
            <a:ext cx="15264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79080" y="2292480"/>
            <a:ext cx="131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low-p</a:t>
            </a:r>
            <a:r>
              <a:rPr b="0" lang="ja-JP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3968640"/>
            <a:ext cx="68580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503568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5920" y="120600"/>
            <a:ext cx="81133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article production in expanding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5520" y="304812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9480" y="1190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32720" y="5305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8720" y="3352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C94-6BC8-4594-AE6E-E53657EC5D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94560" y="838080"/>
            <a:ext cx="6807240" cy="28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Soft component :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Thermal emission + Radia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Described by Blast-wav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scaling 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Thermal distribution extrapolated up to high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Hard component : Jet fragmentation + Jet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Measured p+p spec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Constant suppression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power-law distribution &amp; fractional energy los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680" y="76320"/>
            <a:ext cx="73360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component Model (Soft+Ha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590920" y="3733920"/>
                <a:ext cx="30477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f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ar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733920" y="3733920"/>
            <a:ext cx="838080" cy="9144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66">
                <a:moveTo>
                  <a:pt x="3600" y="0"/>
                </a:moveTo>
                <a:arcTo wR="3600" hR="3600" stAng="16200000" swAng="-5400000"/>
                <a:lnTo>
                  <a:pt x="0" y="19966"/>
                </a:lnTo>
                <a:arcTo wR="3600" hR="3600" stAng="10800000" swAng="-5400000"/>
                <a:lnTo>
                  <a:pt x="18000" y="2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733920"/>
            <a:ext cx="838080" cy="9144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66">
                <a:moveTo>
                  <a:pt x="3600" y="0"/>
                </a:moveTo>
                <a:arcTo wR="3600" hR="3600" stAng="16200000" swAng="-5400000"/>
                <a:lnTo>
                  <a:pt x="0" y="19966"/>
                </a:lnTo>
                <a:arcTo wR="3600" hR="3600" stAng="10800000" swAng="-5400000"/>
                <a:lnTo>
                  <a:pt x="18000" y="2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930400" y="4648320"/>
                <a:ext cx="5527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f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2971800" y="4724280"/>
            <a:ext cx="838080" cy="8384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838440"/>
              <a:gd name="textAreaBottom" fmla="*/ 797760 h 838440"/>
            </a:gdLst>
            <a:ahLst/>
            <a:rect l="textAreaLeft" t="textAreaTop" r="textAreaRight" b="textAreaBottom"/>
            <a:pathLst>
              <a:path w="21600" h="21609">
                <a:moveTo>
                  <a:pt x="3600" y="0"/>
                </a:moveTo>
                <a:arcTo wR="3600" hR="3600" stAng="16200000" swAng="-5400000"/>
                <a:lnTo>
                  <a:pt x="0" y="18009"/>
                </a:lnTo>
                <a:arcTo wR="3600" hR="3600" stAng="10800000" swAng="-5400000"/>
                <a:lnTo>
                  <a:pt x="18000" y="21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975040" y="5645160"/>
                <a:ext cx="35020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ar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´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l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971800" y="5638680"/>
            <a:ext cx="838080" cy="9144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66">
                <a:moveTo>
                  <a:pt x="3600" y="0"/>
                </a:moveTo>
                <a:arcTo wR="3600" hR="3600" stAng="16200000" swAng="-5400000"/>
                <a:lnTo>
                  <a:pt x="0" y="19966"/>
                </a:lnTo>
                <a:arcTo wR="3600" hR="3600" stAng="10800000" swAng="-5400000"/>
                <a:lnTo>
                  <a:pt x="18000" y="2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8D4-7A4E-456A-89B5-9001326CF5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320" y="5497560"/>
            <a:ext cx="69793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Hard compone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in p+p) at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pends o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Au+Au,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suppression eff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hould be taken into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280" y="152280"/>
            <a:ext cx="73756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Hard component in p+p and </a:t>
            </a:r>
            <a:r>
              <a:rPr b="0" lang="ja-JP" sz="3600" spc="-1" strike="noStrike">
                <a:solidFill>
                  <a:srgbClr val="ffffff"/>
                </a:solidFill>
                <a:latin typeface="ヒラギノ角ゴ Pro W3"/>
              </a:rPr>
              <a:t>_x0001_Au+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4419720" cy="3695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60120" y="1050840"/>
            <a:ext cx="245484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143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74720" y="1765440"/>
            <a:ext cx="3365640" cy="2641320"/>
            <a:chOff x="774720" y="1765440"/>
            <a:chExt cx="3365640" cy="2641320"/>
          </a:xfrm>
        </p:grpSpPr>
        <p:sp>
          <p:nvSpPr>
            <p:cNvPr id="317" name=""/>
            <p:cNvSpPr/>
            <p:nvPr/>
          </p:nvSpPr>
          <p:spPr>
            <a:xfrm>
              <a:off x="774720" y="1765440"/>
              <a:ext cx="3352680" cy="2146320"/>
            </a:xfrm>
            <a:custGeom>
              <a:avLst/>
              <a:gdLst/>
              <a:ahLst/>
              <a:rect l="l" t="t" r="r" b="b"/>
              <a:pathLst>
                <a:path w="2112" h="1352">
                  <a:moveTo>
                    <a:pt x="0" y="0"/>
                  </a:moveTo>
                  <a:cubicBezTo>
                    <a:pt x="84" y="91"/>
                    <a:pt x="329" y="393"/>
                    <a:pt x="504" y="544"/>
                  </a:cubicBezTo>
                  <a:cubicBezTo>
                    <a:pt x="679" y="695"/>
                    <a:pt x="780" y="769"/>
                    <a:pt x="1048" y="904"/>
                  </a:cubicBezTo>
                  <a:cubicBezTo>
                    <a:pt x="1316" y="1039"/>
                    <a:pt x="1890" y="1259"/>
                    <a:pt x="2112" y="13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7320" y="1828800"/>
              <a:ext cx="3353040" cy="2463840"/>
            </a:xfrm>
            <a:custGeom>
              <a:avLst/>
              <a:gdLst/>
              <a:ahLst/>
              <a:rect l="l" t="t" r="r" b="b"/>
              <a:pathLst>
                <a:path w="2112" h="1552">
                  <a:moveTo>
                    <a:pt x="0" y="0"/>
                  </a:moveTo>
                  <a:cubicBezTo>
                    <a:pt x="85" y="92"/>
                    <a:pt x="283" y="360"/>
                    <a:pt x="504" y="552"/>
                  </a:cubicBezTo>
                  <a:cubicBezTo>
                    <a:pt x="725" y="744"/>
                    <a:pt x="1060" y="985"/>
                    <a:pt x="1328" y="1152"/>
                  </a:cubicBezTo>
                  <a:cubicBezTo>
                    <a:pt x="1596" y="1319"/>
                    <a:pt x="1949" y="1469"/>
                    <a:pt x="2112" y="155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58120" y="2938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Arial"/>
                </a:rPr>
                <a:t>200 G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24240" y="4038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Arial"/>
                </a:rPr>
                <a:t>62.4 G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08640" y="1600200"/>
            <a:ext cx="4483080" cy="32083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639040" y="106668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08040" y="487692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pi0: diamond, h+h-: circ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4DB-375A-4443-B8AE-48BED8BACF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6600" y="762120"/>
            <a:ext cx="9077400" cy="50194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89640" y="76320"/>
            <a:ext cx="326556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ion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spec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1640" y="22860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4760" y="851040"/>
            <a:ext cx="52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4040" y="3289320"/>
            <a:ext cx="45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09480" y="3809520"/>
            <a:ext cx="7632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5867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95760" y="5638680"/>
            <a:ext cx="1269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f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590920" y="4572000"/>
            <a:ext cx="1295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5867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77200" y="5638680"/>
            <a:ext cx="135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54920" y="6238800"/>
            <a:ext cx="6199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Reproduce the measured pion p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spec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9E0-2B00-4B45-A7C5-36C61D9869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077400" cy="5019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0360" y="76320"/>
            <a:ext cx="397548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ion fraction vs.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6040" y="22860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4760" y="851040"/>
            <a:ext cx="52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040" y="3289320"/>
            <a:ext cx="45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09480" y="4114440"/>
            <a:ext cx="7632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6172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96120" y="5943600"/>
            <a:ext cx="676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809520" y="426708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6095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9880" y="5867280"/>
            <a:ext cx="761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819520" y="5028840"/>
            <a:ext cx="457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6172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12280" y="6019920"/>
            <a:ext cx="124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EFF-C77E-448A-9719-A27229742D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6600" y="762120"/>
            <a:ext cx="9077400" cy="50194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90000" y="76320"/>
            <a:ext cx="36968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roton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spec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5400" y="22860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5120" y="8380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60" y="3289320"/>
            <a:ext cx="50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09480" y="3809520"/>
            <a:ext cx="38124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867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95760" y="5638680"/>
            <a:ext cx="1269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f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590920" y="4266720"/>
            <a:ext cx="9144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5867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77200" y="5638680"/>
            <a:ext cx="135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54560" y="6238800"/>
            <a:ext cx="6520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Reproduce the measured proton p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spec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72D-B9AF-49E4-A4D0-00F384DBA3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77400" cy="50194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20600" y="76320"/>
            <a:ext cx="440676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roton fraction vs.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83480" y="22860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5120" y="8380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60" y="3289320"/>
            <a:ext cx="50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09480" y="4114440"/>
            <a:ext cx="7632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6172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6120" y="5943600"/>
            <a:ext cx="676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809520" y="426708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6095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9880" y="5867280"/>
            <a:ext cx="761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819520" y="5028840"/>
            <a:ext cx="457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6172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12280" y="6019920"/>
            <a:ext cx="124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374840" y="1017720"/>
            <a:ext cx="6702480" cy="4545000"/>
            <a:chOff x="1374840" y="1017720"/>
            <a:chExt cx="6702480" cy="4545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374840" y="1017720"/>
              <a:ext cx="6702480" cy="45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464200" y="1647720"/>
              <a:ext cx="172152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Arial"/>
                </a:rPr>
                <a:t>AA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vs. N</a:t>
              </a:r>
              <a:r>
                <a:rPr b="0" lang="ja-JP" sz="2400" spc="-1" strike="noStrike" baseline="-25000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6CC-B071-4E95-8D34-18F20DC974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6600" y="762120"/>
            <a:ext cx="9077400" cy="50194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0000" y="76320"/>
            <a:ext cx="369684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roton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spec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69080" y="22860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5120" y="8380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160" y="3289320"/>
            <a:ext cx="50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09480" y="3809520"/>
            <a:ext cx="38124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867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95760" y="5638680"/>
            <a:ext cx="1269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f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590920" y="4266720"/>
            <a:ext cx="9144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5867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77200" y="5638680"/>
            <a:ext cx="135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70400" y="6238800"/>
            <a:ext cx="5479560" cy="51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sing pion’s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suppressi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B99-1F06-4697-8FEC-0C6ED22950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77400" cy="5019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20600" y="76320"/>
            <a:ext cx="440676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roton fraction vs.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83480" y="228600"/>
            <a:ext cx="2026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5120" y="8380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60" y="3289320"/>
            <a:ext cx="50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09480" y="4114440"/>
            <a:ext cx="7632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172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6120" y="5943600"/>
            <a:ext cx="676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4191120" y="4343040"/>
            <a:ext cx="83808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5943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15840" y="5765760"/>
            <a:ext cx="761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819520" y="5028840"/>
            <a:ext cx="457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19520" y="6172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12280" y="6019920"/>
            <a:ext cx="124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635328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46400" y="6248520"/>
            <a:ext cx="3451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3rd component 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665784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712-48B0-4A94-95EC-9FDB0EA013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78480" y="76320"/>
            <a:ext cx="77533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ction of soft and hard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209680" y="5867280"/>
                <a:ext cx="1460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ar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o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ar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7200" y="5846760"/>
                <a:ext cx="1460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o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o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ar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104040" y="851040"/>
            <a:ext cx="8811360" cy="4635360"/>
            <a:chOff x="104040" y="851040"/>
            <a:chExt cx="8811360" cy="46353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152280" y="874800"/>
              <a:ext cx="8763120" cy="46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04760" y="851040"/>
              <a:ext cx="5266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040" y="3289320"/>
              <a:ext cx="4507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8120" y="838080"/>
            <a:ext cx="8836920" cy="4648320"/>
            <a:chOff x="78120" y="838080"/>
            <a:chExt cx="8836920" cy="464832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52280" y="838080"/>
              <a:ext cx="876276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54080" y="87624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120" y="3327480"/>
              <a:ext cx="5022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91200" y="969840"/>
            <a:ext cx="7905600" cy="5253840"/>
            <a:chOff x="691200" y="969840"/>
            <a:chExt cx="7905600" cy="5253840"/>
          </a:xfrm>
        </p:grpSpPr>
        <p:sp>
          <p:nvSpPr>
            <p:cNvPr id="420" name=""/>
            <p:cNvSpPr/>
            <p:nvPr/>
          </p:nvSpPr>
          <p:spPr>
            <a:xfrm>
              <a:off x="691200" y="4784760"/>
              <a:ext cx="790560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- Both soft and hard components are necess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to reproduce the hadron spectra at intermediate p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(2-5 GeV/c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- Soft component is extended to higher p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in cent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- Intermediate p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Hard pions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vs. </a:t>
              </a:r>
              <a:r>
                <a:rPr b="1" lang="ja-JP" sz="2000" spc="-1" strike="noStrike">
                  <a:solidFill>
                    <a:srgbClr val="0000ff"/>
                  </a:solidFill>
                  <a:latin typeface="Arial"/>
                </a:rPr>
                <a:t>Soft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676160" y="969840"/>
              <a:ext cx="5639040" cy="3830760"/>
              <a:chOff x="1676160" y="969840"/>
              <a:chExt cx="5639040" cy="3830760"/>
            </a:xfrm>
          </p:grpSpPr>
          <p:pic>
            <p:nvPicPr>
              <p:cNvPr id="4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6160" y="977760"/>
                <a:ext cx="5639040" cy="3822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2920680" y="969840"/>
                <a:ext cx="3250080" cy="44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- Cross point 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(S=H)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 vs. p</a:t>
                </a:r>
                <a:r>
                  <a:rPr b="1" i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 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E6D-B737-47AE-A269-C7D7D10E06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1160" y="152280"/>
            <a:ext cx="7479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Hadron Production in RHI Coll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073160"/>
          <a:ext cx="8229600" cy="297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ro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p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o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al em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k recomb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p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har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frag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scatter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quen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40720" y="4317840"/>
            <a:ext cx="814212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There are multiple hadronization mechanisms at intermediate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relative contributions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particle-type depen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re not yet fully underst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73160"/>
            <a:ext cx="2743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960" y="5562720"/>
            <a:ext cx="735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Baryon/Meson differenc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What is the ori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638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300-6CFF-4892-934E-C081FFACED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52640" y="120600"/>
            <a:ext cx="71956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Summary - Two-componen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55840" y="1295280"/>
            <a:ext cx="63896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Two-compon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Reproduce the measured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spec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or pions and protons with a consistent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Identify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crossover reg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rom soft to h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adron production at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intermediate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(2-5 GeV/c)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ff"/>
                </a:solidFill>
                <a:latin typeface="Arial"/>
              </a:rPr>
              <a:t>Baryon/Meson dif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Intermediate pT: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“Hard” pion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“Soft” 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Origin of baryon enhancement is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t pushes heavier particles to higher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aryon/Meson difference is triv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572-68C9-4604-8669-07E36C2B00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Quark Flow vs. Had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96E-8B97-4B5A-80EC-6C979EA90B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724280" y="3225960"/>
            <a:ext cx="3581640" cy="25970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44720" y="120600"/>
            <a:ext cx="44265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k recomb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10320" y="888840"/>
            <a:ext cx="6803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e of the hadronization mechani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combination of thermal quarks in local phase sp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q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Meson,     qqq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Bar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(recombination) &gt; (frag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cause quark distribution is thermal: ~exp(-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fragmentation (power-law shape) would be domin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895480"/>
                <a:ext cx="2952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289160" y="3809880"/>
                <a:ext cx="2825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219320" y="4952880"/>
                <a:ext cx="30477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19320" y="5532480"/>
                <a:ext cx="3047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762120" y="312408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49528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880" y="228600"/>
            <a:ext cx="270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s, R et al PRC 68 (2003) 0449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co, V et al PRL 90 (2003) 2023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a, R et al PRC 70(2004) 0249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575-B593-4A3F-BB63-05010EF9E3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59480" y="838080"/>
            <a:ext cx="15084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59440" y="4770360"/>
            <a:ext cx="5920200" cy="94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Baryon enhancement &amp; quark number scaling of v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plained b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“Quark recombin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v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t quark level =&gt; Collective flow at quark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600" y="76320"/>
            <a:ext cx="87501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Applicability of quark recombin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724280" y="838080"/>
            <a:ext cx="3885840" cy="3733560"/>
            <a:chOff x="4724280" y="838080"/>
            <a:chExt cx="3885840" cy="373356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5328720" y="838080"/>
              <a:ext cx="328140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5414760" y="1015560"/>
              <a:ext cx="26769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4724280" y="838080"/>
              <a:ext cx="690480" cy="33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"/>
          <p:cNvSpPr/>
          <p:nvPr/>
        </p:nvSpPr>
        <p:spPr>
          <a:xfrm>
            <a:off x="1450440" y="5780160"/>
            <a:ext cx="6438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- In a simple recombination picture,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canno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istinguished between hadron and quark ph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&gt; Can we separate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hadron flow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quark flow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25000" y="838080"/>
            <a:ext cx="21164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/n vs. KE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809-0B64-46AD-8C99-4A5F07E1939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26080" y="831960"/>
            <a:ext cx="2832480" cy="122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Ideal gas: P=(1/3)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opy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ngitudinal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amp; Transverse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54080" y="2301840"/>
            <a:ext cx="3730680" cy="1965960"/>
            <a:chOff x="154080" y="2301840"/>
            <a:chExt cx="3730680" cy="1965960"/>
          </a:xfrm>
        </p:grpSpPr>
        <p:sp>
          <p:nvSpPr>
            <p:cNvPr id="451" name=""/>
            <p:cNvSpPr/>
            <p:nvPr/>
          </p:nvSpPr>
          <p:spPr>
            <a:xfrm rot="16200000">
              <a:off x="1531080" y="2225520"/>
              <a:ext cx="796680" cy="19605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4080" y="31795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01800" y="3365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009880" y="2328120"/>
              <a:ext cx="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09880" y="3179520"/>
              <a:ext cx="90000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82640" y="393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4040" y="2301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3880" y="3073320"/>
              <a:ext cx="528840" cy="159840"/>
            </a:xfrm>
            <a:prstGeom prst="rightArrow">
              <a:avLst>
                <a:gd name="adj1" fmla="val 50000"/>
                <a:gd name="adj2" fmla="val 82714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66840" y="3073320"/>
              <a:ext cx="528480" cy="159840"/>
            </a:xfrm>
            <a:prstGeom prst="rightArrow">
              <a:avLst>
                <a:gd name="adj1" fmla="val 50000"/>
                <a:gd name="adj2" fmla="val 8265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44920" y="2701800"/>
              <a:ext cx="210960" cy="212400"/>
            </a:xfrm>
            <a:prstGeom prst="upArrow">
              <a:avLst>
                <a:gd name="adj1" fmla="val 50000"/>
                <a:gd name="adj2" fmla="val 25171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744920" y="3498480"/>
              <a:ext cx="210960" cy="212400"/>
            </a:xfrm>
            <a:prstGeom prst="upArrow">
              <a:avLst>
                <a:gd name="adj1" fmla="val 50000"/>
                <a:gd name="adj2" fmla="val 25171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13160" y="2808000"/>
              <a:ext cx="185760" cy="796680"/>
            </a:xfrm>
            <a:custGeom>
              <a:avLst/>
              <a:gdLst/>
              <a:ahLst/>
              <a:rect l="l" t="t" r="r" b="b"/>
              <a:pathLst>
                <a:path w="168" h="720">
                  <a:moveTo>
                    <a:pt x="168" y="0"/>
                  </a:moveTo>
                  <a:cubicBezTo>
                    <a:pt x="108" y="52"/>
                    <a:pt x="48" y="104"/>
                    <a:pt x="24" y="192"/>
                  </a:cubicBezTo>
                  <a:cubicBezTo>
                    <a:pt x="0" y="280"/>
                    <a:pt x="0" y="440"/>
                    <a:pt x="24" y="528"/>
                  </a:cubicBezTo>
                  <a:cubicBezTo>
                    <a:pt x="48" y="616"/>
                    <a:pt x="108" y="668"/>
                    <a:pt x="168" y="7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92520" y="76320"/>
            <a:ext cx="55587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1D Adiabatic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6320" y="426708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75920" y="4114800"/>
            <a:ext cx="13752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bj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20120" y="4343400"/>
            <a:ext cx="60948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20120" y="3809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09560" y="8524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cooling curv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12800" y="3200400"/>
            <a:ext cx="1968480" cy="68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ixed at 10 fm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most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1447920"/>
            <a:ext cx="0" cy="3047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4572000"/>
            <a:ext cx="978120" cy="685800"/>
          </a:xfrm>
          <a:custGeom>
            <a:avLst/>
            <a:gdLst/>
            <a:ahLst/>
            <a:rect l="l" t="t" r="r" b="b"/>
            <a:pathLst>
              <a:path w="616" h="432">
                <a:moveTo>
                  <a:pt x="0" y="432"/>
                </a:moveTo>
                <a:cubicBezTo>
                  <a:pt x="220" y="396"/>
                  <a:pt x="440" y="360"/>
                  <a:pt x="528" y="288"/>
                </a:cubicBezTo>
                <a:cubicBezTo>
                  <a:pt x="616" y="216"/>
                  <a:pt x="572" y="108"/>
                  <a:pt x="52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0440" y="5302080"/>
            <a:ext cx="2113200" cy="680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 scaled with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bj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t = 1 fm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472428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0"/>
                </a:moveTo>
                <a:cubicBezTo>
                  <a:pt x="20" y="216"/>
                  <a:pt x="40" y="432"/>
                  <a:pt x="96" y="480"/>
                </a:cubicBezTo>
                <a:cubicBezTo>
                  <a:pt x="152" y="528"/>
                  <a:pt x="264" y="280"/>
                  <a:pt x="336" y="288"/>
                </a:cubicBezTo>
                <a:cubicBezTo>
                  <a:pt x="408" y="296"/>
                  <a:pt x="488" y="480"/>
                  <a:pt x="528" y="528"/>
                </a:cubicBezTo>
                <a:cubicBezTo>
                  <a:pt x="568" y="576"/>
                  <a:pt x="572" y="576"/>
                  <a:pt x="576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24480" y="5638680"/>
            <a:ext cx="25304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oling stopped at 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886200" y="6192720"/>
                <a:ext cx="2060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EC1-B234-4EF4-B31E-FB1DD54525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598320"/>
            <a:ext cx="4724280" cy="40500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4800600" cy="40388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01600" y="4648320"/>
            <a:ext cx="456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ore central collisions freeze-out 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at lower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onsistent with freeze-out cond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t)=R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ven if quark phase is created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adronization,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hadronic scattering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hould be taken into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400" y="76320"/>
            <a:ext cx="67111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ze-out Time &amp;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1800" y="838080"/>
            <a:ext cx="243756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eeze-out time vs.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45680" y="4648320"/>
            <a:ext cx="3943440" cy="12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As expected, T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is lower than T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ifferent centrality depend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dropping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is consistent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+1D adiabatic expan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343120" y="838080"/>
            <a:ext cx="323640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eeze-out temperature vs.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15238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2514600"/>
            <a:ext cx="152280" cy="1523880"/>
          </a:xfrm>
          <a:prstGeom prst="upDownArrow">
            <a:avLst>
              <a:gd name="adj1" fmla="val 50000"/>
              <a:gd name="adj2" fmla="val 1992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DC8-4ACC-42A7-94F8-F7E5AF7B81B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52640" y="152280"/>
            <a:ext cx="26740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3560" y="966960"/>
            <a:ext cx="8661960" cy="54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Systematic measurement of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oton and antiproton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spectr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Au+Au, Cu+Cu, p+p at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= 200/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roton and  antiproton enhancement confir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intermediate p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(2-5 GeV/c)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 Antiprot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is a good indicator for study of the baryon enha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ratio &amp; freeze-out properties show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</a:rPr>
              <a:t>part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etween Au+Au and Cu+Cu at same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e Initial volume (~N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) of colliding nuclei is a control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- Baryon enhancement is caused by transverse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radia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and centrality dependences are described by two-component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Intermediate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(2-5 GeV/c):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hard pions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soft pro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 Chemical/Kinetic Freeze-out temperatures provide a h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for further expansion at hadronic 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F77-7896-4684-92E0-72349A18DB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62400" y="93024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8480" y="2316240"/>
            <a:ext cx="429408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rogel Cherenkov,TOF-W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1828800"/>
            <a:ext cx="457200" cy="100656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43400" y="2438280"/>
            <a:ext cx="609480" cy="7632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6520" y="291960"/>
            <a:ext cx="284760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Calorimeter 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70240" y="749160"/>
            <a:ext cx="10173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F-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4160" y="685800"/>
            <a:ext cx="150840" cy="8380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69104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7200" y="3886200"/>
            <a:ext cx="26769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586224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62840" y="2895480"/>
            <a:ext cx="204300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ad Cha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track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276720"/>
            <a:ext cx="1218960" cy="3808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3341400">
            <a:off x="536652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734000"/>
            <a:ext cx="2971800" cy="212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6360" y="228600"/>
            <a:ext cx="2298960" cy="1312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PHEN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87960" y="4876920"/>
            <a:ext cx="3153960" cy="70380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Beam Beam Cou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Zero Degree Calo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10400" y="4430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Global det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D05-27A9-438F-BD2E-C662829B0E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9480" y="76320"/>
            <a:ext cx="48672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icle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81360" y="4267080"/>
            <a:ext cx="2962440" cy="243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350532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5640" y="914400"/>
            <a:ext cx="367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 of Fligh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~120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1960" y="3720960"/>
            <a:ext cx="4185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Aerogel Cherenkov (n=1.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10440" y="4276800"/>
            <a:ext cx="1901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Veto for proton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914400"/>
            <a:ext cx="4406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New” Time of Flight (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~90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71960" y="1365120"/>
            <a:ext cx="3562560" cy="2673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99440" y="1469880"/>
            <a:ext cx="1250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RP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6040" y="1469880"/>
            <a:ext cx="1752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Scint.+PMT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83760" y="152280"/>
            <a:ext cx="2875320" cy="52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ctor up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AE9-D0C1-47A0-9159-CC0D598F5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34340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5280" y="76320"/>
            <a:ext cx="6797880" cy="71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Proton and Antiproton p</a:t>
            </a:r>
            <a:r>
              <a:rPr b="0" lang="ja-JP" sz="3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 spec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1181160"/>
            <a:ext cx="4343400" cy="285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24280" y="4699080"/>
            <a:ext cx="4267440" cy="14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reach extended up to 6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or p(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) with fine centrality b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Aerogel Cheren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6320" y="4191120"/>
            <a:ext cx="4419360" cy="2514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1840" y="4038480"/>
            <a:ext cx="438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No weak decay feed-down correction appl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838080"/>
            <a:ext cx="281916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Au+Au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38080"/>
            <a:ext cx="2819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u+Cu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962520"/>
            <a:ext cx="243864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+p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85B-C01C-494A-B58F-DA62039A0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ze-ou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FDD-B6F1-471B-83A3-25DC96D80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648320" cy="441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97320" y="609480"/>
            <a:ext cx="4770360" cy="441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6600" y="152280"/>
            <a:ext cx="63651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article Yield dN/dy at mid rap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1000" y="5537160"/>
            <a:ext cx="8077680" cy="10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icle yields are (roughly) scaled with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btw. Au+Au and 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N/dy(Cu+Cu) &gt;~ dN/dy(Au+Au) at smaller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Statistical mod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escribes their ratios with few parameters (T,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4440" y="472428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200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23480" y="4724280"/>
            <a:ext cx="232668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/Cu+Cu/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62.4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37760" y="1143000"/>
            <a:ext cx="375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36320" y="2021040"/>
            <a:ext cx="416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6320" y="2859120"/>
            <a:ext cx="37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5DA-B44F-4E75-966C-4ABC4137B8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36:43Z</dcterms:created>
  <dc:creator>M. Konno</dc:creator>
  <dc:description/>
  <dc:language>en-US</dc:language>
  <cp:lastModifiedBy>M. Konno</cp:lastModifiedBy>
  <cp:lastPrinted>2007-09-25T09:24:51Z</cp:lastPrinted>
  <dcterms:modified xsi:type="dcterms:W3CDTF">2007-10-29T23:35:22Z</dcterms:modified>
  <cp:revision>828</cp:revision>
  <dc:subject/>
  <dc:title>PowerPoint プレゼンテーション</dc:title>
</cp:coreProperties>
</file>