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1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38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16.png" ContentType="image/png"/>
  <Override PartName="/ppt/media/image8.jpeg" ContentType="image/jpeg"/>
  <Override PartName="/ppt/media/image26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2136-2B2A-401D-953C-BDF48FCEBBE1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992C-67FC-42E9-81D6-37709E8EEA26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00CA-04EE-4F68-86AB-25363E2BA3C4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0F3-085D-4AB7-A170-B1F5676F99BD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E713-EC1E-4B95-B164-49FCF596A02E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351-4549-437F-AFEB-0E28119A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6E2-0944-4844-9516-7434204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FCB-C53A-4258-A313-3C6982B0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ACD-02B3-47FC-AB39-6A6F1471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3052-04DA-4254-97AA-4EC1112F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E619-7E16-47B2-ABC1-1DB228A6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9344-DD68-4422-990B-C2D275F8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EE88-8C19-4AE6-81D4-8B4F217D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FA86-1D7E-4CD3-9048-EFAF0B31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CC5F-A0EE-4EE3-8B01-83C97F81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1DE4-069C-431A-BB7C-AF63164B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EAD-AD31-4224-B983-6DECA3E3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AD84-DF9D-497E-9E0E-AA3035B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1535-387F-4DB3-A923-50694DE2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4EEB-34F9-4A3A-95E6-A1A7C32D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DE57-19BE-433C-BABB-E0FE715B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A8D4-22EC-4BCD-8730-575241BD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2A8-3A1B-4EDA-AA6A-048A0D34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65C-E5EF-45B5-BE6E-0DF7E344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301-49C6-40F2-BDFE-7D1DEBBC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E7A-2F46-4FA9-A14F-8C1BCE14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47A-CCAD-445D-8C7E-B5CA3C9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F6F-36CF-4245-93B1-0B560E8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408-45B7-4846-B8DE-83380F66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0F2F-42A3-4B82-BFBC-58A609C77BFD}" type="slidenum"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9040" y="990720"/>
            <a:ext cx="8305920" cy="7596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924680" y="0"/>
            <a:ext cx="1219320" cy="304920"/>
            <a:chOff x="7924680" y="0"/>
            <a:chExt cx="1219320" cy="304920"/>
          </a:xfrm>
        </p:grpSpPr>
        <p:sp>
          <p:nvSpPr>
            <p:cNvPr id="7" name=""/>
            <p:cNvSpPr/>
            <p:nvPr/>
          </p:nvSpPr>
          <p:spPr>
            <a:xfrm>
              <a:off x="7924680" y="0"/>
              <a:ext cx="12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7971480" y="16560"/>
              <a:ext cx="2401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3"/>
            <a:stretch/>
          </p:blipFill>
          <p:spPr>
            <a:xfrm>
              <a:off x="8291880" y="16560"/>
              <a:ext cx="836280" cy="28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0" y="661356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sQGP Mini-Workshop (2007. Feb. 16-18) @ Nagoya University,                            T.Chu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E37D-A74A-4F98-B0F1-E9CA420F7013}" type="slidenum"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1356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sQGP Mini-Workshop (2007. Feb. 16-18) @ Nagoya University,                            T.Chu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83772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aryon anomaly at RH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733920" y="4572000"/>
            <a:ext cx="5270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tsuya Ch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University of Tsuku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934320" y="6019920"/>
            <a:ext cx="1981080" cy="457200"/>
            <a:chOff x="6934320" y="6019920"/>
            <a:chExt cx="1981080" cy="457200"/>
          </a:xfrm>
        </p:grpSpPr>
        <p:sp>
          <p:nvSpPr>
            <p:cNvPr id="99" name=""/>
            <p:cNvSpPr/>
            <p:nvPr/>
          </p:nvSpPr>
          <p:spPr>
            <a:xfrm>
              <a:off x="6934320" y="6019920"/>
              <a:ext cx="19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7010640" y="6045120"/>
              <a:ext cx="3902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7531200" y="6045120"/>
              <a:ext cx="135900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419040" y="2286000"/>
            <a:ext cx="8305920" cy="763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3520" y="2514600"/>
            <a:ext cx="3028680" cy="403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rrent understanding of baryon production at intermediat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t RHIC from the most recent data (spectra and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Onset of baryon enhan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am energy dependence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p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nnection to the SPS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Transition from soft to hard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protons and pions spectra, p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in Au+Au/Cu+Cu 200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Scaling properties of v</a:t>
            </a:r>
            <a:r>
              <a:rPr b="1" lang="ja-JP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 and quark 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rk number (NCQ) scaling vs. 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n scaling (Au+Au/Cu+C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so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here is the breaking point of NCQ sca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E49-FF60-4683-B1DD-B92A12E58DE3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8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ja-JP" sz="4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s dependence</a:t>
            </a:r>
            <a:br>
              <a:rPr sz="4800"/>
            </a:b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(focused on antiprotons)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3BF-0C35-412F-ABCF-140C7646DC26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New PID spectra at lower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6449" r="10144" b="0"/>
          <a:stretch/>
        </p:blipFill>
        <p:spPr>
          <a:xfrm>
            <a:off x="1828800" y="4398840"/>
            <a:ext cx="3505320" cy="2459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276720" y="1066680"/>
            <a:ext cx="3022560" cy="3353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246720" y="1905120"/>
            <a:ext cx="275616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ff"/>
                </a:solidFill>
                <a:uFillTx/>
                <a:latin typeface="Arial"/>
              </a:rPr>
              <a:t>New dataset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ff"/>
                </a:solidFill>
                <a:uFillTx/>
                <a:latin typeface="Arial"/>
              </a:rPr>
              <a:t>now availa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t’s look at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 a function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+p, Cu+Cu, Au+A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E42-DCAC-4FAC-92C6-DC2424E89AC0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105520" y="265284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+p 62.4 GeV, set the baseline for HI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New PHENIX data agrees with ISR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28600"/>
            <a:ext cx="4632480" cy="459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33400" y="129528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522-AD71-4767-AD44-9DBB38235AA7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029200" y="2835360"/>
            <a:ext cx="34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u+Cu 22.5 GeV,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ratio in central agrees with p+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36520"/>
            <a:ext cx="4616280" cy="4584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069-91FF-4F27-84D7-440F27946EC8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105520" y="2652840"/>
            <a:ext cx="341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u+Cu 62.4 GeV,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ratio larg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hose in p+p and Cu+Cu 22.5 G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35080"/>
            <a:ext cx="4621320" cy="4587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99C-EAE7-4ADB-B2DF-60B6074C6777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181480" y="283536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u+Cu 200 GeV, similar to those in Cu+Cu 62.4 Ge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35080"/>
            <a:ext cx="4621320" cy="4587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F07-A936-4EBD-B50B-91E595ADBE1D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105520" y="3017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u+Au 62 GeV,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is unchanged from Cu+Cu 20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35080"/>
            <a:ext cx="4621320" cy="4587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322-6FA3-4391-B0D0-975EB3B6642F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562720" y="2835360"/>
            <a:ext cx="256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u+Au 200 GeV,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is enh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1119240"/>
            <a:ext cx="4650840" cy="4619160"/>
            <a:chOff x="0" y="1119240"/>
            <a:chExt cx="4650840" cy="461916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rcRect l="50002" t="0" r="0" b="0"/>
            <a:stretch/>
          </p:blipFill>
          <p:spPr>
            <a:xfrm>
              <a:off x="0" y="1119240"/>
              <a:ext cx="4650840" cy="46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990360" y="3429720"/>
              <a:ext cx="1014120" cy="40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67A-B067-41D2-B822-6F4A4ADBCEB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0" y="283536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Peripheral collisions for al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onversing to the sa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1120680"/>
            <a:ext cx="4647960" cy="4616280"/>
            <a:chOff x="0" y="1120680"/>
            <a:chExt cx="4647960" cy="46162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rcRect l="50002" t="0" r="0" b="0"/>
            <a:stretch/>
          </p:blipFill>
          <p:spPr>
            <a:xfrm>
              <a:off x="0" y="1120680"/>
              <a:ext cx="4647960" cy="46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989640" y="3429720"/>
              <a:ext cx="1013400" cy="40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ratio (periphe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C1C-353D-42B2-8E2B-DAEF1FAB1EBE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1800" y="-360"/>
            <a:ext cx="734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ryon/Meson anomal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048120" cy="235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280" y="1143000"/>
            <a:ext cx="42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ENIX: PRL 91, 172301 (2003), PRC 69, 034909 (2004), PRC 74, 024904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1560" y="1155600"/>
            <a:ext cx="4572000" cy="53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“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Baryon anomaly (or enhancement) at RHIC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In Au+Au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= 200 GeV central collis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C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(or 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Pions: Strong suppression of yields abov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~ 2 GeV/c, due to jet quenching eff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Protons: No suppression for at intermediat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(2-5 GeV/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and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More (anti) baryons than pions at intermediate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(2-5 GeV/c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trong centrality depend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8000ff"/>
                </a:solidFill>
                <a:latin typeface="Arial"/>
                <a:ea typeface="Osaka"/>
              </a:rPr>
              <a:t>Inspired extensive theoretical works to explain the data.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4013280"/>
            <a:ext cx="3911760" cy="28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A9E-794B-46BF-A9A2-F42F31511F00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795920" y="52578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44680" y="1143000"/>
            <a:ext cx="8052840" cy="4208400"/>
            <a:chOff x="544680" y="1143000"/>
            <a:chExt cx="8052840" cy="4208400"/>
          </a:xfrm>
        </p:grpSpPr>
        <p:grpSp>
          <p:nvGrpSpPr>
            <p:cNvPr id="217" name=""/>
            <p:cNvGrpSpPr/>
            <p:nvPr/>
          </p:nvGrpSpPr>
          <p:grpSpPr>
            <a:xfrm>
              <a:off x="544680" y="1143000"/>
              <a:ext cx="8052840" cy="4208400"/>
              <a:chOff x="544680" y="1143000"/>
              <a:chExt cx="8052840" cy="4208400"/>
            </a:xfrm>
          </p:grpSpPr>
          <p:pic>
            <p:nvPicPr>
              <p:cNvPr id="218" name="" descr=""/>
              <p:cNvPicPr/>
              <p:nvPr/>
            </p:nvPicPr>
            <p:blipFill>
              <a:blip r:embed="rId1"/>
              <a:srcRect l="56464" t="0" r="0" b="0"/>
              <a:stretch/>
            </p:blipFill>
            <p:spPr>
              <a:xfrm>
                <a:off x="4743360" y="1155600"/>
                <a:ext cx="3854160" cy="419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2"/>
              <a:srcRect l="50009" t="0" r="2580" b="0"/>
              <a:stretch/>
            </p:blipFill>
            <p:spPr>
              <a:xfrm>
                <a:off x="544680" y="1143000"/>
                <a:ext cx="4198680" cy="4197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1523880" y="2666880"/>
              <a:ext cx="86832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"/>
          <p:cNvSpPr/>
          <p:nvPr/>
        </p:nvSpPr>
        <p:spPr>
          <a:xfrm>
            <a:off x="461880" y="5562720"/>
            <a:ext cx="82202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In 22.5 GeV Cu+Cu: weak centrality dependence,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ratios are ~0.3-0.4 at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= 2 GeV/c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hich is close to the value in p+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In 62.4 GeV Cu+Cu: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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ratio in central collisions reaches R=~0.6 at p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= 2 GeV/c, decreasing towards the peripheral ev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ntrality dep.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22 GeV vs. 62 GeV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168560" y="4368960"/>
            <a:ext cx="7162560" cy="0"/>
          </a:xfrm>
          <a:prstGeom prst="line">
            <a:avLst/>
          </a:prstGeom>
          <a:ln w="9360">
            <a:solidFill>
              <a:srgbClr val="ff6fc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6640" y="4149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fcf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E94-D22B-4887-8E36-2C2BC6104D1D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-895680" y="1530360"/>
            <a:ext cx="7861680" cy="3834360"/>
            <a:chOff x="-895680" y="1530360"/>
            <a:chExt cx="7861680" cy="383436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32259" t="3285" r="37387" b="63052"/>
            <a:stretch/>
          </p:blipFill>
          <p:spPr>
            <a:xfrm>
              <a:off x="380880" y="1530360"/>
              <a:ext cx="502920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-895680" y="4684680"/>
              <a:ext cx="786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0                1.0              2.0               3.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(GeV/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Comparison with SPS dat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143000" y="4140360"/>
            <a:ext cx="3898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00" y="38862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98040" y="379404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Pb+Pb 17.2 GeV (cent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87400" y="1747800"/>
            <a:ext cx="32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Schuster, A. Laszlo (NA4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-ex/0606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80280" y="5800680"/>
            <a:ext cx="5385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PS Pb+Pb: consistent with Cu+Cu 22.5 GeV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D0B-B61B-4BC8-9DC2-E9F08ABEDA63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5854680" cy="4797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1828800" y="2819520"/>
            <a:ext cx="2743200" cy="167616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2362320"/>
            <a:ext cx="274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creasing as a function 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dicates the onset of baryon enhancement is in between 22 GeV and 62 GeV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ratio (central): summary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16F-47C8-4961-8DEE-A0A3C3FC4DF8}" type="slidenum">
              <a:t>22</a:t>
            </a:fld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dep. R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for antiprotons (by ISR fit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203880" cy="4913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426360" y="1778040"/>
            <a:ext cx="25779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d ISR data at 23 GeV and 63 GeV (Alper. NPB 100, 237) for p+p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milar 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for all thre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* Note: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p+p 62.4 GeV p+p data has been measured by PHENIX, still working on the trigger bias and cross section seen in the detector. Here we use ISR fit to obtain R</a:t>
            </a:r>
            <a:r>
              <a:rPr b="0" i="1" lang="ja-JP" sz="1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DEA-DD7F-4B5B-B0DF-38B964BD0840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200640" cy="49118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dep. R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for charged pions (by ISR fit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95560" y="2971800"/>
            <a:ext cx="2819160" cy="102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Error nota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Error bars: statistical error for HI spec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Boxe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) sys. error for p+p refere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) sys. error for HI spectra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Lines: N</a:t>
            </a:r>
            <a:r>
              <a:rPr b="0" lang="ja-JP" sz="10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error (1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549440"/>
            <a:ext cx="293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d ISR fit (nucl-ex/0411049, D. d’Enteria) for p+p parameter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derate suppression for Au+Au 62.4 G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eater than unity for Cu+Cu 62/22 GeV 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gt; 2.0 GeV/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350-1BF8-4F5B-80A2-33561F76FF88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0" t="6449" r="10144" b="0"/>
          <a:stretch/>
        </p:blipFill>
        <p:spPr>
          <a:xfrm>
            <a:off x="4572000" y="114300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267080" cy="3049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at 22.5 GeV (centrality dep.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5181480"/>
            <a:ext cx="449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centrality depend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0" y="342756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0" y="3427560"/>
            <a:ext cx="4267080" cy="3049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571280" y="60199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Baldo Sahlmüller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7E7-21BE-4390-94F9-F65C3B66AF87}" type="slidenum">
              <a:t>25</a:t>
            </a:fld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6324480" cy="42894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PS (17 GeV) vs. RHIC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ehavior for similar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3 at WA98, 67.8 at PHEN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4191120"/>
            <a:ext cx="2514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lattnig parameterization used for WA98 data (S. Blattnig et. al.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hys.Rev. D62 (2000) 094030 / D. D’Enterria, Phys. Lett. B 596 (2004) 32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080" y="62485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Baldo Sahlmüller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340-55DC-4BF0-BD6C-380E003AC491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vs.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0" t="0" r="0" b="34726"/>
          <a:stretch/>
        </p:blipFill>
        <p:spPr>
          <a:xfrm>
            <a:off x="1028880" y="1219320"/>
            <a:ext cx="7086600" cy="4806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23000" y="600228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. d’Enterria, nucl-ex/0504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A37-27B1-4093-A9B0-8DD3F48F8F23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8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2. High p</a:t>
            </a:r>
            <a:r>
              <a:rPr b="1" lang="ja-JP" sz="4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 protons,</a:t>
            </a:r>
            <a:r>
              <a:rPr b="1" lang="ja-JP" sz="4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800"/>
            </a:b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and </a:t>
            </a:r>
            <a:br>
              <a:rPr sz="4800"/>
            </a:b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transition from soft to hard process 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870-CABA-491D-88F5-9FA39E710561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429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10360" y="4724280"/>
            <a:ext cx="7761600" cy="174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ratios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urn over at intermediate p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d be close to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of fragmentation expectation at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trong centrality depend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ing with p+p data: indicating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 transition from soft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ar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t intermediat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9760" y="6461280"/>
            <a:ext cx="2815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No weak decay feed-down correction appli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+p data 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C 74, 024904 (2006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in Au+Au 200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80600" y="106668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Masahiro Konno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794-34B6-4B7D-9A97-3D13C7A4E21E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200" spc="-1" strike="noStrike" baseline="-12000">
                <a:solidFill>
                  <a:srgbClr val="0000ff"/>
                </a:solidFill>
                <a:latin typeface="Arial"/>
              </a:rPr>
              <a:t>c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from Recombination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5920" y="1109520"/>
            <a:ext cx="5591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litting between baryons and mesons comes naturally in the recombination appro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917800" y="1851120"/>
            <a:ext cx="6173640" cy="4295880"/>
            <a:chOff x="2917800" y="1851120"/>
            <a:chExt cx="6173640" cy="4295880"/>
          </a:xfrm>
        </p:grpSpPr>
        <p:grpSp>
          <p:nvGrpSpPr>
            <p:cNvPr id="112" name=""/>
            <p:cNvGrpSpPr/>
            <p:nvPr/>
          </p:nvGrpSpPr>
          <p:grpSpPr>
            <a:xfrm>
              <a:off x="6146640" y="2209680"/>
              <a:ext cx="2824200" cy="2729160"/>
              <a:chOff x="6146640" y="2209680"/>
              <a:chExt cx="2824200" cy="272916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146640" y="2209680"/>
                <a:ext cx="2824200" cy="2729160"/>
                <a:chOff x="6146640" y="2209680"/>
                <a:chExt cx="2824200" cy="2729160"/>
              </a:xfrm>
            </p:grpSpPr>
            <p:pic>
              <p:nvPicPr>
                <p:cNvPr id="11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146640" y="2209680"/>
                  <a:ext cx="2824200" cy="272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>
                  <a:off x="6575400" y="4178520"/>
                  <a:ext cx="1347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Hwa, Ya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6558120" y="2244600"/>
                <a:ext cx="2395440" cy="23814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522600" y="5124600"/>
              <a:ext cx="55688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ombination + Fragmen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needed to reproduce identified spectra and 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measurements at higher 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917800" y="1851120"/>
              <a:ext cx="3201840" cy="2798640"/>
              <a:chOff x="2917800" y="1851120"/>
              <a:chExt cx="3201840" cy="27986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917800" y="1851120"/>
                <a:ext cx="3201840" cy="2798640"/>
                <a:chOff x="2917800" y="1851120"/>
                <a:chExt cx="3201840" cy="2798640"/>
              </a:xfrm>
            </p:grpSpPr>
            <p:pic>
              <p:nvPicPr>
                <p:cNvPr id="120" name="" descr=""/>
                <p:cNvPicPr/>
                <p:nvPr/>
              </p:nvPicPr>
              <p:blipFill>
                <a:blip r:embed="rId3"/>
                <a:srcRect l="0" t="0" r="46401" b="49729"/>
                <a:stretch/>
              </p:blipFill>
              <p:spPr>
                <a:xfrm>
                  <a:off x="2917800" y="1851120"/>
                  <a:ext cx="3201840" cy="27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" name=""/>
                <p:cNvSpPr/>
                <p:nvPr/>
              </p:nvSpPr>
              <p:spPr>
                <a:xfrm>
                  <a:off x="3719520" y="2249280"/>
                  <a:ext cx="2395440" cy="238104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4544280" y="316368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00"/>
                    </a:solidFill>
                    <a:latin typeface="Times New Roman"/>
                  </a:rPr>
                  <a:t>Fries, Muller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00"/>
                    </a:solidFill>
                    <a:latin typeface="Times New Roman"/>
                  </a:rPr>
                  <a:t>Nonaka, Ba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57320" y="1179360"/>
            <a:ext cx="2946240" cy="2368800"/>
            <a:chOff x="157320" y="1179360"/>
            <a:chExt cx="2946240" cy="2368800"/>
          </a:xfrm>
        </p:grpSpPr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157320" y="1179360"/>
              <a:ext cx="294624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56640" y="1318320"/>
              <a:ext cx="2331000" cy="1861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63440" y="3463920"/>
            <a:ext cx="2890800" cy="2573280"/>
            <a:chOff x="163440" y="3463920"/>
            <a:chExt cx="2890800" cy="2573280"/>
          </a:xfrm>
        </p:grpSpPr>
        <p:pic>
          <p:nvPicPr>
            <p:cNvPr id="127" name="" descr=""/>
            <p:cNvPicPr/>
            <p:nvPr/>
          </p:nvPicPr>
          <p:blipFill>
            <a:blip r:embed="rId5"/>
            <a:srcRect l="7437" t="5171" r="0" b="0"/>
            <a:stretch/>
          </p:blipFill>
          <p:spPr>
            <a:xfrm>
              <a:off x="163440" y="3463920"/>
              <a:ext cx="289080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23880" y="3596760"/>
              <a:ext cx="2286720" cy="1983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28600" y="5877000"/>
            <a:ext cx="335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.J. Fries, et al., Phys. Rev. Lett. 90 202303 (200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. C. Hwa, et al., Phys. Rev. C 70, 024905 (200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. Greco, et al., Phys. Rev. C 68, 034904(2003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071-4F35-4CCA-8A82-35F401EB0B2E}" type="slidenum">
              <a:t>3</a:t>
            </a:fld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257480" y="5181480"/>
            <a:ext cx="6629400" cy="7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ryon enhancement in Cu+Cu at 200 GeV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pendence in Cu+Cu is similar to that in Au+A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33480" y="1295280"/>
            <a:ext cx="7277040" cy="3429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in Cu+Cu 200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05740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4640" y="106668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Masahiro Konno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946-61AD-4CA9-807E-185B08197D30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Transition from soft to hard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857920" cy="33591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89400" y="4572000"/>
            <a:ext cx="43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, Phys. Rev. Lett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006) 1523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86400" y="1143000"/>
            <a:ext cx="3657600" cy="3812400"/>
            <a:chOff x="5486400" y="1143000"/>
            <a:chExt cx="3657600" cy="3812400"/>
          </a:xfrm>
        </p:grpSpPr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5486400" y="1447920"/>
              <a:ext cx="365760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88400" y="2362320"/>
              <a:ext cx="71424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/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0440" y="1143000"/>
              <a:ext cx="244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PHENIX prelimin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2000" y="464832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sahiro Konno (QM0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05840" y="5473800"/>
            <a:ext cx="893340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ryon enhancement occurs in the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region from 1.5-5.0 GeV/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combination modes with hard component reproduce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DAE-5F41-4798-9AD9-74F3153D0A10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62120" y="4116240"/>
            <a:ext cx="6400800" cy="27417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rcRect l="5155" t="0" r="49506" b="0"/>
          <a:stretch/>
        </p:blipFill>
        <p:spPr>
          <a:xfrm>
            <a:off x="1752480" y="1219320"/>
            <a:ext cx="2819520" cy="2862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520280" y="4114800"/>
            <a:ext cx="39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AR, Phys. Rev. Lett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2006) 1523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360" y="311004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. Konno (HQ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cp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in Au+Au 200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07280" y="1371600"/>
            <a:ext cx="60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2133720"/>
            <a:ext cx="3521160" cy="99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data also show that baryon enhancement is in the limited pT range 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 1.5 - 5.0 GeV/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AEF-4BF6-4EE2-8BE8-A11243689EC1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295280" cy="523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28600" y="1676520"/>
            <a:ext cx="8113680" cy="3666960"/>
            <a:chOff x="228600" y="1676520"/>
            <a:chExt cx="8113680" cy="366696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43434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"/>
          <p:cNvGrpSpPr/>
          <p:nvPr/>
        </p:nvGrpSpPr>
        <p:grpSpPr>
          <a:xfrm>
            <a:off x="228600" y="1676520"/>
            <a:ext cx="8077320" cy="3666960"/>
            <a:chOff x="228600" y="1676520"/>
            <a:chExt cx="8077320" cy="3666960"/>
          </a:xfrm>
        </p:grpSpPr>
        <p:pic>
          <p:nvPicPr>
            <p:cNvPr id="296" name="" descr=""/>
            <p:cNvPicPr/>
            <p:nvPr/>
          </p:nvPicPr>
          <p:blipFill>
            <a:blip r:embed="rId4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5"/>
            <a:stretch/>
          </p:blipFill>
          <p:spPr>
            <a:xfrm>
              <a:off x="4343400" y="1676520"/>
              <a:ext cx="3962520" cy="36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"/>
          <p:cNvGrpSpPr/>
          <p:nvPr/>
        </p:nvGrpSpPr>
        <p:grpSpPr>
          <a:xfrm>
            <a:off x="228600" y="1676520"/>
            <a:ext cx="8113680" cy="3666960"/>
            <a:chOff x="228600" y="1676520"/>
            <a:chExt cx="8113680" cy="3666960"/>
          </a:xfrm>
        </p:grpSpPr>
        <p:pic>
          <p:nvPicPr>
            <p:cNvPr id="299" name="" descr=""/>
            <p:cNvPicPr/>
            <p:nvPr/>
          </p:nvPicPr>
          <p:blipFill>
            <a:blip r:embed="rId6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7"/>
            <a:stretch/>
          </p:blipFill>
          <p:spPr>
            <a:xfrm>
              <a:off x="43434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228600" y="1676520"/>
            <a:ext cx="8113680" cy="3666960"/>
            <a:chOff x="228600" y="1676520"/>
            <a:chExt cx="8113680" cy="36669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2286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9"/>
            <a:stretch/>
          </p:blipFill>
          <p:spPr>
            <a:xfrm>
              <a:off x="4343400" y="1676520"/>
              <a:ext cx="3998880" cy="366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/>
          <p:cNvSpPr/>
          <p:nvPr/>
        </p:nvSpPr>
        <p:spPr>
          <a:xfrm>
            <a:off x="3349440" y="12193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HENIX 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(Au+Au 200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99720" y="541008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Masahiro Konno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35F-955A-450B-8A91-BD734B67E7E8}" type="slidenum">
              <a:t>33</a:t>
            </a:fld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8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. Scaling properties of v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BBA-1E2D-4545-AE2F-B159816AC7BD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8440" y="1243080"/>
            <a:ext cx="4789440" cy="3359160"/>
            <a:chOff x="28440" y="1243080"/>
            <a:chExt cx="4789440" cy="335916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rcRect l="0" t="0" r="5517" b="42857"/>
            <a:stretch/>
          </p:blipFill>
          <p:spPr>
            <a:xfrm>
              <a:off x="28440" y="1243080"/>
              <a:ext cx="4789440" cy="28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2"/>
            <a:srcRect l="0" t="88577" r="5517" b="0"/>
            <a:stretch/>
          </p:blipFill>
          <p:spPr>
            <a:xfrm>
              <a:off x="28440" y="4022640"/>
              <a:ext cx="4789440" cy="57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" descr=""/>
          <p:cNvPicPr/>
          <p:nvPr/>
        </p:nvPicPr>
        <p:blipFill>
          <a:blip r:embed="rId3"/>
          <a:srcRect l="0" t="0" r="5517" b="0"/>
          <a:stretch/>
        </p:blipFill>
        <p:spPr>
          <a:xfrm>
            <a:off x="28440" y="1241280"/>
            <a:ext cx="4789800" cy="5073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075120" y="396864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9120" y="371304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 GeV Au+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06200" y="1419120"/>
            <a:ext cx="16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in. bias (0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8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CQ Scaling for v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1371600"/>
            <a:ext cx="406404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Deviation from perfect sca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mperfections of  recombination approa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rong scaling vari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fferent hadronization mechan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luon degrees of freedom plays a ro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B. Müller, R. Fries, S Bass, Phys. Lett. B618, 77-83 (200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87680" y="11239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. Sorensen, QM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79760" y="3735360"/>
            <a:ext cx="21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2e"/>
                </a:solidFill>
                <a:latin typeface="Verdana"/>
              </a:rPr>
              <a:t>PHENIX</a:t>
            </a: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0760" y="289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453-61FA-4E7F-98DE-70B9A61B687F}" type="slidenum">
              <a:t>35</a:t>
            </a:fld>
          </a:p>
        </p:txBody>
      </p:sp>
    </p:spTree>
  </p:cSld>
  <p:transition spd="slow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22840" y="5153040"/>
            <a:ext cx="8640720" cy="1743840"/>
          </a:xfrm>
          <a:prstGeom prst="rect">
            <a:avLst/>
          </a:prstGeom>
          <a:solidFill>
            <a:srgbClr val="f9fba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ssence: all particles originate from a common velocity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lliptic flow scales with 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up to 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~1 GeV for all particle types,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dicates hydrodynamic behav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ear Baryon/Meson splitting at 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~1 GeV, a hint of quark deg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f freedom become  apparent at higher 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verse Kinetic Energy Scaling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0" t="0" r="5884" b="5459"/>
          <a:stretch/>
        </p:blipFill>
        <p:spPr>
          <a:xfrm>
            <a:off x="228600" y="1066680"/>
            <a:ext cx="4876920" cy="3962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562720" y="2438280"/>
            <a:ext cx="75960" cy="381240"/>
          </a:xfrm>
          <a:custGeom>
            <a:avLst/>
            <a:gdLst>
              <a:gd name="textAreaLeft" fmla="*/ 0 w 75960"/>
              <a:gd name="textAreaRight" fmla="*/ 27360 w 7596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3048120"/>
            <a:ext cx="75960" cy="380880"/>
          </a:xfrm>
          <a:custGeom>
            <a:avLst/>
            <a:gdLst>
              <a:gd name="textAreaLeft" fmla="*/ 0 w 75960"/>
              <a:gd name="textAreaRight" fmla="*/ 27360 w 759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3200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1371600"/>
            <a:ext cx="457200" cy="2209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1066680"/>
            <a:ext cx="2209680" cy="398880"/>
          </a:xfrm>
          <a:prstGeom prst="rect">
            <a:avLst/>
          </a:prstGeom>
          <a:solidFill>
            <a:srgbClr val="f9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ing brea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2590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32004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2438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yons scale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2971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ns scale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3886200"/>
            <a:ext cx="176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638680" y="3429000"/>
            <a:ext cx="2666880" cy="1263600"/>
            <a:chOff x="5638680" y="3429000"/>
            <a:chExt cx="2666880" cy="1263600"/>
          </a:xfrm>
        </p:grpSpPr>
        <p:sp>
          <p:nvSpPr>
            <p:cNvPr id="334" name=""/>
            <p:cNvSpPr/>
            <p:nvPr/>
          </p:nvSpPr>
          <p:spPr>
            <a:xfrm>
              <a:off x="5638680" y="3429000"/>
              <a:ext cx="2666880" cy="1263600"/>
            </a:xfrm>
            <a:prstGeom prst="rect">
              <a:avLst/>
            </a:prstGeom>
            <a:solidFill>
              <a:srgbClr val="f9fba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ja-JP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Comic Sans MS"/>
                </a:rPr>
                <a:t>T </a:t>
              </a:r>
              <a:r>
                <a:rPr b="0" lang="ja-JP" sz="2000" spc="-1" strike="noStrike">
                  <a:solidFill>
                    <a:srgbClr val="000000"/>
                  </a:solidFill>
                  <a:latin typeface="Comic Sans MS"/>
                </a:rPr>
                <a:t>–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5" name=""/>
            <p:cNvGraphicFramePr/>
            <p:nvPr/>
          </p:nvGraphicFramePr>
          <p:xfrm>
            <a:off x="6248160" y="3581280"/>
            <a:ext cx="1704960" cy="330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48160" y="3581280"/>
                      <a:ext cx="170496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7" name=""/>
          <p:cNvSpPr/>
          <p:nvPr/>
        </p:nvSpPr>
        <p:spPr>
          <a:xfrm>
            <a:off x="5257800" y="16765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, nucl-ex/0608033 (submitted to PR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5760" y="4500720"/>
            <a:ext cx="41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Pressure gradients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flow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kinetic energy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6BF-C77F-4C6A-B361-2D8C3BC0F822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4160" y="5600880"/>
            <a:ext cx="8267400" cy="99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arent quark number scaling works over extended range of K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ron mass scaling at low K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n (&lt; 1 GeV) is p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istent with quark degrees of freedom in the initial flowing mat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verse Kinetic Energy Scaling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1558" t="9562" r="7792" b="5737"/>
          <a:stretch/>
        </p:blipFill>
        <p:spPr>
          <a:xfrm>
            <a:off x="1143000" y="1063800"/>
            <a:ext cx="6324480" cy="4375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410080" y="4432320"/>
            <a:ext cx="200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, nucl-ex/0608033 (submitted to P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6400" y="3733920"/>
            <a:ext cx="176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E54-2F9D-4920-9515-8A6419A0EF7D}" type="slidenum">
              <a:t>37</a:t>
            </a:fld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rcRect l="0" t="5868" r="0" b="0"/>
          <a:stretch/>
        </p:blipFill>
        <p:spPr>
          <a:xfrm>
            <a:off x="4178160" y="1219320"/>
            <a:ext cx="4800600" cy="38732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80880" y="5181480"/>
            <a:ext cx="8458200" cy="139716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n scaling works for the full measured range with deviation less than 10% from the universal scaling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mple NCQ scaling works only at 20% level for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2 GeV/c, and breaks below with clear systematic dependence on the m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2000" y="41911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4720" y="259092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rcRect l="1173" t="3211" r="6028" b="686"/>
          <a:stretch/>
        </p:blipFill>
        <p:spPr>
          <a:xfrm>
            <a:off x="0" y="1371600"/>
            <a:ext cx="4495680" cy="37339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CQ vs. KE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n scaling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EC0-9A53-48BD-94AE-617CACAF2AB1}" type="slidenum">
              <a:t>38</a:t>
            </a:fld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rcRect l="0" t="9720" r="6743" b="2778"/>
          <a:stretch/>
        </p:blipFill>
        <p:spPr>
          <a:xfrm>
            <a:off x="1143000" y="129528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632240" y="6097680"/>
            <a:ext cx="5976360" cy="510120"/>
          </a:xfrm>
          <a:prstGeom prst="rect">
            <a:avLst/>
          </a:prstGeom>
          <a:solidFill>
            <a:srgbClr val="f9fba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observed across centra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019920" y="4876920"/>
            <a:ext cx="1066680" cy="380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ntrality dep. of KE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n scaling in Au+Au 200 GeV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63040" y="1066680"/>
            <a:ext cx="22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Arkadij Taranenko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0D4-DBB2-4B27-858B-5A42EE3841BC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429080" y="1752480"/>
            <a:ext cx="4714920" cy="4604760"/>
            <a:chOff x="4429080" y="1752480"/>
            <a:chExt cx="4714920" cy="4604760"/>
          </a:xfrm>
        </p:grpSpPr>
        <p:grpSp>
          <p:nvGrpSpPr>
            <p:cNvPr id="131" name=""/>
            <p:cNvGrpSpPr/>
            <p:nvPr/>
          </p:nvGrpSpPr>
          <p:grpSpPr>
            <a:xfrm>
              <a:off x="4429080" y="1752480"/>
              <a:ext cx="4714920" cy="4604760"/>
              <a:chOff x="4429080" y="1752480"/>
              <a:chExt cx="4714920" cy="46047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1752480"/>
                <a:ext cx="4708440" cy="321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4662360" y="4908600"/>
                <a:ext cx="4481640" cy="14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termediate p</a:t>
                </a:r>
                <a:r>
                  <a:rPr b="0" lang="ja-JP" sz="2000" spc="-1" strike="noStrike" baseline="-25000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“</a:t>
                </a:r>
                <a:r>
                  <a:rPr b="1" lang="ja-JP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Hard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” pions vs. “</a:t>
                </a:r>
                <a:r>
                  <a:rPr b="1" lang="ja-JP" sz="2000" spc="-1" strike="noStrike">
                    <a:solidFill>
                      <a:srgbClr val="0000ff"/>
                    </a:solidFill>
                    <a:latin typeface="Arial"/>
                    <a:ea typeface="ＭＳ Ｐゴシック"/>
                  </a:rPr>
                  <a:t>Soft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” prot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mass effec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8003520" y="17841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86640" y="1830240"/>
              <a:ext cx="3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34440" y="17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terplay between “Soft” and “Hard”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3240" y="1150920"/>
            <a:ext cx="4402080" cy="4356000"/>
            <a:chOff x="-3240" y="1150920"/>
            <a:chExt cx="4402080" cy="435600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rcRect l="0" t="2034" r="0" b="0"/>
            <a:stretch/>
          </p:blipFill>
          <p:spPr>
            <a:xfrm>
              <a:off x="-3240" y="1150920"/>
              <a:ext cx="4402080" cy="43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812960" y="2309760"/>
              <a:ext cx="28440" cy="2635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51080" y="3265560"/>
              <a:ext cx="28440" cy="1712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0640" y="43657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85680" y="537840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ossover: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8 GeV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6 GeV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8 GeV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4160" y="1066680"/>
            <a:ext cx="4168440" cy="722880"/>
            <a:chOff x="4574160" y="1066680"/>
            <a:chExt cx="4168440" cy="722880"/>
          </a:xfrm>
        </p:grpSpPr>
        <p:sp>
          <p:nvSpPr>
            <p:cNvPr id="146" name=""/>
            <p:cNvSpPr/>
            <p:nvPr/>
          </p:nvSpPr>
          <p:spPr>
            <a:xfrm>
              <a:off x="4683240" y="1452240"/>
              <a:ext cx="405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.Hirano, Y.Nara, Phys.Rev.C69,034908(200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4160" y="10666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dro+J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060520" y="2511360"/>
            <a:ext cx="5770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F03-08F2-405A-9AE6-AAC5E56CF667}" type="slidenum">
              <a:t>4</a:t>
            </a:fld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rcRect l="0" t="2146" r="2381" b="3403"/>
          <a:stretch/>
        </p:blipFill>
        <p:spPr>
          <a:xfrm>
            <a:off x="685800" y="1295280"/>
            <a:ext cx="7238880" cy="38847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25924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E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n scaling in “Cu+Cu” 200 GeV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13560" y="5334120"/>
            <a:ext cx="22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Arkadij Taranenko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26680" y="6095880"/>
            <a:ext cx="6288840" cy="510120"/>
          </a:xfrm>
          <a:prstGeom prst="rect">
            <a:avLst/>
          </a:prstGeom>
          <a:solidFill>
            <a:srgbClr val="f9fba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scaling also works in Cu+Cu 200 G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85E-43D9-40BC-BD3E-27D675733093}" type="slidenum">
              <a:t>40</a:t>
            </a:fld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71640" y="5486400"/>
            <a:ext cx="7199280" cy="111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vs KE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is a good way to see if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follow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hat for mesons or bary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/n vs KE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/n  scaling clearly works for 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mesons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3506" r="935" b="0"/>
          <a:stretch/>
        </p:blipFill>
        <p:spPr>
          <a:xfrm>
            <a:off x="533520" y="1143000"/>
            <a:ext cx="8076960" cy="4191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of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meson (Au+Au 200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65600" y="1143000"/>
            <a:ext cx="22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Arkadij Taranenko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30C-C4BA-4F81-8361-2BEF7A9F8F89}" type="slidenum">
              <a:t>41</a:t>
            </a:fld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17680" y="874800"/>
            <a:ext cx="33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184640" cy="4286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4287960" cy="43434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990720" y="5943600"/>
            <a:ext cx="7315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Though the statistical errors are too large, it seems to be incompatible with the KE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/n scaling at S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760" y="5334120"/>
            <a:ext cx="4838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p, </a:t>
            </a:r>
            <a:r>
              <a:rPr b="0" lang="el-GR" sz="1200" spc="-1" strike="noStrike">
                <a:solidFill>
                  <a:srgbClr val="000000"/>
                </a:solidFill>
                <a:latin typeface="Symbol"/>
                <a:ea typeface="Symbol"/>
              </a:rPr>
              <a:t>πΛ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. Alt et al (NA49), nucl-ex/060602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(preliminary) - G. Stefanek (NA49), nucl-ex/0611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KE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/n scaling of v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@ SP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32480" y="1103400"/>
            <a:ext cx="24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Osaka"/>
              </a:rPr>
              <a:t>Presented by Arkadij Taranenko (QM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B3A-3A38-4BB3-A6F2-636BBAFF671C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231920"/>
            <a:ext cx="83822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Onset of baryon enhancement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ati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 indicate that an onset of baryon enhancement could be in between 22 GeV and 62 GeV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Transition from soft to h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igh statistics, high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PID spectra data (with detector upgrades) in Au+Au/Cu+Cu 200 GeV have been measu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ransition from soft to hard: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1.5 - 5.0 GeV/c from p/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ovides further constrain to the model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Quark’s degrees of free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caling of transverse kinetic energy with quark number (K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n) for v2 works well at RHIC in a wide range of centrality, for both Au+Au/Cu+C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PS v2 seems to be incompatible with K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n sca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Outlo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un-7 (2007): Au+Au 200 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 PHENIX, “high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PID upgrade project” has been completed, ready to take first physics data in Run-7. J/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v2 with new the new reaction plane detec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ID jet corre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t induced p-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 pair productions” (PHENIX, nucl-ex/0611016), still challenging for the coherent quark recombination pi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er energy data scan (RHIC-I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37C-066E-4B33-A644-C3FD5F2463C0}" type="slidenum">
              <a:t>43</a:t>
            </a:fld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Backup Slides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439-1DBE-4F70-B9A2-DACBDC933CDA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27240" y="387000"/>
            <a:ext cx="71755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ep. of p/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5854680" cy="4797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2480" y="2666880"/>
            <a:ext cx="2819520" cy="1638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2362320"/>
            <a:ext cx="274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ecreasing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s a function of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55E-4BFE-42A6-B1E6-90BD551EA466}" type="slidenum">
              <a:t>45</a:t>
            </a:fld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for protons (by ISR fit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6204240" cy="4915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426360" y="1778040"/>
            <a:ext cx="25779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sed ISR data at 63 GeV (Alper. NPB 100, 237) for p+p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Largest R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for Cu+Cu 22.5 G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for Au+Au 62.4 GeV is smaller than that in Cu+Cu 62.4 G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CBE-BC77-46DE-A5DC-0A235A647DA0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ference data (p+p 62.4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+p parameterization at 62.4 GeV: Fit to existing (ISR) data at similar energies (D.d'Enterria. J.Phys.G31, S491 (200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28800" y="1938240"/>
            <a:ext cx="5334120" cy="46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0F6-05D7-4D66-B6AA-A5A1C3B2F8E2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17520" y="1981080"/>
            <a:ext cx="6302520" cy="37846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ference data (p+p 62.4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data sets inconsistent =&gt; larg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D12-1775-453E-83F6-6A7D60C830E4}" type="slidenum">
              <a:t>48</a:t>
            </a:fld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ference data (p+p 22.5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p parameterization at 22.4 GeV: Fit to existing data at similar energies (D.d'Enterria. J.Phys.G31, S491 (200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800600" cy="45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961-6118-495E-8103-79C98848489D}" type="slidenum">
              <a:t>49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l-GR" sz="3200" spc="-1" strike="noStrike">
                <a:solidFill>
                  <a:srgbClr val="0000ff"/>
                </a:solidFill>
                <a:latin typeface="Arial"/>
                <a:ea typeface="Lucida Grande"/>
              </a:rPr>
              <a:t>→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ja-JP" sz="3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ja-JP" sz="3200" spc="-1" strike="noStrike" baseline="30000">
                <a:solidFill>
                  <a:srgbClr val="0000ff"/>
                </a:solidFill>
                <a:latin typeface="Arial"/>
              </a:rPr>
              <a:t>-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 R</a:t>
            </a:r>
            <a:r>
              <a:rPr b="1" lang="ja-JP" sz="32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00240" y="1166760"/>
            <a:ext cx="6743520" cy="4524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71600" y="5394240"/>
            <a:ext cx="6400800" cy="151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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  <a:ea typeface="Arial"/>
              </a:rPr>
              <a:t>R</a:t>
            </a:r>
            <a:r>
              <a:rPr b="1" lang="ja-JP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AA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  <a:ea typeface="Arial"/>
              </a:rPr>
              <a:t> looks like the </a:t>
            </a:r>
            <a:r>
              <a:rPr b="1" lang="el-GR" sz="2000" spc="-1" strike="noStrike">
                <a:solidFill>
                  <a:srgbClr val="0000ff"/>
                </a:solidFill>
                <a:latin typeface="Symbol"/>
                <a:ea typeface="Symbol"/>
              </a:rPr>
              <a:t>π</a:t>
            </a:r>
            <a:r>
              <a:rPr b="1" lang="el-GR" sz="20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  <a:ea typeface="Arial"/>
              </a:rPr>
              <a:t> rather than the proton, even if mass(</a:t>
            </a: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  <a:ea typeface="Arial"/>
              </a:rPr>
              <a:t>) ~ mass(p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Suggested that it’s not the mass effect, but baryon/meson eff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4BE-48A4-441C-BE6E-77BB824C2847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6780960" y="1784520"/>
            <a:ext cx="1427400" cy="1450800"/>
            <a:chOff x="6780960" y="1784520"/>
            <a:chExt cx="1427400" cy="1450800"/>
          </a:xfrm>
        </p:grpSpPr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6781680" y="2714760"/>
              <a:ext cx="1295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780960" y="178452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Phen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prelimin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703560" y="4299120"/>
            <a:ext cx="20462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No weak dec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ed-down corr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9320" y="3537000"/>
            <a:ext cx="2027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F (&lt;3 GeV/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 (&gt;3 GeV/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6320" y="1066680"/>
            <a:ext cx="8880840" cy="4903560"/>
            <a:chOff x="76320" y="1066680"/>
            <a:chExt cx="8880840" cy="49035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76320" y="1066680"/>
              <a:ext cx="5715000" cy="49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02244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.6 - 1.5 GeV/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6320" y="1066680"/>
            <a:ext cx="8912520" cy="4902120"/>
            <a:chOff x="76320" y="1066680"/>
            <a:chExt cx="8912520" cy="4902120"/>
          </a:xfrm>
        </p:grpSpPr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76320" y="1066680"/>
              <a:ext cx="5713200" cy="49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05412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.0 - 2.0 GeV/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6320" y="1066680"/>
            <a:ext cx="8912520" cy="4800600"/>
            <a:chOff x="76320" y="1066680"/>
            <a:chExt cx="8912520" cy="4800600"/>
          </a:xfrm>
        </p:grpSpPr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76320" y="1069920"/>
              <a:ext cx="571500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05412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.0 - 3.0 GeV/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6320" y="1066680"/>
            <a:ext cx="8880480" cy="4854600"/>
            <a:chOff x="76320" y="1066680"/>
            <a:chExt cx="8880480" cy="4854600"/>
          </a:xfrm>
        </p:grpSpPr>
        <p:pic>
          <p:nvPicPr>
            <p:cNvPr id="408" name="" descr=""/>
            <p:cNvPicPr/>
            <p:nvPr/>
          </p:nvPicPr>
          <p:blipFill>
            <a:blip r:embed="rId5"/>
            <a:stretch/>
          </p:blipFill>
          <p:spPr>
            <a:xfrm>
              <a:off x="76320" y="1066680"/>
              <a:ext cx="5714640" cy="48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022080" y="106668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3.0 - 4.0 GeV/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0320" y="990720"/>
            <a:ext cx="8880840" cy="4876560"/>
            <a:chOff x="130320" y="990720"/>
            <a:chExt cx="8880840" cy="4876560"/>
          </a:xfrm>
        </p:grpSpPr>
        <p:pic>
          <p:nvPicPr>
            <p:cNvPr id="411" name="" descr=""/>
            <p:cNvPicPr/>
            <p:nvPr/>
          </p:nvPicPr>
          <p:blipFill>
            <a:blip r:embed="rId6"/>
            <a:stretch/>
          </p:blipFill>
          <p:spPr>
            <a:xfrm>
              <a:off x="130320" y="990720"/>
              <a:ext cx="5715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076440" y="990720"/>
              <a:ext cx="2934720" cy="5814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.0 - 5.0 GeV/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247440" y="525780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Masahiro Konno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02B-2580-4C93-9D48-E82645E5F8DF}" type="slidenum">
              <a:t>50</a:t>
            </a:fld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1160" y="1295280"/>
            <a:ext cx="6781680" cy="4876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article type dep. of elliptic flow (v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ECF-8F34-44C7-B589-EBE6BEE4976E}" type="slidenum">
              <a:t>6</a:t>
            </a:fld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2438640" cy="17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5" name=""/>
          <p:cNvGrpSpPr/>
          <p:nvPr/>
        </p:nvGrpSpPr>
        <p:grpSpPr>
          <a:xfrm>
            <a:off x="63360" y="914400"/>
            <a:ext cx="6553080" cy="4343040"/>
            <a:chOff x="63360" y="914400"/>
            <a:chExt cx="6553080" cy="4343040"/>
          </a:xfrm>
        </p:grpSpPr>
        <p:sp>
          <p:nvSpPr>
            <p:cNvPr id="156" name=""/>
            <p:cNvSpPr/>
            <p:nvPr/>
          </p:nvSpPr>
          <p:spPr>
            <a:xfrm>
              <a:off x="63360" y="914400"/>
              <a:ext cx="6553080" cy="43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rcRect l="0" t="0" r="0" b="45617"/>
            <a:stretch/>
          </p:blipFill>
          <p:spPr>
            <a:xfrm>
              <a:off x="261720" y="1131120"/>
              <a:ext cx="6255360" cy="336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rcRect l="0" t="87744" r="0" b="0"/>
            <a:stretch/>
          </p:blipFill>
          <p:spPr>
            <a:xfrm>
              <a:off x="261720" y="4445280"/>
              <a:ext cx="6255360" cy="7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Quark Recombination on v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umber of constituent quark scaling (n =2 for mesons, n =3 for baryons) 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uggested that pressure developed at quark level, not hadr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A74-06BC-4A06-BF09-B08C8C3F2421}" type="slidenum">
              <a:t>7</a:t>
            </a:fld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HENIX White Paper (2004-2005) says…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382240" cy="1909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6280" y="4572000"/>
            <a:ext cx="8191440" cy="1643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8720" y="3530520"/>
            <a:ext cx="8051760" cy="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6120" y="3809880"/>
            <a:ext cx="2349360" cy="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6560" y="4737240"/>
            <a:ext cx="8051760" cy="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4280" y="5029200"/>
            <a:ext cx="2628720" cy="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2120" y="5270400"/>
            <a:ext cx="3924360" cy="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rcRect l="0" t="0" r="0" b="7320"/>
          <a:stretch/>
        </p:blipFill>
        <p:spPr>
          <a:xfrm>
            <a:off x="6248520" y="1295280"/>
            <a:ext cx="2666880" cy="137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250-E363-4815-9731-F4C579AB94E6}" type="slidenum">
              <a:t>8</a:t>
            </a:fld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1790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ince then…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Detector upgr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HENIX: Aerogel Cherenkov, TOF.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TAR: MRPC TOF (on-go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High statistics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u+Au 200 GeV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u+Cu 200 GeV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+p 200 GeV (2005,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Lower beam energy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u+Au 62 GeV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u+Cu 22, 62 GeV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+p 62 GeV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2743200" cy="18781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6553080" y="1828800"/>
            <a:ext cx="2590920" cy="1828800"/>
            <a:chOff x="6553080" y="1828800"/>
            <a:chExt cx="2590920" cy="1828800"/>
          </a:xfrm>
        </p:grpSpPr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6553080" y="1828800"/>
              <a:ext cx="259092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6939720" y="2082960"/>
              <a:ext cx="343440" cy="1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5105520" y="4724280"/>
            <a:ext cx="1904760" cy="1905120"/>
            <a:chOff x="5105520" y="4724280"/>
            <a:chExt cx="1904760" cy="1905120"/>
          </a:xfrm>
        </p:grpSpPr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5105520" y="4724280"/>
              <a:ext cx="190476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6"/>
            <a:stretch/>
          </p:blipFill>
          <p:spPr>
            <a:xfrm>
              <a:off x="6433560" y="5386320"/>
              <a:ext cx="387720" cy="14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6858000" y="3657600"/>
            <a:ext cx="22860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964-E479-4404-93AE-2676C0AC294B}" type="slidenum">
              <a:t>9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54:41Z</dcterms:created>
  <dc:creator>Tatsuya Chujo</dc:creator>
  <dc:description/>
  <cp:keywords/>
  <dc:language>en-US</dc:language>
  <cp:lastModifiedBy>Tatsuya Chujo</cp:lastModifiedBy>
  <cp:lastPrinted>2006-11-05T11:23:56Z</cp:lastPrinted>
  <dcterms:modified xsi:type="dcterms:W3CDTF">2007-02-19T02:35:59Z</dcterms:modified>
  <cp:revision>2418</cp:revision>
  <dc:subject/>
  <dc:title>PowerPoint Presentation  -  Hot Quarks 2004 (chujo)</dc:title>
</cp:coreProperties>
</file>