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4.wmf" ContentType="image/x-wmf"/>
  <Override PartName="/ppt/media/image36.wmf" ContentType="image/x-wmf"/>
  <Override PartName="/ppt/media/image37.png" ContentType="image/png"/>
  <Override PartName="/ppt/media/image41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7.wmf" ContentType="image/x-wmf"/>
  <Override PartName="/ppt/media/image35.wmf" ContentType="image/x-wmf"/>
  <Override PartName="/ppt/media/image47.wmf" ContentType="image/x-wmf"/>
  <Override PartName="/ppt/media/image4.png" ContentType="image/png"/>
  <Override PartName="/ppt/media/image39.png" ContentType="image/png"/>
  <Override PartName="/ppt/media/image9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AB70-A66E-49E6-BB9A-07738B878E4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１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ron wave-function ; narrow (δ fun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parton distribut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時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ron wave-funct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効果は小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無視できる）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 p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Binding energy is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 /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由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M=0 , b =1/2,1/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&amp; color octet effect is small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験的に発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 me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meson --- weak dec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v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変換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&gt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Input rati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理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a/pi0 --- 0.4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φ/pi0 ---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ρ/pi0 ---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ω/pi0 --- 0.9  [hep-ex/05100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Direct gamma --- prompt &amp; thermal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)Cross section ; ~ 500μb (~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数１０個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harm p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) Glauber mod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仮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uclear travel in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t deflected after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ucleon-nucleon inelastic cross-section is same (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σNN = 42m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condary particle &amp; possible excitation is 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ch /ring 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ch space = 2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particle / bunch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sity = 2 ×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sion ; 106 n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length ; 0.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C --- 50 % Ar + 50 % E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DBF9-F1AF-4545-AE6C-35265E4347B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T = 6GeV/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 mes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 quark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場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T = 1.0 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で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 = mβγ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βγ = 1/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 quar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場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T = 5.0 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で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βγ = 5/1.5 = 1/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 meson  = 5.2 GeV/c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測定領域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ドミナ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ート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nergy lo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ートンがＱＧＰなど高密度物質中を通過する際に、グルオン放射によりエネルギー損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グルオンの数密度に比例した損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方位角異方性を持つこととコンシステ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del ; elastic parton scattering in Q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 &amp; B resonance state in QGP =&gt; enhancing re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1 f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=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diagra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概念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常核物質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0, μ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温度また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を上げる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 QC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予測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＝０で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~170 or ε=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粒子の生成は形に依存しな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方的に生成、放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&gt; mean free pa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が充分ながけれ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r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ε0 = 23.0 GeV/f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B = 0.25 f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τ0 = 0.6 fm/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εf = 0.14 GeV/f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f = 170 Me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熱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 1.15 GeV/f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OS --- (E,p,n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602D-37E5-449C-A677-DEC11682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0E97-9C00-4BFE-B167-24942646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4176-4E3F-47C3-BECC-8B40BB9F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784B-7854-4CC7-84F6-B8DFFE0C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7649-1693-45D5-A9D9-13BFD75F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CA22-AEA2-4403-9806-D85E100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474C-4725-421B-91E4-C70BBF4B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2EC6-6464-41F6-A0AF-B6809430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5CFE-C6D2-40EB-9D63-7B320FA3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3DDD-EB85-46B6-936A-F6A2987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5850-4D0D-4398-8560-4EFA493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858C-3464-4941-9E4B-32A0F5F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A96D-ED9C-4817-B1AC-331F5CA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72F-95C2-4A9C-A760-B2B82BE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AAD9-960E-465F-8303-03D12EA0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30DE-D964-42DF-B8E9-0C3B1B93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DC0A-2EA3-4689-ABDC-4C1DA1AC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B890-F77F-4181-A436-297CEE25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9F7E-519C-4032-9A18-726F4B94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EC72-1874-474B-A5D3-BC792378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670F-2B92-41E4-896E-3D0699E8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78E6-5197-4A74-8B9E-1C8711A0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B259-63A7-4FA7-8D15-5DB296C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37B3-3464-4265-A21A-F90A6C9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33ED-C91C-4FAC-A639-F3323E78B878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5468-0392-4DA9-A213-83CFEDEB49D2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citation.aip.org/getabs/servlet/GetabsServlet?prog=normal&amp;id=PRLTAO000091000018182301000001&amp;idtype=cvips&amp;gifs=ye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39640" y="184464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ment of electron azimuthal anisotropy and implications of heavy quark flow in Au + Au collisio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√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200 G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8764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理物質科学研究科　博士課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052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坂井　真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B54F-9274-403D-B311-24EA8F6351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rk coa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932360" y="476280"/>
            <a:ext cx="3787920" cy="3673440"/>
            <a:chOff x="4932360" y="476280"/>
            <a:chExt cx="3787920" cy="3673440"/>
          </a:xfrm>
        </p:grpSpPr>
        <p:sp>
          <p:nvSpPr>
            <p:cNvPr id="185" name=""/>
            <p:cNvSpPr/>
            <p:nvPr/>
          </p:nvSpPr>
          <p:spPr>
            <a:xfrm>
              <a:off x="4932360" y="476280"/>
              <a:ext cx="3787920" cy="3673440"/>
            </a:xfrm>
            <a:prstGeom prst="roundRect">
              <a:avLst>
                <a:gd name="adj" fmla="val 825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878080" y="1181880"/>
              <a:ext cx="2785680" cy="23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07920" y="1241280"/>
              <a:ext cx="370080" cy="1836720"/>
            </a:xfrm>
            <a:prstGeom prst="upArrow">
              <a:avLst>
                <a:gd name="adj1" fmla="val 50000"/>
                <a:gd name="adj2" fmla="val 12407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40000" y="34236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QG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64400" y="822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Osaka"/>
                </a:rPr>
                <a:t>Had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94080" y="1268280"/>
            <a:ext cx="39092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adron produ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カニズムの一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q =&gt; Meson (π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qq =&gt; Baryon 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仮定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急激に減少する分布を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w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りも圧倒的に増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440" y="692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92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19890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900000" y="3500280"/>
                <a:ext cx="32403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5148360" y="3933720"/>
            <a:ext cx="3239640" cy="2703240"/>
            <a:chOff x="5148360" y="3933720"/>
            <a:chExt cx="3239640" cy="270324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rcRect l="22449" t="27205" r="29618" b="2127"/>
            <a:stretch/>
          </p:blipFill>
          <p:spPr>
            <a:xfrm>
              <a:off x="5148360" y="3933720"/>
              <a:ext cx="3239640" cy="27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flipV="1">
              <a:off x="7150680" y="5846400"/>
              <a:ext cx="0" cy="52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214000">
              <a:off x="7829640" y="6194880"/>
              <a:ext cx="371520" cy="173160"/>
            </a:xfrm>
            <a:prstGeom prst="ellipse">
              <a:avLst/>
            </a:prstGeom>
            <a:solidFill>
              <a:srgbClr val="3366ff">
                <a:alpha val="45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7080" y="5788440"/>
              <a:ext cx="665280" cy="406800"/>
            </a:xfrm>
            <a:custGeom>
              <a:avLst/>
              <a:gdLst/>
              <a:ahLst/>
              <a:rect l="l" t="t" r="r" b="b"/>
              <a:pathLst>
                <a:path w="408" h="317">
                  <a:moveTo>
                    <a:pt x="408" y="317"/>
                  </a:moveTo>
                  <a:cubicBezTo>
                    <a:pt x="374" y="203"/>
                    <a:pt x="340" y="90"/>
                    <a:pt x="272" y="45"/>
                  </a:cubicBezTo>
                  <a:cubicBezTo>
                    <a:pt x="204" y="0"/>
                    <a:pt x="45" y="45"/>
                    <a:pt x="0" y="45"/>
                  </a:cubicBezTo>
                </a:path>
              </a:pathLst>
            </a:custGeom>
            <a:noFill/>
            <a:ln w="28440">
              <a:solidFill>
                <a:srgbClr val="3366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3308400">
              <a:off x="6288480" y="5185080"/>
              <a:ext cx="287280" cy="221760"/>
            </a:xfrm>
            <a:prstGeom prst="ellipse">
              <a:avLst/>
            </a:prstGeom>
            <a:solidFill>
              <a:srgbClr val="996600">
                <a:alpha val="72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8480" y="5411880"/>
              <a:ext cx="693000" cy="43452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16" y="0"/>
                  </a:moveTo>
                  <a:cubicBezTo>
                    <a:pt x="8" y="64"/>
                    <a:pt x="0" y="128"/>
                    <a:pt x="61" y="181"/>
                  </a:cubicBezTo>
                  <a:cubicBezTo>
                    <a:pt x="122" y="234"/>
                    <a:pt x="250" y="275"/>
                    <a:pt x="379" y="317"/>
                  </a:cubicBezTo>
                </a:path>
              </a:pathLst>
            </a:custGeom>
            <a:noFill/>
            <a:ln w="28440">
              <a:solidFill>
                <a:srgbClr val="9966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85160" y="5268960"/>
              <a:ext cx="904320" cy="705240"/>
            </a:xfrm>
            <a:custGeom>
              <a:avLst/>
              <a:gdLst/>
              <a:ahLst/>
              <a:rect l="l" t="t" r="r" b="b"/>
              <a:pathLst>
                <a:path w="551" h="552">
                  <a:moveTo>
                    <a:pt x="98" y="0"/>
                  </a:moveTo>
                  <a:cubicBezTo>
                    <a:pt x="49" y="49"/>
                    <a:pt x="0" y="98"/>
                    <a:pt x="7" y="181"/>
                  </a:cubicBezTo>
                  <a:cubicBezTo>
                    <a:pt x="14" y="264"/>
                    <a:pt x="52" y="446"/>
                    <a:pt x="143" y="499"/>
                  </a:cubicBezTo>
                  <a:cubicBezTo>
                    <a:pt x="234" y="552"/>
                    <a:pt x="392" y="525"/>
                    <a:pt x="551" y="499"/>
                  </a:cubicBezTo>
                </a:path>
              </a:pathLst>
            </a:custGeom>
            <a:noFill/>
            <a:ln w="28440">
              <a:solidFill>
                <a:srgbClr val="9966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870400">
              <a:off x="5970960" y="4895280"/>
              <a:ext cx="317880" cy="221040"/>
            </a:xfrm>
            <a:prstGeom prst="ellipse">
              <a:avLst/>
            </a:prstGeom>
            <a:solidFill>
              <a:srgbClr val="008000">
                <a:alpha val="51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71560" y="4968360"/>
              <a:ext cx="889920" cy="820080"/>
            </a:xfrm>
            <a:custGeom>
              <a:avLst/>
              <a:gdLst/>
              <a:ahLst/>
              <a:rect l="l" t="t" r="r" b="b"/>
              <a:pathLst>
                <a:path w="544" h="642">
                  <a:moveTo>
                    <a:pt x="0" y="52"/>
                  </a:moveTo>
                  <a:cubicBezTo>
                    <a:pt x="67" y="26"/>
                    <a:pt x="135" y="0"/>
                    <a:pt x="226" y="98"/>
                  </a:cubicBezTo>
                  <a:cubicBezTo>
                    <a:pt x="317" y="196"/>
                    <a:pt x="491" y="551"/>
                    <a:pt x="544" y="64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96680" y="4764600"/>
              <a:ext cx="1062000" cy="1023840"/>
            </a:xfrm>
            <a:custGeom>
              <a:avLst/>
              <a:gdLst/>
              <a:ahLst/>
              <a:rect l="l" t="t" r="r" b="b"/>
              <a:pathLst>
                <a:path w="650" h="802">
                  <a:moveTo>
                    <a:pt x="0" y="121"/>
                  </a:moveTo>
                  <a:cubicBezTo>
                    <a:pt x="64" y="60"/>
                    <a:pt x="129" y="0"/>
                    <a:pt x="227" y="76"/>
                  </a:cubicBezTo>
                  <a:cubicBezTo>
                    <a:pt x="325" y="152"/>
                    <a:pt x="530" y="454"/>
                    <a:pt x="590" y="575"/>
                  </a:cubicBezTo>
                  <a:cubicBezTo>
                    <a:pt x="650" y="696"/>
                    <a:pt x="620" y="749"/>
                    <a:pt x="590" y="80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560" y="4862160"/>
              <a:ext cx="889920" cy="811080"/>
            </a:xfrm>
            <a:custGeom>
              <a:avLst/>
              <a:gdLst/>
              <a:ahLst/>
              <a:rect l="l" t="t" r="r" b="b"/>
              <a:pathLst>
                <a:path w="544" h="635">
                  <a:moveTo>
                    <a:pt x="0" y="91"/>
                  </a:moveTo>
                  <a:cubicBezTo>
                    <a:pt x="34" y="45"/>
                    <a:pt x="68" y="0"/>
                    <a:pt x="136" y="45"/>
                  </a:cubicBezTo>
                  <a:cubicBezTo>
                    <a:pt x="204" y="90"/>
                    <a:pt x="340" y="265"/>
                    <a:pt x="408" y="363"/>
                  </a:cubicBezTo>
                  <a:cubicBezTo>
                    <a:pt x="476" y="461"/>
                    <a:pt x="510" y="548"/>
                    <a:pt x="544" y="635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H="1">
            <a:off x="5940360" y="4365720"/>
            <a:ext cx="719280" cy="142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43640" y="4149720"/>
            <a:ext cx="19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急激に減少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51640" y="5661000"/>
            <a:ext cx="6494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5877000"/>
            <a:ext cx="70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66920" y="4005000"/>
            <a:ext cx="360360" cy="431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4437000"/>
            <a:ext cx="1374840" cy="3070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クォーク分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4797360"/>
            <a:ext cx="1224000" cy="432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14200" y="48690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68,0449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B5EE-3C3B-48EB-81A9-12C38C7DAF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1125360"/>
            <a:ext cx="48243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/pi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周辺衝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60-92%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中心衝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0-30%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iel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が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 Coalescence mod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/π rati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よく再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995640" cy="287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95280" y="3429000"/>
                <a:ext cx="424800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  <m:mr>
                            <m:e>
                              <m:r>
                                <m:t xml:space="preserve">E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num>
                                <m:den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  <m:r>
                                    <m:t xml:space="preserve">p</m:t>
                                  </m:r>
                                </m:den>
                              </m:f>
                              <m:r>
                                <m:t xml:space="preserve">≈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/>
                      <m:e/>
                      <m:e/>
                      <m:e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E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3456000" cy="2725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148360" y="328464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500720" y="620640"/>
            <a:ext cx="687240" cy="273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yon enh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47880" y="1989000"/>
            <a:ext cx="5281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/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4292640"/>
            <a:ext cx="457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急激に減少する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rmal ; exp(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T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(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2) &lt;&lt; w(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3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&gt; baryon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を作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ark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の数が多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61440" y="2133720"/>
            <a:ext cx="360360" cy="3394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2720" y="2133720"/>
            <a:ext cx="360360" cy="339480"/>
          </a:xfrm>
          <a:prstGeom prst="ellipse">
            <a:avLst/>
          </a:prstGeom>
          <a:solidFill>
            <a:srgbClr val="9999ff">
              <a:alpha val="4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15280" y="2852640"/>
            <a:ext cx="360360" cy="3398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604360" y="2852640"/>
            <a:ext cx="360360" cy="33984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604360" y="256500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89480" y="47628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ENIX PRL91, 172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6CAB-F5BB-4088-A07C-55380330FE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rk level elliptic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3344" r="0" b="0"/>
          <a:stretch/>
        </p:blipFill>
        <p:spPr>
          <a:xfrm>
            <a:off x="108000" y="1125360"/>
            <a:ext cx="6264360" cy="3816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9640" y="148428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95480" y="5084640"/>
            <a:ext cx="7057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後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iversal 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存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coalescence mod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から期待される結果と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lev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存在を示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1916280"/>
            <a:ext cx="2592360" cy="1439640"/>
          </a:xfrm>
          <a:prstGeom prst="rect">
            <a:avLst/>
          </a:prstGeom>
          <a:solidFill>
            <a:srgbClr val="00ffff">
              <a:alpha val="4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77040" y="1916280"/>
                <a:ext cx="22208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6300720" y="981000"/>
            <a:ext cx="2664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ユニバーサ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k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6720" y="3573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72560" y="3429000"/>
            <a:ext cx="1577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され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0ABB-13D2-48A7-A108-1411C533AE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771640" y="1197000"/>
            <a:ext cx="43214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6720" y="1413000"/>
            <a:ext cx="26640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052640"/>
            <a:ext cx="943272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ま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測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pion,Kaon,prot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ght quark(u,d,s)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な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熱平衡を仮定した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ydro mod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ale =&gt; quark leve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っと重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存在するの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,d,s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比べて非常に重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thermaliz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にく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c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~ 1.2 – 1.5 GeV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&gt;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~ MeV ,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~ 0.2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  =&gt; re-scattering is so intens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quark level therm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Strong evidence of QG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charm quar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60F5-6C13-4997-8C9A-1D45FAA51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の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C4D8-7F09-4635-A1DE-AE5EE70CF6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4493160" y="437400"/>
            <a:ext cx="4191480" cy="3386160"/>
            <a:chOff x="4493160" y="437400"/>
            <a:chExt cx="4191480" cy="338616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 rot="650400">
              <a:off x="4716000" y="765000"/>
              <a:ext cx="374508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73600">
              <a:off x="6456240" y="2175840"/>
              <a:ext cx="465480" cy="30780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0" y="1341360"/>
            <a:ext cx="849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で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現在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検出器では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mes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直接測定することは困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測定を通して研究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-&gt;D-&gt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00720" y="2997360"/>
            <a:ext cx="4316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08440" y="2781360"/>
            <a:ext cx="22719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 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&gt;Kπ (3.85±0.10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R 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&gt;e+X (17.2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m quark study @ 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4797360"/>
            <a:ext cx="3745080" cy="720720"/>
          </a:xfrm>
          <a:prstGeom prst="rect">
            <a:avLst/>
          </a:prstGeom>
          <a:solidFill>
            <a:srgbClr val="ff00ff">
              <a:alpha val="3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213000"/>
            <a:ext cx="8280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otonic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hoton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alitz dec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hotonic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primarily semi-leptonic 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of mesons containing c &amp;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ckground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をきちんと決めることが重要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ocktail , convert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4720" y="4221000"/>
            <a:ext cx="2129760" cy="122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 me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 = 1.869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τ~ 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τ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~ 300 [μ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85080" y="2852640"/>
            <a:ext cx="716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C345-79DC-4B8D-ACCF-8B1E360BBF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cktai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1341360"/>
            <a:ext cx="5040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hotonic sourc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分布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にして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onte Car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見積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π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dominant sourc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η, direct γ,φ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測定された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を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して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その他のハドロンは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 (√(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π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することによりそ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を仮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284720" cy="4559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64000" y="5661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 06 F.Kaji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C5BD-E759-491B-80A2-34C11626A5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52120" y="1125360"/>
            <a:ext cx="561708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 pip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周り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.7 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ss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真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新た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hoton conve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 conver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によ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増加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 conver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、無し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験結果を比較することに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実験的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photoni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源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源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求めることができ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つの独立な方法で求め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electro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布は一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backgroun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理解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51944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43640" y="2276640"/>
            <a:ext cx="165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nic 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ck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8ECD-4620-4EFE-B271-F8EA76884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hotonic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804000" cy="3672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4175280" cy="3961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73800" y="5300640"/>
            <a:ext cx="67536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hotonic electr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Q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から期待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.5 GeV/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hoton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起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15480" y="15573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γ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γ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64000" y="191628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07480" y="1484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γ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132000" y="3933720"/>
            <a:ext cx="360360" cy="93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59040" y="4869000"/>
            <a:ext cx="756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; pQCD calculation ; c-&gt;e &amp; b-&gt;e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4 GeV/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qua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寄与が大き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2360" y="1124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ENIX ; nucl-ex/061101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72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4720" y="2637000"/>
            <a:ext cx="360360" cy="3394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27640" y="2637000"/>
            <a:ext cx="360360" cy="339480"/>
          </a:xfrm>
          <a:prstGeom prst="ellipse">
            <a:avLst/>
          </a:prstGeom>
          <a:solidFill>
            <a:srgbClr val="9999ff">
              <a:alpha val="4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0200" y="3571920"/>
            <a:ext cx="360360" cy="3398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8920" y="3571920"/>
            <a:ext cx="360360" cy="33984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00720" y="314172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33C8-4F9B-426F-BC17-A85C38CAC2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ross section of charm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95280" y="1270080"/>
            <a:ext cx="3959280" cy="3384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900000" y="4797360"/>
            <a:ext cx="74898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質量が重いため衝突初期の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gluon fus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で作られ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otal cross section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核子・核子衝突の数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でスケール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解析から求められた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ross sect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　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QC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から期待される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生成とコンシステン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&gt; non-photonic electr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起源が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ai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94960" y="3933000"/>
            <a:ext cx="258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HENIX;Phys.Rev.Lett.94:082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3645000"/>
            <a:ext cx="358920" cy="33804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19640" y="3645000"/>
            <a:ext cx="358560" cy="33804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3645000"/>
            <a:ext cx="358920" cy="33804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32000" y="3645000"/>
            <a:ext cx="358560" cy="338040"/>
          </a:xfrm>
          <a:prstGeom prst="ellipse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35280" y="3789360"/>
            <a:ext cx="1439640" cy="0"/>
          </a:xfrm>
          <a:prstGeom prst="line">
            <a:avLst/>
          </a:prstGeom>
          <a:ln w="1260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796000" y="112536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curves:  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ed band:  NLO Q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6720" y="40060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HENIX ; Phys. Rev. Lett. 88, 19230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BA95-D2A3-4F70-B1A7-8ED9FBF3F2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の流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52560" y="444168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98640"/>
            <a:ext cx="874872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-Year2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へ参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0 coun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OF coun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メンテナンス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てポスター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 –Year3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へ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OF count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立ち上げ、メンテナン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BN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行われ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国際研究会で口述発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HENIX –Year4-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実験へ参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初めて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てポスター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大阪大学で行われた研究会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1341360"/>
            <a:ext cx="20350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--- Year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関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博士論文に関連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A128-9587-44F5-B08C-87D00984C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I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IX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7221-7B97-4BC0-8DF8-1C44DB7533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istic Heavy Ion Coll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26616" t="0" r="0" b="20441"/>
          <a:stretch/>
        </p:blipFill>
        <p:spPr>
          <a:xfrm>
            <a:off x="1619280" y="1125360"/>
            <a:ext cx="5904000" cy="33847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02920" y="4723920"/>
            <a:ext cx="691380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国ブルックヘブン国立研究所に設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初の重イオン衝突型加速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円周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83 k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２つのリ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衝突核種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金、重陽子金、偏極陽子、銅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energy (Au+Au) ;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子当た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Ge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まで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91D4-9665-481A-8CA3-60F3645AC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ENIX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24000" y="1773360"/>
            <a:ext cx="4103640" cy="3608280"/>
          </a:xfrm>
          <a:prstGeom prst="rect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Beam Beam Counter (B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Zero Degree Calorimeter (Z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・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Global variables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衝突時間、位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etc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の決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Drift Chamber (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Pad Chamber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・飛跡検出、運動量の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Ring Image Cherenkov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EM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・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electr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83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arm ; |η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640" y="566244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al cross section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1125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IX ---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く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yste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から構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7BF0-EFFE-4D0C-BB73-B3341927D8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飛跡の再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275360" cy="3801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276720" cy="2624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0920" y="1413000"/>
            <a:ext cx="511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衝突によって生成された粒子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飛跡は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によって再構成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２つの平面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X1,X2) plan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粒子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情報から、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が決め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　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α = K/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K=101 mrad*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llision vertex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組み合わせ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ことにより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決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/sin(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各検出器上で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it poin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19280" y="4076640"/>
            <a:ext cx="5867280" cy="1241280"/>
            <a:chOff x="1619280" y="4076640"/>
            <a:chExt cx="5867280" cy="124128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232080" y="4610160"/>
                  <a:ext cx="22622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δ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⊕</m:t>
                      </m:r>
                      <m:r>
                        <m:t xml:space="preserve">1</m:t>
                      </m:r>
                      <m:r>
                        <m:t xml:space="preserve">%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1619280" y="4076640"/>
              <a:ext cx="586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829840" y="2800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6520" y="9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15BA-9C58-44ED-B77D-4E5E0B44B1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3429000"/>
            <a:ext cx="4267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1197000"/>
            <a:ext cx="491472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R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原理：チェレンコフ放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物質中を通過する荷電粒子の速度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その物質中での光の速さをこえる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光が放出される現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ガ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=1.0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 ;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.2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on ;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5.0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測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すべて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に落と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Electron E/p ~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829680" y="1052640"/>
            <a:ext cx="5947560" cy="3550320"/>
            <a:chOff x="3829680" y="1052640"/>
            <a:chExt cx="5947560" cy="35503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5253840" y="1150560"/>
              <a:ext cx="315576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flipH="1">
              <a:off x="5842440" y="1564200"/>
              <a:ext cx="3934800" cy="30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2" y="101"/>
                  </a:moveTo>
                  <a:arcTo wR="10800" hR="10800" stAng="-4930135" swAng="1370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2" y="101"/>
                  </a:moveTo>
                  <a:arcTo wR="10800" hR="10800" stAng="-4930135" swAng="1370304"/>
                </a:path>
              </a:pathLst>
            </a:custGeom>
            <a:noFill/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29680" y="1566360"/>
              <a:ext cx="3934800" cy="30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72" y="101"/>
                  </a:moveTo>
                  <a:arcTo wR="10800" hR="10800" stAng="-4930135" swAng="1370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72" y="101"/>
                  </a:moveTo>
                  <a:arcTo wR="10800" hR="10800" stAng="-4930135" swAng="1370304"/>
                </a:path>
              </a:pathLst>
            </a:custGeom>
            <a:noFill/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00560" y="1052640"/>
              <a:ext cx="1085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7d"/>
                  </a:solidFill>
                  <a:latin typeface="Times New Roman"/>
                </a:rPr>
                <a:t>Cerenkov photons from e</a:t>
              </a:r>
              <a:r>
                <a:rPr b="1" lang="en-US" sz="1000" spc="-1" strike="noStrike" baseline="30000">
                  <a:solidFill>
                    <a:srgbClr val="00007d"/>
                  </a:solidFill>
                  <a:latin typeface="Times New Roman"/>
                </a:rPr>
                <a:t>+ </a:t>
              </a:r>
              <a:r>
                <a:rPr b="1" lang="en-US" sz="1000" spc="-1" strike="noStrike">
                  <a:solidFill>
                    <a:srgbClr val="00007d"/>
                  </a:solidFill>
                  <a:latin typeface="Times New Roman"/>
                </a:rPr>
                <a:t>or e</a:t>
              </a:r>
              <a:r>
                <a:rPr b="1" lang="en-US" sz="1000" spc="-1" strike="noStrike" baseline="30000">
                  <a:solidFill>
                    <a:srgbClr val="00007d"/>
                  </a:solidFill>
                  <a:latin typeface="Times New Roman"/>
                </a:rPr>
                <a:t>-</a:t>
              </a:r>
              <a:r>
                <a:rPr b="1" lang="en-US" sz="1000" spc="-1" strike="noStrike">
                  <a:solidFill>
                    <a:srgbClr val="00007d"/>
                  </a:solidFill>
                  <a:latin typeface="Times New Roman"/>
                </a:rPr>
                <a:t>  are detected by array of PM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7360" y="1190520"/>
              <a:ext cx="460440" cy="18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mi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472440" y="1379160"/>
              <a:ext cx="237240" cy="284760"/>
            </a:xfrm>
            <a:prstGeom prst="line">
              <a:avLst/>
            </a:prstGeom>
            <a:ln w="93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92560" y="1383120"/>
              <a:ext cx="189360" cy="258120"/>
            </a:xfrm>
            <a:prstGeom prst="line">
              <a:avLst/>
            </a:prstGeom>
            <a:ln w="93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131600" y="1551960"/>
              <a:ext cx="89496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69160" y="1598760"/>
              <a:ext cx="3506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3280" y="1103760"/>
              <a:ext cx="1186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ost hadrons do not emit Cerenkov l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08920" y="1372320"/>
              <a:ext cx="92736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17560" y="1352880"/>
              <a:ext cx="109836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79840" y="1354680"/>
              <a:ext cx="166392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01080" y="1336320"/>
              <a:ext cx="1225440" cy="4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00560" y="2424600"/>
              <a:ext cx="1046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lectrons emi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renkov phot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 RICH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6924960" y="2011680"/>
              <a:ext cx="1132200" cy="40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310520" y="1998000"/>
              <a:ext cx="76788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91120" y="2507040"/>
              <a:ext cx="855360" cy="16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Central Mag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46240" y="1551960"/>
              <a:ext cx="712440" cy="14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9999ff"/>
                  </a:solidFill>
                  <a:latin typeface="Times New Roman"/>
                </a:rPr>
                <a:t>ＲＩＣ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6560" y="1688760"/>
              <a:ext cx="298440" cy="118080"/>
            </a:xfrm>
            <a:prstGeom prst="line">
              <a:avLst/>
            </a:prstGeom>
            <a:ln w="93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57440" y="2135520"/>
              <a:ext cx="72504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PMT ar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94480" y="2144880"/>
              <a:ext cx="72504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Times New Roman"/>
                </a:rPr>
                <a:t>PMT ar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H="1">
            <a:off x="6803640" y="4365720"/>
            <a:ext cx="2890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020000" y="5013360"/>
            <a:ext cx="28872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03640" y="3789360"/>
            <a:ext cx="2376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479920" y="3624120"/>
            <a:ext cx="2895840" cy="2783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824080" y="626436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{(E/p)-1/σ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53000" y="3624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18360" y="362412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0DC4-397E-419F-BACD-3C15D76E1E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解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1413000"/>
            <a:ext cx="62643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 plan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ビーム軸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paramet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がなす平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action plan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基準に放出された粒子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位角分布の測定をおこな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決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 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実験的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paramet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決めること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できないので粒子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用いて決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651280" y="1052280"/>
            <a:ext cx="3343320" cy="2409480"/>
            <a:chOff x="5651280" y="1052280"/>
            <a:chExt cx="3343320" cy="2409480"/>
          </a:xfrm>
        </p:grpSpPr>
        <p:sp>
          <p:nvSpPr>
            <p:cNvPr id="347" name=""/>
            <p:cNvSpPr/>
            <p:nvPr/>
          </p:nvSpPr>
          <p:spPr>
            <a:xfrm rot="10800000">
              <a:off x="8147880" y="1052280"/>
              <a:ext cx="369720" cy="3128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250680" y="1380960"/>
              <a:ext cx="640080" cy="9266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560640" y="1380960"/>
              <a:ext cx="627120" cy="91260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8280" y="1575000"/>
              <a:ext cx="210456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8600" y="2546280"/>
              <a:ext cx="147888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1640" y="1376640"/>
              <a:ext cx="3342960" cy="1800720"/>
            </a:xfrm>
            <a:prstGeom prst="parallelogram">
              <a:avLst>
                <a:gd name="adj" fmla="val 68878"/>
              </a:avLst>
            </a:prstGeom>
            <a:noFill/>
            <a:ln w="2844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651280" y="2788920"/>
              <a:ext cx="267480" cy="3913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08600" y="1380960"/>
              <a:ext cx="777600" cy="112968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10800000">
              <a:off x="6677640" y="2398320"/>
              <a:ext cx="259920" cy="722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538680" y="2343600"/>
              <a:ext cx="573120" cy="8294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78120" y="3154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77240" y="281916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7563600" y="1209600"/>
              <a:ext cx="1061280" cy="1009440"/>
              <a:chOff x="7563600" y="1209600"/>
              <a:chExt cx="1061280" cy="100944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7563600" y="1209600"/>
                <a:ext cx="1061280" cy="1009440"/>
                <a:chOff x="7563600" y="1209600"/>
                <a:chExt cx="1061280" cy="10094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7587720" y="1211040"/>
                  <a:ext cx="1013760" cy="9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99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587720" y="1209600"/>
                  <a:ext cx="1013760" cy="991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563600" y="1613160"/>
                  <a:ext cx="1061280" cy="60588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587720" y="1638360"/>
                  <a:ext cx="1012320" cy="2592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7582320" y="1348200"/>
                <a:ext cx="259920" cy="722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905880" y="1376640"/>
              <a:ext cx="866520" cy="0"/>
            </a:xfrm>
            <a:prstGeom prst="line">
              <a:avLst/>
            </a:prstGeom>
            <a:ln w="2844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21240" y="1575000"/>
              <a:ext cx="6228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0760" y="1768320"/>
              <a:ext cx="123372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516440" y="1693800"/>
              <a:ext cx="335880" cy="4881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87920" y="1963800"/>
              <a:ext cx="21078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541920" y="1376640"/>
              <a:ext cx="1231920" cy="179388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53280" y="2157840"/>
              <a:ext cx="21078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015680" y="1773720"/>
              <a:ext cx="505440" cy="996480"/>
              <a:chOff x="7015680" y="1773720"/>
              <a:chExt cx="505440" cy="996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015680" y="1774800"/>
                <a:ext cx="504000" cy="992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15680" y="2248920"/>
                <a:ext cx="505440" cy="521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15680" y="2251440"/>
                <a:ext cx="502560" cy="1108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15680" y="1773720"/>
                <a:ext cx="504000" cy="992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flipH="1">
              <a:off x="7446240" y="1826640"/>
              <a:ext cx="924840" cy="13467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149600" y="1902240"/>
              <a:ext cx="872640" cy="12679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55880" y="2350800"/>
              <a:ext cx="96912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749000" y="2794680"/>
              <a:ext cx="259920" cy="37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835680" y="2326680"/>
              <a:ext cx="584640" cy="8510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68520" y="2342160"/>
              <a:ext cx="142920" cy="20844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44160" y="2352240"/>
              <a:ext cx="49248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908680" y="2270880"/>
              <a:ext cx="1050840" cy="1010520"/>
              <a:chOff x="5908680" y="2270880"/>
              <a:chExt cx="1050840" cy="1010520"/>
            </a:xfrm>
          </p:grpSpPr>
          <p:sp>
            <p:nvSpPr>
              <p:cNvPr id="386" name=""/>
              <p:cNvSpPr/>
              <p:nvPr/>
            </p:nvSpPr>
            <p:spPr>
              <a:xfrm>
                <a:off x="5923080" y="2271960"/>
                <a:ext cx="1014120" cy="99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920920" y="2270880"/>
                <a:ext cx="1014120" cy="991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908680" y="2682000"/>
                <a:ext cx="1050840" cy="59940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0800000">
                <a:off x="6677280" y="2391120"/>
                <a:ext cx="261000" cy="722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53160" y="2387160"/>
                <a:ext cx="117720" cy="7354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23080" y="2778840"/>
                <a:ext cx="816840" cy="18000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H="1">
              <a:off x="6716880" y="2160720"/>
              <a:ext cx="232200" cy="33840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06800" y="2547720"/>
              <a:ext cx="130536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12120" y="2931840"/>
              <a:ext cx="130968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cccc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90960" y="2740680"/>
              <a:ext cx="138096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537240" y="2536560"/>
              <a:ext cx="439560" cy="6411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250680" y="2967840"/>
              <a:ext cx="144720" cy="2095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956560" y="2920680"/>
              <a:ext cx="171000" cy="25272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92680" y="3177720"/>
              <a:ext cx="2061000" cy="0"/>
            </a:xfrm>
            <a:prstGeom prst="line">
              <a:avLst/>
            </a:prstGeom>
            <a:ln w="2844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99400" y="2973240"/>
              <a:ext cx="369720" cy="31140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672960" y="1947600"/>
              <a:ext cx="1211400" cy="344160"/>
              <a:chOff x="6672960" y="1947600"/>
              <a:chExt cx="1211400" cy="34416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7324560" y="2013480"/>
                <a:ext cx="72720" cy="103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457040" y="1947600"/>
                <a:ext cx="189360" cy="155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540920" y="2116800"/>
                <a:ext cx="297720" cy="76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540920" y="2239200"/>
                <a:ext cx="343440" cy="20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6792480" y="1975320"/>
                <a:ext cx="308160" cy="1245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6695640" y="2130120"/>
                <a:ext cx="334440" cy="76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6672960" y="2286720"/>
                <a:ext cx="297720" cy="5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6946560" y="2235240"/>
                <a:ext cx="213840" cy="20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6971040" y="2107440"/>
                <a:ext cx="189360" cy="54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7160040" y="2037960"/>
                <a:ext cx="70200" cy="792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397640" y="2099880"/>
                <a:ext cx="129600" cy="45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386480" y="2207160"/>
                <a:ext cx="213840" cy="12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7126920" y="2184480"/>
                <a:ext cx="118800" cy="35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93480" y="2390760"/>
              <a:ext cx="1164960" cy="344160"/>
              <a:chOff x="6693480" y="2390760"/>
              <a:chExt cx="1164960" cy="34416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7124400" y="2526840"/>
                <a:ext cx="7848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883920" y="2577600"/>
                <a:ext cx="189720" cy="157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693480" y="2489040"/>
                <a:ext cx="296280" cy="76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765120" y="2422080"/>
                <a:ext cx="226080" cy="15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31120" y="2582640"/>
                <a:ext cx="308520" cy="12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500240" y="2475720"/>
                <a:ext cx="334440" cy="76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561800" y="2390760"/>
                <a:ext cx="296640" cy="5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72080" y="2426760"/>
                <a:ext cx="21384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72080" y="2521440"/>
                <a:ext cx="189360" cy="540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01160" y="2565360"/>
                <a:ext cx="70200" cy="80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003080" y="2540160"/>
                <a:ext cx="129960" cy="432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933240" y="2462040"/>
                <a:ext cx="212400" cy="12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284960" y="2461320"/>
                <a:ext cx="119160" cy="3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5821200" y="2934720"/>
              <a:ext cx="34200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67200" y="1768320"/>
              <a:ext cx="257040" cy="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576280" y="1375200"/>
              <a:ext cx="105120" cy="155160"/>
            </a:xfrm>
            <a:prstGeom prst="line">
              <a:avLst/>
            </a:prstGeom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330680" y="3180600"/>
              <a:ext cx="43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6360" y="2699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753680" y="2745000"/>
              <a:ext cx="1080" cy="42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253200">
              <a:off x="6623640" y="1451160"/>
              <a:ext cx="32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Masashi Kanet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2627280" y="55911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29080" y="5157720"/>
            <a:ext cx="152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sin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52280" y="5346720"/>
            <a:ext cx="150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28360" y="5662440"/>
            <a:ext cx="159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42920" y="5086440"/>
            <a:ext cx="3313080" cy="1081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2997360"/>
            <a:ext cx="5040360" cy="4752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/d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∝ N (1 + 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2o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(2(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70560" y="479736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79736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59640" y="4797360"/>
            <a:ext cx="1079280" cy="1224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0000"/>
              </a:gs>
              <a:gs pos="100000">
                <a:srgbClr val="ff0066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37120" y="4724280"/>
            <a:ext cx="2521080" cy="1440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0200" y="5589720"/>
            <a:ext cx="71892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297120" y="4941360"/>
            <a:ext cx="576360" cy="287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6008400" y="5518080"/>
            <a:ext cx="865080" cy="71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513120" y="5734080"/>
            <a:ext cx="360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6008400" y="5373360"/>
            <a:ext cx="865080" cy="73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224760" y="5589720"/>
            <a:ext cx="72072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6081840" y="5157360"/>
            <a:ext cx="792000" cy="144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584760" y="4797000"/>
            <a:ext cx="360360" cy="289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77120" y="5734080"/>
            <a:ext cx="576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377120" y="4797360"/>
            <a:ext cx="28908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450200" y="4869000"/>
            <a:ext cx="503280" cy="288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450200" y="5084640"/>
            <a:ext cx="863640" cy="2174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7450200" y="5373720"/>
            <a:ext cx="1008000" cy="71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232760" y="429228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32760" y="544500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35480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45964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518680" y="5229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508E-251A-4F44-AA12-78B8C09B70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pl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717080" y="2276640"/>
            <a:ext cx="3618360" cy="2792880"/>
            <a:chOff x="4717080" y="2276640"/>
            <a:chExt cx="3618360" cy="2792880"/>
          </a:xfrm>
        </p:grpSpPr>
        <p:sp>
          <p:nvSpPr>
            <p:cNvPr id="466" name=""/>
            <p:cNvSpPr/>
            <p:nvPr/>
          </p:nvSpPr>
          <p:spPr>
            <a:xfrm>
              <a:off x="7479000" y="459540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cc"/>
                  </a:solidFill>
                  <a:latin typeface="Times New Roman"/>
                  <a:ea typeface="ＭＳ Ｐ明朝"/>
                </a:rPr>
                <a:t>B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97400" y="476244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ＭＳ Ｐ明朝"/>
                </a:rPr>
                <a:t>Central a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17080" y="455796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b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751640" y="2276640"/>
              <a:ext cx="3583800" cy="2452680"/>
              <a:chOff x="4751640" y="2276640"/>
              <a:chExt cx="3583800" cy="245268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4751640" y="2276640"/>
                <a:ext cx="3583800" cy="2092320"/>
                <a:chOff x="4751640" y="2276640"/>
                <a:chExt cx="3583800" cy="2092320"/>
              </a:xfrm>
            </p:grpSpPr>
            <p:pic>
              <p:nvPicPr>
                <p:cNvPr id="471" name="dndeta_all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751640" y="2276640"/>
                  <a:ext cx="3583800" cy="209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2" name=""/>
                <p:cNvSpPr/>
                <p:nvPr/>
              </p:nvSpPr>
              <p:spPr>
                <a:xfrm>
                  <a:off x="5130360" y="2452320"/>
                  <a:ext cx="1839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200560" y="2691000"/>
                  <a:ext cx="1839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437800" y="2772720"/>
                  <a:ext cx="308880" cy="58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5266440" y="2772720"/>
                  <a:ext cx="171000" cy="8863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438320" y="2460960"/>
                  <a:ext cx="180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564600" y="2706480"/>
                  <a:ext cx="59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0-5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63880" y="2973600"/>
                  <a:ext cx="68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5-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494760" y="3303720"/>
                  <a:ext cx="777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a-DK" sz="1400" spc="-1" strike="noStrike">
                      <a:solidFill>
                        <a:srgbClr val="000000"/>
                      </a:solidFill>
                      <a:latin typeface="Times New Roman"/>
                    </a:rPr>
                    <a:t>10-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"/>
              <p:cNvSpPr/>
              <p:nvPr/>
            </p:nvSpPr>
            <p:spPr>
              <a:xfrm>
                <a:off x="6574680" y="2276640"/>
                <a:ext cx="251280" cy="20199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43520" y="2276640"/>
                <a:ext cx="251280" cy="1972080"/>
              </a:xfrm>
              <a:prstGeom prst="rect">
                <a:avLst/>
              </a:prstGeom>
              <a:noFill/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68480" y="2276640"/>
                <a:ext cx="251280" cy="1972080"/>
              </a:xfrm>
              <a:prstGeom prst="rect">
                <a:avLst/>
              </a:prstGeom>
              <a:noFill/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28560" y="4537080"/>
                <a:ext cx="320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574680" y="4344840"/>
                <a:ext cx="251280" cy="144000"/>
              </a:xfrm>
              <a:custGeom>
                <a:avLst/>
                <a:gdLst>
                  <a:gd name="textAreaLeft" fmla="*/ 55080 w 251280"/>
                  <a:gd name="textAreaRight" fmla="*/ 196200 w 251280"/>
                  <a:gd name="textAreaTop" fmla="*/ 31680 h 144000"/>
                  <a:gd name="textAreaBottom" fmla="*/ 11232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574680" y="4585320"/>
                <a:ext cx="251280" cy="144000"/>
              </a:xfrm>
              <a:custGeom>
                <a:avLst/>
                <a:gdLst>
                  <a:gd name="textAreaLeft" fmla="*/ 55080 w 251280"/>
                  <a:gd name="textAreaRight" fmla="*/ 196200 w 251280"/>
                  <a:gd name="textAreaTop" fmla="*/ 31680 h 144000"/>
                  <a:gd name="textAreaBottom" fmla="*/ 11232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31480" y="4440960"/>
                <a:ext cx="251280" cy="192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43520" y="4440960"/>
                <a:ext cx="251280" cy="192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5436720" y="4637520"/>
              <a:ext cx="5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cc"/>
                  </a:solidFill>
                  <a:latin typeface="Times New Roman"/>
                  <a:ea typeface="ＭＳ Ｐ明朝"/>
                </a:rPr>
                <a:t>B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803760" cy="3672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2411280" y="4797360"/>
            <a:ext cx="194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R.P.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rad) ; N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16200000">
            <a:off x="-226080" y="2754000"/>
            <a:ext cx="2046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R.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(rad);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12000" y="364500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500360" y="508464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55640" y="1268280"/>
            <a:ext cx="19447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55280" y="1268280"/>
            <a:ext cx="41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55640" y="1268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896000" y="3835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5229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用いて決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&lt;φ&lt;360,|η|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電子の測定とは独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 sid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sid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決められた反応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応面が決まってい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92720" y="1773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96360" y="1773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56720" y="1773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64000" y="549360"/>
            <a:ext cx="34578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Rapidity (y)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発生した粒子が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衝突点を中心としたときビーム軸方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どこに分布するかの目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y = 0.5 ln{(E+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/(E-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59280" y="1268280"/>
            <a:ext cx="57636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C293-9C7C-46F9-BADA-B00BF88A7F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439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00000" y="1197000"/>
            <a:ext cx="74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photonic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as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64000" y="5157720"/>
            <a:ext cx="4608360" cy="1241640"/>
          </a:xfrm>
          <a:prstGeom prst="rect">
            <a:avLst/>
          </a:prstGeom>
          <a:solidFill>
            <a:srgbClr val="ff00ff">
              <a:alpha val="32000"/>
            </a:srgbClr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γ.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; Photonic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cktail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e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3860640"/>
            <a:ext cx="3816360" cy="1241640"/>
          </a:xfrm>
          <a:prstGeom prst="rect">
            <a:avLst/>
          </a:prstGeom>
          <a:solidFill>
            <a:srgbClr val="00ccff">
              <a:alpha val="18000"/>
            </a:srgbClr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Inclusive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/o conver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00800" y="4005360"/>
            <a:ext cx="3133080" cy="875880"/>
          </a:xfrm>
          <a:prstGeom prst="rect">
            <a:avLst/>
          </a:prstGeom>
          <a:solidFill>
            <a:srgbClr val="00ff00">
              <a:alpha val="18000"/>
            </a:srgbClr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Non-γ e) / (γ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112840" y="1693800"/>
                <a:ext cx="420696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o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n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e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P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5003640" y="2708280"/>
            <a:ext cx="505080" cy="576360"/>
          </a:xfrm>
          <a:prstGeom prst="rect">
            <a:avLst/>
          </a:prstGeom>
          <a:solidFill>
            <a:srgbClr val="00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51640" y="2708280"/>
            <a:ext cx="647640" cy="503280"/>
          </a:xfrm>
          <a:prstGeom prst="rect">
            <a:avLst/>
          </a:prstGeom>
          <a:solidFill>
            <a:srgbClr val="ff00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00720" y="3284640"/>
            <a:ext cx="720720" cy="431640"/>
          </a:xfrm>
          <a:prstGeom prst="rect">
            <a:avLst/>
          </a:prstGeom>
          <a:solidFill>
            <a:srgbClr val="00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76360" y="1844640"/>
            <a:ext cx="358920" cy="1800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58360" y="1936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78880" y="306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D2D6-D41E-4723-BB10-2048556F18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lusive electr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562800" cy="388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580000" y="5516640"/>
            <a:ext cx="1944720" cy="431640"/>
          </a:xfrm>
          <a:prstGeom prst="rect">
            <a:avLst/>
          </a:prstGeom>
          <a:solidFill>
            <a:srgbClr val="ff00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339920" y="4797360"/>
            <a:ext cx="6686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sive 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asured w.r.t reaction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er --- photonic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起源の電子を増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er in/ou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が異な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γ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 v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300720" y="5589720"/>
            <a:ext cx="144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F88B-08AA-47BE-96F4-233853D621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ermination (1) ; cock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600720" cy="230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651640" y="4292640"/>
                <a:ext cx="2550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</m:e>
                    </m:nary>
                    <m:r>
                      <m:t xml:space="preserve">×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decay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11280" y="3646440"/>
            <a:ext cx="4608360" cy="251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580000" y="4292640"/>
            <a:ext cx="2665440" cy="503280"/>
          </a:xfrm>
          <a:prstGeom prst="rect">
            <a:avLst/>
          </a:pr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84960" y="1433520"/>
            <a:ext cx="155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-&gt;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γ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20120" y="3954600"/>
            <a:ext cx="257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ckt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9230000">
            <a:off x="4355640" y="3646440"/>
            <a:ext cx="719280" cy="216000"/>
          </a:xfrm>
          <a:prstGeom prst="leftArrow">
            <a:avLst>
              <a:gd name="adj1" fmla="val 50000"/>
              <a:gd name="adj2" fmla="val 8325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148360" y="3645000"/>
            <a:ext cx="345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cktail metho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計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48360" y="4941720"/>
            <a:ext cx="3995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η, direct γ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験で測定され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分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計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3960720" cy="23767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340000" y="342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70360" y="1413000"/>
            <a:ext cx="82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6355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&lt;3 ; π (nucl-ex/06080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&gt;3 ; π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PHENIX run4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3060720" y="1413000"/>
            <a:ext cx="863640" cy="3283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574000" y="337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909A-5EEA-4AC3-99B0-6B61EDD8A6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620640"/>
            <a:ext cx="87487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結果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掲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hys. Rev. C 72, 024901,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高統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Year4)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で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lectron 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の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ポスター発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QM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Q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国際学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M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口述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rm quark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起源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lectron v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の結果を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L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に投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nucl-ex/0611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C88A-6490-4A1F-A888-3E112490BB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nic e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ermination (2) ; conve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8120" y="1363680"/>
            <a:ext cx="35668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 converter in/ou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測定され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の違いか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実験的に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i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起源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-252360" y="2997360"/>
            <a:ext cx="48956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64000" cy="4448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87280" y="5127480"/>
            <a:ext cx="54370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cktai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で求め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ic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一致！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6F6B-8330-4005-86BF-5C3D3CA50D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2276640"/>
            <a:ext cx="79930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Reaction pl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North side R.P. , South side R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combined North and S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Inclusive electron v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ghtly changing the condition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ID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N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6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hotonic electron v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%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s from mainly pi0 (pion)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Propagate above uncertain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908000" y="1052640"/>
                <a:ext cx="41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γ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8812-F0B3-4410-83A7-D5046D3AD2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1961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; Non-photonic electr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92360" y="5229360"/>
            <a:ext cx="6632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zero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562800" cy="44485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125440" y="45813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cl-ex/0611018 (P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9068-8E75-45B2-9AAE-B017D1E3F0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with p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1293-181D-43F7-9EE1-C2B38039B7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with π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2200" y="5084640"/>
            <a:ext cx="53989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よ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π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より小さ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D mes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より小さいことを示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傾向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π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似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2 GeV/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付近まで増加、その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562800" cy="417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5578200" y="1628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HENIX preliminar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A486-E5B2-4088-85D5-3572EBE1E5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672000" cy="30243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39640" y="1125360"/>
            <a:ext cx="4176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m →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D mes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→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photonic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反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mass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angl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が大きい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earin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1.0 GeV/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me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同じ方向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放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D mes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反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zero” non-photonic 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D meson v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816360" cy="22892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4932360" y="6021360"/>
            <a:ext cx="3292560" cy="442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375600" y="386064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; D me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le ; 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38440" y="3429000"/>
            <a:ext cx="195192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lectron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3623400" y="1569240"/>
            <a:ext cx="2160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cos(φe - φ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45840" y="292428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0200" y="5589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2000" y="566028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.Lett.B59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46EB-3EB3-466D-AFE6-983B725AC5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見積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2640" y="1197000"/>
            <a:ext cx="400860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見積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hotonic electr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すべ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mes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mes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; 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a*f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; D mes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; free para. (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強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仮定した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してく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が測定結果を一番再現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値を探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χ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乗検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4211640" y="3212640"/>
            <a:ext cx="1008000" cy="7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5483160" y="1077480"/>
            <a:ext cx="2994120" cy="3953160"/>
          </a:xfrm>
          <a:prstGeom prst="wedgeRectCallout">
            <a:avLst>
              <a:gd name="adj1" fmla="val -29277"/>
              <a:gd name="adj2" fmla="val -80648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743280" cy="43923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779800" y="2276640"/>
            <a:ext cx="198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π(PHENIX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PHENIX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 (PHENIX preli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from sc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・・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5636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748720" y="1557360"/>
            <a:ext cx="216000" cy="468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003640" y="6093000"/>
            <a:ext cx="3961080" cy="144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003640" y="4365720"/>
            <a:ext cx="216000" cy="187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0920" y="5950080"/>
            <a:ext cx="3517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from scale ;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m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をスケ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6732720" y="3860280"/>
            <a:ext cx="1584360" cy="7308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53AA-807A-4235-937C-7E4FFFEC0C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tting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183440" cy="518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140160" y="4437000"/>
            <a:ext cx="224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tin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/ ndf vs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f =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16200000">
            <a:off x="644400" y="4233240"/>
            <a:ext cx="817920" cy="30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/ nd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9800" y="299736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on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67960" y="29973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aon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551640" y="3021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n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444760" y="56610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φ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69760" y="5661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116000" y="4005360"/>
            <a:ext cx="216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16000" y="1341360"/>
            <a:ext cx="216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644400" y="1640880"/>
            <a:ext cx="817920" cy="30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/ nd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4328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04328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03640" y="3573360"/>
            <a:ext cx="482436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332000" y="6237360"/>
            <a:ext cx="482436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64720" y="6165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380720" y="3573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E41C-A6A6-4F92-9C95-BC0F2C7A22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ed D mes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74080" y="5013360"/>
            <a:ext cx="6011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から期待される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; Max 0.09±0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i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より小さい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3 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16140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0353-D409-4E95-9D65-47ACB92B36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ion of charm quark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3080" y="907920"/>
            <a:ext cx="37713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Apply coalescence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universal  quark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依存性を仮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84360" y="4869000"/>
                <a:ext cx="408456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7271640" y="386064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C 68 0449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Zi-wei &amp; Dene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745080" cy="2232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267920" y="2852640"/>
            <a:ext cx="95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k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201280" y="1628640"/>
            <a:ext cx="320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速さが同じもの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oale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す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30880" y="2494080"/>
            <a:ext cx="863640" cy="841320"/>
          </a:xfrm>
          <a:prstGeom prst="ellipse">
            <a:avLst/>
          </a:prstGeom>
          <a:solidFill>
            <a:srgbClr val="ff00ff">
              <a:alpha val="4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618160" y="3429000"/>
            <a:ext cx="360360" cy="338040"/>
          </a:xfrm>
          <a:prstGeom prst="ellipse">
            <a:avLst/>
          </a:prstGeom>
          <a:solidFill>
            <a:srgbClr val="0000ff">
              <a:alpha val="4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78520" y="29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34160" y="3573360"/>
            <a:ext cx="143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986520" y="2708280"/>
            <a:ext cx="1008000" cy="1058760"/>
          </a:xfrm>
          <a:prstGeom prst="ellipse">
            <a:avLst/>
          </a:prstGeom>
          <a:solidFill>
            <a:srgbClr val="ff0000">
              <a:alpha val="44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187240" y="21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24196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17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54408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40116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4869000"/>
            <a:ext cx="4319640" cy="1439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8360" y="4437000"/>
            <a:ext cx="331128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0.3 &amp;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1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effective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,b --- fitting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-γ e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,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を同時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決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11280" y="2852640"/>
            <a:ext cx="1944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a ×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c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b ×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,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6144-70FD-4966-8526-EFE98D560C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muthal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研究動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の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実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mes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ECF7-DC31-4BAB-9A8C-D21EA1EEA4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196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tting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36640" y="5084640"/>
            <a:ext cx="695628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を一番よく再現した結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; a = 1, b = 0.96 (χ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ndf = 21.85/2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rk coalescence model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n-zero charm v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を示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6000" y="551664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8101080" y="4723920"/>
            <a:ext cx="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535280" cy="39243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2992320" cy="33372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713920" y="14130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imum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2182680"/>
            <a:ext cx="144360" cy="1224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69080" y="206064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-&gt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4360" y="3141720"/>
            <a:ext cx="201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00360" y="3141720"/>
            <a:ext cx="0" cy="1582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8360" y="29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84360" y="4797360"/>
            <a:ext cx="30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494172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; u qu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-391680" y="176832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 ; charm qu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ABBA-6DEC-419A-B253-E780D9CF59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95280" y="404640"/>
            <a:ext cx="81961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m quark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042920" y="4797360"/>
            <a:ext cx="7274160" cy="1191240"/>
          </a:xfrm>
          <a:prstGeom prst="rect">
            <a:avLst/>
          </a:prstGeom>
          <a:solidFill>
            <a:srgbClr val="ff00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同じぐら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　　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matt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での非常に多くの散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quark level thermaliz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示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562800" cy="35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351B-A43C-4233-84C6-1FE87D7A40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quark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69640" y="1268280"/>
            <a:ext cx="39967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b quark con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=&gt; model dep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pQCD predi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~ 4.0 GeV/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b qua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　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dominan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なってい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* non-γ e @ pp 200 GeV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を再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b quark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は高横運動領域で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を下げ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- smearing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- smaller B v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than D v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due to the larger m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3888000" cy="29530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4176720" cy="2614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5402160" y="1268280"/>
            <a:ext cx="13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b-&gt;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N 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c-&gt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06040" y="1724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Q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5AE5-D95C-4597-8D66-AE0CCA318D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uppression of high p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9840" y="1197000"/>
            <a:ext cx="4152240" cy="55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nuclear modification factor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衝突と比べてどのくら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抑制されているかの指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抑制の原因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高密度物質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QGP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中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lu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放射 によ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on energy l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sensitive parton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for non-photonic electr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m energy l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parton density &gt; 3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high parton dense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 mean free path &lt;&lt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 &gt; 7 f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σ = 3 mb (pQ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λ &lt; 0.5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608360" cy="473544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flipH="1">
            <a:off x="5580000" y="3284640"/>
            <a:ext cx="216000" cy="288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898240" y="2924280"/>
            <a:ext cx="190224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uAu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衝突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衝突の単純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重ねあわせなら”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781880" y="5229360"/>
            <a:ext cx="20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ex/0611018 (P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988040" y="2421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LB62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6BD5-1D31-4A92-A871-7BE1A79528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4680000" cy="51832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163800" y="1197000"/>
            <a:ext cx="418104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charm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ergy los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示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論計算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[PRC73 03491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内での非常に多く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eavy qua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lastic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仮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Char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maliz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τ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harm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 τ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QGP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5 fm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Non-photonic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再現するために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   　 非常に早い時間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   　 の熱的平衡を示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C343-08D3-42A3-9C27-91D42A9B9F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00Ge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金・金衝突実験において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rm qu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　　起源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ctr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楕円的方位角異方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測定をおこな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実験結果から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起源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ゼロでな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ことを確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D meson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もゼロで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測定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再現するため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rm quark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 qua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同程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 quark flow =&gt; matt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での非常に多くの散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quark level the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strong evidence of Q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348000" y="4149720"/>
            <a:ext cx="21600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2282-668A-4821-847B-C2FA6F784AD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imuthal aniso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研究動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638B-2488-48E8-944F-7D496EF6C0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rk Gluon Plasma (QG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279440"/>
            <a:ext cx="590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陽子、中性子などのハドロンの構成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クォークとグルーオ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量子色力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CD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で記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C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相互作用が遠距離で非常に大き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　　「クォークの閉じ込め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相互作用が近距離では小さくな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「漸近的自由性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ハドロン多体系において高温・高密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状態ではクォークの閉じ込めがやぶ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クォークとグルーオンが自由に飛び回る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クォーク・グルーオン・プラズ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ビックバン直後の宇宙、中性子星の内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30243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9D46-81EF-40E1-84AD-B290D261D6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istic Heavy Ion Collisi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球上で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249800" cy="3733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628640"/>
            <a:ext cx="532908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tice QC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 ~ 17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ε~ 1.0 GeV/f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で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k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閉じ込め」が破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G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へ相転移がおこると予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エネルギー原子核衝突実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いエネルギー密度を達成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エネルギー密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ε = (d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dy) / (τ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π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y = 6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HIC ;  5 ~ 15 GeV/f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&gt; 1 GeV/f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baseline="30000">
                <a:solidFill>
                  <a:srgbClr val="ff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7280" y="177336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diagram ; QGP &amp; ha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DB3E-A072-454C-8CBB-6F9F87AB6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zimuthal anisotr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620640"/>
            <a:ext cx="662472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非中心衝突において粒子の方位角分布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異方性が生じる現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非中心衝突において衝突初期はアーモンド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 free path λ = (nσ)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λ&gt;&gt; R ; 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λ&lt;&lt; R ; anisotropic =&gt;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運動量空間の異方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HIC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~ 4 [1/fm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, σ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π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2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λ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～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ja-JP" sz="18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fm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&lt;&lt;  R(Au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6 f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流体力学的な解釈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系が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熱平衡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幾何学的形状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軸方向への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圧力勾配が大きくな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方位角分布をフーリエ展開したときの２次の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&gt; “elliptic flo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6200" y="6491160"/>
            <a:ext cx="1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877000"/>
            <a:ext cx="38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/d(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= N (1 + 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s(2(φ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981000"/>
            <a:ext cx="2232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λ &gt;&gt; R ; 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3860640"/>
            <a:ext cx="2454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λ &lt;&lt; R ; an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06064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2060640"/>
            <a:ext cx="136872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060640"/>
            <a:ext cx="1079640" cy="1224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0000"/>
              </a:gs>
              <a:gs pos="100000">
                <a:srgbClr val="ff0066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5440" y="4797360"/>
            <a:ext cx="136872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4520" y="4797360"/>
            <a:ext cx="1368360" cy="1274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4520" y="4797360"/>
            <a:ext cx="1079640" cy="1224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0000"/>
              </a:gs>
              <a:gs pos="100000">
                <a:srgbClr val="ff0066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812000" y="2060640"/>
            <a:ext cx="289080" cy="3585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40720" y="2421000"/>
            <a:ext cx="50472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9800" y="1844640"/>
            <a:ext cx="1800000" cy="17082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40720" y="2852640"/>
            <a:ext cx="50328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021440" y="1988640"/>
            <a:ext cx="287280" cy="360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732720" y="2349000"/>
            <a:ext cx="504720" cy="287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61080" y="2852640"/>
            <a:ext cx="504720" cy="73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77080" y="2997360"/>
            <a:ext cx="288720" cy="288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308360" y="3213000"/>
            <a:ext cx="73080" cy="360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69080" y="3070080"/>
            <a:ext cx="287640" cy="3589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67640" y="1915920"/>
            <a:ext cx="216000" cy="360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660720" y="2637000"/>
            <a:ext cx="576360" cy="72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97800" y="3213000"/>
            <a:ext cx="142920" cy="289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724280"/>
            <a:ext cx="2520720" cy="1440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85080" y="5589720"/>
            <a:ext cx="71928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732720" y="4941360"/>
            <a:ext cx="576000" cy="287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443280" y="5518080"/>
            <a:ext cx="865080" cy="71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948000" y="5734080"/>
            <a:ext cx="360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3280" y="5373360"/>
            <a:ext cx="865080" cy="73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659640" y="5589720"/>
            <a:ext cx="720720" cy="2156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516720" y="5157360"/>
            <a:ext cx="792000" cy="1443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019640" y="4797000"/>
            <a:ext cx="360360" cy="2890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12000" y="5734080"/>
            <a:ext cx="576360" cy="287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812000" y="4797360"/>
            <a:ext cx="289080" cy="21600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85080" y="4869000"/>
            <a:ext cx="503280" cy="28872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885080" y="5084640"/>
            <a:ext cx="863640" cy="21744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85080" y="5373720"/>
            <a:ext cx="1008000" cy="7128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524720" y="155700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27082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9636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5964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67640" y="429228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544500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900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0436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4643-8681-4C6B-A973-8305130C8B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liptic flow @ R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643280" cy="4464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1252440"/>
            <a:ext cx="48243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I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験では様々な粒子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測定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運動量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GeV/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質量が軽い粒子ほ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大き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なることが観測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π)&gt;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K)&gt;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流体力学モデ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説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非常に早い時間での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熱平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.6 fm/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熱平衡状態になってい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ことを示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n(π,K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yon(p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振る舞い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異な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5840" y="1125360"/>
            <a:ext cx="410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Hydro;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. Rev. C 67 (03) 0449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v2; Phys.Rev.Lett.91 182301 (2003)</a:t>
            </a: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i="1" lang="ja-JP" sz="14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i="1" lang="ja-JP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博士論文　本審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9CC6-F4E6-48D7-ADD7-FDAC748A6C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5:06:12Z</dcterms:created>
  <dc:creator>shingo</dc:creator>
  <dc:description/>
  <dc:language>en-US</dc:language>
  <cp:lastModifiedBy>shingo</cp:lastModifiedBy>
  <dcterms:modified xsi:type="dcterms:W3CDTF">2007-02-15T05:01:31Z</dcterms:modified>
  <cp:revision>1610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WO120">
    <vt:r8>720240727</vt:r8>
  </property>
</Properties>
</file>