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3.png" ContentType="image/png"/>
  <Override PartName="/ppt/media/image22.png" ContentType="image/png"/>
  <Override PartName="/ppt/media/image20.png" ContentType="image/png"/>
  <Override PartName="/ppt/media/image21.wmf" ContentType="image/x-wmf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2.wmf" ContentType="image/x-wmf"/>
  <Override PartName="/ppt/media/image4.png" ContentType="image/png"/>
  <Override PartName="/ppt/media/image27.png" ContentType="image/png"/>
  <Override PartName="/ppt/media/image13.png" ContentType="image/png"/>
  <Override PartName="/ppt/media/image33.wmf" ContentType="image/x-wmf"/>
  <Override PartName="/ppt/media/image8.wmf" ContentType="image/x-wmf"/>
  <Override PartName="/ppt/media/image40.png" ContentType="image/png"/>
  <Override PartName="/ppt/media/image38.png" ContentType="image/png"/>
  <Override PartName="/ppt/media/image41.png" ContentType="image/png"/>
  <Override PartName="/ppt/media/image34.wmf" ContentType="image/x-wmf"/>
  <Override PartName="/ppt/media/image35.wmf" ContentType="image/x-wmf"/>
  <Override PartName="/ppt/media/image39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42.png" ContentType="image/png"/>
  <Override PartName="/ppt/media/image37.wmf" ContentType="image/x-wmf"/>
  <Override PartName="/ppt/media/image7.wmf" ContentType="image/x-wmf"/>
  <Override PartName="/ppt/media/image11.png" ContentType="image/png"/>
  <Override PartName="/ppt/media/image25.png" ContentType="image/png"/>
  <Override PartName="/ppt/media/image19.jpeg" ContentType="image/jpeg"/>
  <Override PartName="/ppt/media/image36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10.png" ContentType="image/png"/>
  <Override PartName="/ppt/media/image3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52DA-C793-49AA-AB8F-2A45019F0B7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D meson --- weak dec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lavo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変換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-&gt;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1)Input ratio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理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Eta/pi0 --- 0.4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φ/pi0 --- 0.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ρ/pi0 --- 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ω/pi0 --- 0.9  [hep-ex/051007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2) Direct gamma --- prompt &amp; thermal ph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1)Cross section ; ~ 500μb (~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数１０個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harm pai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2) Glauber mode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仮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Nuclear travel in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not deflected after coll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nucleon-nucleon inelastic cross-section is same (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σNN = 42mb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econdary particle &amp; possible excitation is neg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arame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nch /ring =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nch space = 2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No. particle / bunch = 10</a:t>
            </a:r>
            <a:r>
              <a:rPr b="0" lang="ja-JP" sz="12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uminosity = 2 × 10</a:t>
            </a:r>
            <a:r>
              <a:rPr b="0" lang="ja-JP" sz="1200" spc="-1" strike="noStrike" baseline="30000">
                <a:solidFill>
                  <a:srgbClr val="000000"/>
                </a:solidFill>
                <a:latin typeface="Arial"/>
              </a:rPr>
              <a:t>26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cm</a:t>
            </a:r>
            <a:r>
              <a:rPr b="0" lang="ja-JP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sec</a:t>
            </a:r>
            <a:r>
              <a:rPr b="0" lang="ja-JP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llision ; 106 ns</a:t>
            </a:r>
            <a:r>
              <a:rPr b="0" lang="ja-JP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DC --- 50 % Ar + 50 % Et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8696-ACBD-4653-92BA-6CC0AAC270A9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例えば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T = 6GeV/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D meso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場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u quark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場合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T = 1.0 GeV/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ここで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 = mβγ </a:t>
            </a:r>
            <a:r>
              <a:rPr b="0" lang="ja-JP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βγ = 1/0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 quark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場合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T = 5.0 GeV/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ここで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βγ = 5/1.5 = 1/0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1 f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α=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図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 diagra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の概念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常核物質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=0, μ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温度また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を上げる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G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相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 QC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の予測；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＝０で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~170 or ε=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G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粒子の生成は形に依存しな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方的に生成、放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&gt; mean free path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が充分ながけれ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trop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ε0 = 23.0 GeV/f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nB = 0.25 fm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τ0 = 0.6 fm/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εf = 0.14 GeV/f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f = 170 Me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潜熱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= 1.15 GeV/f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EOS --- (E,p,n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BCACC-4C86-4F3F-B227-446E91C26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DF8A8-BEAC-42B8-B68F-B58DE3D6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08BCD-D02E-4DA3-A101-1AB2F7C4D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BB75D-64AF-4B79-8EAF-3149ECB40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1353-1F82-4570-A519-00FD68050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B7FB-0442-4521-B87E-81DD8DE6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A8B0-98F8-4C67-9C5A-2E7F584E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DB50-3BB9-4558-99E2-7ED7D092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4D53-94F1-4945-89C3-12C6BEC1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85A5-9C44-44FA-B128-D5401E09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167E-C488-45D7-AC78-55562974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501AE-AFEB-4CBB-A42D-84D0806E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BBE6-1BFD-426A-B548-2C6882B7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27F1-08E0-463C-8890-51231DEC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7348-3DA6-45E7-B885-1A19E2CD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2467-C98C-445C-A6F0-2D4CCD6A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7E34-6A2C-4BB3-AAB4-4857F2D8A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BCF74-180B-4F1E-B9E2-D1AA0143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FD00F-4627-4BCC-A9D9-3FA3BDF9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EFB73-FE92-4C9B-8381-58E270C9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2BA6A-A81D-4CD1-A010-23D947B5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2A47B-B2E2-4274-855C-5578E46A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1DBE7-B11C-4423-8521-50CDE0AA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4DEA9-859C-4DC2-B902-6E7BF224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1495-E752-46B8-9180-DF0758E16318}" type="slidenum">
              <a:rPr b="0" lang="ja-JP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53BF-0B86-4C26-8783-CEEF1375BA2B}" type="slidenum">
              <a:rPr b="0" lang="ja-JP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scitation.aip.org/getabs/servlet/GetabsServlet?prog=normal&amp;id=PRLTAO000091000018182301000001&amp;idtype=cvips&amp;gifs=yes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39640" y="1844640"/>
            <a:ext cx="6651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asurement of electron azimuthal anisotropy and implications for heavy quark flow in Au + Au collision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 √s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N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200 Ge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87640" y="465300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理物質科学研究科　博士課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1052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坂井　真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博士論文　予備審査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6A42-ABF4-4ED8-BB6B-944ECE7AD17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rk coalesc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872960" y="476280"/>
            <a:ext cx="3847320" cy="3673440"/>
            <a:chOff x="4872960" y="476280"/>
            <a:chExt cx="3847320" cy="3673440"/>
          </a:xfrm>
        </p:grpSpPr>
        <p:sp>
          <p:nvSpPr>
            <p:cNvPr id="185" name=""/>
            <p:cNvSpPr/>
            <p:nvPr/>
          </p:nvSpPr>
          <p:spPr>
            <a:xfrm>
              <a:off x="4932360" y="476280"/>
              <a:ext cx="3787920" cy="3673440"/>
            </a:xfrm>
            <a:prstGeom prst="roundRect">
              <a:avLst>
                <a:gd name="adj" fmla="val 825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 rot="5400000">
              <a:off x="5878080" y="1181880"/>
              <a:ext cx="2785680" cy="23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407920" y="1241280"/>
              <a:ext cx="370080" cy="1836720"/>
            </a:xfrm>
            <a:prstGeom prst="upArrow">
              <a:avLst>
                <a:gd name="adj1" fmla="val 50000"/>
                <a:gd name="adj2" fmla="val 124076"/>
              </a:avLst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69880" y="3423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Osaka"/>
                </a:rPr>
                <a:t>QG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72960" y="822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Osaka"/>
                </a:rPr>
                <a:t>Had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661320" y="1268280"/>
            <a:ext cx="3974760" cy="53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adron producti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メカニズムの一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q =&gt; Meson (π,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qq =&gt; Baryon (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Universa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な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arton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(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仮定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急激に減少する分布を仮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w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yiel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igh p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y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よりも圧倒的に増え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885440" y="69228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84720" y="6922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y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32000" y="198900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900000" y="3500280"/>
                <a:ext cx="324036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E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95" name=""/>
          <p:cNvGrpSpPr/>
          <p:nvPr/>
        </p:nvGrpSpPr>
        <p:grpSpPr>
          <a:xfrm>
            <a:off x="5148360" y="3933720"/>
            <a:ext cx="3239640" cy="2703240"/>
            <a:chOff x="5148360" y="3933720"/>
            <a:chExt cx="3239640" cy="2703240"/>
          </a:xfrm>
        </p:grpSpPr>
        <p:pic>
          <p:nvPicPr>
            <p:cNvPr id="196" name="" descr=""/>
            <p:cNvPicPr/>
            <p:nvPr/>
          </p:nvPicPr>
          <p:blipFill>
            <a:blip r:embed="rId2"/>
            <a:srcRect l="22449" t="27205" r="29618" b="2127"/>
            <a:stretch/>
          </p:blipFill>
          <p:spPr>
            <a:xfrm>
              <a:off x="5148360" y="3933720"/>
              <a:ext cx="3239640" cy="27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 flipV="1">
              <a:off x="7150680" y="5846400"/>
              <a:ext cx="0" cy="521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2214000">
              <a:off x="7829640" y="6194880"/>
              <a:ext cx="371520" cy="173160"/>
            </a:xfrm>
            <a:prstGeom prst="ellipse">
              <a:avLst/>
            </a:prstGeom>
            <a:solidFill>
              <a:srgbClr val="3366ff">
                <a:alpha val="45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37080" y="5788440"/>
              <a:ext cx="665280" cy="406800"/>
            </a:xfrm>
            <a:custGeom>
              <a:avLst/>
              <a:gdLst/>
              <a:ahLst/>
              <a:rect l="l" t="t" r="r" b="b"/>
              <a:pathLst>
                <a:path w="408" h="317">
                  <a:moveTo>
                    <a:pt x="408" y="317"/>
                  </a:moveTo>
                  <a:cubicBezTo>
                    <a:pt x="374" y="203"/>
                    <a:pt x="340" y="90"/>
                    <a:pt x="272" y="45"/>
                  </a:cubicBezTo>
                  <a:cubicBezTo>
                    <a:pt x="204" y="0"/>
                    <a:pt x="45" y="45"/>
                    <a:pt x="0" y="45"/>
                  </a:cubicBezTo>
                </a:path>
              </a:pathLst>
            </a:custGeom>
            <a:noFill/>
            <a:ln w="28440">
              <a:solidFill>
                <a:srgbClr val="3366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3308400">
              <a:off x="6288480" y="5185080"/>
              <a:ext cx="287280" cy="221760"/>
            </a:xfrm>
            <a:prstGeom prst="ellipse">
              <a:avLst/>
            </a:prstGeom>
            <a:solidFill>
              <a:srgbClr val="996600">
                <a:alpha val="72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68480" y="5411880"/>
              <a:ext cx="693000" cy="434520"/>
            </a:xfrm>
            <a:custGeom>
              <a:avLst/>
              <a:gdLst/>
              <a:ahLst/>
              <a:rect l="l" t="t" r="r" b="b"/>
              <a:pathLst>
                <a:path w="379" h="317">
                  <a:moveTo>
                    <a:pt x="16" y="0"/>
                  </a:moveTo>
                  <a:cubicBezTo>
                    <a:pt x="8" y="64"/>
                    <a:pt x="0" y="128"/>
                    <a:pt x="61" y="181"/>
                  </a:cubicBezTo>
                  <a:cubicBezTo>
                    <a:pt x="122" y="234"/>
                    <a:pt x="250" y="275"/>
                    <a:pt x="379" y="317"/>
                  </a:cubicBezTo>
                </a:path>
              </a:pathLst>
            </a:custGeom>
            <a:noFill/>
            <a:ln w="28440">
              <a:solidFill>
                <a:srgbClr val="9966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85160" y="5268960"/>
              <a:ext cx="904320" cy="705240"/>
            </a:xfrm>
            <a:custGeom>
              <a:avLst/>
              <a:gdLst/>
              <a:ahLst/>
              <a:rect l="l" t="t" r="r" b="b"/>
              <a:pathLst>
                <a:path w="551" h="552">
                  <a:moveTo>
                    <a:pt x="98" y="0"/>
                  </a:moveTo>
                  <a:cubicBezTo>
                    <a:pt x="49" y="49"/>
                    <a:pt x="0" y="98"/>
                    <a:pt x="7" y="181"/>
                  </a:cubicBezTo>
                  <a:cubicBezTo>
                    <a:pt x="14" y="264"/>
                    <a:pt x="52" y="446"/>
                    <a:pt x="143" y="499"/>
                  </a:cubicBezTo>
                  <a:cubicBezTo>
                    <a:pt x="234" y="552"/>
                    <a:pt x="392" y="525"/>
                    <a:pt x="551" y="499"/>
                  </a:cubicBezTo>
                </a:path>
              </a:pathLst>
            </a:custGeom>
            <a:noFill/>
            <a:ln w="28440">
              <a:solidFill>
                <a:srgbClr val="9966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2870400">
              <a:off x="5970960" y="4895280"/>
              <a:ext cx="317880" cy="221040"/>
            </a:xfrm>
            <a:prstGeom prst="ellipse">
              <a:avLst/>
            </a:prstGeom>
            <a:solidFill>
              <a:srgbClr val="008000">
                <a:alpha val="51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71560" y="4968360"/>
              <a:ext cx="889920" cy="820080"/>
            </a:xfrm>
            <a:custGeom>
              <a:avLst/>
              <a:gdLst/>
              <a:ahLst/>
              <a:rect l="l" t="t" r="r" b="b"/>
              <a:pathLst>
                <a:path w="544" h="642">
                  <a:moveTo>
                    <a:pt x="0" y="52"/>
                  </a:moveTo>
                  <a:cubicBezTo>
                    <a:pt x="67" y="26"/>
                    <a:pt x="135" y="0"/>
                    <a:pt x="226" y="98"/>
                  </a:cubicBezTo>
                  <a:cubicBezTo>
                    <a:pt x="317" y="196"/>
                    <a:pt x="491" y="551"/>
                    <a:pt x="544" y="642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96680" y="4764600"/>
              <a:ext cx="1062000" cy="1023840"/>
            </a:xfrm>
            <a:custGeom>
              <a:avLst/>
              <a:gdLst/>
              <a:ahLst/>
              <a:rect l="l" t="t" r="r" b="b"/>
              <a:pathLst>
                <a:path w="650" h="802">
                  <a:moveTo>
                    <a:pt x="0" y="121"/>
                  </a:moveTo>
                  <a:cubicBezTo>
                    <a:pt x="64" y="60"/>
                    <a:pt x="129" y="0"/>
                    <a:pt x="227" y="76"/>
                  </a:cubicBezTo>
                  <a:cubicBezTo>
                    <a:pt x="325" y="152"/>
                    <a:pt x="530" y="454"/>
                    <a:pt x="590" y="575"/>
                  </a:cubicBezTo>
                  <a:cubicBezTo>
                    <a:pt x="650" y="696"/>
                    <a:pt x="620" y="749"/>
                    <a:pt x="590" y="802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71560" y="4862160"/>
              <a:ext cx="889920" cy="811080"/>
            </a:xfrm>
            <a:custGeom>
              <a:avLst/>
              <a:gdLst/>
              <a:ahLst/>
              <a:rect l="l" t="t" r="r" b="b"/>
              <a:pathLst>
                <a:path w="544" h="635">
                  <a:moveTo>
                    <a:pt x="0" y="91"/>
                  </a:moveTo>
                  <a:cubicBezTo>
                    <a:pt x="34" y="45"/>
                    <a:pt x="68" y="0"/>
                    <a:pt x="136" y="45"/>
                  </a:cubicBezTo>
                  <a:cubicBezTo>
                    <a:pt x="204" y="90"/>
                    <a:pt x="340" y="265"/>
                    <a:pt x="408" y="363"/>
                  </a:cubicBezTo>
                  <a:cubicBezTo>
                    <a:pt x="476" y="461"/>
                    <a:pt x="510" y="548"/>
                    <a:pt x="544" y="635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 flipH="1">
            <a:off x="5940360" y="4365720"/>
            <a:ext cx="719280" cy="142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43640" y="4149720"/>
            <a:ext cx="191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急激に減少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分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451640" y="5661000"/>
            <a:ext cx="64944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80800" y="5877000"/>
            <a:ext cx="704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(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66920" y="4005000"/>
            <a:ext cx="360360" cy="43164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67280" y="4437000"/>
            <a:ext cx="1374840" cy="30708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クォーク分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43280" y="4797360"/>
            <a:ext cx="1224000" cy="43200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予備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6531C-1F07-47BC-8D93-4CD20532B9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ryon enhan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5280" y="1125360"/>
            <a:ext cx="4824360" cy="36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/pi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周辺衝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60-92%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と一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中心衝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0-30%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で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ie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が増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rk Coalescence mode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/pi rati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をよく再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急激に減少する分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thermal ; exp(-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T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(p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/3) &gt;&gt; w(p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/2)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　　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=&gt; baryon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を作る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quark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の数が多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148360" y="3789360"/>
            <a:ext cx="3995640" cy="2879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24000" y="4797360"/>
                <a:ext cx="462888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</m:mr>
                          <m:mr>
                            <m:e>
                              <m:r>
                                <m:t xml:space="preserve">E</m:t>
                              </m:r>
                              <m:f>
                                <m:num>
                                  <m:sSup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p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num>
                                <m:den>
                                  <m:sSup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p>
                                  <m:r>
                                    <m:t xml:space="preserve">p</m:t>
                                  </m:r>
                                </m:den>
                              </m:f>
                              <m:r>
                                <m:t xml:space="preserve">≈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⋅</m:t>
                              </m:r>
                              <m:sSup>
                                <m:e>
                                  <m:r>
                                    <m:t xml:space="preserve">w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  <m:r>
                          <m:t xml:space="preserve">E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p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&lt;&lt;</m:t>
                        </m:r>
                        <m:r>
                          <m:t xml:space="preserve">E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p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859280" y="620640"/>
            <a:ext cx="3456000" cy="27259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4788000" y="3284640"/>
            <a:ext cx="3457440" cy="4474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8309520" y="277956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周辺衝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8648640" y="2347560"/>
            <a:ext cx="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238240" y="19162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中心衝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予備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CE31F-DF90-4324-A026-35526BCC52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rk level elliptic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rcRect l="0" t="3344" r="0" b="0"/>
          <a:stretch/>
        </p:blipFill>
        <p:spPr>
          <a:xfrm>
            <a:off x="108000" y="1125360"/>
            <a:ext cx="6264360" cy="38163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39640" y="1484280"/>
            <a:ext cx="1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95480" y="5084640"/>
            <a:ext cx="70574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rk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数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後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a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ve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universal v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の存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rk coalescence mode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から期待される結果と一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rk leve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で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の存在を示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227640" y="1916280"/>
            <a:ext cx="2592360" cy="1439640"/>
          </a:xfrm>
          <a:prstGeom prst="rect">
            <a:avLst/>
          </a:prstGeom>
          <a:solidFill>
            <a:srgbClr val="00ffff">
              <a:alpha val="4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377040" y="1916280"/>
                <a:ext cx="222084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6300720" y="981000"/>
            <a:ext cx="26640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の場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　ユニバーサ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　な方位角分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16720" y="357336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72560" y="3429000"/>
            <a:ext cx="1577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rk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数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され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予備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54CA1-E044-4908-9707-373C96C30E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771640" y="1197000"/>
            <a:ext cx="432144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76720" y="1413000"/>
            <a:ext cx="2664000" cy="26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4000" y="1052640"/>
            <a:ext cx="9432720" cy="60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現在まで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測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pion,Kaon,prot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など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ight quark(u,d,s) quark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からな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ad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τ = 0.6 fm/c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の熱平衡を仮定した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ydro mode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一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universa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な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quark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cale =&gt; quark level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もっと重い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quark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も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存在するの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harm quark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u,d,s quark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比べて非常に重い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=&gt; thermaliz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しにく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M</a:t>
            </a:r>
            <a:r>
              <a:rPr b="0" lang="ja-JP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c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~ 1.2 – 1.5 GeV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&gt;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u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~ MeV , M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~ 0.2 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uction @ initial coll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harm quark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ow  =&gt; re-scattering is so intense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1) quark level thermal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　　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2) early time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hermalization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=&gt; Strong evidence of QG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charm quark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予備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4479C-37EE-4BF1-865D-252BA30472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ENIX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におけ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m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の研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予備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73E58-2D4F-46FF-9F1B-2C43231AD7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4493160" y="437400"/>
            <a:ext cx="4191480" cy="3386160"/>
            <a:chOff x="4493160" y="437400"/>
            <a:chExt cx="4191480" cy="3386160"/>
          </a:xfrm>
        </p:grpSpPr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 rot="650400">
              <a:off x="4716000" y="765000"/>
              <a:ext cx="3745080" cy="27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 rot="20073600">
              <a:off x="6456240" y="2175840"/>
              <a:ext cx="465480" cy="307800"/>
            </a:xfrm>
            <a:prstGeom prst="ellipse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0" y="1341360"/>
            <a:ext cx="849636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ENIX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実験で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rm quark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の研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&gt;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現在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ENIX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検出器では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 meso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直接測定することは困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&gt; charm quark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起源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ctro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測定を通して研究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-&gt;D-&gt;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00720" y="2997360"/>
            <a:ext cx="431640" cy="3380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526080" y="3139920"/>
            <a:ext cx="2271960" cy="52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 D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&gt;Kπ (3.85±0.10 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BR D-&gt;e+X (17.2 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4000" y="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m quark study @ PHE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042920" y="4797360"/>
            <a:ext cx="3745080" cy="720720"/>
          </a:xfrm>
          <a:prstGeom prst="rect">
            <a:avLst/>
          </a:prstGeom>
          <a:solidFill>
            <a:srgbClr val="ff00ff">
              <a:alpha val="39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5280" y="3213000"/>
            <a:ext cx="828036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cc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otonic elect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photon co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Dalitz dec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n-photonic elect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primarily semi-leptonic dec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   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of mesons containing c &amp; 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cc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Background</a:t>
            </a:r>
            <a:r>
              <a:rPr b="0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をきちんと決めることが重要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cocktail , converter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44720" y="4221000"/>
            <a:ext cx="2129760" cy="122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D me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M = 1.869 [GeV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τ~ 10</a:t>
            </a:r>
            <a:r>
              <a:rPr b="1" lang="ja-JP" sz="18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[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Arial"/>
              </a:rPr>
              <a:t>τ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~ 300 [μm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予備審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93D2F-A68C-448D-BA24-ECC2F79373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cktail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8000" y="1341360"/>
            <a:ext cx="50403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photonic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起源の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electron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photonic source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分布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にして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onte Carl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simulation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で見積も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π</a:t>
            </a:r>
            <a:r>
              <a:rPr b="1" lang="ja-JP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0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(dominant source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η, direct γ,φ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ENIX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で測定された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分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を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pu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として使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その他のハドロンは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ion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の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分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を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ale (√(p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1" lang="ja-JP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m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h</a:t>
            </a:r>
            <a:r>
              <a:rPr b="1" lang="ja-JP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m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π</a:t>
            </a:r>
            <a:r>
              <a:rPr b="1" lang="ja-JP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することによりその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分布を仮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643280" y="1268280"/>
            <a:ext cx="4284720" cy="45594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5364000" y="566100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M 06 F.Kajih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予備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220EA-E19C-4CB5-95C4-1A67047146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rter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52120" y="1125360"/>
            <a:ext cx="5617080" cy="54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am pipe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の周りに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.7 %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ss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真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を新たに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ll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hoton conve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ton converter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によ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ton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o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ield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が増加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2.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ton converter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有、無し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実験結果を比較することによ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実験的に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photonic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起源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o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tonic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起源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o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を求めることができ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converter ; 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on-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ter  ;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*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on-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２つの独立な方法で求め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tonic electro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分布は一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&gt; background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を理解 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284720" y="1413000"/>
            <a:ext cx="4519440" cy="39988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6443640" y="2565360"/>
            <a:ext cx="1655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ck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予備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79AF2-654D-4594-A18C-42C38D33D4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-photonic elec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6804000" cy="367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4643280" y="1125360"/>
            <a:ext cx="4175280" cy="39610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973800" y="5445000"/>
            <a:ext cx="67536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photonic electr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布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Q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から期待さ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起源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布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en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ENI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で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1.5 GeV/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で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以上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photoni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起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15480" y="155736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γ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γ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64000" y="1916280"/>
            <a:ext cx="10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83840" y="148428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γ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3132000" y="3933360"/>
            <a:ext cx="360360" cy="107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068480" y="5013360"/>
            <a:ext cx="7674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 ; pQCD calculation ; c-&gt;e &amp; b-&gt;e (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4 GeV/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で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qaur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ina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692360" y="112428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ENIX ; nucl-ex/0611018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1640" y="3716280"/>
            <a:ext cx="358920" cy="338040"/>
          </a:xfrm>
          <a:prstGeom prst="ellipse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427640" y="3716280"/>
            <a:ext cx="358560" cy="338040"/>
          </a:xfrm>
          <a:prstGeom prst="ellipse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500720" y="2781360"/>
            <a:ext cx="0" cy="792000"/>
          </a:xfrm>
          <a:prstGeom prst="line">
            <a:avLst/>
          </a:prstGeom>
          <a:ln w="1260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284720" y="2349360"/>
            <a:ext cx="358560" cy="338400"/>
          </a:xfrm>
          <a:prstGeom prst="ellipse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56000" y="2349360"/>
            <a:ext cx="358920" cy="338400"/>
          </a:xfrm>
          <a:prstGeom prst="ellipse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233240" y="1916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304880" y="4076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周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予備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B4EB2-DCD3-4516-9F3A-9636327393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cross section of ch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3959280" cy="33847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900000" y="4653000"/>
            <a:ext cx="748980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harm quark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は質量が重いため衝突初期の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gluon fusion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で作られ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otal cross section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は核子・核子衝突の数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Arial"/>
              </a:rPr>
              <a:t>coll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でスケール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HENIX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electron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解析から求められた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harm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ross section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　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QCD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から期待される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harm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の生成とコンシステン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=&gt; non-photonic electron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harm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起源が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main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94960" y="3788640"/>
            <a:ext cx="258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HENIX;Phys.Rev.Lett.94:0823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348000" y="3500280"/>
            <a:ext cx="358920" cy="338400"/>
          </a:xfrm>
          <a:prstGeom prst="ellipse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419640" y="3500280"/>
            <a:ext cx="358560" cy="338400"/>
          </a:xfrm>
          <a:prstGeom prst="ellipse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16000" y="3500280"/>
            <a:ext cx="358920" cy="338400"/>
          </a:xfrm>
          <a:prstGeom prst="ellipse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332000" y="3500280"/>
            <a:ext cx="358560" cy="338400"/>
          </a:xfrm>
          <a:prstGeom prst="ellipse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835280" y="3645000"/>
            <a:ext cx="1439640" cy="0"/>
          </a:xfrm>
          <a:prstGeom prst="line">
            <a:avLst/>
          </a:prstGeom>
          <a:ln w="1260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4716360" y="83664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5796000" y="981000"/>
            <a:ext cx="23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lid curves:  PYTH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ded band:  NLO QC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076720" y="386172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HENIX ; Phys. Rev. Lett. 88, 192303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予備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8C167-2726-48BA-A16F-063B38FE17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研究の流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52560" y="4441680"/>
            <a:ext cx="1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998640"/>
            <a:ext cx="8748720" cy="54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ENIX-Year2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実験へ参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&gt; T0 counter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&gt; TOF counter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のメンテナンス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を測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&gt;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国際学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M0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にてポスター発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ENIX –Year3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実験へ参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&gt; TOF counter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の立ち上げ、メンテナン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ctron 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の測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&gt; BNL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で行われ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ow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の国際研究会で口述発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HENIX –Year4-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実験へ参加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rm quark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起源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ctron 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を初めて測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&gt;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国際学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M0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にてポスター発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&gt;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大阪大学で行われた研究会で口述発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83440" y="1341360"/>
            <a:ext cx="203508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--- Year4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関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博士論文に関連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予備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BFD1A-8591-4A14-95E5-97D3D74D65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 &amp;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I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加速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ENIX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予備審査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44A43-9C5B-4438-8EAF-4B55912AFD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ivistic Heavy Ion Coll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rcRect l="26616" t="0" r="0" b="20441"/>
          <a:stretch/>
        </p:blipFill>
        <p:spPr>
          <a:xfrm>
            <a:off x="1619280" y="1125360"/>
            <a:ext cx="5904000" cy="338472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02920" y="4723920"/>
            <a:ext cx="6913800" cy="1800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米国ブルックヘブン国立研究所に設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世界初の重イオン衝突型加速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円周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83 k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２つのリン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衝突核種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金金、重陽子金、偏極陽子、銅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 energy (Au+Au) ;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子当た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 GeV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まで加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予備審査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EF4B3-8554-4A4C-87F2-81BDD41181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ENIX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572000" y="1268280"/>
            <a:ext cx="4267080" cy="49532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24000" y="1484280"/>
            <a:ext cx="4103640" cy="3608280"/>
          </a:xfrm>
          <a:prstGeom prst="rect">
            <a:avLst/>
          </a:prstGeom>
          <a:noFill/>
          <a:ln w="2844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Beam Beam Counter (BB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Zero Degree Calorimeter (ZD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　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Global variables 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衝突時間、位置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etc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の決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Drift Chamber (D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Pad Chamber(P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・飛跡検出、運動量の測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Ring Image Cherenkov 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EM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　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electron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337360" y="836640"/>
            <a:ext cx="26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 arm ; |η| &lt;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予備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9C0F9-CADE-46B7-AB5F-B687311FFD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飛跡の再構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716360" y="549360"/>
            <a:ext cx="4275360" cy="38019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5364000" y="3789360"/>
            <a:ext cx="3276720" cy="26240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250920" y="1413000"/>
            <a:ext cx="5113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衝突によって生成された粒子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飛跡は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によって再構成さ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の２つの平面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(X1,X2) plane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の粒子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i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情報から、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が決めら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　　　　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α = K/p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(K=101 mrad*GeV/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collision vertex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を組み合わせ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ことにより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を決め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p = p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/sin(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各検出器上での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it poin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を探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619280" y="4076640"/>
            <a:ext cx="5867280" cy="1241280"/>
            <a:chOff x="1619280" y="4076640"/>
            <a:chExt cx="5867280" cy="1241280"/>
          </a:xfrm>
        </p:grpSpPr>
        <mc:AlternateContent>
          <mc:Choice xmlns:a14="http://schemas.microsoft.com/office/drawing/2010/main" Requires="a14">
            <p:sp>
              <p:nvSpPr>
                <p:cNvPr id="298" name=""/>
                <p:cNvSpPr txBox="1"/>
                <p:nvPr/>
              </p:nvSpPr>
              <p:spPr>
                <a:xfrm>
                  <a:off x="3232080" y="4610160"/>
                  <a:ext cx="2262240" cy="70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δp</m:t>
                          </m:r>
                        </m:num>
                        <m:den>
                          <m:r>
                            <m:t xml:space="preserve">P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7</m:t>
                      </m:r>
                      <m:r>
                        <m:rPr>
                          <m:lit/>
                          <m:nor/>
                        </m:rPr>
                        <m:t xml:space="preserve">%</m:t>
                      </m:r>
                      <m:r>
                        <m:t xml:space="preserve">⊕</m:t>
                      </m:r>
                      <m:r>
                        <m:t xml:space="preserve">1</m:t>
                      </m:r>
                      <m:r>
                        <m:t xml:space="preserve">%p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9" name=""/>
            <p:cNvSpPr/>
            <p:nvPr/>
          </p:nvSpPr>
          <p:spPr>
            <a:xfrm>
              <a:off x="1619280" y="4076640"/>
              <a:ext cx="5867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5829840" y="2800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186520" y="928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予備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CFD26-7F58-451B-A8EC-81C99156C7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ctron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0" y="3429000"/>
            <a:ext cx="4267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4000" y="1197000"/>
            <a:ext cx="4914720" cy="56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ＭＳ Ｐゴシック"/>
              </a:rPr>
              <a:t>RI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原理：チェレンコフ</a:t>
            </a:r>
            <a:r>
              <a:rPr b="1" lang="zh-CN" sz="2000" spc="-1" strike="noStrike">
                <a:solidFill>
                  <a:srgbClr val="ff0000"/>
                </a:solidFill>
                <a:latin typeface="ＭＳ Ｐゴシック"/>
              </a:rPr>
              <a:t>放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物質中を通過する荷電粒子の速度が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その物質中での光の速さをこえる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光が放出される現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ガ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n=1.0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on ; 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gt; 0.2 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on ; 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gt; 5.0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を測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  すべて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Cal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に落と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&gt; Electron E/p ~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3829680" y="1052640"/>
            <a:ext cx="5947560" cy="3550320"/>
            <a:chOff x="3829680" y="1052640"/>
            <a:chExt cx="5947560" cy="3550320"/>
          </a:xfrm>
        </p:grpSpPr>
        <p:pic>
          <p:nvPicPr>
            <p:cNvPr id="306" name="" descr=""/>
            <p:cNvPicPr/>
            <p:nvPr/>
          </p:nvPicPr>
          <p:blipFill>
            <a:blip r:embed="rId1"/>
            <a:stretch/>
          </p:blipFill>
          <p:spPr>
            <a:xfrm>
              <a:off x="5253840" y="1150560"/>
              <a:ext cx="3155760" cy="22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 flipH="1">
              <a:off x="5842440" y="1564200"/>
              <a:ext cx="3934800" cy="3036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272" y="101"/>
                  </a:moveTo>
                  <a:arcTo wR="10800" hR="10800" stAng="-4930135" swAng="13703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2272" y="101"/>
                  </a:moveTo>
                  <a:arcTo wR="10800" hR="10800" stAng="-4930135" swAng="1370304"/>
                </a:path>
              </a:pathLst>
            </a:custGeom>
            <a:noFill/>
            <a:ln w="284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29680" y="1566360"/>
              <a:ext cx="3934800" cy="3036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272" y="101"/>
                  </a:moveTo>
                  <a:arcTo wR="10800" hR="10800" stAng="-4930135" swAng="13703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2272" y="101"/>
                  </a:moveTo>
                  <a:arcTo wR="10800" hR="10800" stAng="-4930135" swAng="1370304"/>
                </a:path>
              </a:pathLst>
            </a:custGeom>
            <a:noFill/>
            <a:ln w="284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900560" y="1052640"/>
              <a:ext cx="10857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7d"/>
                  </a:solidFill>
                  <a:latin typeface="Times New Roman"/>
                </a:rPr>
                <a:t>Cerenkov photons from e</a:t>
              </a:r>
              <a:r>
                <a:rPr b="1" lang="en-US" sz="1000" spc="-1" strike="noStrike" baseline="30000">
                  <a:solidFill>
                    <a:srgbClr val="00007d"/>
                  </a:solidFill>
                  <a:latin typeface="Times New Roman"/>
                </a:rPr>
                <a:t>+ </a:t>
              </a:r>
              <a:r>
                <a:rPr b="1" lang="en-US" sz="1000" spc="-1" strike="noStrike">
                  <a:solidFill>
                    <a:srgbClr val="00007d"/>
                  </a:solidFill>
                  <a:latin typeface="Times New Roman"/>
                </a:rPr>
                <a:t>or e</a:t>
              </a:r>
              <a:r>
                <a:rPr b="1" lang="en-US" sz="1000" spc="-1" strike="noStrike" baseline="30000">
                  <a:solidFill>
                    <a:srgbClr val="00007d"/>
                  </a:solidFill>
                  <a:latin typeface="Times New Roman"/>
                </a:rPr>
                <a:t>-</a:t>
              </a:r>
              <a:r>
                <a:rPr b="1" lang="en-US" sz="1000" spc="-1" strike="noStrike">
                  <a:solidFill>
                    <a:srgbClr val="00007d"/>
                  </a:solidFill>
                  <a:latin typeface="Times New Roman"/>
                </a:rPr>
                <a:t>  are detected by array of PM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97360" y="1190520"/>
              <a:ext cx="460440" cy="18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99ff"/>
                  </a:solidFill>
                  <a:latin typeface="Times New Roman"/>
                </a:rPr>
                <a:t>mirr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6472440" y="1379160"/>
              <a:ext cx="237240" cy="284760"/>
            </a:xfrm>
            <a:prstGeom prst="line">
              <a:avLst/>
            </a:prstGeom>
            <a:ln w="9360">
              <a:solidFill>
                <a:srgbClr val="99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892560" y="1383120"/>
              <a:ext cx="189360" cy="258120"/>
            </a:xfrm>
            <a:prstGeom prst="line">
              <a:avLst/>
            </a:prstGeom>
            <a:ln w="9360">
              <a:solidFill>
                <a:srgbClr val="99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131600" y="1551960"/>
              <a:ext cx="89496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7769160" y="1598760"/>
              <a:ext cx="3506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643280" y="1103760"/>
              <a:ext cx="1186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ost hadrons do not emit Cerenkov lig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308920" y="1372320"/>
              <a:ext cx="927360" cy="45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317560" y="1352880"/>
              <a:ext cx="1098360" cy="41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79840" y="1354680"/>
              <a:ext cx="1663920" cy="60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401080" y="1336320"/>
              <a:ext cx="1225440" cy="41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900560" y="2424600"/>
              <a:ext cx="1046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Electrons emi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erenkov phot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in RICH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>
              <a:off x="6924960" y="2011680"/>
              <a:ext cx="1132200" cy="40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 flipV="1">
              <a:off x="7310520" y="1998000"/>
              <a:ext cx="767880" cy="35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91120" y="2507040"/>
              <a:ext cx="855360" cy="16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99ff"/>
                  </a:solidFill>
                  <a:latin typeface="Times New Roman"/>
                </a:rPr>
                <a:t>Central Mag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46240" y="1551960"/>
              <a:ext cx="712440" cy="14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9999ff"/>
                  </a:solidFill>
                  <a:latin typeface="Times New Roman"/>
                </a:rPr>
                <a:t>ＲＩＣ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46560" y="1688760"/>
              <a:ext cx="298440" cy="118080"/>
            </a:xfrm>
            <a:prstGeom prst="line">
              <a:avLst/>
            </a:prstGeom>
            <a:ln w="9360">
              <a:solidFill>
                <a:srgbClr val="99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957440" y="2135520"/>
              <a:ext cx="725040" cy="13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99ff"/>
                  </a:solidFill>
                  <a:latin typeface="Times New Roman"/>
                </a:rPr>
                <a:t>PMT arr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794480" y="2144880"/>
              <a:ext cx="725040" cy="13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99ff"/>
                  </a:solidFill>
                  <a:latin typeface="Times New Roman"/>
                </a:rPr>
                <a:t>PMT arr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 flipH="1">
            <a:off x="6803640" y="4365720"/>
            <a:ext cx="289080" cy="21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7020000" y="5013360"/>
            <a:ext cx="28872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03640" y="3789360"/>
            <a:ext cx="23767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5479920" y="3624120"/>
            <a:ext cx="2895840" cy="27831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5824080" y="626436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{(E/p)-1/σ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distribu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553000" y="362412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318360" y="3624120"/>
            <a:ext cx="228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予備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0ABBE-C23F-4557-AAFA-266FA907183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の解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79280" y="1413000"/>
            <a:ext cx="6264360" cy="56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ction plane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ビーム軸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act parameter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がなす平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reaction plan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を基準に放出された粒子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方位角分布の測定をおこな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を決め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ction pla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実験的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act parameter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を決めること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　できないので粒子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を用いて決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5651280" y="1052280"/>
            <a:ext cx="3343320" cy="2409480"/>
            <a:chOff x="5651280" y="1052280"/>
            <a:chExt cx="3343320" cy="2409480"/>
          </a:xfrm>
        </p:grpSpPr>
        <p:sp>
          <p:nvSpPr>
            <p:cNvPr id="338" name=""/>
            <p:cNvSpPr/>
            <p:nvPr/>
          </p:nvSpPr>
          <p:spPr>
            <a:xfrm rot="10800000">
              <a:off x="8147880" y="1052280"/>
              <a:ext cx="369720" cy="312840"/>
            </a:xfrm>
            <a:custGeom>
              <a:avLst/>
              <a:gdLst/>
              <a:ahLst/>
              <a:rect l="l" t="t" r="r" b="b"/>
              <a:pathLst>
                <a:path w="720" h="622">
                  <a:moveTo>
                    <a:pt x="430" y="0"/>
                  </a:moveTo>
                  <a:lnTo>
                    <a:pt x="177" y="379"/>
                  </a:lnTo>
                  <a:lnTo>
                    <a:pt x="0" y="379"/>
                  </a:lnTo>
                  <a:lnTo>
                    <a:pt x="168" y="622"/>
                  </a:lnTo>
                  <a:lnTo>
                    <a:pt x="631" y="379"/>
                  </a:lnTo>
                  <a:lnTo>
                    <a:pt x="465" y="382"/>
                  </a:lnTo>
                  <a:lnTo>
                    <a:pt x="72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6250680" y="1380960"/>
              <a:ext cx="640080" cy="92664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6560640" y="1380960"/>
              <a:ext cx="627120" cy="91260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758280" y="1575000"/>
              <a:ext cx="2104560" cy="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708600" y="2546280"/>
              <a:ext cx="1478880" cy="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51640" y="1376640"/>
              <a:ext cx="3342960" cy="1800720"/>
            </a:xfrm>
            <a:prstGeom prst="parallelogram">
              <a:avLst>
                <a:gd name="adj" fmla="val 68878"/>
              </a:avLst>
            </a:prstGeom>
            <a:noFill/>
            <a:ln w="2844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5651280" y="2788920"/>
              <a:ext cx="267480" cy="39132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6708600" y="1380960"/>
              <a:ext cx="777600" cy="112968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 rot="10800000">
              <a:off x="6677640" y="2398320"/>
              <a:ext cx="259920" cy="722520"/>
            </a:xfrm>
            <a:custGeom>
              <a:avLst/>
              <a:gdLst/>
              <a:ahLst/>
              <a:rect l="l" t="t" r="r" b="b"/>
              <a:pathLst>
                <a:path w="252" h="715">
                  <a:moveTo>
                    <a:pt x="84" y="643"/>
                  </a:moveTo>
                  <a:cubicBezTo>
                    <a:pt x="64" y="611"/>
                    <a:pt x="38" y="568"/>
                    <a:pt x="24" y="519"/>
                  </a:cubicBezTo>
                  <a:cubicBezTo>
                    <a:pt x="10" y="470"/>
                    <a:pt x="0" y="403"/>
                    <a:pt x="1" y="351"/>
                  </a:cubicBezTo>
                  <a:cubicBezTo>
                    <a:pt x="2" y="299"/>
                    <a:pt x="14" y="251"/>
                    <a:pt x="30" y="205"/>
                  </a:cubicBezTo>
                  <a:cubicBezTo>
                    <a:pt x="46" y="159"/>
                    <a:pt x="77" y="106"/>
                    <a:pt x="100" y="73"/>
                  </a:cubicBezTo>
                  <a:cubicBezTo>
                    <a:pt x="123" y="40"/>
                    <a:pt x="163" y="0"/>
                    <a:pt x="166" y="4"/>
                  </a:cubicBezTo>
                  <a:cubicBezTo>
                    <a:pt x="198" y="57"/>
                    <a:pt x="212" y="120"/>
                    <a:pt x="225" y="171"/>
                  </a:cubicBezTo>
                  <a:cubicBezTo>
                    <a:pt x="239" y="226"/>
                    <a:pt x="246" y="280"/>
                    <a:pt x="249" y="337"/>
                  </a:cubicBezTo>
                  <a:cubicBezTo>
                    <a:pt x="252" y="394"/>
                    <a:pt x="249" y="464"/>
                    <a:pt x="241" y="514"/>
                  </a:cubicBezTo>
                  <a:cubicBezTo>
                    <a:pt x="233" y="564"/>
                    <a:pt x="216" y="603"/>
                    <a:pt x="199" y="636"/>
                  </a:cubicBezTo>
                  <a:cubicBezTo>
                    <a:pt x="182" y="669"/>
                    <a:pt x="142" y="715"/>
                    <a:pt x="142" y="712"/>
                  </a:cubicBezTo>
                  <a:cubicBezTo>
                    <a:pt x="142" y="711"/>
                    <a:pt x="104" y="675"/>
                    <a:pt x="84" y="643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6538680" y="2343600"/>
              <a:ext cx="573120" cy="82944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78120" y="3154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977240" y="2819160"/>
              <a:ext cx="25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7563600" y="1209600"/>
              <a:ext cx="1061280" cy="1009440"/>
              <a:chOff x="7563600" y="1209600"/>
              <a:chExt cx="1061280" cy="1009440"/>
            </a:xfrm>
          </p:grpSpPr>
          <p:grpSp>
            <p:nvGrpSpPr>
              <p:cNvPr id="351" name=""/>
              <p:cNvGrpSpPr/>
              <p:nvPr/>
            </p:nvGrpSpPr>
            <p:grpSpPr>
              <a:xfrm>
                <a:off x="7563600" y="1209600"/>
                <a:ext cx="1061280" cy="1009440"/>
                <a:chOff x="7563600" y="1209600"/>
                <a:chExt cx="1061280" cy="100944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7587720" y="1211040"/>
                  <a:ext cx="1013760" cy="99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99c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7587720" y="1209600"/>
                  <a:ext cx="1013760" cy="9910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7563600" y="1613160"/>
                  <a:ext cx="1061280" cy="605880"/>
                </a:xfrm>
                <a:custGeom>
                  <a:avLst/>
                  <a:gdLst/>
                  <a:ahLst/>
                  <a:rect l="l" t="t" r="r" b="b"/>
                  <a:pathLst>
                    <a:path w="1026" h="600">
                      <a:moveTo>
                        <a:pt x="43" y="123"/>
                      </a:moveTo>
                      <a:cubicBezTo>
                        <a:pt x="61" y="136"/>
                        <a:pt x="84" y="160"/>
                        <a:pt x="120" y="181"/>
                      </a:cubicBezTo>
                      <a:cubicBezTo>
                        <a:pt x="156" y="202"/>
                        <a:pt x="210" y="233"/>
                        <a:pt x="262" y="250"/>
                      </a:cubicBezTo>
                      <a:cubicBezTo>
                        <a:pt x="314" y="267"/>
                        <a:pt x="370" y="279"/>
                        <a:pt x="432" y="280"/>
                      </a:cubicBezTo>
                      <a:cubicBezTo>
                        <a:pt x="494" y="281"/>
                        <a:pt x="573" y="272"/>
                        <a:pt x="634" y="259"/>
                      </a:cubicBezTo>
                      <a:cubicBezTo>
                        <a:pt x="695" y="246"/>
                        <a:pt x="749" y="229"/>
                        <a:pt x="799" y="201"/>
                      </a:cubicBezTo>
                      <a:cubicBezTo>
                        <a:pt x="849" y="173"/>
                        <a:pt x="899" y="122"/>
                        <a:pt x="937" y="90"/>
                      </a:cubicBezTo>
                      <a:cubicBezTo>
                        <a:pt x="975" y="58"/>
                        <a:pt x="1012" y="0"/>
                        <a:pt x="1026" y="9"/>
                      </a:cubicBezTo>
                      <a:cubicBezTo>
                        <a:pt x="1021" y="13"/>
                        <a:pt x="1025" y="101"/>
                        <a:pt x="1019" y="144"/>
                      </a:cubicBezTo>
                      <a:cubicBezTo>
                        <a:pt x="1013" y="187"/>
                        <a:pt x="1007" y="227"/>
                        <a:pt x="992" y="267"/>
                      </a:cubicBezTo>
                      <a:cubicBezTo>
                        <a:pt x="978" y="307"/>
                        <a:pt x="952" y="351"/>
                        <a:pt x="929" y="384"/>
                      </a:cubicBezTo>
                      <a:cubicBezTo>
                        <a:pt x="907" y="417"/>
                        <a:pt x="886" y="440"/>
                        <a:pt x="857" y="467"/>
                      </a:cubicBezTo>
                      <a:cubicBezTo>
                        <a:pt x="827" y="493"/>
                        <a:pt x="790" y="521"/>
                        <a:pt x="749" y="542"/>
                      </a:cubicBezTo>
                      <a:cubicBezTo>
                        <a:pt x="708" y="562"/>
                        <a:pt x="659" y="580"/>
                        <a:pt x="610" y="588"/>
                      </a:cubicBezTo>
                      <a:cubicBezTo>
                        <a:pt x="561" y="596"/>
                        <a:pt x="505" y="600"/>
                        <a:pt x="455" y="594"/>
                      </a:cubicBezTo>
                      <a:cubicBezTo>
                        <a:pt x="404" y="588"/>
                        <a:pt x="353" y="572"/>
                        <a:pt x="310" y="553"/>
                      </a:cubicBezTo>
                      <a:cubicBezTo>
                        <a:pt x="267" y="533"/>
                        <a:pt x="229" y="510"/>
                        <a:pt x="193" y="479"/>
                      </a:cubicBezTo>
                      <a:cubicBezTo>
                        <a:pt x="157" y="448"/>
                        <a:pt x="121" y="408"/>
                        <a:pt x="95" y="368"/>
                      </a:cubicBezTo>
                      <a:cubicBezTo>
                        <a:pt x="69" y="328"/>
                        <a:pt x="52" y="286"/>
                        <a:pt x="36" y="237"/>
                      </a:cubicBezTo>
                      <a:cubicBezTo>
                        <a:pt x="20" y="188"/>
                        <a:pt x="0" y="92"/>
                        <a:pt x="1" y="73"/>
                      </a:cubicBezTo>
                      <a:lnTo>
                        <a:pt x="43" y="123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587720" y="1638360"/>
                  <a:ext cx="1012320" cy="259200"/>
                </a:xfrm>
                <a:custGeom>
                  <a:avLst/>
                  <a:gdLst/>
                  <a:ahLst/>
                  <a:rect l="l" t="t" r="r" b="b"/>
                  <a:pathLst>
                    <a:path w="979" h="257">
                      <a:moveTo>
                        <a:pt x="0" y="78"/>
                      </a:moveTo>
                      <a:cubicBezTo>
                        <a:pt x="17" y="92"/>
                        <a:pt x="57" y="134"/>
                        <a:pt x="101" y="160"/>
                      </a:cubicBezTo>
                      <a:cubicBezTo>
                        <a:pt x="145" y="186"/>
                        <a:pt x="213" y="216"/>
                        <a:pt x="263" y="232"/>
                      </a:cubicBezTo>
                      <a:cubicBezTo>
                        <a:pt x="313" y="248"/>
                        <a:pt x="347" y="255"/>
                        <a:pt x="404" y="256"/>
                      </a:cubicBezTo>
                      <a:cubicBezTo>
                        <a:pt x="461" y="257"/>
                        <a:pt x="542" y="254"/>
                        <a:pt x="608" y="238"/>
                      </a:cubicBezTo>
                      <a:cubicBezTo>
                        <a:pt x="674" y="222"/>
                        <a:pt x="738" y="200"/>
                        <a:pt x="800" y="160"/>
                      </a:cubicBezTo>
                      <a:cubicBezTo>
                        <a:pt x="862" y="120"/>
                        <a:pt x="942" y="33"/>
                        <a:pt x="979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7582320" y="1348200"/>
                <a:ext cx="259920" cy="722520"/>
              </a:xfrm>
              <a:custGeom>
                <a:avLst/>
                <a:gdLst/>
                <a:ahLst/>
                <a:rect l="l" t="t" r="r" b="b"/>
                <a:pathLst>
                  <a:path w="252" h="715">
                    <a:moveTo>
                      <a:pt x="84" y="643"/>
                    </a:moveTo>
                    <a:cubicBezTo>
                      <a:pt x="64" y="611"/>
                      <a:pt x="38" y="568"/>
                      <a:pt x="24" y="519"/>
                    </a:cubicBezTo>
                    <a:cubicBezTo>
                      <a:pt x="10" y="470"/>
                      <a:pt x="0" y="403"/>
                      <a:pt x="1" y="351"/>
                    </a:cubicBezTo>
                    <a:cubicBezTo>
                      <a:pt x="2" y="299"/>
                      <a:pt x="14" y="251"/>
                      <a:pt x="30" y="205"/>
                    </a:cubicBezTo>
                    <a:cubicBezTo>
                      <a:pt x="46" y="159"/>
                      <a:pt x="77" y="106"/>
                      <a:pt x="100" y="73"/>
                    </a:cubicBezTo>
                    <a:cubicBezTo>
                      <a:pt x="123" y="40"/>
                      <a:pt x="163" y="0"/>
                      <a:pt x="166" y="4"/>
                    </a:cubicBezTo>
                    <a:cubicBezTo>
                      <a:pt x="198" y="57"/>
                      <a:pt x="212" y="120"/>
                      <a:pt x="225" y="171"/>
                    </a:cubicBezTo>
                    <a:cubicBezTo>
                      <a:pt x="239" y="226"/>
                      <a:pt x="246" y="280"/>
                      <a:pt x="249" y="337"/>
                    </a:cubicBezTo>
                    <a:cubicBezTo>
                      <a:pt x="252" y="394"/>
                      <a:pt x="249" y="464"/>
                      <a:pt x="241" y="514"/>
                    </a:cubicBezTo>
                    <a:cubicBezTo>
                      <a:pt x="233" y="564"/>
                      <a:pt x="216" y="603"/>
                      <a:pt x="199" y="636"/>
                    </a:cubicBezTo>
                    <a:cubicBezTo>
                      <a:pt x="182" y="669"/>
                      <a:pt x="142" y="715"/>
                      <a:pt x="142" y="712"/>
                    </a:cubicBezTo>
                    <a:cubicBezTo>
                      <a:pt x="142" y="711"/>
                      <a:pt x="104" y="675"/>
                      <a:pt x="84" y="6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6905880" y="1376640"/>
              <a:ext cx="866520" cy="0"/>
            </a:xfrm>
            <a:prstGeom prst="line">
              <a:avLst/>
            </a:prstGeom>
            <a:ln w="2844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221240" y="1575000"/>
              <a:ext cx="622800" cy="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0760" y="1768320"/>
              <a:ext cx="1233720" cy="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7516440" y="1693800"/>
              <a:ext cx="335880" cy="48816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487920" y="1963800"/>
              <a:ext cx="2107800" cy="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6541920" y="1376640"/>
              <a:ext cx="1231920" cy="179388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353280" y="2157840"/>
              <a:ext cx="2107800" cy="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7015680" y="1773720"/>
              <a:ext cx="505440" cy="996480"/>
              <a:chOff x="7015680" y="1773720"/>
              <a:chExt cx="505440" cy="996480"/>
            </a:xfrm>
          </p:grpSpPr>
          <p:sp>
            <p:nvSpPr>
              <p:cNvPr id="365" name=""/>
              <p:cNvSpPr/>
              <p:nvPr/>
            </p:nvSpPr>
            <p:spPr>
              <a:xfrm>
                <a:off x="7015680" y="1774800"/>
                <a:ext cx="504000" cy="9928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015680" y="2248920"/>
                <a:ext cx="505440" cy="521280"/>
              </a:xfrm>
              <a:custGeom>
                <a:avLst/>
                <a:gdLst/>
                <a:ahLst/>
                <a:rect l="l" t="t" r="r" b="b"/>
                <a:pathLst>
                  <a:path w="489" h="515">
                    <a:moveTo>
                      <a:pt x="13" y="46"/>
                    </a:moveTo>
                    <a:cubicBezTo>
                      <a:pt x="24" y="55"/>
                      <a:pt x="47" y="72"/>
                      <a:pt x="65" y="81"/>
                    </a:cubicBezTo>
                    <a:cubicBezTo>
                      <a:pt x="83" y="90"/>
                      <a:pt x="103" y="92"/>
                      <a:pt x="121" y="97"/>
                    </a:cubicBezTo>
                    <a:cubicBezTo>
                      <a:pt x="139" y="102"/>
                      <a:pt x="156" y="109"/>
                      <a:pt x="176" y="112"/>
                    </a:cubicBezTo>
                    <a:cubicBezTo>
                      <a:pt x="196" y="115"/>
                      <a:pt x="218" y="115"/>
                      <a:pt x="241" y="114"/>
                    </a:cubicBezTo>
                    <a:cubicBezTo>
                      <a:pt x="264" y="113"/>
                      <a:pt x="289" y="109"/>
                      <a:pt x="313" y="103"/>
                    </a:cubicBezTo>
                    <a:cubicBezTo>
                      <a:pt x="337" y="97"/>
                      <a:pt x="362" y="90"/>
                      <a:pt x="385" y="78"/>
                    </a:cubicBezTo>
                    <a:cubicBezTo>
                      <a:pt x="408" y="66"/>
                      <a:pt x="435" y="41"/>
                      <a:pt x="452" y="29"/>
                    </a:cubicBezTo>
                    <a:cubicBezTo>
                      <a:pt x="469" y="17"/>
                      <a:pt x="479" y="0"/>
                      <a:pt x="485" y="7"/>
                    </a:cubicBezTo>
                    <a:cubicBezTo>
                      <a:pt x="483" y="11"/>
                      <a:pt x="489" y="40"/>
                      <a:pt x="487" y="70"/>
                    </a:cubicBezTo>
                    <a:cubicBezTo>
                      <a:pt x="485" y="100"/>
                      <a:pt x="481" y="151"/>
                      <a:pt x="474" y="190"/>
                    </a:cubicBezTo>
                    <a:cubicBezTo>
                      <a:pt x="467" y="229"/>
                      <a:pt x="455" y="272"/>
                      <a:pt x="444" y="304"/>
                    </a:cubicBezTo>
                    <a:cubicBezTo>
                      <a:pt x="433" y="336"/>
                      <a:pt x="423" y="359"/>
                      <a:pt x="408" y="385"/>
                    </a:cubicBezTo>
                    <a:cubicBezTo>
                      <a:pt x="394" y="411"/>
                      <a:pt x="376" y="438"/>
                      <a:pt x="356" y="458"/>
                    </a:cubicBezTo>
                    <a:cubicBezTo>
                      <a:pt x="336" y="478"/>
                      <a:pt x="313" y="495"/>
                      <a:pt x="289" y="503"/>
                    </a:cubicBezTo>
                    <a:cubicBezTo>
                      <a:pt x="265" y="511"/>
                      <a:pt x="238" y="515"/>
                      <a:pt x="214" y="509"/>
                    </a:cubicBezTo>
                    <a:cubicBezTo>
                      <a:pt x="189" y="503"/>
                      <a:pt x="164" y="488"/>
                      <a:pt x="143" y="469"/>
                    </a:cubicBezTo>
                    <a:cubicBezTo>
                      <a:pt x="122" y="450"/>
                      <a:pt x="104" y="427"/>
                      <a:pt x="87" y="397"/>
                    </a:cubicBezTo>
                    <a:cubicBezTo>
                      <a:pt x="69" y="367"/>
                      <a:pt x="52" y="328"/>
                      <a:pt x="39" y="289"/>
                    </a:cubicBezTo>
                    <a:cubicBezTo>
                      <a:pt x="27" y="250"/>
                      <a:pt x="17" y="204"/>
                      <a:pt x="10" y="161"/>
                    </a:cubicBezTo>
                    <a:cubicBezTo>
                      <a:pt x="4" y="118"/>
                      <a:pt x="0" y="47"/>
                      <a:pt x="0" y="28"/>
                    </a:cubicBezTo>
                    <a:lnTo>
                      <a:pt x="13" y="46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015680" y="2251440"/>
                <a:ext cx="502560" cy="110880"/>
              </a:xfrm>
              <a:custGeom>
                <a:avLst/>
                <a:gdLst/>
                <a:ahLst/>
                <a:rect l="l" t="t" r="r" b="b"/>
                <a:pathLst>
                  <a:path w="979" h="257">
                    <a:moveTo>
                      <a:pt x="0" y="78"/>
                    </a:moveTo>
                    <a:cubicBezTo>
                      <a:pt x="17" y="92"/>
                      <a:pt x="57" y="134"/>
                      <a:pt x="101" y="160"/>
                    </a:cubicBezTo>
                    <a:cubicBezTo>
                      <a:pt x="145" y="186"/>
                      <a:pt x="213" y="216"/>
                      <a:pt x="263" y="232"/>
                    </a:cubicBezTo>
                    <a:cubicBezTo>
                      <a:pt x="313" y="248"/>
                      <a:pt x="347" y="255"/>
                      <a:pt x="404" y="256"/>
                    </a:cubicBezTo>
                    <a:cubicBezTo>
                      <a:pt x="461" y="257"/>
                      <a:pt x="542" y="254"/>
                      <a:pt x="608" y="238"/>
                    </a:cubicBezTo>
                    <a:cubicBezTo>
                      <a:pt x="674" y="222"/>
                      <a:pt x="738" y="200"/>
                      <a:pt x="800" y="160"/>
                    </a:cubicBezTo>
                    <a:cubicBezTo>
                      <a:pt x="862" y="120"/>
                      <a:pt x="942" y="33"/>
                      <a:pt x="979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015680" y="1773720"/>
                <a:ext cx="504000" cy="9928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 flipH="1">
              <a:off x="7446240" y="1826640"/>
              <a:ext cx="924840" cy="134676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7149600" y="1902240"/>
              <a:ext cx="872640" cy="126792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355880" y="2350800"/>
              <a:ext cx="969120" cy="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749000" y="2794680"/>
              <a:ext cx="259920" cy="37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6835680" y="2326680"/>
              <a:ext cx="584640" cy="85104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6968520" y="2342160"/>
              <a:ext cx="142920" cy="20844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644160" y="2352240"/>
              <a:ext cx="492480" cy="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5908680" y="2270880"/>
              <a:ext cx="1050840" cy="1010520"/>
              <a:chOff x="5908680" y="2270880"/>
              <a:chExt cx="1050840" cy="1010520"/>
            </a:xfrm>
          </p:grpSpPr>
          <p:sp>
            <p:nvSpPr>
              <p:cNvPr id="377" name=""/>
              <p:cNvSpPr/>
              <p:nvPr/>
            </p:nvSpPr>
            <p:spPr>
              <a:xfrm>
                <a:off x="5923080" y="2271960"/>
                <a:ext cx="1014120" cy="991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99c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920920" y="2270880"/>
                <a:ext cx="1014120" cy="9910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908680" y="2682000"/>
                <a:ext cx="1050840" cy="599400"/>
              </a:xfrm>
              <a:custGeom>
                <a:avLst/>
                <a:gdLst/>
                <a:ahLst/>
                <a:rect l="l" t="t" r="r" b="b"/>
                <a:pathLst>
                  <a:path w="982" h="568">
                    <a:moveTo>
                      <a:pt x="22" y="106"/>
                    </a:moveTo>
                    <a:cubicBezTo>
                      <a:pt x="39" y="120"/>
                      <a:pt x="60" y="144"/>
                      <a:pt x="100" y="166"/>
                    </a:cubicBezTo>
                    <a:cubicBezTo>
                      <a:pt x="140" y="188"/>
                      <a:pt x="212" y="222"/>
                      <a:pt x="262" y="238"/>
                    </a:cubicBezTo>
                    <a:cubicBezTo>
                      <a:pt x="312" y="254"/>
                      <a:pt x="346" y="261"/>
                      <a:pt x="403" y="262"/>
                    </a:cubicBezTo>
                    <a:cubicBezTo>
                      <a:pt x="460" y="263"/>
                      <a:pt x="546" y="257"/>
                      <a:pt x="607" y="244"/>
                    </a:cubicBezTo>
                    <a:cubicBezTo>
                      <a:pt x="668" y="231"/>
                      <a:pt x="719" y="210"/>
                      <a:pt x="769" y="183"/>
                    </a:cubicBezTo>
                    <a:cubicBezTo>
                      <a:pt x="819" y="156"/>
                      <a:pt x="872" y="111"/>
                      <a:pt x="907" y="82"/>
                    </a:cubicBezTo>
                    <a:cubicBezTo>
                      <a:pt x="942" y="53"/>
                      <a:pt x="966" y="0"/>
                      <a:pt x="978" y="7"/>
                    </a:cubicBezTo>
                    <a:cubicBezTo>
                      <a:pt x="973" y="11"/>
                      <a:pt x="982" y="84"/>
                      <a:pt x="978" y="123"/>
                    </a:cubicBezTo>
                    <a:cubicBezTo>
                      <a:pt x="974" y="162"/>
                      <a:pt x="966" y="204"/>
                      <a:pt x="952" y="243"/>
                    </a:cubicBezTo>
                    <a:cubicBezTo>
                      <a:pt x="938" y="282"/>
                      <a:pt x="913" y="325"/>
                      <a:pt x="891" y="357"/>
                    </a:cubicBezTo>
                    <a:cubicBezTo>
                      <a:pt x="869" y="389"/>
                      <a:pt x="849" y="412"/>
                      <a:pt x="820" y="438"/>
                    </a:cubicBezTo>
                    <a:cubicBezTo>
                      <a:pt x="791" y="464"/>
                      <a:pt x="755" y="491"/>
                      <a:pt x="715" y="511"/>
                    </a:cubicBezTo>
                    <a:cubicBezTo>
                      <a:pt x="675" y="531"/>
                      <a:pt x="628" y="548"/>
                      <a:pt x="580" y="556"/>
                    </a:cubicBezTo>
                    <a:cubicBezTo>
                      <a:pt x="532" y="564"/>
                      <a:pt x="478" y="568"/>
                      <a:pt x="429" y="562"/>
                    </a:cubicBezTo>
                    <a:cubicBezTo>
                      <a:pt x="380" y="556"/>
                      <a:pt x="330" y="541"/>
                      <a:pt x="288" y="522"/>
                    </a:cubicBezTo>
                    <a:cubicBezTo>
                      <a:pt x="246" y="503"/>
                      <a:pt x="209" y="480"/>
                      <a:pt x="174" y="450"/>
                    </a:cubicBezTo>
                    <a:cubicBezTo>
                      <a:pt x="139" y="420"/>
                      <a:pt x="104" y="381"/>
                      <a:pt x="79" y="342"/>
                    </a:cubicBezTo>
                    <a:cubicBezTo>
                      <a:pt x="54" y="303"/>
                      <a:pt x="34" y="257"/>
                      <a:pt x="21" y="214"/>
                    </a:cubicBezTo>
                    <a:cubicBezTo>
                      <a:pt x="8" y="171"/>
                      <a:pt x="0" y="99"/>
                      <a:pt x="0" y="81"/>
                    </a:cubicBezTo>
                    <a:lnTo>
                      <a:pt x="22" y="106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 rot="10800000">
                <a:off x="6677280" y="2391120"/>
                <a:ext cx="261000" cy="722520"/>
              </a:xfrm>
              <a:custGeom>
                <a:avLst/>
                <a:gdLst/>
                <a:ahLst/>
                <a:rect l="l" t="t" r="r" b="b"/>
                <a:pathLst>
                  <a:path w="252" h="715">
                    <a:moveTo>
                      <a:pt x="84" y="643"/>
                    </a:moveTo>
                    <a:cubicBezTo>
                      <a:pt x="64" y="611"/>
                      <a:pt x="38" y="568"/>
                      <a:pt x="24" y="519"/>
                    </a:cubicBezTo>
                    <a:cubicBezTo>
                      <a:pt x="10" y="470"/>
                      <a:pt x="0" y="403"/>
                      <a:pt x="1" y="351"/>
                    </a:cubicBezTo>
                    <a:cubicBezTo>
                      <a:pt x="2" y="299"/>
                      <a:pt x="14" y="251"/>
                      <a:pt x="30" y="205"/>
                    </a:cubicBezTo>
                    <a:cubicBezTo>
                      <a:pt x="46" y="159"/>
                      <a:pt x="77" y="106"/>
                      <a:pt x="100" y="73"/>
                    </a:cubicBezTo>
                    <a:cubicBezTo>
                      <a:pt x="123" y="40"/>
                      <a:pt x="163" y="0"/>
                      <a:pt x="166" y="4"/>
                    </a:cubicBezTo>
                    <a:cubicBezTo>
                      <a:pt x="198" y="57"/>
                      <a:pt x="212" y="120"/>
                      <a:pt x="225" y="171"/>
                    </a:cubicBezTo>
                    <a:cubicBezTo>
                      <a:pt x="239" y="226"/>
                      <a:pt x="246" y="280"/>
                      <a:pt x="249" y="337"/>
                    </a:cubicBezTo>
                    <a:cubicBezTo>
                      <a:pt x="252" y="394"/>
                      <a:pt x="249" y="464"/>
                      <a:pt x="241" y="514"/>
                    </a:cubicBezTo>
                    <a:cubicBezTo>
                      <a:pt x="233" y="564"/>
                      <a:pt x="216" y="603"/>
                      <a:pt x="199" y="636"/>
                    </a:cubicBezTo>
                    <a:cubicBezTo>
                      <a:pt x="182" y="669"/>
                      <a:pt x="142" y="715"/>
                      <a:pt x="142" y="712"/>
                    </a:cubicBezTo>
                    <a:cubicBezTo>
                      <a:pt x="142" y="711"/>
                      <a:pt x="104" y="675"/>
                      <a:pt x="84" y="6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653160" y="2387160"/>
                <a:ext cx="117720" cy="735480"/>
              </a:xfrm>
              <a:custGeom>
                <a:avLst/>
                <a:gdLst/>
                <a:ahLst/>
                <a:rect l="l" t="t" r="r" b="b"/>
                <a:pathLst>
                  <a:path w="114" h="728">
                    <a:moveTo>
                      <a:pt x="90" y="621"/>
                    </a:moveTo>
                    <a:cubicBezTo>
                      <a:pt x="86" y="592"/>
                      <a:pt x="86" y="572"/>
                      <a:pt x="84" y="540"/>
                    </a:cubicBezTo>
                    <a:cubicBezTo>
                      <a:pt x="82" y="508"/>
                      <a:pt x="78" y="467"/>
                      <a:pt x="78" y="426"/>
                    </a:cubicBezTo>
                    <a:cubicBezTo>
                      <a:pt x="78" y="385"/>
                      <a:pt x="80" y="339"/>
                      <a:pt x="81" y="291"/>
                    </a:cubicBezTo>
                    <a:cubicBezTo>
                      <a:pt x="82" y="243"/>
                      <a:pt x="83" y="185"/>
                      <a:pt x="84" y="138"/>
                    </a:cubicBezTo>
                    <a:cubicBezTo>
                      <a:pt x="85" y="91"/>
                      <a:pt x="95" y="0"/>
                      <a:pt x="86" y="6"/>
                    </a:cubicBezTo>
                    <a:cubicBezTo>
                      <a:pt x="54" y="59"/>
                      <a:pt x="40" y="122"/>
                      <a:pt x="27" y="173"/>
                    </a:cubicBezTo>
                    <a:cubicBezTo>
                      <a:pt x="13" y="228"/>
                      <a:pt x="6" y="282"/>
                      <a:pt x="3" y="339"/>
                    </a:cubicBezTo>
                    <a:cubicBezTo>
                      <a:pt x="0" y="396"/>
                      <a:pt x="3" y="465"/>
                      <a:pt x="11" y="516"/>
                    </a:cubicBezTo>
                    <a:cubicBezTo>
                      <a:pt x="19" y="567"/>
                      <a:pt x="35" y="608"/>
                      <a:pt x="52" y="643"/>
                    </a:cubicBezTo>
                    <a:cubicBezTo>
                      <a:pt x="69" y="678"/>
                      <a:pt x="108" y="728"/>
                      <a:pt x="114" y="724"/>
                    </a:cubicBezTo>
                    <a:cubicBezTo>
                      <a:pt x="114" y="723"/>
                      <a:pt x="95" y="642"/>
                      <a:pt x="90" y="621"/>
                    </a:cubicBez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923080" y="2778840"/>
                <a:ext cx="816840" cy="180000"/>
              </a:xfrm>
              <a:custGeom>
                <a:avLst/>
                <a:gdLst/>
                <a:ahLst/>
                <a:rect l="l" t="t" r="r" b="b"/>
                <a:pathLst>
                  <a:path w="790" h="179">
                    <a:moveTo>
                      <a:pt x="0" y="0"/>
                    </a:moveTo>
                    <a:cubicBezTo>
                      <a:pt x="17" y="14"/>
                      <a:pt x="57" y="56"/>
                      <a:pt x="101" y="82"/>
                    </a:cubicBezTo>
                    <a:cubicBezTo>
                      <a:pt x="145" y="108"/>
                      <a:pt x="213" y="138"/>
                      <a:pt x="263" y="154"/>
                    </a:cubicBezTo>
                    <a:cubicBezTo>
                      <a:pt x="313" y="170"/>
                      <a:pt x="347" y="177"/>
                      <a:pt x="404" y="178"/>
                    </a:cubicBezTo>
                    <a:cubicBezTo>
                      <a:pt x="461" y="179"/>
                      <a:pt x="556" y="169"/>
                      <a:pt x="608" y="160"/>
                    </a:cubicBezTo>
                    <a:cubicBezTo>
                      <a:pt x="660" y="151"/>
                      <a:pt x="687" y="140"/>
                      <a:pt x="714" y="123"/>
                    </a:cubicBezTo>
                    <a:cubicBezTo>
                      <a:pt x="741" y="106"/>
                      <a:pt x="755" y="73"/>
                      <a:pt x="768" y="60"/>
                    </a:cubicBezTo>
                    <a:cubicBezTo>
                      <a:pt x="781" y="47"/>
                      <a:pt x="785" y="46"/>
                      <a:pt x="790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 flipH="1">
              <a:off x="6716880" y="2160720"/>
              <a:ext cx="232200" cy="33840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706800" y="2547720"/>
              <a:ext cx="1305360" cy="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612120" y="2931840"/>
              <a:ext cx="1309680" cy="2880"/>
            </a:xfrm>
            <a:custGeom>
              <a:avLst/>
              <a:gdLst/>
              <a:ahLst/>
              <a:rect l="l" t="t" r="r" b="b"/>
              <a:pathLst>
                <a:path w="1266" h="3">
                  <a:moveTo>
                    <a:pt x="0" y="3"/>
                  </a:moveTo>
                  <a:lnTo>
                    <a:pt x="1266" y="0"/>
                  </a:lnTo>
                </a:path>
              </a:pathLst>
            </a:custGeom>
            <a:noFill/>
            <a:ln w="9360">
              <a:solidFill>
                <a:srgbClr val="cccc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2840" bIns="-42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90960" y="2740680"/>
              <a:ext cx="1380960" cy="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537240" y="2536560"/>
              <a:ext cx="439560" cy="64116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6250680" y="2967840"/>
              <a:ext cx="144720" cy="20952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5956560" y="2920680"/>
              <a:ext cx="171000" cy="25272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92680" y="3177720"/>
              <a:ext cx="2061000" cy="0"/>
            </a:xfrm>
            <a:prstGeom prst="line">
              <a:avLst/>
            </a:prstGeom>
            <a:ln w="2844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99400" y="2973240"/>
              <a:ext cx="369720" cy="311400"/>
            </a:xfrm>
            <a:custGeom>
              <a:avLst/>
              <a:gdLst/>
              <a:ahLst/>
              <a:rect l="l" t="t" r="r" b="b"/>
              <a:pathLst>
                <a:path w="720" h="622">
                  <a:moveTo>
                    <a:pt x="430" y="0"/>
                  </a:moveTo>
                  <a:lnTo>
                    <a:pt x="177" y="379"/>
                  </a:lnTo>
                  <a:lnTo>
                    <a:pt x="0" y="379"/>
                  </a:lnTo>
                  <a:lnTo>
                    <a:pt x="168" y="622"/>
                  </a:lnTo>
                  <a:lnTo>
                    <a:pt x="631" y="379"/>
                  </a:lnTo>
                  <a:lnTo>
                    <a:pt x="465" y="382"/>
                  </a:lnTo>
                  <a:lnTo>
                    <a:pt x="72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6672960" y="1947600"/>
              <a:ext cx="1211400" cy="344160"/>
              <a:chOff x="6672960" y="1947600"/>
              <a:chExt cx="1211400" cy="344160"/>
            </a:xfrm>
          </p:grpSpPr>
          <p:sp>
            <p:nvSpPr>
              <p:cNvPr id="393" name=""/>
              <p:cNvSpPr/>
              <p:nvPr/>
            </p:nvSpPr>
            <p:spPr>
              <a:xfrm flipV="1">
                <a:off x="7324560" y="2013480"/>
                <a:ext cx="72720" cy="1033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7457040" y="1947600"/>
                <a:ext cx="189360" cy="1558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7540920" y="2116800"/>
                <a:ext cx="297720" cy="766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7540920" y="2239200"/>
                <a:ext cx="343440" cy="208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 flipV="1">
                <a:off x="6792480" y="1975320"/>
                <a:ext cx="308160" cy="1245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 flipV="1">
                <a:off x="6695640" y="2130120"/>
                <a:ext cx="334440" cy="766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flipV="1">
                <a:off x="6672960" y="2286720"/>
                <a:ext cx="297720" cy="50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 flipV="1">
                <a:off x="6946560" y="2235240"/>
                <a:ext cx="213840" cy="208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 flipV="1">
                <a:off x="6971040" y="2107440"/>
                <a:ext cx="189360" cy="543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 flipV="1">
                <a:off x="7160040" y="2037960"/>
                <a:ext cx="70200" cy="792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7397640" y="2099880"/>
                <a:ext cx="129600" cy="450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7386480" y="2207160"/>
                <a:ext cx="213840" cy="129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 flipV="1">
                <a:off x="7126920" y="2184480"/>
                <a:ext cx="118800" cy="356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6693480" y="2390760"/>
              <a:ext cx="1164960" cy="344160"/>
              <a:chOff x="6693480" y="2390760"/>
              <a:chExt cx="1164960" cy="344160"/>
            </a:xfrm>
          </p:grpSpPr>
          <p:sp>
            <p:nvSpPr>
              <p:cNvPr id="407" name=""/>
              <p:cNvSpPr/>
              <p:nvPr/>
            </p:nvSpPr>
            <p:spPr>
              <a:xfrm flipH="1">
                <a:off x="7124400" y="2526840"/>
                <a:ext cx="78480" cy="1360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6883920" y="2577600"/>
                <a:ext cx="189720" cy="15732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6693480" y="2489040"/>
                <a:ext cx="296280" cy="766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6765120" y="2422080"/>
                <a:ext cx="226080" cy="158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431120" y="2582640"/>
                <a:ext cx="308520" cy="1256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500240" y="2475720"/>
                <a:ext cx="334440" cy="766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561800" y="2390760"/>
                <a:ext cx="296640" cy="50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372080" y="2426760"/>
                <a:ext cx="213840" cy="212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372080" y="2521440"/>
                <a:ext cx="189360" cy="540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301160" y="2565360"/>
                <a:ext cx="70200" cy="806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7003080" y="2540160"/>
                <a:ext cx="129960" cy="432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6933240" y="2462040"/>
                <a:ext cx="212400" cy="129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284960" y="2461320"/>
                <a:ext cx="119160" cy="356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5821200" y="2934720"/>
              <a:ext cx="342000" cy="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467200" y="1768320"/>
              <a:ext cx="257040" cy="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8576280" y="1375200"/>
              <a:ext cx="105120" cy="15516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7330680" y="3180600"/>
              <a:ext cx="43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506360" y="26992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7753680" y="2745000"/>
              <a:ext cx="1080" cy="42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8253200">
              <a:off x="6623640" y="1451160"/>
              <a:ext cx="3268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Times New Roman"/>
                </a:rPr>
                <a:t>Masashi Kanet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2627280" y="559116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629080" y="5157720"/>
            <a:ext cx="152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*sin(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052280" y="5346720"/>
            <a:ext cx="1500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628360" y="5662440"/>
            <a:ext cx="1594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*cos(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042920" y="5086440"/>
            <a:ext cx="3313080" cy="10810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50920" y="2997360"/>
            <a:ext cx="5040360" cy="4752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N/d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∝ N (1 + 2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Arial"/>
              </a:rPr>
              <a:t>2ob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s(2(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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)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370560" y="4797360"/>
            <a:ext cx="1368360" cy="12747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659640" y="4797360"/>
            <a:ext cx="1368360" cy="12747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659640" y="4797360"/>
            <a:ext cx="1079280" cy="122400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0000"/>
              </a:gs>
              <a:gs pos="100000">
                <a:srgbClr val="ff0066"/>
              </a:gs>
            </a:gsLst>
            <a:lin ang="5400000"/>
          </a:gra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937120" y="4724280"/>
            <a:ext cx="2521080" cy="144000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450200" y="5589720"/>
            <a:ext cx="718920" cy="21564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 flipV="1">
            <a:off x="6297120" y="4941360"/>
            <a:ext cx="576360" cy="28764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6008400" y="5518080"/>
            <a:ext cx="865080" cy="7164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6513120" y="5734080"/>
            <a:ext cx="360360" cy="28728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6008400" y="5373360"/>
            <a:ext cx="865080" cy="7308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6224760" y="5589720"/>
            <a:ext cx="720720" cy="21564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6081840" y="5157360"/>
            <a:ext cx="792000" cy="14436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6584760" y="4797000"/>
            <a:ext cx="360360" cy="28908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377120" y="5734080"/>
            <a:ext cx="576360" cy="28728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7377120" y="4797360"/>
            <a:ext cx="289080" cy="21600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7450200" y="4869000"/>
            <a:ext cx="503280" cy="28872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7450200" y="5084640"/>
            <a:ext cx="863640" cy="21744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7450200" y="5373720"/>
            <a:ext cx="1008000" cy="7128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7232760" y="4292280"/>
            <a:ext cx="0" cy="11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232760" y="544500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354800" y="424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8459640" y="5516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8518680" y="5229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予備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C22EF-C695-40EB-9CDA-91A7EFCE84C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tion pla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4717080" y="2276640"/>
            <a:ext cx="3618360" cy="2792880"/>
            <a:chOff x="4717080" y="2276640"/>
            <a:chExt cx="3618360" cy="2792880"/>
          </a:xfrm>
        </p:grpSpPr>
        <p:sp>
          <p:nvSpPr>
            <p:cNvPr id="457" name=""/>
            <p:cNvSpPr/>
            <p:nvPr/>
          </p:nvSpPr>
          <p:spPr>
            <a:xfrm>
              <a:off x="7479000" y="4595400"/>
              <a:ext cx="536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99cc"/>
                  </a:solidFill>
                  <a:latin typeface="Times New Roman"/>
                  <a:ea typeface="ＭＳ Ｐ明朝"/>
                </a:rPr>
                <a:t>BB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7400" y="4762440"/>
              <a:ext cx="112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  <a:ea typeface="ＭＳ Ｐ明朝"/>
                </a:rPr>
                <a:t>Central ar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17080" y="455796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ＭＳ Ｐ明朝"/>
                </a:rPr>
                <a:t>b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4751640" y="2276640"/>
              <a:ext cx="3583800" cy="2452680"/>
              <a:chOff x="4751640" y="2276640"/>
              <a:chExt cx="3583800" cy="2452680"/>
            </a:xfrm>
          </p:grpSpPr>
          <p:grpSp>
            <p:nvGrpSpPr>
              <p:cNvPr id="461" name=""/>
              <p:cNvGrpSpPr/>
              <p:nvPr/>
            </p:nvGrpSpPr>
            <p:grpSpPr>
              <a:xfrm>
                <a:off x="4751640" y="2276640"/>
                <a:ext cx="3583800" cy="2092320"/>
                <a:chOff x="4751640" y="2276640"/>
                <a:chExt cx="3583800" cy="2092320"/>
              </a:xfrm>
            </p:grpSpPr>
            <p:pic>
              <p:nvPicPr>
                <p:cNvPr id="462" name="dndeta_all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751640" y="2276640"/>
                  <a:ext cx="3583800" cy="2092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3" name=""/>
                <p:cNvSpPr/>
                <p:nvPr/>
              </p:nvSpPr>
              <p:spPr>
                <a:xfrm>
                  <a:off x="5130360" y="2452320"/>
                  <a:ext cx="1839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5200560" y="2691000"/>
                  <a:ext cx="1839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5437800" y="2772720"/>
                  <a:ext cx="308880" cy="586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flipH="1">
                  <a:off x="5266440" y="2772720"/>
                  <a:ext cx="171000" cy="8863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7438320" y="2460960"/>
                  <a:ext cx="1807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6564600" y="2706480"/>
                  <a:ext cx="598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a-DK" sz="1400" spc="-1" strike="noStrike">
                      <a:solidFill>
                        <a:srgbClr val="000000"/>
                      </a:solidFill>
                      <a:latin typeface="Times New Roman"/>
                    </a:rPr>
                    <a:t>0-5%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6563880" y="2973600"/>
                  <a:ext cx="688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a-DK" sz="1400" spc="-1" strike="noStrike">
                      <a:solidFill>
                        <a:srgbClr val="000000"/>
                      </a:solidFill>
                      <a:latin typeface="Times New Roman"/>
                    </a:rPr>
                    <a:t>5-10%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6494760" y="3303720"/>
                  <a:ext cx="777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a-DK" sz="1400" spc="-1" strike="noStrike">
                      <a:solidFill>
                        <a:srgbClr val="000000"/>
                      </a:solidFill>
                      <a:latin typeface="Times New Roman"/>
                    </a:rPr>
                    <a:t>10-20%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1" name=""/>
              <p:cNvSpPr/>
              <p:nvPr/>
            </p:nvSpPr>
            <p:spPr>
              <a:xfrm>
                <a:off x="6574680" y="2276640"/>
                <a:ext cx="251280" cy="201996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643520" y="2276640"/>
                <a:ext cx="251280" cy="1972080"/>
              </a:xfrm>
              <a:prstGeom prst="rect">
                <a:avLst/>
              </a:prstGeom>
              <a:noFill/>
              <a:ln w="2844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568480" y="2276640"/>
                <a:ext cx="251280" cy="1972080"/>
              </a:xfrm>
              <a:prstGeom prst="rect">
                <a:avLst/>
              </a:prstGeom>
              <a:noFill/>
              <a:ln w="2844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128560" y="4537080"/>
                <a:ext cx="3206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574680" y="4344840"/>
                <a:ext cx="251280" cy="144000"/>
              </a:xfrm>
              <a:custGeom>
                <a:avLst/>
                <a:gdLst>
                  <a:gd name="textAreaLeft" fmla="*/ 55080 w 251280"/>
                  <a:gd name="textAreaRight" fmla="*/ 196200 w 251280"/>
                  <a:gd name="textAreaTop" fmla="*/ 31680 h 144000"/>
                  <a:gd name="textAreaBottom" fmla="*/ 112320 h 14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V="1">
                <a:off x="6574680" y="4585320"/>
                <a:ext cx="251280" cy="144000"/>
              </a:xfrm>
              <a:custGeom>
                <a:avLst/>
                <a:gdLst>
                  <a:gd name="textAreaLeft" fmla="*/ 55080 w 251280"/>
                  <a:gd name="textAreaRight" fmla="*/ 196200 w 251280"/>
                  <a:gd name="textAreaTop" fmla="*/ 31680 h 144000"/>
                  <a:gd name="textAreaBottom" fmla="*/ 112320 h 14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631480" y="4440960"/>
                <a:ext cx="251280" cy="192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643520" y="4440960"/>
                <a:ext cx="251280" cy="192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5436720" y="4637520"/>
              <a:ext cx="53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99cc"/>
                  </a:solidFill>
                  <a:latin typeface="Times New Roman"/>
                  <a:ea typeface="ＭＳ Ｐ明朝"/>
                </a:rPr>
                <a:t>BB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3803760" cy="367200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2411280" y="4797360"/>
            <a:ext cx="1944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ja-JP" sz="1600" spc="-1" strike="noStrike" baseline="-25000">
                <a:solidFill>
                  <a:srgbClr val="000000"/>
                </a:solidFill>
                <a:latin typeface="Arial"/>
              </a:rPr>
              <a:t>R.P.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(rad) ; No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rot="16200000">
            <a:off x="-75240" y="2862720"/>
            <a:ext cx="1744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ja-JP" sz="1600" spc="-1" strike="noStrike" baseline="-25000">
                <a:solidFill>
                  <a:srgbClr val="000000"/>
                </a:solidFill>
                <a:latin typeface="Arial"/>
              </a:rPr>
              <a:t>R.P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 (rad);Sou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812000" y="3645000"/>
            <a:ext cx="0" cy="143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4500360" y="5084640"/>
            <a:ext cx="3313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55640" y="1268280"/>
            <a:ext cx="194472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755280" y="1268280"/>
            <a:ext cx="410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55640" y="126828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896000" y="38354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26920" y="5229360"/>
            <a:ext cx="70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を用いて決定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0&lt;φ&lt;360,|η|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-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電子の測定とは独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th side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th side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で決められた反応面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相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反応面が決まってい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292720" y="1773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596360" y="1773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56720" y="17733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364000" y="549360"/>
            <a:ext cx="345780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ff"/>
                </a:solidFill>
                <a:latin typeface="Arial"/>
              </a:rPr>
              <a:t>Rapidity (y)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;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発生した粒子が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衝突点を中心としたときビーム軸方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(z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方向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どこに分布するかの目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　　　　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y = 0.5 ln{(E+p</a:t>
            </a:r>
            <a:r>
              <a:rPr b="1" lang="ja-JP" sz="16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)/(E-p</a:t>
            </a:r>
            <a:r>
              <a:rPr b="1" lang="ja-JP" sz="16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)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859280" y="1268280"/>
            <a:ext cx="576360" cy="4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予備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32F56-25DC-4B46-8538-74B5DFD9B42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77439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photonic electron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900000" y="1197000"/>
            <a:ext cx="7488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photonic electro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given as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564000" y="5157720"/>
            <a:ext cx="4608360" cy="1241640"/>
          </a:xfrm>
          <a:prstGeom prst="rect">
            <a:avLst/>
          </a:prstGeom>
          <a:solidFill>
            <a:srgbClr val="ff00ff">
              <a:alpha val="32000"/>
            </a:srgbClr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γ.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; Photonic electro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Cocktail meth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erter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50920" y="3860640"/>
            <a:ext cx="3816360" cy="1241640"/>
          </a:xfrm>
          <a:prstGeom prst="rect">
            <a:avLst/>
          </a:prstGeom>
          <a:solidFill>
            <a:srgbClr val="00ccff">
              <a:alpha val="18000"/>
            </a:srgbClr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; Inclusive electro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/o conver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600800" y="4005360"/>
            <a:ext cx="3133080" cy="875880"/>
          </a:xfrm>
          <a:prstGeom prst="rect">
            <a:avLst/>
          </a:prstGeom>
          <a:solidFill>
            <a:srgbClr val="00ff00">
              <a:alpha val="18000"/>
            </a:srgbClr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Non-γ e) / (γ 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2112840" y="1693800"/>
                <a:ext cx="4206960" cy="20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N</m:t>
                                </m:r>
                              </m:e>
                              <m:sup>
                                <m:r>
                                  <m:t xml:space="preserve">e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dΦ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N</m:t>
                                </m:r>
                              </m:e>
                              <m:sup>
                                <m:r>
                                  <m:t xml:space="preserve">γ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e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dΦ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N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no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γ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e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dΦ</m:t>
                            </m:r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on</m:t>
                            </m:r>
                            <m:r>
                              <m:t xml:space="preserve">−</m:t>
                            </m:r>
                            <m:r>
                              <m:t xml:space="preserve">γ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e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P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e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γ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e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P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1" name=""/>
          <p:cNvSpPr/>
          <p:nvPr/>
        </p:nvSpPr>
        <p:spPr>
          <a:xfrm>
            <a:off x="5003640" y="2708280"/>
            <a:ext cx="505080" cy="576360"/>
          </a:xfrm>
          <a:prstGeom prst="rect">
            <a:avLst/>
          </a:prstGeom>
          <a:solidFill>
            <a:srgbClr val="00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651640" y="2708280"/>
            <a:ext cx="647640" cy="503280"/>
          </a:xfrm>
          <a:prstGeom prst="rect">
            <a:avLst/>
          </a:prstGeom>
          <a:solidFill>
            <a:srgbClr val="ff00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500720" y="3284640"/>
            <a:ext cx="720720" cy="431640"/>
          </a:xfrm>
          <a:prstGeom prst="rect">
            <a:avLst/>
          </a:prstGeom>
          <a:solidFill>
            <a:srgbClr val="00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476360" y="1844640"/>
            <a:ext cx="358920" cy="1800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858360" y="19368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878880" y="3068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予備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B561F-2EB4-46B4-A949-5D59177130E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lusive electron 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562800" cy="38880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6299280" y="5734080"/>
            <a:ext cx="14436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80000" y="5661000"/>
            <a:ext cx="1944720" cy="432000"/>
          </a:xfrm>
          <a:prstGeom prst="rect">
            <a:avLst/>
          </a:prstGeom>
          <a:solidFill>
            <a:srgbClr val="ff00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266840" y="4941720"/>
            <a:ext cx="668664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sive electron 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easured w.r.t reaction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erter --- photonic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起源の電子を増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erter in/out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が異なる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v2</a:t>
            </a:r>
            <a:r>
              <a:rPr b="0" lang="en-US" sz="2200" spc="-1" strike="noStrike" baseline="30000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Arial"/>
              </a:rPr>
              <a:t>γ</a:t>
            </a:r>
            <a:r>
              <a:rPr b="0" lang="en-US" sz="22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= v2</a:t>
            </a:r>
            <a:r>
              <a:rPr b="0" lang="en-US" sz="2200" spc="-1" strike="noStrike" baseline="30000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Arial"/>
              </a:rPr>
              <a:t>non-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予備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EED45-9C97-485F-85AD-A5DB7259AB6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tonic e 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etermination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4716360" y="1270080"/>
            <a:ext cx="3600720" cy="2303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5651640" y="4292640"/>
                <a:ext cx="25509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γ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R</m:t>
                        </m:r>
                      </m:e>
                    </m:nary>
                    <m:r>
                      <m:t xml:space="preserve">×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decay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611280" y="3646440"/>
            <a:ext cx="4608360" cy="251928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5580000" y="4292640"/>
            <a:ext cx="2665440" cy="503280"/>
          </a:xfrm>
          <a:prstGeom prst="rect">
            <a:avLst/>
          </a:prstGeom>
          <a:solidFill>
            <a:srgbClr val="ff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484960" y="1433520"/>
            <a:ext cx="155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 N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X-&gt;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γ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320120" y="3954600"/>
            <a:ext cx="257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nic e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ockt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rot="19230000">
            <a:off x="4355640" y="3646440"/>
            <a:ext cx="719280" cy="216000"/>
          </a:xfrm>
          <a:prstGeom prst="leftArrow">
            <a:avLst>
              <a:gd name="adj1" fmla="val 50000"/>
              <a:gd name="adj2" fmla="val 8325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148360" y="3645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tonic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起源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on v2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cktail method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で計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148360" y="4941720"/>
            <a:ext cx="399564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η, direct γ 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実験で測定され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分布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amp; 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か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ay 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を計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3"/>
          <a:stretch/>
        </p:blipFill>
        <p:spPr>
          <a:xfrm>
            <a:off x="611280" y="1125360"/>
            <a:ext cx="3960720" cy="237672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2340000" y="3429000"/>
            <a:ext cx="144360" cy="504720"/>
          </a:xfrm>
          <a:prstGeom prst="downArrow">
            <a:avLst>
              <a:gd name="adj1" fmla="val 50000"/>
              <a:gd name="adj2" fmla="val 8740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170360" y="1413000"/>
            <a:ext cx="82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π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332000" y="2635560"/>
            <a:ext cx="29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T&lt;3 ; π (nucl-ex/060803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T&gt;3 ; π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(PHENIX run4 prelim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3060720" y="1413000"/>
            <a:ext cx="863640" cy="32832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2574000" y="33764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予備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22077-BD65-4749-A203-7CB51D7765A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55640" y="620640"/>
            <a:ext cx="874872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rm quark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起源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ctron 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の結果を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に掲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Phys. Rev. C 72, 024901,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高統計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(Year4)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での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harm quark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起源の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lectron v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2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の測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&gt;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国際学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M0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でポスター発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&gt;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国際学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QM0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で口述発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&gt;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国際学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Q0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で口述発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&gt;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国際学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M0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で口述発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harm quark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起源の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lectron v2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の結果を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RL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に投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(nucl-ex/06110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予備審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9EC89-0918-458B-86EA-E0F42F316E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tonic e 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etermination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58120" y="1363680"/>
            <a:ext cx="356688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oton converter in/out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測定された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の違いか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実験的に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otonic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起源の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ctron 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を決め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-252360" y="2997360"/>
            <a:ext cx="4895640" cy="17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converter ; 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on-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er  ;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on-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+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v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v2</a:t>
            </a:r>
            <a:r>
              <a:rPr b="1" lang="en-US" sz="2000" spc="-1" strike="noStrike" baseline="-25000">
                <a:solidFill>
                  <a:srgbClr val="6600ff"/>
                </a:solidFill>
                <a:latin typeface="Arial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2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non-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v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v2</a:t>
            </a:r>
            <a:r>
              <a:rPr b="1" lang="en-US" sz="2000" spc="-1" strike="noStrike" baseline="-25000">
                <a:solidFill>
                  <a:srgbClr val="6600ff"/>
                </a:solidFill>
                <a:latin typeface="Arial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2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non-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4427640" y="1341360"/>
            <a:ext cx="4464000" cy="444816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287280" y="5127480"/>
            <a:ext cx="543708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cktail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erter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で求め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otonic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起源の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ctron 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は一致！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予備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1096C-30A2-40DC-B696-3806D1D994A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uncertain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26920" y="2276640"/>
            <a:ext cx="7993080" cy="42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66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Reaction pla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--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 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sure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ith North side R.P. , South side R.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combined North and Sou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66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Inclusive electron v</a:t>
            </a:r>
            <a:r>
              <a:rPr b="1" lang="en-US" sz="2000" spc="-1" strike="noStrike" baseline="-25000">
                <a:solidFill>
                  <a:srgbClr val="66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--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sure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ith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ghtly changing the condition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 eID c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66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R</a:t>
            </a:r>
            <a:r>
              <a:rPr b="1" lang="en-US" sz="2000" spc="-1" strike="noStrike" baseline="-25000">
                <a:solidFill>
                  <a:srgbClr val="6600ff"/>
                </a:solidFill>
                <a:latin typeface="Arial"/>
              </a:rPr>
              <a:t>N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66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Photonic electron v</a:t>
            </a:r>
            <a:r>
              <a:rPr b="1" lang="en-US" sz="2000" spc="-1" strike="noStrike" baseline="-25000">
                <a:solidFill>
                  <a:srgbClr val="66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--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 %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es from mainly pi0 (pion)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&gt; Propagate above uncertain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1908000" y="1052640"/>
                <a:ext cx="417672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non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e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γ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e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予備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EFE4F-D59E-4731-A641-C5C63EF35F4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19612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ult ; Non-photonic electron 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692360" y="5084640"/>
            <a:ext cx="663264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-photonic electron 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-z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rm quark 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-zero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か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403280" y="1125360"/>
            <a:ext cx="6562800" cy="444852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2125440" y="465300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ucl-ex/0611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予備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80115-FEAA-4312-BB5E-4430C229661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with pi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meson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m quark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予備審査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FB8EA-E755-404C-84C4-7E54732B425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ison with π 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816200" y="5229360"/>
            <a:ext cx="53989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photonic electron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の傾向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π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と似てい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&gt; 2 GeV/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付近まで増加、その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tur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photonic electron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よ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π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より小さ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476360" y="981000"/>
            <a:ext cx="656280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予備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2E858-8E3C-4860-B02F-519FCB26376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meson 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4643280" y="620640"/>
            <a:ext cx="3672000" cy="302436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539640" y="1125360"/>
            <a:ext cx="417672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charm →</a:t>
            </a:r>
            <a:r>
              <a:rPr b="1" lang="ja-JP" sz="2000" spc="-1" strike="noStrike">
                <a:solidFill>
                  <a:srgbClr val="ff0066"/>
                </a:solidFill>
                <a:latin typeface="Arial"/>
              </a:rPr>
              <a:t>D meson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 →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non-photonic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　　　　　　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non-photonic electron v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D meson v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を反映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rge mass differ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ay angle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が大きい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が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mearing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さ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&gt; 1.0 GeV/c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D me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と同じ方向に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electron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は放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=&gt; D meson v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を反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non-zero” non-photonic e v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=&gt; D meson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も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π,K,p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同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してい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4427640" y="3645000"/>
            <a:ext cx="3816360" cy="228924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3"/>
          <a:stretch/>
        </p:blipFill>
        <p:spPr>
          <a:xfrm>
            <a:off x="4932360" y="6021360"/>
            <a:ext cx="3292560" cy="44280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5651640" y="549360"/>
            <a:ext cx="0" cy="61927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375600" y="3860640"/>
            <a:ext cx="171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e ; D me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rcle ; elec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238440" y="3429000"/>
            <a:ext cx="195192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Electron p</a:t>
            </a:r>
            <a:r>
              <a:rPr b="1" lang="ja-JP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(GeV/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rot="16200000">
            <a:off x="3829680" y="1436040"/>
            <a:ext cx="17474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cos(φe - φ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)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予備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E0320-8520-4ACA-B308-67F075DB0FF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meson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見積も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97440" y="1484280"/>
            <a:ext cx="4008600" cy="46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photonic electron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か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meson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を見積も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仮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n-photonic electr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すべ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 mes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か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 meson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の形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a*f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 ; D meson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の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; free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を変えて、仮定し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か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ay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してく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ctron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が測定結果を一番再現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値を探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χ</a:t>
            </a:r>
            <a:r>
              <a:rPr b="0" lang="zh-CN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２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乗検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4211640" y="3212640"/>
            <a:ext cx="1008000" cy="792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rot="16200000">
            <a:off x="5483160" y="1077480"/>
            <a:ext cx="2994120" cy="3953160"/>
          </a:xfrm>
          <a:prstGeom prst="wedgeRectCallout">
            <a:avLst>
              <a:gd name="adj1" fmla="val -29277"/>
              <a:gd name="adj2" fmla="val -80648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5219640" y="1773360"/>
            <a:ext cx="3743280" cy="439236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5779800" y="2276640"/>
            <a:ext cx="1986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π(PHENIX prelim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 (PHENIX prelim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 (PHENIX prelim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 from sc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+ </a:t>
            </a:r>
            <a:r>
              <a:rPr b="1" lang="zh-CN" sz="1400" spc="-1" strike="noStrike">
                <a:solidFill>
                  <a:srgbClr val="0000ff"/>
                </a:solidFill>
                <a:latin typeface="Arial"/>
              </a:rPr>
              <a:t>・・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256360" y="6248520"/>
            <a:ext cx="914400" cy="6094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8748720" y="1557360"/>
            <a:ext cx="216000" cy="468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003640" y="6093000"/>
            <a:ext cx="3961080" cy="14436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003640" y="4365720"/>
            <a:ext cx="216000" cy="18716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05280" y="6093000"/>
            <a:ext cx="35175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D from scale ; v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 = m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 - m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をスケ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6732720" y="3860280"/>
            <a:ext cx="1584360" cy="7308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予備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66001-00F7-45FD-AE6B-D6E8B98F9C4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tting res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7183440" cy="518472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6140160" y="4437000"/>
            <a:ext cx="224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ttin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の結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χ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/ ndf vs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df = 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rot="16200000">
            <a:off x="644400" y="4233240"/>
            <a:ext cx="817920" cy="307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/ nd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269800" y="299736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on sha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467960" y="299736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Kaon sha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551640" y="3021120"/>
            <a:ext cx="14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on sha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444760" y="5661000"/>
            <a:ext cx="91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φsha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469760" y="5661000"/>
            <a:ext cx="132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sha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116000" y="4005360"/>
            <a:ext cx="21600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116000" y="1341360"/>
            <a:ext cx="21600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rot="16200000">
            <a:off x="644400" y="1640880"/>
            <a:ext cx="817920" cy="307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/ nd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04328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04328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203640" y="3573360"/>
            <a:ext cx="482436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332000" y="6237360"/>
            <a:ext cx="482436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364720" y="61657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[%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380720" y="3573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[%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予備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08947-7CBF-4329-9241-665A94E0888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ected D meson 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778040" y="5013360"/>
            <a:ext cx="601128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Non-photonic electron v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から期待される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D meson v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D meson v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; Max 0.1±0.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pion v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より小さい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3 GeV/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6161400" cy="403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予備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2C64A-AA32-455C-9926-36B9E6954CA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imation of charm quark 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86160" y="1125360"/>
            <a:ext cx="377136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1) Apply coalescence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2) universal  quark 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依存性を仮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757080" y="4665600"/>
                <a:ext cx="408492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e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0" name=""/>
          <p:cNvSpPr/>
          <p:nvPr/>
        </p:nvSpPr>
        <p:spPr>
          <a:xfrm>
            <a:off x="7233480" y="3716280"/>
            <a:ext cx="154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[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C 68 04490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Zi-wei &amp; Denes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3745080" cy="223200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1267920" y="2421000"/>
            <a:ext cx="956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k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163120" y="1484280"/>
            <a:ext cx="3208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速さが同じものが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coales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す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292720" y="2349360"/>
            <a:ext cx="863640" cy="841680"/>
          </a:xfrm>
          <a:prstGeom prst="ellipse">
            <a:avLst/>
          </a:prstGeom>
          <a:solidFill>
            <a:srgbClr val="ff00ff">
              <a:alpha val="49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580000" y="3284640"/>
            <a:ext cx="360360" cy="338040"/>
          </a:xfrm>
          <a:prstGeom prst="ellipse">
            <a:avLst/>
          </a:prstGeom>
          <a:solidFill>
            <a:srgbClr val="0000ff">
              <a:alpha val="4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940360" y="277956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796000" y="3429000"/>
            <a:ext cx="1440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948360" y="2563920"/>
            <a:ext cx="1008360" cy="1058760"/>
          </a:xfrm>
          <a:prstGeom prst="ellipse">
            <a:avLst/>
          </a:prstGeom>
          <a:solidFill>
            <a:srgbClr val="ff0000">
              <a:alpha val="44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149080" y="1989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203800" y="3160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279200" y="2152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505920" y="244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363000" y="30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84360" y="4653000"/>
            <a:ext cx="4319280" cy="1440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148360" y="4292640"/>
            <a:ext cx="2948040" cy="26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+ m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= m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u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= 0.3 &amp; m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= 1.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effective ma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,b --- fitting paran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on-γ e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,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20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　を同時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i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して決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632320" y="2492280"/>
            <a:ext cx="14072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,u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= a ×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,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,c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= b ×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,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予備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363A6-4432-49CD-B50C-E26DF558E47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liptic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研究動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ENI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におけ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の研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ENIX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実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解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 &amp;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m quark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起源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on 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 meson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m quark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予備審査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818D2-99D1-424A-B345-B8877185E0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196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tting res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8520" y="5084640"/>
            <a:ext cx="722124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imum ; a = 1, b = 0.96 (χ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ndf = 21.85/27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rk recombination model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は、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on-zero charm v2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</a:rPr>
              <a:t>を示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877080" y="551664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8101080" y="4723920"/>
            <a:ext cx="0" cy="793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4535280" cy="392436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2"/>
          <a:stretch/>
        </p:blipFill>
        <p:spPr>
          <a:xfrm>
            <a:off x="5219640" y="1268280"/>
            <a:ext cx="2992320" cy="333720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5713920" y="1413000"/>
            <a:ext cx="19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inimum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672160" y="2182680"/>
            <a:ext cx="144360" cy="12240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869080" y="206064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-&gt;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84360" y="3141720"/>
            <a:ext cx="2016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700360" y="3141720"/>
            <a:ext cx="0" cy="15825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08360" y="2852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.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484360" y="4797360"/>
            <a:ext cx="308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予備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D0D2F-F76B-4F6D-83CE-55CB10F4F0A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395280" y="404640"/>
            <a:ext cx="81961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m quark 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042920" y="4797360"/>
            <a:ext cx="7274160" cy="1557000"/>
          </a:xfrm>
          <a:prstGeom prst="rect">
            <a:avLst/>
          </a:prstGeom>
          <a:solidFill>
            <a:srgbClr val="ff00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m quark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quark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同じぐら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してい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　　　　　　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 matt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での非常に多くの散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 quark level therm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 strong evidence of Q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6562800" cy="352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予備審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C2B52-75F4-4F90-82CF-3E4CDA062D4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0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00GeV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金・金衝突実験において、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arm qu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　　起源の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lectr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楕円的方位角異方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測定をおこなっ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just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実験結果から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m quark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起源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が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ゼロでな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ことを確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&gt; D meson 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もゼロで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か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測定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photonic electro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を再現するために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arm quark 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 quark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同程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してい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m quark flow =&gt; matt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での非常に多くの散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 quark level therm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 strong evidence of Q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348000" y="4149720"/>
            <a:ext cx="216000" cy="287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予備審査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9019B-1D89-4578-B005-9ACC8D3B3CF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G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iptic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研究動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予備審査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22245-9758-4068-992A-FBE5976DF6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rk Gluon Plasma (QG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1279440"/>
            <a:ext cx="5904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陽子、中性子などのハドロンの構成要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　　クォークとグルーオ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　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量子色力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QCD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で記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C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相互作用が遠距離で非常に大き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　　「クォークの閉じ込め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相互作用が近距離では小さくな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「漸近的自由性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ハドロン多体系において高温・高密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状態ではクォークの閉じ込めがやぶ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クォークとグルーオンが自由に飛び回る状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クォーク・グルーオン・プラズ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ビックバン後の宇宙、中性子星の内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940360" y="1197000"/>
            <a:ext cx="3024360" cy="38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予備審査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52A0C-3876-46DB-9235-B5F819A3DB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ivistic Heavy Ion Collision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球上で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G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成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4249800" cy="3733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95280" y="1700280"/>
            <a:ext cx="532908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tice QC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の計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 ~ 170 M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ε~ 1.0 GeV/fm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で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rk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閉じ込め」が破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GP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へ相転移がおこると予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高エネルギー原子核衝突実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高いエネルギー密度を達成でき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エネルギー密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ε = (d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dy) / (τ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πR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y = 600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HIC ;  5 ~ 15 GeV/fm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3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&gt;&gt; 1 GeV/fm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baseline="30000">
                <a:solidFill>
                  <a:srgbClr val="ff0000"/>
                </a:solidFill>
                <a:latin typeface="Arial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47280" y="1773360"/>
            <a:ext cx="35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ase diagram ; QGP &amp; had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予備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396FD-6A24-42F3-BE14-C7A9831FD4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zimuthal anisotrop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620640"/>
            <a:ext cx="6624720" cy="61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非中心衝突において粒子の方位角分布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異方性が生じる現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非中心衝突において衝突初期はアーモンド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n free path λ = (nσ)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　　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λ&gt;&gt; R ; isotr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λ&lt;&lt; R ; anisotropic =&gt;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運動量空間の異方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HI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;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 ~ 4 [1/f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], σ = 40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λ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-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f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lt;&lt;  R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 f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流体力学的な解釈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系が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熱平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&gt;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幾何学的形状か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軸方向への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圧力勾配が大きくな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方位角分布をフーリエ展開したときの２次の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&gt; “elliptic flow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Arial"/>
              </a:rPr>
              <a:t>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16200" y="6491160"/>
            <a:ext cx="18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5877000"/>
            <a:ext cx="381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N/d(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 = N (1 + 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s(2(φ)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16720" y="981000"/>
            <a:ext cx="2232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λ &gt;&gt; R ; Isotr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43640" y="3860640"/>
            <a:ext cx="24541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λ &lt;&lt; R ; anisotr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59640" y="2060640"/>
            <a:ext cx="1368360" cy="12747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48360" y="2060640"/>
            <a:ext cx="1368720" cy="12747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48360" y="2060640"/>
            <a:ext cx="1079640" cy="122400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0000"/>
              </a:gs>
              <a:gs pos="100000">
                <a:srgbClr val="ff0066"/>
              </a:gs>
            </a:gsLst>
            <a:lin ang="5400000"/>
          </a:gra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05440" y="4797360"/>
            <a:ext cx="1368720" cy="12747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94520" y="4797360"/>
            <a:ext cx="1368360" cy="12747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4520" y="4797360"/>
            <a:ext cx="1079640" cy="122400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0000"/>
              </a:gs>
              <a:gs pos="100000">
                <a:srgbClr val="ff0066"/>
              </a:gs>
            </a:gsLst>
            <a:lin ang="5400000"/>
          </a:gra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7812000" y="2060640"/>
            <a:ext cx="289080" cy="35856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7740720" y="2421000"/>
            <a:ext cx="504720" cy="21600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89800" y="1844640"/>
            <a:ext cx="1800000" cy="170820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740720" y="2852640"/>
            <a:ext cx="503280" cy="21600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7021440" y="1988640"/>
            <a:ext cx="287280" cy="36036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6732720" y="2349000"/>
            <a:ext cx="504720" cy="28764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661080" y="2852640"/>
            <a:ext cx="504720" cy="7308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877080" y="2997360"/>
            <a:ext cx="288720" cy="28872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7308360" y="3213000"/>
            <a:ext cx="73080" cy="36036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69080" y="3070080"/>
            <a:ext cx="287640" cy="35892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667640" y="1915920"/>
            <a:ext cx="216000" cy="36036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6660720" y="2637000"/>
            <a:ext cx="576360" cy="7272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97800" y="3213000"/>
            <a:ext cx="142920" cy="28908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72360" y="4724280"/>
            <a:ext cx="2520720" cy="144000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885080" y="5589720"/>
            <a:ext cx="719280" cy="21564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6732720" y="4941360"/>
            <a:ext cx="576000" cy="28764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443280" y="5518080"/>
            <a:ext cx="865080" cy="7164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948000" y="5734080"/>
            <a:ext cx="360360" cy="28728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6443280" y="5373360"/>
            <a:ext cx="865080" cy="7308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659640" y="5589720"/>
            <a:ext cx="720720" cy="21564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6516720" y="5157360"/>
            <a:ext cx="792000" cy="14436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7019640" y="4797000"/>
            <a:ext cx="360360" cy="28908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812000" y="5734080"/>
            <a:ext cx="576360" cy="28728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7812000" y="4797360"/>
            <a:ext cx="289080" cy="21600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7885080" y="4869000"/>
            <a:ext cx="503280" cy="28872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7885080" y="5084640"/>
            <a:ext cx="863640" cy="21744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7885080" y="5373720"/>
            <a:ext cx="1008000" cy="7128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524720" y="1557000"/>
            <a:ext cx="0" cy="11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24720" y="2708280"/>
            <a:ext cx="129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96360" y="1413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459640" y="2852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667640" y="4292280"/>
            <a:ext cx="0" cy="11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67640" y="5445000"/>
            <a:ext cx="129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790040" y="424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604360" y="5589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予備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A8053-3D34-43B3-ADD0-C11F0C4404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liptic flow @ RH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1268280"/>
            <a:ext cx="4643280" cy="44643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50920" y="1252440"/>
            <a:ext cx="4824360" cy="58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HI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実験では様々な粒子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測定されてい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運動量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5 GeV/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以下で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質量が軽い粒子ほ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が大き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なることが観測されてい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π)&gt;v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K)&gt;v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流体力学モデル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で説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非常に早い時間での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熱平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を仮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τ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0.6 fm/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系が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熱平衡状態になってい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ことを示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on(π,K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yon(p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の振る舞い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で異な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85840" y="1125360"/>
            <a:ext cx="410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400" spc="-1" strike="noStrike">
                <a:solidFill>
                  <a:srgbClr val="000000"/>
                </a:solidFill>
                <a:latin typeface="Arial"/>
              </a:rPr>
              <a:t>Hydro;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hys. Rev. C 67 (03) 0449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400" spc="-1" strike="noStrike">
                <a:solidFill>
                  <a:srgbClr val="000000"/>
                </a:solidFill>
                <a:latin typeface="Arial"/>
              </a:rPr>
              <a:t>v2; Phys.Rev.Lett.91 182301 (2003)</a:t>
            </a:r>
            <a:r>
              <a:rPr b="1" i="1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i="1" lang="ja-JP" sz="1400" spc="-1" strike="noStrike">
                <a:solidFill>
                  <a:srgbClr val="000000"/>
                </a:solidFill>
                <a:latin typeface="Arial"/>
              </a:rPr>
              <a:t>PHENIX</a:t>
            </a:r>
            <a:r>
              <a:rPr b="0" i="1" lang="ja-JP" sz="1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予備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96885-885B-42AB-B54E-2993BA8711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15:06:12Z</dcterms:created>
  <dc:creator>shingo</dc:creator>
  <dc:description/>
  <dc:language>en-US</dc:language>
  <cp:lastModifiedBy>shingo</cp:lastModifiedBy>
  <dcterms:modified xsi:type="dcterms:W3CDTF">2007-02-15T05:02:39Z</dcterms:modified>
  <cp:revision>1451</cp:revision>
  <dc:subject/>
  <dc:title>スライド 1</dc:title>
</cp:coreProperties>
</file>