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25.png" ContentType="image/png"/>
  <Override PartName="/ppt/media/image24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37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22.jpeg" ContentType="image/jpeg"/>
  <Override PartName="/ppt/media/image9.png" ContentType="image/png"/>
  <Override PartName="/ppt/media/image34.png" ContentType="image/png"/>
  <Override PartName="/ppt/media/image8.wmf" ContentType="image/x-wmf"/>
  <Override PartName="/ppt/media/image11.png" ContentType="image/png"/>
  <Override PartName="/ppt/media/image30.png" ContentType="image/png"/>
  <Override PartName="/ppt/media/image31.png" ContentType="image/png"/>
  <Override PartName="/ppt/media/image33.png" ContentType="image/png"/>
  <Override PartName="/ppt/media/image14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35.png" ContentType="image/png"/>
  <Override PartName="/ppt/media/image4.wmf" ContentType="image/x-wmf"/>
  <Override PartName="/ppt/media/image13.jpeg" ContentType="image/jpeg"/>
  <Override PartName="/ppt/media/image23.png" ContentType="image/png"/>
  <Override PartName="/ppt/media/image3.wmf" ContentType="image/x-wmf"/>
  <Override PartName="/ppt/media/image1.wmf" ContentType="image/x-wmf"/>
  <Override PartName="/ppt/media/image15.png" ContentType="image/png"/>
  <Override PartName="/ppt/media/image16.png" ContentType="image/png"/>
  <Override PartName="/ppt/media/image17.jpeg" ContentType="image/jpeg"/>
  <Override PartName="/ppt/media/image26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3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3D75-8488-4420-A46C-A609541CF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49BA-69C5-4EDC-B67F-3A1980C4E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8217-51B2-4452-BE54-B10D083385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6A79-5F74-4DA3-90CC-73674FFF8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rtoon represents a general layout of Alice Det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uter red structure is L3 magnet that gives magnetic fields of up to 0.5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y detector is TPC </a:t>
            </a:r>
            <a:r>
              <a:rPr b="0" lang="en-US" sz="7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tracking the charged particle,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               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determining the momentum of particle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               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identifying  the particle via the measurement of the energy loss.</a:t>
            </a: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The green detector is TRD  for  tracking,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                       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electron identification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                        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trigg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3FFB-0CE5-4CC5-B617-FE1219433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cross section of  det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Ds will be mounted in this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radial directions there are six layers of T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undle is called super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supermodules are covering all phi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z direction there are 5 stacks of T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re are total 540 TRD cha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59D2-AC49-4BE1-9EAF-8D2961689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B314-65E7-4EE6-ADAB-A515E450C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FECA-314B-450B-A183-B2B7F981E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D2F5-0093-4400-8B09-502FBFB2D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BAF7-2186-47A7-A716-FD690D08C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C60B-C171-4C53-8BA3-BFCB7A738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CB92-2FC6-4CC8-9344-746C91535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5D26-92A6-49DD-A863-C3B04C0A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BB74-2C51-4D1C-9F7B-CDE2DEE7A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9352-0C84-4568-A04B-B6A3CCDAD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F125-7C2E-4D39-871C-7B70D512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6142-E33E-451B-8523-65E41720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7BD3-D2B3-4AB0-A610-45BB8DB0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9737-A06F-446F-9C44-A03DF1C7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5280"/>
            <a:ext cx="8229600" cy="42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BB18-4B5D-4850-9A9A-61AA1F08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8631-99A6-41AC-BF99-33732E3E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1A4E-44BA-4767-A6D7-A736D070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6416-803C-41E9-AED2-5B8626E6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0560" y="6381720"/>
            <a:ext cx="13064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8/10/13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71720" y="6381720"/>
            <a:ext cx="56246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HIC2008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91000" y="6381720"/>
            <a:ext cx="801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C9C0-E2CF-49E8-BA13-C2AC033F769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jpe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169640"/>
            <a:ext cx="7772400" cy="218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oward the LHC-ALICE experimen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981240"/>
            <a:ext cx="6400800" cy="21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ideki Hamagak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enter for Nuclear Stud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versity of Toky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日付プレースホルダ 3"/>
          <p:cNvSpPr/>
          <p:nvPr/>
        </p:nvSpPr>
        <p:spPr>
          <a:xfrm>
            <a:off x="250920" y="6381720"/>
            <a:ext cx="13064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8/10/13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フッター プレースホルダ 4"/>
          <p:cNvSpPr/>
          <p:nvPr/>
        </p:nvSpPr>
        <p:spPr>
          <a:xfrm>
            <a:off x="1971720" y="6381720"/>
            <a:ext cx="56246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HIC2008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スライド番号プレースホルダ 5"/>
          <p:cNvSpPr/>
          <p:nvPr/>
        </p:nvSpPr>
        <p:spPr>
          <a:xfrm>
            <a:off x="8091360" y="6381720"/>
            <a:ext cx="801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4CA9-84F0-4314-96CA-A3165D2BAD8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utlook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tuation at LHC is NOT a mere extension of RH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ols and knowledge, both experimental and theoretical, acquired at RHIC can be utilized to challenge the new problem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rely new findings at LH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although I cannot guarantee it, since it is beyond my imagination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ow 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photon production at LHC, 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~ 2 GeV/c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477720" y="2835720"/>
            <a:ext cx="756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Times New Roman"/>
              </a:rPr>
              <a:t>M. G. Song, D. H. Lee, B. K. Kim, B. S. Chang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맑은 고딕"/>
                <a:ea typeface="Times New Roman"/>
              </a:rPr>
              <a:t>Y. Kwon, J. H. Ka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Times New Roman"/>
              </a:rPr>
              <a:t>Department of Physics, Yonsei Univ., Kore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ld</a:t>
            </a:r>
            <a:r>
              <a:rPr b="0" lang="ko-KR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uman record says…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bbe0e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bbe0e3"/>
                </a:solidFill>
                <a:latin typeface="Comic Sans MS"/>
              </a:rPr>
              <a:t>Genesis</a:t>
            </a:r>
            <a:r>
              <a:rPr b="0" lang="ko-KR" sz="2700" spc="-1" strike="noStrike">
                <a:solidFill>
                  <a:srgbClr val="bbe0e3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Comic Sans MS"/>
              </a:rPr>
              <a:t>In the beginning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d created the heaven and the earth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And the earth was without form, and void; and darkness was upon the face of the deep. And the Spirit of God moved upon the face of the water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And God said, Let there be light: and there was ligh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And God saw the light, that it was good: and God divided the light from the darknes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Comic Sans MS"/>
              </a:rPr>
              <a:t>And God call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e light Day, and the darkness he called Night. And the evening and the morning were the first da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ion in p+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ne of the best known QCD process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3" name="그룹 12"/>
          <p:cNvGrpSpPr/>
          <p:nvPr/>
        </p:nvGrpSpPr>
        <p:grpSpPr>
          <a:xfrm>
            <a:off x="990720" y="4952880"/>
            <a:ext cx="6768000" cy="1476360"/>
            <a:chOff x="990720" y="4952880"/>
            <a:chExt cx="6768000" cy="1476360"/>
          </a:xfrm>
        </p:grpSpPr>
        <p:pic>
          <p:nvPicPr>
            <p:cNvPr id="114" name="Picture 4" descr=""/>
            <p:cNvPicPr/>
            <p:nvPr/>
          </p:nvPicPr>
          <p:blipFill>
            <a:blip r:embed="rId1"/>
            <a:stretch/>
          </p:blipFill>
          <p:spPr>
            <a:xfrm>
              <a:off x="990720" y="4952880"/>
              <a:ext cx="177588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5"/>
            <p:cNvSpPr/>
            <p:nvPr/>
          </p:nvSpPr>
          <p:spPr>
            <a:xfrm>
              <a:off x="3025800" y="5033160"/>
              <a:ext cx="4732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ard photon : Higher order pQCD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ft photon : Initial radiation, 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agmentation function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116" name="Group 6"/>
          <p:cNvGrpSpPr/>
          <p:nvPr/>
        </p:nvGrpSpPr>
        <p:grpSpPr>
          <a:xfrm>
            <a:off x="990720" y="2971800"/>
            <a:ext cx="7238160" cy="1400040"/>
            <a:chOff x="990720" y="2971800"/>
            <a:chExt cx="7238160" cy="1400040"/>
          </a:xfrm>
        </p:grpSpPr>
        <p:grpSp>
          <p:nvGrpSpPr>
            <p:cNvPr id="117" name="Group 7"/>
            <p:cNvGrpSpPr/>
            <p:nvPr/>
          </p:nvGrpSpPr>
          <p:grpSpPr>
            <a:xfrm>
              <a:off x="990720" y="2971800"/>
              <a:ext cx="3581280" cy="1363680"/>
              <a:chOff x="990720" y="2971800"/>
              <a:chExt cx="3581280" cy="1363680"/>
            </a:xfrm>
          </p:grpSpPr>
          <p:pic>
            <p:nvPicPr>
              <p:cNvPr id="118" name="Picture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990720" y="2971800"/>
                <a:ext cx="1752480" cy="136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Picture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2819520" y="2971800"/>
                <a:ext cx="1752480" cy="1324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0" name="Text Box 14"/>
            <p:cNvSpPr/>
            <p:nvPr/>
          </p:nvSpPr>
          <p:spPr>
            <a:xfrm>
              <a:off x="4866480" y="3546360"/>
              <a:ext cx="3362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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 Unicode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eading order diagram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 perturbation theory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121" name="Text Box 15"/>
          <p:cNvSpPr/>
          <p:nvPr/>
        </p:nvSpPr>
        <p:spPr>
          <a:xfrm>
            <a:off x="7336440" y="2773440"/>
            <a:ext cx="14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ally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rect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produc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ltiple collision in factorization? Higher twist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내용 개체 틀 5"/>
              <p:cNvSpPr txBox="1"/>
              <p:nvPr/>
            </p:nvSpPr>
            <p:spPr>
              <a:xfrm>
                <a:off x="665280" y="2143080"/>
                <a:ext cx="54784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⊗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⊗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⊗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⊗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5" name="Oval 5"/>
          <p:cNvSpPr/>
          <p:nvPr/>
        </p:nvSpPr>
        <p:spPr>
          <a:xfrm>
            <a:off x="7000920" y="2786040"/>
            <a:ext cx="1036440" cy="3143160"/>
          </a:xfrm>
          <a:prstGeom prst="ellipse">
            <a:avLst/>
          </a:prstGeom>
          <a:solidFill>
            <a:srgbClr val="c0c0c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Line 37"/>
          <p:cNvSpPr/>
          <p:nvPr/>
        </p:nvSpPr>
        <p:spPr>
          <a:xfrm flipV="1">
            <a:off x="5715000" y="4642920"/>
            <a:ext cx="1643040" cy="7164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Line 37"/>
          <p:cNvSpPr/>
          <p:nvPr/>
        </p:nvSpPr>
        <p:spPr>
          <a:xfrm flipH="1">
            <a:off x="3857400" y="4714920"/>
            <a:ext cx="1928520" cy="460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Line 37"/>
          <p:cNvSpPr/>
          <p:nvPr/>
        </p:nvSpPr>
        <p:spPr>
          <a:xfrm flipH="1">
            <a:off x="5785920" y="3214800"/>
            <a:ext cx="714600" cy="14284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Line 37"/>
          <p:cNvSpPr/>
          <p:nvPr/>
        </p:nvSpPr>
        <p:spPr>
          <a:xfrm flipV="1">
            <a:off x="5000760" y="4795920"/>
            <a:ext cx="723600" cy="141912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직선 연결선 51"/>
          <p:cNvSpPr/>
          <p:nvPr/>
        </p:nvSpPr>
        <p:spPr>
          <a:xfrm>
            <a:off x="6215040" y="3855960"/>
            <a:ext cx="1214640" cy="1800"/>
          </a:xfrm>
          <a:prstGeom prst="line">
            <a:avLst/>
          </a:prstGeom>
          <a:ln w="316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직선 연결선 53"/>
          <p:cNvSpPr/>
          <p:nvPr/>
        </p:nvSpPr>
        <p:spPr>
          <a:xfrm>
            <a:off x="4714920" y="4786200"/>
            <a:ext cx="2714760" cy="716040"/>
          </a:xfrm>
          <a:prstGeom prst="line">
            <a:avLst/>
          </a:prstGeom>
          <a:ln w="316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aturation</a:t>
            </a:r>
            <a:r>
              <a:rPr b="0" lang="ko-KR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cale? 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4643280" y="2786040"/>
            <a:ext cx="4038840" cy="261468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3"/>
          <p:cNvGrpSpPr/>
          <p:nvPr/>
        </p:nvGrpSpPr>
        <p:grpSpPr>
          <a:xfrm>
            <a:off x="600120" y="2428920"/>
            <a:ext cx="3685680" cy="3356640"/>
            <a:chOff x="600120" y="2428920"/>
            <a:chExt cx="3685680" cy="3356640"/>
          </a:xfrm>
        </p:grpSpPr>
        <p:grpSp>
          <p:nvGrpSpPr>
            <p:cNvPr id="135" name="Group 4"/>
            <p:cNvGrpSpPr/>
            <p:nvPr/>
          </p:nvGrpSpPr>
          <p:grpSpPr>
            <a:xfrm>
              <a:off x="3253680" y="2428920"/>
              <a:ext cx="1032120" cy="3356640"/>
              <a:chOff x="3253680" y="2428920"/>
              <a:chExt cx="1032120" cy="3356640"/>
            </a:xfrm>
          </p:grpSpPr>
          <p:sp>
            <p:nvSpPr>
              <p:cNvPr id="136" name="Oval 5"/>
              <p:cNvSpPr/>
              <p:nvPr/>
            </p:nvSpPr>
            <p:spPr>
              <a:xfrm>
                <a:off x="3253680" y="2428920"/>
                <a:ext cx="1032120" cy="3356640"/>
              </a:xfrm>
              <a:prstGeom prst="ellipse">
                <a:avLst/>
              </a:prstGeom>
              <a:solidFill>
                <a:srgbClr val="c0c0c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137" name="Oval 6"/>
              <p:cNvSpPr/>
              <p:nvPr/>
            </p:nvSpPr>
            <p:spPr>
              <a:xfrm>
                <a:off x="3327480" y="4243680"/>
                <a:ext cx="221040" cy="45324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138" name="Oval 7"/>
              <p:cNvSpPr/>
              <p:nvPr/>
            </p:nvSpPr>
            <p:spPr>
              <a:xfrm>
                <a:off x="3327480" y="3336120"/>
                <a:ext cx="221040" cy="45324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139" name="Oval 8"/>
              <p:cNvSpPr/>
              <p:nvPr/>
            </p:nvSpPr>
            <p:spPr>
              <a:xfrm>
                <a:off x="3695760" y="3789720"/>
                <a:ext cx="221040" cy="4536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140" name="Oval 9"/>
              <p:cNvSpPr/>
              <p:nvPr/>
            </p:nvSpPr>
            <p:spPr>
              <a:xfrm>
                <a:off x="3990600" y="3154680"/>
                <a:ext cx="221040" cy="45324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141" name="Oval 10"/>
              <p:cNvSpPr/>
              <p:nvPr/>
            </p:nvSpPr>
            <p:spPr>
              <a:xfrm>
                <a:off x="3474720" y="2610360"/>
                <a:ext cx="221040" cy="45324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142" name="Oval 11"/>
              <p:cNvSpPr/>
              <p:nvPr/>
            </p:nvSpPr>
            <p:spPr>
              <a:xfrm>
                <a:off x="3843360" y="5150520"/>
                <a:ext cx="221040" cy="4536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143" name="Oval 12"/>
              <p:cNvSpPr/>
              <p:nvPr/>
            </p:nvSpPr>
            <p:spPr>
              <a:xfrm>
                <a:off x="3990600" y="4424760"/>
                <a:ext cx="221040" cy="45324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144" name="Oval 13"/>
              <p:cNvSpPr/>
              <p:nvPr/>
            </p:nvSpPr>
            <p:spPr>
              <a:xfrm>
                <a:off x="3401280" y="4969080"/>
                <a:ext cx="221040" cy="45324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145" name="Oval 14"/>
              <p:cNvSpPr/>
              <p:nvPr/>
            </p:nvSpPr>
            <p:spPr>
              <a:xfrm>
                <a:off x="3548520" y="4878360"/>
                <a:ext cx="221040" cy="453600"/>
              </a:xfrm>
              <a:prstGeom prst="ellipse">
                <a:avLst/>
              </a:prstGeom>
              <a:solidFill>
                <a:srgbClr val="0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146" name="Oval 15"/>
              <p:cNvSpPr/>
              <p:nvPr/>
            </p:nvSpPr>
            <p:spPr>
              <a:xfrm>
                <a:off x="3769560" y="4696920"/>
                <a:ext cx="221040" cy="45324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147" name="Oval 16"/>
              <p:cNvSpPr/>
              <p:nvPr/>
            </p:nvSpPr>
            <p:spPr>
              <a:xfrm>
                <a:off x="3401280" y="4606200"/>
                <a:ext cx="221040" cy="45360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148" name="Oval 17"/>
              <p:cNvSpPr/>
              <p:nvPr/>
            </p:nvSpPr>
            <p:spPr>
              <a:xfrm>
                <a:off x="3622320" y="5241240"/>
                <a:ext cx="221040" cy="45324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149" name="Oval 18"/>
              <p:cNvSpPr/>
              <p:nvPr/>
            </p:nvSpPr>
            <p:spPr>
              <a:xfrm>
                <a:off x="3507120" y="3833280"/>
                <a:ext cx="221040" cy="45324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150" name="Oval 19"/>
              <p:cNvSpPr/>
              <p:nvPr/>
            </p:nvSpPr>
            <p:spPr>
              <a:xfrm>
                <a:off x="4064400" y="3971160"/>
                <a:ext cx="221040" cy="45324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151" name="Oval 20"/>
              <p:cNvSpPr/>
              <p:nvPr/>
            </p:nvSpPr>
            <p:spPr>
              <a:xfrm>
                <a:off x="3769560" y="3426840"/>
                <a:ext cx="221040" cy="45324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152" name="Oval 21"/>
              <p:cNvSpPr/>
              <p:nvPr/>
            </p:nvSpPr>
            <p:spPr>
              <a:xfrm>
                <a:off x="3695760" y="2610360"/>
                <a:ext cx="221040" cy="45324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153" name="Oval 22"/>
              <p:cNvSpPr/>
              <p:nvPr/>
            </p:nvSpPr>
            <p:spPr>
              <a:xfrm>
                <a:off x="3474720" y="3063960"/>
                <a:ext cx="221040" cy="45324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154" name="Oval 23"/>
              <p:cNvSpPr/>
              <p:nvPr/>
            </p:nvSpPr>
            <p:spPr>
              <a:xfrm>
                <a:off x="3548520" y="4243680"/>
                <a:ext cx="221040" cy="453240"/>
              </a:xfrm>
              <a:prstGeom prst="ellipse">
                <a:avLst/>
              </a:prstGeom>
              <a:solidFill>
                <a:srgbClr val="0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155" name="Oval 24"/>
              <p:cNvSpPr/>
              <p:nvPr/>
            </p:nvSpPr>
            <p:spPr>
              <a:xfrm>
                <a:off x="3843360" y="4061880"/>
                <a:ext cx="221040" cy="453600"/>
              </a:xfrm>
              <a:prstGeom prst="ellipse">
                <a:avLst/>
              </a:prstGeom>
              <a:solidFill>
                <a:srgbClr val="0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156" name="Oval 25"/>
              <p:cNvSpPr/>
              <p:nvPr/>
            </p:nvSpPr>
            <p:spPr>
              <a:xfrm>
                <a:off x="3990600" y="3608280"/>
                <a:ext cx="221040" cy="453240"/>
              </a:xfrm>
              <a:prstGeom prst="ellipse">
                <a:avLst/>
              </a:prstGeom>
              <a:solidFill>
                <a:srgbClr val="0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157" name="Oval 26"/>
              <p:cNvSpPr/>
              <p:nvPr/>
            </p:nvSpPr>
            <p:spPr>
              <a:xfrm>
                <a:off x="3327480" y="3789720"/>
                <a:ext cx="221040" cy="453600"/>
              </a:xfrm>
              <a:prstGeom prst="ellipse">
                <a:avLst/>
              </a:prstGeom>
              <a:solidFill>
                <a:srgbClr val="0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158" name="Oval 27"/>
              <p:cNvSpPr/>
              <p:nvPr/>
            </p:nvSpPr>
            <p:spPr>
              <a:xfrm>
                <a:off x="3548520" y="3517560"/>
                <a:ext cx="221040" cy="453600"/>
              </a:xfrm>
              <a:prstGeom prst="ellipse">
                <a:avLst/>
              </a:prstGeom>
              <a:solidFill>
                <a:srgbClr val="0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159" name="Oval 28"/>
              <p:cNvSpPr/>
              <p:nvPr/>
            </p:nvSpPr>
            <p:spPr>
              <a:xfrm>
                <a:off x="3695760" y="3063960"/>
                <a:ext cx="221040" cy="453240"/>
              </a:xfrm>
              <a:prstGeom prst="ellipse">
                <a:avLst/>
              </a:prstGeom>
              <a:solidFill>
                <a:srgbClr val="0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160" name="Oval 29"/>
              <p:cNvSpPr/>
              <p:nvPr/>
            </p:nvSpPr>
            <p:spPr>
              <a:xfrm>
                <a:off x="3916800" y="2791800"/>
                <a:ext cx="221040" cy="453240"/>
              </a:xfrm>
              <a:prstGeom prst="ellipse">
                <a:avLst/>
              </a:prstGeom>
              <a:solidFill>
                <a:srgbClr val="0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161" name="Oval 30"/>
              <p:cNvSpPr/>
              <p:nvPr/>
            </p:nvSpPr>
            <p:spPr>
              <a:xfrm>
                <a:off x="3695760" y="4243680"/>
                <a:ext cx="221040" cy="45324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162" name="Oval 31"/>
              <p:cNvSpPr/>
              <p:nvPr/>
            </p:nvSpPr>
            <p:spPr>
              <a:xfrm>
                <a:off x="3622320" y="4606200"/>
                <a:ext cx="221040" cy="4536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163" name="Oval 32"/>
              <p:cNvSpPr/>
              <p:nvPr/>
            </p:nvSpPr>
            <p:spPr>
              <a:xfrm>
                <a:off x="3990600" y="4788000"/>
                <a:ext cx="221040" cy="453240"/>
              </a:xfrm>
              <a:prstGeom prst="ellipse">
                <a:avLst/>
              </a:prstGeom>
              <a:solidFill>
                <a:srgbClr val="0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sp>
          <p:nvSpPr>
            <p:cNvPr id="164" name="Line 33"/>
            <p:cNvSpPr/>
            <p:nvPr/>
          </p:nvSpPr>
          <p:spPr>
            <a:xfrm flipH="1">
              <a:off x="1779120" y="3880800"/>
              <a:ext cx="1326600" cy="3628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65" name="Line 34"/>
            <p:cNvSpPr/>
            <p:nvPr/>
          </p:nvSpPr>
          <p:spPr>
            <a:xfrm>
              <a:off x="1779480" y="4243680"/>
              <a:ext cx="1326600" cy="1810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66" name="Line 35"/>
            <p:cNvSpPr/>
            <p:nvPr/>
          </p:nvSpPr>
          <p:spPr>
            <a:xfrm>
              <a:off x="2811600" y="3336120"/>
              <a:ext cx="0" cy="45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67" name="Line 36"/>
            <p:cNvSpPr/>
            <p:nvPr/>
          </p:nvSpPr>
          <p:spPr>
            <a:xfrm flipV="1">
              <a:off x="2811600" y="4606200"/>
              <a:ext cx="0" cy="45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68" name="Line 37"/>
            <p:cNvSpPr/>
            <p:nvPr/>
          </p:nvSpPr>
          <p:spPr>
            <a:xfrm flipH="1">
              <a:off x="600120" y="4243680"/>
              <a:ext cx="117936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69" name="Text Box 38"/>
            <p:cNvSpPr/>
            <p:nvPr/>
          </p:nvSpPr>
          <p:spPr>
            <a:xfrm>
              <a:off x="1355760" y="2888280"/>
              <a:ext cx="110556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9960" rIns="129960" tIns="65160" bIns="65160" anchor="t" anchorCtr="1">
              <a:spAutoFit/>
            </a:bodyPr>
            <a:p>
              <a:pPr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~ 1/Q</a:t>
              </a:r>
              <a:r>
                <a:rPr b="0" lang="en-US" sz="3400" spc="-1" strike="noStrike" baseline="30000">
                  <a:solidFill>
                    <a:srgbClr val="000000"/>
                  </a:solidFill>
                  <a:latin typeface="Times New Roman"/>
                  <a:ea typeface="굴림"/>
                </a:rPr>
                <a:t>2</a:t>
              </a:r>
              <a:endParaRPr b="0" lang="en-US" sz="3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170" name="직사각형 41"/>
          <p:cNvSpPr/>
          <p:nvPr/>
        </p:nvSpPr>
        <p:spPr>
          <a:xfrm>
            <a:off x="1285920" y="1619280"/>
            <a:ext cx="7072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HIC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 Unicode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~ 1 GeV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LHC 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 Unicode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~ 2-3 GeV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9600" cy="92736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very low mass dileptons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solidFill>
            <a:srgbClr val="ffffff">
              <a:alpha val="5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, R H Dalitz 1951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Proc. Phys. Soc. 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6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667-669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we can avoi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ackground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3" name="Group 4"/>
          <p:cNvGrpSpPr/>
          <p:nvPr/>
        </p:nvGrpSpPr>
        <p:grpSpPr>
          <a:xfrm>
            <a:off x="5286240" y="3228840"/>
            <a:ext cx="3610800" cy="3324240"/>
            <a:chOff x="5286240" y="3228840"/>
            <a:chExt cx="3610800" cy="3324240"/>
          </a:xfrm>
        </p:grpSpPr>
        <p:pic>
          <p:nvPicPr>
            <p:cNvPr id="174" name="Picture 37" descr=""/>
            <p:cNvPicPr/>
            <p:nvPr/>
          </p:nvPicPr>
          <p:blipFill>
            <a:blip r:embed="rId1"/>
            <a:stretch/>
          </p:blipFill>
          <p:spPr>
            <a:xfrm>
              <a:off x="5286240" y="4600440"/>
              <a:ext cx="2089080" cy="19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Line 6"/>
            <p:cNvSpPr/>
            <p:nvPr/>
          </p:nvSpPr>
          <p:spPr>
            <a:xfrm flipV="1">
              <a:off x="7343640" y="3686040"/>
              <a:ext cx="228600" cy="9144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76" name="Line 7"/>
            <p:cNvSpPr/>
            <p:nvPr/>
          </p:nvSpPr>
          <p:spPr>
            <a:xfrm flipH="1" flipV="1">
              <a:off x="7343280" y="4600080"/>
              <a:ext cx="990360" cy="2286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77" name="Text Box 8"/>
            <p:cNvSpPr/>
            <p:nvPr/>
          </p:nvSpPr>
          <p:spPr>
            <a:xfrm>
              <a:off x="7161840" y="322884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Lucida Sans Unicode"/>
                </a:rPr>
                <a:t>e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Lucida Sans Unicode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78" name="Text Box 9"/>
            <p:cNvSpPr/>
            <p:nvPr/>
          </p:nvSpPr>
          <p:spPr>
            <a:xfrm>
              <a:off x="8352000" y="4676760"/>
              <a:ext cx="545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Lucida Sans Unicode"/>
                </a:rPr>
                <a:t>e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Lucida Sans Unicode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57120" y="5977080"/>
            <a:ext cx="8524800" cy="6523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6399360" y="6130800"/>
            <a:ext cx="2444760" cy="3373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  <a:ea typeface="Times New Roman"/>
              </a:rPr>
              <a:t>phase space factor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5003640" y="6130800"/>
            <a:ext cx="1305000" cy="3373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  <a:ea typeface="Times New Roman"/>
              </a:rPr>
              <a:t>form factor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2968560" y="6014880"/>
            <a:ext cx="1997280" cy="5806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  <a:ea typeface="Times New Roman"/>
              </a:rPr>
              <a:t>invariant mass of virtual photon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395280" y="6014880"/>
            <a:ext cx="2444760" cy="5806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  <a:ea typeface="Times New Roman"/>
              </a:rPr>
              <a:t>invariant mass of Dalitz pair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6399360" y="6130800"/>
            <a:ext cx="2444760" cy="33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phase space factor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5002200" y="6130800"/>
            <a:ext cx="1306440" cy="33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form factor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395280" y="6014880"/>
            <a:ext cx="2444760" cy="580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invariant mass of Dalitz pair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2968560" y="6014880"/>
            <a:ext cx="1919520" cy="580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invariant mass of virtual photon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2"/>
              <p:cNvSpPr txBox="1"/>
              <p:nvPr/>
            </p:nvSpPr>
            <p:spPr>
              <a:xfrm>
                <a:off x="1163520" y="5054760"/>
                <a:ext cx="700560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γ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π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e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den>
                    </m:f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e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9" name="Rectangle 13"/>
          <p:cNvSpPr/>
          <p:nvPr/>
        </p:nvSpPr>
        <p:spPr>
          <a:xfrm>
            <a:off x="684360" y="0"/>
            <a:ext cx="77724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90" name="Picture 18" descr="dal_plot"/>
          <p:cNvPicPr/>
          <p:nvPr/>
        </p:nvPicPr>
        <p:blipFill>
          <a:blip r:embed="rId1"/>
          <a:stretch/>
        </p:blipFill>
        <p:spPr>
          <a:xfrm>
            <a:off x="2209680" y="1596960"/>
            <a:ext cx="4724640" cy="320364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38420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063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litz pair mass distribu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5843520" y="3036240"/>
            <a:ext cx="3240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맑은 고딕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5881680" y="3036240"/>
            <a:ext cx="2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5881680" y="3036240"/>
            <a:ext cx="24768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5853240" y="3035520"/>
            <a:ext cx="3042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맑은 고딕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076480" y="3219480"/>
          <a:ext cx="208080" cy="11890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2085840" y="3228840"/>
          <a:ext cx="3003840" cy="914400"/>
        </p:xfrm>
        <a:graphic>
          <a:graphicData uri="http://schemas.openxmlformats.org/drawingml/2006/table">
            <a:tbl>
              <a:tblPr/>
              <a:tblGrid>
                <a:gridCol w="3003840"/>
              </a:tblGrid>
              <a:tr h="95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web pages created b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굴림"/>
                          <a:ea typeface="굴림"/>
                        </a:rPr>
                        <a:t>Pier-Luigi Barberi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fo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ALIC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Experi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pic>
        <p:nvPicPr>
          <p:cNvPr id="198" name="Picture 34" descr="AliceA4"/>
          <p:cNvPicPr/>
          <p:nvPr/>
        </p:nvPicPr>
        <p:blipFill>
          <a:blip r:embed="rId1"/>
          <a:stretch/>
        </p:blipFill>
        <p:spPr>
          <a:xfrm>
            <a:off x="-376200" y="-133200"/>
            <a:ext cx="9896400" cy="71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日付プレースホルダ 3"/>
          <p:cNvSpPr/>
          <p:nvPr/>
        </p:nvSpPr>
        <p:spPr>
          <a:xfrm>
            <a:off x="250920" y="6381720"/>
            <a:ext cx="13064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8/10/13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" name="フッター プレースホルダ 4"/>
          <p:cNvSpPr/>
          <p:nvPr/>
        </p:nvSpPr>
        <p:spPr>
          <a:xfrm>
            <a:off x="1971720" y="6381720"/>
            <a:ext cx="56246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HIC2008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スライド番号プレースホルダ 5"/>
          <p:cNvSpPr/>
          <p:nvPr/>
        </p:nvSpPr>
        <p:spPr>
          <a:xfrm>
            <a:off x="8091360" y="6381720"/>
            <a:ext cx="801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9DF7-55D4-4DA0-BCBB-A3E4684AEC9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NS+ group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ff Memb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deki Hamagaki (Group leade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ku Gunji (Deputy leade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yoichiro Ozaw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ent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students for PhD (Doctoral cours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 for RHIC-PHENIX, 1 for LHC-AL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students for Diploma (Master course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 for LHC-ALICE, 2 for R&amp;D of GEM detecto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article</a:t>
            </a:r>
            <a:r>
              <a:rPr b="0" lang="ko-KR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dentification by ALIC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833400" y="2011320"/>
            <a:ext cx="747720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142920" y="1571760"/>
            <a:ext cx="4019400" cy="44290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RD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(Transition Radiation Detector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539640" y="148428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4286160" y="1704960"/>
            <a:ext cx="381636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맑은 고딕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맑은 고딕"/>
              </a:rPr>
              <a:t>|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맑은 고딕"/>
              </a:rPr>
              <a:t>η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맑은 고딕"/>
              </a:rPr>
              <a:t>|&lt;0.9,  45°&lt;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맑은 고딕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맑은 고딕"/>
              </a:rPr>
              <a:t>&lt;135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맑은 고딕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맑은 고딕"/>
              </a:rPr>
              <a:t>18 supermodules in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맑은 고딕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맑은 고딕"/>
              </a:rPr>
              <a:t> secto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맑은 고딕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맑은 고딕"/>
              </a:rPr>
              <a:t>6 Radial layer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맑은 고딕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맑은 고딕"/>
              </a:rPr>
              <a:t>5 z-longitudinal stack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맑은 고딕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맑은 고딕"/>
              </a:rPr>
              <a:t>total 540 chamber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맑은 고딕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맑은 고딕"/>
              </a:rPr>
              <a:t>750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맑은 고딕"/>
              </a:rPr>
              <a:t>²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맑은 고딕"/>
              </a:rPr>
              <a:t> active area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맑은 고딕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맑은 고딕"/>
              </a:rPr>
              <a:t>28m³ of ga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맑은 고딕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맑은 고딕"/>
              </a:rPr>
              <a:t>In total 1.18 million read-out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맑은 고딕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맑은 고딕"/>
              </a:rPr>
              <a:t>channel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05" name="Picture 34" descr="AliceA4"/>
          <p:cNvPicPr/>
          <p:nvPr/>
        </p:nvPicPr>
        <p:blipFill>
          <a:blip r:embed="rId2"/>
          <a:stretch/>
        </p:blipFill>
        <p:spPr>
          <a:xfrm>
            <a:off x="4124160" y="1676520"/>
            <a:ext cx="5019840" cy="4181400"/>
          </a:xfrm>
          <a:prstGeom prst="rect">
            <a:avLst/>
          </a:prstGeom>
          <a:ln w="0">
            <a:noFill/>
          </a:ln>
        </p:spPr>
      </p:pic>
      <p:grpSp>
        <p:nvGrpSpPr>
          <p:cNvPr id="206" name="그룹 12"/>
          <p:cNvGrpSpPr/>
          <p:nvPr/>
        </p:nvGrpSpPr>
        <p:grpSpPr>
          <a:xfrm>
            <a:off x="5160960" y="3103560"/>
            <a:ext cx="1247760" cy="1182600"/>
            <a:chOff x="5160960" y="3103560"/>
            <a:chExt cx="1247760" cy="1182600"/>
          </a:xfrm>
        </p:grpSpPr>
        <p:sp>
          <p:nvSpPr>
            <p:cNvPr id="207" name="자유형 8"/>
            <p:cNvSpPr/>
            <p:nvPr/>
          </p:nvSpPr>
          <p:spPr>
            <a:xfrm>
              <a:off x="5454720" y="3103560"/>
              <a:ext cx="954000" cy="428400"/>
            </a:xfrm>
            <a:prstGeom prst="pie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08" name="자유형 9"/>
            <p:cNvSpPr/>
            <p:nvPr/>
          </p:nvSpPr>
          <p:spPr>
            <a:xfrm>
              <a:off x="5160960" y="3938760"/>
              <a:ext cx="1135080" cy="347400"/>
            </a:xfrm>
            <a:prstGeom prst="pie">
              <a:avLst/>
            </a:prstGeom>
            <a:solidFill>
              <a:srgbClr val="ff00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25" dur="500" fill="hold"/>
                                        <p:tgtEl>
                                          <p:spTgt spid="2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LHC"/>
          <p:cNvPicPr/>
          <p:nvPr/>
        </p:nvPicPr>
        <p:blipFill>
          <a:blip r:embed="rId1"/>
          <a:stretch/>
        </p:blipFill>
        <p:spPr>
          <a:xfrm>
            <a:off x="76320" y="82440"/>
            <a:ext cx="4572000" cy="30672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76320" y="3263760"/>
            <a:ext cx="5943600" cy="3517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"/>
          <p:cNvPicPr/>
          <p:nvPr/>
        </p:nvPicPr>
        <p:blipFill>
          <a:blip r:embed="rId3"/>
          <a:stretch/>
        </p:blipFill>
        <p:spPr>
          <a:xfrm>
            <a:off x="6130800" y="3276720"/>
            <a:ext cx="2936880" cy="35049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5264640" y="76320"/>
            <a:ext cx="338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Tsukuba group activitie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for LHC-ALIC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4876920" y="900000"/>
            <a:ext cx="411480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Transition Radiation Detector(TRD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Construction/Installation/Commissioning/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Detector-control/Test-experiment/Analysi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with Heidelberg, GSI, Frankfurt, Muenster group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4763520" y="1978200"/>
            <a:ext cx="444924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Outside of TPC, inside of TOF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Electron ID &amp; high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Lucida Sans Unicode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hadron measurement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Online tracking &amp; higher-level online trigger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J/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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, jet, di-jet, mini-jet trigger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36" descr=""/>
          <p:cNvPicPr/>
          <p:nvPr/>
        </p:nvPicPr>
        <p:blipFill>
          <a:blip r:embed="rId1"/>
          <a:stretch/>
        </p:blipFill>
        <p:spPr>
          <a:xfrm>
            <a:off x="0" y="2978280"/>
            <a:ext cx="7086600" cy="3651120"/>
          </a:xfrm>
          <a:prstGeom prst="rect">
            <a:avLst/>
          </a:prstGeom>
          <a:ln w="0">
            <a:noFill/>
          </a:ln>
        </p:spPr>
      </p:pic>
      <p:grpSp>
        <p:nvGrpSpPr>
          <p:cNvPr id="216" name="Group 20"/>
          <p:cNvGrpSpPr/>
          <p:nvPr/>
        </p:nvGrpSpPr>
        <p:grpSpPr>
          <a:xfrm>
            <a:off x="152280" y="228600"/>
            <a:ext cx="3657600" cy="2666880"/>
            <a:chOff x="152280" y="228600"/>
            <a:chExt cx="3657600" cy="2666880"/>
          </a:xfrm>
        </p:grpSpPr>
        <p:pic>
          <p:nvPicPr>
            <p:cNvPr id="217" name="Picture 2" descr=""/>
            <p:cNvPicPr/>
            <p:nvPr/>
          </p:nvPicPr>
          <p:blipFill>
            <a:blip r:embed="rId2"/>
            <a:stretch/>
          </p:blipFill>
          <p:spPr>
            <a:xfrm>
              <a:off x="152280" y="228600"/>
              <a:ext cx="365760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Line 3"/>
            <p:cNvSpPr/>
            <p:nvPr/>
          </p:nvSpPr>
          <p:spPr>
            <a:xfrm flipH="1" flipV="1">
              <a:off x="805680" y="1377000"/>
              <a:ext cx="2986200" cy="4809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19" name="Text Box 4"/>
            <p:cNvSpPr/>
            <p:nvPr/>
          </p:nvSpPr>
          <p:spPr>
            <a:xfrm>
              <a:off x="2014920" y="1722240"/>
              <a:ext cx="8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Beam</a:t>
              </a: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20" name="Picture 5" descr="trd_setup"/>
          <p:cNvPicPr/>
          <p:nvPr/>
        </p:nvPicPr>
        <p:blipFill>
          <a:blip r:embed="rId3"/>
          <a:stretch/>
        </p:blipFill>
        <p:spPr>
          <a:xfrm>
            <a:off x="4114800" y="801720"/>
            <a:ext cx="4800600" cy="117936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37"/>
          <p:cNvSpPr/>
          <p:nvPr/>
        </p:nvSpPr>
        <p:spPr>
          <a:xfrm>
            <a:off x="3581280" y="2971800"/>
            <a:ext cx="3505320" cy="36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22" name="Picture 7" descr="ph_1event"/>
          <p:cNvPicPr/>
          <p:nvPr/>
        </p:nvPicPr>
        <p:blipFill>
          <a:blip r:embed="rId4"/>
          <a:stretch/>
        </p:blipFill>
        <p:spPr>
          <a:xfrm>
            <a:off x="5410080" y="1900080"/>
            <a:ext cx="3422880" cy="22971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ph_average"/>
          <p:cNvPicPr/>
          <p:nvPr/>
        </p:nvPicPr>
        <p:blipFill>
          <a:blip r:embed="rId5"/>
          <a:stretch/>
        </p:blipFill>
        <p:spPr>
          <a:xfrm>
            <a:off x="5410080" y="4262400"/>
            <a:ext cx="3505320" cy="2354400"/>
          </a:xfrm>
          <a:prstGeom prst="rect">
            <a:avLst/>
          </a:prstGeom>
          <a:ln w="0">
            <a:noFill/>
          </a:ln>
        </p:spPr>
      </p:pic>
      <p:sp>
        <p:nvSpPr>
          <p:cNvPr id="224" name="Oval 9"/>
          <p:cNvSpPr/>
          <p:nvPr/>
        </p:nvSpPr>
        <p:spPr>
          <a:xfrm>
            <a:off x="7010280" y="2357280"/>
            <a:ext cx="72072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7848720" y="1905120"/>
            <a:ext cx="97452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ransition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adiation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photon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Line 12"/>
          <p:cNvSpPr/>
          <p:nvPr/>
        </p:nvSpPr>
        <p:spPr>
          <a:xfrm flipH="1">
            <a:off x="8094240" y="2590920"/>
            <a:ext cx="211320" cy="2155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Oval 13"/>
          <p:cNvSpPr/>
          <p:nvPr/>
        </p:nvSpPr>
        <p:spPr>
          <a:xfrm>
            <a:off x="6705720" y="4567320"/>
            <a:ext cx="1512720" cy="79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Oval 14"/>
          <p:cNvSpPr/>
          <p:nvPr/>
        </p:nvSpPr>
        <p:spPr>
          <a:xfrm>
            <a:off x="5715000" y="2128680"/>
            <a:ext cx="685800" cy="1447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Oval 15"/>
          <p:cNvSpPr/>
          <p:nvPr/>
        </p:nvSpPr>
        <p:spPr>
          <a:xfrm>
            <a:off x="5715000" y="4491000"/>
            <a:ext cx="692280" cy="1230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6028200" y="5964120"/>
            <a:ext cx="16560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plification region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Line 17"/>
          <p:cNvSpPr/>
          <p:nvPr/>
        </p:nvSpPr>
        <p:spPr>
          <a:xfrm flipH="1" flipV="1">
            <a:off x="6248160" y="3424320"/>
            <a:ext cx="533160" cy="25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Line 18"/>
          <p:cNvSpPr/>
          <p:nvPr/>
        </p:nvSpPr>
        <p:spPr>
          <a:xfrm flipH="1" flipV="1">
            <a:off x="6324480" y="5481360"/>
            <a:ext cx="457200" cy="461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Text Box 19"/>
          <p:cNvSpPr/>
          <p:nvPr/>
        </p:nvSpPr>
        <p:spPr>
          <a:xfrm>
            <a:off x="6755760" y="3146400"/>
            <a:ext cx="31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Lucida Sans Unicode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4" name="Group 106"/>
          <p:cNvGrpSpPr/>
          <p:nvPr/>
        </p:nvGrpSpPr>
        <p:grpSpPr>
          <a:xfrm>
            <a:off x="3012120" y="3253680"/>
            <a:ext cx="2291400" cy="3304800"/>
            <a:chOff x="3012120" y="3253680"/>
            <a:chExt cx="2291400" cy="3304800"/>
          </a:xfrm>
        </p:grpSpPr>
        <p:grpSp>
          <p:nvGrpSpPr>
            <p:cNvPr id="235" name="Group 39"/>
            <p:cNvGrpSpPr/>
            <p:nvPr/>
          </p:nvGrpSpPr>
          <p:grpSpPr>
            <a:xfrm>
              <a:off x="3653280" y="3890520"/>
              <a:ext cx="1357560" cy="454680"/>
              <a:chOff x="3653280" y="3890520"/>
              <a:chExt cx="1357560" cy="454680"/>
            </a:xfrm>
          </p:grpSpPr>
          <p:sp>
            <p:nvSpPr>
              <p:cNvPr id="236" name="Rectangle 40"/>
              <p:cNvSpPr/>
              <p:nvPr/>
            </p:nvSpPr>
            <p:spPr>
              <a:xfrm rot="5400000">
                <a:off x="4830840" y="3998520"/>
                <a:ext cx="144360" cy="21564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237" name="Rectangle 41"/>
              <p:cNvSpPr/>
              <p:nvPr/>
            </p:nvSpPr>
            <p:spPr>
              <a:xfrm rot="5400000">
                <a:off x="3823200" y="3998520"/>
                <a:ext cx="144360" cy="21564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238" name="Rectangle 42"/>
              <p:cNvSpPr/>
              <p:nvPr/>
            </p:nvSpPr>
            <p:spPr>
              <a:xfrm rot="5400000">
                <a:off x="4543920" y="3998520"/>
                <a:ext cx="144360" cy="21564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239" name="Text Box 43"/>
              <p:cNvSpPr/>
              <p:nvPr/>
            </p:nvSpPr>
            <p:spPr>
              <a:xfrm rot="5400000">
                <a:off x="3939480" y="3604320"/>
                <a:ext cx="454680" cy="102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800" spc="-1" strike="noStrike">
                    <a:solidFill>
                      <a:srgbClr val="000000"/>
                    </a:solidFill>
                    <a:latin typeface="Arial"/>
                  </a:rPr>
                  <a:t>・・・</a:t>
                </a: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grpSp>
          <p:nvGrpSpPr>
            <p:cNvPr id="240" name="Group 100"/>
            <p:cNvGrpSpPr/>
            <p:nvPr/>
          </p:nvGrpSpPr>
          <p:grpSpPr>
            <a:xfrm>
              <a:off x="3033000" y="4896720"/>
              <a:ext cx="2270520" cy="454680"/>
              <a:chOff x="3033000" y="4896720"/>
              <a:chExt cx="2270520" cy="454680"/>
            </a:xfrm>
          </p:grpSpPr>
          <p:sp>
            <p:nvSpPr>
              <p:cNvPr id="241" name="Rectangle 44"/>
              <p:cNvSpPr/>
              <p:nvPr/>
            </p:nvSpPr>
            <p:spPr>
              <a:xfrm rot="5400000">
                <a:off x="5000760" y="4987080"/>
                <a:ext cx="144360" cy="2160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242" name="Rectangle 45"/>
              <p:cNvSpPr/>
              <p:nvPr/>
            </p:nvSpPr>
            <p:spPr>
              <a:xfrm rot="5400000">
                <a:off x="3560760" y="4987440"/>
                <a:ext cx="144360" cy="21564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243" name="Rectangle 46"/>
              <p:cNvSpPr/>
              <p:nvPr/>
            </p:nvSpPr>
            <p:spPr>
              <a:xfrm rot="5400000">
                <a:off x="4713480" y="4987080"/>
                <a:ext cx="144360" cy="2160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244" name="Text Box 47"/>
              <p:cNvSpPr/>
              <p:nvPr/>
            </p:nvSpPr>
            <p:spPr>
              <a:xfrm rot="5400000">
                <a:off x="3940920" y="3988800"/>
                <a:ext cx="454680" cy="227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800" spc="-1" strike="noStrike">
                    <a:solidFill>
                      <a:srgbClr val="000000"/>
                    </a:solidFill>
                    <a:latin typeface="Arial"/>
                  </a:rPr>
                  <a:t>・・・・・・・</a:t>
                </a: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grpSp>
          <p:nvGrpSpPr>
            <p:cNvPr id="245" name="Group 48"/>
            <p:cNvGrpSpPr/>
            <p:nvPr/>
          </p:nvGrpSpPr>
          <p:grpSpPr>
            <a:xfrm>
              <a:off x="4171680" y="5978880"/>
              <a:ext cx="502560" cy="144360"/>
              <a:chOff x="4171680" y="5978880"/>
              <a:chExt cx="502560" cy="144360"/>
            </a:xfrm>
          </p:grpSpPr>
          <p:sp>
            <p:nvSpPr>
              <p:cNvPr id="246" name="Rectangle 49"/>
              <p:cNvSpPr/>
              <p:nvPr/>
            </p:nvSpPr>
            <p:spPr>
              <a:xfrm rot="5400000">
                <a:off x="4494240" y="5943240"/>
                <a:ext cx="144360" cy="21564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247" name="Rectangle 50"/>
              <p:cNvSpPr/>
              <p:nvPr/>
            </p:nvSpPr>
            <p:spPr>
              <a:xfrm rot="5400000">
                <a:off x="4207320" y="5943240"/>
                <a:ext cx="144360" cy="21564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sp>
          <p:nvSpPr>
            <p:cNvPr id="248" name="Text Box 51"/>
            <p:cNvSpPr/>
            <p:nvPr/>
          </p:nvSpPr>
          <p:spPr>
            <a:xfrm rot="5400000">
              <a:off x="3212640" y="3997440"/>
              <a:ext cx="55260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yer</a:t>
              </a: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49" name="Text Box 52"/>
            <p:cNvSpPr/>
            <p:nvPr/>
          </p:nvSpPr>
          <p:spPr>
            <a:xfrm rot="5400000">
              <a:off x="2905200" y="5005440"/>
              <a:ext cx="67284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ddle</a:t>
              </a: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yer</a:t>
              </a: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50" name="Text Box 53"/>
            <p:cNvSpPr/>
            <p:nvPr/>
          </p:nvSpPr>
          <p:spPr>
            <a:xfrm rot="5400000">
              <a:off x="3541680" y="6002280"/>
              <a:ext cx="65304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yer</a:t>
              </a: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51" name="Line 54"/>
            <p:cNvSpPr/>
            <p:nvPr/>
          </p:nvSpPr>
          <p:spPr>
            <a:xfrm>
              <a:off x="4930560" y="4206240"/>
              <a:ext cx="1519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52" name="Line 55"/>
            <p:cNvSpPr/>
            <p:nvPr/>
          </p:nvSpPr>
          <p:spPr>
            <a:xfrm flipH="1">
              <a:off x="4778280" y="4206960"/>
              <a:ext cx="1519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53" name="Line 57"/>
            <p:cNvSpPr/>
            <p:nvPr/>
          </p:nvSpPr>
          <p:spPr>
            <a:xfrm flipH="1">
              <a:off x="3634920" y="4206960"/>
              <a:ext cx="12949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54" name="Line 58"/>
            <p:cNvSpPr/>
            <p:nvPr/>
          </p:nvSpPr>
          <p:spPr>
            <a:xfrm flipH="1">
              <a:off x="3635280" y="4206960"/>
              <a:ext cx="9900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55" name="Line 59"/>
            <p:cNvSpPr/>
            <p:nvPr/>
          </p:nvSpPr>
          <p:spPr>
            <a:xfrm>
              <a:off x="4625640" y="4206240"/>
              <a:ext cx="1522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56" name="Line 60"/>
            <p:cNvSpPr/>
            <p:nvPr/>
          </p:nvSpPr>
          <p:spPr>
            <a:xfrm>
              <a:off x="4625640" y="4206240"/>
              <a:ext cx="45684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57" name="Line 62"/>
            <p:cNvSpPr/>
            <p:nvPr/>
          </p:nvSpPr>
          <p:spPr>
            <a:xfrm flipH="1">
              <a:off x="3634920" y="4206960"/>
              <a:ext cx="3042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58" name="Line 63"/>
            <p:cNvSpPr/>
            <p:nvPr/>
          </p:nvSpPr>
          <p:spPr>
            <a:xfrm>
              <a:off x="3939840" y="4206240"/>
              <a:ext cx="8380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59" name="Line 64"/>
            <p:cNvSpPr/>
            <p:nvPr/>
          </p:nvSpPr>
          <p:spPr>
            <a:xfrm>
              <a:off x="3939840" y="4206240"/>
              <a:ext cx="114264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60" name="Line 69"/>
            <p:cNvSpPr/>
            <p:nvPr/>
          </p:nvSpPr>
          <p:spPr>
            <a:xfrm>
              <a:off x="3595320" y="5187600"/>
              <a:ext cx="649080" cy="77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61" name="Line 70"/>
            <p:cNvSpPr/>
            <p:nvPr/>
          </p:nvSpPr>
          <p:spPr>
            <a:xfrm>
              <a:off x="3597120" y="5187600"/>
              <a:ext cx="952200" cy="77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62" name="Line 71"/>
            <p:cNvSpPr/>
            <p:nvPr/>
          </p:nvSpPr>
          <p:spPr>
            <a:xfrm flipH="1">
              <a:off x="4549320" y="5188320"/>
              <a:ext cx="558360" cy="77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63" name="Line 72"/>
            <p:cNvSpPr/>
            <p:nvPr/>
          </p:nvSpPr>
          <p:spPr>
            <a:xfrm flipH="1">
              <a:off x="4244760" y="5188320"/>
              <a:ext cx="864720" cy="77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64" name="Line 73"/>
            <p:cNvSpPr/>
            <p:nvPr/>
          </p:nvSpPr>
          <p:spPr>
            <a:xfrm flipH="1">
              <a:off x="4549680" y="5188320"/>
              <a:ext cx="269280" cy="77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65" name="Line 74"/>
            <p:cNvSpPr/>
            <p:nvPr/>
          </p:nvSpPr>
          <p:spPr>
            <a:xfrm flipH="1">
              <a:off x="4244760" y="5188320"/>
              <a:ext cx="576000" cy="77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66" name="Line 95"/>
            <p:cNvSpPr/>
            <p:nvPr/>
          </p:nvSpPr>
          <p:spPr>
            <a:xfrm>
              <a:off x="4549680" y="51976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67" name="Line 96"/>
            <p:cNvSpPr/>
            <p:nvPr/>
          </p:nvSpPr>
          <p:spPr>
            <a:xfrm flipH="1">
              <a:off x="4244760" y="5197680"/>
              <a:ext cx="3045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68" name="Line 97"/>
            <p:cNvSpPr/>
            <p:nvPr/>
          </p:nvSpPr>
          <p:spPr>
            <a:xfrm>
              <a:off x="4321080" y="4206240"/>
              <a:ext cx="45684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69" name="Line 98"/>
            <p:cNvSpPr/>
            <p:nvPr/>
          </p:nvSpPr>
          <p:spPr>
            <a:xfrm>
              <a:off x="4321080" y="4206240"/>
              <a:ext cx="7614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70" name="Line 99"/>
            <p:cNvSpPr/>
            <p:nvPr/>
          </p:nvSpPr>
          <p:spPr>
            <a:xfrm flipH="1">
              <a:off x="3635280" y="4206960"/>
              <a:ext cx="68544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71" name="Text Box 103"/>
            <p:cNvSpPr/>
            <p:nvPr/>
          </p:nvSpPr>
          <p:spPr>
            <a:xfrm>
              <a:off x="4119840" y="603576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Unicode"/>
                </a:rPr>
                <a:t>e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6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72" name="Text Box 105"/>
            <p:cNvSpPr/>
            <p:nvPr/>
          </p:nvSpPr>
          <p:spPr>
            <a:xfrm rot="5400000">
              <a:off x="3953880" y="3044520"/>
              <a:ext cx="86364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Sans Unicode"/>
                </a:rPr>
                <a:t>amp(t1)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Sans Unicode"/>
                </a:rPr>
                <a:t>amp(t2)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 Unicode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 Unicode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Sans Unicode"/>
                </a:rPr>
                <a:t>amp(tN)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273" name="Text Box 107"/>
          <p:cNvSpPr/>
          <p:nvPr/>
        </p:nvSpPr>
        <p:spPr>
          <a:xfrm>
            <a:off x="3849480" y="2438280"/>
            <a:ext cx="152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M. Konno (P.D.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D. Sakata (M2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M. Sano (M2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Text Box 108"/>
          <p:cNvSpPr/>
          <p:nvPr/>
        </p:nvSpPr>
        <p:spPr>
          <a:xfrm>
            <a:off x="3967200" y="76320"/>
            <a:ext cx="474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Final Test Beam experiment for TR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just before installation in ALIC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Line 109"/>
          <p:cNvSpPr/>
          <p:nvPr/>
        </p:nvSpPr>
        <p:spPr>
          <a:xfrm flipH="1">
            <a:off x="7695720" y="2590920"/>
            <a:ext cx="592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Text Box 110"/>
          <p:cNvSpPr/>
          <p:nvPr/>
        </p:nvSpPr>
        <p:spPr>
          <a:xfrm>
            <a:off x="6774120" y="640080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time bin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Text Box 111"/>
          <p:cNvSpPr/>
          <p:nvPr/>
        </p:nvSpPr>
        <p:spPr>
          <a:xfrm rot="16200000">
            <a:off x="4734720" y="3409560"/>
            <a:ext cx="12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amplitude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Text Box 112"/>
          <p:cNvSpPr/>
          <p:nvPr/>
        </p:nvSpPr>
        <p:spPr>
          <a:xfrm>
            <a:off x="6755760" y="5187960"/>
            <a:ext cx="31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Lucida Sans Unicode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Text Box 113"/>
          <p:cNvSpPr/>
          <p:nvPr/>
        </p:nvSpPr>
        <p:spPr>
          <a:xfrm rot="4581600">
            <a:off x="3075840" y="4647960"/>
            <a:ext cx="26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Sans Unicode"/>
              </a:rPr>
              <a:t>Neural Network Method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3352680" y="2048040"/>
            <a:ext cx="5791320" cy="45511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"/>
          <p:cNvPicPr/>
          <p:nvPr/>
        </p:nvPicPr>
        <p:blipFill>
          <a:blip r:embed="rId2"/>
          <a:stretch/>
        </p:blipFill>
        <p:spPr>
          <a:xfrm>
            <a:off x="303120" y="152280"/>
            <a:ext cx="2592360" cy="17557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CA390033_2"/>
          <p:cNvPicPr/>
          <p:nvPr/>
        </p:nvPicPr>
        <p:blipFill>
          <a:blip r:embed="rId3"/>
          <a:stretch/>
        </p:blipFill>
        <p:spPr>
          <a:xfrm>
            <a:off x="152280" y="1990800"/>
            <a:ext cx="3810240" cy="2062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CA390034"/>
          <p:cNvPicPr/>
          <p:nvPr/>
        </p:nvPicPr>
        <p:blipFill>
          <a:blip r:embed="rId4"/>
          <a:stretch/>
        </p:blipFill>
        <p:spPr>
          <a:xfrm>
            <a:off x="158760" y="4202280"/>
            <a:ext cx="3117960" cy="246672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6"/>
          <p:cNvSpPr/>
          <p:nvPr/>
        </p:nvSpPr>
        <p:spPr>
          <a:xfrm>
            <a:off x="228600" y="4267080"/>
            <a:ext cx="23623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Chamber with read-out electronic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228600" y="2057400"/>
            <a:ext cx="10666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Super Module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86" name="Picture 9" descr=""/>
          <p:cNvPicPr/>
          <p:nvPr/>
        </p:nvPicPr>
        <p:blipFill>
          <a:blip r:embed="rId5"/>
          <a:stretch/>
        </p:blipFill>
        <p:spPr>
          <a:xfrm>
            <a:off x="4495680" y="152280"/>
            <a:ext cx="2362320" cy="18208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10"/>
          <p:cNvSpPr/>
          <p:nvPr/>
        </p:nvSpPr>
        <p:spPr>
          <a:xfrm>
            <a:off x="4150080" y="2895480"/>
            <a:ext cx="1787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M. Konno (P.D.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R. Tanabe (D2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K. Watanabe (D1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H. Yokoyama (M1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88" name="Picture 8" descr=""/>
          <p:cNvPicPr/>
          <p:nvPr/>
        </p:nvPicPr>
        <p:blipFill>
          <a:blip r:embed="rId6"/>
          <a:stretch/>
        </p:blipFill>
        <p:spPr>
          <a:xfrm>
            <a:off x="3276720" y="914400"/>
            <a:ext cx="2361960" cy="183348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1"/>
          <p:cNvSpPr/>
          <p:nvPr/>
        </p:nvSpPr>
        <p:spPr>
          <a:xfrm>
            <a:off x="6791760" y="304920"/>
            <a:ext cx="23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Development of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Detector Control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System for TR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7174080" y="1523880"/>
            <a:ext cx="193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H.V. control, Front-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end Electronics (FEE)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control and error log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3657600" cy="360828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3"/>
          <p:cNvSpPr/>
          <p:nvPr/>
        </p:nvSpPr>
        <p:spPr>
          <a:xfrm>
            <a:off x="7560" y="152280"/>
            <a:ext cx="5714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Hadron Calorimeter Project (JCAL) for ALIC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rom </a:t>
            </a:r>
            <a:r>
              <a:rPr b="0" lang="en-US" sz="1800" spc="-1" strike="noStrike">
                <a:solidFill>
                  <a:srgbClr val="0000ff"/>
                </a:solidFill>
                <a:latin typeface="Lucida Sans Unicode"/>
              </a:rPr>
              <a:t>Particle Identification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to </a:t>
            </a:r>
            <a:r>
              <a:rPr b="0" lang="en-US" sz="1800" spc="-1" strike="noStrike">
                <a:solidFill>
                  <a:srgbClr val="ff0000"/>
                </a:solidFill>
                <a:latin typeface="Lucida Sans Unicode"/>
              </a:rPr>
              <a:t>Parton Identification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603360" y="1009800"/>
            <a:ext cx="3022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Total Energy measurement of Jet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Jet Trigger capability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Gluon/Quark Jet separation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This Project is approved to do the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detector R&amp;D and and to make a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mall proto-type for ALICE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4" name="Picture 6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1371600" cy="655560"/>
          </a:xfrm>
          <a:prstGeom prst="rect">
            <a:avLst/>
          </a:prstGeom>
          <a:ln w="0">
            <a:noFill/>
          </a:ln>
        </p:spPr>
      </p:pic>
      <p:grpSp>
        <p:nvGrpSpPr>
          <p:cNvPr id="295" name="Group 27"/>
          <p:cNvGrpSpPr/>
          <p:nvPr/>
        </p:nvGrpSpPr>
        <p:grpSpPr>
          <a:xfrm>
            <a:off x="3733920" y="1066680"/>
            <a:ext cx="2895480" cy="1831320"/>
            <a:chOff x="3733920" y="1066680"/>
            <a:chExt cx="2895480" cy="1831320"/>
          </a:xfrm>
        </p:grpSpPr>
        <p:pic>
          <p:nvPicPr>
            <p:cNvPr id="296" name="Picture 7" descr="corr2_sky2ss"/>
            <p:cNvPicPr/>
            <p:nvPr/>
          </p:nvPicPr>
          <p:blipFill>
            <a:blip r:embed="rId3"/>
            <a:stretch/>
          </p:blipFill>
          <p:spPr>
            <a:xfrm>
              <a:off x="3733920" y="1219320"/>
              <a:ext cx="28954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Line 8"/>
            <p:cNvSpPr/>
            <p:nvPr/>
          </p:nvSpPr>
          <p:spPr>
            <a:xfrm flipV="1">
              <a:off x="5867640" y="2590560"/>
              <a:ext cx="533160" cy="7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98" name="Line 9"/>
            <p:cNvSpPr/>
            <p:nvPr/>
          </p:nvSpPr>
          <p:spPr>
            <a:xfrm flipH="1" flipV="1">
              <a:off x="3885840" y="2438280"/>
              <a:ext cx="38124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99" name="Rectangle 10"/>
            <p:cNvSpPr/>
            <p:nvPr/>
          </p:nvSpPr>
          <p:spPr>
            <a:xfrm>
              <a:off x="5553720" y="2590920"/>
              <a:ext cx="38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Sans Unicode"/>
                </a:rPr>
                <a:t>d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00" name="Rectangle 11"/>
            <p:cNvSpPr/>
            <p:nvPr/>
          </p:nvSpPr>
          <p:spPr>
            <a:xfrm>
              <a:off x="4258440" y="2514600"/>
              <a:ext cx="39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Sans Unicode"/>
                </a:rPr>
                <a:t>d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01" name="Text Box 12"/>
            <p:cNvSpPr/>
            <p:nvPr/>
          </p:nvSpPr>
          <p:spPr>
            <a:xfrm>
              <a:off x="3899520" y="1066680"/>
              <a:ext cx="2670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Unicode"/>
                </a:rPr>
                <a:t>Particle distribution in Jets</a:t>
              </a:r>
              <a:endParaRPr b="0" lang="en-US" sz="16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Unicode"/>
                </a:rPr>
                <a:t>with PYTHIA</a:t>
              </a:r>
              <a:endParaRPr b="0" lang="en-US" sz="16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302" name="Group 28"/>
          <p:cNvGrpSpPr/>
          <p:nvPr/>
        </p:nvGrpSpPr>
        <p:grpSpPr>
          <a:xfrm>
            <a:off x="5515920" y="457200"/>
            <a:ext cx="3323160" cy="2361960"/>
            <a:chOff x="5515920" y="457200"/>
            <a:chExt cx="3323160" cy="2361960"/>
          </a:xfrm>
        </p:grpSpPr>
        <p:pic>
          <p:nvPicPr>
            <p:cNvPr id="303" name="図 18" descr=""/>
            <p:cNvPicPr/>
            <p:nvPr/>
          </p:nvPicPr>
          <p:blipFill>
            <a:blip r:embed="rId4"/>
            <a:stretch/>
          </p:blipFill>
          <p:spPr>
            <a:xfrm>
              <a:off x="7462800" y="533160"/>
              <a:ext cx="137628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Text Box 13"/>
            <p:cNvSpPr/>
            <p:nvPr/>
          </p:nvSpPr>
          <p:spPr>
            <a:xfrm>
              <a:off x="5515920" y="457200"/>
              <a:ext cx="2075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Unicode"/>
                </a:rPr>
                <a:t>Detector Simulation</a:t>
              </a:r>
              <a:endParaRPr b="0" lang="en-US" sz="16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Unicode"/>
                </a:rPr>
                <a:t>with GEANT</a:t>
              </a:r>
              <a:endParaRPr b="0" lang="en-US" sz="16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305" name="Group 32"/>
          <p:cNvGrpSpPr/>
          <p:nvPr/>
        </p:nvGrpSpPr>
        <p:grpSpPr>
          <a:xfrm>
            <a:off x="4064040" y="4451400"/>
            <a:ext cx="4759200" cy="2102400"/>
            <a:chOff x="4064040" y="4451400"/>
            <a:chExt cx="4759200" cy="2102400"/>
          </a:xfrm>
        </p:grpSpPr>
        <p:pic>
          <p:nvPicPr>
            <p:cNvPr id="306" name="Picture 29" descr="event2s2"/>
            <p:cNvPicPr/>
            <p:nvPr/>
          </p:nvPicPr>
          <p:blipFill>
            <a:blip r:embed="rId5"/>
            <a:stretch/>
          </p:blipFill>
          <p:spPr>
            <a:xfrm>
              <a:off x="5693040" y="4502160"/>
              <a:ext cx="2971800" cy="19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Arc 16"/>
            <p:cNvSpPr/>
            <p:nvPr/>
          </p:nvSpPr>
          <p:spPr>
            <a:xfrm flipH="1">
              <a:off x="7490160" y="4511520"/>
              <a:ext cx="1309680" cy="849600"/>
            </a:xfrm>
            <a:prstGeom prst="pie">
              <a:avLst/>
            </a:prstGeom>
            <a:noFill/>
            <a:ln w="25560">
              <a:solidFill>
                <a:srgbClr val="0000ff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08" name="Rectangle 17"/>
            <p:cNvSpPr/>
            <p:nvPr/>
          </p:nvSpPr>
          <p:spPr>
            <a:xfrm>
              <a:off x="8523720" y="445140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09" name="Line 18"/>
            <p:cNvSpPr/>
            <p:nvPr/>
          </p:nvSpPr>
          <p:spPr>
            <a:xfrm>
              <a:off x="7209000" y="5451480"/>
              <a:ext cx="1122480" cy="450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0" name="Line 19"/>
            <p:cNvSpPr/>
            <p:nvPr/>
          </p:nvSpPr>
          <p:spPr>
            <a:xfrm>
              <a:off x="7209000" y="5451480"/>
              <a:ext cx="0" cy="541440"/>
            </a:xfrm>
            <a:prstGeom prst="line">
              <a:avLst/>
            </a:prstGeom>
            <a:ln w="255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1" name="Rectangle 20"/>
            <p:cNvSpPr/>
            <p:nvPr/>
          </p:nvSpPr>
          <p:spPr>
            <a:xfrm>
              <a:off x="8333640" y="57513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</a:t>
              </a: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2" name="Rectangle 21"/>
            <p:cNvSpPr/>
            <p:nvPr/>
          </p:nvSpPr>
          <p:spPr>
            <a:xfrm>
              <a:off x="7485120" y="60818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Lucida Sans Unicode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3" name="Rectangle 22"/>
            <p:cNvSpPr/>
            <p:nvPr/>
          </p:nvSpPr>
          <p:spPr>
            <a:xfrm>
              <a:off x="6799680" y="5902200"/>
              <a:ext cx="44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Lucida Sans Unicode"/>
                </a:rPr>
                <a:t>-10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4" name="Rectangle 23"/>
            <p:cNvSpPr/>
            <p:nvPr/>
          </p:nvSpPr>
          <p:spPr>
            <a:xfrm>
              <a:off x="7945200" y="61722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Lucida Sans Unicode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5" name="Line 24"/>
            <p:cNvSpPr/>
            <p:nvPr/>
          </p:nvSpPr>
          <p:spPr>
            <a:xfrm>
              <a:off x="8331480" y="5902200"/>
              <a:ext cx="0" cy="541440"/>
            </a:xfrm>
            <a:prstGeom prst="line">
              <a:avLst/>
            </a:prstGeom>
            <a:ln w="255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6" name="Line 25"/>
            <p:cNvSpPr/>
            <p:nvPr/>
          </p:nvSpPr>
          <p:spPr>
            <a:xfrm>
              <a:off x="7769520" y="5676840"/>
              <a:ext cx="0" cy="541440"/>
            </a:xfrm>
            <a:prstGeom prst="line">
              <a:avLst/>
            </a:prstGeom>
            <a:ln w="255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7" name="Rectangle 31"/>
            <p:cNvSpPr/>
            <p:nvPr/>
          </p:nvSpPr>
          <p:spPr>
            <a:xfrm>
              <a:off x="4064040" y="6033960"/>
              <a:ext cx="282780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Lucida Sans Unicode"/>
                </a:rPr>
                <a:t>superimposed PYTHIA events</a:t>
              </a: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Unicode"/>
                </a:rPr>
                <a:t>5.5 TeV Pb+Pb central Event</a:t>
              </a:r>
              <a:endParaRPr b="0" lang="en-US" sz="16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318" name="Group 36"/>
          <p:cNvGrpSpPr/>
          <p:nvPr/>
        </p:nvGrpSpPr>
        <p:grpSpPr>
          <a:xfrm>
            <a:off x="3927960" y="2933640"/>
            <a:ext cx="4835160" cy="1578600"/>
            <a:chOff x="3927960" y="2933640"/>
            <a:chExt cx="4835160" cy="1578600"/>
          </a:xfrm>
        </p:grpSpPr>
        <p:pic>
          <p:nvPicPr>
            <p:cNvPr id="319" name="Picture 33" descr="mapmt1"/>
            <p:cNvPicPr/>
            <p:nvPr/>
          </p:nvPicPr>
          <p:blipFill>
            <a:blip r:embed="rId6"/>
            <a:stretch/>
          </p:blipFill>
          <p:spPr>
            <a:xfrm>
              <a:off x="5486760" y="2933640"/>
              <a:ext cx="19810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Text Box 34"/>
            <p:cNvSpPr/>
            <p:nvPr/>
          </p:nvSpPr>
          <p:spPr>
            <a:xfrm>
              <a:off x="3927960" y="3505320"/>
              <a:ext cx="177948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Unicode"/>
                </a:rPr>
                <a:t>Photon detector </a:t>
              </a:r>
              <a:endParaRPr b="0" lang="en-US" sz="16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Unicode"/>
                </a:rPr>
                <a:t>test with LED: </a:t>
              </a:r>
              <a:endParaRPr b="0" lang="en-US" sz="16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Sans Unicode"/>
                </a:rPr>
                <a:t>MAPMT,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Sans Unicode"/>
                </a:rPr>
                <a:t>APD, MPPC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pic>
          <p:nvPicPr>
            <p:cNvPr id="321" name="Picture 35" descr="mapmt_signal2"/>
            <p:cNvPicPr/>
            <p:nvPr/>
          </p:nvPicPr>
          <p:blipFill>
            <a:blip r:embed="rId7"/>
            <a:stretch/>
          </p:blipFill>
          <p:spPr>
            <a:xfrm>
              <a:off x="6782040" y="2933640"/>
              <a:ext cx="1981080" cy="148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Rectangle 37"/>
          <p:cNvSpPr/>
          <p:nvPr/>
        </p:nvSpPr>
        <p:spPr>
          <a:xfrm>
            <a:off x="762120" y="990720"/>
            <a:ext cx="2590560" cy="76176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Rectangle 38"/>
          <p:cNvSpPr/>
          <p:nvPr/>
        </p:nvSpPr>
        <p:spPr>
          <a:xfrm>
            <a:off x="2475000" y="571500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PRL 94 (2005) 171802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2"/>
          <p:cNvSpPr/>
          <p:nvPr/>
        </p:nvSpPr>
        <p:spPr>
          <a:xfrm>
            <a:off x="1134360" y="679320"/>
            <a:ext cx="69289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Jet-Tomography : hadron-hadron, direct gamma-hadron,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electron-hadron, identified hadron correlation,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wo-particle, three-particle correlation,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mach-cone, ridge analysis,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jet-reconstruction, jet-identifica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ingle (identified) spectra (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AA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event anisotropy (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,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) analysis  :  reaction plan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QGP in p+p collisions : &lt;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&gt;,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, HBT, Jet-shape,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luctuation, correlation, etc…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vs Multiplicity, Geometr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79600" y="685800"/>
            <a:ext cx="213336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560520" y="3200400"/>
            <a:ext cx="4190760" cy="838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579600" y="4648320"/>
            <a:ext cx="2819160" cy="53316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1828800" y="685800"/>
            <a:ext cx="67816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taff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Lucida Sans Unicode"/>
              </a:rPr>
              <a:t>三明康郎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Yasuo Miake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Lucida Sans Unicode"/>
              </a:rPr>
              <a:t>江角晋一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hinIchi Esumi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Lucida Sans Unicode"/>
              </a:rPr>
              <a:t>中條達也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Tatsuya Chujo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Lucida Sans Unicode"/>
              </a:rPr>
              <a:t>稲葉基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Motoi Inaba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Lucida Sans Unicode"/>
              </a:rPr>
              <a:t>金野正裕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Masahiro Konno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Lucida Sans Unicode"/>
              </a:rPr>
              <a:t>（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technical</a:t>
            </a:r>
            <a:r>
              <a:rPr b="0" lang="ja-JP" sz="1600" spc="-1" strike="noStrike">
                <a:solidFill>
                  <a:srgbClr val="000000"/>
                </a:solidFill>
                <a:latin typeface="Lucida Sans Unicode"/>
              </a:rPr>
              <a:t>）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Lucida Sans Unicode"/>
              </a:rPr>
              <a:t>加藤純雄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umio Katou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Lucida Sans Unicode"/>
              </a:rPr>
              <a:t>（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ecretary</a:t>
            </a:r>
            <a:r>
              <a:rPr b="0" lang="ja-JP" sz="1600" spc="-1" strike="noStrike">
                <a:solidFill>
                  <a:srgbClr val="000000"/>
                </a:solidFill>
                <a:latin typeface="Lucida Sans Unicode"/>
              </a:rPr>
              <a:t>）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Lucida Sans Unicode"/>
              </a:rPr>
              <a:t>酒井初芽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Hatsume Sakai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Doctor course students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Lucida Sans Unicode"/>
              </a:rPr>
              <a:t>下村真弥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Maya Shimomur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Lucida Sans Unicode"/>
              </a:rPr>
              <a:t>三木健太朗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Kentaro Miki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Lucida Sans Unicode"/>
              </a:rPr>
              <a:t>池田義雅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Yoshimasa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Ikeda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Lucida Sans Unicode"/>
              </a:rPr>
              <a:t>田辺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Lucida Sans Unicode"/>
              </a:rPr>
              <a:t>嶺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Rei Tanab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Lucida Sans Unicode"/>
              </a:rPr>
              <a:t>渡邊健悟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Kengo Watanab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Master course students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Lucida Sans Unicode"/>
              </a:rPr>
              <a:t>坂田洞察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Dousatu Sakat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Lucida Sans Unicode"/>
              </a:rPr>
              <a:t>佐野正人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Masato San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Lucida Sans Unicode"/>
              </a:rPr>
              <a:t>横山広樹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Hiroki Yokoyam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Lucida Sans Unicode"/>
              </a:rPr>
              <a:t>梶谷緑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Midori Kajigay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Lucida Sans Unicode"/>
              </a:rPr>
              <a:t>浜田英太郎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Eitaro Hamad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Lucida Sans Unicode"/>
              </a:rPr>
              <a:t>塩原尚希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Naoki Shiohar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Lucida Sans Unicode"/>
              </a:rPr>
              <a:t>木村瑞希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Mizuki Kimur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Lucida Sans Unicode"/>
              </a:rPr>
              <a:t>轟木貴人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Takahito Todoroki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Undergraduate students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Lucida Sans Unicode"/>
              </a:rPr>
              <a:t>常鵬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Chang Pe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Lucida Sans Unicode"/>
              </a:rPr>
              <a:t>関根祐輝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Yuki Sekin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Lucida Sans Unicode"/>
              </a:rPr>
              <a:t>竹内理将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Toshimasa Takeuchi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304920" y="201600"/>
            <a:ext cx="716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niv. of Tsukuba (High-Energy Heavy-Ion Experimental) Group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日付プレースホルダ 3"/>
          <p:cNvSpPr/>
          <p:nvPr/>
        </p:nvSpPr>
        <p:spPr>
          <a:xfrm>
            <a:off x="250920" y="6381720"/>
            <a:ext cx="13064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8/10/13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フッター プレースホルダ 4"/>
          <p:cNvSpPr/>
          <p:nvPr/>
        </p:nvSpPr>
        <p:spPr>
          <a:xfrm>
            <a:off x="1971720" y="6381720"/>
            <a:ext cx="56246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HIC2008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スライド番号プレースホルダ 5"/>
          <p:cNvSpPr/>
          <p:nvPr/>
        </p:nvSpPr>
        <p:spPr>
          <a:xfrm>
            <a:off x="8091360" y="6381720"/>
            <a:ext cx="801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4EF3-81AC-41FD-8A81-C70983254D3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ctivity of CNS in ALIC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ICE-TRD collaboration since 2002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Natural choice, based on the CNS group activities at RHIC-PHENI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totype TRD beam test @ CERN (2002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optimize the radiator, study the basic characteristics (dE/dx, TR, gain, space charge, resolution…) and improve analysis technique (Likelihood, neural network) for eI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rst realsize TRD beam test @ CERN (2004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erformance test (chamber, readout electronics, material budget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al TRD beam-test (2007) and data analysi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diploma thesis from CNS (2004, 2006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y NIM pap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日付プレースホルダ 3"/>
          <p:cNvSpPr/>
          <p:nvPr/>
        </p:nvSpPr>
        <p:spPr>
          <a:xfrm>
            <a:off x="250920" y="6381720"/>
            <a:ext cx="13064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8/10/13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フッター プレースホルダ 4"/>
          <p:cNvSpPr/>
          <p:nvPr/>
        </p:nvSpPr>
        <p:spPr>
          <a:xfrm>
            <a:off x="1971720" y="6381720"/>
            <a:ext cx="56246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HIC2008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スライド番号プレースホルダ 5"/>
          <p:cNvSpPr/>
          <p:nvPr/>
        </p:nvSpPr>
        <p:spPr>
          <a:xfrm>
            <a:off x="8091360" y="6381720"/>
            <a:ext cx="801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0DAD-FF14-400E-ABCD-0843507D8D6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5508720" y="1628640"/>
            <a:ext cx="3600360" cy="2556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urrent Activity in ALICE-TR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lopment of Detector Control System (DC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V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r interfac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S/CE/libTR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ndle MCM/SCSN/OR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tribute configuration par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d results, status and publish to upper laye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ications (hardware access function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stbench at CNS (DCS/ROBs/Other infra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issioning (installation/tests) @ C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日付プレースホルダ 3"/>
          <p:cNvSpPr/>
          <p:nvPr/>
        </p:nvSpPr>
        <p:spPr>
          <a:xfrm>
            <a:off x="250920" y="6381720"/>
            <a:ext cx="13064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8/10/13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フッター プレースホルダ 4"/>
          <p:cNvSpPr/>
          <p:nvPr/>
        </p:nvSpPr>
        <p:spPr>
          <a:xfrm>
            <a:off x="1971720" y="6381720"/>
            <a:ext cx="56246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HIC2008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スライド番号プレースホルダ 5"/>
          <p:cNvSpPr/>
          <p:nvPr/>
        </p:nvSpPr>
        <p:spPr>
          <a:xfrm>
            <a:off x="8091360" y="6381720"/>
            <a:ext cx="801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33B8-E12C-41EB-8149-88C109DC3AC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25280"/>
            <a:ext cx="86868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hysics Strategies in ALIC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5075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rent major physics topics of the CNS grou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Quarkonia in p+p/p+A/Pb+Pb via di-electron decay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Open heavy flavor measurement via electrons and/or  hadr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Multiplicity measurement in p+p and Pb+Pb with TP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ssible (near-future) top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Extensive study of gluon PDF at small x --- CG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w: forward EMCal for direc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J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(Exotic) hadrons with multiple heavy quar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pgrade: CsI-GEM in HMPI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日付プレースホルダ 3"/>
          <p:cNvSpPr/>
          <p:nvPr/>
        </p:nvSpPr>
        <p:spPr>
          <a:xfrm>
            <a:off x="250920" y="6381720"/>
            <a:ext cx="13064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8/10/13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フッター プレースホルダ 4"/>
          <p:cNvSpPr/>
          <p:nvPr/>
        </p:nvSpPr>
        <p:spPr>
          <a:xfrm>
            <a:off x="1971720" y="6381720"/>
            <a:ext cx="56246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HIC2008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スライド番号プレースホルダ 5"/>
          <p:cNvSpPr/>
          <p:nvPr/>
        </p:nvSpPr>
        <p:spPr>
          <a:xfrm>
            <a:off x="8091360" y="6381720"/>
            <a:ext cx="801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045C-9FFA-4C4D-A0CF-11176644DD2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5005440" y="907920"/>
            <a:ext cx="3959280" cy="2968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lor Glass Condensat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4546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gh gluon density -&gt; non-linear gluon-gluon fu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zable A depende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d of independent particle description of part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luon PDF at x &lt;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very uncertain -&gt; LHC could be an ideal machine to investigate CG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2"/>
          <a:stretch/>
        </p:blipFill>
        <p:spPr>
          <a:xfrm>
            <a:off x="971640" y="2041560"/>
            <a:ext cx="4308480" cy="1316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3"/>
          <a:srcRect l="0" t="0" r="0" b="5317"/>
          <a:stretch/>
        </p:blipFill>
        <p:spPr>
          <a:xfrm>
            <a:off x="5580000" y="3886200"/>
            <a:ext cx="324000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日付プレースホルダ 3"/>
          <p:cNvSpPr/>
          <p:nvPr/>
        </p:nvSpPr>
        <p:spPr>
          <a:xfrm>
            <a:off x="250920" y="6381720"/>
            <a:ext cx="13064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8/10/13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フッター プレースホルダ 4"/>
          <p:cNvSpPr/>
          <p:nvPr/>
        </p:nvSpPr>
        <p:spPr>
          <a:xfrm>
            <a:off x="1971720" y="6381720"/>
            <a:ext cx="56246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HIC2008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スライド番号プレースホルダ 5"/>
          <p:cNvSpPr/>
          <p:nvPr/>
        </p:nvSpPr>
        <p:spPr>
          <a:xfrm>
            <a:off x="8091360" y="6381720"/>
            <a:ext cx="801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E4A6-9E05-4EC9-ACA7-435FB6CABC1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Hint from RHIC dat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518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turation hint at RH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hadrons from d + Au by BRAHMS: R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dAu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~ 0.8 for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= 3.2, 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T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~ 3 GeV/c (= x ~ 10</a:t>
            </a:r>
            <a:r>
              <a:rPr b="0" lang="en-US" sz="2000" spc="-1" strike="noStrike" baseline="30000">
                <a:solidFill>
                  <a:srgbClr val="333399"/>
                </a:solidFill>
                <a:latin typeface="Comic Sans MS"/>
              </a:rPr>
              <a:t>-3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zable PDF modification could be possible even at central rapidity in LH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 = 0, 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T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~ 3 GeV/c (= x ~ 10</a:t>
            </a:r>
            <a:r>
              <a:rPr b="0" lang="en-US" sz="2000" spc="-1" strike="noStrike" baseline="30000">
                <a:solidFill>
                  <a:srgbClr val="333399"/>
                </a:solidFill>
                <a:latin typeface="Comic Sans MS"/>
              </a:rPr>
              <a:t>-3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dAu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~ 0.8  -&gt; R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PbPb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~ (0.8)</a:t>
            </a:r>
            <a:r>
              <a:rPr b="0" lang="en-US" sz="2000" spc="-1" strike="noStrike" baseline="30000">
                <a:solidFill>
                  <a:srgbClr val="333399"/>
                </a:solidFill>
                <a:latin typeface="Comic Sans MS"/>
              </a:rPr>
              <a:t>2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~ 0.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+A data is crucial, probably more than at RHIC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uncertain gluon PDF at low 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nterpretation of R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AA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needs R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p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5504040" y="981000"/>
            <a:ext cx="3527280" cy="26654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5003640" y="3860640"/>
            <a:ext cx="3889440" cy="24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6" name="Picture 8" descr="fig2"/>
          <p:cNvPicPr/>
          <p:nvPr/>
        </p:nvPicPr>
        <p:blipFill>
          <a:blip r:embed="rId2"/>
          <a:stretch/>
        </p:blipFill>
        <p:spPr>
          <a:xfrm>
            <a:off x="5435640" y="3860640"/>
            <a:ext cx="367344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日付プレースホルダ 3"/>
          <p:cNvSpPr/>
          <p:nvPr/>
        </p:nvSpPr>
        <p:spPr>
          <a:xfrm>
            <a:off x="250920" y="6381720"/>
            <a:ext cx="13064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8/10/13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フッター プレースホルダ 4"/>
          <p:cNvSpPr/>
          <p:nvPr/>
        </p:nvSpPr>
        <p:spPr>
          <a:xfrm>
            <a:off x="1971720" y="6381720"/>
            <a:ext cx="56246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HIC2008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スライド番号プレースホルダ 5"/>
          <p:cNvSpPr/>
          <p:nvPr/>
        </p:nvSpPr>
        <p:spPr>
          <a:xfrm>
            <a:off x="8091360" y="6381720"/>
            <a:ext cx="801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210F-B60C-48FA-B7F0-645B3079A0A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ard Collis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5256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ny jets in central Pb+Pb collisions at LH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22440" indent="-177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j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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~ 1.7 x N(coll) ~ 170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81000" indent="-172800">
              <a:spcBef>
                <a:spcPts val="499"/>
              </a:spcBef>
              <a:buClr>
                <a:srgbClr val="0099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n/</a:t>
            </a:r>
            <a:r>
              <a:rPr b="0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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~ 0.2 x N(coll) for RHI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981000" indent="-172800">
              <a:spcBef>
                <a:spcPts val="499"/>
              </a:spcBef>
              <a:buClr>
                <a:srgbClr val="0099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gluon shadowing is not taken into accou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2440" indent="-177840"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Most of them have low energ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81000" indent="-172800">
              <a:spcBef>
                <a:spcPts val="499"/>
              </a:spcBef>
              <a:buClr>
                <a:srgbClr val="0099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stopped in short-distance, and heat up the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2440" indent="-177840"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Energetic j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81000" indent="-172800">
              <a:spcBef>
                <a:spcPts val="499"/>
              </a:spcBef>
              <a:buClr>
                <a:srgbClr val="0099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fraction grows with energ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981000" indent="-172800">
              <a:spcBef>
                <a:spcPts val="499"/>
              </a:spcBef>
              <a:buClr>
                <a:srgbClr val="0099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jet quenching -- need some distance, before stopp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2" name="Group 5"/>
          <p:cNvGrpSpPr/>
          <p:nvPr/>
        </p:nvGrpSpPr>
        <p:grpSpPr>
          <a:xfrm>
            <a:off x="5505480" y="3933720"/>
            <a:ext cx="3603600" cy="2449440"/>
            <a:chOff x="5505480" y="3933720"/>
            <a:chExt cx="3603600" cy="2449440"/>
          </a:xfrm>
        </p:grpSpPr>
        <p:pic>
          <p:nvPicPr>
            <p:cNvPr id="93" name="Picture 16" descr="miklos"/>
            <p:cNvPicPr/>
            <p:nvPr/>
          </p:nvPicPr>
          <p:blipFill>
            <a:blip r:embed="rId1"/>
            <a:srcRect l="0" t="0" r="5652" b="0"/>
            <a:stretch/>
          </p:blipFill>
          <p:spPr>
            <a:xfrm>
              <a:off x="5505480" y="3933720"/>
              <a:ext cx="3603600" cy="24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Line 17"/>
            <p:cNvSpPr/>
            <p:nvPr/>
          </p:nvSpPr>
          <p:spPr>
            <a:xfrm flipV="1">
              <a:off x="6778800" y="5155560"/>
              <a:ext cx="0" cy="507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5" name="Text Box 18"/>
            <p:cNvSpPr/>
            <p:nvPr/>
          </p:nvSpPr>
          <p:spPr>
            <a:xfrm>
              <a:off x="6719760" y="5296320"/>
              <a:ext cx="8280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X 2000</a:t>
              </a:r>
              <a:endParaRPr b="0" lang="en-US" sz="16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96" name="Picture 9" descr=""/>
          <p:cNvPicPr/>
          <p:nvPr/>
        </p:nvPicPr>
        <p:blipFill>
          <a:blip r:embed="rId2"/>
          <a:stretch/>
        </p:blipFill>
        <p:spPr>
          <a:xfrm>
            <a:off x="5819760" y="692280"/>
            <a:ext cx="3289320" cy="32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日付プレースホルダ 3"/>
          <p:cNvSpPr/>
          <p:nvPr/>
        </p:nvSpPr>
        <p:spPr>
          <a:xfrm>
            <a:off x="250920" y="6381720"/>
            <a:ext cx="13064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8/10/13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フッター プレースホルダ 4"/>
          <p:cNvSpPr/>
          <p:nvPr/>
        </p:nvSpPr>
        <p:spPr>
          <a:xfrm>
            <a:off x="1971720" y="6381720"/>
            <a:ext cx="56246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HIC2008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スライド番号プレースホルダ 5"/>
          <p:cNvSpPr/>
          <p:nvPr/>
        </p:nvSpPr>
        <p:spPr>
          <a:xfrm>
            <a:off x="8091360" y="6381720"/>
            <a:ext cx="801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B401-CCC5-488B-AFC8-BE70CDDB9DA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ard Collisions (cont.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052640"/>
            <a:ext cx="8209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Complication of initial st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22440" indent="-177840">
              <a:spcBef>
                <a:spcPts val="499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With much larger number of energetic partons, time needed for thermalization may become longer at LHC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4960" indent="-264960"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Space-time evolution may also become complica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22440" indent="-177840">
              <a:spcBef>
                <a:spcPts val="499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A honeymoon between QGP and Hydro may be disturbed more often at LHC with intruding jet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2440" indent="-177840">
              <a:spcBef>
                <a:spcPts val="499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a part of lost energy may be used to heat up the fluid, while other part may simply escape the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2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4960" indent="-264960"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This should be a quantitative question hopefully to be answered before having collisions at LH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07:09:52Z</dcterms:created>
  <dc:creator>gunji</dc:creator>
  <dc:description/>
  <dc:language>en-US</dc:language>
  <cp:lastModifiedBy>中條 達也</cp:lastModifiedBy>
  <dcterms:modified xsi:type="dcterms:W3CDTF">2008-10-16T08:44:59Z</dcterms:modified>
  <cp:revision>165</cp:revision>
  <dc:subject/>
  <dc:title>スライド 1</dc:title>
</cp:coreProperties>
</file>