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6.png" ContentType="image/png"/>
  <Override PartName="/ppt/media/image9.jpeg" ContentType="image/jpeg"/>
  <Override PartName="/ppt/media/image49.jpeg" ContentType="image/jpeg"/>
  <Override PartName="/ppt/media/image21.png" ContentType="image/png"/>
  <Override PartName="/ppt/media/image14.png" ContentType="image/png"/>
  <Override PartName="/ppt/media/image72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1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24.png" ContentType="image/png"/>
  <Override PartName="/ppt/media/image61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63.png" ContentType="image/png"/>
  <Override PartName="/ppt/media/image18.jpeg" ContentType="image/jpeg"/>
  <Override PartName="/ppt/media/image73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30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25.png" ContentType="image/png"/>
  <Override PartName="/ppt/media/image62.png" ContentType="image/png"/>
  <Override PartName="/ppt/media/image26.png" ContentType="image/png"/>
  <Override PartName="/ppt/media/image17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74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70A2-32D3-4774-9E64-F429CF7C4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age 7, I will show the comparison of data to hydro calc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 calculations were done by Dr.Hi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lculation assumes the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QGP fluid+hadron gas with Glauber mod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atic error on dN/dy ~ 10 %, similar on v2 and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F4B-0D15-475D-B3FA-D7CD1152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8C2-E040-4DA2-8450-9E65A32D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082-E9AD-4A00-A374-FD7C481C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068-61A0-44CF-9E55-21E43068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84C7-5B8D-4265-ACEB-CE1C4AED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479E-FCBC-490F-9BB2-6F04421E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4100-2EB5-4609-8701-E5F83D6D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4A62-5DD5-4436-989B-95B581DB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FAAC-BE8F-490A-9EE6-42A91348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D997-368E-41C6-BADE-11D64016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B296-802C-4CF7-BD4B-FED28B98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06A-80AC-4BBB-81F5-D4D120AF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3C06-7354-49C4-A895-A47AEEE6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3BE8-3EDE-4198-9CDA-05E6745E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6B6A-6A49-4BBB-B0E1-E20A821F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52EE-503B-4655-843A-CA8DCD5C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44FE-583F-4B52-9E97-DD39A605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0BAC-01C7-46F8-B2EA-C80FA770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A4B9-5895-4E21-A4AD-B684A915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E0BC-0D0A-45C2-B966-FCF8D98B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377D-C12A-45A1-AF1C-5DCF7C62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4873-DD80-4C86-A420-6E08DEF6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D63-F477-42FC-8622-32D7D36B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EFA6-4BE3-44F7-8EE2-84155F07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8986-F2E9-43EE-9AB8-50CAB66B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6A03-5153-49B3-962A-9A48521E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23550-07E9-487B-A639-33F3C08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CF60-0293-403D-8918-4714E46B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5987-A166-4D75-89D2-AFDAA6C6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B4A4-7FEF-478B-8E0E-619D31BD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0064-5D20-4390-BD8F-F7EB2038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514-68B1-4F29-91AA-2011587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F18-DFF5-4A3D-8791-A36BEA9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71F-9D48-4131-B890-0F1E0C2D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297-9BF3-40CE-A276-112FBEC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92F-0C16-4C2A-AA31-A708C9F0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cc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2996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30524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5240" y="6244920"/>
            <a:ext cx="1865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1A44-AC5D-4332-8955-D3CC109AC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_0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4C43-6CE2-4679-97C8-A218A1A802D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C722-35CC-40D4-B46C-076897904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7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7.png"/><Relationship Id="rId5" Type="http://schemas.openxmlformats.org/officeDocument/2006/relationships/image" Target="../media/image33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1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2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3.png"/><Relationship Id="rId3" Type="http://schemas.openxmlformats.org/officeDocument/2006/relationships/image" Target="../media/image74.jpe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3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5800" y="836280"/>
            <a:ext cx="9126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RHIC-PHENIX</a:t>
            </a:r>
            <a:r>
              <a:rPr b="0" lang="zh-CN" sz="4000" spc="-1" strike="noStrike">
                <a:solidFill>
                  <a:srgbClr val="000066"/>
                </a:solidFill>
                <a:latin typeface="Tahoma"/>
              </a:rPr>
              <a:t>実験における荷電ハドロン楕円フローの系統的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49240" y="4076640"/>
            <a:ext cx="8352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ahoma"/>
              </a:rPr>
              <a:t>下村　真弥  </a:t>
            </a:r>
            <a:r>
              <a:rPr b="1" lang="en-US" sz="2800" spc="-1" strike="noStrike">
                <a:solidFill>
                  <a:srgbClr val="ff33cc"/>
                </a:solidFill>
                <a:latin typeface="Tahoma"/>
              </a:rPr>
              <a:t>for the PHENIX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ahoma"/>
              </a:rPr>
              <a:t>University of Tsuk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49600" y="609300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September 20,   JPS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44520" y="6018120"/>
            <a:ext cx="1728720" cy="63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689960" y="6093000"/>
            <a:ext cx="201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4375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E098-4893-47F1-BCE9-45C304B375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4375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456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BDA7-5E00-4F97-9A5B-31E6AD7DF1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712520" y="259920"/>
            <a:ext cx="48942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nergy 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52160" y="1384200"/>
            <a:ext cx="2879640" cy="749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62.4 and 200 Ge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21240" y="1201680"/>
            <a:ext cx="5168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pendence of centrality (N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mpare the results in Cu + Cu which is smaller collision size than  Au+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comparison of PID hadrons. pi/K/p </a:t>
            </a:r>
            <a:r>
              <a:rPr b="1" lang="en-US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ext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28880" y="5769000"/>
            <a:ext cx="59767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of 200GeV and 62GeV are consisten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995400" y="2867040"/>
            <a:ext cx="3525840" cy="2728800"/>
            <a:chOff x="995400" y="2867040"/>
            <a:chExt cx="3525840" cy="2728800"/>
          </a:xfrm>
        </p:grpSpPr>
        <p:pic>
          <p:nvPicPr>
            <p:cNvPr id="465" name="" descr=""/>
            <p:cNvPicPr/>
            <p:nvPr/>
          </p:nvPicPr>
          <p:blipFill>
            <a:blip r:embed="rId2"/>
            <a:stretch/>
          </p:blipFill>
          <p:spPr>
            <a:xfrm>
              <a:off x="995400" y="2867040"/>
              <a:ext cx="352584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1641600" y="3074760"/>
              <a:ext cx="259236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311800" y="2900520"/>
            <a:ext cx="3529080" cy="2695320"/>
            <a:chOff x="5311800" y="2900520"/>
            <a:chExt cx="3529080" cy="2695320"/>
          </a:xfrm>
        </p:grpSpPr>
        <p:pic>
          <p:nvPicPr>
            <p:cNvPr id="468" name="" descr=""/>
            <p:cNvPicPr/>
            <p:nvPr/>
          </p:nvPicPr>
          <p:blipFill>
            <a:blip r:embed="rId3"/>
            <a:stretch/>
          </p:blipFill>
          <p:spPr>
            <a:xfrm>
              <a:off x="5311800" y="2900520"/>
              <a:ext cx="352908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959440" y="3074760"/>
              <a:ext cx="259236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1639800" y="3076560"/>
            <a:ext cx="1297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20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   62.4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05240" y="26449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753240" y="2637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152880" y="3094200"/>
            <a:ext cx="1152360" cy="709200"/>
            <a:chOff x="3152880" y="3094200"/>
            <a:chExt cx="1152360" cy="709200"/>
          </a:xfrm>
        </p:grpSpPr>
        <p:sp>
          <p:nvSpPr>
            <p:cNvPr id="474" name=""/>
            <p:cNvSpPr/>
            <p:nvPr/>
          </p:nvSpPr>
          <p:spPr>
            <a:xfrm>
              <a:off x="3152880" y="3094200"/>
              <a:ext cx="1152360" cy="70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0-4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0-2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2-1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32440" y="3612240"/>
              <a:ext cx="119160" cy="1314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32440" y="3133800"/>
              <a:ext cx="119160" cy="126720"/>
            </a:xfrm>
            <a:prstGeom prst="triangle">
              <a:avLst>
                <a:gd name="adj" fmla="val 50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32440" y="3389400"/>
              <a:ext cx="119160" cy="126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7545240" y="3251160"/>
            <a:ext cx="1152360" cy="477720"/>
            <a:chOff x="7545240" y="3251160"/>
            <a:chExt cx="1152360" cy="477720"/>
          </a:xfrm>
        </p:grpSpPr>
        <p:sp>
          <p:nvSpPr>
            <p:cNvPr id="479" name=""/>
            <p:cNvSpPr/>
            <p:nvPr/>
          </p:nvSpPr>
          <p:spPr>
            <a:xfrm>
              <a:off x="7545240" y="3251160"/>
              <a:ext cx="1152360" cy="47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0-2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2-1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24440" y="3520800"/>
              <a:ext cx="119160" cy="1317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24440" y="3298680"/>
              <a:ext cx="119160" cy="12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961240" y="3095640"/>
            <a:ext cx="129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20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   62.4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1568520" y="2610000"/>
            <a:ext cx="863640" cy="314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5889600" y="261000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863800" y="376092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84880" y="36892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D29B-7066-469B-B5B1-36F1F07C9F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5313240" cy="28368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14680" y="115560"/>
            <a:ext cx="4751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nergy 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9800" y="5084280"/>
            <a:ext cx="6553080" cy="10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17GeV (SPS) decreases to about 50% of RHIC energ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collision energy has larger v2 up to RHIC ener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ve 62.4 GeV, 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satur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ndicate the matter reached thermal equilibrium state at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5313240" y="692280"/>
            <a:ext cx="4537080" cy="32414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6337440" y="1155600"/>
            <a:ext cx="108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: nega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e: pos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028080" y="1755720"/>
            <a:ext cx="3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16200000">
            <a:off x="8904240" y="144288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e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85080" y="404640"/>
            <a:ext cx="1368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an p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39800" y="1628640"/>
            <a:ext cx="21589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641600" y="774720"/>
            <a:ext cx="35985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ed hadrons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K/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pendence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056520" y="2205000"/>
            <a:ext cx="3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8520" y="4484520"/>
            <a:ext cx="5256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&lt;p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&gt; of 62.4 GeV and 200 GeV are consistent within errors on pi/K/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ｐ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herefore v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agree at any p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region in fig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824520" y="3832200"/>
            <a:ext cx="2818080" cy="2465280"/>
            <a:chOff x="6824520" y="3832200"/>
            <a:chExt cx="2818080" cy="2465280"/>
          </a:xfrm>
        </p:grpSpPr>
        <p:pic>
          <p:nvPicPr>
            <p:cNvPr id="500" name="" descr=""/>
            <p:cNvPicPr/>
            <p:nvPr/>
          </p:nvPicPr>
          <p:blipFill>
            <a:blip r:embed="rId4"/>
            <a:srcRect l="0" t="7467" r="3780" b="0"/>
            <a:stretch/>
          </p:blipFill>
          <p:spPr>
            <a:xfrm>
              <a:off x="6824520" y="3933720"/>
              <a:ext cx="2818080" cy="23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7545240" y="3832200"/>
              <a:ext cx="165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66"/>
                  </a:solidFill>
                  <a:uFillTx/>
                  <a:latin typeface="Tahoma"/>
                </a:rPr>
                <a:t>PRL 94, 2323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9048600" y="2606760"/>
                <a:ext cx="24768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3728880" y="1844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5"/>
          <a:stretch/>
        </p:blipFill>
        <p:spPr>
          <a:xfrm>
            <a:off x="8707320" y="4094280"/>
            <a:ext cx="863640" cy="3142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415800" y="167472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E81D-0A0E-477A-895C-18234E2350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12520" y="113328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ystem Size Depen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360" y="2565000"/>
            <a:ext cx="6091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centricity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44880" y="3716280"/>
            <a:ext cx="53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change the size of collision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es of collision nucleus (Au+Au ,Cu+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r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A4C0-7101-4FFD-9C1C-94FB9C8D03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48038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535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78C0-25CF-45D2-AC60-DEEA4F1933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55FA-2934-404C-BC98-5259881301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5529240" y="1700280"/>
            <a:ext cx="3247920" cy="32385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465960" y="140652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30320" y="4894200"/>
            <a:ext cx="55436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Cu+Cu)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875720" y="501336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6FDA-779C-4A92-80E6-F766369062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5529240" y="1700280"/>
            <a:ext cx="3247920" cy="32385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65960" y="140652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930320" y="4894200"/>
            <a:ext cx="55436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Cu+Cu)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4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75720" y="501336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928880" y="5445000"/>
            <a:ext cx="56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not constant and it shades depending on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28880" y="5967360"/>
            <a:ext cx="5256000" cy="78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 be normaliz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t same N</a:t>
            </a:r>
            <a:r>
              <a:rPr b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pa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t enough to determin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8FD2-0B32-4E93-A923-A6B6C812BB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3008160" y="1917720"/>
            <a:ext cx="2887920" cy="28796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-15840" y="1989000"/>
            <a:ext cx="2881440" cy="28558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6321600" y="1824120"/>
            <a:ext cx="3409920" cy="32097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4520" y="98100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86560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00520" y="1622520"/>
            <a:ext cx="17287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04880" y="5573880"/>
            <a:ext cx="8785080" cy="7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u+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1240" y="299736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136520" y="3284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9724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02BD-4D57-4B67-AEEC-95073EB1D2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05200" y="824040"/>
            <a:ext cx="5118120" cy="2757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603840" y="457200"/>
            <a:ext cx="33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14 Countries;  69 Instit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0440" y="3733920"/>
            <a:ext cx="47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Abilene Christian University, Abilene, TX 79699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ollider-Accelerator Department, Brookhaven National Laboratory, Upton, NY 11973-5000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Physics Department, Brookhaven National Laboratory, Upton, NY 11973-5000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California - Riverside, Riverside, CA 92521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Colorado, Boulder, CO 80309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olumbia University, New York, NY 10027 and Nevis Laboratories, Irvington, NY 10533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Florida Institute of Technology, Melbourne, FL 32901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Florida State University, Tallahassee, FL 32306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Georgia State University, Atlanta, GA 30303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Illinois at Urbana-Champaign, Urbana, IL 61801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owa State University, Ames, IA 50011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Lawrence Livermore National Laboratory, Livermore, CA 94550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Los Alamos National Laboratory, Los Alamos, NM 87545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Maryland, College Park, MD 20742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partment of Physics, University of Massachusetts, Amherst, MA 01003-9337, U.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Muhlenberg College, Allentown, PA 18104-5586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New Mexico, Albuquerque, NM 87131, U.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New Mexico State University, Las Cruces, NM 88003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Oak Ridge National Laboratory, Oak Ridge, TN 37831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RIKEN BNL Research Center, Brookhaven National Laboratory, Upton, NY 11973-5000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hemistry Department, Stony Brook University, Stony Brook, SUNY, NY 11794-3400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partment of Physics and Astronomy, Stony Brook University, SUNY, Stony Brook, NY 11794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ty of Tennessee, Knoxville, TN 37996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Vanderbilt University, Nashville, TN 37235, U.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2440"/>
            <a:ext cx="495288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Universidade de São Paulo, Instituto de Física, Caixa Postal 66318, São Paulo CEP05315-970, Braz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nstitute of Physics, Academia Sinica, Taipei 11529, Taiw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hina Institute of Atomic Energy (CIAE), Beijing, People's Republic of Ch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Peking University, Beijing, People's Republic of Ch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harles University, Ovocnytrh 5, Praha 1, 116 36, Prague, Czech Re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zech Technical University, Zikova 4, 166 36 Prague 6, Czech Re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nstitute of Physics, Academy of Sciences of the Czech Republic, Na Slovance 2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182 21 Prague 8, Czech Re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Helsinki Institute of Physics and University of Jyväskylä, P.O.Box 35, FI-40014 Jyväskylä, Fin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apnia, CEA Saclay, F-91191, Gif-sur-Yvette,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Laboratoire Leprince-Ringuet, Ecole Polytechnique, CNRS-IN2P3, Route de Sacla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F-91128, Palaiseau,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Laboratoire de Physique Corpusculaire (LPC), Université Blaise Pascal, CNRS-IN2P3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lermont-Fd, 63177 Aubiere Cedex,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PN-Orsay, Universite Paris Sud, CNRS-IN2P3, BP1, F-91406, Orsay,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SUBATECH (Ecole des Mines de Nantes, CNRS-IN2P3, Université de Nante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BP 20722 - 44307, Nantes,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nstitut für Kernphysik, University of Münster, D-48149 Münster, Germ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brecen University, H-4010 Debrecen, Egyetem tér 1, Hung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ELTE, Eötvös Loránd University, H - 1117 Budapest, Pázmány P. s. 1/A, Hung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FKI Research Institute for Particle and Nuclear Physics of the Hungarian Academy of Sciences (MTA KFKI RMKI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H-1525 Budapest 114, POBox 49, Budapest, Hung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partment of Physics, Banaras Hindu University, Varanasi 221005, In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Bhabha Atomic Research Centre, Bombay 400 085, In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Weizmann Institute, Rehovot 76100, Isra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enter for Nuclear Study, Graduate School of Science, University of Tokyo, 7-3-1 Hongo, Bunky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Tokyo 113-0033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Hiroshima University, Kagamiyama, Higashi-Hiroshima 739-8526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EK, High Energy Accelerator Research Organization, Tsukuba, Ibaraki 305-0801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yoto University, Kyoto 606-8502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Nagasaki Institute of Applied Science, Nagasaki-shi, Nagasaki 851-0193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RIKEN, The Institute of Physical and Chemical Research, Wako, Saitama 351-0198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Physics Department, Rikkyo University, 3-34-1 Nishi-Ikebukuro, Toshima, Tokyo 171-8501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partment of Physics, Tokyo Institute of Technology, Oh-okayama, Meguro, Tokyo 152-8551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nstitute of Physics, University of Tsukuba, Tsukuba, Ibaraki 305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Waseda University, Advanced Research Institute for Science and Engineering, 17  Kikui-ch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Shinjuku-ku, Tokyo 162-0044,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Chonbuk National University, Jeonju,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Ewha Womans University, Seoul 120-750,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AERI, Cyclotron Application Laboratory, Seoul, South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angnung National University, Kangnung 210-702, South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Korea University, Seoul, 136-701,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Myongji University, Yongin, Kyonggido 449-728,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System Electronics Laboratory, Seoul National University, Seoul, South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Yonsei University, IPAP, Seoul 120-749, Ko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IHEP Protvino, State Research Center of Russian Federation, Institute for High Energy Physic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Protvino, 142281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Joint Institute for Nuclear Research, 141980 Dubna, Moscow Region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Russian Research Center "Kurchatov Institute", Moscow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PNPI, Petersburg Nuclear Physics Institute, Gatchina, Leningrad region, 188300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Saint Petersburg State Polytechnic University, St. Petersburg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Skobeltsyn Institute of Nuclear Physics, Lomonosov Moscow State University, Vorob'evy Gor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Moscow 119992, Russ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ＭＳ 明朝"/>
              </a:rPr>
              <a:t>Department of Physics, Lund University, Box 118, SE-221 00 Lund, Swe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952880" y="147600"/>
            <a:ext cx="1486080" cy="538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34520" y="327672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08032-77E6-4234-BC8D-10C824F806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2928960" y="1916280"/>
            <a:ext cx="2960640" cy="295272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57240" y="1936800"/>
            <a:ext cx="2879640" cy="285588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3544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00520" y="1622520"/>
            <a:ext cx="17287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04880" y="5573880"/>
            <a:ext cx="87850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961240" y="299736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4"/>
          <a:stretch/>
        </p:blipFill>
        <p:spPr>
          <a:xfrm>
            <a:off x="703440" y="2131920"/>
            <a:ext cx="863280" cy="3142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352520" y="4076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0520" y="110808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2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5"/>
          <a:stretch/>
        </p:blipFill>
        <p:spPr>
          <a:xfrm>
            <a:off x="6321600" y="1916280"/>
            <a:ext cx="3409920" cy="32097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8193240" y="2133720"/>
            <a:ext cx="1226880" cy="10904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>
            <a:off x="3510000" y="213372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8"/>
          <a:stretch/>
        </p:blipFill>
        <p:spPr>
          <a:xfrm>
            <a:off x="1781280" y="2133720"/>
            <a:ext cx="1011240" cy="898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29724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E8DA-1668-4BF1-8422-762A736A93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85680" y="1989000"/>
            <a:ext cx="2851200" cy="2843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081240" y="1989000"/>
            <a:ext cx="2887920" cy="2880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3544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71800" y="1622520"/>
            <a:ext cx="17290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1800" y="5573880"/>
            <a:ext cx="87850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32520" y="2997360"/>
            <a:ext cx="28908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4"/>
          <a:stretch/>
        </p:blipFill>
        <p:spPr>
          <a:xfrm>
            <a:off x="415800" y="4554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560520" y="4076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6392880" y="1947960"/>
            <a:ext cx="3409920" cy="3209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88880" y="119700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4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6"/>
          <a:stretch/>
        </p:blipFill>
        <p:spPr>
          <a:xfrm>
            <a:off x="1854360" y="213372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7"/>
          <a:stretch/>
        </p:blipFill>
        <p:spPr>
          <a:xfrm>
            <a:off x="4805280" y="339408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8"/>
          <a:stretch/>
        </p:blipFill>
        <p:spPr>
          <a:xfrm>
            <a:off x="8481960" y="3645000"/>
            <a:ext cx="1011240" cy="8985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35448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6F5C-4D10-4260-BB2B-6D10555711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420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664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8AFE-9E65-4378-9E4D-FAA32E7136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784520" y="1422000"/>
            <a:ext cx="748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95000" y="3111480"/>
            <a:ext cx="8915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06E5-EA8C-4227-AF95-891802453C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711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949560" y="324648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944880" y="393372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712880" y="188640"/>
            <a:ext cx="42465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AF23-3467-438D-BE9D-31BF4AFF7D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965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AuAu 62.4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136520" y="863640"/>
            <a:ext cx="6050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HENIX: Error bars include both statistical and systematic err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TAR: Error bars include statistical errors. Yellow band indicates systematic err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233280" y="1704960"/>
            <a:ext cx="9672840" cy="35244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7440120" y="1137600"/>
            <a:ext cx="23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 results :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hys. Rev. C 7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400880" y="765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entrality 10-4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20880" y="5823000"/>
            <a:ext cx="7345080" cy="745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universal curve independent on particl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92160" y="5300280"/>
            <a:ext cx="7345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caling is OK at 62.4 GeV, too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065240" y="1628640"/>
            <a:ext cx="136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016520" y="1628640"/>
            <a:ext cx="19447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84880" y="1628640"/>
            <a:ext cx="22320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128520" y="162864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6073-211A-48AD-8FAC-E12D33C6C5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1641600" y="647640"/>
            <a:ext cx="6840360" cy="530244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712520" y="117360"/>
            <a:ext cx="5832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vs. p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t Cu+Cu in 200GeV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00160" y="587664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ality dependence of PID v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vs. p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for Cu+Cu 200GeV is measu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3"/>
          <a:stretch/>
        </p:blipFill>
        <p:spPr>
          <a:xfrm>
            <a:off x="7473960" y="347508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5ED4-E09B-4659-9CF0-2C00F0B06F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04520" y="11556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969240" y="18900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u+Cu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 = 20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99800" y="5733720"/>
            <a:ext cx="9489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uark number + 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caling seems to works out at Cu+Cu 200G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040520" y="1844640"/>
            <a:ext cx="2736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ll centrality, (between 0- 50 %)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K/p is consistent to  quark number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c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560520" y="642960"/>
            <a:ext cx="6480000" cy="502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C6B3-D501-42AE-87A2-E739BF22D2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28520" y="1052640"/>
            <a:ext cx="5545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Summary of Sc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77600" y="2349360"/>
            <a:ext cx="8496360" cy="22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energy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centricity of participan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ccentricity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le speci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K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articipants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ca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33AF-DC1B-4979-8D36-41E2F21472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781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949560" y="324648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44880" y="393372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29960" y="115560"/>
            <a:ext cx="3527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5211-F9E8-4568-BC86-ECADBE0947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29960" y="43920"/>
            <a:ext cx="7480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28880" y="836280"/>
            <a:ext cx="56880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QG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RHIC-PHE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lliptic Flow (v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nergy depen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System size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Universal v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C95F5-A95D-42D4-9094-1A1B6B3DEF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96880" y="115920"/>
            <a:ext cx="460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28520" y="1341360"/>
            <a:ext cx="328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9612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247680" y="1700280"/>
            <a:ext cx="2689200" cy="35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90BD-FFFE-4FBA-ABFB-022244AC7C5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96880" y="115920"/>
            <a:ext cx="460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28520" y="1341360"/>
            <a:ext cx="328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612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247680" y="1700280"/>
            <a:ext cx="2689200" cy="3527280"/>
          </a:xfrm>
          <a:prstGeom prst="rect">
            <a:avLst/>
          </a:prstGeom>
          <a:ln w="0">
            <a:noFill/>
          </a:ln>
        </p:spPr>
      </p:pic>
      <p:grpSp>
        <p:nvGrpSpPr>
          <p:cNvPr id="812" name=""/>
          <p:cNvGrpSpPr/>
          <p:nvPr/>
        </p:nvGrpSpPr>
        <p:grpSpPr>
          <a:xfrm>
            <a:off x="3440160" y="1341360"/>
            <a:ext cx="2733480" cy="3959280"/>
            <a:chOff x="3440160" y="1341360"/>
            <a:chExt cx="2733480" cy="3959280"/>
          </a:xfrm>
        </p:grpSpPr>
        <p:sp>
          <p:nvSpPr>
            <p:cNvPr id="813" name=""/>
            <p:cNvSpPr/>
            <p:nvPr/>
          </p:nvSpPr>
          <p:spPr>
            <a:xfrm>
              <a:off x="3728880" y="134136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eccentricity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4" name="" descr=""/>
            <p:cNvPicPr/>
            <p:nvPr/>
          </p:nvPicPr>
          <p:blipFill>
            <a:blip r:embed="rId3"/>
            <a:stretch/>
          </p:blipFill>
          <p:spPr>
            <a:xfrm>
              <a:off x="3440160" y="1700280"/>
              <a:ext cx="2733480" cy="36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7974-4ECE-4619-BF31-27652BC1F8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496880" y="115920"/>
            <a:ext cx="460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60520" y="558972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consistent at 0-50% centra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28520" y="1341360"/>
            <a:ext cx="328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612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247680" y="1700280"/>
            <a:ext cx="2689200" cy="3527280"/>
          </a:xfrm>
          <a:prstGeom prst="rect">
            <a:avLst/>
          </a:prstGeom>
          <a:ln w="0">
            <a:noFill/>
          </a:ln>
        </p:spPr>
      </p:pic>
      <p:grpSp>
        <p:nvGrpSpPr>
          <p:cNvPr id="820" name=""/>
          <p:cNvGrpSpPr/>
          <p:nvPr/>
        </p:nvGrpSpPr>
        <p:grpSpPr>
          <a:xfrm>
            <a:off x="3440160" y="1341360"/>
            <a:ext cx="2733480" cy="3959280"/>
            <a:chOff x="3440160" y="1341360"/>
            <a:chExt cx="2733480" cy="3959280"/>
          </a:xfrm>
        </p:grpSpPr>
        <p:sp>
          <p:nvSpPr>
            <p:cNvPr id="821" name=""/>
            <p:cNvSpPr/>
            <p:nvPr/>
          </p:nvSpPr>
          <p:spPr>
            <a:xfrm>
              <a:off x="3728880" y="134136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eccentricity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2" name="" descr=""/>
            <p:cNvPicPr/>
            <p:nvPr/>
          </p:nvPicPr>
          <p:blipFill>
            <a:blip r:embed="rId3"/>
            <a:stretch/>
          </p:blipFill>
          <p:spPr>
            <a:xfrm>
              <a:off x="3440160" y="1700280"/>
              <a:ext cx="2733480" cy="36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3" name=""/>
          <p:cNvGrpSpPr/>
          <p:nvPr/>
        </p:nvGrpSpPr>
        <p:grpSpPr>
          <a:xfrm>
            <a:off x="6543720" y="1406520"/>
            <a:ext cx="2801880" cy="3967200"/>
            <a:chOff x="6543720" y="1406520"/>
            <a:chExt cx="2801880" cy="3967200"/>
          </a:xfrm>
        </p:grpSpPr>
        <p:sp>
          <p:nvSpPr>
            <p:cNvPr id="824" name=""/>
            <p:cNvSpPr/>
            <p:nvPr/>
          </p:nvSpPr>
          <p:spPr>
            <a:xfrm>
              <a:off x="7042320" y="140652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Npar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/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5" name="" descr=""/>
            <p:cNvPicPr/>
            <p:nvPr/>
          </p:nvPicPr>
          <p:blipFill>
            <a:blip r:embed="rId4"/>
            <a:stretch/>
          </p:blipFill>
          <p:spPr>
            <a:xfrm>
              <a:off x="6543720" y="1773360"/>
              <a:ext cx="2743200" cy="36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75DF-38EC-4BF0-AE04-8F2EDB0954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496880" y="148428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2(KET/nq)/nq/epar/Npart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639440" y="188640"/>
            <a:ext cx="38862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Universal Sca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808520" y="907920"/>
            <a:ext cx="496872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System (Au+Au, Cu+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nergy (200GeV - 62.4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Centrality (0-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ticl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K /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5294160" y="3135240"/>
                <a:ext cx="3259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ε</m:t>
                        </m:r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rt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6105600" y="2276640"/>
            <a:ext cx="1512720" cy="79056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881600" y="5445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Universal Curve 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105600" y="4726080"/>
            <a:ext cx="1512720" cy="79056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12600" y="789120"/>
            <a:ext cx="4724640" cy="544824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3"/>
          <a:stretch/>
        </p:blipFill>
        <p:spPr>
          <a:xfrm>
            <a:off x="57240" y="789120"/>
            <a:ext cx="4724280" cy="54482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849240" y="341136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ndf = 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00160" y="5661000"/>
            <a:ext cx="18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rge symbol - Au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 symbol - C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F29B-A279-465F-8028-D3A86584BE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712880" y="189000"/>
            <a:ext cx="3168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568520" y="1090080"/>
            <a:ext cx="762624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measured at 4 syst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u+Au, Cu+Cu) x (62.4GeV, 200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re obtained in different collision energi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62.4 - 200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various hadron species are scaled by quark number +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at these three system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 results for Cu+Cu 62.4GeV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caled by participant Eccentricity are consistent between Au+Au and Cu+Cu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caled by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versal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indicates 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re determined by the initial geometrical anisotropy and its time evolution effect depending on the initial volum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1398-011D-45AA-9C4F-7B196CAA9E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60520" y="115920"/>
            <a:ext cx="3960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ystems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7329600" y="463680"/>
            <a:ext cx="2571480" cy="296532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4849920" y="476280"/>
            <a:ext cx="2624040" cy="302400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384880" y="4870440"/>
            <a:ext cx="4248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scaling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of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oks be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4"/>
          <a:stretch/>
        </p:blipFill>
        <p:spPr>
          <a:xfrm>
            <a:off x="2360520" y="549360"/>
            <a:ext cx="2559240" cy="29509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5"/>
          <a:stretch/>
        </p:blipFill>
        <p:spPr>
          <a:xfrm>
            <a:off x="2730600" y="3573360"/>
            <a:ext cx="2663640" cy="307188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6"/>
          <a:stretch/>
        </p:blipFill>
        <p:spPr>
          <a:xfrm>
            <a:off x="173160" y="573120"/>
            <a:ext cx="2476440" cy="285588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7"/>
          <a:stretch/>
        </p:blipFill>
        <p:spPr>
          <a:xfrm>
            <a:off x="17640" y="3457440"/>
            <a:ext cx="2847960" cy="32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FC6F-40EB-4CD1-8A3D-5C2C1110790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12520" y="1422360"/>
            <a:ext cx="63342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ack U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2462-BBB5-48E6-B1AA-C582936D459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91800" y="274680"/>
            <a:ext cx="82789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on by simple expan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987480" y="5661000"/>
            <a:ext cx="756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ime until chemical freeze-out is proportional to N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6969240" y="1628640"/>
            <a:ext cx="2517840" cy="581040"/>
          </a:xfrm>
          <a:prstGeom prst="rect">
            <a:avLst/>
          </a:prstGeom>
          <a:ln w="0">
            <a:noFill/>
          </a:ln>
        </p:spPr>
      </p:pic>
      <p:grpSp>
        <p:nvGrpSpPr>
          <p:cNvPr id="851" name=""/>
          <p:cNvGrpSpPr/>
          <p:nvPr/>
        </p:nvGrpSpPr>
        <p:grpSpPr>
          <a:xfrm>
            <a:off x="98280" y="907920"/>
            <a:ext cx="6941880" cy="4392360"/>
            <a:chOff x="98280" y="907920"/>
            <a:chExt cx="6941880" cy="4392360"/>
          </a:xfrm>
        </p:grpSpPr>
        <p:pic>
          <p:nvPicPr>
            <p:cNvPr id="852" name="" descr=""/>
            <p:cNvPicPr/>
            <p:nvPr/>
          </p:nvPicPr>
          <p:blipFill>
            <a:blip r:embed="rId3"/>
            <a:stretch/>
          </p:blipFill>
          <p:spPr>
            <a:xfrm>
              <a:off x="98280" y="975960"/>
              <a:ext cx="6941880" cy="43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"/>
            <p:cNvSpPr/>
            <p:nvPr/>
          </p:nvSpPr>
          <p:spPr>
            <a:xfrm>
              <a:off x="4466160" y="1557000"/>
              <a:ext cx="703080" cy="649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778640" y="1268280"/>
              <a:ext cx="774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32160" y="907920"/>
              <a:ext cx="163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um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1208160" y="4941720"/>
            <a:ext cx="40320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is done by Dr.Ko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4"/>
          <a:stretch/>
        </p:blipFill>
        <p:spPr>
          <a:xfrm>
            <a:off x="6608880" y="2637000"/>
            <a:ext cx="3133440" cy="253044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5"/>
          <a:stretch/>
        </p:blipFill>
        <p:spPr>
          <a:xfrm>
            <a:off x="6897600" y="2170080"/>
            <a:ext cx="2868840" cy="4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1D9F-76A4-409D-A302-8085C4BD906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711080" y="131760"/>
            <a:ext cx="705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mary of v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roduction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248160" y="692280"/>
            <a:ext cx="1873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to mi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857240" y="126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57240" y="1916280"/>
            <a:ext cx="16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mal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000160" y="2781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857240" y="342252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dro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85724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568520" y="1341360"/>
            <a:ext cx="0" cy="4175280"/>
          </a:xfrm>
          <a:prstGeom prst="line">
            <a:avLst/>
          </a:prstGeom>
          <a:ln w="50760">
            <a:solidFill>
              <a:srgbClr val="333399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84520" y="558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31800" y="126828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017960" y="126828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initial geometrical eccentricity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ith the particip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089240" y="2060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pressure gradient from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657600" y="2637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160880" y="3343320"/>
            <a:ext cx="4824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This finite time becomes longer with larger collision system, and the v</a:t>
            </a:r>
            <a:r>
              <a:rPr b="0" lang="en-US" sz="1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 increases proportional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089240" y="2492280"/>
            <a:ext cx="4249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expanding during finite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depending on the kind of qu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94488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305240" y="4076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adial flow depending on each mass expa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944880" y="4869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305240" y="5084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o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E6A1-6FD1-4EFB-81EA-92373720C69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639800" y="188640"/>
            <a:ext cx="42465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ummar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47560" y="836280"/>
            <a:ext cx="8942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the systems have same N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scaled by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f paricipant geome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785960" y="2138400"/>
            <a:ext cx="9349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241960" y="1969920"/>
            <a:ext cx="504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224160" y="1916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792160" y="2205000"/>
            <a:ext cx="36036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592520" y="217188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0718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584520" y="2349360"/>
            <a:ext cx="504720" cy="43200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99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956120" y="1628640"/>
            <a:ext cx="12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792520" y="27082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335560" y="24876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712880" y="1773360"/>
            <a:ext cx="11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24160" y="3357720"/>
            <a:ext cx="151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737240" y="3405240"/>
            <a:ext cx="1584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65960" y="1998720"/>
            <a:ext cx="324144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depends on eccentricity of initial participant geometry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ould be constant at any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ut it is no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857240" y="4365720"/>
            <a:ext cx="792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352520" y="1544760"/>
            <a:ext cx="496908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68880" y="4653000"/>
            <a:ext cx="503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152880" y="4005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ccentr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07324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24196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792160" y="4437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665600" y="443700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008160" y="515772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584520" y="4726080"/>
            <a:ext cx="50472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99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352520" y="3860640"/>
            <a:ext cx="496908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568520" y="4005360"/>
            <a:ext cx="1511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025960" y="4172040"/>
            <a:ext cx="115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465960" y="3759120"/>
            <a:ext cx="32241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o explai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addition to the initial geometrical eccentricity,   there are something related to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2625840" y="5284800"/>
                <a:ext cx="342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7769-2749-4F2F-8F93-29B0E146C0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6160" y="1155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Quark Gluon Plasma (QG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54520" y="2565360"/>
            <a:ext cx="5022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ion from Lattice Q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 ~ 170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ε~ 1.0 GeV/f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ks become de-com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transition to Q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Normal Nucleus: ε ~ 0.2 GeV/f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energy nuclear colli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+Au  √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IC :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 ~ 15 GeV/f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8520" y="2071800"/>
            <a:ext cx="4603680" cy="3733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720" y="177336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diagram ; QGP &amp; had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7960" y="2565360"/>
            <a:ext cx="646200" cy="432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808520" y="903960"/>
            <a:ext cx="1654560" cy="1551960"/>
            <a:chOff x="4808520" y="903960"/>
            <a:chExt cx="1654560" cy="1551960"/>
          </a:xfrm>
        </p:grpSpPr>
        <p:grpSp>
          <p:nvGrpSpPr>
            <p:cNvPr id="150" name=""/>
            <p:cNvGrpSpPr/>
            <p:nvPr/>
          </p:nvGrpSpPr>
          <p:grpSpPr>
            <a:xfrm>
              <a:off x="4861080" y="1371960"/>
              <a:ext cx="546120" cy="369000"/>
              <a:chOff x="4861080" y="1371960"/>
              <a:chExt cx="546120" cy="369000"/>
            </a:xfrm>
          </p:grpSpPr>
          <p:sp>
            <p:nvSpPr>
              <p:cNvPr id="151" name=""/>
              <p:cNvSpPr/>
              <p:nvPr/>
            </p:nvSpPr>
            <p:spPr>
              <a:xfrm rot="4810800">
                <a:off x="4990320" y="130392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4810800">
                <a:off x="5157360" y="146196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4810800">
                <a:off x="4967640" y="150768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457960" y="981000"/>
              <a:ext cx="504720" cy="504720"/>
              <a:chOff x="5457960" y="981000"/>
              <a:chExt cx="504720" cy="504720"/>
            </a:xfrm>
          </p:grpSpPr>
          <p:sp>
            <p:nvSpPr>
              <p:cNvPr id="155" name=""/>
              <p:cNvSpPr/>
              <p:nvPr/>
            </p:nvSpPr>
            <p:spPr>
              <a:xfrm>
                <a:off x="5747040" y="10857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31040" y="10857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35800" y="12855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57960" y="981000"/>
                <a:ext cx="50472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960440" y="919080"/>
              <a:ext cx="563040" cy="556920"/>
              <a:chOff x="4960440" y="919080"/>
              <a:chExt cx="563040" cy="556920"/>
            </a:xfrm>
          </p:grpSpPr>
          <p:sp>
            <p:nvSpPr>
              <p:cNvPr id="160" name=""/>
              <p:cNvSpPr/>
              <p:nvPr/>
            </p:nvSpPr>
            <p:spPr>
              <a:xfrm rot="18829800">
                <a:off x="5098320" y="94500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8829800">
                <a:off x="5094000" y="106236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8829800">
                <a:off x="5243760" y="11883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202720" y="1444680"/>
              <a:ext cx="580320" cy="512640"/>
              <a:chOff x="5202720" y="1444680"/>
              <a:chExt cx="580320" cy="512640"/>
            </a:xfrm>
          </p:grpSpPr>
          <p:sp>
            <p:nvSpPr>
              <p:cNvPr id="164" name=""/>
              <p:cNvSpPr/>
              <p:nvPr/>
            </p:nvSpPr>
            <p:spPr>
              <a:xfrm rot="14259600">
                <a:off x="5348880" y="144828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4259600">
                <a:off x="5340600" y="168768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4259600">
                <a:off x="5498640" y="157212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367240" y="1813320"/>
              <a:ext cx="539640" cy="353880"/>
              <a:chOff x="5367240" y="1813320"/>
              <a:chExt cx="539640" cy="353880"/>
            </a:xfrm>
          </p:grpSpPr>
          <p:sp>
            <p:nvSpPr>
              <p:cNvPr id="168" name=""/>
              <p:cNvSpPr/>
              <p:nvPr/>
            </p:nvSpPr>
            <p:spPr>
              <a:xfrm rot="15726000">
                <a:off x="5493240" y="173772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5726000">
                <a:off x="5468040" y="193860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5726000">
                <a:off x="5659560" y="189900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778720" y="1805040"/>
              <a:ext cx="580320" cy="512640"/>
              <a:chOff x="5778720" y="1805040"/>
              <a:chExt cx="580320" cy="512640"/>
            </a:xfrm>
          </p:grpSpPr>
          <p:sp>
            <p:nvSpPr>
              <p:cNvPr id="172" name=""/>
              <p:cNvSpPr/>
              <p:nvPr/>
            </p:nvSpPr>
            <p:spPr>
              <a:xfrm rot="14259600">
                <a:off x="5924880" y="180864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4259600">
                <a:off x="5916600" y="204804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4259600">
                <a:off x="6074640" y="193248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079600" y="2098800"/>
              <a:ext cx="540720" cy="357120"/>
              <a:chOff x="5079600" y="2098800"/>
              <a:chExt cx="540720" cy="357120"/>
            </a:xfrm>
          </p:grpSpPr>
          <p:sp>
            <p:nvSpPr>
              <p:cNvPr id="176" name=""/>
              <p:cNvSpPr/>
              <p:nvPr/>
            </p:nvSpPr>
            <p:spPr>
              <a:xfrm rot="15701400">
                <a:off x="5205960" y="202464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5701400">
                <a:off x="5181120" y="222624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5701400">
                <a:off x="5372280" y="21855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887440" y="903960"/>
              <a:ext cx="575640" cy="533520"/>
              <a:chOff x="5887440" y="903960"/>
              <a:chExt cx="575640" cy="533520"/>
            </a:xfrm>
          </p:grpSpPr>
          <p:sp>
            <p:nvSpPr>
              <p:cNvPr id="180" name=""/>
              <p:cNvSpPr/>
              <p:nvPr/>
            </p:nvSpPr>
            <p:spPr>
              <a:xfrm rot="18427200">
                <a:off x="6031440" y="918000"/>
                <a:ext cx="28728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427200">
                <a:off x="6020280" y="104508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427200">
                <a:off x="6183720" y="115236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816520" y="1341360"/>
              <a:ext cx="504720" cy="504720"/>
              <a:chOff x="5816520" y="1341360"/>
              <a:chExt cx="504720" cy="504720"/>
            </a:xfrm>
          </p:grpSpPr>
          <p:sp>
            <p:nvSpPr>
              <p:cNvPr id="184" name=""/>
              <p:cNvSpPr/>
              <p:nvPr/>
            </p:nvSpPr>
            <p:spPr>
              <a:xfrm>
                <a:off x="6105600" y="144612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89600" y="144612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94360" y="164592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16520" y="1341360"/>
                <a:ext cx="50472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808520" y="1701720"/>
              <a:ext cx="504720" cy="504720"/>
              <a:chOff x="4808520" y="1701720"/>
              <a:chExt cx="504720" cy="504720"/>
            </a:xfrm>
          </p:grpSpPr>
          <p:sp>
            <p:nvSpPr>
              <p:cNvPr id="189" name=""/>
              <p:cNvSpPr/>
              <p:nvPr/>
            </p:nvSpPr>
            <p:spPr>
              <a:xfrm>
                <a:off x="5097600" y="180648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81600" y="180648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86360" y="2006280"/>
                <a:ext cx="14436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08520" y="1701720"/>
                <a:ext cx="50472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 rot="16200000">
            <a:off x="6604920" y="1416960"/>
            <a:ext cx="522000" cy="514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5240" y="981000"/>
            <a:ext cx="1439640" cy="1225440"/>
            <a:chOff x="7545240" y="981000"/>
            <a:chExt cx="1439640" cy="1225440"/>
          </a:xfrm>
        </p:grpSpPr>
        <p:sp>
          <p:nvSpPr>
            <p:cNvPr id="195" name=""/>
            <p:cNvSpPr/>
            <p:nvPr/>
          </p:nvSpPr>
          <p:spPr>
            <a:xfrm>
              <a:off x="7689600" y="14140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60880" y="155700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05600" y="155700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49960" y="155700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05600" y="14140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32520" y="169992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21240" y="141264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59480" y="150156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5600" y="112536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48520" y="10522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92880" y="18442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80160" y="112536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48520" y="198900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30920" y="181260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54560" y="184428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24520" y="119844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08880" y="169992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53240" y="16286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37240" y="18442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24520" y="148392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60880" y="126828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76880" y="12682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64160" y="130140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08880" y="12682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21240" y="119664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86480" y="113652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80160" y="14126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48520" y="169992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08880" y="155700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4160" y="169992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45240" y="981000"/>
              <a:ext cx="1439640" cy="122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769240" y="148572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69240" y="16300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758080" y="13316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96160" y="17744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5200" y="201276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08880" y="19904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87880" y="191916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16520" y="163008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88160" y="177444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24520" y="191736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64160" y="98244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60880" y="112536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DF5F-60BF-4B72-99A2-2658B9EFB6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639440" y="115560"/>
            <a:ext cx="6838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ummar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47800" y="764640"/>
            <a:ext cx="8208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ith same eccentricity, 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scaled by (number of participants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1/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537240" y="1341360"/>
            <a:ext cx="28796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comes consistent after scaled by not on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 also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641600" y="1701720"/>
            <a:ext cx="79200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1989000"/>
            <a:ext cx="503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76520" y="1406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85724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2596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2576160" y="1773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449600" y="1773360"/>
            <a:ext cx="35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792520" y="2133720"/>
            <a:ext cx="165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68520" y="1773360"/>
            <a:ext cx="50508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136520" y="1341360"/>
            <a:ext cx="5040360" cy="259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496880" y="1341360"/>
            <a:ext cx="1079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737240" y="1508040"/>
            <a:ext cx="107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81240" y="3524400"/>
            <a:ext cx="201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of participant 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ar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305240" y="3556080"/>
            <a:ext cx="194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of participant 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ar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073240" y="3103560"/>
            <a:ext cx="331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C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/N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partC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N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partD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368520" y="2637000"/>
            <a:ext cx="50508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37240" y="227664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s it because of thickness increasing along beam axis then energy per unit area increasing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392880" y="3206880"/>
            <a:ext cx="309708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GeV)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2.4Ge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335640" y="3683160"/>
            <a:ext cx="32259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oncludes that increasing dN/dy doesn’t change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RHIC ener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281240" y="474804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106720" y="474804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530360" y="53244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762200" y="51912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989000" y="53244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712880" y="59007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62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25600" y="4387680"/>
            <a:ext cx="115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537080" y="467676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362560" y="467676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786200" y="52531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018040" y="51195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245200" y="525312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952880" y="58514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681440" y="4340160"/>
            <a:ext cx="1063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936880" y="4357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576160" y="465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160880" y="4653000"/>
            <a:ext cx="35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73480" y="4713120"/>
            <a:ext cx="504720" cy="43200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720880" y="520704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712880" y="4791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9104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64360" y="4508640"/>
            <a:ext cx="3512880" cy="177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t might be because that number of participant to 1/3 (like length) is proportional to the time period taken to freeze out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, and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expands proportional to that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313000" y="2220840"/>
                <a:ext cx="4111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940A1-ADA8-4A4D-B246-03B3C0E0D1A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47320" y="1371600"/>
            <a:ext cx="91630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experimental results to hydro calcul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238400" y="4191120"/>
            <a:ext cx="808992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dro calculations are done by Dr. Hir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Xiv:0710.5795 [nucl-th] and Phys. Lett.B 636, 299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82720" y="5445000"/>
            <a:ext cx="62658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ＭＳ ゴシック"/>
              </a:rPr>
              <a:t>QGP fluid+hadron gas with Glauber I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ADB0-FB40-46D0-A9E7-65063BE2348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6105600" y="981000"/>
            <a:ext cx="2962080" cy="256860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3"/>
          <a:stretch/>
        </p:blipFill>
        <p:spPr>
          <a:xfrm>
            <a:off x="6172200" y="3573360"/>
            <a:ext cx="2884320" cy="250200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165240" y="838080"/>
            <a:ext cx="2971800" cy="5181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60240" y="685800"/>
            <a:ext cx="19814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2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data to hydro-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-360" y="6324120"/>
            <a:ext cx="9658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+Au results agree well with hydro but  Cu+Cu results don’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4"/>
          <a:stretch/>
        </p:blipFill>
        <p:spPr>
          <a:xfrm>
            <a:off x="3301920" y="3581280"/>
            <a:ext cx="2806920" cy="243360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5"/>
          <a:stretch/>
        </p:blipFill>
        <p:spPr>
          <a:xfrm>
            <a:off x="3219480" y="1066680"/>
            <a:ext cx="2806560" cy="243216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6"/>
          <a:stretch/>
        </p:blipFill>
        <p:spPr>
          <a:xfrm>
            <a:off x="247680" y="3654360"/>
            <a:ext cx="2724120" cy="236052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7"/>
          <a:stretch/>
        </p:blipFill>
        <p:spPr>
          <a:xfrm>
            <a:off x="247680" y="1111320"/>
            <a:ext cx="2806560" cy="243216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3137040" y="838080"/>
            <a:ext cx="2971800" cy="5181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632040" y="685800"/>
            <a:ext cx="19814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62.4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108840" y="838080"/>
            <a:ext cx="2971800" cy="5181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603840" y="685800"/>
            <a:ext cx="19814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9EFE-5D01-481F-B053-EA8627493C1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2"/>
          <a:stretch/>
        </p:blipFill>
        <p:spPr>
          <a:xfrm>
            <a:off x="6435720" y="3568680"/>
            <a:ext cx="2978280" cy="258444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/>
          <p:cNvPicPr/>
          <p:nvPr/>
        </p:nvPicPr>
        <p:blipFill>
          <a:blip r:embed="rId3"/>
          <a:stretch/>
        </p:blipFill>
        <p:spPr>
          <a:xfrm>
            <a:off x="6513480" y="1197000"/>
            <a:ext cx="2808360" cy="24350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65240" y="152280"/>
            <a:ext cx="965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(dat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articip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(hydr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29760" y="6248520"/>
            <a:ext cx="8667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u+Au and Cu+Cu results agree well with hyd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4"/>
          <a:stretch/>
        </p:blipFill>
        <p:spPr>
          <a:xfrm>
            <a:off x="3549600" y="1295280"/>
            <a:ext cx="2806920" cy="243360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5"/>
          <a:stretch/>
        </p:blipFill>
        <p:spPr>
          <a:xfrm>
            <a:off x="3549600" y="3728880"/>
            <a:ext cx="2806920" cy="243396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6"/>
          <a:stretch/>
        </p:blipFill>
        <p:spPr>
          <a:xfrm>
            <a:off x="660240" y="3809880"/>
            <a:ext cx="2724480" cy="236232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7"/>
          <a:stretch/>
        </p:blipFill>
        <p:spPr>
          <a:xfrm>
            <a:off x="577800" y="1295280"/>
            <a:ext cx="2806920" cy="243360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495360" y="990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990720" y="838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67160" y="990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962520" y="838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62.4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438960" y="990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838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577D-66BB-402B-BB9F-470373EEC60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834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son of AuAu to CuC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51000" y="1622520"/>
            <a:ext cx="88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quark number + KET scaling, eccentricity scaling and Npar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298600" y="105264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+Cu and Au+Au, 200GeV, PID by 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2"/>
          <a:stretch/>
        </p:blipFill>
        <p:spPr>
          <a:xfrm>
            <a:off x="258840" y="2421000"/>
            <a:ext cx="9447120" cy="37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75AD-C211-490E-A8EC-B8D06699F68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" descr=""/>
          <p:cNvPicPr/>
          <p:nvPr/>
        </p:nvPicPr>
        <p:blipFill>
          <a:blip r:embed="rId2"/>
          <a:stretch/>
        </p:blipFill>
        <p:spPr>
          <a:xfrm>
            <a:off x="2360520" y="1268280"/>
            <a:ext cx="4869000" cy="3048120"/>
          </a:xfrm>
          <a:prstGeom prst="rect">
            <a:avLst/>
          </a:prstGeom>
          <a:ln w="0">
            <a:noFill/>
          </a:ln>
        </p:spPr>
      </p:pic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988640" y="129960"/>
            <a:ext cx="5381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nergy 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767680" y="4437000"/>
            <a:ext cx="435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FOPI : Phys. Lett. B612, 713 (2005).   E895 : Phys. Rev. Lett. 83, 1295 (199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CERES : Nucl. Phys. A698, 253c (2002).   NA49 : Phys. Rev. C68, 034903 (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STAR : Nucl. Phys. A715, 45c, (2003).   PHENIX : Preliminary.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PHOBOS : nucl-ex/0610037 (2006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B1F3-43E9-436F-BC5F-13D4E92DC9B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82440" y="914400"/>
            <a:ext cx="97408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06680" y="115560"/>
            <a:ext cx="74800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ing (anoth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95360" y="4952520"/>
            <a:ext cx="88502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PS to R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entral collision, it reach to hydro limit which suggest perfect flu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82440" y="985680"/>
            <a:ext cx="4870440" cy="38610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3"/>
          <a:srcRect l="0" t="6126" r="8041" b="0"/>
          <a:stretch/>
        </p:blipFill>
        <p:spPr>
          <a:xfrm>
            <a:off x="4622760" y="1219320"/>
            <a:ext cx="4915080" cy="348912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7936200" y="990720"/>
            <a:ext cx="15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2006, R. Noui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467800" y="99072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2006, S. A. Volos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DA48-3384-4C71-A447-912B9D8EC50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5448240" y="3962520"/>
            <a:ext cx="4210200" cy="263664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3"/>
          <a:srcRect l="1379" t="0" r="1379" b="0"/>
          <a:stretch/>
        </p:blipFill>
        <p:spPr>
          <a:xfrm>
            <a:off x="4903920" y="914400"/>
            <a:ext cx="4836960" cy="311292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762200" y="189000"/>
            <a:ext cx="275904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6880" y="4149720"/>
            <a:ext cx="4825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arison between Standard and participant eccentric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ndard eccentricity doesn’t include the effect of the participant fluctuation in experiment. The effect of the fluctuation is larger at smalle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4"/>
          <a:stretch/>
        </p:blipFill>
        <p:spPr>
          <a:xfrm>
            <a:off x="0" y="920880"/>
            <a:ext cx="4622760" cy="289404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825480" y="2819520"/>
            <a:ext cx="237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PRL: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nucl-ex/0610037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394360" y="3002040"/>
            <a:ext cx="20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  <a:ea typeface="宋体"/>
              </a:rPr>
              <a:t>PRC C72, 051901R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381800" y="2960640"/>
            <a:ext cx="24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e0d81"/>
                </a:solidFill>
                <a:latin typeface="Arial"/>
                <a:ea typeface="宋体"/>
              </a:rPr>
              <a:t>PHOBOS Collaboration</a:t>
            </a:r>
            <a:br>
              <a:rPr sz="1200"/>
            </a:br>
            <a:r>
              <a:rPr b="1" lang="en-US" sz="1200" spc="-1" strike="noStrike">
                <a:solidFill>
                  <a:srgbClr val="0e0d81"/>
                </a:solidFill>
                <a:latin typeface="Arial"/>
                <a:ea typeface="宋体"/>
              </a:rPr>
              <a:t>PRL: nucl-ex/0610037</a:t>
            </a:r>
            <a:r>
              <a:rPr b="0" lang="en-US" sz="1200" spc="-1" strike="noStrike">
                <a:solidFill>
                  <a:srgbClr val="0e0d81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864040" y="1905120"/>
            <a:ext cx="77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pperplate31ab"/>
                <a:ea typeface="宋体"/>
              </a:rPr>
              <a:t>Cu+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pperplate31ab"/>
                <a:ea typeface="宋体"/>
              </a:rPr>
              <a:t>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8122320" y="1600200"/>
            <a:ext cx="819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e0d81"/>
                </a:solidFill>
                <a:latin typeface="Copperplate31ab"/>
                <a:ea typeface="宋体"/>
              </a:rPr>
              <a:t>  </a:t>
            </a:r>
            <a:r>
              <a:rPr b="1" lang="en-US" sz="1200" spc="-1" strike="noStrike">
                <a:solidFill>
                  <a:srgbClr val="0066ff"/>
                </a:solidFill>
                <a:latin typeface="Copperplate31ab"/>
                <a:ea typeface="宋体"/>
              </a:rPr>
              <a:t>Au+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Copperplate31ab"/>
                <a:ea typeface="宋体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Copperplate31ab"/>
                <a:ea typeface="宋体"/>
              </a:rPr>
              <a:t>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839000" y="6041880"/>
            <a:ext cx="10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99200" y="1219320"/>
            <a:ext cx="217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tatistical errors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CC9F1-7F67-4F87-A42B-38A9991D18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15800" y="115920"/>
            <a:ext cx="90741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AuAu 200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23800" y="5661000"/>
            <a:ext cx="655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ET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aling  ex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1281240" y="836640"/>
            <a:ext cx="6930720" cy="45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C644-9AE9-46A5-8382-DAA62986233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68520" y="-27000"/>
            <a:ext cx="7488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onal quark number + K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scaling</a:t>
            </a:r>
            <a:r>
              <a:rPr b="0" lang="en-US" sz="3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PbPb 17.2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2"/>
          <a:stretch/>
        </p:blipFill>
        <p:spPr>
          <a:xfrm>
            <a:off x="566640" y="1484280"/>
            <a:ext cx="3881520" cy="367020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3"/>
          <a:stretch/>
        </p:blipFill>
        <p:spPr>
          <a:xfrm>
            <a:off x="5138640" y="1494000"/>
            <a:ext cx="3917880" cy="36637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5211720" y="1341360"/>
            <a:ext cx="44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ken from A. Tranenko’s talk at QM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644480" y="692280"/>
            <a:ext cx="7437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p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Alt et al (NA49 collaboration) nucl-ex/0606026 submitted to P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236600" y="1341360"/>
            <a:ext cx="33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b+Pb at 158A GeV, NA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39800" y="907920"/>
            <a:ext cx="688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reliminary) - G. Stefanek for NA49 collaboration (nucl-ex/0611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93240" y="522936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 doesn’t seem to work out at S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low at partonic level due to nonexistence of QGP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 are to big to conclud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D6ED-307B-4E19-9770-748B6F156A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39440" y="115920"/>
            <a:ext cx="7705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tivistic Heavy Ion Collider (RH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728520" y="1123920"/>
            <a:ext cx="5977080" cy="1873440"/>
          </a:xfrm>
          <a:prstGeom prst="rect">
            <a:avLst/>
          </a:prstGeom>
          <a:solidFill>
            <a:srgbClr val="66ff3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Brookhaven National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First relativistic heavy ion collider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ircumference 3.83 km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2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ollision species (Au+Au, Cu+Cu, d+Au, p+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Energy (A+A); up to 100 GeV/nucle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PHENIX is the one of the main experiment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00160" y="4086360"/>
            <a:ext cx="3413160" cy="2438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14280" y="372600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HENIX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72880" y="765000"/>
            <a:ext cx="3311640" cy="2881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448160" y="3284640"/>
            <a:ext cx="43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evolution afte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3944880" y="4027320"/>
            <a:ext cx="3595680" cy="2497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94120" y="3213000"/>
            <a:ext cx="5811840" cy="335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61240" y="5732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78680" y="508464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840880" y="3716280"/>
            <a:ext cx="215640" cy="2448000"/>
          </a:xfrm>
          <a:prstGeom prst="upArrow">
            <a:avLst>
              <a:gd name="adj1" fmla="val 29407"/>
              <a:gd name="adj2" fmla="val 176696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73960" y="534816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61240" y="422100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emical freez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2880" y="371628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rmal freez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45240" y="47800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adr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76A1-6CFC-4FBE-8127-AE4C20DCBF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748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584280" y="1773360"/>
            <a:ext cx="2517840" cy="58104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3"/>
          <a:stretch/>
        </p:blipFill>
        <p:spPr>
          <a:xfrm>
            <a:off x="6669000" y="1839960"/>
            <a:ext cx="3133800" cy="253044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4"/>
          <a:stretch/>
        </p:blipFill>
        <p:spPr>
          <a:xfrm>
            <a:off x="3470400" y="1773360"/>
            <a:ext cx="2868480" cy="4665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5"/>
          <a:stretch/>
        </p:blipFill>
        <p:spPr>
          <a:xfrm>
            <a:off x="42840" y="3279600"/>
            <a:ext cx="7016760" cy="255276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2768760" y="3573360"/>
            <a:ext cx="390240" cy="36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079800" y="3286080"/>
            <a:ext cx="1569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6EAE-681F-4408-9BD5-D7295626A282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549240" y="43920"/>
            <a:ext cx="28846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690280" y="620280"/>
            <a:ext cx="5070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ＭＳ Ｐゴシック"/>
              </a:rPr>
              <a:t>&lt;Data set for this analysis&gt;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u+Au Cu+Cu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aken in 2003-2005 at RHIC-PHE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ollision energy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0, 62.4 GeV/2 nucle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708200" y="2133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lt;PHENIX detector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1785960" y="2587680"/>
            <a:ext cx="2509920" cy="201276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68400" y="2498760"/>
            <a:ext cx="176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MC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Particle Identification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olution=380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550880" y="2854440"/>
            <a:ext cx="54612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203720" y="3646440"/>
            <a:ext cx="17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BC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to determine reaction plane and 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3033360" y="3625920"/>
            <a:ext cx="1716120" cy="9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282920" y="242244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C + PC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good track  selection and to determine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423960" y="2709720"/>
            <a:ext cx="93492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8160" y="3699000"/>
            <a:ext cx="1716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　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Particle Identification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olution=120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1630440" y="3789000"/>
            <a:ext cx="218448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63480" y="4869000"/>
            <a:ext cx="38210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PID by TOF measur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OF or EMC with BBC, the flight time of the particles is   obtained. Mass of the particle is calculated by the flight time and the momentum measured by D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97560" y="4869000"/>
            <a:ext cx="4057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Reaction Plane determina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ion plane is obtained by measurement of the anisotropic distribution for the produced particles with north and south  BBCs located at  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~ 3 –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3"/>
          <a:stretch/>
        </p:blipFill>
        <p:spPr>
          <a:xfrm>
            <a:off x="6075360" y="2638440"/>
            <a:ext cx="3745080" cy="194616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7453440" y="3502080"/>
            <a:ext cx="312480" cy="287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8043840" y="3502080"/>
            <a:ext cx="312840" cy="287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530680" y="3717720"/>
            <a:ext cx="1872000" cy="21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530680" y="3717720"/>
            <a:ext cx="2495880" cy="21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4"/>
          <a:stretch/>
        </p:blipFill>
        <p:spPr>
          <a:xfrm>
            <a:off x="79200" y="27000"/>
            <a:ext cx="2378160" cy="21067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5"/>
          <a:stretch/>
        </p:blipFill>
        <p:spPr>
          <a:xfrm>
            <a:off x="7370640" y="189000"/>
            <a:ext cx="2497320" cy="15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E106-83E8-4908-A44B-7F41E74E8D7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51000" y="189000"/>
            <a:ext cx="92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solution Calculation of Reaction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4700520" y="2389320"/>
            <a:ext cx="5148360" cy="341604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560520" y="198288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 : reaction plane determined for each sub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62040" y="2276640"/>
            <a:ext cx="296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741240" y="1341360"/>
                <a:ext cx="7993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tion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&gt;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1090440" y="3608280"/>
                <a:ext cx="35751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asured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esolu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20520" y="5516280"/>
            <a:ext cx="5389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C North + South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763F4-69A2-45EA-A54C-69E21CF02AB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1240" y="82440"/>
            <a:ext cx="5850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lliptic Flow (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47600" y="4149720"/>
                <a:ext cx="48830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71440" y="1125000"/>
            <a:ext cx="9361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A sensitive probe for studying properties of the hot dense matter made by heavy ion colli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3680" y="1413000"/>
            <a:ext cx="3953520" cy="2691720"/>
            <a:chOff x="193680" y="1413000"/>
            <a:chExt cx="3953520" cy="2691720"/>
          </a:xfrm>
        </p:grpSpPr>
        <p:sp>
          <p:nvSpPr>
            <p:cNvPr id="257" name=""/>
            <p:cNvSpPr/>
            <p:nvPr/>
          </p:nvSpPr>
          <p:spPr>
            <a:xfrm>
              <a:off x="303480" y="1830600"/>
              <a:ext cx="117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am ax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93680" y="1413000"/>
              <a:ext cx="3953520" cy="2691720"/>
              <a:chOff x="193680" y="1413000"/>
              <a:chExt cx="3953520" cy="269172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349560" y="1413000"/>
                <a:ext cx="3797640" cy="2691720"/>
                <a:chOff x="349560" y="1413000"/>
                <a:chExt cx="3797640" cy="269172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49560" y="1576440"/>
                  <a:ext cx="3402000" cy="2528280"/>
                  <a:chOff x="349560" y="1576440"/>
                  <a:chExt cx="3402000" cy="252828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10800000">
                    <a:off x="2890440" y="1576440"/>
                    <a:ext cx="3758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622">
                        <a:moveTo>
                          <a:pt x="430" y="0"/>
                        </a:moveTo>
                        <a:lnTo>
                          <a:pt x="177" y="379"/>
                        </a:lnTo>
                        <a:lnTo>
                          <a:pt x="0" y="379"/>
                        </a:lnTo>
                        <a:lnTo>
                          <a:pt x="168" y="622"/>
                        </a:lnTo>
                        <a:lnTo>
                          <a:pt x="631" y="379"/>
                        </a:lnTo>
                        <a:lnTo>
                          <a:pt x="465" y="382"/>
                        </a:lnTo>
                        <a:lnTo>
                          <a:pt x="720" y="0"/>
                        </a:lnTo>
                        <a:lnTo>
                          <a:pt x="43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>
                    <a:off x="959760" y="1916280"/>
                    <a:ext cx="649800" cy="9590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>
                    <a:off x="1273680" y="1916280"/>
                    <a:ext cx="639000" cy="9442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1475280" y="2117160"/>
                    <a:ext cx="214200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424520" y="3121920"/>
                    <a:ext cx="15055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49920" y="1911960"/>
                    <a:ext cx="3401640" cy="1862280"/>
                  </a:xfrm>
                  <a:prstGeom prst="parallelogram">
                    <a:avLst>
                      <a:gd name="adj" fmla="val 67770"/>
                    </a:avLst>
                  </a:prstGeom>
                  <a:noFill/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>
                    <a:off x="349560" y="3372120"/>
                    <a:ext cx="272520" cy="405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H="1">
                    <a:off x="1425600" y="1916280"/>
                    <a:ext cx="790560" cy="116856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 rot="10800000">
                    <a:off x="1394280" y="2968560"/>
                    <a:ext cx="26424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715">
                        <a:moveTo>
                          <a:pt x="84" y="643"/>
                        </a:moveTo>
                        <a:cubicBezTo>
                          <a:pt x="64" y="611"/>
                          <a:pt x="38" y="568"/>
                          <a:pt x="24" y="519"/>
                        </a:cubicBezTo>
                        <a:cubicBezTo>
                          <a:pt x="10" y="470"/>
                          <a:pt x="0" y="403"/>
                          <a:pt x="1" y="351"/>
                        </a:cubicBezTo>
                        <a:cubicBezTo>
                          <a:pt x="2" y="299"/>
                          <a:pt x="14" y="251"/>
                          <a:pt x="30" y="205"/>
                        </a:cubicBezTo>
                        <a:cubicBezTo>
                          <a:pt x="46" y="159"/>
                          <a:pt x="77" y="106"/>
                          <a:pt x="100" y="73"/>
                        </a:cubicBezTo>
                        <a:cubicBezTo>
                          <a:pt x="123" y="40"/>
                          <a:pt x="163" y="0"/>
                          <a:pt x="166" y="4"/>
                        </a:cubicBezTo>
                        <a:cubicBezTo>
                          <a:pt x="198" y="57"/>
                          <a:pt x="212" y="120"/>
                          <a:pt x="225" y="171"/>
                        </a:cubicBezTo>
                        <a:cubicBezTo>
                          <a:pt x="239" y="226"/>
                          <a:pt x="246" y="280"/>
                          <a:pt x="249" y="337"/>
                        </a:cubicBezTo>
                        <a:cubicBezTo>
                          <a:pt x="252" y="394"/>
                          <a:pt x="249" y="464"/>
                          <a:pt x="241" y="514"/>
                        </a:cubicBezTo>
                        <a:cubicBezTo>
                          <a:pt x="233" y="564"/>
                          <a:pt x="216" y="603"/>
                          <a:pt x="199" y="636"/>
                        </a:cubicBezTo>
                        <a:cubicBezTo>
                          <a:pt x="182" y="669"/>
                          <a:pt x="142" y="715"/>
                          <a:pt x="142" y="712"/>
                        </a:cubicBezTo>
                        <a:cubicBezTo>
                          <a:pt x="142" y="711"/>
                          <a:pt x="104" y="675"/>
                          <a:pt x="84" y="643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>
                    <a:off x="1251720" y="2910960"/>
                    <a:ext cx="582840" cy="8593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307960" y="379764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297080" y="182880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2295360" y="1739520"/>
                    <a:ext cx="1080000" cy="1043640"/>
                    <a:chOff x="2295360" y="1739520"/>
                    <a:chExt cx="1080000" cy="1043640"/>
                  </a:xfrm>
                </p:grpSpPr>
                <p:grpSp>
                  <p:nvGrpSpPr>
                    <p:cNvPr id="274" name=""/>
                    <p:cNvGrpSpPr/>
                    <p:nvPr/>
                  </p:nvGrpSpPr>
                  <p:grpSpPr>
                    <a:xfrm>
                      <a:off x="2295360" y="1739520"/>
                      <a:ext cx="1080000" cy="1043640"/>
                      <a:chOff x="2295360" y="1739520"/>
                      <a:chExt cx="1080000" cy="1043640"/>
                    </a:xfrm>
                  </p:grpSpPr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2319480" y="1740600"/>
                        <a:ext cx="1032480" cy="10249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333399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2319480" y="1739520"/>
                        <a:ext cx="1032480" cy="1024920"/>
                      </a:xfrm>
                      <a:prstGeom prst="ellips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2295360" y="2156400"/>
                        <a:ext cx="1080000" cy="62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6" h="600">
                            <a:moveTo>
                              <a:pt x="43" y="123"/>
                            </a:moveTo>
                            <a:cubicBezTo>
                              <a:pt x="61" y="136"/>
                              <a:pt x="84" y="160"/>
                              <a:pt x="120" y="181"/>
                            </a:cubicBezTo>
                            <a:cubicBezTo>
                              <a:pt x="156" y="202"/>
                              <a:pt x="210" y="233"/>
                              <a:pt x="262" y="250"/>
                            </a:cubicBezTo>
                            <a:cubicBezTo>
                              <a:pt x="314" y="267"/>
                              <a:pt x="370" y="279"/>
                              <a:pt x="432" y="280"/>
                            </a:cubicBezTo>
                            <a:cubicBezTo>
                              <a:pt x="494" y="281"/>
                              <a:pt x="573" y="272"/>
                              <a:pt x="634" y="259"/>
                            </a:cubicBezTo>
                            <a:cubicBezTo>
                              <a:pt x="695" y="246"/>
                              <a:pt x="749" y="229"/>
                              <a:pt x="799" y="201"/>
                            </a:cubicBezTo>
                            <a:cubicBezTo>
                              <a:pt x="849" y="173"/>
                              <a:pt x="899" y="122"/>
                              <a:pt x="937" y="90"/>
                            </a:cubicBezTo>
                            <a:cubicBezTo>
                              <a:pt x="975" y="58"/>
                              <a:pt x="1012" y="0"/>
                              <a:pt x="1026" y="9"/>
                            </a:cubicBezTo>
                            <a:cubicBezTo>
                              <a:pt x="1021" y="13"/>
                              <a:pt x="1025" y="101"/>
                              <a:pt x="1019" y="144"/>
                            </a:cubicBezTo>
                            <a:cubicBezTo>
                              <a:pt x="1013" y="187"/>
                              <a:pt x="1007" y="227"/>
                              <a:pt x="992" y="267"/>
                            </a:cubicBezTo>
                            <a:cubicBezTo>
                              <a:pt x="978" y="307"/>
                              <a:pt x="952" y="351"/>
                              <a:pt x="929" y="384"/>
                            </a:cubicBezTo>
                            <a:cubicBezTo>
                              <a:pt x="907" y="417"/>
                              <a:pt x="886" y="440"/>
                              <a:pt x="857" y="467"/>
                            </a:cubicBezTo>
                            <a:cubicBezTo>
                              <a:pt x="827" y="493"/>
                              <a:pt x="790" y="521"/>
                              <a:pt x="749" y="542"/>
                            </a:cubicBezTo>
                            <a:cubicBezTo>
                              <a:pt x="708" y="562"/>
                              <a:pt x="659" y="580"/>
                              <a:pt x="610" y="588"/>
                            </a:cubicBezTo>
                            <a:cubicBezTo>
                              <a:pt x="561" y="596"/>
                              <a:pt x="505" y="600"/>
                              <a:pt x="455" y="594"/>
                            </a:cubicBezTo>
                            <a:cubicBezTo>
                              <a:pt x="404" y="588"/>
                              <a:pt x="353" y="572"/>
                              <a:pt x="310" y="553"/>
                            </a:cubicBezTo>
                            <a:cubicBezTo>
                              <a:pt x="267" y="533"/>
                              <a:pt x="229" y="510"/>
                              <a:pt x="193" y="479"/>
                            </a:cubicBezTo>
                            <a:cubicBezTo>
                              <a:pt x="157" y="448"/>
                              <a:pt x="121" y="408"/>
                              <a:pt x="95" y="368"/>
                            </a:cubicBezTo>
                            <a:cubicBezTo>
                              <a:pt x="69" y="328"/>
                              <a:pt x="52" y="286"/>
                              <a:pt x="36" y="237"/>
                            </a:cubicBezTo>
                            <a:cubicBezTo>
                              <a:pt x="20" y="188"/>
                              <a:pt x="0" y="92"/>
                              <a:pt x="1" y="73"/>
                            </a:cubicBezTo>
                            <a:lnTo>
                              <a:pt x="43" y="123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5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2319480" y="2182320"/>
                        <a:ext cx="103032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9" h="257">
                            <a:moveTo>
                              <a:pt x="0" y="78"/>
                            </a:moveTo>
                            <a:cubicBezTo>
                              <a:pt x="17" y="92"/>
                              <a:pt x="57" y="134"/>
                              <a:pt x="101" y="160"/>
                            </a:cubicBezTo>
                            <a:cubicBezTo>
                              <a:pt x="145" y="186"/>
                              <a:pt x="213" y="216"/>
                              <a:pt x="263" y="232"/>
                            </a:cubicBezTo>
                            <a:cubicBezTo>
                              <a:pt x="313" y="248"/>
                              <a:pt x="347" y="255"/>
                              <a:pt x="404" y="256"/>
                            </a:cubicBezTo>
                            <a:cubicBezTo>
                              <a:pt x="461" y="257"/>
                              <a:pt x="542" y="254"/>
                              <a:pt x="608" y="238"/>
                            </a:cubicBezTo>
                            <a:cubicBezTo>
                              <a:pt x="674" y="222"/>
                              <a:pt x="738" y="200"/>
                              <a:pt x="800" y="160"/>
                            </a:cubicBezTo>
                            <a:cubicBezTo>
                              <a:pt x="862" y="120"/>
                              <a:pt x="942" y="33"/>
                              <a:pt x="97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2314440" y="1882800"/>
                      <a:ext cx="264960" cy="74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715">
                          <a:moveTo>
                            <a:pt x="84" y="643"/>
                          </a:moveTo>
                          <a:cubicBezTo>
                            <a:pt x="64" y="611"/>
                            <a:pt x="38" y="568"/>
                            <a:pt x="24" y="519"/>
                          </a:cubicBezTo>
                          <a:cubicBezTo>
                            <a:pt x="10" y="470"/>
                            <a:pt x="0" y="403"/>
                            <a:pt x="1" y="351"/>
                          </a:cubicBezTo>
                          <a:cubicBezTo>
                            <a:pt x="2" y="299"/>
                            <a:pt x="14" y="251"/>
                            <a:pt x="30" y="205"/>
                          </a:cubicBezTo>
                          <a:cubicBezTo>
                            <a:pt x="46" y="159"/>
                            <a:pt x="77" y="106"/>
                            <a:pt x="100" y="73"/>
                          </a:cubicBezTo>
                          <a:cubicBezTo>
                            <a:pt x="123" y="40"/>
                            <a:pt x="163" y="0"/>
                            <a:pt x="166" y="4"/>
                          </a:cubicBezTo>
                          <a:cubicBezTo>
                            <a:pt x="198" y="57"/>
                            <a:pt x="212" y="120"/>
                            <a:pt x="225" y="171"/>
                          </a:cubicBezTo>
                          <a:cubicBezTo>
                            <a:pt x="239" y="226"/>
                            <a:pt x="246" y="280"/>
                            <a:pt x="249" y="337"/>
                          </a:cubicBezTo>
                          <a:cubicBezTo>
                            <a:pt x="252" y="394"/>
                            <a:pt x="249" y="464"/>
                            <a:pt x="241" y="514"/>
                          </a:cubicBezTo>
                          <a:cubicBezTo>
                            <a:pt x="233" y="564"/>
                            <a:pt x="216" y="603"/>
                            <a:pt x="199" y="636"/>
                          </a:cubicBezTo>
                          <a:cubicBezTo>
                            <a:pt x="182" y="669"/>
                            <a:pt x="142" y="715"/>
                            <a:pt x="142" y="712"/>
                          </a:cubicBezTo>
                          <a:cubicBezTo>
                            <a:pt x="142" y="711"/>
                            <a:pt x="104" y="675"/>
                            <a:pt x="84" y="643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57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1625400" y="1911960"/>
                    <a:ext cx="883080" cy="0"/>
                  </a:xfrm>
                  <a:prstGeom prst="line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947960" y="2117160"/>
                    <a:ext cx="63216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335960" y="2316960"/>
                    <a:ext cx="12553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>
                    <a:off x="2248200" y="2240280"/>
                    <a:ext cx="341280" cy="5047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199880" y="2518200"/>
                    <a:ext cx="21448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>
                    <a:off x="1256040" y="1911960"/>
                    <a:ext cx="1253160" cy="1854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063440" y="2719440"/>
                    <a:ext cx="21448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1737360" y="2322720"/>
                    <a:ext cx="515160" cy="1029960"/>
                    <a:chOff x="1737360" y="2322720"/>
                    <a:chExt cx="515160" cy="10299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1737360" y="2323440"/>
                      <a:ext cx="514080" cy="1026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1737360" y="2814120"/>
                      <a:ext cx="515160" cy="53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515">
                          <a:moveTo>
                            <a:pt x="13" y="46"/>
                          </a:moveTo>
                          <a:cubicBezTo>
                            <a:pt x="24" y="55"/>
                            <a:pt x="47" y="72"/>
                            <a:pt x="65" y="81"/>
                          </a:cubicBezTo>
                          <a:cubicBezTo>
                            <a:pt x="83" y="90"/>
                            <a:pt x="103" y="92"/>
                            <a:pt x="121" y="97"/>
                          </a:cubicBezTo>
                          <a:cubicBezTo>
                            <a:pt x="139" y="102"/>
                            <a:pt x="156" y="109"/>
                            <a:pt x="176" y="112"/>
                          </a:cubicBezTo>
                          <a:cubicBezTo>
                            <a:pt x="196" y="115"/>
                            <a:pt x="218" y="115"/>
                            <a:pt x="241" y="114"/>
                          </a:cubicBezTo>
                          <a:cubicBezTo>
                            <a:pt x="264" y="113"/>
                            <a:pt x="289" y="109"/>
                            <a:pt x="313" y="103"/>
                          </a:cubicBezTo>
                          <a:cubicBezTo>
                            <a:pt x="337" y="97"/>
                            <a:pt x="362" y="90"/>
                            <a:pt x="385" y="78"/>
                          </a:cubicBezTo>
                          <a:cubicBezTo>
                            <a:pt x="408" y="66"/>
                            <a:pt x="435" y="41"/>
                            <a:pt x="452" y="29"/>
                          </a:cubicBezTo>
                          <a:cubicBezTo>
                            <a:pt x="469" y="17"/>
                            <a:pt x="479" y="0"/>
                            <a:pt x="485" y="7"/>
                          </a:cubicBezTo>
                          <a:cubicBezTo>
                            <a:pt x="483" y="11"/>
                            <a:pt x="489" y="40"/>
                            <a:pt x="487" y="70"/>
                          </a:cubicBezTo>
                          <a:cubicBezTo>
                            <a:pt x="485" y="100"/>
                            <a:pt x="481" y="151"/>
                            <a:pt x="474" y="190"/>
                          </a:cubicBezTo>
                          <a:cubicBezTo>
                            <a:pt x="467" y="229"/>
                            <a:pt x="455" y="272"/>
                            <a:pt x="444" y="304"/>
                          </a:cubicBezTo>
                          <a:cubicBezTo>
                            <a:pt x="433" y="336"/>
                            <a:pt x="423" y="359"/>
                            <a:pt x="408" y="385"/>
                          </a:cubicBezTo>
                          <a:cubicBezTo>
                            <a:pt x="394" y="411"/>
                            <a:pt x="376" y="438"/>
                            <a:pt x="356" y="458"/>
                          </a:cubicBezTo>
                          <a:cubicBezTo>
                            <a:pt x="336" y="478"/>
                            <a:pt x="313" y="495"/>
                            <a:pt x="289" y="503"/>
                          </a:cubicBezTo>
                          <a:cubicBezTo>
                            <a:pt x="265" y="511"/>
                            <a:pt x="238" y="515"/>
                            <a:pt x="214" y="509"/>
                          </a:cubicBezTo>
                          <a:cubicBezTo>
                            <a:pt x="189" y="503"/>
                            <a:pt x="164" y="488"/>
                            <a:pt x="143" y="469"/>
                          </a:cubicBezTo>
                          <a:cubicBezTo>
                            <a:pt x="122" y="450"/>
                            <a:pt x="104" y="427"/>
                            <a:pt x="87" y="397"/>
                          </a:cubicBezTo>
                          <a:cubicBezTo>
                            <a:pt x="69" y="367"/>
                            <a:pt x="52" y="328"/>
                            <a:pt x="39" y="289"/>
                          </a:cubicBezTo>
                          <a:cubicBezTo>
                            <a:pt x="27" y="250"/>
                            <a:pt x="17" y="204"/>
                            <a:pt x="10" y="161"/>
                          </a:cubicBezTo>
                          <a:cubicBezTo>
                            <a:pt x="4" y="118"/>
                            <a:pt x="0" y="47"/>
                            <a:pt x="0" y="28"/>
                          </a:cubicBezTo>
                          <a:lnTo>
                            <a:pt x="13" y="4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1737360" y="2816280"/>
                      <a:ext cx="51300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9" h="257">
                          <a:moveTo>
                            <a:pt x="0" y="78"/>
                          </a:moveTo>
                          <a:cubicBezTo>
                            <a:pt x="17" y="92"/>
                            <a:pt x="57" y="134"/>
                            <a:pt x="101" y="160"/>
                          </a:cubicBezTo>
                          <a:cubicBezTo>
                            <a:pt x="145" y="186"/>
                            <a:pt x="213" y="216"/>
                            <a:pt x="263" y="232"/>
                          </a:cubicBezTo>
                          <a:cubicBezTo>
                            <a:pt x="313" y="248"/>
                            <a:pt x="347" y="255"/>
                            <a:pt x="404" y="256"/>
                          </a:cubicBezTo>
                          <a:cubicBezTo>
                            <a:pt x="461" y="257"/>
                            <a:pt x="542" y="254"/>
                            <a:pt x="608" y="238"/>
                          </a:cubicBezTo>
                          <a:cubicBezTo>
                            <a:pt x="674" y="222"/>
                            <a:pt x="738" y="200"/>
                            <a:pt x="800" y="160"/>
                          </a:cubicBezTo>
                          <a:cubicBezTo>
                            <a:pt x="862" y="120"/>
                            <a:pt x="942" y="33"/>
                            <a:pt x="979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1737360" y="2322720"/>
                      <a:ext cx="514080" cy="10263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2" name=""/>
                  <p:cNvSpPr/>
                  <p:nvPr/>
                </p:nvSpPr>
                <p:spPr>
                  <a:xfrm flipH="1">
                    <a:off x="2176200" y="2377440"/>
                    <a:ext cx="940680" cy="13928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1874520" y="2455200"/>
                    <a:ext cx="886680" cy="13111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84400" y="2919240"/>
                    <a:ext cx="98604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>
                    <a:off x="1517400" y="1803960"/>
                    <a:ext cx="163800" cy="24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>
                    <a:off x="1553400" y="2894760"/>
                    <a:ext cx="595080" cy="8794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>
                    <a:off x="1689840" y="2909520"/>
                    <a:ext cx="145800" cy="216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1359360" y="2920680"/>
                    <a:ext cx="5014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611640" y="2837160"/>
                    <a:ext cx="1068840" cy="1045080"/>
                    <a:chOff x="611640" y="2837160"/>
                    <a:chExt cx="1068840" cy="104508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626400" y="2838240"/>
                      <a:ext cx="1031400" cy="1024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33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623880" y="2837160"/>
                      <a:ext cx="1031400" cy="102492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611640" y="3262320"/>
                      <a:ext cx="1068840" cy="61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2" h="568">
                          <a:moveTo>
                            <a:pt x="22" y="106"/>
                          </a:moveTo>
                          <a:cubicBezTo>
                            <a:pt x="39" y="120"/>
                            <a:pt x="60" y="144"/>
                            <a:pt x="100" y="166"/>
                          </a:cubicBezTo>
                          <a:cubicBezTo>
                            <a:pt x="140" y="188"/>
                            <a:pt x="212" y="222"/>
                            <a:pt x="262" y="238"/>
                          </a:cubicBezTo>
                          <a:cubicBezTo>
                            <a:pt x="312" y="254"/>
                            <a:pt x="346" y="261"/>
                            <a:pt x="403" y="262"/>
                          </a:cubicBezTo>
                          <a:cubicBezTo>
                            <a:pt x="460" y="263"/>
                            <a:pt x="546" y="257"/>
                            <a:pt x="607" y="244"/>
                          </a:cubicBezTo>
                          <a:cubicBezTo>
                            <a:pt x="668" y="231"/>
                            <a:pt x="719" y="210"/>
                            <a:pt x="769" y="183"/>
                          </a:cubicBezTo>
                          <a:cubicBezTo>
                            <a:pt x="819" y="156"/>
                            <a:pt x="872" y="111"/>
                            <a:pt x="907" y="82"/>
                          </a:cubicBezTo>
                          <a:cubicBezTo>
                            <a:pt x="942" y="53"/>
                            <a:pt x="966" y="0"/>
                            <a:pt x="978" y="7"/>
                          </a:cubicBezTo>
                          <a:cubicBezTo>
                            <a:pt x="973" y="11"/>
                            <a:pt x="982" y="84"/>
                            <a:pt x="978" y="123"/>
                          </a:cubicBezTo>
                          <a:cubicBezTo>
                            <a:pt x="974" y="162"/>
                            <a:pt x="966" y="204"/>
                            <a:pt x="952" y="243"/>
                          </a:cubicBezTo>
                          <a:cubicBezTo>
                            <a:pt x="938" y="282"/>
                            <a:pt x="913" y="325"/>
                            <a:pt x="891" y="357"/>
                          </a:cubicBezTo>
                          <a:cubicBezTo>
                            <a:pt x="869" y="389"/>
                            <a:pt x="849" y="412"/>
                            <a:pt x="820" y="438"/>
                          </a:cubicBezTo>
                          <a:cubicBezTo>
                            <a:pt x="791" y="464"/>
                            <a:pt x="755" y="491"/>
                            <a:pt x="715" y="511"/>
                          </a:cubicBezTo>
                          <a:cubicBezTo>
                            <a:pt x="675" y="531"/>
                            <a:pt x="628" y="548"/>
                            <a:pt x="580" y="556"/>
                          </a:cubicBezTo>
                          <a:cubicBezTo>
                            <a:pt x="532" y="564"/>
                            <a:pt x="478" y="568"/>
                            <a:pt x="429" y="562"/>
                          </a:cubicBezTo>
                          <a:cubicBezTo>
                            <a:pt x="380" y="556"/>
                            <a:pt x="330" y="541"/>
                            <a:pt x="288" y="522"/>
                          </a:cubicBezTo>
                          <a:cubicBezTo>
                            <a:pt x="246" y="503"/>
                            <a:pt x="209" y="480"/>
                            <a:pt x="174" y="450"/>
                          </a:cubicBezTo>
                          <a:cubicBezTo>
                            <a:pt x="139" y="420"/>
                            <a:pt x="104" y="381"/>
                            <a:pt x="79" y="342"/>
                          </a:cubicBezTo>
                          <a:cubicBezTo>
                            <a:pt x="54" y="303"/>
                            <a:pt x="34" y="257"/>
                            <a:pt x="21" y="214"/>
                          </a:cubicBezTo>
                          <a:cubicBezTo>
                            <a:pt x="8" y="171"/>
                            <a:pt x="0" y="99"/>
                            <a:pt x="0" y="81"/>
                          </a:cubicBezTo>
                          <a:lnTo>
                            <a:pt x="22" y="10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V="1" rot="10800000">
                      <a:off x="1393920" y="2961720"/>
                      <a:ext cx="265680" cy="74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715">
                          <a:moveTo>
                            <a:pt x="84" y="643"/>
                          </a:moveTo>
                          <a:cubicBezTo>
                            <a:pt x="64" y="611"/>
                            <a:pt x="38" y="568"/>
                            <a:pt x="24" y="519"/>
                          </a:cubicBezTo>
                          <a:cubicBezTo>
                            <a:pt x="10" y="470"/>
                            <a:pt x="0" y="403"/>
                            <a:pt x="1" y="351"/>
                          </a:cubicBezTo>
                          <a:cubicBezTo>
                            <a:pt x="2" y="299"/>
                            <a:pt x="14" y="251"/>
                            <a:pt x="30" y="205"/>
                          </a:cubicBezTo>
                          <a:cubicBezTo>
                            <a:pt x="46" y="159"/>
                            <a:pt x="77" y="106"/>
                            <a:pt x="100" y="73"/>
                          </a:cubicBezTo>
                          <a:cubicBezTo>
                            <a:pt x="123" y="40"/>
                            <a:pt x="163" y="0"/>
                            <a:pt x="166" y="4"/>
                          </a:cubicBezTo>
                          <a:cubicBezTo>
                            <a:pt x="198" y="57"/>
                            <a:pt x="212" y="120"/>
                            <a:pt x="225" y="171"/>
                          </a:cubicBezTo>
                          <a:cubicBezTo>
                            <a:pt x="239" y="226"/>
                            <a:pt x="246" y="280"/>
                            <a:pt x="249" y="337"/>
                          </a:cubicBezTo>
                          <a:cubicBezTo>
                            <a:pt x="252" y="394"/>
                            <a:pt x="249" y="464"/>
                            <a:pt x="241" y="514"/>
                          </a:cubicBezTo>
                          <a:cubicBezTo>
                            <a:pt x="233" y="564"/>
                            <a:pt x="216" y="603"/>
                            <a:pt x="199" y="636"/>
                          </a:cubicBezTo>
                          <a:cubicBezTo>
                            <a:pt x="182" y="669"/>
                            <a:pt x="142" y="715"/>
                            <a:pt x="142" y="712"/>
                          </a:cubicBezTo>
                          <a:cubicBezTo>
                            <a:pt x="142" y="711"/>
                            <a:pt x="104" y="675"/>
                            <a:pt x="84" y="643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81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1369080" y="2957400"/>
                      <a:ext cx="119880" cy="76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728">
                          <a:moveTo>
                            <a:pt x="90" y="621"/>
                          </a:moveTo>
                          <a:cubicBezTo>
                            <a:pt x="86" y="592"/>
                            <a:pt x="86" y="572"/>
                            <a:pt x="84" y="540"/>
                          </a:cubicBezTo>
                          <a:cubicBezTo>
                            <a:pt x="82" y="508"/>
                            <a:pt x="78" y="467"/>
                            <a:pt x="78" y="426"/>
                          </a:cubicBezTo>
                          <a:cubicBezTo>
                            <a:pt x="78" y="385"/>
                            <a:pt x="80" y="339"/>
                            <a:pt x="81" y="291"/>
                          </a:cubicBezTo>
                          <a:cubicBezTo>
                            <a:pt x="82" y="243"/>
                            <a:pt x="83" y="185"/>
                            <a:pt x="84" y="138"/>
                          </a:cubicBezTo>
                          <a:cubicBezTo>
                            <a:pt x="85" y="91"/>
                            <a:pt x="95" y="0"/>
                            <a:pt x="86" y="6"/>
                          </a:cubicBezTo>
                          <a:cubicBezTo>
                            <a:pt x="54" y="59"/>
                            <a:pt x="40" y="122"/>
                            <a:pt x="27" y="173"/>
                          </a:cubicBezTo>
                          <a:cubicBezTo>
                            <a:pt x="13" y="228"/>
                            <a:pt x="6" y="282"/>
                            <a:pt x="3" y="339"/>
                          </a:cubicBezTo>
                          <a:cubicBezTo>
                            <a:pt x="0" y="396"/>
                            <a:pt x="3" y="465"/>
                            <a:pt x="11" y="516"/>
                          </a:cubicBezTo>
                          <a:cubicBezTo>
                            <a:pt x="19" y="567"/>
                            <a:pt x="35" y="608"/>
                            <a:pt x="52" y="643"/>
                          </a:cubicBezTo>
                          <a:cubicBezTo>
                            <a:pt x="69" y="678"/>
                            <a:pt x="108" y="728"/>
                            <a:pt x="114" y="724"/>
                          </a:cubicBezTo>
                          <a:cubicBezTo>
                            <a:pt x="114" y="723"/>
                            <a:pt x="95" y="642"/>
                            <a:pt x="90" y="621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626400" y="3362400"/>
                      <a:ext cx="83052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179">
                          <a:moveTo>
                            <a:pt x="0" y="0"/>
                          </a:moveTo>
                          <a:cubicBezTo>
                            <a:pt x="17" y="14"/>
                            <a:pt x="57" y="56"/>
                            <a:pt x="101" y="82"/>
                          </a:cubicBezTo>
                          <a:cubicBezTo>
                            <a:pt x="145" y="108"/>
                            <a:pt x="213" y="138"/>
                            <a:pt x="263" y="154"/>
                          </a:cubicBezTo>
                          <a:cubicBezTo>
                            <a:pt x="313" y="170"/>
                            <a:pt x="347" y="177"/>
                            <a:pt x="404" y="178"/>
                          </a:cubicBezTo>
                          <a:cubicBezTo>
                            <a:pt x="461" y="179"/>
                            <a:pt x="556" y="169"/>
                            <a:pt x="608" y="160"/>
                          </a:cubicBezTo>
                          <a:cubicBezTo>
                            <a:pt x="660" y="151"/>
                            <a:pt x="687" y="140"/>
                            <a:pt x="714" y="123"/>
                          </a:cubicBezTo>
                          <a:cubicBezTo>
                            <a:pt x="741" y="106"/>
                            <a:pt x="755" y="73"/>
                            <a:pt x="768" y="60"/>
                          </a:cubicBezTo>
                          <a:cubicBezTo>
                            <a:pt x="781" y="47"/>
                            <a:pt x="785" y="46"/>
                            <a:pt x="790" y="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6" name=""/>
                  <p:cNvSpPr/>
                  <p:nvPr/>
                </p:nvSpPr>
                <p:spPr>
                  <a:xfrm flipH="1">
                    <a:off x="1433880" y="2721960"/>
                    <a:ext cx="236880" cy="3502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1423080" y="3123000"/>
                    <a:ext cx="132804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326600" y="3520080"/>
                    <a:ext cx="1333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6" h="3">
                        <a:moveTo>
                          <a:pt x="0" y="3"/>
                        </a:moveTo>
                        <a:lnTo>
                          <a:pt x="1266" y="0"/>
                        </a:lnTo>
                      </a:path>
                    </a:pathLst>
                  </a:custGeom>
                  <a:noFill/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43200" bIns="-43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1407960" y="3321720"/>
                    <a:ext cx="14050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>
                    <a:off x="1250280" y="3111120"/>
                    <a:ext cx="447480" cy="6634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>
                    <a:off x="959760" y="3556800"/>
                    <a:ext cx="145800" cy="2174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>
                    <a:off x="660960" y="3509280"/>
                    <a:ext cx="173160" cy="2599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90960" y="3774600"/>
                    <a:ext cx="2096640" cy="0"/>
                  </a:xfrm>
                  <a:prstGeom prst="line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03800" y="3562560"/>
                    <a:ext cx="3758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622">
                        <a:moveTo>
                          <a:pt x="430" y="0"/>
                        </a:moveTo>
                        <a:lnTo>
                          <a:pt x="177" y="379"/>
                        </a:lnTo>
                        <a:lnTo>
                          <a:pt x="0" y="379"/>
                        </a:lnTo>
                        <a:lnTo>
                          <a:pt x="168" y="622"/>
                        </a:lnTo>
                        <a:lnTo>
                          <a:pt x="631" y="379"/>
                        </a:lnTo>
                        <a:lnTo>
                          <a:pt x="465" y="382"/>
                        </a:lnTo>
                        <a:lnTo>
                          <a:pt x="720" y="0"/>
                        </a:lnTo>
                        <a:lnTo>
                          <a:pt x="43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1389960" y="2503440"/>
                    <a:ext cx="1232640" cy="354960"/>
                    <a:chOff x="1389960" y="2503440"/>
                    <a:chExt cx="1232640" cy="35496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V="1">
                      <a:off x="2052720" y="2571840"/>
                      <a:ext cx="74520" cy="10620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V="1">
                      <a:off x="2187360" y="2503440"/>
                      <a:ext cx="192600" cy="1612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V="1">
                      <a:off x="2273040" y="2678040"/>
                      <a:ext cx="302040" cy="788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V="1">
                      <a:off x="2273040" y="2802960"/>
                      <a:ext cx="349560" cy="22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flipV="1">
                      <a:off x="1510920" y="2531160"/>
                      <a:ext cx="313920" cy="1292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flipV="1">
                      <a:off x="1412640" y="2691360"/>
                      <a:ext cx="340200" cy="788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H="1" flipV="1">
                      <a:off x="1389960" y="2853360"/>
                      <a:ext cx="302400" cy="50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flipV="1">
                      <a:off x="1667520" y="2798640"/>
                      <a:ext cx="217080" cy="22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flipV="1">
                      <a:off x="1692000" y="2669040"/>
                      <a:ext cx="192600" cy="5616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 flipV="1">
                      <a:off x="1884960" y="2595600"/>
                      <a:ext cx="71640" cy="824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V="1">
                      <a:off x="2127600" y="2660400"/>
                      <a:ext cx="131400" cy="4572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V="1">
                      <a:off x="2116080" y="2770920"/>
                      <a:ext cx="216720" cy="13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flipH="1" flipV="1">
                      <a:off x="1851480" y="2747880"/>
                      <a:ext cx="120960" cy="3636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1410480" y="2960280"/>
                    <a:ext cx="1184400" cy="356400"/>
                    <a:chOff x="1410480" y="2960280"/>
                    <a:chExt cx="1184400" cy="35640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flipH="1">
                      <a:off x="1848960" y="3100680"/>
                      <a:ext cx="79920" cy="1400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>
                      <a:off x="1605240" y="3154680"/>
                      <a:ext cx="192600" cy="1620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>
                      <a:off x="1410480" y="3062520"/>
                      <a:ext cx="302040" cy="792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>
                      <a:off x="1483200" y="2992680"/>
                      <a:ext cx="230400" cy="154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2160720" y="3159720"/>
                      <a:ext cx="313560" cy="1296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2232000" y="3049200"/>
                      <a:ext cx="339840" cy="792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2293200" y="2960280"/>
                      <a:ext cx="301680" cy="50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2101320" y="2997000"/>
                      <a:ext cx="216720" cy="226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2099880" y="3095280"/>
                      <a:ext cx="192600" cy="5616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2029680" y="3140280"/>
                      <a:ext cx="71280" cy="824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>
                      <a:off x="1726200" y="3113280"/>
                      <a:ext cx="131400" cy="4572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>
                      <a:off x="1653840" y="3034440"/>
                      <a:ext cx="216720" cy="136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2013120" y="3034440"/>
                      <a:ext cx="120960" cy="3672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3" name=""/>
                  <p:cNvSpPr/>
                  <p:nvPr/>
                </p:nvSpPr>
                <p:spPr>
                  <a:xfrm>
                    <a:off x="522000" y="3522960"/>
                    <a:ext cx="3484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3214080" y="2316960"/>
                    <a:ext cx="2617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>
                    <a:off x="3325680" y="1910520"/>
                    <a:ext cx="107280" cy="1598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237040" y="3777120"/>
                    <a:ext cx="438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"/>
                <p:cNvSpPr/>
                <p:nvPr/>
              </p:nvSpPr>
              <p:spPr>
                <a:xfrm flipH="1" flipV="1">
                  <a:off x="3118320" y="2838240"/>
                  <a:ext cx="158040" cy="297000"/>
                </a:xfrm>
                <a:prstGeom prst="line">
                  <a:avLst/>
                </a:prstGeom>
                <a:ln w="936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960640" y="3061440"/>
                  <a:ext cx="11865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Reaction plan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28760" y="1413000"/>
                  <a:ext cx="2927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n central collis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 flipV="1">
                <a:off x="349920" y="3355560"/>
                <a:ext cx="0" cy="43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3680" y="3051000"/>
                <a:ext cx="27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7175520" y="1811160"/>
            <a:ext cx="261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ier expansion of the distribution of produced particle angle, Φ, to 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46560" y="3860640"/>
            <a:ext cx="464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efficient of  the seco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ellipt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44880" y="4869000"/>
            <a:ext cx="544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502520" y="1341360"/>
            <a:ext cx="5131800" cy="2665800"/>
            <a:chOff x="4502520" y="1341360"/>
            <a:chExt cx="5131800" cy="2665800"/>
          </a:xfrm>
        </p:grpSpPr>
        <p:sp>
          <p:nvSpPr>
            <p:cNvPr id="356" name=""/>
            <p:cNvSpPr/>
            <p:nvPr/>
          </p:nvSpPr>
          <p:spPr>
            <a:xfrm>
              <a:off x="7293600" y="2925720"/>
              <a:ext cx="234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x (Reaction Plane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63560" y="1341360"/>
              <a:ext cx="2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</a:rPr>
                <a:t>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4502520" y="1629720"/>
              <a:ext cx="2865960" cy="2377440"/>
              <a:chOff x="4502520" y="1629720"/>
              <a:chExt cx="2865960" cy="2377440"/>
            </a:xfrm>
          </p:grpSpPr>
          <p:sp>
            <p:nvSpPr>
              <p:cNvPr id="359" name=""/>
              <p:cNvSpPr/>
              <p:nvPr/>
            </p:nvSpPr>
            <p:spPr>
              <a:xfrm flipV="1">
                <a:off x="5419800" y="2349360"/>
                <a:ext cx="1481040" cy="793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4502520" y="1629720"/>
                <a:ext cx="2865960" cy="2377440"/>
                <a:chOff x="4502520" y="1629720"/>
                <a:chExt cx="2865960" cy="23774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795920" y="3142800"/>
                  <a:ext cx="257256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5418720" y="1629720"/>
                  <a:ext cx="1440" cy="20890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502520" y="2277720"/>
                  <a:ext cx="1873440" cy="1729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631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63135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201000" y="2180880"/>
                  <a:ext cx="701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cc3300"/>
                      </a:solidFill>
                      <a:latin typeface="Arial"/>
                      <a:ea typeface="Arial"/>
                    </a:rPr>
                    <a:t>φ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5420160" y="1908000"/>
                  <a:ext cx="624240" cy="122400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5430600" y="1883880"/>
                  <a:ext cx="233280" cy="122400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V="1">
                  <a:off x="5396040" y="2855520"/>
                  <a:ext cx="1559880" cy="2872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07920" y="3153960"/>
                  <a:ext cx="1330920" cy="1429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418720" y="3141360"/>
                  <a:ext cx="1258920" cy="4921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flipV="1">
                  <a:off x="5261760" y="1774080"/>
                  <a:ext cx="146160" cy="13669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1" name=""/>
            <p:cNvSpPr/>
            <p:nvPr/>
          </p:nvSpPr>
          <p:spPr>
            <a:xfrm>
              <a:off x="5318640" y="2997000"/>
              <a:ext cx="204480" cy="2890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172040" y="2565360"/>
            <a:ext cx="547560" cy="289080"/>
          </a:xfrm>
          <a:prstGeom prst="rightArrow">
            <a:avLst>
              <a:gd name="adj1" fmla="val 50000"/>
              <a:gd name="adj2" fmla="val 473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10200" y="4581360"/>
            <a:ext cx="479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ield is (x direction)&gt;(y direction)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0160" y="5159520"/>
            <a:ext cx="921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itial geometrical anisotropy is transferred by the pressure gradients into a momentum space anisotrop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asure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lects the dense matter produced in the coll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93680" y="741240"/>
            <a:ext cx="7682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trength of the elliptic anisotropy of produced part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E6CA-A8D1-4585-9115-92EED1B694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03120" y="75960"/>
            <a:ext cx="421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oti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93680" y="1341360"/>
            <a:ext cx="959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ｖ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ow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 ~2 GeV/c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xplained by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o-dynamical 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ｖ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i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&lt;4~6 GeV/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　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onsistent with recombination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results are consistent with Quark number +K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ca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1000" y="739800"/>
            <a:ext cx="67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 the results at Au+Au in 200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15800" y="2781360"/>
            <a:ext cx="4057920" cy="25416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 rot="5400000">
            <a:off x="1617480" y="5643720"/>
            <a:ext cx="432000" cy="466560"/>
          </a:xfrm>
          <a:custGeom>
            <a:avLst/>
            <a:gdLst>
              <a:gd name="textAreaLeft" fmla="*/ 144000 w 432000"/>
              <a:gd name="textAreaRight" fmla="*/ 349560 w 432000"/>
              <a:gd name="textAreaTop" fmla="*/ 244800 h 466560"/>
              <a:gd name="textAreaBottom" fmla="*/ 377640 h 466560"/>
            </a:gdLst>
            <a:ahLst/>
            <a:rect l="textAreaLeft" t="textAreaTop" r="textAreaRight" b="textAreaBottom"/>
            <a:pathLst>
              <a:path w="21600" h="21600">
                <a:moveTo>
                  <a:pt x="0" y="15458"/>
                </a:moveTo>
                <a:lnTo>
                  <a:pt x="11329" y="15458"/>
                </a:lnTo>
                <a:lnTo>
                  <a:pt x="11329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7471" y="7200"/>
                </a:lnTo>
                <a:lnTo>
                  <a:pt x="174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66760" y="5711760"/>
            <a:ext cx="5694480" cy="39888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bout other systems and energies 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65720" y="2948040"/>
            <a:ext cx="4368600" cy="2786040"/>
            <a:chOff x="5265720" y="2948040"/>
            <a:chExt cx="4368600" cy="2786040"/>
          </a:xfrm>
        </p:grpSpPr>
        <p:pic>
          <p:nvPicPr>
            <p:cNvPr id="383" name="" descr=""/>
            <p:cNvPicPr/>
            <p:nvPr/>
          </p:nvPicPr>
          <p:blipFill>
            <a:blip r:embed="rId3"/>
            <a:stretch/>
          </p:blipFill>
          <p:spPr>
            <a:xfrm>
              <a:off x="5265720" y="2948040"/>
              <a:ext cx="43686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8074800" y="4869000"/>
              <a:ext cx="151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66"/>
                  </a:solidFill>
                  <a:uFillTx/>
                  <a:latin typeface="Tahoma"/>
                </a:rPr>
                <a:t>PRL 98, 1623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2990880" y="282564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66"/>
                </a:solidFill>
                <a:uFillTx/>
                <a:latin typeface="Tahoma"/>
              </a:rPr>
              <a:t>PRL 91, 1823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229600" y="5746680"/>
            <a:ext cx="1230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776160" y="2637000"/>
            <a:ext cx="863640" cy="314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8481960" y="448308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1931-243B-4B15-B938-DCD6F16B8B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12520" y="70128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712520" y="2060280"/>
            <a:ext cx="7480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Energy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ystem size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ccentricity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Universal v</a:t>
            </a:r>
            <a:r>
              <a:rPr b="0" lang="en-US" sz="32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Quark number + K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ET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 scaling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Universal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753A8-5519-4F3F-8288-504BD5E1FC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39800" y="115560"/>
            <a:ext cx="194472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GP創英角ﾎﾟｯﾌﾟ体"/>
              </a:rPr>
              <a:t>&lt;word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49240" y="836640"/>
            <a:ext cx="6840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--- Number of nucleons participating the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col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--- Number of binary coll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ccentricity(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--- geometirical eccentricity of participant nucle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857240" y="3573360"/>
            <a:ext cx="4319640" cy="23400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24520" y="3875040"/>
            <a:ext cx="2522520" cy="2484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849240" y="1992240"/>
            <a:ext cx="676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ucleus formed by wood-Saxon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e-Carlo simulation 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uber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eccentricity which is calculated with long and short axis determined by distribution of participants at each coll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00880" y="327816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7783560" y="1125360"/>
                <a:ext cx="163332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JP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E476-7C1C-4338-8456-EBF4661A34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008/09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1:03:53Z</dcterms:created>
  <dc:creator>maya</dc:creator>
  <dc:description/>
  <cp:keywords/>
  <dc:language>en-US</dc:language>
  <cp:lastModifiedBy>maya</cp:lastModifiedBy>
  <dcterms:modified xsi:type="dcterms:W3CDTF">2008-09-20T05:23:42Z</dcterms:modified>
  <cp:revision>32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211041</vt:lpwstr>
  </property>
</Properties>
</file>